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2D2D-C560-495B-A8E5-9F47AD0D68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" Target="../slides/slide11.xml"/><Relationship Id="rId8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" Target="../slides/slide4.xml"/><Relationship Id="rId11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ухкомпонентный курс информатики для начальной шко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 направления «Информатик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В.Горяч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r2@procenter.net.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D2EA-13B4-4C94-9200-DB3EAFF6D8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этапов изучения информатики и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941F-3794-4681-B144-C9FD61BCAA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ношение между информатикой и ИК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ти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в формирование мировоззрения (информационная картина ми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оретические основы применения И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горитм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онные (поиск и организац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стет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К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ка применения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C2C0-22F7-4B1D-800D-7EDFCFBA2B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умения по окончании школ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ирать ИКТ-средст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+soft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 конкретную зада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подготовительные действия для применения ИК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ом числе для недоступных пока что применений И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ть необходимые сведения, понимать их, критически их оценивать, систематиз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ть достоверность сообщени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ы, связанные с  информацией и информационными процесс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ть желаемое влияние с помощью создаваемых информационны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вать модели (для исследования, отслеживания текущего состояния, создания представлений, прогноз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ть средствами ИКТ взаимодействие с партн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ть цепочки разных ИКТ в одном прое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служебные действия по отношению к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ADD5-109E-455A-9C40-B4DD432313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ментарии к пункт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подготовительные действия для применения ИКТ (в том числе для недоступных пока что применений ИКТ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сё, что изучается теоретически может быть в полной мере применено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екоторых теоретических разделов и развитие когнитивных (познавательных) умений может быть ориентировано на будущее применение ИКТ. Например, школьники не могут быть реальными заказчиками специализированных приложений. В то же время, необходимое развитие мышления для анализа предметной области может и должно быть выполнено своевременно – во время обучения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AEE2-9B43-4E3C-97DA-BF52D31B7C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нформатики и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B1E8-E643-488D-A023-EB837A19EF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обучение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29C1-86A6-45ED-9F7F-31211B4E0B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обучение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0ED2-6D8F-4668-B334-DC86D8EC49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нформатики и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Варианты сочетаний информатики, ИКТ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атериальных технологий в 3-4 класса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11C6-F6F8-49F4-A25D-5E5624473F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одульная структура учебни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2BBC-4D57-4E40-A08A-AEB844BDC5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чебн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(обзор приложений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8AF8-A83C-4761-81C4-B0B4E846F4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дачах раннего обучения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B3D5-B78D-48DC-8053-FBED64490F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овый типовой дидактический элемен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51A2-A8F4-4299-A651-EDC57A2F81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Нет в мире совершенства». Л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ент-Экзюпе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енький принц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7AD4-FFEC-4D50-9DC5-BCB03B337D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дачах информатизации и формирования информационного компонента 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кватная оценка окружающей действительности, постановка достойных и принципиально осуществимых целей и их дост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ззр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ценка этичности целей и принципиальной возможности их достиж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ценка достоверности получаемых сведений и более глубокое их осмысле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менение ИКТ как инструмента в действиях, направленных на достижение поставленных цел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CA7D-3DA4-4B8E-BD81-D2E98396F1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тизация деятельности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именения ИКТ как инструмен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мысление конечной цели и требований к ключевым характеристикам резуль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этапов достижения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 имеющихся и потенциально доступ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объектов информационной природы (текст, изображение, звук, видео) и принятие решения об их цифровом предста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отдельных действий и принятие решения об их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способов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е скоординированных действий по плану с применением информационно-коммуникационных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ршение работ и оценка результа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0512-9582-4218-8FF6-D6CB11422D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зор имеющихся и потенциально доступных ресурсов</a:t>
            </a:r>
            <a:br>
              <a:rPr sz="14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 испол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(с учётом необходимости и возможности осво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программы  (с учётом необходимости и возможности осво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(в т.ч. коллекции информационных объек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AC9D-3A18-4C47-9960-69F2124DA5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е типовые действия</a:t>
            </a:r>
            <a:br>
              <a:rPr sz="1200"/>
            </a:b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дополнительных с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ация действий (использование датчиков и устройств управ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соиспол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живание хода выполнения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сопроводительной докум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2B8B-B1ED-4FC7-8082-3598B08BB1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способа информатиза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ерв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рв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ых при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ого приложения с самостоятельной настройкой на предметную об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ация повторяющихся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настройки готового приложения (возможно самостоятельное прототип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специализированного при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на создание специализированного приложения (возможно самостоятельное прототип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869D-6D0A-4ECF-84EC-BE47E0B73C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отражения в используемых инструментах специфики предметной области (например, применение текстовых редакторов, средств создания презент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азной степенью отражения в используемых инструментах специфики предметной области (например, электронные таблицы, базы данных, системы проектирования, специализированные приложения для конкретных областей дея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вышением степени формализации содержания деятельности растет эффективность информатизации: всё большее число операций удаётся автоматизи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росту автоматизации, к повышению эффективности действий порождает потребность в формализации и моделиро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FB7D-9672-4564-A9E9-E2F1BEAA63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ность применения разных видов информат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 по себе применение средств ИКТ без отражения в используемых инструментах специфики предметной области не требует значительных умственных усилий и умения выполнения логически сложных умствен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менении средств ИКТ с  разной степенью отражения в используемых инструментах специфики предметной области происходит частичный перенос логической сложности действий предметной области в сложность использования 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овышается уровень сложности умственных действий при самостоятельной настройке средств ИКТ на специфику предметной области или при заказе у специалистов такой настройки или специализированных при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B801-6900-4313-8650-0914BAC597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C0E7-2EB9-4AC2-BA11-F63D41D9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B6C5-E22A-4FEA-AF3E-4A1EF561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1B4E-2DE0-492C-B689-FC4F5D73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CFCE-D6C4-485C-B394-1432CD44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0C4D-50B7-4038-9000-DD5A8772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2610-F17F-4EE3-BE79-41360FC4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ACE5-7270-49F7-BCE8-1E3ADB22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EBF3-D41B-4C37-84F5-9770F024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22CA-27DD-43CD-B156-03403FE2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16A7-D06F-41FE-BC1E-5D37D13F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F747-2CA0-4502-8FFF-9BB03580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D289-3B85-4B35-8AFC-ED95A1DD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8310-AB49-41ED-A692-F595AE66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17F5-B2FA-4B70-9784-DCA8C4FF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D134-AD6A-45D4-9CD0-DEEF1007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6998-FBE7-45BA-B07A-A3A8314F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A8B7-E305-4D41-B9A8-3D64D6DD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D539-C5B3-4AB4-81EA-EC306BB5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0F05-08DF-4550-9464-1B5424A6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8E1B-D1F9-4115-984D-A1EBFA50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966B-D2A7-4B6E-B924-F9AE726C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CB3D-243F-4C74-9F2C-E7472711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DFDF-5EEE-4EBB-A603-24402E4B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8836-6ABC-4B22-BD4A-2745F2A4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EDC0-8E4F-4B4C-89B8-393A590804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5AEC-78CF-48C8-8DDD-7ADC32CEC0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jpe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Двухкомпонентный курс информатики для начальной школы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овательная система «Школа 2100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ординатор направления «Информатик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В.Горяч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r2@procenter.net.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15937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собенность этапов изучения информатики и ИКТ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468360" y="2781360"/>
            <a:ext cx="1593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бран профи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395280" y="4365720"/>
            <a:ext cx="1809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брана профе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2195640" y="1844640"/>
            <a:ext cx="136836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2195640" y="2205000"/>
            <a:ext cx="1368360" cy="28728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59760 h 287280"/>
              <a:gd name="textAreaBottom" fmla="*/ 2275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2556000" y="3141720"/>
            <a:ext cx="6476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2771640" y="4365720"/>
            <a:ext cx="216000" cy="12254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1476360" y="5661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ьшается широта, повышаются глубина и степень специал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3780000" y="170028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широкого профиля доступные по возрас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6372360" y="170028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широкого профи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4"/>
          <p:cNvSpPr/>
          <p:nvPr/>
        </p:nvSpPr>
        <p:spPr>
          <a:xfrm>
            <a:off x="3780000" y="299736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по  выбранному профи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5"/>
          <p:cNvSpPr/>
          <p:nvPr/>
        </p:nvSpPr>
        <p:spPr>
          <a:xfrm>
            <a:off x="6372360" y="2997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по  выбранному профи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3708360" y="4437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для  выбранной профе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6443640" y="4437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специали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ношение между информатикой и И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ад в формирование мировоззрения (информационная картина ми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оретические основы применения И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оритм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е (поиск и организ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те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ктика применения технолог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57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умения по окончании школ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ирать ИКТ-средств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+soft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 конкретную задач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подготовительные действия для применения ИКТ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 том числе для недоступных пока что применений ИК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ать необходимые сведения, понимать их, критически их оценивать, систематизир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ивать достоверность сообщени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темы, связанные с  информацией и информационными процесса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азывать желаемое влияние с помощью создаваемых информационных объе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вать модели (для исследования, отслеживания текущего состояния, создания представлений, прогнозирова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овывать средствами ИКТ взаимодействие с партне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ять цепочки разных ИКТ в одном проек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служебные действия по отношению к И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ментарии к пункт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подготовительные действия для применения ИКТ (в том числе для недоступных пока что применений ИКТ)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сё, что изучается теоретически может быть в полной мере применено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ение некоторых теоретических разделов и развитие когнитивных (познавательных) умений может быть ориентировано на будущее применение ИКТ. Например, школьники не могут быть реальными заказчиками специализированных приложений. В то же время, необходимое развитие мышления для анализа предметной области может и должно быть выполнено своевременно – во время обучения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зучение информатики и ИК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179280" y="1916280"/>
            <a:ext cx="2880000" cy="368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 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Group 8"/>
          <p:cNvGrpSpPr/>
          <p:nvPr/>
        </p:nvGrpSpPr>
        <p:grpSpPr>
          <a:xfrm>
            <a:off x="108000" y="2708280"/>
            <a:ext cx="1800000" cy="649080"/>
            <a:chOff x="108000" y="2708280"/>
            <a:chExt cx="1800000" cy="649080"/>
          </a:xfrm>
        </p:grpSpPr>
        <p:sp>
          <p:nvSpPr>
            <p:cNvPr id="583" name="AutoShape 6"/>
            <p:cNvSpPr/>
            <p:nvPr/>
          </p:nvSpPr>
          <p:spPr>
            <a:xfrm>
              <a:off x="108000" y="2708280"/>
              <a:ext cx="1728360" cy="6490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7"/>
            <p:cNvSpPr/>
            <p:nvPr/>
          </p:nvSpPr>
          <p:spPr>
            <a:xfrm>
              <a:off x="108000" y="27082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оретические осн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Group 11"/>
          <p:cNvGrpSpPr/>
          <p:nvPr/>
        </p:nvGrpSpPr>
        <p:grpSpPr>
          <a:xfrm>
            <a:off x="1403280" y="3716280"/>
            <a:ext cx="1657440" cy="647640"/>
            <a:chOff x="1403280" y="3716280"/>
            <a:chExt cx="1657440" cy="647640"/>
          </a:xfrm>
        </p:grpSpPr>
        <p:sp>
          <p:nvSpPr>
            <p:cNvPr id="586" name="AutoShape 9"/>
            <p:cNvSpPr/>
            <p:nvPr/>
          </p:nvSpPr>
          <p:spPr>
            <a:xfrm>
              <a:off x="1403280" y="3716280"/>
              <a:ext cx="1657440" cy="647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Text Box 10"/>
            <p:cNvSpPr/>
            <p:nvPr/>
          </p:nvSpPr>
          <p:spPr>
            <a:xfrm>
              <a:off x="1403280" y="371628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гнитивные ум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AutoShape 12"/>
          <p:cNvSpPr/>
          <p:nvPr/>
        </p:nvSpPr>
        <p:spPr>
          <a:xfrm>
            <a:off x="826920" y="2276640"/>
            <a:ext cx="289080" cy="431640"/>
          </a:xfrm>
          <a:prstGeom prst="upArrow">
            <a:avLst>
              <a:gd name="adj1" fmla="val 50000"/>
              <a:gd name="adj2" fmla="val 3732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13"/>
          <p:cNvSpPr/>
          <p:nvPr/>
        </p:nvSpPr>
        <p:spPr>
          <a:xfrm>
            <a:off x="1979640" y="2276640"/>
            <a:ext cx="216000" cy="1439640"/>
          </a:xfrm>
          <a:prstGeom prst="upArrow">
            <a:avLst>
              <a:gd name="adj1" fmla="val 50000"/>
              <a:gd name="adj2" fmla="val 16662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4067280" y="595008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16"/>
          <p:cNvSpPr/>
          <p:nvPr/>
        </p:nvSpPr>
        <p:spPr>
          <a:xfrm flipV="1">
            <a:off x="4067280" y="1483920"/>
            <a:ext cx="0" cy="446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067280" y="42926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8"/>
          <p:cNvSpPr/>
          <p:nvPr/>
        </p:nvSpPr>
        <p:spPr>
          <a:xfrm>
            <a:off x="4067280" y="28526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601200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3132000" y="49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22"/>
          <p:cNvSpPr/>
          <p:nvPr/>
        </p:nvSpPr>
        <p:spPr>
          <a:xfrm>
            <a:off x="3059280" y="3429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305928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24"/>
          <p:cNvSpPr/>
          <p:nvPr/>
        </p:nvSpPr>
        <p:spPr>
          <a:xfrm>
            <a:off x="4356000" y="5300640"/>
            <a:ext cx="28728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4356000" y="4508640"/>
            <a:ext cx="792360" cy="215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26"/>
          <p:cNvSpPr/>
          <p:nvPr/>
        </p:nvSpPr>
        <p:spPr>
          <a:xfrm>
            <a:off x="4211640" y="3284640"/>
            <a:ext cx="93672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27"/>
          <p:cNvSpPr/>
          <p:nvPr/>
        </p:nvSpPr>
        <p:spPr>
          <a:xfrm>
            <a:off x="4211640" y="2060640"/>
            <a:ext cx="93672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28"/>
          <p:cNvSpPr/>
          <p:nvPr/>
        </p:nvSpPr>
        <p:spPr>
          <a:xfrm>
            <a:off x="4788000" y="494172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29"/>
          <p:cNvSpPr/>
          <p:nvPr/>
        </p:nvSpPr>
        <p:spPr>
          <a:xfrm>
            <a:off x="4788000" y="3860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30"/>
          <p:cNvSpPr/>
          <p:nvPr/>
        </p:nvSpPr>
        <p:spPr>
          <a:xfrm>
            <a:off x="4356000" y="5661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31"/>
          <p:cNvSpPr/>
          <p:nvPr/>
        </p:nvSpPr>
        <p:spPr>
          <a:xfrm>
            <a:off x="4500720" y="5445000"/>
            <a:ext cx="71280" cy="216000"/>
          </a:xfrm>
          <a:prstGeom prst="upArrow">
            <a:avLst>
              <a:gd name="adj1" fmla="val 50000"/>
              <a:gd name="adj2" fmla="val 7575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32"/>
          <p:cNvSpPr/>
          <p:nvPr/>
        </p:nvSpPr>
        <p:spPr>
          <a:xfrm>
            <a:off x="4932360" y="4724280"/>
            <a:ext cx="71280" cy="216000"/>
          </a:xfrm>
          <a:prstGeom prst="upArrow">
            <a:avLst>
              <a:gd name="adj1" fmla="val 50000"/>
              <a:gd name="adj2" fmla="val 75758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33"/>
          <p:cNvSpPr/>
          <p:nvPr/>
        </p:nvSpPr>
        <p:spPr>
          <a:xfrm>
            <a:off x="4932360" y="3645000"/>
            <a:ext cx="71280" cy="215640"/>
          </a:xfrm>
          <a:prstGeom prst="upArrow">
            <a:avLst>
              <a:gd name="adj1" fmla="val 50000"/>
              <a:gd name="adj2" fmla="val 7563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34"/>
          <p:cNvSpPr/>
          <p:nvPr/>
        </p:nvSpPr>
        <p:spPr>
          <a:xfrm>
            <a:off x="529272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35"/>
          <p:cNvSpPr/>
          <p:nvPr/>
        </p:nvSpPr>
        <p:spPr>
          <a:xfrm>
            <a:off x="680400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36"/>
          <p:cNvSpPr/>
          <p:nvPr/>
        </p:nvSpPr>
        <p:spPr>
          <a:xfrm>
            <a:off x="824400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37"/>
          <p:cNvSpPr/>
          <p:nvPr/>
        </p:nvSpPr>
        <p:spPr>
          <a:xfrm>
            <a:off x="5435640" y="3429000"/>
            <a:ext cx="115236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38"/>
          <p:cNvSpPr/>
          <p:nvPr/>
        </p:nvSpPr>
        <p:spPr>
          <a:xfrm>
            <a:off x="6948360" y="1989000"/>
            <a:ext cx="93672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39"/>
          <p:cNvSpPr/>
          <p:nvPr/>
        </p:nvSpPr>
        <p:spPr>
          <a:xfrm>
            <a:off x="5435640" y="5445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40"/>
          <p:cNvSpPr/>
          <p:nvPr/>
        </p:nvSpPr>
        <p:spPr>
          <a:xfrm>
            <a:off x="5867280" y="5084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41"/>
          <p:cNvSpPr/>
          <p:nvPr/>
        </p:nvSpPr>
        <p:spPr>
          <a:xfrm>
            <a:off x="5435640" y="2060640"/>
            <a:ext cx="122400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42"/>
          <p:cNvSpPr/>
          <p:nvPr/>
        </p:nvSpPr>
        <p:spPr>
          <a:xfrm>
            <a:off x="6300720" y="400536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AutoShape 43"/>
          <p:cNvSpPr/>
          <p:nvPr/>
        </p:nvSpPr>
        <p:spPr>
          <a:xfrm>
            <a:off x="5580000" y="3645000"/>
            <a:ext cx="71640" cy="1800000"/>
          </a:xfrm>
          <a:prstGeom prst="upArrow">
            <a:avLst>
              <a:gd name="adj1" fmla="val 50000"/>
              <a:gd name="adj2" fmla="val 6281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44"/>
          <p:cNvSpPr/>
          <p:nvPr/>
        </p:nvSpPr>
        <p:spPr>
          <a:xfrm>
            <a:off x="6012000" y="3645000"/>
            <a:ext cx="72720" cy="1439640"/>
          </a:xfrm>
          <a:prstGeom prst="upArrow">
            <a:avLst>
              <a:gd name="adj1" fmla="val 50000"/>
              <a:gd name="adj2" fmla="val 49492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45"/>
          <p:cNvSpPr/>
          <p:nvPr/>
        </p:nvSpPr>
        <p:spPr>
          <a:xfrm>
            <a:off x="6443640" y="3645000"/>
            <a:ext cx="73080" cy="360360"/>
          </a:xfrm>
          <a:prstGeom prst="upArrow">
            <a:avLst>
              <a:gd name="adj1" fmla="val 50000"/>
              <a:gd name="adj2" fmla="val 12327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utoShape 46"/>
          <p:cNvSpPr/>
          <p:nvPr/>
        </p:nvSpPr>
        <p:spPr>
          <a:xfrm>
            <a:off x="6948360" y="5445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utoShape 47"/>
          <p:cNvSpPr/>
          <p:nvPr/>
        </p:nvSpPr>
        <p:spPr>
          <a:xfrm>
            <a:off x="7524720" y="3860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48"/>
          <p:cNvSpPr/>
          <p:nvPr/>
        </p:nvSpPr>
        <p:spPr>
          <a:xfrm>
            <a:off x="7093080" y="2205000"/>
            <a:ext cx="71280" cy="3240000"/>
          </a:xfrm>
          <a:prstGeom prst="upArrow">
            <a:avLst>
              <a:gd name="adj1" fmla="val 50000"/>
              <a:gd name="adj2" fmla="val 113636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AutoShape 49"/>
          <p:cNvSpPr/>
          <p:nvPr/>
        </p:nvSpPr>
        <p:spPr>
          <a:xfrm>
            <a:off x="7667640" y="2205000"/>
            <a:ext cx="73080" cy="1655640"/>
          </a:xfrm>
          <a:prstGeom prst="upArrow">
            <a:avLst>
              <a:gd name="adj1" fmla="val 50000"/>
              <a:gd name="adj2" fmla="val 56637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50"/>
          <p:cNvSpPr/>
          <p:nvPr/>
        </p:nvSpPr>
        <p:spPr>
          <a:xfrm>
            <a:off x="828036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51"/>
          <p:cNvSpPr/>
          <p:nvPr/>
        </p:nvSpPr>
        <p:spPr>
          <a:xfrm>
            <a:off x="8280360" y="3213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52"/>
          <p:cNvSpPr/>
          <p:nvPr/>
        </p:nvSpPr>
        <p:spPr>
          <a:xfrm>
            <a:off x="8280360" y="191628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ннее обучение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29" name="Group 4"/>
          <p:cNvGrpSpPr/>
          <p:nvPr/>
        </p:nvGrpSpPr>
        <p:grpSpPr>
          <a:xfrm>
            <a:off x="179280" y="1268280"/>
            <a:ext cx="4895280" cy="2014200"/>
            <a:chOff x="179280" y="1268280"/>
            <a:chExt cx="4895280" cy="2014200"/>
          </a:xfrm>
        </p:grpSpPr>
        <p:sp>
          <p:nvSpPr>
            <p:cNvPr id="630" name="AutoShape 5"/>
            <p:cNvSpPr/>
            <p:nvPr/>
          </p:nvSpPr>
          <p:spPr>
            <a:xfrm>
              <a:off x="179280" y="1268280"/>
              <a:ext cx="4895280" cy="1978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6"/>
            <p:cNvSpPr/>
            <p:nvPr/>
          </p:nvSpPr>
          <p:spPr>
            <a:xfrm>
              <a:off x="179280" y="1268280"/>
              <a:ext cx="4679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гнитивные умения – это общеучебные познавательные умения, связанные с развитием памяти, внимания, мышления.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 новом стандарте для начальной школы формирование общеучебных умений и навыков названо «приоритетом начального общего образования»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Group 7"/>
          <p:cNvGrpSpPr/>
          <p:nvPr/>
        </p:nvGrpSpPr>
        <p:grpSpPr>
          <a:xfrm>
            <a:off x="179280" y="3429000"/>
            <a:ext cx="5112720" cy="1294920"/>
            <a:chOff x="179280" y="3429000"/>
            <a:chExt cx="5112720" cy="1294920"/>
          </a:xfrm>
        </p:grpSpPr>
        <p:sp>
          <p:nvSpPr>
            <p:cNvPr id="633" name="AutoShape 8"/>
            <p:cNvSpPr/>
            <p:nvPr/>
          </p:nvSpPr>
          <p:spPr>
            <a:xfrm>
              <a:off x="179280" y="3429000"/>
              <a:ext cx="4909320" cy="12949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9"/>
            <p:cNvSpPr/>
            <p:nvPr/>
          </p:nvSpPr>
          <p:spPr>
            <a:xfrm>
              <a:off x="179280" y="3429000"/>
              <a:ext cx="511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оретические основания – предполагают введение понятий информатики и достаточное число заданий на освоение действий с этими понятиям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Group 12"/>
          <p:cNvGrpSpPr/>
          <p:nvPr/>
        </p:nvGrpSpPr>
        <p:grpSpPr>
          <a:xfrm>
            <a:off x="179280" y="4869000"/>
            <a:ext cx="4895280" cy="1810440"/>
            <a:chOff x="179280" y="4869000"/>
            <a:chExt cx="4895280" cy="1810440"/>
          </a:xfrm>
        </p:grpSpPr>
        <p:sp>
          <p:nvSpPr>
            <p:cNvPr id="636" name="AutoShape 13"/>
            <p:cNvSpPr/>
            <p:nvPr/>
          </p:nvSpPr>
          <p:spPr>
            <a:xfrm>
              <a:off x="179280" y="4869000"/>
              <a:ext cx="4895280" cy="18104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14"/>
            <p:cNvSpPr/>
            <p:nvPr/>
          </p:nvSpPr>
          <p:spPr>
            <a:xfrm>
              <a:off x="179280" y="4869000"/>
              <a:ext cx="4679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рактика применения компьютера – входит в новый стандарт для 3 и 4 класса образовательной области «Технология». Включает: знакомство с компьютером, поиск информации, работу с простыми информационными объектами и т.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Text Box 16"/>
          <p:cNvSpPr/>
          <p:nvPr/>
        </p:nvSpPr>
        <p:spPr>
          <a:xfrm>
            <a:off x="5292720" y="1268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образовательной системы «Школа 210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558000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7236000" y="1844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19"/>
          <p:cNvSpPr/>
          <p:nvPr/>
        </p:nvSpPr>
        <p:spPr>
          <a:xfrm>
            <a:off x="716436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42"/>
          <p:cNvGrpSpPr/>
          <p:nvPr/>
        </p:nvGrpSpPr>
        <p:grpSpPr>
          <a:xfrm>
            <a:off x="5867280" y="2205000"/>
            <a:ext cx="2594160" cy="1008000"/>
            <a:chOff x="5867280" y="2205000"/>
            <a:chExt cx="2594160" cy="1008000"/>
          </a:xfrm>
        </p:grpSpPr>
        <p:sp>
          <p:nvSpPr>
            <p:cNvPr id="643" name="AutoShape 22"/>
            <p:cNvSpPr/>
            <p:nvPr/>
          </p:nvSpPr>
          <p:spPr>
            <a:xfrm>
              <a:off x="5867280" y="2276280"/>
              <a:ext cx="1297080" cy="720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AutoShape 25"/>
            <p:cNvSpPr/>
            <p:nvPr/>
          </p:nvSpPr>
          <p:spPr>
            <a:xfrm>
              <a:off x="5867280" y="2997000"/>
              <a:ext cx="1297080" cy="1425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AutoShape 28"/>
            <p:cNvSpPr/>
            <p:nvPr/>
          </p:nvSpPr>
          <p:spPr>
            <a:xfrm>
              <a:off x="7164360" y="2276280"/>
              <a:ext cx="1297080" cy="863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AutoShape 30"/>
            <p:cNvSpPr/>
            <p:nvPr/>
          </p:nvSpPr>
          <p:spPr>
            <a:xfrm>
              <a:off x="5867280" y="2205000"/>
              <a:ext cx="2592360" cy="1008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543564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2"/>
          <p:cNvSpPr/>
          <p:nvPr/>
        </p:nvSpPr>
        <p:spPr>
          <a:xfrm>
            <a:off x="716436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3"/>
          <p:cNvSpPr/>
          <p:nvPr/>
        </p:nvSpPr>
        <p:spPr>
          <a:xfrm>
            <a:off x="5435640" y="35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4 (2-4)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34"/>
          <p:cNvSpPr/>
          <p:nvPr/>
        </p:nvSpPr>
        <p:spPr>
          <a:xfrm>
            <a:off x="7164360" y="350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-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35"/>
          <p:cNvSpPr/>
          <p:nvPr/>
        </p:nvSpPr>
        <p:spPr>
          <a:xfrm>
            <a:off x="5292720" y="3789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ональный или школьный компонент БУ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36"/>
          <p:cNvSpPr/>
          <p:nvPr/>
        </p:nvSpPr>
        <p:spPr>
          <a:xfrm>
            <a:off x="7093080" y="378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деральный компонент БУ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7"/>
          <p:cNvSpPr/>
          <p:nvPr/>
        </p:nvSpPr>
        <p:spPr>
          <a:xfrm>
            <a:off x="7164360" y="458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ы обязатель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38"/>
          <p:cNvSpPr/>
          <p:nvPr/>
        </p:nvSpPr>
        <p:spPr>
          <a:xfrm>
            <a:off x="5219640" y="4581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ы не обязательны, но допусти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39"/>
          <p:cNvSpPr/>
          <p:nvPr/>
        </p:nvSpPr>
        <p:spPr>
          <a:xfrm>
            <a:off x="5148360" y="6216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Информатика в играх и задача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40"/>
          <p:cNvSpPr/>
          <p:nvPr/>
        </p:nvSpPr>
        <p:spPr>
          <a:xfrm>
            <a:off x="7020000" y="621648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ой инструмент – компьюте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41"/>
          <p:cNvSpPr/>
          <p:nvPr/>
        </p:nvSpPr>
        <p:spPr>
          <a:xfrm>
            <a:off x="5076720" y="544500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056360" y="5373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информатики или любой друг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ннее обучение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826920" y="90792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образовательной системы «Школа 210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3059280" y="126828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гум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7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8"/>
          <p:cNvSpPr/>
          <p:nvPr/>
        </p:nvSpPr>
        <p:spPr>
          <a:xfrm>
            <a:off x="450072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4572000" y="4437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едостат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дночасовых предметов: нагрузка в основном на память и недостаточное развитие мыш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одоление недостат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специальная ориентация на развитие мышления и ограничение числа вводимых понятий строго необходимым минимумом (для понимания условий задани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2487240" y="1699560"/>
            <a:ext cx="41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возможность объять необъятн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12"/>
          <p:cNvSpPr/>
          <p:nvPr/>
        </p:nvSpPr>
        <p:spPr>
          <a:xfrm>
            <a:off x="2627280" y="20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0" y="292428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риентация на развит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огического, алгоритмического и системного мышления приводит к явно наблюдаемому более успешному усвоению базовых дисципли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4572000" y="292428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Конструктор» из двух компонентов позволяет подбирать оптимальные сочетания в зависимости от материально-технических и прочих условий шко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0" y="4797360"/>
            <a:ext cx="44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ение уроков информатики учителями начальных классов позволяет создавать механизм для переноса формируемых на уроках информатики умственных действий на уроки по базовым дисциплин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0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1"/>
          <p:cNvSpPr/>
          <p:nvPr/>
        </p:nvSpPr>
        <p:spPr>
          <a:xfrm>
            <a:off x="4500720" y="2060280"/>
            <a:ext cx="45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педевтика логически сложных разделов позволяет изучать базовый курс более высокими темп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0" y="21330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оздание с развитием мышления – это опоздание навсег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нформатики и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 сочетаний информатики, ИК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ьных технологий в 3-4 клас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828036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1024"/>
          <p:cNvSpPr/>
          <p:nvPr/>
        </p:nvSpPr>
        <p:spPr>
          <a:xfrm>
            <a:off x="250920" y="3213000"/>
            <a:ext cx="28872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1025"/>
          <p:cNvSpPr/>
          <p:nvPr/>
        </p:nvSpPr>
        <p:spPr>
          <a:xfrm>
            <a:off x="250920" y="4149720"/>
            <a:ext cx="288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1026"/>
          <p:cNvSpPr/>
          <p:nvPr/>
        </p:nvSpPr>
        <p:spPr>
          <a:xfrm>
            <a:off x="250920" y="5084640"/>
            <a:ext cx="28872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1027"/>
          <p:cNvSpPr/>
          <p:nvPr/>
        </p:nvSpPr>
        <p:spPr>
          <a:xfrm>
            <a:off x="613080" y="34995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1028"/>
          <p:cNvSpPr/>
          <p:nvPr/>
        </p:nvSpPr>
        <p:spPr>
          <a:xfrm>
            <a:off x="613080" y="42919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1029"/>
          <p:cNvSpPr/>
          <p:nvPr/>
        </p:nvSpPr>
        <p:spPr>
          <a:xfrm>
            <a:off x="612360" y="5373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1030"/>
          <p:cNvSpPr/>
          <p:nvPr/>
        </p:nvSpPr>
        <p:spPr>
          <a:xfrm>
            <a:off x="4861440" y="35726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031"/>
          <p:cNvSpPr/>
          <p:nvPr/>
        </p:nvSpPr>
        <p:spPr>
          <a:xfrm>
            <a:off x="7310880" y="3644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1032"/>
          <p:cNvSpPr/>
          <p:nvPr/>
        </p:nvSpPr>
        <p:spPr>
          <a:xfrm>
            <a:off x="253440" y="59493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 – федеральный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1033"/>
          <p:cNvSpPr/>
          <p:nvPr/>
        </p:nvSpPr>
        <p:spPr>
          <a:xfrm>
            <a:off x="252000" y="6216120"/>
            <a:ext cx="33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 – школьный ил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региональный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034"/>
          <p:cNvSpPr/>
          <p:nvPr/>
        </p:nvSpPr>
        <p:spPr>
          <a:xfrm>
            <a:off x="3708360" y="5805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ий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1035"/>
          <p:cNvSpPr/>
          <p:nvPr/>
        </p:nvSpPr>
        <p:spPr>
          <a:xfrm>
            <a:off x="5076720" y="580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пустимые ва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1036"/>
          <p:cNvSpPr/>
          <p:nvPr/>
        </p:nvSpPr>
        <p:spPr>
          <a:xfrm>
            <a:off x="6732720" y="580500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очень хороший, но допустимый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1037"/>
          <p:cNvSpPr/>
          <p:nvPr/>
        </p:nvSpPr>
        <p:spPr>
          <a:xfrm>
            <a:off x="3780000" y="4292640"/>
            <a:ext cx="28872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1038"/>
          <p:cNvSpPr/>
          <p:nvPr/>
        </p:nvSpPr>
        <p:spPr>
          <a:xfrm>
            <a:off x="4067280" y="4292640"/>
            <a:ext cx="288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039"/>
          <p:cNvSpPr/>
          <p:nvPr/>
        </p:nvSpPr>
        <p:spPr>
          <a:xfrm>
            <a:off x="4356000" y="4292640"/>
            <a:ext cx="28908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1041"/>
          <p:cNvSpPr/>
          <p:nvPr/>
        </p:nvSpPr>
        <p:spPr>
          <a:xfrm>
            <a:off x="406872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42"/>
          <p:cNvSpPr/>
          <p:nvPr/>
        </p:nvSpPr>
        <p:spPr>
          <a:xfrm>
            <a:off x="349488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1044"/>
          <p:cNvSpPr/>
          <p:nvPr/>
        </p:nvSpPr>
        <p:spPr>
          <a:xfrm>
            <a:off x="4932360" y="4292640"/>
            <a:ext cx="289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1045"/>
          <p:cNvSpPr/>
          <p:nvPr/>
        </p:nvSpPr>
        <p:spPr>
          <a:xfrm>
            <a:off x="5219640" y="4292640"/>
            <a:ext cx="28908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1046"/>
          <p:cNvSpPr/>
          <p:nvPr/>
        </p:nvSpPr>
        <p:spPr>
          <a:xfrm>
            <a:off x="550872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1047"/>
          <p:cNvSpPr/>
          <p:nvPr/>
        </p:nvSpPr>
        <p:spPr>
          <a:xfrm>
            <a:off x="522144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048"/>
          <p:cNvSpPr/>
          <p:nvPr/>
        </p:nvSpPr>
        <p:spPr>
          <a:xfrm>
            <a:off x="464724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1049"/>
          <p:cNvSpPr/>
          <p:nvPr/>
        </p:nvSpPr>
        <p:spPr>
          <a:xfrm>
            <a:off x="5219640" y="4724280"/>
            <a:ext cx="289080" cy="35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1050"/>
          <p:cNvSpPr/>
          <p:nvPr/>
        </p:nvSpPr>
        <p:spPr>
          <a:xfrm rot="16200000">
            <a:off x="4283640" y="494100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1051"/>
          <p:cNvSpPr/>
          <p:nvPr/>
        </p:nvSpPr>
        <p:spPr>
          <a:xfrm rot="16200000">
            <a:off x="5436000" y="494100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052"/>
          <p:cNvSpPr/>
          <p:nvPr/>
        </p:nvSpPr>
        <p:spPr>
          <a:xfrm>
            <a:off x="6084720" y="4292640"/>
            <a:ext cx="289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1053"/>
          <p:cNvSpPr/>
          <p:nvPr/>
        </p:nvSpPr>
        <p:spPr>
          <a:xfrm>
            <a:off x="637236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054"/>
          <p:cNvSpPr/>
          <p:nvPr/>
        </p:nvSpPr>
        <p:spPr>
          <a:xfrm>
            <a:off x="665964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1055"/>
          <p:cNvSpPr/>
          <p:nvPr/>
        </p:nvSpPr>
        <p:spPr>
          <a:xfrm>
            <a:off x="637236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1056"/>
          <p:cNvSpPr/>
          <p:nvPr/>
        </p:nvSpPr>
        <p:spPr>
          <a:xfrm>
            <a:off x="579816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057"/>
          <p:cNvSpPr/>
          <p:nvPr/>
        </p:nvSpPr>
        <p:spPr>
          <a:xfrm rot="16200000">
            <a:off x="6587280" y="494100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059"/>
          <p:cNvSpPr/>
          <p:nvPr/>
        </p:nvSpPr>
        <p:spPr>
          <a:xfrm>
            <a:off x="745344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1060"/>
          <p:cNvSpPr/>
          <p:nvPr/>
        </p:nvSpPr>
        <p:spPr>
          <a:xfrm rot="16200000">
            <a:off x="7668360" y="494100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061"/>
          <p:cNvSpPr/>
          <p:nvPr/>
        </p:nvSpPr>
        <p:spPr>
          <a:xfrm>
            <a:off x="774072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062"/>
          <p:cNvSpPr/>
          <p:nvPr/>
        </p:nvSpPr>
        <p:spPr>
          <a:xfrm>
            <a:off x="7451640" y="4724280"/>
            <a:ext cx="28908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063"/>
          <p:cNvSpPr/>
          <p:nvPr/>
        </p:nvSpPr>
        <p:spPr>
          <a:xfrm>
            <a:off x="7451640" y="4292640"/>
            <a:ext cx="28908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дульная структура учеб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1"/>
          <p:cNvSpPr/>
          <p:nvPr/>
        </p:nvSpPr>
        <p:spPr>
          <a:xfrm>
            <a:off x="395280" y="2205000"/>
            <a:ext cx="374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ули в перв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3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4643280" y="2205000"/>
            <a:ext cx="439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ули во втор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4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0" y="3213000"/>
            <a:ext cx="46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комство с компьюте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рисун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мультфильмов или живых карти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роектов зданий и поме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4535640" y="3213000"/>
            <a:ext cx="46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текс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ечатных публик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электронных публик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ранение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384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обзор приложен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Picture 7" descr="3dhome"/>
          <p:cNvPicPr/>
          <p:nvPr/>
        </p:nvPicPr>
        <p:blipFill>
          <a:blip r:embed="rId1"/>
          <a:stretch/>
        </p:blipFill>
        <p:spPr>
          <a:xfrm>
            <a:off x="684360" y="34290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26" name="Line 0"/>
          <p:cNvSpPr/>
          <p:nvPr/>
        </p:nvSpPr>
        <p:spPr>
          <a:xfrm>
            <a:off x="4356000" y="220500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4500720" y="2276640"/>
            <a:ext cx="41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авочники-практику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4859280" y="2781360"/>
            <a:ext cx="1368360" cy="1800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6659640" y="2781360"/>
            <a:ext cx="1368360" cy="1800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4859280" y="4797360"/>
            <a:ext cx="1368360" cy="180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11" descr="claris 1"/>
          <p:cNvPicPr/>
          <p:nvPr/>
        </p:nvPicPr>
        <p:blipFill>
          <a:blip r:embed="rId2"/>
          <a:stretch/>
        </p:blipFill>
        <p:spPr>
          <a:xfrm>
            <a:off x="197964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2" descr="DB"/>
          <p:cNvPicPr/>
          <p:nvPr/>
        </p:nvPicPr>
        <p:blipFill>
          <a:blip r:embed="rId3"/>
          <a:stretch/>
        </p:blipFill>
        <p:spPr>
          <a:xfrm>
            <a:off x="68436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3" descr="drape"/>
          <p:cNvPicPr/>
          <p:nvPr/>
        </p:nvPicPr>
        <p:blipFill>
          <a:blip r:embed="rId4"/>
          <a:stretch/>
        </p:blipFill>
        <p:spPr>
          <a:xfrm>
            <a:off x="133200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4" descr="flash"/>
          <p:cNvPicPr/>
          <p:nvPr/>
        </p:nvPicPr>
        <p:blipFill>
          <a:blip r:embed="rId5"/>
          <a:stretch/>
        </p:blipFill>
        <p:spPr>
          <a:xfrm>
            <a:off x="197964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5" descr="floorplan 1"/>
          <p:cNvPicPr/>
          <p:nvPr/>
        </p:nvPicPr>
        <p:blipFill>
          <a:blip r:embed="rId6"/>
          <a:stretch/>
        </p:blipFill>
        <p:spPr>
          <a:xfrm>
            <a:off x="529272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6" descr="gm"/>
          <p:cNvPicPr/>
          <p:nvPr/>
        </p:nvPicPr>
        <p:blipFill>
          <a:blip r:embed="rId7"/>
          <a:stretch/>
        </p:blipFill>
        <p:spPr>
          <a:xfrm>
            <a:off x="2627280" y="414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7" descr="multi"/>
          <p:cNvPicPr/>
          <p:nvPr/>
        </p:nvPicPr>
        <p:blipFill>
          <a:blip r:embed="rId8"/>
          <a:stretch/>
        </p:blipFill>
        <p:spPr>
          <a:xfrm>
            <a:off x="521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8" descr="floorplan 1"/>
          <p:cNvPicPr/>
          <p:nvPr/>
        </p:nvPicPr>
        <p:blipFill>
          <a:blip r:embed="rId9"/>
          <a:stretch/>
        </p:blipFill>
        <p:spPr>
          <a:xfrm>
            <a:off x="327672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9" descr="multi"/>
          <p:cNvPicPr/>
          <p:nvPr/>
        </p:nvPicPr>
        <p:blipFill>
          <a:blip r:embed="rId10"/>
          <a:stretch/>
        </p:blipFill>
        <p:spPr>
          <a:xfrm>
            <a:off x="3276720" y="41497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20"/>
          <p:cNvSpPr/>
          <p:nvPr/>
        </p:nvSpPr>
        <p:spPr>
          <a:xfrm>
            <a:off x="250920" y="1700280"/>
            <a:ext cx="813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привязки к конкретным приложени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21" descr="paint"/>
          <p:cNvPicPr/>
          <p:nvPr/>
        </p:nvPicPr>
        <p:blipFill>
          <a:blip r:embed="rId11"/>
          <a:stretch/>
        </p:blipFill>
        <p:spPr>
          <a:xfrm>
            <a:off x="2627280" y="3429000"/>
            <a:ext cx="423720" cy="431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2" descr="ge"/>
          <p:cNvPicPr/>
          <p:nvPr/>
        </p:nvPicPr>
        <p:blipFill>
          <a:blip r:embed="rId12"/>
          <a:stretch/>
        </p:blipFill>
        <p:spPr>
          <a:xfrm>
            <a:off x="684360" y="4869000"/>
            <a:ext cx="439560" cy="4395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3" descr="Photoshop"/>
          <p:cNvPicPr/>
          <p:nvPr/>
        </p:nvPicPr>
        <p:blipFill>
          <a:blip r:embed="rId13"/>
          <a:stretch/>
        </p:blipFill>
        <p:spPr>
          <a:xfrm>
            <a:off x="1332000" y="4869000"/>
            <a:ext cx="423720" cy="41256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4" descr="sb"/>
          <p:cNvPicPr/>
          <p:nvPr/>
        </p:nvPicPr>
        <p:blipFill>
          <a:blip r:embed="rId14"/>
          <a:stretch/>
        </p:blipFill>
        <p:spPr>
          <a:xfrm>
            <a:off x="1979640" y="4869000"/>
            <a:ext cx="422280" cy="4222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5" descr="констр_игр"/>
          <p:cNvPicPr/>
          <p:nvPr/>
        </p:nvPicPr>
        <p:blipFill>
          <a:blip r:embed="rId15"/>
          <a:stretch/>
        </p:blipFill>
        <p:spPr>
          <a:xfrm>
            <a:off x="2627280" y="486900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7" descr="логомиры"/>
          <p:cNvPicPr/>
          <p:nvPr/>
        </p:nvPicPr>
        <p:blipFill>
          <a:blip r:embed="rId16"/>
          <a:stretch/>
        </p:blipFill>
        <p:spPr>
          <a:xfrm>
            <a:off x="3276720" y="486900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28" descr="перволого"/>
          <p:cNvPicPr/>
          <p:nvPr/>
        </p:nvPicPr>
        <p:blipFill>
          <a:blip r:embed="rId17"/>
          <a:stretch/>
        </p:blipFill>
        <p:spPr>
          <a:xfrm>
            <a:off x="684360" y="5589720"/>
            <a:ext cx="425160" cy="4251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9" descr="ARCON"/>
          <p:cNvPicPr/>
          <p:nvPr/>
        </p:nvPicPr>
        <p:blipFill>
          <a:blip r:embed="rId18"/>
          <a:stretch/>
        </p:blipFill>
        <p:spPr>
          <a:xfrm>
            <a:off x="133200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0" descr="мия"/>
          <p:cNvPicPr/>
          <p:nvPr/>
        </p:nvPicPr>
        <p:blipFill>
          <a:blip r:embed="rId19"/>
          <a:stretch/>
        </p:blipFill>
        <p:spPr>
          <a:xfrm>
            <a:off x="1979640" y="558972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1" descr="GIMP"/>
          <p:cNvPicPr/>
          <p:nvPr/>
        </p:nvPicPr>
        <p:blipFill>
          <a:blip r:embed="rId20"/>
          <a:stretch/>
        </p:blipFill>
        <p:spPr>
          <a:xfrm>
            <a:off x="2556000" y="5516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2" descr="ImageReady"/>
          <p:cNvPicPr/>
          <p:nvPr/>
        </p:nvPicPr>
        <p:blipFill>
          <a:blip r:embed="rId21"/>
          <a:stretch/>
        </p:blipFill>
        <p:spPr>
          <a:xfrm>
            <a:off x="327672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3" descr="KIDPIX"/>
          <p:cNvPicPr/>
          <p:nvPr/>
        </p:nvPicPr>
        <p:blipFill>
          <a:blip r:embed="rId22"/>
          <a:stretch/>
        </p:blipFill>
        <p:spPr>
          <a:xfrm>
            <a:off x="684360" y="6237360"/>
            <a:ext cx="415800" cy="3920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34" descr="TUX"/>
          <p:cNvPicPr/>
          <p:nvPr/>
        </p:nvPicPr>
        <p:blipFill>
          <a:blip r:embed="rId23"/>
          <a:stretch/>
        </p:blipFill>
        <p:spPr>
          <a:xfrm>
            <a:off x="1332000" y="623736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5" descr="TUX"/>
          <p:cNvPicPr/>
          <p:nvPr/>
        </p:nvPicPr>
        <p:blipFill>
          <a:blip r:embed="rId24"/>
          <a:stretch/>
        </p:blipFill>
        <p:spPr>
          <a:xfrm>
            <a:off x="7020000" y="33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6" descr="KNP"/>
          <p:cNvPicPr/>
          <p:nvPr/>
        </p:nvPicPr>
        <p:blipFill>
          <a:blip r:embed="rId25"/>
          <a:stretch/>
        </p:blipFill>
        <p:spPr>
          <a:xfrm>
            <a:off x="327672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37" descr="MACPAINT"/>
          <p:cNvPicPr/>
          <p:nvPr/>
        </p:nvPicPr>
        <p:blipFill>
          <a:blip r:embed="rId26"/>
          <a:stretch/>
        </p:blipFill>
        <p:spPr>
          <a:xfrm>
            <a:off x="2556000" y="6165720"/>
            <a:ext cx="522000" cy="5223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38" descr="RPG2003"/>
          <p:cNvPicPr/>
          <p:nvPr/>
        </p:nvPicPr>
        <p:blipFill>
          <a:blip r:embed="rId27"/>
          <a:stretch/>
        </p:blipFill>
        <p:spPr>
          <a:xfrm>
            <a:off x="197964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39" descr="VISICON"/>
          <p:cNvPicPr/>
          <p:nvPr/>
        </p:nvPicPr>
        <p:blipFill>
          <a:blip r:embed="rId28"/>
          <a:stretch/>
        </p:blipFill>
        <p:spPr>
          <a:xfrm>
            <a:off x="133200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41" descr="konstr_obl"/>
          <p:cNvPicPr/>
          <p:nvPr/>
        </p:nvPicPr>
        <p:blipFill>
          <a:blip r:embed="rId29"/>
          <a:stretch/>
        </p:blipFill>
        <p:spPr>
          <a:xfrm>
            <a:off x="6643800" y="4797360"/>
            <a:ext cx="1414440" cy="1800360"/>
          </a:xfrm>
          <a:prstGeom prst="rect">
            <a:avLst/>
          </a:prstGeom>
          <a:ln w="0">
            <a:noFill/>
          </a:ln>
        </p:spPr>
      </p:pic>
      <p:sp>
        <p:nvSpPr>
          <p:cNvPr id="76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6"/>
          <p:cNvSpPr/>
          <p:nvPr/>
        </p:nvSpPr>
        <p:spPr>
          <a:xfrm>
            <a:off x="1835280" y="1700280"/>
            <a:ext cx="56894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 задачах раннего обучения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908000" y="1773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информатизации и формирования информационного компонента мировозз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1835280" y="3211560"/>
            <a:ext cx="56894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8"/>
          <p:cNvSpPr/>
          <p:nvPr/>
        </p:nvSpPr>
        <p:spPr>
          <a:xfrm>
            <a:off x="1908000" y="3284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школьного курса информатики и информационно-коммуникационных технолог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9"/>
          <p:cNvSpPr/>
          <p:nvPr/>
        </p:nvSpPr>
        <p:spPr>
          <a:xfrm>
            <a:off x="1906560" y="4724280"/>
            <a:ext cx="5689800" cy="792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1979640" y="4797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раннего обучения информат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4356000" y="2492280"/>
            <a:ext cx="79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4356000" y="4005360"/>
            <a:ext cx="79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ый типовой дидактический эле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2124000" y="2205000"/>
            <a:ext cx="40388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684360" y="2924280"/>
            <a:ext cx="187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ту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ис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2700360" y="2924280"/>
            <a:ext cx="619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формление витрин магаз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зайнер вит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газине есть и продовольственные товары, и одежда, и игрушки, и спортивные товары, и много других товаров. Директор магазина для привлечения покупателей решил обновить оформление витр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ери, витрину какого отдела ты поможешь оформить, и нарисуй её эск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Line 7"/>
          <p:cNvSpPr/>
          <p:nvPr/>
        </p:nvSpPr>
        <p:spPr>
          <a:xfrm>
            <a:off x="1042920" y="335772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Line 8"/>
          <p:cNvSpPr/>
          <p:nvPr/>
        </p:nvSpPr>
        <p:spPr>
          <a:xfrm>
            <a:off x="1042920" y="371628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9"/>
          <p:cNvSpPr/>
          <p:nvPr/>
        </p:nvSpPr>
        <p:spPr>
          <a:xfrm>
            <a:off x="1042920" y="587700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685440" y="2060640"/>
            <a:ext cx="73922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ет в мире совершенства». Ли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Сент-Экзюпер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аленький принц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задачах информатизации и формирования информационного компонента мировоззрения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декватная оценка окружающей действительности, постановка достойных и принципиально осуществимых целей и их дости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мировоззр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тичности целей и принципиальной возможности их дости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достоверности получаемых сведений и более глубокое их осмыс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тизац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ение ИКТ как инструмента в действиях, направленных на достижение поставленных ц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Информатизация деятельности</a:t>
            </a:r>
            <a:br>
              <a:rPr sz="40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модель применения ИКТ как инструмента</a:t>
            </a:r>
            <a:br>
              <a:rPr sz="24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6836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мысление конечной цели и требований к ключевым характеристикам результ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этапов достижения 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зор имеющихся и потенциально доступных ресур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плана дейст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объектов информационной природы (текст, изображение, звук, видео) и принятие решения об их цифровом представл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отрение отдельных действий и принятие решения об их инфор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ор способов инфор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скоординированных действий по плану с применением информационно-коммуникационных технолог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ершение работ и оценка результа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Обзор имеющихся и потенциально доступных ресурсов</a:t>
            </a:r>
            <a:br>
              <a:rPr sz="3600"/>
            </a:br>
            <a:r>
              <a:rPr b="0" i="1" lang="ru-RU" sz="20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лификация исполн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(с учётом необходимости и возможности осво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ьютерные программы  (с учётом необходимости и возможности осво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ы (в т.ч. коллекции информационных объект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тдельные типовые действия</a:t>
            </a:r>
            <a:br>
              <a:rPr sz="4400"/>
            </a:br>
            <a:r>
              <a:rPr b="0" i="1" lang="ru-RU" sz="24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ение дополнительных свед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ятие ре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варительное модел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ация действий (использование датчиков и устройств управл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рдинация действий соисполн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слеживание хода выполнения действ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дение сопроводительной докумен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бор способа информатизации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ы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ерви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ерви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ых при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ого приложения с самостоятельной настройкой на предметную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матизация повторяющихся дей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настройки готового приложения (возможно самостоятельное прототипир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е создание специализированного 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на создание специализированного приложения (возможно самостоятельное прототипир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информатиз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отражения в используемых инструментах специфики предметной области (например, применение текстовых редакторов, средств создания презентац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разной степенью отражения в используемых инструментах специфики предметной области (например, электронные таблицы, базы данных, системы проектирования, специализированные приложения для конкретных областей деятель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вышением степени формализации содержания деятельности растет эффективность информатизации: всё большее число операций удаётся автоматизиро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емление к росту автоматизации, к повышению эффективности действий порождает потребность в формализации и моделиров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Сложность применения разных видов информатизаци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амо по себе применение средств ИКТ без отражения в используемых инструментах специфики предметной области не требует значительных умственных усилий и умения выполнения логически сложных умственных опер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применении средств ИКТ с  разной степенью отражения в используемых инструментах специфики предметной области происходит частичный перенос логической сложности действий предметной области в сложность использования ИК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обенно повышается уровень сложности умственных действий при самостоятельной настройке средств ИКТ на специфику предметной области или при заказе у специалистов такой настройки или специализированных прилож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9:56:49Z</dcterms:created>
  <dc:creator>Александр</dc:creator>
  <dc:description/>
  <dc:language>en-US</dc:language>
  <cp:lastModifiedBy>LEGION</cp:lastModifiedBy>
  <dcterms:modified xsi:type="dcterms:W3CDTF">2015-04-01T07:28:55Z</dcterms:modified>
  <cp:revision>46</cp:revision>
  <dc:subject/>
  <dc:title>Двухкомпонентный курс информатики</dc:title>
</cp:coreProperties>
</file>