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DA89-1EAB-49C2-B8C9-69814D386E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преподавания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B7D8-9ADE-4100-82AE-961DA57677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временных педагогических технолог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форм обуч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грированных практических работ (проектов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9C16-BA38-42AA-B3E6-6FCED79EAD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трольно-измерительных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овыше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ых материалов, использовани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а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хода, а такж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ижения сто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ифровых (электронных) носител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5011-E59A-43ED-A26E-578F72285E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остной предметно-развивающей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9975-B693-4509-9417-67B1F569DF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DE8D-FED8-4541-ACEA-596B1D70A2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МК «Информатика и информационные технологии» (Угринович Н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 Компьютерный практикум: Электронный учебник на CD-ROM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A853-82FE-43C6-8A6F-99BBE21292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фрин Ю. Информационные технологии: В 2 ч. - М.: Лаборатория Базовых Знаний, 199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EB43-C336-4F1D-A693-575F15E651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и по базовому курсу ИИТ для основной школы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ph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ценный электронный учебник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офильному курсу И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8AB0-D591-4B16-8D48-6211C68B51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A45F-B529-47D7-8AAF-BD1302A40A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дакт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логию компьютерных телекоммун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воению содержательной линии «Математическое и компьютерное моделировани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ный 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ис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и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лич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чниках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ста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ыслей и взглядов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изация собственной и коллектив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0A79-B46A-4835-A14B-4EECC28CE3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ие приоритеты: формирование информационно-функциональной компетент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и оценка информации по заданной теме в источниках различного тип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405F-EA3A-4510-8128-C6172E4523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и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ногообразия операционных ср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больше по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ультимедийных учеб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F03F-BCF4-4C85-B906-484DAC0DA3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617-B9E6-436C-9498-2DC625F6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486-1EA0-4546-A5DF-2538B080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1CF-074D-4E5D-BE60-416F08F6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44E-E955-4D70-AD36-FF279566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EE29-093A-46E8-B102-F66E3CEB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82BB-936C-4E2E-AEA8-2C601F5A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47D6-663A-4929-A2FE-F4B1F113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D27A-DFC5-43D1-B1D0-4E635DB2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A8DE-5B4F-4ADD-BFD5-30F66D89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63BD-6611-4ACB-BB0D-512A766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4364-4365-4438-AEFC-822BBB0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C50-3F26-4681-A334-CE4F6E17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6701-46FA-400F-B8E5-E2587EA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EB46-E15E-48A9-A7EB-25FB313F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7C6E-310D-4B6C-9E34-65C8156F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536C-CD61-4B97-A8DC-875E368E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41BB-54D8-4667-8339-3694B55D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0A4-31A2-4800-A08A-27E24FFC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13C-A828-4C8A-9851-AA177ADB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608-BDD1-4AB6-A00C-9E854E32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142-4732-4633-B32E-F5726781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03F-5139-4681-85F5-FF98AFC0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131-455E-4A29-A1CA-08C0469D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4CE-83E5-44D4-9630-6FFDFFD0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1850-6C02-449D-B4F7-A625184705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DE19-8149-4DAB-87F9-769A4B6796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Организация преподавания информа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66320" y="4495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Средняя общеобразовательная школа №49 г. Белгорода с углубленным изучением отдельных предмет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овременных педагогических технологий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метод проектов, деловая игра, метод критического мышления и др.) позволяет интенсифицировать и модернизировать процесс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активных форм обучения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ая работа, семинар, лекция, консультация, учебная конференция. Все формы обучения нацеливают на развитие определенных навыков и умений самостоятельной деятельности, обеспечивают переход от обучения к самообразов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спользование интегрированных практических работ (проектов)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риентированных на получение целостного содержательного результата, осмысленного и интересного для учащихся. При выполнении работ практикума предполагается использование актуального содержательного материала и заданий из других предметных обл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4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бования к уровню подготовки выпускников задаются в деятельностной форме (что в результате изучения данного учебного предмета учащиеся должны знать, уметь, использовать в практической деятельности и повседневной жизни). Требования служат основой разработк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трольно-измерительных материа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государственной аттестации выпускников образовательных учреждений, реализующих программы основного общего и среднего (полного) общего образ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целью повыше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ффе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ебных материалов, использования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нтерактив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хода, а также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нижения стоим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трат на размножение и доставку учебных материалов приоритетным направлением выбрано использование не на полиграфических, а н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ифровых (электронных) носите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имо чисто технических и материальных задач использование вышеозначенных средств позволяет реализовать функцию ориентира в создании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остной предметно-развивающей сре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обходимой для реализации требований к уровню подготовки выпускников на каждой ступени обучения, исходя из задач комплексного использования материально-технических средств обучения, перехода от репродуктивных форм учебной деятельности к самостоятельным, поисково-исследовательским видам работы, переноса акцента на аналитический компонент учебной деятельности, формирование коммуникативной культуры учащихся и развитие умений работы с различными типами информации и ее 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ный программно-методический комплекс «Информатика и информационные технологии» не в полной мере соответствует стандарту образования по информатике (профильный уровень): некоторые вопросы освещены в учебнике слабо или не освещены вов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 отметить, что часть предложенных в планировании практических работ содержат недостаточный или слабо структурирован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им из компонентов комплекса мог бы стать задачник, содержащий материалы для учебных занятий и самостоятельной домашней работы, а также контрольно-измерительные матери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достаточная материальная оснащенность учебного процесса несколько уменьшает возможности мотивации к обучен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иду разнообразия программного обеспечения возникает проблема его отбора и единых дидактических материал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cxnSp>
          <p:nvCxnSpPr>
            <p:cNvPr id="109" name="_s1028"/>
            <p:cNvCxnSpPr>
              <a:stCxn id="110" idx="1"/>
              <a:endCxn id="111" idx="2"/>
            </p:cNvCxnSpPr>
            <p:nvPr/>
          </p:nvCxnSpPr>
          <p:spPr>
            <a:xfrm rot="10800000">
              <a:off x="6683400" y="2016000"/>
              <a:ext cx="349920" cy="4437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29"/>
            <p:cNvCxnSpPr>
              <a:stCxn id="113" idx="1"/>
              <a:endCxn id="111" idx="2"/>
            </p:cNvCxnSpPr>
            <p:nvPr/>
          </p:nvCxnSpPr>
          <p:spPr>
            <a:xfrm rot="10800000">
              <a:off x="6683400" y="2016000"/>
              <a:ext cx="349920" cy="3227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030"/>
            <p:cNvCxnSpPr>
              <a:stCxn id="115" idx="1"/>
              <a:endCxn id="111" idx="2"/>
            </p:cNvCxnSpPr>
            <p:nvPr/>
          </p:nvCxnSpPr>
          <p:spPr>
            <a:xfrm rot="10800000">
              <a:off x="6683400" y="2016000"/>
              <a:ext cx="34992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031"/>
            <p:cNvCxnSpPr>
              <a:stCxn id="117" idx="1"/>
              <a:endCxn id="111" idx="2"/>
            </p:cNvCxnSpPr>
            <p:nvPr/>
          </p:nvCxnSpPr>
          <p:spPr>
            <a:xfrm rot="10800000">
              <a:off x="6683400" y="2016000"/>
              <a:ext cx="34992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032"/>
            <p:cNvCxnSpPr>
              <a:stCxn id="119" idx="1"/>
              <a:endCxn id="120" idx="2"/>
            </p:cNvCxnSpPr>
            <p:nvPr/>
          </p:nvCxnSpPr>
          <p:spPr>
            <a:xfrm rot="10800000">
              <a:off x="38674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033"/>
            <p:cNvCxnSpPr>
              <a:stCxn id="122" idx="1"/>
              <a:endCxn id="120" idx="2"/>
            </p:cNvCxnSpPr>
            <p:nvPr/>
          </p:nvCxnSpPr>
          <p:spPr>
            <a:xfrm rot="10800000">
              <a:off x="38674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034"/>
            <p:cNvCxnSpPr>
              <a:stCxn id="124" idx="1"/>
              <a:endCxn id="125" idx="2"/>
            </p:cNvCxnSpPr>
            <p:nvPr/>
          </p:nvCxnSpPr>
          <p:spPr>
            <a:xfrm rot="10800000">
              <a:off x="1054080" y="2016000"/>
              <a:ext cx="352080" cy="2017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5"/>
            <p:cNvCxnSpPr>
              <a:stCxn id="127" idx="1"/>
              <a:endCxn id="125" idx="2"/>
            </p:cNvCxnSpPr>
            <p:nvPr/>
          </p:nvCxnSpPr>
          <p:spPr>
            <a:xfrm rot="10800000">
              <a:off x="1054080" y="2016000"/>
              <a:ext cx="352080" cy="807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036"/>
            <p:cNvCxnSpPr>
              <a:stCxn id="111" idx="0"/>
              <a:endCxn id="129" idx="2"/>
            </p:cNvCxnSpPr>
            <p:nvPr/>
          </p:nvCxnSpPr>
          <p:spPr>
            <a:xfrm flipV="1" rot="16200000">
              <a:off x="5073840" y="-399960"/>
              <a:ext cx="403920" cy="281628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7"/>
            <p:cNvCxnSpPr>
              <a:stCxn id="120" idx="0"/>
              <a:endCxn id="129" idx="2"/>
            </p:cNvCxnSpPr>
            <p:nvPr/>
          </p:nvCxnSpPr>
          <p:spPr>
            <a:xfrm flipV="1">
              <a:off x="3868200" y="806400"/>
              <a:ext cx="2880" cy="403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1038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2259360" y="-398880"/>
              <a:ext cx="403920" cy="2814120"/>
            </a:xfrm>
            <a:prstGeom prst="bentConnector3">
              <a:avLst>
                <a:gd name="adj1" fmla="val 282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9" name="_s1039"/>
            <p:cNvSpPr/>
            <p:nvPr/>
          </p:nvSpPr>
          <p:spPr>
            <a:xfrm>
              <a:off x="2813400" y="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40"/>
            <p:cNvSpPr/>
            <p:nvPr/>
          </p:nvSpPr>
          <p:spPr>
            <a:xfrm>
              <a:off x="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41"/>
            <p:cNvSpPr/>
            <p:nvPr/>
          </p:nvSpPr>
          <p:spPr>
            <a:xfrm>
              <a:off x="28134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>
              <a:off x="5626800" y="12099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II 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тупен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43"/>
            <p:cNvSpPr/>
            <p:nvPr/>
          </p:nvSpPr>
          <p:spPr>
            <a:xfrm>
              <a:off x="140652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3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Тур С., Бокучава Т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044"/>
            <p:cNvSpPr/>
            <p:nvPr/>
          </p:nvSpPr>
          <p:spPr>
            <a:xfrm>
              <a:off x="14065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4 класс, 1 ч/нед, б/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Горячев А.В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45"/>
            <p:cNvSpPr/>
            <p:nvPr/>
          </p:nvSpPr>
          <p:spPr>
            <a:xfrm>
              <a:off x="4219920" y="2420280"/>
              <a:ext cx="210780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8 класс, 1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46"/>
            <p:cNvSpPr/>
            <p:nvPr/>
          </p:nvSpPr>
          <p:spPr>
            <a:xfrm>
              <a:off x="421992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9 класс, 2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Семакин И.Г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47"/>
            <p:cNvSpPr/>
            <p:nvPr/>
          </p:nvSpPr>
          <p:spPr>
            <a:xfrm>
              <a:off x="7033680" y="24202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нформат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4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eb-</a:t>
              </a: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айт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48"/>
            <p:cNvSpPr/>
            <p:nvPr/>
          </p:nvSpPr>
          <p:spPr>
            <a:xfrm>
              <a:off x="7033680" y="363024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Физ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Программировани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1049"/>
            <p:cNvSpPr/>
            <p:nvPr/>
          </p:nvSpPr>
          <p:spPr>
            <a:xfrm>
              <a:off x="7033680" y="484056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кономи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э/к «Инф. в экономике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050"/>
            <p:cNvSpPr/>
            <p:nvPr/>
          </p:nvSpPr>
          <p:spPr>
            <a:xfrm>
              <a:off x="7033680" y="6050880"/>
              <a:ext cx="2109960" cy="806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ниверсальны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10-11 кл., 1 ч/не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УМК Угринович Н.Д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УМК «Информатика и информационные технологии» (Угринович Н.Д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Информатика и информационные технологии: Учебник для X — XI классов. М.: Лаборатория Базовых Знаний,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Я. Д., Босова Л. Л., Михайлова Н. И. Практикум по информатике и информационным технологиям: Учебное пособие для общеобразовательных учреждений.  М.: ЛБЗ,  2002-2007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 Компьютерный практикум: Электронный учебник на CD-ROM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 Д., Морозов В. В., Нечаев В. М. Преподавание курса «Информатика и информационные технологии» в компьютерном классе: Методическое пособие для учителей. М.: ЛБЗ, 200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полните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. Задачник-практикум в 2 т. / Под ред. И.Г. Семакина, Е.К. Хеннера. – М.: Лаборатория Базовых Знаний, 200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ворова Н.И. Информационное моделирование. Величины, объекты, алгоритмы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ешенков С.А., Ракитина Е.А. Информатика. Систематический курс. Учебник для 10-го класса. – М.: Лаборатория Базовых Знаний, 200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фрин Ю. Информационные технологии: В 2 ч. - М.: Лаборатория Базовых Знаний, 1999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нформатика: Практикум по технологии работы на компьютере / Н.В. Макарова, Е.Л. Рамин, В.В. Изранцев и др.; Под ред. Н.В. Макаровой. - М.: Финансы и статистика, 1998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ая 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и по базовому курсу ИИТ для основной школы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ласс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енные пособия по визуальному объектно-ориентированному программированию на языка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Basi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ценный электронный учебник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профильному курсу ИИ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одические пособия для учителя по работе в профильном классе и по отдельным разде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1295280"/>
          <a:ext cx="8839440" cy="5394600"/>
        </p:xfrm>
        <a:graphic>
          <a:graphicData uri="http://schemas.openxmlformats.org/drawingml/2006/table">
            <a:tbl>
              <a:tblPr/>
              <a:tblGrid>
                <a:gridCol w="470160"/>
                <a:gridCol w="5754600"/>
                <a:gridCol w="1307880"/>
                <a:gridCol w="1306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ринович Н.Д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У-СОШ №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ппаратные и программные средства ИК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я и информационные проце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ы лог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я создания и обработки графической и мультимедийн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создания и обработки текст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ботка числовой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горитмизация и объектно-ориентированное программ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делирование и формализ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 хранения, поиска и сортировки  ин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коммуникационные технолог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формационная деятельность челове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идакт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современного общества из числа новых информационных технологий выкристаллизовало ведущую 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ехнологию компьютерных телекоммуникац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методику школьной информатики активно включается метод информационных проектов, а в содержание обучения – структура сетей, методы и инструменты сайтостро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внима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своению содержательной линии «Математическое и компьютерное моделирование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направлено на формирование умений описывать и строить модели управления в системах различной природы (физических, технических и др.), использовать модели и моделирующие программы в области естествознания, обществознания, математики и т. д. Важно подчеркнуть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ятельностный характе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а моделирования. Изучение данного раздела содействует дальнейшему развитию таких умений, как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ный анализ 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нформации в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злич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сточниках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воих мыслей и взглядов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оде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гнозиро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рганизация собственной и коллектив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Методические приоритеты: формирование информационно-функциональной компетентно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сущностных характеристик изучаемого объекта; самостоятельный выбор критериев для сравнения, сопоставления, оценки и классификации объе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остоятельное создание алгоритмов деятельности для решения задач творческого и поискового характе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деальных и реальных моделей объектов, процессов, явлений, в том числе с использованием мультимедийных техноло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иск и оценка информации по заданной теме в источниках различного тип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вод информации из одной знаковой системы в другую, выбор знаковых систем адекватно познавательной и коммуникативной ситуаци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льтимедийных ресурсов и компьютерных технологий для обработки, передачи, систематизации информации, презентации результатов познавательной и практ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осознанного выбора путей продолжения образования или будущей профессиональ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ические приорит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ин из основных дидактических принципов, на которых строится структура современного учебного программного обеспечения, это принцип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образия операционных ср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Рациональная пропорция открытых и замкнутых прикладных программ, использование программных оболочек, обеспечивающих комфортных условий пользователя ценой переноса объемной рутинной обработки информации в область системного программного обеспечения (с дружественным интерфейсом), а также применение интегрированных систем (мультимедийных систем) позволяет наладить продуктивную, заинтересованную работу учащихся при сохранении их психологического и физического здоровь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больше появляе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ультимедийных учеб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дуктов, строгое определение которых еще предстоит сформировать. Мультимедийный учебник дает возможность учителю конструктивно раскрыть глубинные, причинно-следственные связи предметной области. Текст и изображение, представленные на экране, подвластны интерактивному взаимодействию с пользователем-учеником, что открывает новые горизонты самостоятельного освоения учебной информации школьник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32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