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9111-6EEB-4EE3-BC2E-8362AC3ACF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преподавания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6651-30B2-406F-A97A-F3FABFF518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временных педагогических технолог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форм обуч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грированных практических работ (проектов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A236-F4A5-40AB-8FDB-A2E3B108D0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трольно-измерительных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овыше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ых материалов, использова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а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хода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я сто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ифровых (электронных) носител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78EC-E108-4BA2-ADBF-6A40738889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остной предметно-развивающей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3AA7-DFE5-420A-B9F7-69C02D40BD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75D0-4833-469B-B42A-95248A7D5B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К «Информатика и информационные технологии» (Угринович Н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Компьютерный практикум: Электронный учебник на CD-ROM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C4AA-505D-4915-9C48-F9CCB3FEE4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фрин Ю. Информационные технологии: В 2 ч. - М.: Лаборатория Базовых Знаний, 199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9078-E845-4B80-B5C7-7BFCAA1698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по базовому курсу ИИТ для основной школы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ph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ценный электронный учебник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офильному курсу И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E64C-D635-4DE3-AD06-C9A0B54158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8BD-68D1-4A4A-A8AE-CECF39C01A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дакт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логию компьютерных телекоммун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воению содержательной линии «Математическое и компьютерное моделирова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ый 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и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лич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чниках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ыслей и взглядов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изация собственной и коллектив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EDA2-24CE-49AE-99D8-7C3D2FF5BF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приоритеты: формирование информационно-функциональной компетен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оценка информации по заданной теме в источниках различно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8297-5816-49F6-A4D8-291EF4C3D9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ногообразия операционных ср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 по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ультимедийных учеб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F878-A0BF-4D17-8E07-45DF422ADA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E90-20E8-49D6-9C5C-ADB113A1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275-3661-48D1-A46F-B8987244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F84-895E-4554-A203-3F080BA4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5F3-D4EA-44D7-9CE7-8DE0A9D7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62E8-D7D7-45D8-82C7-2C0FE773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66BF-6A7D-4AD1-B75B-F3A578B4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CD0A-9EE7-446B-9119-F77C05D0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25F9-70AF-4AFD-A7B2-35A907B9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7E15-325A-4DE4-8286-07E4CFA4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CBDB-830E-4DD2-8B3C-CC44EF60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073-E05F-495B-AD33-046D5508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5D1-BFB1-4786-B515-0D2E63C5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DDD6-E78D-413E-B94F-AB0B5D0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50B4-341C-4D77-8CDD-6A34F1E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08F8-95FA-4FBB-841C-2F9A3240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A285-0530-4667-B68E-A972B24E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4177-B11B-4200-B442-3B625E3B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8B6-84F3-4BD3-AB50-8591BA50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022-D692-4C39-B724-5132C6D4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A9F-233A-46DA-8B26-329D7496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3BA-37AB-4B0B-912F-FFCCBEB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0C8-57A9-405C-A867-70EDDDF4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504-B1A4-4D23-AC06-29E39B5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61A-E5AF-4E5D-AB69-3C4CC28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9169-B332-4B22-9F0D-9B1ADD651D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68B8-6AD8-49A5-80C6-E72E24784A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Организация преподавания информа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овременных педагогических технолог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активных форм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интегрированных практических работ (проектов)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ьно-измерительных материа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целью повыше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бных материалов, использова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тера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хода, а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жения стоим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ифровых (электронных) носите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остной предметно-развивающей сре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cxnSp>
          <p:nvCxnSpPr>
            <p:cNvPr id="109" name="_s1028"/>
            <p:cNvCxnSpPr>
              <a:stCxn id="110" idx="1"/>
              <a:endCxn id="111" idx="2"/>
            </p:cNvCxnSpPr>
            <p:nvPr/>
          </p:nvCxnSpPr>
          <p:spPr>
            <a:xfrm rot="10800000">
              <a:off x="6683400" y="2016000"/>
              <a:ext cx="34992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29"/>
            <p:cNvCxnSpPr>
              <a:stCxn id="113" idx="1"/>
              <a:endCxn id="111" idx="2"/>
            </p:cNvCxnSpPr>
            <p:nvPr/>
          </p:nvCxnSpPr>
          <p:spPr>
            <a:xfrm rot="10800000">
              <a:off x="6683400" y="2016000"/>
              <a:ext cx="34992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0"/>
            <p:cNvCxnSpPr>
              <a:stCxn id="115" idx="1"/>
              <a:endCxn id="111" idx="2"/>
            </p:cNvCxnSpPr>
            <p:nvPr/>
          </p:nvCxnSpPr>
          <p:spPr>
            <a:xfrm rot="10800000">
              <a:off x="6683400" y="2016000"/>
              <a:ext cx="34992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1"/>
            <p:cNvCxnSpPr>
              <a:stCxn id="117" idx="1"/>
              <a:endCxn id="111" idx="2"/>
            </p:cNvCxnSpPr>
            <p:nvPr/>
          </p:nvCxnSpPr>
          <p:spPr>
            <a:xfrm rot="10800000">
              <a:off x="6683400" y="2016000"/>
              <a:ext cx="34992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032"/>
            <p:cNvCxnSpPr>
              <a:stCxn id="119" idx="1"/>
              <a:endCxn id="120" idx="2"/>
            </p:cNvCxnSpPr>
            <p:nvPr/>
          </p:nvCxnSpPr>
          <p:spPr>
            <a:xfrm rot="10800000">
              <a:off x="38674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3"/>
            <p:cNvCxnSpPr>
              <a:stCxn id="122" idx="1"/>
              <a:endCxn id="120" idx="2"/>
            </p:cNvCxnSpPr>
            <p:nvPr/>
          </p:nvCxnSpPr>
          <p:spPr>
            <a:xfrm rot="10800000">
              <a:off x="38674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34"/>
            <p:cNvCxnSpPr>
              <a:stCxn id="124" idx="1"/>
              <a:endCxn id="125" idx="2"/>
            </p:cNvCxnSpPr>
            <p:nvPr/>
          </p:nvCxnSpPr>
          <p:spPr>
            <a:xfrm rot="10800000">
              <a:off x="10540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1"/>
              <a:endCxn id="125" idx="2"/>
            </p:cNvCxnSpPr>
            <p:nvPr/>
          </p:nvCxnSpPr>
          <p:spPr>
            <a:xfrm rot="10800000">
              <a:off x="10540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11" idx="0"/>
              <a:endCxn id="129" idx="2"/>
            </p:cNvCxnSpPr>
            <p:nvPr/>
          </p:nvCxnSpPr>
          <p:spPr>
            <a:xfrm flipV="1" rot="16200000">
              <a:off x="5073840" y="-399960"/>
              <a:ext cx="403920" cy="281628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7"/>
            <p:cNvCxnSpPr>
              <a:stCxn id="120" idx="0"/>
              <a:endCxn id="129" idx="2"/>
            </p:cNvCxnSpPr>
            <p:nvPr/>
          </p:nvCxnSpPr>
          <p:spPr>
            <a:xfrm flipV="1">
              <a:off x="3868200" y="806400"/>
              <a:ext cx="2880" cy="40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38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2259360" y="-398880"/>
              <a:ext cx="403920" cy="281412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9" name="_s1039"/>
            <p:cNvSpPr/>
            <p:nvPr/>
          </p:nvSpPr>
          <p:spPr>
            <a:xfrm>
              <a:off x="2813400" y="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0"/>
            <p:cNvSpPr/>
            <p:nvPr/>
          </p:nvSpPr>
          <p:spPr>
            <a:xfrm>
              <a:off x="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28134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>
              <a:off x="56268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I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140652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3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Тур С., Бокучава 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44"/>
            <p:cNvSpPr/>
            <p:nvPr/>
          </p:nvSpPr>
          <p:spPr>
            <a:xfrm>
              <a:off x="14065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4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Горячев А.В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45"/>
            <p:cNvSpPr/>
            <p:nvPr/>
          </p:nvSpPr>
          <p:spPr>
            <a:xfrm>
              <a:off x="4219920" y="2420280"/>
              <a:ext cx="210780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8 класс, 1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6"/>
            <p:cNvSpPr/>
            <p:nvPr/>
          </p:nvSpPr>
          <p:spPr>
            <a:xfrm>
              <a:off x="42199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9 класс, 2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7"/>
            <p:cNvSpPr/>
            <p:nvPr/>
          </p:nvSpPr>
          <p:spPr>
            <a:xfrm>
              <a:off x="703368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4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b-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айт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8"/>
            <p:cNvSpPr/>
            <p:nvPr/>
          </p:nvSpPr>
          <p:spPr>
            <a:xfrm>
              <a:off x="703368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Физ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Программировани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9"/>
            <p:cNvSpPr/>
            <p:nvPr/>
          </p:nvSpPr>
          <p:spPr>
            <a:xfrm>
              <a:off x="7033680" y="48405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Инф. в экономик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50"/>
            <p:cNvSpPr/>
            <p:nvPr/>
          </p:nvSpPr>
          <p:spPr>
            <a:xfrm>
              <a:off x="7033680" y="60508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ниверсаль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МК «Информатика и информационные технологии» (Угринович Н.Д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Компьютерный практикум: Электронный учебник на CD-ROM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полните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фрин Ю. Информационные технологии: В 2 ч. - М.: Лаборатория Базовых Знаний, 199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и по базовому курсу ИИТ для основной школы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ценный электронный учебник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профильному курсу И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295280"/>
          <a:ext cx="8839440" cy="5394600"/>
        </p:xfrm>
        <a:graphic>
          <a:graphicData uri="http://schemas.openxmlformats.org/drawingml/2006/table">
            <a:tbl>
              <a:tblPr/>
              <a:tblGrid>
                <a:gridCol w="470160"/>
                <a:gridCol w="5754600"/>
                <a:gridCol w="1307880"/>
                <a:gridCol w="1306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инович Н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У-СОШ №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паратные и программные средства И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я и информационные 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ы лог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я создания и обработки графической и мультимедийн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создания и обработки текст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ботка числ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изация и объектно-ориентированное программ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ирование и форм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хранения, поиска и сортировки 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коммуникационн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 деятельность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дакт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ехнологию компьютерных телекоммуникац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внима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воению содержательной линии «Математическое и компьютерное моделирование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ый характе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ный анализ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нформации 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злич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точ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оих мыслей и взгляд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гноз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рганизация собственной и коллектив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етодические приоритеты: формирование информационно-функциональной компетент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и оценка информации по заданной теме в источниках различного тип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образия операционных ср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больше появляе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ультимедийных учеб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32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