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01FE-7237-4B4F-80DB-6C4C5F542D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Информатика как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E36D-92A5-40DE-8CE8-8CEBA0DEEDD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микропроцессорной технологии и ПК (70-е г.г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D6AF-9363-4FD6-B8F6-80693AE10D3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alibri"/>
              </a:rPr>
              <a:t>Краткая история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оловина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948 год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берт Ви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ка – наука об управлении в живой природе и в техническ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5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cien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компьютерн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6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automatique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авто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3C08-6CF9-4473-BC36-28989B958A0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Понятие и структура инфор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тика –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92FF-DCE1-4842-AF4F-9B99EEDB986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нформацион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ционное общество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0BC0-C180-4080-9E8E-8C9E3F2FFC8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Черты информационного общ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а проблема информационного кризи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 приоритет информации по сравнению с другими ресур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формой развития является информационная эконом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информационное единство всей человеческой циви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B916-CD98-466F-A381-751D41144F4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alibri"/>
              </a:rPr>
              <a:t>Отрицательные моменты информационного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е влияние на общество оказывают С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могут разрушить частную жизнь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отбора качественной и достовер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аются высокотехнологичные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8D31-A99F-4D2C-8AB8-32B9810BB31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письм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 методов накоп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721A-BA74-40D0-A4EF-481EAE7E37D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   книгопечат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середина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483A-CBC0-4323-9567-243F61AF722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электричества (конец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нформационной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9380-969E-46A6-912F-9021047D5C8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A26-D074-4DD1-BBC4-32C92174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928-6596-4752-8B34-8C9C3319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17C-5189-4110-AE41-3038B864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4E9-B58E-465B-AA26-9B1D34A2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0B15-93C4-4CDE-BD7C-AC1E0966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954E-94D1-43C9-A1A8-09D66CD8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7D11-F35C-44F9-A0DF-D2ACBF20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EB9C-567F-4B50-B559-96494A48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46BC-D59A-4F7D-94F3-03729C34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9A2F-2066-4A14-8EC5-1C6EF9F7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58BA-1340-4F1E-B2EF-1699D378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92A-1CB0-4BC7-80C0-7B2787B3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C8D2-3888-4984-AF32-F47440AB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BADC-F85E-4DBB-B018-75E4B4CE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ED00-9F62-4A5F-B229-09F3B773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CAC4-9E1F-488B-B4E5-62799B22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960A-AE10-4DD1-A243-6E986B8F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2C3-28FF-4F06-B9AF-03DA6903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5DC-8DCC-48FB-A146-C58A1C49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C09-9159-40F9-B42D-FEE918EA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294-6286-4DB8-A49E-CC69D0B2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FA2-F7EA-41DD-B077-AE0E27B8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5E6-6854-4B71-8021-1EFAE7B8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B63-6404-4C9E-AFE7-B6081E59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62EA-A181-47AE-B65E-47C8E0D9F8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8DAD-8FA0-4C4D-89EF-314970D606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8062920" cy="93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cc"/>
                </a:solidFill>
                <a:latin typeface="Comic Sans MS"/>
              </a:rPr>
              <a:t>Информатика как нау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микропроцессорной технологии и ПК (70-е г.г.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X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ectangle 30729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2232000" cy="1954080"/>
          </a:xfrm>
          <a:prstGeom prst="rect">
            <a:avLst/>
          </a:prstGeom>
          <a:ln w="0">
            <a:noFill/>
          </a:ln>
        </p:spPr>
      </p:pic>
      <p:pic>
        <p:nvPicPr>
          <p:cNvPr id="213" name="Rectangle 31753" descr=""/>
          <p:cNvPicPr/>
          <p:nvPr/>
        </p:nvPicPr>
        <p:blipFill>
          <a:blip r:embed="rId2"/>
          <a:stretch/>
        </p:blipFill>
        <p:spPr>
          <a:xfrm>
            <a:off x="6442200" y="2492280"/>
            <a:ext cx="2063520" cy="2232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2916360" y="3284640"/>
            <a:ext cx="1439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ый П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e 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788000" y="306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К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11280" y="4653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явление персонального компьютера, позволяющего решать проблему хранения и передачи информации на качественно новом уров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0728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Краткая история информати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9192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I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половина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I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1948 год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берт Винер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ибернетика – наука об управлении в живой природе и в технических систем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5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cienc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компьютерная на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6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qu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 automatique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автомат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8209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Понятие и структура информат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Информатика –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30"/>
          <p:cNvGrpSpPr/>
          <p:nvPr/>
        </p:nvGrpSpPr>
        <p:grpSpPr>
          <a:xfrm>
            <a:off x="250920" y="2997360"/>
            <a:ext cx="8607240" cy="3025080"/>
            <a:chOff x="250920" y="2997360"/>
            <a:chExt cx="8607240" cy="3025080"/>
          </a:xfrm>
        </p:grpSpPr>
        <p:sp>
          <p:nvSpPr>
            <p:cNvPr id="166" name="AutoShape 19"/>
            <p:cNvSpPr/>
            <p:nvPr/>
          </p:nvSpPr>
          <p:spPr>
            <a:xfrm>
              <a:off x="3276720" y="2997360"/>
              <a:ext cx="2663640" cy="7916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AutoShape 20"/>
            <p:cNvSpPr/>
            <p:nvPr/>
          </p:nvSpPr>
          <p:spPr>
            <a:xfrm>
              <a:off x="250920" y="3644640"/>
              <a:ext cx="230508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оретическ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21"/>
            <p:cNvSpPr/>
            <p:nvPr/>
          </p:nvSpPr>
          <p:spPr>
            <a:xfrm>
              <a:off x="900000" y="4868640"/>
              <a:ext cx="223200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Вычислительн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хн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AutoShape 22"/>
            <p:cNvSpPr/>
            <p:nvPr/>
          </p:nvSpPr>
          <p:spPr>
            <a:xfrm>
              <a:off x="3348000" y="4868640"/>
              <a:ext cx="230508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рограммировани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AutoShape 23"/>
            <p:cNvSpPr/>
            <p:nvPr/>
          </p:nvSpPr>
          <p:spPr>
            <a:xfrm>
              <a:off x="5867280" y="4941720"/>
              <a:ext cx="23036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системы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24"/>
            <p:cNvSpPr/>
            <p:nvPr/>
          </p:nvSpPr>
          <p:spPr>
            <a:xfrm>
              <a:off x="6732720" y="3644640"/>
              <a:ext cx="21254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скусственный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теллект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 flipH="1">
              <a:off x="133200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 flipH="1">
              <a:off x="2340000" y="3789000"/>
              <a:ext cx="172728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4572000" y="378900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5219640" y="3789000"/>
              <a:ext cx="151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94036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Comic Sans MS"/>
              </a:rPr>
              <a:t>Информационное общество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Чер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а проблема информационного кризи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еспечен приоритет информации по сравнению с другими ресурса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вной формой развития является информационная эконом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уется информационное единство всей человеческой цивилиз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Отрицательные момен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3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большее влияние на общество оказывают С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формационные технологии могут разрушить частную жизнь люд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ет проблема отбора качественной и достоверной информ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аются высокотехнологичные преступ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письмен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тыс. до н.э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 методов накопл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438640" cy="1657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311640" cy="165564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   книгопечат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середина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V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Гуттенберг"/>
          <p:cNvPicPr/>
          <p:nvPr/>
        </p:nvPicPr>
        <p:blipFill>
          <a:blip r:embed="rId1"/>
          <a:stretch/>
        </p:blipFill>
        <p:spPr>
          <a:xfrm>
            <a:off x="324000" y="1341360"/>
            <a:ext cx="23954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5" descr="печатн станок"/>
          <p:cNvPicPr/>
          <p:nvPr/>
        </p:nvPicPr>
        <p:blipFill>
          <a:blip r:embed="rId2"/>
          <a:stretch/>
        </p:blipFill>
        <p:spPr>
          <a:xfrm>
            <a:off x="6227640" y="3141720"/>
            <a:ext cx="2459160" cy="302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324000" y="45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оганнс Гуттенбе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916360" y="3357720"/>
            <a:ext cx="338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качественно нового способа хран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835164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III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этап – изобретение электричества (конец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XIX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ве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нформационной коммун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332000" y="1557360"/>
            <a:ext cx="38163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граф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был  изобретен  в  1837 году  двумя   англичанами   К. Бетстоном  и  Б. Куком.  Более современный телеграф появился в Америке. Его созда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в 1838 году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876 году другой американец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ександ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эл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зобрел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ф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 1884 году телефонная кампания Бэлла протянула первую длинную телефонную линию от Нью-Йорка до Фесто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97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3" name="Text Box 6"/>
          <p:cNvSpPr/>
          <p:nvPr/>
        </p:nvSpPr>
        <p:spPr>
          <a:xfrm>
            <a:off x="252720" y="4653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 Бэл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923760" cy="129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5" name="Text Box 8"/>
          <p:cNvSpPr/>
          <p:nvPr/>
        </p:nvSpPr>
        <p:spPr>
          <a:xfrm>
            <a:off x="179280" y="26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076720" y="2565360"/>
            <a:ext cx="35308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стоящей революцией в истории распространения информации стало изобретение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ради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i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о латыни означает испускающий луч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5 апреля 1895 года А. С. Попов (185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06), применив антенну, демонстрировал свой «грозоотметчик» – первый в мире радиоприемник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10065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8" name="Text Box 11"/>
          <p:cNvSpPr/>
          <p:nvPr/>
        </p:nvSpPr>
        <p:spPr>
          <a:xfrm>
            <a:off x="7020360" y="2060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С. Поп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10:16Z</dcterms:created>
  <dc:creator>User</dc:creator>
  <dc:description/>
  <dc:language>en-US</dc:language>
  <cp:lastModifiedBy>LEGION</cp:lastModifiedBy>
  <dcterms:modified xsi:type="dcterms:W3CDTF">2015-04-01T07:32:35Z</dcterms:modified>
  <cp:revision>6</cp:revision>
  <dc:subject/>
  <dc:title>Информатика как наука.   Информационное общество.</dc:title>
</cp:coreProperties>
</file>