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E192-7C90-4AF9-89D9-D88CBBE0B7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Информатика как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4991-8E30-415A-B445-E7555F13D38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микропроцессорной технологии и ПК (70-е г.г.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40AF-C0E3-4DBC-94BF-61DCAAC34EF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alibri"/>
              </a:rPr>
              <a:t>Краткая история инфор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половина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Андре Ампер ввел понятие «кибернетика» - наука, занимающаяся изучением искусства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1948 год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берт Вин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бернетика – наука об управлении в живой природе и в технических сист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кибернетика – наука об общих закономерностях в управлении и связи в различных системах: искуственных, биологических, со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50-е г.г.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cienc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- компьютерная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60-е г.г.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qu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automatique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авто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F29C-DDFD-45B1-A4C6-2D961DEA837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Calibri"/>
              </a:rPr>
              <a:t>Понятие и структура информа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Информатика –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ласть человеческой деятельности, связанная с процессами преобразования информации с помощью компьютера и их взаимодействие со средой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F570-0BCD-4F01-AF81-C1B711988C6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нформацион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Информационное общество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щество, в котором большинство работающих занято производством, хранением, переработкой и реализацией информации и особенно высшей ее формы –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7A7D-209E-45BF-A469-20AC3472EED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Calibri"/>
              </a:rPr>
              <a:t>Черты информационного общ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а проблема информационного кризи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 приоритет информации по сравнению с другими ресурс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формой развития является информационная эконом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технология приобретает глобальный характер, охватывая все сферы социальной деятельност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информационное единство всей человеческой циви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ю средств информатики реализован свободный доступ каждого человека к мировым информационным ресур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AB56-65AB-4080-A11B-B817291ADB6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alibri"/>
              </a:rPr>
              <a:t>Отрицательные моменты информационного общ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большее влияние на общество оказывают С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технологии могут разрушить частную жизнь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облема отбора качественной и достовер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аются высокотехнологичные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C588-30B2-4E0C-B4CE-C44455EE416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письм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ыс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средств и методов накопления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FE44-76FC-4674-B052-7C02A94452F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   книгопечат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(середина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V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DC69-C9A2-4F4F-9C7D-44FFBBE7A36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электричества (конец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средств информационной коммун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58B4-9C39-41D1-91F2-5D296813AD6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766-F6C9-4B82-90EA-775030CC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1455-35F6-408B-9334-DD305C27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F19-BA2E-498E-B320-83E55A14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4CC4-3CF1-41BC-8816-D359AFF3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9A54-15C7-4267-9DAE-8C4B31EA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633A-ECAD-4658-A66B-710EFCF5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AAC2-0463-41A9-904F-AC4C9238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A4A2-8962-44D8-A84D-59C1CF4E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5738-0546-4112-BA3E-C9ED6752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BA27-AEDC-4A34-97DD-C846FF21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0443-01B1-4533-937D-2E3A7AA5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7DB8-91DD-4F8B-AC34-E85E4906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2A14-88D1-4641-AC94-1F838010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B9CD-7D88-4FDF-A831-99812EEB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78A7-D899-42A7-8EF8-C6F868B7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CC8E-F4C8-4549-8A54-1B375379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20CC-BD42-4AC9-9F48-B2218F09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7C4E-52C6-4D51-9599-37C35BCB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45C6-ADFF-41E5-878C-21EC3D45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3AA-FC3A-4210-865D-3F27757C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7EE-D457-4E49-98C9-54653312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072-ADE1-4A9F-BCE2-6D9F1C62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129-63EF-47E2-B43A-2BC80A41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FC0-A5B1-495D-A811-ACD8C0E5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0D4E-B470-4374-A09F-8F9B655A0D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0A51-8D95-4A7A-87B8-04C691A801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2205000"/>
            <a:ext cx="8062920" cy="936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66cc"/>
                </a:solidFill>
                <a:latin typeface="Comic Sans MS"/>
              </a:rPr>
              <a:t>Информатика как нау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V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микропроцессорной технологии и ПК (70-е г.г.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XX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век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Rectangle 30729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2232000" cy="1954080"/>
          </a:xfrm>
          <a:prstGeom prst="rect">
            <a:avLst/>
          </a:prstGeom>
          <a:ln w="0">
            <a:noFill/>
          </a:ln>
        </p:spPr>
      </p:pic>
      <p:pic>
        <p:nvPicPr>
          <p:cNvPr id="213" name="Rectangle 31753" descr=""/>
          <p:cNvPicPr/>
          <p:nvPr/>
        </p:nvPicPr>
        <p:blipFill>
          <a:blip r:embed="rId2"/>
          <a:stretch/>
        </p:blipFill>
        <p:spPr>
          <a:xfrm>
            <a:off x="6442200" y="2492280"/>
            <a:ext cx="2063520" cy="2232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2916360" y="3284640"/>
            <a:ext cx="1439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вый ПК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e 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4788000" y="3068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К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BM P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11280" y="465300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явление персонального компьютера, позволяющего решать проблему хранения и передачи информации на качественно новом уровн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0728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Краткая история информати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91920"/>
            <a:ext cx="7696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I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половина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I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Андре Ампер ввел понятие «кибернетика» - наука, занимающаяся изучением искусства управл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1948 год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рберт Винер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ибернетика – наука об управлении в живой природе и в технических система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кибернетика – наука об общих закономерностях в управлении и связи в различных системах: искуственных, биологических, социаль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50-е г.г.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r Scienc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 - компьютерная нау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60-е г.г.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qu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on automatique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формационная автомат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152280"/>
            <a:ext cx="82090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Понятие и структура информати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3516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Информатика –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область человеческой деятельности, связанная с процессами преобразования информации с помощью компьютера и их взаимодействие со средой примен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Group 30"/>
          <p:cNvGrpSpPr/>
          <p:nvPr/>
        </p:nvGrpSpPr>
        <p:grpSpPr>
          <a:xfrm>
            <a:off x="250920" y="2997360"/>
            <a:ext cx="8607240" cy="3025080"/>
            <a:chOff x="250920" y="2997360"/>
            <a:chExt cx="8607240" cy="3025080"/>
          </a:xfrm>
        </p:grpSpPr>
        <p:sp>
          <p:nvSpPr>
            <p:cNvPr id="166" name="AutoShape 19"/>
            <p:cNvSpPr/>
            <p:nvPr/>
          </p:nvSpPr>
          <p:spPr>
            <a:xfrm>
              <a:off x="3276720" y="2997360"/>
              <a:ext cx="2663640" cy="7916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т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AutoShape 20"/>
            <p:cNvSpPr/>
            <p:nvPr/>
          </p:nvSpPr>
          <p:spPr>
            <a:xfrm>
              <a:off x="250920" y="3644640"/>
              <a:ext cx="230508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еоретическ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т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AutoShape 21"/>
            <p:cNvSpPr/>
            <p:nvPr/>
          </p:nvSpPr>
          <p:spPr>
            <a:xfrm>
              <a:off x="900000" y="4868640"/>
              <a:ext cx="2232000" cy="1152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Вычислительн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ехн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AutoShape 22"/>
            <p:cNvSpPr/>
            <p:nvPr/>
          </p:nvSpPr>
          <p:spPr>
            <a:xfrm>
              <a:off x="3348000" y="4868640"/>
              <a:ext cx="2305080" cy="1152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Программировани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AutoShape 23"/>
            <p:cNvSpPr/>
            <p:nvPr/>
          </p:nvSpPr>
          <p:spPr>
            <a:xfrm>
              <a:off x="5867280" y="4941720"/>
              <a:ext cx="230364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ционные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системы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AutoShape 24"/>
            <p:cNvSpPr/>
            <p:nvPr/>
          </p:nvSpPr>
          <p:spPr>
            <a:xfrm>
              <a:off x="6732720" y="3644640"/>
              <a:ext cx="212544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скусственный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теллект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Line 25"/>
            <p:cNvSpPr/>
            <p:nvPr/>
          </p:nvSpPr>
          <p:spPr>
            <a:xfrm flipH="1">
              <a:off x="1332000" y="3357360"/>
              <a:ext cx="1944720" cy="28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26"/>
            <p:cNvSpPr/>
            <p:nvPr/>
          </p:nvSpPr>
          <p:spPr>
            <a:xfrm flipH="1">
              <a:off x="2340000" y="3789000"/>
              <a:ext cx="172728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>
              <a:off x="4572000" y="3789000"/>
              <a:ext cx="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5219640" y="3789000"/>
              <a:ext cx="151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>
              <a:off x="5940360" y="3357360"/>
              <a:ext cx="1944720" cy="28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7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898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Информационное обще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Comic Sans MS"/>
              </a:rPr>
              <a:t>Информационное общество 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общество, в котором большинство работающих занято производством, хранением, переработкой и реализацией информации и особенно высшей ее формы – знан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8984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Черты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а проблема информационного кризис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еспечен приоритет информации по сравнению с другими ресурса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лавной формой развития является информационная экономи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формационная технология приобретает глобальный характер, охватывая все сферы социальной деятельности челове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ируется информационное единство всей человеческой цивилизац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помощью средств информатики реализован свободный доступ каждого человека к мировым информационным ресурс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278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Отрицательные моменты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3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большее влияние на общество оказывают СМ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формационные технологии могут разрушить частную жизнь люде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ет проблема отбора качественной и достоверной информаци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вершаются высокотехнологичные преступ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1856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0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письменност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V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тыс. до н.э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средств и методов накопления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300720" y="2349360"/>
            <a:ext cx="2438640" cy="1657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3311640" cy="165564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   книгопечата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(середина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XV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век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Гуттенберг"/>
          <p:cNvPicPr/>
          <p:nvPr/>
        </p:nvPicPr>
        <p:blipFill>
          <a:blip r:embed="rId1"/>
          <a:stretch/>
        </p:blipFill>
        <p:spPr>
          <a:xfrm>
            <a:off x="324000" y="1341360"/>
            <a:ext cx="239544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5" descr="печатн станок"/>
          <p:cNvPicPr/>
          <p:nvPr/>
        </p:nvPicPr>
        <p:blipFill>
          <a:blip r:embed="rId2"/>
          <a:stretch/>
        </p:blipFill>
        <p:spPr>
          <a:xfrm>
            <a:off x="6227640" y="3141720"/>
            <a:ext cx="2459160" cy="3024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324000" y="45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оганнс Гуттенбер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916360" y="3357720"/>
            <a:ext cx="338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качественно нового способа хранения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151920"/>
            <a:ext cx="8351640" cy="3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III </a:t>
            </a:r>
            <a:r>
              <a:rPr b="0" lang="ru-RU" sz="2800" spc="-1" strike="noStrike">
                <a:solidFill>
                  <a:srgbClr val="008080"/>
                </a:solidFill>
                <a:latin typeface="Comic Sans MS"/>
              </a:rPr>
              <a:t>этап – изобретение электричества (конец 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XIX </a:t>
            </a:r>
            <a:r>
              <a:rPr b="0" lang="ru-RU" sz="2800" spc="-1" strike="noStrike">
                <a:solidFill>
                  <a:srgbClr val="008080"/>
                </a:solidFill>
                <a:latin typeface="Comic Sans MS"/>
              </a:rPr>
              <a:t>век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средств информационной коммуник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332000" y="1557360"/>
            <a:ext cx="381636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Телеграф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был  изобретен  в  1837 году  двумя   англичанами   К. Бетстоном  и  Б. Куком.  Более современный телеграф появился в Америке. Его создал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эмюэль Морз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в 1838 году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1876 году другой американец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лександ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эл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изобрел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телефо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В 1884 году телефонная кампания Бэлла протянула первую длинную телефонную линию от Нью-Йорка до Фестон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69760" cy="12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3" name="Text Box 6"/>
          <p:cNvSpPr/>
          <p:nvPr/>
        </p:nvSpPr>
        <p:spPr>
          <a:xfrm>
            <a:off x="252720" y="46530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ександр Бэл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923760" cy="129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5" name="Text Box 8"/>
          <p:cNvSpPr/>
          <p:nvPr/>
        </p:nvSpPr>
        <p:spPr>
          <a:xfrm>
            <a:off x="179280" y="263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эмюэль Морз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076720" y="2565360"/>
            <a:ext cx="35308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стоящей революцией в истории распространения информации стало изобретение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радио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io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по латыни означает испускающий луч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5 апреля 1895 года А. С. Попов (185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06), применив антенну, демонстрировал свой «грозоотметчик» – первый в мире радиоприемник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10" descr=""/>
          <p:cNvPicPr/>
          <p:nvPr/>
        </p:nvPicPr>
        <p:blipFill>
          <a:blip r:embed="rId3"/>
          <a:stretch/>
        </p:blipFill>
        <p:spPr>
          <a:xfrm>
            <a:off x="5867280" y="1197000"/>
            <a:ext cx="1006560" cy="12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8" name="Text Box 11"/>
          <p:cNvSpPr/>
          <p:nvPr/>
        </p:nvSpPr>
        <p:spPr>
          <a:xfrm>
            <a:off x="7020360" y="2060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С. Поп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1:10:16Z</dcterms:created>
  <dc:creator>User</dc:creator>
  <dc:description/>
  <dc:language>en-US</dc:language>
  <cp:lastModifiedBy>LEGION</cp:lastModifiedBy>
  <dcterms:modified xsi:type="dcterms:W3CDTF">2015-04-01T07:32:35Z</dcterms:modified>
  <cp:revision>6</cp:revision>
  <dc:subject/>
  <dc:title>Информатика как наука.   Информационное общество.</dc:title>
</cp:coreProperties>
</file>