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gif" ContentType="image/gif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4AF-4C8D-4128-8841-A995C6A040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40000"/>
                </a:solidFill>
                <a:latin typeface="Calibri"/>
              </a:rPr>
              <a:t>Введение в информат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369CC-AAAE-46A4-BD9E-3657B11F7F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d40000"/>
                </a:solidFill>
                <a:latin typeface="Calibri"/>
              </a:rPr>
              <a:t>Что такое информати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31ACF-BA4B-4B5F-86D5-DD13C6DCD2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pазpаботка вычислительных систем и пpогpаммного обеспеч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ория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искусственного интеллект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FD60F-552D-49FD-9B74-5993526C99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d40000"/>
                </a:solidFill>
                <a:latin typeface="Calibri"/>
              </a:rPr>
              <a:t>Основные направления информатики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истемный анализ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ы машинной графики, анимации, средства мультимеди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ства телекоммуник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знообразные прилож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9316-C514-47D0-A3EC-7F2230C3D8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Информатику обычно представляют </a:t>
            </a:r>
            <a:br>
              <a:rPr sz="1600"/>
            </a:br>
            <a:r>
              <a:rPr b="0" lang="ru-RU" sz="1600" spc="-1" strike="noStrike">
                <a:solidFill>
                  <a:srgbClr val="d40000"/>
                </a:solidFill>
                <a:latin typeface="Calibri"/>
              </a:rPr>
              <a:t>состоящей из двух частей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F922-998E-46C6-8C2F-023D513B172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E6CE-E41E-4578-8BA4-4C9B487B5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77B2-9AA2-456B-B7C0-1828B9B0F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57A1-6CD4-44EE-B2C1-E5D1EE2D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0325-BFF6-4012-877B-6035F0E2C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8D4-D5DC-4F76-83C6-3CF48802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B23B-7131-4613-86FB-2D76FA32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CD28-9FA7-48EA-A267-D07E422EA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C50D-6625-4160-A35E-66DF7E94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1B90-3856-4B0C-9910-C8611374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C01A-4E2C-4D47-83D0-7CC413CB3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2757-1BA0-480E-BBCD-84014080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75C-767B-49DF-9B81-CB9ECCF60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570E-7ABF-4CFC-BCDA-C805BBCC60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40000"/>
                </a:solidFill>
                <a:latin typeface="Arial"/>
              </a:rPr>
              <a:t>Введение в информатик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COMP22"/>
          <p:cNvPicPr/>
          <p:nvPr/>
        </p:nvPicPr>
        <p:blipFill>
          <a:blip r:embed="rId1"/>
          <a:stretch/>
        </p:blipFill>
        <p:spPr>
          <a:xfrm>
            <a:off x="3276720" y="1844640"/>
            <a:ext cx="2043000" cy="35704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40000"/>
                </a:solidFill>
                <a:latin typeface="Arial"/>
              </a:rPr>
              <a:t>Что такое информатика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рмин "информатика" (франц. informatique) происходит от французских слов information (информация) и automatique (автоматика) и дословно означает "информационная автоматика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ироко распространён также англоязычный вариант этого термина — "Сomputer science", что означает буквально "компьютерная наука"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250920" y="4149720"/>
            <a:ext cx="8642160" cy="212292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0" i="1" lang="ru-RU" sz="2400" spc="-1" strike="noStrike" u="sng">
                <a:solidFill>
                  <a:srgbClr val="990000"/>
                </a:solidFill>
                <a:uFillTx/>
                <a:latin typeface="Times New Roman"/>
              </a:rPr>
              <a:t>Информатик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— это основанная на использовании компьютерной техники дисциплина, изучающая структуру и общие свойства информации, а также закономерности и методы её создания, хранения, поиска, преобразования, передачи и применения в различных сферах человеческой деятельности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pазpаботка вычислительных систем и пpогpаммного обеспеч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ория информ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зучающая процессы, связанные с передачей, приёмом, преобразованием и хранением информаци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искусственного интеллек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е создавать программы для решения задач, требующих определённых интеллектуальных усилий при выполнении их человеком (логический вывод, обучение, понимание речи, визуальное восприятие, игры и др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28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52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8020"/>
                            </p:stCondLst>
                            <p:childTnLst>
                              <p:par>
                                <p:cTn id="4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40000"/>
                </a:solidFill>
                <a:latin typeface="Arial"/>
              </a:rPr>
              <a:t>Основные направления информатики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ный анал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заключающийся в анализе назначения проектируемой системы и в установлении требований, которым она должна отвечать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ы машинной графики, анимации, средства мультимеди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телекоммуникац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в том числе, глобальные компьютерные сети, объединяющие всё человечество в единое информационное сообщество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нообразные приложе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хватывающие производство, науку, образование, медицину, торговлю, сельское хозяйство и все другие виды хозяйственной и общественной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472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16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Информатику обычно представляют </a:t>
            </a:r>
            <a:br>
              <a:rPr sz="2800"/>
            </a:br>
            <a:r>
              <a:rPr b="0" lang="ru-RU" sz="2800" spc="-1" strike="noStrike">
                <a:solidFill>
                  <a:srgbClr val="d40000"/>
                </a:solidFill>
                <a:latin typeface="Arial"/>
              </a:rPr>
              <a:t>состоящей из двух частей: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ические средства, то есть аппаратура компьютеров, в английском языке обозначаются слов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буквально переводится как "твёрдые изделия"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ограммные средства, для них выбрано (а точнее, создано) очень удачное слов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буквально — "мягкие изделия"), которое подчёркивает равнозначность программного обеспечения и самой машины и вместе с тем подчёркивает способность программного обеспечения модифицироваться, приспосабливаться, развиваться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pc"/>
          <p:cNvPicPr/>
          <p:nvPr/>
        </p:nvPicPr>
        <p:blipFill>
          <a:blip r:embed="rId1"/>
          <a:stretch/>
        </p:blipFill>
        <p:spPr>
          <a:xfrm>
            <a:off x="5940360" y="1700280"/>
            <a:ext cx="2849760" cy="1771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progr"/>
          <p:cNvPicPr/>
          <p:nvPr/>
        </p:nvPicPr>
        <p:blipFill>
          <a:blip r:embed="rId2"/>
          <a:stretch/>
        </p:blipFill>
        <p:spPr>
          <a:xfrm>
            <a:off x="6012000" y="4005360"/>
            <a:ext cx="2752560" cy="2065320"/>
          </a:xfrm>
          <a:prstGeom prst="rect">
            <a:avLst/>
          </a:prstGeom>
          <a:ln w="0">
            <a:noFill/>
          </a:ln>
        </p:spPr>
      </p:pic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67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72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456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8:39:08Z</dcterms:created>
  <dc:creator>Sasha</dc:creator>
  <dc:description/>
  <dc:language>en-US</dc:language>
  <cp:lastModifiedBy>LEGION</cp:lastModifiedBy>
  <dcterms:modified xsi:type="dcterms:W3CDTF">2015-04-01T07:32:47Z</dcterms:modified>
  <cp:revision>8</cp:revision>
  <dc:subject/>
  <dc:title>Направления информатики</dc:title>
</cp:coreProperties>
</file>