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26.gif" ContentType="image/gif"/>
  <Override PartName="/ppt/media/image24.gif" ContentType="image/gif"/>
  <Override PartName="/ppt/media/image23.jpeg" ContentType="image/jpeg"/>
  <Override PartName="/ppt/media/image22.png" ContentType="image/png"/>
  <Override PartName="/ppt/media/image19.jpeg" ContentType="image/jpeg"/>
  <Override PartName="/ppt/media/image32.gif" ContentType="image/gif"/>
  <Override PartName="/ppt/media/image18.gif" ContentType="image/gif"/>
  <Override PartName="/ppt/media/image21.png" ContentType="image/png"/>
  <Override PartName="/ppt/media/image16.gif" ContentType="image/gif"/>
  <Override PartName="/ppt/media/image8.jpeg" ContentType="image/jpeg"/>
  <Override PartName="/ppt/media/image5.png" ContentType="image/png"/>
  <Override PartName="/ppt/media/image10.jpeg" ContentType="image/jpeg"/>
  <Override PartName="/ppt/media/image12.jpeg" ContentType="image/jpeg"/>
  <Override PartName="/ppt/media/image30.gif" ContentType="image/gif"/>
  <Override PartName="/ppt/media/image14.jpeg" ContentType="image/jpeg"/>
  <Override PartName="/ppt/media/image28.gif" ContentType="image/gif"/>
  <Override PartName="/ppt/media/image39.gif" ContentType="image/gif"/>
  <Override PartName="/ppt/media/image9.gif" ContentType="image/gif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15.gif" ContentType="image/gif"/>
  <Override PartName="/ppt/media/image11.gif" ContentType="image/gif"/>
  <Override PartName="/ppt/media/image20.png" ContentType="image/png"/>
  <Override PartName="/ppt/media/image36.jpeg" ContentType="image/jpeg"/>
  <Override PartName="/ppt/media/image35.gif" ContentType="image/gif"/>
  <Override PartName="/ppt/media/image38.jpeg" ContentType="image/jpeg"/>
  <Override PartName="/ppt/media/image29.jpeg" ContentType="image/jpeg"/>
  <Override PartName="/ppt/media/image37.gif" ContentType="image/gif"/>
  <Override PartName="/ppt/media/image7.gif" ContentType="image/gif"/>
  <Override PartName="/ppt/media/image13.gif" ContentType="image/gif"/>
  <Override PartName="/ppt/media/image3.png" ContentType="image/png"/>
  <Override PartName="/ppt/media/image17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6"/>
          <p:cNvSpPr>
            <a:spLocks noGrp="1"/>
          </p:cNvSpPr>
          <p:nvPr>
            <p:ph type="sldNum" idx="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DA74-EABF-4E12-8D52-7FF82E319C4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«Основы информатик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109D-DD5F-408E-9089-4060659369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Архитектура ЭВ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тектура ЭВМ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Это описание устройства и принципов работы компьютера, достаточное для пользователя и программи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Программ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Это указание на последовательность действий, которую должен выполнить компью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В состав компьютера входят: процессор, память, устройство ввода, устройство вывода. У компьютера имеется внутренняя и внешняя память. Внутренняя- оперативная память. Внешняя- долговременная пам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CCDB-CE09-4165-A9A2-D200E3A3BC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Monotype Corsiva"/>
              </a:rPr>
              <a:t>Устройство П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В состав системного блока входят : микропроцессор, внутренняя память, дисководы, блок питания, контроллеры внешних устро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Все устройство ПК связаны между собой по многопроводной линии, которая называется информационной магистрал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Основными техническими характеристиками ПК являются: объем внутренней памяти, тактовая чистота микропроцессора, разрядность микропроцесс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Каждое внешнее устройство имеет свой адрес. Передаваемая к нему информация – по шине данных сопровождается адресом устройства – по адресной ши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A6B1-4A20-42FD-9FDC-77C009920B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Текстовые файлы и редакт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Текстовый файл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ff00"/>
                </a:solidFill>
                <a:latin typeface="Comic Sans MS"/>
              </a:rPr>
              <a:t>Простейший способ организации данных в компьютере. Он состоит только из кодов таблицы символьной кодировки</a:t>
            </a: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Текстовый редактор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ff00"/>
                </a:solidFill>
                <a:latin typeface="Comic Sans MS"/>
              </a:rPr>
              <a:t>Это прикладная программа, позволяющая создать текстовые документы, редактировать их, просматривать содержимое документа на экране, распечатывать документ, изменять формат доку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ff00"/>
                </a:solidFill>
                <a:latin typeface="Comic Sans MS"/>
              </a:rPr>
              <a:t>Стандартными компонентами среды ТР являются: рабочее поле, текстовый курсор, строка состояния, меню команд. Текстовый файл разделен на строки. Разделителем является специальные управляющие коды. В конце файла ставится код «Конец файл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6CF1-236E-4941-A114-859DCA196D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Тексты в компьютерной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mic Sans MS"/>
              </a:rPr>
              <a:t>Гипертекст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ff33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99ff33"/>
                </a:solidFill>
                <a:latin typeface="Comic Sans MS"/>
              </a:rPr>
              <a:t>Это способ организации текста, который можно просматривать в последовательности смысловых связей между его отдельными фрагмен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Таблица кодировк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ff33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99ff33"/>
                </a:solidFill>
                <a:latin typeface="Comic Sans MS"/>
              </a:rPr>
              <a:t>Таблица в которой всем символам компьютерного алфавита поставлены в соответствие порядковые ном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ff33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99ff33"/>
                </a:solidFill>
                <a:latin typeface="Comic Sans MS"/>
              </a:rPr>
              <a:t>Международным стандартом является код </a:t>
            </a:r>
            <a:r>
              <a:rPr b="1" lang="en-US" sz="1200" spc="-1" strike="noStrike">
                <a:solidFill>
                  <a:srgbClr val="99ff33"/>
                </a:solidFill>
                <a:latin typeface="Comic Sans MS"/>
              </a:rPr>
              <a:t> ASCII</a:t>
            </a:r>
            <a:r>
              <a:rPr b="1" lang="ru-RU" sz="1200" spc="-1" strike="noStrike">
                <a:solidFill>
                  <a:srgbClr val="99ff33"/>
                </a:solidFill>
                <a:latin typeface="Comic Sans MS"/>
              </a:rPr>
              <a:t>- американский  стандартный код информационного  обмена. Каждый символ текста кодируется восьмиразрядным двоичным кодом. Для представления текстов в компьютере используется алфавит мощностью 256 симво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0B45-EF24-485F-969E-E636104D60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пьютерная граф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пьютерная график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3366ff"/>
                </a:solidFill>
                <a:latin typeface="Comic Sans MS"/>
              </a:rPr>
              <a:t>Раздел информации, занимающийся проблемами «рисования» на ЭВ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Monotype Corsiva"/>
              </a:rPr>
              <a:t>Мультимед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Comic Sans MS"/>
              </a:rPr>
              <a:t>Это объединенный вывод на компьютере текста, статических изображений, видео, анимации и зву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cc0099"/>
                </a:solidFill>
                <a:latin typeface="Comic Sans MS"/>
              </a:rPr>
              <a:t>Устройства вывода графических изображений на компьютере: графопостроитель,  графический дисплей, принтер. Для получения графических изображений требуется специальное программное обеспечение- графические пакеты. Основные области применения компьютерной графики: научная графика, деловая графика, иллюстративная графика, художественная и рекламная граф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862E-E4C9-4E29-9F42-19F0A65636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Средства компьютерной граф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вывода изображения на экран включает в себя дисплей и видеоадаптер. Изображение на дисплее получается из совокупности множества светящихся точек - видеопикс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иксели на экране образуют сетку из горизонтальных строк и вертикальных столбцов, которая носит название «растр». Размер графической сетк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 * N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определяет разрешающую способность экрана, от которой зависит качество изображения. Луч электронной пушки периодически сканирует строки растра с высокой частотой, воспроизводя изображение. На черно-белых дисплеях пиксель может иметь только два цвета. Электронная пушка испускает один луч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еоадаптер состоит из видеопамяти и дисплейного процессора. В видеопамяти хранится двоичный код изображения, выводимого на экран. Для ввода изображения в компьютер используются сканеры, цифровые фотоаппараты, цифровые видеокам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0194-EDDB-40CC-A8CA-800DAE4104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Таблицы и мод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Модель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это некоторое упрощенное подобие реального объ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Monotype Corsiva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Monotype Corsiva"/>
              </a:rPr>
              <a:t>Модели бывают материальными и информационными. Информационная модель представляет собой описание моделированного объекта. Прежде чем строить информационную модель, производится системный анализ объекта моделирования. Задача системного анализа- выделить существенные части, свойства, связи моделируемой системы, определить её структуру. Наглядным способом представления информационных моделей являются графические изображения: карты, чертежи, схемы,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Monotype Corsiva"/>
              </a:rPr>
              <a:t> график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1FAE-6CE5-4188-B4C3-26842C3450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Графический редакт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Графический редактор-</a:t>
            </a:r>
            <a:r>
              <a:rPr b="1" lang="en-US" sz="1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omic Sans MS"/>
              </a:rPr>
              <a:t>прикладная программа для получения рисованных изобра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omic Sans MS"/>
              </a:rPr>
              <a:t>Рисунок, создаваемый средствами графического редактора, формируется на экране, а затем может быть сохранен в фай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ru-RU" sz="1200" spc="-1" strike="noStrike">
                <a:solidFill>
                  <a:srgbClr val="ffff00"/>
                </a:solidFill>
                <a:latin typeface="Comic Sans MS"/>
              </a:rPr>
              <a:t>Среда любого ГР содержит рабочее поле, меню инструментов, цветов, меню команд для работы с файлами, печати рисунка и других операций. ГР позволяет включать в рисунок тексты, используя буквы разных размеров и шриф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5DAE-B8C4-4B96-9DEF-5A47D72995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Устройство компьютерной се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1f497d"/>
                </a:solidFill>
                <a:latin typeface="Arial Unicode MS"/>
                <a:ea typeface="Arial Unicode MS"/>
              </a:rPr>
              <a:t>Компьютерная сеть-</a:t>
            </a:r>
            <a:r>
              <a:rPr b="1" lang="en-US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omic Sans MS"/>
              </a:rPr>
              <a:t>Система компьютеров, связанных каналами передачи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66cc"/>
                </a:solidFill>
                <a:latin typeface="Comic Sans MS"/>
              </a:rPr>
              <a:t>Компьютерные сети бывают локальными и глобальными. В одноранговых локальных сетях все компьютеры равноправны. Локальная сеть с выделенным компьютером включает в себя сервер и множество рабочих станций. Сервер используется как хранилище общих информационных ресурсов, а так же содержит некоторые технические устройства общего доступа. Глобальная сеть- это система связанных между собой локальных сетей и компьютеров отдельных пользователей. Персональные компьютеры пользователей подсоединяются к узлам глобальной сети. Существуют сети региональные, отраслевые. В настоящее время большинство из них объединено в мировую систему –</a:t>
            </a:r>
            <a:r>
              <a:rPr b="1" lang="en-US" sz="1200" spc="-1" strike="noStrike">
                <a:solidFill>
                  <a:srgbClr val="ff66cc"/>
                </a:solidFill>
                <a:latin typeface="Comic Sans MS"/>
              </a:rPr>
              <a:t>Internet</a:t>
            </a:r>
            <a:r>
              <a:rPr b="1" lang="ru-RU" sz="1200" spc="-1" strike="noStrike">
                <a:solidFill>
                  <a:srgbClr val="ff66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DFD2-FDB3-4649-9EA1-0710CA1E44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ccff"/>
                </a:solidFill>
                <a:latin typeface="Comic Sans MS"/>
              </a:rPr>
              <a:t>Электронная поч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Электронная почта-</a:t>
            </a:r>
            <a:r>
              <a:rPr b="1" lang="en-US" sz="1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обмен письмами в компьютерных сет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Почтовый ящик-</a:t>
            </a:r>
            <a:r>
              <a:rPr b="1" lang="en-US" sz="1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Это раздел внешней памяти почтового сервера, отделенный для абон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Электронное письмо-</a:t>
            </a:r>
            <a:r>
              <a:rPr b="1" lang="en-US" sz="1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это текстовый файл, содержащий конверт с адресом получателя и текст пись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Телеконференция-</a:t>
            </a:r>
            <a:r>
              <a:rPr b="1" lang="en-US" sz="1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это система обмена информацией на определенную тему между абонентами се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0E3B-AC16-46D3-966A-E792FF0F46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Более подробно изучить основы информатики, так как в ней выступают одновременно инструмент для работы и объект изучения и совершенствования – информ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0CFF-D4CA-4EB8-9F12-09ABC4F38E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"Всемирная паутина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 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Гипермедиа- система гиперсвязей между мультимедиа-докумен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Киберпространство-это совокупность мировых систем телекоммуникаций и циркулирующей в них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Web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 страница- отдельный документ </a:t>
            </a: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W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 </a:t>
            </a: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W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 </a:t>
            </a: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W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Web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 сервер- компьютер в сети Интернет, хранящий </a:t>
            </a: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web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 страницы и соответствующее программное обесп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Internet-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всемирная глобальная компьютерная се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B4B6-9D4E-4FE4-96FF-271380E437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Заклю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ff00"/>
                </a:solidFill>
                <a:uFillTx/>
                <a:latin typeface="Comic Sans MS"/>
              </a:rPr>
              <a:t> </a:t>
            </a:r>
            <a:r>
              <a:rPr b="1" lang="ru-RU" sz="1200" spc="-1" strike="noStrike" u="sng">
                <a:solidFill>
                  <a:srgbClr val="00ff00"/>
                </a:solidFill>
                <a:uFillTx/>
                <a:latin typeface="Comic Sans MS"/>
              </a:rPr>
              <a:t>Изучение информатики необходимо в наше время. Так как информатика это наука будущего. В жизни современного человека информация играет не меньшую роль, чем вещество и энер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DE28-D5B2-45DB-B5E5-B6D794F1B4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нформация и группы зн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Язык-способ выражения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нформационные процес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Количество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alibri"/>
              </a:rPr>
              <a:t>C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стема счис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Архитектура ЭВ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Устройство П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Текстовые файлы и редакт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Тексты в компьютерной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Компьютерная граф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Устройство компьютерной се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Электронная поч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7032-53D0-43F1-A162-F90209AA3D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В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ccff"/>
                </a:solidFill>
                <a:latin typeface="Impact"/>
              </a:rPr>
              <a:t>Информатика -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Это наука, изучающая все аспекты получения, хранения, преобразования, передачи и использования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Информатик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Это множество дисциплин, объединенных общим предметом изучения -информац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mic Sans MS"/>
              </a:rPr>
              <a:t>Теория информации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mic Sans MS"/>
              </a:rPr>
              <a:t>Кибернетика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mic Sans MS"/>
              </a:rPr>
              <a:t>Программирование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mic Sans MS"/>
              </a:rPr>
              <a:t>Теория алгоритмов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82BF-3199-44B8-AF85-19244DAB59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нформация и группы зн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Все знания делят на 3 групп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1 группа начинается со слов «я знаю, что…»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и знания называют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декларативными</a:t>
            </a:r>
            <a:r>
              <a:rPr b="0" lang="ru-RU" sz="1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 слова «декларация»- знания, сообщени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omic Sans MS"/>
              </a:rPr>
              <a:t>2 группа начинается со слов «я знаю, как..»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и знания называют </a:t>
            </a:r>
            <a:r>
              <a:rPr b="1" lang="ru-RU" sz="1200" spc="-1" strike="noStrike">
                <a:solidFill>
                  <a:srgbClr val="ff0066"/>
                </a:solidFill>
                <a:latin typeface="Comic Sans MS"/>
              </a:rPr>
              <a:t>процедурным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определяют достижение какой-либо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omic Sans MS"/>
              </a:rPr>
              <a:t>3 группа называется знания неинформатив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ти сообщения не пополняют знани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30AE-6422-492B-9152-E6DC84723A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Язык - как способ выражения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Язык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omic Sans MS"/>
              </a:rPr>
              <a:t>Это знаковый способ представления информации. Общение на языках- это процесс передачи информации в знаковой фор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и быв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omic Sans MS"/>
              </a:rPr>
              <a:t>Естественными и формаль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Образная информац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omic Sans MS"/>
              </a:rPr>
              <a:t>Это сохранение в памяти ощущения человека от контакта с источн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07EB-C988-45BA-8109-94B011557C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Monotype Corsiva"/>
              </a:rPr>
              <a:t>Информационные процес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omic Sans MS"/>
              </a:rPr>
              <a:t>Делят на 3 группы: Процесс хранения </a:t>
            </a:r>
            <a:r>
              <a:rPr b="1" lang="ru-RU" sz="1200" spc="-1" strike="noStrike">
                <a:solidFill>
                  <a:srgbClr val="bc6626"/>
                </a:solidFill>
                <a:latin typeface="Comic Sans MS"/>
              </a:rPr>
              <a:t>информации</a:t>
            </a:r>
            <a:r>
              <a:rPr b="1" lang="ru-RU" sz="1200" spc="-1" strike="noStrike">
                <a:solidFill>
                  <a:srgbClr val="1f497d"/>
                </a:solidFill>
                <a:latin typeface="Comic Sans MS"/>
              </a:rPr>
              <a:t>, процесс передачи информации, процесс обработки </a:t>
            </a:r>
            <a:r>
              <a:rPr b="1" lang="ru-RU" sz="1200" spc="-1" strike="noStrike">
                <a:solidFill>
                  <a:srgbClr val="bc6626"/>
                </a:solidFill>
                <a:latin typeface="Comic Sans MS"/>
              </a:rPr>
              <a:t>информации</a:t>
            </a:r>
            <a:r>
              <a:rPr b="1" lang="ru-RU" sz="1200" spc="-1" strike="noStrike">
                <a:solidFill>
                  <a:srgbClr val="1f497d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omic Sans MS"/>
              </a:rPr>
              <a:t>Человек хранит информацию в собственной памяти и на внешних носителях. Процесс передачи информации осуществляется от источника к приемнику по информационным каналам связи. Процесс обработки информации связан с получением новой или изменением формы или структуры данной информации; осуществлением поиска информации на внешних носител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3561-419F-4017-9396-176C37A0DD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cc"/>
                </a:solidFill>
                <a:latin typeface="Lucida Sans"/>
              </a:rPr>
              <a:t>Количество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Monotype Corsiva"/>
              </a:rPr>
              <a:t>Бит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Информационный вес символа двоичного алфавита принятый за единицу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Monotype Corsiva"/>
              </a:rPr>
              <a:t>Алфавит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Это вся совокупность символов, используемых в некотором языке для представления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Мощность алфавита- это число символов в н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Monotype Corsiva"/>
              </a:rPr>
              <a:t>Байт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Информационный вес символа из алфавита мощностью 256 символов.                                          1 байт=8 б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53E8-FC46-4A9F-9A7E-199509D9C9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истема счис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истема счислен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bc6626"/>
                </a:solidFill>
                <a:latin typeface="Comic Sans MS"/>
              </a:rPr>
              <a:t>Это способ изображения чисел  и соответствующие ему правила действия над числами</a:t>
            </a:r>
            <a:r>
              <a:rPr b="1" lang="ru-RU" sz="1200" spc="-1" strike="noStrike">
                <a:solidFill>
                  <a:srgbClr val="f8e8d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Системы счисления бывают позиционными и непозиционными. Примером непозиционной системы является римская система чис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bc6626"/>
                </a:solidFill>
                <a:latin typeface="Comic Sans MS"/>
              </a:rPr>
              <a:t>Наименьшее возможное основание позиционной системы счисления – 2. Такая система называется двоичной</a:t>
            </a:r>
            <a:r>
              <a:rPr b="1" lang="ru-RU" sz="1200" spc="-1" strike="noStrike">
                <a:solidFill>
                  <a:srgbClr val="00ff00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845B-2473-4CF4-A735-974C76A2DF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03A8-E876-40C9-9421-E0CFC4856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0239-C9F5-4313-8ED8-E6B4DEE0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C30A0-93BA-42DE-B416-EDDDA886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ED5320-6759-41F8-A49A-E2A8472F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29FE8-24B8-45E9-BFB6-2A7D92C3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183B6-01C2-494A-9751-DB1ECB17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40036-DFFF-43E5-941E-0FB31EF3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EF305-528D-44E6-9537-F336BE4A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C20C3-8C8B-473F-BC52-8CF575E2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1DCFDA-EBB3-4F76-A8E0-CE1FBFFDA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28EAF-3852-4507-9B83-47C42E202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E2DC01-5220-41B8-B422-0DD9EB83B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B65A-DACE-452C-A828-A54344333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A42512-6456-4EBE-B3C3-4D30C60C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1C60B7-01E8-4ECC-8BC3-5A5EE745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D1808-34E9-4E92-B2E5-CC5AC0A6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76F41-2026-4D5B-9853-A4C8F301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718F02-3EFB-46C3-8B3C-29B2E3ED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E41B8-CADE-409F-8443-C02D0959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E5DDD7-9B36-4C50-A79B-61477A76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3FDF1B-C2D5-41D0-ACDA-14003915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761DC-321E-403D-ABE9-5596C37C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BA02BD-DC10-4394-91E9-73B2DEB50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A467-DBE5-41DA-B25C-E2A7F1AB0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5A0DD3-6F43-44CE-BF29-E84814857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D18B3-C4A2-452E-8C7D-B50C56085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2C835-4FCF-4FC6-92B7-276EF186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E19D6-9788-42CB-B7EA-DA2E802F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573E7-B071-4E94-9AF8-1CEE4DEC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70BFA-F7F2-4188-A532-8791A9DB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9F0B1-B941-4BAC-BB60-A4AA1989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0FE70-B297-4767-BAEF-97009A42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FBE74-9426-4B64-B68D-89A152A9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FABC7-651E-4240-98E0-5F49E91F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0B9A-2053-4295-B56D-0FAD956A5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A1433-2C4F-41DA-97E6-F42F9E91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FA11C-7218-45E0-9C05-B8D740CF6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FED0D-68E9-432B-93B1-E27E9F824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880DD1-67CF-4CD4-B190-C97BFBE89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AC09A3-276A-4FCE-84DF-C8FEC5CA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D1C71E-74DA-4E7C-AC67-920284E7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8C2F61-1982-4256-B9B2-164EF89A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0F9BE1-114F-4EC0-88E5-EF3077FD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B8DA8-AC65-4CCF-AC71-88FCBEE6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043312-A872-4416-A779-3C2B6382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A8DD-C43F-40C8-A053-BB198D55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520413-7D38-41DF-AADE-46D67D1B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483A70-B32C-4FF7-B014-11936F91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BB9988-96C4-4AD9-AB4C-4EEC3A03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9BC62A-54A4-4D10-B39C-3B8E67FFB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81BF0D-8969-48F5-A1E8-E24D94926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C2A8EE-95EA-498F-B101-605CD5345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EF6248-1533-4204-B06B-F78056E7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A1665F-E2AA-4806-B32C-61D03EC4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2DBBA8-36F8-4AF7-95F2-58C98B04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7E43BC-8F22-4707-B09F-9C6FBCCC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F642-C4CB-403F-AB61-B8727023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02B22B-B410-4788-9057-A9B5027A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A2F5F3-C923-4767-899D-8B9744E8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328469-2F39-41D9-88B0-A70268AA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E6EAA1-ADDC-449E-9F3F-A1292897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0D9C62-6008-4F8F-8D71-A76D1BB8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F2E41D-64D5-4DA0-93FC-5383D924F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3E4560-AEFE-425F-B224-34F4F2B2E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F066B2-6AE8-436A-9F23-98E56C518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C6D4E0-AEEE-41E0-BFE2-02BE0AA3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89A888-8B8E-4EFF-998D-1D8192BA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C734-AEE9-4F95-A1A5-00CA3A05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F3C4B5-A578-4414-8B06-465FACB2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C4C056-FA0D-4F94-9C9F-B71D377E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D11576-0099-4FDC-9906-1EEEB41C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040D6B-30DB-4D1A-BBD5-42DCED1E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F9ED0E-2239-4464-9787-E4E6B004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E3911D-D152-4E2F-9E24-C9DC17A7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D41FCE-FC25-4780-9C94-EBC93D56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7268EE-6B7F-422F-A23C-63C4E5A77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04D8B2-3737-4D39-A2E8-9E309563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6FD31B-749D-4E40-9298-1941BC985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C783-3582-4156-BE41-936AE7B9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F2910D-F080-4C0D-945C-666159C2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2AD23C-02D1-46A5-AB7B-D1783132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71FD3D-809E-493D-816B-CB059093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263E46-6A8F-447F-AC72-9C67A9DB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2AACE2-EDC5-4CD9-96DD-AD642D36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1BFFE8-310B-43AF-9B26-2F4A8570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CE8D76-19ED-4BC7-92A7-1D4631A2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E03254-B78D-466C-BBF3-BDC8349A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326638-065A-4D5C-8906-004FB326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D99CA8-CE0E-4AE2-9E08-A1E31F544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E64B-3024-43E1-AA17-570419D1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B6F9B2-9532-4A96-B2A5-3672A87AA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4B4F6E-82D6-49CB-884D-6367D4C0B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60E4B2-12DC-4DFD-95C4-05679F81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1B2970-43AC-4395-A5F8-5095F542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2BA7A1-0243-4F90-ACD9-2E6A7BFB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EC295D-0441-46E5-A83C-5EBDDAFE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CF0D2D-F26F-490C-9148-DD0AD3F6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0F52E2-F7FF-43FF-B1D6-BC508C5C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3B4467-5EC0-471C-A26A-A0B51391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1EEC43-D47A-4371-9404-9D339EE5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717DD-B398-4604-BE52-E3F7CB2F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F4E169-5916-46DE-9FD7-C9D6FA3D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54A524-B0C4-4B4E-84A8-356F1839D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78A970-740C-47D2-BE40-412D787D3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7FF633-148E-45AC-9C0F-2270898F5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6050A0-FB1B-4D4C-B399-F943113F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637260-679B-4FB3-AB1A-E7E7244A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58F4A9-037E-4748-BB58-F4247550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B289BD-7E8F-4B46-9DA7-6EBBC394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288A35-CCB0-4750-B564-65ECF27C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F21D47-4102-4E46-BF89-22D9ED3D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0DED-1385-498C-8944-7BFA8B2A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84D0-968C-41C3-A993-FBF7908F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296743-8231-4B28-BA73-CF6B93F0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DB4CC9-84D3-4191-93BC-31A0CA59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BD1DE2-8AD9-4138-8C3E-14E715EC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D2D516-1312-4848-BD7F-483D76D8D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D50034-69B2-47EF-ACAB-712B1E0EF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4182C7-8647-48B8-98D1-170864EF6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3B7C5B-5ABF-40F4-B358-8ECE10B3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0EBA85-3D1F-4875-B0C1-F3A818C4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C2A0BD-EA95-4743-AB29-7056D172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25C674-8632-4097-BE60-D252FC99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12D9-A2D6-46AA-9F12-11188F01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23479A-4CC6-4F22-9D9F-8348B775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6247B2-F6EE-409B-80D1-0D53AFEC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7A9AE7-3FA8-4382-926F-61BA0670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DDF051-306C-410A-92FB-382F929D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6D68E9-F8D3-47D8-9C57-86970ED7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E8370A-B7AE-47BC-A08A-F7EC564BE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3C6C8F-C475-450B-809F-2E87347E9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D0E4AF-F747-43A3-8FE8-C2AC011D9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2CE781-C7A5-4A00-B3A3-48017092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2C7A45-B5F8-4C15-820B-275477BF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DB86-174B-4C91-9209-D4E27FC7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CD099A-7A40-4BB5-8F47-08BB9247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35FFF5-D48B-4191-A03E-F375131A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9242E0-5FDF-44A3-B99A-2BF2A47B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F236A9-775D-4736-9F1C-912DDB99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3E78D9-7FC6-4C3B-9F4A-F307790F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2D556E-7644-4150-8F30-E0AA8F2E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EA6016-CEE4-40C2-897C-4160DA68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60C45E-7317-41DE-A781-9A8E405B9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B9060E-69D1-4539-9E10-DA378C288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F3B2D0-0A56-45D2-83DD-DC795E1A8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A8E1-06D3-440C-BC57-1C3651E77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0D1656-0253-4FA6-8FEC-C7121E4A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2708DA-A5B0-47E4-8A59-BD9FDF3A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22C651-DB1D-4424-A7B9-EEEFFCAD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C62052-56FA-4A75-8007-7F5FC20C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257EF4-76C0-4FDE-9EF6-6A55B957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E2A0D5-5FA1-4545-B2CB-BB8D2AB3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2624E5-C37A-48FB-96EB-D5E29B1A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FBC16F-37D5-4C4F-9AC4-A5ED840F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164440-AE55-4151-A896-58DE3AA1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1BF51F-6136-4514-8548-245FB4BE0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AB4D-A19F-4345-8F69-4DA68F686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4BE958-3F4A-4ED3-8723-A4318D73F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088CC3-1FD8-412E-A8E7-EBC6FF530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DD9733-EBEF-4902-8B2D-6E6B6986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C69C20-D7F4-49B6-8F4A-5C8FD7C9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06A9D3-E13E-41AF-8EE3-B7C8F015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F9A4FB-BE9B-4EFF-AD9C-21610AF6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34786D-28B2-44D1-B894-9C1FA68C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EFFD1F-5206-4F9A-8C99-9459FCD3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D4FBD6-95D1-4509-B58A-DEF983E4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10AE53-893F-4753-A1D5-758E5ABA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844EB-99B1-444C-9130-D1444F4D2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99D2B0-43D7-49C7-AE6B-2A50D81D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32CCE1-5542-4CE8-AB47-1C0F1C528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CB74EA-4700-470E-BD50-2C7F6B1B5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6F92F5-3DAF-4ADE-A7E4-60FC08DAB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77ED72-DA31-4693-A721-9F55EAA4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EA8272-8912-43FF-AB4B-AC2DA7FA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F28694-05A6-4231-BF30-ACAEFE79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2C81C5-E655-4305-B801-07B811B4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EAA3A0-A252-4CAD-B021-E5876270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5CD49C-EAAD-43E4-A6F8-41AB4C18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04E6D-D5AF-42E4-BAEF-A8D1B265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201F1B-64F3-41CF-95C3-CD3AFCF5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E8E9AE-6CA0-48A0-A151-C1AD2DB3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41FBF0-DE9E-4C72-B505-56BED6D7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655CA7-4FDA-46C6-8E94-729E0C496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DF5469-AFD4-454E-8FBC-8F5491172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E60CD8-8535-4185-B9E7-AC0CD37A0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654429-6335-4500-A25B-F8F75695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0E6F73-86D4-439D-B1BD-EC0D4D92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0AE6F1-00BF-4524-8B66-743AC835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56A681-9604-4CB6-A392-B78FE2BF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B489D-2F19-4F68-AD30-CD113455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C21891-810A-483C-BAED-F2E94325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270FC5-C1AE-4BEC-9EC9-E12BC1D7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8D9459-4C59-44D4-87DE-5D0F993C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21CBAE-5A73-4CAA-A8CC-C8262EB7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391999-9EA9-4C9B-99FC-49123E43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F7022B-D657-4677-B15F-6AD28D493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B1533A-7203-4AE6-BFAD-3FDF74D13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E1B52C-8BC6-4873-9F74-89072015E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7ED25C-1C81-4265-98C4-938A28DB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82E3FF-F860-4250-961D-C0C4ACB6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549B5-5F11-4C33-B2C5-A26CA31F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EBBFA9-F4F7-4AE9-BC49-8155D811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DA38D1-3B00-4645-9F3D-796D29C7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C9943E-CDBD-4DAD-BBB4-9187CD77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E81B62-E668-419C-87E5-0187FA38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6C19C5-DE24-42D6-8A34-DEB9B0F1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E8B8D4-8441-4860-A2A2-C0D407CD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1ED103-A03E-4162-BFC6-4B683C34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1C8F64-D1E8-4574-87F2-457BB46E8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ECE469-A926-47E4-906C-F9C6053AC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D4B4D-1274-4415-9C31-D7EBB596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B47D-7EFB-46C6-9075-35AC0E18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008C9-C29E-42EE-B9BC-27191832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81D63-EA6F-4DF6-886C-EDDBBBD5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CA7C8-A470-4715-990C-B5BDEC61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85E57-EE40-4B21-93A2-ED68629C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27EFA-8148-423F-B2A9-710F5138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C5F72-DA21-4277-9B2E-CE28191CA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0503E-3965-44B9-906B-1FC291247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6C7D2-4785-45A7-8116-F549601A1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19379-409B-4529-981C-066D75F8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477CE-99A9-45F0-9D3C-9F27C7B0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BEE4-7431-48DE-AB7C-8B217755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3FACD-D934-4A18-9B01-06C90538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870A2-CC54-483B-9BF7-341BC0F4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85F6B-0D5F-4A7F-8A99-FB5D4A9A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3BFA9-B0C7-4B6A-BE42-4BBA8E83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0E9F9-F801-43C0-AC2F-6CC54394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4223E-C42F-46A6-8C00-B56BBEE7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24BEB-F07D-4115-A4E0-F1FDB5EF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49AFA-E697-4987-9525-B6E1954FC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D2244-86C8-4365-9F88-892221A9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0EA42-009F-481F-A18C-02EF3632D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2400-8C71-4730-B73C-20356043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5F728-05EC-4E19-AC8B-352B98E8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5B1A3-8517-4F2D-8267-4C9188D6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13F1C-5EC1-44A4-AE09-7ECE696F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ABD0C-E8AA-4980-BCED-A1F9C90E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7972F-7578-4B41-A367-00A3992B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578BC-737E-4C20-A2A2-D3BC598E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DA179-3043-46A2-B801-E6CA5D73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2EAF0-09CE-46B9-B8BF-DF747B2D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87545-9CDE-4C59-BC07-A239BB5F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9C32F-7FBB-4C4F-B1E2-9E762B1D1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8D95-7D16-400E-A716-F775C9C6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C8602-A6BC-4C63-86D0-B4D1F5623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1A15F-DAB8-478A-B2C0-29C0FC200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17C8F-2E62-4283-9BE2-FA2441B6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9BEB6-0045-43D5-ABA6-FDF711A7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A3F46-2E41-491E-8071-B1F53E16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349CF-6A2D-4357-9F03-356AD58E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9F524-C3A7-4D46-B983-243F0977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422CD-FE88-47B7-A634-87161321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30508-9917-4E83-B174-6E586FAA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72BD8-D11D-4B38-9091-E1F72F68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FD5E-F402-41B3-91EC-88D61FE7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2C3A3-C609-4A2B-9E9F-D49DE9C3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16AEF-9E9A-477D-BCCE-560E3770A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8B9B8-103B-4927-9FDB-F98BC40EA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B2561-EAD0-49DB-99C2-87B61D7D0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3B7DF-EEC5-4875-9F9C-7CCA9CB9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04ACE-4A8A-41FD-A4D2-D780BD0D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0B5FA-15A6-45EB-917E-511E028A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1001C-4B31-4347-94E9-453039F5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3ADC0-7882-4FA9-BDCC-3E2B618E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C8F27-FEE8-4D99-8659-8B6813B0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B990-2D50-40F9-90C8-0CE78568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83550-D6BB-44AB-A4D0-55A33C66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8E104-48B6-4FFC-BFE8-9C95CA2C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6C82D-3B8F-4940-9821-7A459F28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1BEEA-65F7-4A51-9949-68FC33075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AA333-A075-4203-8ED4-8A9363D7F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A4079-D655-420E-8551-30F1289BC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55322-FF81-4D95-990F-19F05303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21C63-9931-4718-A00E-F86CB84F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B861B-2303-4BB7-AF5D-6B381132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A5598-4A3D-4150-95FA-5D504246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7FCF-64C4-4C3E-A6F5-9B242780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5C029-D73C-40E4-84FA-73EBA547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F7129-DBB1-407A-B40F-C22C6535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EC96F-7BCA-4DC2-9BF2-5F07DD58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0FD45-3515-46F4-906E-B442B710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C4164-F1F3-4D35-8A15-6B8380C5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F6CE2-94DA-4753-87B5-63BCEB80F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DB1AD-DE0C-4E52-AD39-75EFB6DB2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A5E5E-E66A-4FCC-B61C-4D3354D88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244F8-B0F4-45A8-A12F-FF0E8951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49D1B-5483-4BA3-B0B5-1B89A064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05.xml"/><Relationship Id="rId8" Type="http://schemas.openxmlformats.org/officeDocument/2006/relationships/slideLayout" Target="../slideLayouts/slideLayout206.xml"/><Relationship Id="rId9" Type="http://schemas.openxmlformats.org/officeDocument/2006/relationships/slideLayout" Target="../slideLayouts/slideLayout207.xml"/><Relationship Id="rId10" Type="http://schemas.openxmlformats.org/officeDocument/2006/relationships/slideLayout" Target="../slideLayouts/slideLayout208.xml"/><Relationship Id="rId11" Type="http://schemas.openxmlformats.org/officeDocument/2006/relationships/slideLayout" Target="../slideLayouts/slideLayout209.xml"/><Relationship Id="rId12" Type="http://schemas.openxmlformats.org/officeDocument/2006/relationships/slideLayout" Target="../slideLayouts/slideLayout210.xml"/><Relationship Id="rId13" Type="http://schemas.openxmlformats.org/officeDocument/2006/relationships/slideLayout" Target="../slideLayouts/slideLayout211.xml"/><Relationship Id="rId14" Type="http://schemas.openxmlformats.org/officeDocument/2006/relationships/slideLayout" Target="../slideLayouts/slideLayout212.xml"/><Relationship Id="rId15" Type="http://schemas.openxmlformats.org/officeDocument/2006/relationships/slideLayout" Target="../slideLayouts/slideLayout213.xml"/><Relationship Id="rId16" Type="http://schemas.openxmlformats.org/officeDocument/2006/relationships/slideLayout" Target="../slideLayouts/slideLayout214.xml"/><Relationship Id="rId17" Type="http://schemas.openxmlformats.org/officeDocument/2006/relationships/slideLayout" Target="../slideLayouts/slideLayout215.xml"/><Relationship Id="rId18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29.xml"/><Relationship Id="rId8" Type="http://schemas.openxmlformats.org/officeDocument/2006/relationships/slideLayout" Target="../slideLayouts/slideLayout230.xml"/><Relationship Id="rId9" Type="http://schemas.openxmlformats.org/officeDocument/2006/relationships/slideLayout" Target="../slideLayouts/slideLayout231.xml"/><Relationship Id="rId10" Type="http://schemas.openxmlformats.org/officeDocument/2006/relationships/slideLayout" Target="../slideLayouts/slideLayout232.xml"/><Relationship Id="rId11" Type="http://schemas.openxmlformats.org/officeDocument/2006/relationships/slideLayout" Target="../slideLayouts/slideLayout233.xml"/><Relationship Id="rId12" Type="http://schemas.openxmlformats.org/officeDocument/2006/relationships/slideLayout" Target="../slideLayouts/slideLayout234.xml"/><Relationship Id="rId13" Type="http://schemas.openxmlformats.org/officeDocument/2006/relationships/slideLayout" Target="../slideLayouts/slideLayout235.xml"/><Relationship Id="rId14" Type="http://schemas.openxmlformats.org/officeDocument/2006/relationships/slideLayout" Target="../slideLayouts/slideLayout236.xml"/><Relationship Id="rId15" Type="http://schemas.openxmlformats.org/officeDocument/2006/relationships/slideLayout" Target="../slideLayouts/slideLayout237.xml"/><Relationship Id="rId16" Type="http://schemas.openxmlformats.org/officeDocument/2006/relationships/slideLayout" Target="../slideLayouts/slideLayout238.xml"/><Relationship Id="rId17" Type="http://schemas.openxmlformats.org/officeDocument/2006/relationships/slideLayout" Target="../slideLayouts/slideLayout239.xml"/><Relationship Id="rId18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41.xml"/><Relationship Id="rId8" Type="http://schemas.openxmlformats.org/officeDocument/2006/relationships/slideLayout" Target="../slideLayouts/slideLayout242.xml"/><Relationship Id="rId9" Type="http://schemas.openxmlformats.org/officeDocument/2006/relationships/slideLayout" Target="../slideLayouts/slideLayout243.xml"/><Relationship Id="rId10" Type="http://schemas.openxmlformats.org/officeDocument/2006/relationships/slideLayout" Target="../slideLayouts/slideLayout244.xml"/><Relationship Id="rId11" Type="http://schemas.openxmlformats.org/officeDocument/2006/relationships/slideLayout" Target="../slideLayouts/slideLayout245.xml"/><Relationship Id="rId12" Type="http://schemas.openxmlformats.org/officeDocument/2006/relationships/slideLayout" Target="../slideLayouts/slideLayout246.xml"/><Relationship Id="rId13" Type="http://schemas.openxmlformats.org/officeDocument/2006/relationships/slideLayout" Target="../slideLayouts/slideLayout247.xml"/><Relationship Id="rId14" Type="http://schemas.openxmlformats.org/officeDocument/2006/relationships/slideLayout" Target="../slideLayouts/slideLayout248.xml"/><Relationship Id="rId15" Type="http://schemas.openxmlformats.org/officeDocument/2006/relationships/slideLayout" Target="../slideLayouts/slideLayout249.xml"/><Relationship Id="rId16" Type="http://schemas.openxmlformats.org/officeDocument/2006/relationships/slideLayout" Target="../slideLayouts/slideLayout250.xml"/><Relationship Id="rId17" Type="http://schemas.openxmlformats.org/officeDocument/2006/relationships/slideLayout" Target="../slideLayouts/slideLayout251.xml"/><Relationship Id="rId18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3.xml"/><Relationship Id="rId8" Type="http://schemas.openxmlformats.org/officeDocument/2006/relationships/slideLayout" Target="../slideLayouts/slideLayout254.xml"/><Relationship Id="rId9" Type="http://schemas.openxmlformats.org/officeDocument/2006/relationships/slideLayout" Target="../slideLayouts/slideLayout255.xml"/><Relationship Id="rId10" Type="http://schemas.openxmlformats.org/officeDocument/2006/relationships/slideLayout" Target="../slideLayouts/slideLayout256.xml"/><Relationship Id="rId11" Type="http://schemas.openxmlformats.org/officeDocument/2006/relationships/slideLayout" Target="../slideLayouts/slideLayout257.xml"/><Relationship Id="rId12" Type="http://schemas.openxmlformats.org/officeDocument/2006/relationships/slideLayout" Target="../slideLayouts/slideLayout258.xml"/><Relationship Id="rId13" Type="http://schemas.openxmlformats.org/officeDocument/2006/relationships/slideLayout" Target="../slideLayouts/slideLayout259.xml"/><Relationship Id="rId14" Type="http://schemas.openxmlformats.org/officeDocument/2006/relationships/slideLayout" Target="../slideLayouts/slideLayout260.xml"/><Relationship Id="rId15" Type="http://schemas.openxmlformats.org/officeDocument/2006/relationships/slideLayout" Target="../slideLayouts/slideLayout261.xml"/><Relationship Id="rId16" Type="http://schemas.openxmlformats.org/officeDocument/2006/relationships/slideLayout" Target="../slideLayouts/slideLayout262.xml"/><Relationship Id="rId17" Type="http://schemas.openxmlformats.org/officeDocument/2006/relationships/slideLayout" Target="../slideLayouts/slideLayout263.xml"/><Relationship Id="rId18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65.xml"/><Relationship Id="rId8" Type="http://schemas.openxmlformats.org/officeDocument/2006/relationships/slideLayout" Target="../slideLayouts/slideLayout266.xml"/><Relationship Id="rId9" Type="http://schemas.openxmlformats.org/officeDocument/2006/relationships/slideLayout" Target="../slideLayouts/slideLayout267.xml"/><Relationship Id="rId10" Type="http://schemas.openxmlformats.org/officeDocument/2006/relationships/slideLayout" Target="../slideLayouts/slideLayout268.xml"/><Relationship Id="rId11" Type="http://schemas.openxmlformats.org/officeDocument/2006/relationships/slideLayout" Target="../slideLayouts/slideLayout269.xml"/><Relationship Id="rId12" Type="http://schemas.openxmlformats.org/officeDocument/2006/relationships/slideLayout" Target="../slideLayouts/slideLayout270.xml"/><Relationship Id="rId13" Type="http://schemas.openxmlformats.org/officeDocument/2006/relationships/slideLayout" Target="../slideLayouts/slideLayout271.xml"/><Relationship Id="rId14" Type="http://schemas.openxmlformats.org/officeDocument/2006/relationships/slideLayout" Target="../slideLayouts/slideLayout272.xml"/><Relationship Id="rId15" Type="http://schemas.openxmlformats.org/officeDocument/2006/relationships/slideLayout" Target="../slideLayouts/slideLayout273.xml"/><Relationship Id="rId16" Type="http://schemas.openxmlformats.org/officeDocument/2006/relationships/slideLayout" Target="../slideLayouts/slideLayout274.xml"/><Relationship Id="rId17" Type="http://schemas.openxmlformats.org/officeDocument/2006/relationships/slideLayout" Target="../slideLayouts/slideLayout275.xml"/><Relationship Id="rId18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77.xml"/><Relationship Id="rId8" Type="http://schemas.openxmlformats.org/officeDocument/2006/relationships/slideLayout" Target="../slideLayouts/slideLayout278.xml"/><Relationship Id="rId9" Type="http://schemas.openxmlformats.org/officeDocument/2006/relationships/slideLayout" Target="../slideLayouts/slideLayout279.xml"/><Relationship Id="rId10" Type="http://schemas.openxmlformats.org/officeDocument/2006/relationships/slideLayout" Target="../slideLayouts/slideLayout280.xml"/><Relationship Id="rId11" Type="http://schemas.openxmlformats.org/officeDocument/2006/relationships/slideLayout" Target="../slideLayouts/slideLayout281.xml"/><Relationship Id="rId12" Type="http://schemas.openxmlformats.org/officeDocument/2006/relationships/slideLayout" Target="../slideLayouts/slideLayout282.xml"/><Relationship Id="rId13" Type="http://schemas.openxmlformats.org/officeDocument/2006/relationships/slideLayout" Target="../slideLayouts/slideLayout283.xml"/><Relationship Id="rId14" Type="http://schemas.openxmlformats.org/officeDocument/2006/relationships/slideLayout" Target="../slideLayouts/slideLayout284.xml"/><Relationship Id="rId15" Type="http://schemas.openxmlformats.org/officeDocument/2006/relationships/slideLayout" Target="../slideLayouts/slideLayout285.xml"/><Relationship Id="rId16" Type="http://schemas.openxmlformats.org/officeDocument/2006/relationships/slideLayout" Target="../slideLayouts/slideLayout286.xml"/><Relationship Id="rId17" Type="http://schemas.openxmlformats.org/officeDocument/2006/relationships/slideLayout" Target="../slideLayouts/slideLayout287.xml"/><Relationship Id="rId18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7353-B2B1-427A-93F5-8D37E7046F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F41B-5B37-428F-8939-62C517CC06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7CB7-E5DF-4638-AB2F-01ABC33CA2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0AD3-F81C-4536-9C65-1CA5732377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CF4B-F835-4D64-8391-CFE0DEC4CF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574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611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FA01-6F84-44F9-8F8D-AFFA9F3E74C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655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1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692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CF98-9F36-46AE-8E70-6CD1D9B212D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36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773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46D9-B842-4BF7-B18F-8D5A79F76DC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7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3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854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76F2-E0AC-48E1-A8F6-80819591BFF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98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4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935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A0F3-7544-4719-B24D-24AFD4055AC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7"/>
    <p:sldLayoutId id="2147483871" r:id="rId8"/>
    <p:sldLayoutId id="2147483872" r:id="rId9"/>
    <p:sldLayoutId id="2147483873" r:id="rId10"/>
    <p:sldLayoutId id="2147483874" r:id="rId11"/>
    <p:sldLayoutId id="2147483875" r:id="rId12"/>
    <p:sldLayoutId id="2147483876" r:id="rId13"/>
    <p:sldLayoutId id="2147483877" r:id="rId14"/>
    <p:sldLayoutId id="2147483878" r:id="rId15"/>
    <p:sldLayoutId id="2147483879" r:id="rId16"/>
    <p:sldLayoutId id="2147483880" r:id="rId17"/>
    <p:sldLayoutId id="2147483881" r:id="rId18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979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5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016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D641-975A-4884-B3AB-A9537D53E55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7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12BD-8EDF-4FF0-BE33-8209198167F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060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6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097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9EC7-0AE5-4AA8-876A-31FE35A8570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7"/>
    <p:sldLayoutId id="2147483897" r:id="rId8"/>
    <p:sldLayoutId id="2147483898" r:id="rId9"/>
    <p:sldLayoutId id="2147483899" r:id="rId10"/>
    <p:sldLayoutId id="2147483900" r:id="rId11"/>
    <p:sldLayoutId id="2147483901" r:id="rId12"/>
    <p:sldLayoutId id="2147483902" r:id="rId13"/>
    <p:sldLayoutId id="2147483903" r:id="rId14"/>
    <p:sldLayoutId id="2147483904" r:id="rId15"/>
    <p:sldLayoutId id="2147483905" r:id="rId16"/>
    <p:sldLayoutId id="2147483906" r:id="rId17"/>
    <p:sldLayoutId id="2147483907" r:id="rId18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14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7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F3DD-3FB7-4C19-814C-79A6DBD2D79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7"/>
    <p:sldLayoutId id="2147483910" r:id="rId8"/>
    <p:sldLayoutId id="2147483911" r:id="rId9"/>
    <p:sldLayoutId id="2147483912" r:id="rId10"/>
    <p:sldLayoutId id="2147483913" r:id="rId11"/>
    <p:sldLayoutId id="2147483914" r:id="rId12"/>
    <p:sldLayoutId id="2147483915" r:id="rId13"/>
    <p:sldLayoutId id="2147483916" r:id="rId14"/>
    <p:sldLayoutId id="2147483917" r:id="rId15"/>
    <p:sldLayoutId id="2147483918" r:id="rId16"/>
    <p:sldLayoutId id="2147483919" r:id="rId17"/>
    <p:sldLayoutId id="2147483920" r:id="rId18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2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5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 type="dt" idx="6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D0CB-27B1-42EC-9C7F-F8095525C02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7"/>
    <p:sldLayoutId id="2147483923" r:id="rId8"/>
    <p:sldLayoutId id="2147483924" r:id="rId9"/>
    <p:sldLayoutId id="2147483925" r:id="rId10"/>
    <p:sldLayoutId id="2147483926" r:id="rId11"/>
    <p:sldLayoutId id="2147483927" r:id="rId12"/>
    <p:sldLayoutId id="2147483928" r:id="rId13"/>
    <p:sldLayoutId id="2147483929" r:id="rId14"/>
    <p:sldLayoutId id="2147483930" r:id="rId15"/>
    <p:sldLayoutId id="2147483931" r:id="rId16"/>
    <p:sldLayoutId id="2147483932" r:id="rId17"/>
    <p:sldLayoutId id="2147483933" r:id="rId18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30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34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96AF-C613-4167-8622-B2DDC74D8FF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7"/>
    <p:sldLayoutId id="2147483936" r:id="rId8"/>
    <p:sldLayoutId id="2147483937" r:id="rId9"/>
    <p:sldLayoutId id="2147483938" r:id="rId10"/>
    <p:sldLayoutId id="2147483939" r:id="rId11"/>
    <p:sldLayoutId id="2147483940" r:id="rId12"/>
    <p:sldLayoutId id="2147483941" r:id="rId13"/>
    <p:sldLayoutId id="2147483942" r:id="rId14"/>
    <p:sldLayoutId id="2147483943" r:id="rId15"/>
    <p:sldLayoutId id="2147483944" r:id="rId16"/>
    <p:sldLayoutId id="2147483945" r:id="rId17"/>
    <p:sldLayoutId id="2147483946" r:id="rId18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384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421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9525-B21C-4186-953C-53AB21D3889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7"/>
    <p:sldLayoutId id="2147483949" r:id="rId8"/>
    <p:sldLayoutId id="2147483950" r:id="rId9"/>
    <p:sldLayoutId id="2147483951" r:id="rId10"/>
    <p:sldLayoutId id="2147483952" r:id="rId11"/>
    <p:sldLayoutId id="2147483953" r:id="rId12"/>
    <p:sldLayoutId id="2147483954" r:id="rId13"/>
    <p:sldLayoutId id="2147483955" r:id="rId14"/>
    <p:sldLayoutId id="2147483956" r:id="rId15"/>
    <p:sldLayoutId id="2147483957" r:id="rId16"/>
    <p:sldLayoutId id="2147483958" r:id="rId17"/>
    <p:sldLayoutId id="2147483959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0460-519C-4762-8C3A-3FB2E530BF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0530-67F7-450F-B8D4-A8A2A57597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0D0C-2DAE-4177-B8FE-E62FE3D468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30B7-2C24-4F9C-AC31-4D88F9E6A8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456C-BB6F-4796-9A69-CF1ABDA7A0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B94D-5970-43B5-9F60-9122B1C2C6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B543-D581-4942-8E8B-41DC2C50BB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slide" Target="slide3.xml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" Target="slide3.xml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gif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gif"/><Relationship Id="rId3" Type="http://schemas.openxmlformats.org/officeDocument/2006/relationships/image" Target="../media/image39.gif"/><Relationship Id="rId4" Type="http://schemas.openxmlformats.org/officeDocument/2006/relationships/image" Target="../media/image39.gif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2.xml"/><Relationship Id="rId12" Type="http://schemas.openxmlformats.org/officeDocument/2006/relationships/slide" Target="slide14.xml"/><Relationship Id="rId13" Type="http://schemas.openxmlformats.org/officeDocument/2006/relationships/slide" Target="slide18.xml"/><Relationship Id="rId14" Type="http://schemas.openxmlformats.org/officeDocument/2006/relationships/slide" Target="slide19.xml"/><Relationship Id="rId15" Type="http://schemas.openxmlformats.org/officeDocument/2006/relationships/image" Target="../media/image7.gif"/><Relationship Id="rId16" Type="http://schemas.openxmlformats.org/officeDocument/2006/relationships/slideLayout" Target="../slideLayouts/slideLayout169.xml"/><Relationship Id="rId1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" Target="slide3.xml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" Target="slide3.xml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" Target="slide3.xml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slide" Target="slide3.xml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" Target="slide3.xml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6.gif"/><Relationship Id="rId4" Type="http://schemas.openxmlformats.org/officeDocument/2006/relationships/slide" Target="slide3.xml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WordArt 7"/>
          <p:cNvSpPr txBox="1"/>
          <p:nvPr/>
        </p:nvSpPr>
        <p:spPr>
          <a:xfrm>
            <a:off x="1835280" y="817560"/>
            <a:ext cx="5976720" cy="208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ворческая работа</a:t>
            </a:r>
            <a:endParaRPr b="1" lang="en-US" sz="4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2" name="WordArt 9"/>
          <p:cNvSpPr txBox="1"/>
          <p:nvPr/>
        </p:nvSpPr>
        <p:spPr>
          <a:xfrm>
            <a:off x="1187280" y="2082960"/>
            <a:ext cx="6840720" cy="19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Основы информатики».</a:t>
            </a:r>
            <a:endParaRPr b="1" lang="en-US" sz="2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3" name="Text Box 13"/>
          <p:cNvSpPr/>
          <p:nvPr/>
        </p:nvSpPr>
        <p:spPr>
          <a:xfrm>
            <a:off x="250920" y="3952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МОУ «Большеберезниковская средняя общеобразовательная школа №1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Text Box 14"/>
          <p:cNvSpPr/>
          <p:nvPr/>
        </p:nvSpPr>
        <p:spPr>
          <a:xfrm>
            <a:off x="3924360" y="4121280"/>
            <a:ext cx="4968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Comic Sans MS"/>
              </a:rPr>
              <a:t>Автор: Забатурина Алё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Comic Sans MS"/>
              </a:rPr>
              <a:t>Учитель:Устимкина Л. 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Text Box 15"/>
          <p:cNvSpPr/>
          <p:nvPr/>
        </p:nvSpPr>
        <p:spPr>
          <a:xfrm>
            <a:off x="3059280" y="6091200"/>
            <a:ext cx="25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2007 год</a:t>
            </a:r>
            <a:r>
              <a:rPr b="0" lang="ru-RU" sz="1800" spc="-1" strike="noStrike">
                <a:solidFill>
                  <a:srgbClr val="ff33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WordArt 7"/>
          <p:cNvSpPr txBox="1"/>
          <p:nvPr/>
        </p:nvSpPr>
        <p:spPr>
          <a:xfrm>
            <a:off x="1547640" y="189000"/>
            <a:ext cx="4680000" cy="17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Архитектура ЭВМ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549" name="WordArt 8"/>
          <p:cNvSpPr txBox="1"/>
          <p:nvPr/>
        </p:nvSpPr>
        <p:spPr>
          <a:xfrm>
            <a:off x="468360" y="1916280"/>
            <a:ext cx="42447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рхитектура ЭВМ-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0" name="Text Box 9"/>
          <p:cNvSpPr/>
          <p:nvPr/>
        </p:nvSpPr>
        <p:spPr>
          <a:xfrm>
            <a:off x="1763640" y="2997360"/>
            <a:ext cx="7559640" cy="1008720"/>
          </a:xfrm>
          <a:prstGeom prst="rect">
            <a:avLst/>
          </a:prstGeom>
          <a:solidFill>
            <a:srgbClr val="f8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Это описание устройства и принципов работы компьютера, достаточное для пользователя и программи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WordArt 10"/>
          <p:cNvSpPr txBox="1"/>
          <p:nvPr/>
        </p:nvSpPr>
        <p:spPr>
          <a:xfrm>
            <a:off x="468360" y="4221000"/>
            <a:ext cx="25430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грамма-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2" name="Text Box 11"/>
          <p:cNvSpPr/>
          <p:nvPr/>
        </p:nvSpPr>
        <p:spPr>
          <a:xfrm>
            <a:off x="3492360" y="4149720"/>
            <a:ext cx="5867640" cy="962280"/>
          </a:xfrm>
          <a:prstGeom prst="rect">
            <a:avLst/>
          </a:prstGeom>
          <a:solidFill>
            <a:srgbClr val="f8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1900" spc="-1" strike="noStrike">
                <a:solidFill>
                  <a:srgbClr val="000000"/>
                </a:solidFill>
                <a:latin typeface="Comic Sans MS"/>
              </a:rPr>
              <a:t>Это указание на последовательность действий, которую должен выполнить компьютер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Text Box 12"/>
          <p:cNvSpPr/>
          <p:nvPr/>
        </p:nvSpPr>
        <p:spPr>
          <a:xfrm>
            <a:off x="324000" y="5373720"/>
            <a:ext cx="8569080" cy="1313640"/>
          </a:xfrm>
          <a:prstGeom prst="rect">
            <a:avLst/>
          </a:prstGeom>
          <a:solidFill>
            <a:srgbClr val="f8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В состав компьютера входят: процессор, память, устройство ввода, устройство вывода. У компьютера имеется внутренняя и внешняя память. Внутренняя- оперативная память. Внешняя- долговременная пам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4" name="Picture 13" descr="star71"/>
          <p:cNvPicPr/>
          <p:nvPr/>
        </p:nvPicPr>
        <p:blipFill>
          <a:blip r:embed="rId3"/>
          <a:stretch/>
        </p:blipFill>
        <p:spPr>
          <a:xfrm>
            <a:off x="8238960" y="0"/>
            <a:ext cx="905040" cy="819000"/>
          </a:xfrm>
          <a:prstGeom prst="rect">
            <a:avLst/>
          </a:prstGeom>
          <a:ln w="0">
            <a:noFill/>
          </a:ln>
        </p:spPr>
      </p:pic>
      <p:pic>
        <p:nvPicPr>
          <p:cNvPr id="1555" name="Picture 16" descr="star71"/>
          <p:cNvPicPr/>
          <p:nvPr/>
        </p:nvPicPr>
        <p:blipFill>
          <a:blip r:embed="rId4"/>
          <a:stretch/>
        </p:blipFill>
        <p:spPr>
          <a:xfrm>
            <a:off x="7380360" y="765000"/>
            <a:ext cx="904680" cy="819360"/>
          </a:xfrm>
          <a:prstGeom prst="rect">
            <a:avLst/>
          </a:prstGeom>
          <a:ln w="0">
            <a:noFill/>
          </a:ln>
        </p:spPr>
      </p:pic>
      <p:pic>
        <p:nvPicPr>
          <p:cNvPr id="1556" name="Picture 19" descr="star71"/>
          <p:cNvPicPr/>
          <p:nvPr/>
        </p:nvPicPr>
        <p:blipFill>
          <a:blip r:embed="rId5"/>
          <a:stretch/>
        </p:blipFill>
        <p:spPr>
          <a:xfrm>
            <a:off x="6588000" y="1628640"/>
            <a:ext cx="905040" cy="819360"/>
          </a:xfrm>
          <a:prstGeom prst="rect">
            <a:avLst/>
          </a:prstGeom>
          <a:ln w="0">
            <a:noFill/>
          </a:ln>
        </p:spPr>
      </p:pic>
      <p:sp>
        <p:nvSpPr>
          <p:cNvPr id="1557" name="Text Box 22"/>
          <p:cNvSpPr/>
          <p:nvPr/>
        </p:nvSpPr>
        <p:spPr>
          <a:xfrm>
            <a:off x="5562720" y="64771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2" dur="20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5" dur="20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WordArt 13"/>
          <p:cNvSpPr txBox="1"/>
          <p:nvPr/>
        </p:nvSpPr>
        <p:spPr>
          <a:xfrm>
            <a:off x="2050920" y="549360"/>
            <a:ext cx="4681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Monotype Corsiva"/>
              </a:rPr>
              <a:t>Устройство ПК.</a:t>
            </a:r>
            <a:endParaRPr b="1" lang="en-US" sz="4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560" name="Text Box 14"/>
          <p:cNvSpPr/>
          <p:nvPr/>
        </p:nvSpPr>
        <p:spPr>
          <a:xfrm>
            <a:off x="395280" y="1557360"/>
            <a:ext cx="8353440" cy="5310000"/>
          </a:xfrm>
          <a:prstGeom prst="rect">
            <a:avLst/>
          </a:prstGeom>
          <a:solidFill>
            <a:srgbClr val="f8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mic Sans MS"/>
              </a:rPr>
              <a:t>В состав системного блока входят : микропроцессор, внутренняя память, дисководы, блок питания, контроллеры внешних устройст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mic Sans MS"/>
              </a:rPr>
              <a:t>Все устройство ПК связаны между собой по многопроводной линии, которая называется информационной магистраль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mic Sans MS"/>
              </a:rPr>
              <a:t>Основными техническими характеристиками ПК являются: объем внутренней памяти, тактовая чистота микропроцессора, разрядность микропроцессо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mic Sans MS"/>
              </a:rPr>
              <a:t>Каждое внешнее устройство имеет свой адрес. Передаваемая к нему информация – по шине данных сопровождается адресом устройства – по адресной ши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18"/>
          <p:cNvSpPr/>
          <p:nvPr/>
        </p:nvSpPr>
        <p:spPr>
          <a:xfrm>
            <a:off x="4038480" y="617220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2" dur="20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5" name="Picture 7" descr="Seaside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66" name="WordArt 10"/>
          <p:cNvSpPr txBox="1"/>
          <p:nvPr/>
        </p:nvSpPr>
        <p:spPr>
          <a:xfrm>
            <a:off x="900000" y="189000"/>
            <a:ext cx="727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кстовые файлы и редакторы.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7" name="WordArt 11"/>
          <p:cNvSpPr txBox="1"/>
          <p:nvPr/>
        </p:nvSpPr>
        <p:spPr>
          <a:xfrm>
            <a:off x="468360" y="1484280"/>
            <a:ext cx="3514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кстовый файл-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8" name="Text Box 12"/>
          <p:cNvSpPr/>
          <p:nvPr/>
        </p:nvSpPr>
        <p:spPr>
          <a:xfrm>
            <a:off x="4211640" y="1413000"/>
            <a:ext cx="51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ff00"/>
                </a:solidFill>
                <a:latin typeface="Comic Sans MS"/>
              </a:rPr>
              <a:t>Простейший способ организации данных в компьютере. Он состоит только из кодов таблицы символьной кодировки</a:t>
            </a:r>
            <a:r>
              <a:rPr b="0" lang="ru-RU" sz="2000" spc="-1" strike="noStrike">
                <a:solidFill>
                  <a:srgbClr val="00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WordArt 13"/>
          <p:cNvSpPr txBox="1"/>
          <p:nvPr/>
        </p:nvSpPr>
        <p:spPr>
          <a:xfrm>
            <a:off x="0" y="3357720"/>
            <a:ext cx="4324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кстовый редактор-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0" name="Text Box 14"/>
          <p:cNvSpPr/>
          <p:nvPr/>
        </p:nvSpPr>
        <p:spPr>
          <a:xfrm>
            <a:off x="4643280" y="2852640"/>
            <a:ext cx="4500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ff00"/>
                </a:solidFill>
                <a:latin typeface="Comic Sans MS"/>
              </a:rPr>
              <a:t>Это прикладная программа, позволяющая создать текстовые документы, редактировать их, просматривать содержимое документа на экране, распечатывать документ, изменять формат доку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Text Box 15"/>
          <p:cNvSpPr/>
          <p:nvPr/>
        </p:nvSpPr>
        <p:spPr>
          <a:xfrm>
            <a:off x="0" y="5373720"/>
            <a:ext cx="896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ff00"/>
                </a:solidFill>
                <a:latin typeface="Comic Sans MS"/>
              </a:rPr>
              <a:t>Стандартными компонентами среды ТР являются: рабочее поле, текстовый курсор, строка состояния, меню команд. Текстовый файл разделен на строки. Разделителем является специальные управляющие коды. В конце файла ставится код «Конец файл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Text Box 16"/>
          <p:cNvSpPr/>
          <p:nvPr/>
        </p:nvSpPr>
        <p:spPr>
          <a:xfrm>
            <a:off x="5715000" y="66736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6" name="Picture 4" descr="SKYSONG"/>
          <p:cNvPicPr/>
          <p:nvPr/>
        </p:nvPicPr>
        <p:blipFill>
          <a:blip r:embed="rId1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577" name="WordArt 7"/>
          <p:cNvSpPr txBox="1"/>
          <p:nvPr/>
        </p:nvSpPr>
        <p:spPr>
          <a:xfrm>
            <a:off x="611280" y="333360"/>
            <a:ext cx="5819760" cy="7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ексты в компьютерной памяти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78" name="WordArt 8"/>
          <p:cNvSpPr txBox="1"/>
          <p:nvPr/>
        </p:nvSpPr>
        <p:spPr>
          <a:xfrm>
            <a:off x="539640" y="1700280"/>
            <a:ext cx="381636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Гипертекст-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79" name="Text Box 9"/>
          <p:cNvSpPr/>
          <p:nvPr/>
        </p:nvSpPr>
        <p:spPr>
          <a:xfrm>
            <a:off x="4284720" y="1197000"/>
            <a:ext cx="460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33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99ff33"/>
                </a:solidFill>
                <a:latin typeface="Comic Sans MS"/>
              </a:rPr>
              <a:t>Это способ организации текста, который можно просматривать в последовательности смысловых связей между его отдельными фрагмен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WordArt 10"/>
          <p:cNvSpPr txBox="1"/>
          <p:nvPr/>
        </p:nvSpPr>
        <p:spPr>
          <a:xfrm>
            <a:off x="250920" y="3068640"/>
            <a:ext cx="501012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Таблица кодировки-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81" name="Text Box 11"/>
          <p:cNvSpPr/>
          <p:nvPr/>
        </p:nvSpPr>
        <p:spPr>
          <a:xfrm>
            <a:off x="5219640" y="3068640"/>
            <a:ext cx="421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33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99ff33"/>
                </a:solidFill>
                <a:latin typeface="Comic Sans MS"/>
              </a:rPr>
              <a:t>Таблица в которой всем символам компьютерного алфавита поставлены в соответствие порядковые ном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Text Box 12"/>
          <p:cNvSpPr/>
          <p:nvPr/>
        </p:nvSpPr>
        <p:spPr>
          <a:xfrm>
            <a:off x="250920" y="5013360"/>
            <a:ext cx="932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33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99ff33"/>
                </a:solidFill>
                <a:latin typeface="Comic Sans MS"/>
              </a:rPr>
              <a:t>Международным стандартом является код </a:t>
            </a:r>
            <a:r>
              <a:rPr b="1" lang="en-US" sz="2000" spc="-1" strike="noStrike">
                <a:solidFill>
                  <a:srgbClr val="99ff33"/>
                </a:solidFill>
                <a:latin typeface="Comic Sans MS"/>
              </a:rPr>
              <a:t> ASCII</a:t>
            </a:r>
            <a:r>
              <a:rPr b="1" lang="ru-RU" sz="2000" spc="-1" strike="noStrike">
                <a:solidFill>
                  <a:srgbClr val="99ff33"/>
                </a:solidFill>
                <a:latin typeface="Comic Sans MS"/>
              </a:rPr>
              <a:t>- американский  стандартный код информационного  обмена. Каждый символ текста кодируется восьмиразрядным двоичным кодом. Для представления текстов в компьютере используется алфавит мощностью 256 симво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3" name="Picture 13" descr="book10"/>
          <p:cNvPicPr/>
          <p:nvPr/>
        </p:nvPicPr>
        <p:blipFill>
          <a:blip r:embed="rId2"/>
          <a:stretch/>
        </p:blipFill>
        <p:spPr>
          <a:xfrm>
            <a:off x="7451640" y="189000"/>
            <a:ext cx="1692360" cy="718920"/>
          </a:xfrm>
          <a:prstGeom prst="rect">
            <a:avLst/>
          </a:prstGeom>
          <a:ln w="0">
            <a:noFill/>
          </a:ln>
        </p:spPr>
      </p:pic>
      <p:sp>
        <p:nvSpPr>
          <p:cNvPr id="1584" name="Text Box 16"/>
          <p:cNvSpPr/>
          <p:nvPr/>
        </p:nvSpPr>
        <p:spPr>
          <a:xfrm>
            <a:off x="5029200" y="62485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66"/>
                </a:solidFill>
                <a:latin typeface="Arial"/>
              </a:rPr>
              <a:t>Вернуть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cc33"/>
                </a:solidFill>
                <a:latin typeface="Arial"/>
              </a:rPr>
              <a:t>к п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4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4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4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4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4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4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" dur="10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8" name="Picture 4" descr="Sunset"/>
          <p:cNvPicPr/>
          <p:nvPr/>
        </p:nvPicPr>
        <p:blipFill>
          <a:blip r:embed="rId1"/>
          <a:stretch/>
        </p:blipFill>
        <p:spPr>
          <a:xfrm>
            <a:off x="-1332000" y="-674640"/>
            <a:ext cx="11331720" cy="8229600"/>
          </a:xfrm>
          <a:prstGeom prst="rect">
            <a:avLst/>
          </a:prstGeom>
          <a:ln w="0">
            <a:noFill/>
          </a:ln>
        </p:spPr>
      </p:pic>
      <p:sp>
        <p:nvSpPr>
          <p:cNvPr id="1589" name="WordArt 7"/>
          <p:cNvSpPr txBox="1"/>
          <p:nvPr/>
        </p:nvSpPr>
        <p:spPr>
          <a:xfrm>
            <a:off x="900000" y="0"/>
            <a:ext cx="6696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Компьютерная графика.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1590" name="WordArt 8"/>
          <p:cNvSpPr txBox="1"/>
          <p:nvPr/>
        </p:nvSpPr>
        <p:spPr>
          <a:xfrm>
            <a:off x="0" y="184464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Unicode MS"/>
              </a:rPr>
              <a:t>Компьютерная графика-</a:t>
            </a:r>
            <a:endParaRPr b="1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1591" name="Text Box 9"/>
          <p:cNvSpPr/>
          <p:nvPr/>
        </p:nvSpPr>
        <p:spPr>
          <a:xfrm>
            <a:off x="3851280" y="1700280"/>
            <a:ext cx="5545080" cy="109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ff"/>
                </a:solidFill>
                <a:latin typeface="Comic Sans MS"/>
              </a:rPr>
              <a:t>  </a:t>
            </a:r>
            <a:r>
              <a:rPr b="1" lang="ru-RU" sz="2200" spc="-1" strike="noStrike">
                <a:solidFill>
                  <a:srgbClr val="3366ff"/>
                </a:solidFill>
                <a:latin typeface="Comic Sans MS"/>
              </a:rPr>
              <a:t>Раздел информации, занимающийся проблемами «рисования» на ЭВ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WordArt 10"/>
          <p:cNvSpPr txBox="1"/>
          <p:nvPr/>
        </p:nvSpPr>
        <p:spPr>
          <a:xfrm>
            <a:off x="179280" y="2924280"/>
            <a:ext cx="2737080" cy="81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Monotype Corsiva"/>
              </a:rPr>
              <a:t>Мультимедия-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1593" name="Text Box 11"/>
          <p:cNvSpPr/>
          <p:nvPr/>
        </p:nvSpPr>
        <p:spPr>
          <a:xfrm>
            <a:off x="2771640" y="2924280"/>
            <a:ext cx="5977080" cy="1434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Comic Sans MS"/>
              </a:rPr>
              <a:t>  </a:t>
            </a:r>
            <a:r>
              <a:rPr b="1" lang="ru-RU" sz="2200" spc="-1" strike="noStrike">
                <a:solidFill>
                  <a:srgbClr val="ff0066"/>
                </a:solidFill>
                <a:latin typeface="Comic Sans MS"/>
              </a:rPr>
              <a:t>Это объединенный вывод на компьютере текста, статических изображений, видео, анимации и зву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Text Box 12"/>
          <p:cNvSpPr/>
          <p:nvPr/>
        </p:nvSpPr>
        <p:spPr>
          <a:xfrm>
            <a:off x="0" y="4221000"/>
            <a:ext cx="9650520" cy="2440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99"/>
                </a:solidFill>
                <a:latin typeface="Comic Sans MS"/>
              </a:rPr>
              <a:t>  </a:t>
            </a:r>
            <a:r>
              <a:rPr b="1" lang="ru-RU" sz="2200" spc="-1" strike="noStrike">
                <a:solidFill>
                  <a:srgbClr val="cc0099"/>
                </a:solidFill>
                <a:latin typeface="Comic Sans MS"/>
              </a:rPr>
              <a:t>Устройства вывода графических изображений на компьютере: графопостроитель,  графический дисплей, принтер. Для получения графических изображений требуется специальное программное обеспечение- графические пакеты. Основные области применения компьютерной графики: научная графика, деловая графика, иллюстративная графика, художественная и рекламная граф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5" name="Picture 13" descr="butterfly23"/>
          <p:cNvPicPr/>
          <p:nvPr/>
        </p:nvPicPr>
        <p:blipFill>
          <a:blip r:embed="rId4"/>
          <a:stretch/>
        </p:blipFill>
        <p:spPr>
          <a:xfrm>
            <a:off x="8062920" y="333360"/>
            <a:ext cx="1081080" cy="647640"/>
          </a:xfrm>
          <a:prstGeom prst="rect">
            <a:avLst/>
          </a:prstGeom>
          <a:ln w="0">
            <a:noFill/>
          </a:ln>
        </p:spPr>
      </p:pic>
      <p:sp>
        <p:nvSpPr>
          <p:cNvPr id="1596" name="Text Box 16"/>
          <p:cNvSpPr/>
          <p:nvPr/>
        </p:nvSpPr>
        <p:spPr>
          <a:xfrm>
            <a:off x="533520" y="15238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cc"/>
                </a:solidFill>
                <a:latin typeface="Arial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9" name="Picture 4" descr="COF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0" name="WordArt 8"/>
          <p:cNvSpPr txBox="1"/>
          <p:nvPr/>
        </p:nvSpPr>
        <p:spPr>
          <a:xfrm>
            <a:off x="971640" y="404640"/>
            <a:ext cx="727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редства компьютерной графики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1" name="Text Box 9"/>
          <p:cNvSpPr/>
          <p:nvPr/>
        </p:nvSpPr>
        <p:spPr>
          <a:xfrm>
            <a:off x="971640" y="1127160"/>
            <a:ext cx="7777080" cy="5165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Система вывода изображения на экран включает в себя дисплей и видеоадаптер. Изображение на дисплее получается из совокупности множества светящихся точек - видеопикселе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иксели на экране образуют сетку из горизонтальных строк и вертикальных столбцов, которая носит название «растр». Размер графической сетки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 * N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определяет разрешающую способность экрана, от которой зависит качество изображения. Луч электронной пушки периодически сканирует строки растра с высокой частотой, воспроизводя изображение. На черно-белых дисплеях пиксель может иметь только два цвета. Электронная пушка испускает один луч.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Видеоадаптер состоит из видеопамяти и дисплейного процессора. В видеопамяти хранится двоичный код изображения, выводимого на экран. Для ввода изображения в компьютер используются сканеры, цифровые фотоаппараты, цифровые видеокамер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2" name="Picture 10" descr="star15"/>
          <p:cNvPicPr/>
          <p:nvPr/>
        </p:nvPicPr>
        <p:blipFill>
          <a:blip r:embed="rId2"/>
          <a:stretch/>
        </p:blipFill>
        <p:spPr>
          <a:xfrm>
            <a:off x="8101080" y="1125360"/>
            <a:ext cx="711000" cy="581040"/>
          </a:xfrm>
          <a:prstGeom prst="rect">
            <a:avLst/>
          </a:prstGeom>
          <a:ln w="0">
            <a:noFill/>
          </a:ln>
        </p:spPr>
      </p:pic>
      <p:pic>
        <p:nvPicPr>
          <p:cNvPr id="1603" name="Picture 13" descr="star15"/>
          <p:cNvPicPr/>
          <p:nvPr/>
        </p:nvPicPr>
        <p:blipFill>
          <a:blip r:embed="rId3"/>
          <a:stretch/>
        </p:blipFill>
        <p:spPr>
          <a:xfrm>
            <a:off x="179280" y="6021360"/>
            <a:ext cx="1008000" cy="654120"/>
          </a:xfrm>
          <a:prstGeom prst="rect">
            <a:avLst/>
          </a:prstGeom>
          <a:ln w="0">
            <a:noFill/>
          </a:ln>
        </p:spPr>
      </p:pic>
      <p:pic>
        <p:nvPicPr>
          <p:cNvPr id="1604" name="Picture 16" descr="star15"/>
          <p:cNvPicPr/>
          <p:nvPr/>
        </p:nvPicPr>
        <p:blipFill>
          <a:blip r:embed="rId4"/>
          <a:stretch/>
        </p:blipFill>
        <p:spPr>
          <a:xfrm>
            <a:off x="7885080" y="6021360"/>
            <a:ext cx="1258920" cy="836640"/>
          </a:xfrm>
          <a:prstGeom prst="rect">
            <a:avLst/>
          </a:prstGeom>
          <a:ln w="0">
            <a:noFill/>
          </a:ln>
        </p:spPr>
      </p:pic>
      <p:pic>
        <p:nvPicPr>
          <p:cNvPr id="1605" name="Picture 19" descr="star15"/>
          <p:cNvPicPr/>
          <p:nvPr/>
        </p:nvPicPr>
        <p:blipFill>
          <a:blip r:embed="rId5"/>
          <a:stretch/>
        </p:blipFill>
        <p:spPr>
          <a:xfrm>
            <a:off x="0" y="1700280"/>
            <a:ext cx="971640" cy="649080"/>
          </a:xfrm>
          <a:prstGeom prst="rect">
            <a:avLst/>
          </a:prstGeom>
          <a:ln w="0">
            <a:noFill/>
          </a:ln>
        </p:spPr>
      </p:pic>
      <p:pic>
        <p:nvPicPr>
          <p:cNvPr id="1606" name="Picture 22" descr="star15"/>
          <p:cNvPicPr/>
          <p:nvPr/>
        </p:nvPicPr>
        <p:blipFill>
          <a:blip r:embed="rId6"/>
          <a:stretch/>
        </p:blipFill>
        <p:spPr>
          <a:xfrm>
            <a:off x="4284720" y="1989000"/>
            <a:ext cx="1079280" cy="509760"/>
          </a:xfrm>
          <a:prstGeom prst="rect">
            <a:avLst/>
          </a:prstGeom>
          <a:ln w="0">
            <a:noFill/>
          </a:ln>
        </p:spPr>
      </p:pic>
      <p:sp>
        <p:nvSpPr>
          <p:cNvPr id="1607" name="Text Box 25"/>
          <p:cNvSpPr/>
          <p:nvPr/>
        </p:nvSpPr>
        <p:spPr>
          <a:xfrm>
            <a:off x="4267080" y="647712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7" dur="2000"/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0" dur="2000"/>
                                        <p:tgtEl>
                                          <p:spTgt spid="1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0" name="Picture 7" descr="pic1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1" name="WordArt 10"/>
          <p:cNvSpPr txBox="1"/>
          <p:nvPr/>
        </p:nvSpPr>
        <p:spPr>
          <a:xfrm>
            <a:off x="1547640" y="260280"/>
            <a:ext cx="5256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блицы и модели.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12" name="WordArt 11"/>
          <p:cNvSpPr txBox="1"/>
          <p:nvPr/>
        </p:nvSpPr>
        <p:spPr>
          <a:xfrm>
            <a:off x="755640" y="1916280"/>
            <a:ext cx="1714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дель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3" name="Text Box 12"/>
          <p:cNvSpPr/>
          <p:nvPr/>
        </p:nvSpPr>
        <p:spPr>
          <a:xfrm>
            <a:off x="3059280" y="1700280"/>
            <a:ext cx="47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это некоторое упрощенное подобие реального объ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Text Box 13"/>
          <p:cNvSpPr/>
          <p:nvPr/>
        </p:nvSpPr>
        <p:spPr>
          <a:xfrm>
            <a:off x="826920" y="2924280"/>
            <a:ext cx="7993080" cy="5045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Monotype Corsiva"/>
              </a:rPr>
              <a:t>  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Monotype Corsiva"/>
              </a:rPr>
              <a:t>Модели бывают материальными и информационными. Информационная модель представляет собой описание моделированного объекта. Прежде чем строить информационную модель, производится системный анализ объекта моделирования. Задача системного анализа- выделить существенные части, свойства, связи моделируемой системы, определить её структуру. Наглядным способом представления информационных моделей являются графические изображения: карты, чертежи, схемы,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 граф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5" name="Picture 14" descr="BULLET4"/>
          <p:cNvPicPr/>
          <p:nvPr/>
        </p:nvPicPr>
        <p:blipFill>
          <a:blip r:embed="rId4"/>
          <a:stretch/>
        </p:blipFill>
        <p:spPr>
          <a:xfrm>
            <a:off x="7920000" y="0"/>
            <a:ext cx="1224000" cy="1008000"/>
          </a:xfrm>
          <a:prstGeom prst="rect">
            <a:avLst/>
          </a:prstGeom>
          <a:ln w="0">
            <a:noFill/>
          </a:ln>
        </p:spPr>
      </p:pic>
      <p:pic>
        <p:nvPicPr>
          <p:cNvPr id="1616" name="Picture 17" descr="BULLET4"/>
          <p:cNvPicPr/>
          <p:nvPr/>
        </p:nvPicPr>
        <p:blipFill>
          <a:blip r:embed="rId5"/>
          <a:stretch/>
        </p:blipFill>
        <p:spPr>
          <a:xfrm>
            <a:off x="6948360" y="1268280"/>
            <a:ext cx="1295640" cy="720720"/>
          </a:xfrm>
          <a:prstGeom prst="rect">
            <a:avLst/>
          </a:prstGeom>
          <a:ln w="0">
            <a:noFill/>
          </a:ln>
        </p:spPr>
      </p:pic>
      <p:sp>
        <p:nvSpPr>
          <p:cNvPr id="1617" name="Text Box 20"/>
          <p:cNvSpPr/>
          <p:nvPr/>
        </p:nvSpPr>
        <p:spPr>
          <a:xfrm>
            <a:off x="5334120" y="62485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7" dur="20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0" dur="20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4" dur="20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8" dur="20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0" name="Picture 4" descr="BIG 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1" name="WordArt 7"/>
          <p:cNvSpPr txBox="1"/>
          <p:nvPr/>
        </p:nvSpPr>
        <p:spPr>
          <a:xfrm>
            <a:off x="1692360" y="189000"/>
            <a:ext cx="5543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Графический редактор.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22" name="WordArt 8"/>
          <p:cNvSpPr txBox="1"/>
          <p:nvPr/>
        </p:nvSpPr>
        <p:spPr>
          <a:xfrm>
            <a:off x="684360" y="1844640"/>
            <a:ext cx="540036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рафический редактор-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23" name="Text Box 9"/>
          <p:cNvSpPr/>
          <p:nvPr/>
        </p:nvSpPr>
        <p:spPr>
          <a:xfrm>
            <a:off x="1979640" y="2637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ru-RU" sz="1800" spc="-1" strike="noStrike">
                <a:solidFill>
                  <a:srgbClr val="ffff00"/>
                </a:solidFill>
                <a:latin typeface="Comic Sans MS"/>
              </a:rPr>
              <a:t>прикладная программа для получения рисованных изображ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Text Box 10"/>
          <p:cNvSpPr/>
          <p:nvPr/>
        </p:nvSpPr>
        <p:spPr>
          <a:xfrm>
            <a:off x="539640" y="3716280"/>
            <a:ext cx="835344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Рисунок, создаваемый средствами графического редактора, формируется на экране, а затем может быть сохранен в фай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Среда любого ГР содержит рабочее поле, меню инструментов, цветов, меню команд для работы с файлами, печати рисунка и других операций. ГР позволяет включать в рисунок тексты, используя буквы разных размеров и шриф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5" name="Picture 11" descr="V25ANI"/>
          <p:cNvPicPr/>
          <p:nvPr/>
        </p:nvPicPr>
        <p:blipFill>
          <a:blip r:embed="rId2"/>
          <a:stretch/>
        </p:blipFill>
        <p:spPr>
          <a:xfrm>
            <a:off x="7596360" y="836640"/>
            <a:ext cx="1223640" cy="107964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14" descr="V25ANI"/>
          <p:cNvPicPr/>
          <p:nvPr/>
        </p:nvPicPr>
        <p:blipFill>
          <a:blip r:embed="rId3"/>
          <a:stretch/>
        </p:blipFill>
        <p:spPr>
          <a:xfrm>
            <a:off x="179280" y="2492280"/>
            <a:ext cx="1368360" cy="1152720"/>
          </a:xfrm>
          <a:prstGeom prst="rect">
            <a:avLst/>
          </a:prstGeom>
          <a:ln w="0">
            <a:noFill/>
          </a:ln>
        </p:spPr>
      </p:pic>
      <p:sp>
        <p:nvSpPr>
          <p:cNvPr id="1627" name="Text Box 17"/>
          <p:cNvSpPr/>
          <p:nvPr/>
        </p:nvSpPr>
        <p:spPr>
          <a:xfrm>
            <a:off x="4572000" y="61722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5" dur="20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8" dur="20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2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0" name="Picture 4" descr="whitemagic"/>
          <p:cNvPicPr/>
          <p:nvPr/>
        </p:nvPicPr>
        <p:blipFill>
          <a:blip r:embed="rId1"/>
          <a:stretch/>
        </p:blipFill>
        <p:spPr>
          <a:xfrm>
            <a:off x="-396720" y="-674640"/>
            <a:ext cx="10972800" cy="8229600"/>
          </a:xfrm>
          <a:prstGeom prst="rect">
            <a:avLst/>
          </a:prstGeom>
          <a:ln w="0">
            <a:noFill/>
          </a:ln>
        </p:spPr>
      </p:pic>
      <p:sp>
        <p:nvSpPr>
          <p:cNvPr id="1631" name="WordArt 8"/>
          <p:cNvSpPr txBox="1"/>
          <p:nvPr/>
        </p:nvSpPr>
        <p:spPr>
          <a:xfrm>
            <a:off x="1187280" y="0"/>
            <a:ext cx="7410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стройство компьютерной сети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32" name="WordArt 9"/>
          <p:cNvSpPr txBox="1"/>
          <p:nvPr/>
        </p:nvSpPr>
        <p:spPr>
          <a:xfrm>
            <a:off x="324000" y="1413000"/>
            <a:ext cx="49528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Unicode MS"/>
              </a:rPr>
              <a:t>Компьютерная сеть-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1633" name="Text Box 10"/>
          <p:cNvSpPr/>
          <p:nvPr/>
        </p:nvSpPr>
        <p:spPr>
          <a:xfrm>
            <a:off x="5508720" y="112536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6600"/>
                </a:solidFill>
                <a:latin typeface="Comic Sans MS"/>
              </a:rPr>
              <a:t>Система компьютеров, связанных каналами передачи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Text Box 11"/>
          <p:cNvSpPr/>
          <p:nvPr/>
        </p:nvSpPr>
        <p:spPr>
          <a:xfrm>
            <a:off x="468360" y="2492280"/>
            <a:ext cx="8928000" cy="375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66cc"/>
                </a:solidFill>
                <a:latin typeface="Comic Sans MS"/>
              </a:rPr>
              <a:t>Компьютерные сети бывают локальными и глобальными. В одноранговых локальных сетях все компьютеры равноправны. Локальная сеть с выделенным компьютером включает в себя сервер и множество рабочих станций. Сервер используется как хранилище общих информационных ресурсов, а так же содержит некоторые технические устройства общего доступа. Глобальная сеть- это система связанных между собой локальных сетей и компьютеров отдельных пользователей. Персональные компьютеры пользователей подсоединяются к узлам глобальной сети. Существуют сети региональные, отраслевые. В настоящее время большинство из них объединено в мировую систему –</a:t>
            </a:r>
            <a:r>
              <a:rPr b="1" lang="en-US" sz="2000" spc="-1" strike="noStrike">
                <a:solidFill>
                  <a:srgbClr val="ff66cc"/>
                </a:solidFill>
                <a:latin typeface="Comic Sans MS"/>
              </a:rPr>
              <a:t>Internet</a:t>
            </a:r>
            <a:r>
              <a:rPr b="1" lang="ru-RU" sz="2000" spc="-1" strike="noStrike">
                <a:solidFill>
                  <a:srgbClr val="ff66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Text Box 16"/>
          <p:cNvSpPr/>
          <p:nvPr/>
        </p:nvSpPr>
        <p:spPr>
          <a:xfrm>
            <a:off x="5334120" y="58672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cc"/>
                </a:solidFill>
                <a:latin typeface="Arial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5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WordArt 7"/>
          <p:cNvSpPr txBox="1"/>
          <p:nvPr/>
        </p:nvSpPr>
        <p:spPr>
          <a:xfrm>
            <a:off x="1547640" y="0"/>
            <a:ext cx="554544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Электронная почта.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38" name="WordArt 8"/>
          <p:cNvSpPr txBox="1"/>
          <p:nvPr/>
        </p:nvSpPr>
        <p:spPr>
          <a:xfrm>
            <a:off x="611280" y="1341360"/>
            <a:ext cx="3771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ктронная почта-</a:t>
            </a:r>
            <a:endParaRPr b="1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39" name="Text Box 9"/>
          <p:cNvSpPr/>
          <p:nvPr/>
        </p:nvSpPr>
        <p:spPr>
          <a:xfrm>
            <a:off x="4462560" y="1600200"/>
            <a:ext cx="46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обмен письмами в компьютерных сет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WordArt 10"/>
          <p:cNvSpPr txBox="1"/>
          <p:nvPr/>
        </p:nvSpPr>
        <p:spPr>
          <a:xfrm>
            <a:off x="0" y="2637000"/>
            <a:ext cx="3591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чтовый ящик-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41" name="Text Box 11"/>
          <p:cNvSpPr/>
          <p:nvPr/>
        </p:nvSpPr>
        <p:spPr>
          <a:xfrm>
            <a:off x="3581280" y="2971800"/>
            <a:ext cx="556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Это раздел внешней памяти почтового сервера, отделенный для абон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WordArt 12"/>
          <p:cNvSpPr txBox="1"/>
          <p:nvPr/>
        </p:nvSpPr>
        <p:spPr>
          <a:xfrm>
            <a:off x="395280" y="3860640"/>
            <a:ext cx="4952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ктронное письмо-</a:t>
            </a:r>
            <a:endParaRPr b="1" lang="en-US" sz="1800" spc="1" strike="noStrike">
              <a:ln w="12600">
                <a:solidFill>
                  <a:srgbClr val="ff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43" name="Text Box 13"/>
          <p:cNvSpPr/>
          <p:nvPr/>
        </p:nvSpPr>
        <p:spPr>
          <a:xfrm>
            <a:off x="3814920" y="4437000"/>
            <a:ext cx="532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это текстовый файл, содержащий конверт с адресом получателя и текст пись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WordArt 14"/>
          <p:cNvSpPr txBox="1"/>
          <p:nvPr/>
        </p:nvSpPr>
        <p:spPr>
          <a:xfrm>
            <a:off x="324000" y="5734080"/>
            <a:ext cx="3895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леконференция-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45" name="Text Box 15"/>
          <p:cNvSpPr/>
          <p:nvPr/>
        </p:nvSpPr>
        <p:spPr>
          <a:xfrm>
            <a:off x="4211640" y="5516640"/>
            <a:ext cx="493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это система обмена информацией на определенную тему между абонентами с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6" name="Picture 16" descr="lines18"/>
          <p:cNvPicPr/>
          <p:nvPr/>
        </p:nvPicPr>
        <p:blipFill>
          <a:blip r:embed="rId2"/>
          <a:stretch/>
        </p:blipFill>
        <p:spPr>
          <a:xfrm>
            <a:off x="5940360" y="6237360"/>
            <a:ext cx="3672000" cy="811080"/>
          </a:xfrm>
          <a:prstGeom prst="rect">
            <a:avLst/>
          </a:prstGeom>
          <a:ln w="0">
            <a:noFill/>
          </a:ln>
        </p:spPr>
      </p:pic>
      <p:sp>
        <p:nvSpPr>
          <p:cNvPr id="1647" name="Text Box 22"/>
          <p:cNvSpPr/>
          <p:nvPr/>
        </p:nvSpPr>
        <p:spPr>
          <a:xfrm>
            <a:off x="0" y="3352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0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0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9" dur="2000"/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3" dur="2000"/>
                                        <p:tgtEl>
                                          <p:spTgt spid="1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8" name="Picture 4" descr="1 (4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9" name="WordArt 7"/>
          <p:cNvSpPr txBox="1"/>
          <p:nvPr/>
        </p:nvSpPr>
        <p:spPr>
          <a:xfrm>
            <a:off x="3419640" y="404640"/>
            <a:ext cx="1873080" cy="7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Цели: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80" name="Text Box 8"/>
          <p:cNvSpPr/>
          <p:nvPr/>
        </p:nvSpPr>
        <p:spPr>
          <a:xfrm>
            <a:off x="826920" y="2133720"/>
            <a:ext cx="7921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lang="ru-RU" sz="3600" spc="-1" strike="noStrike">
                <a:solidFill>
                  <a:srgbClr val="ff33cc"/>
                </a:solidFill>
                <a:latin typeface="Comic Sans MS"/>
              </a:rPr>
              <a:t>Более подробно изучить основы информатики, так как в ней выступают одновременно инструмент для работы и объект изучения и совершенствования – информац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WordArt 8"/>
          <p:cNvSpPr txBox="1"/>
          <p:nvPr/>
        </p:nvSpPr>
        <p:spPr>
          <a:xfrm>
            <a:off x="2340000" y="549360"/>
            <a:ext cx="4371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Всемирная паутина"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0" name="Text Box 9"/>
          <p:cNvSpPr/>
          <p:nvPr/>
        </p:nvSpPr>
        <p:spPr>
          <a:xfrm>
            <a:off x="539640" y="2492280"/>
            <a:ext cx="8280360" cy="316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   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Гипермедиа- система гиперсвязей между мультимедиа-докумен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Киберпространство-это совокупность мировых систем телекоммуникаций и циркулирующей в них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Web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 страница- отдельный документ </a:t>
            </a: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W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 </a:t>
            </a: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W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 </a:t>
            </a: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W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Web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 сервер- компьютер в сети Интернет, хранящий </a:t>
            </a: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web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 страницы и соответствующее программное обеспеч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Internet-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всемирная глобальная компьютерная с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1" name="Picture 10" descr="flowers28"/>
          <p:cNvPicPr/>
          <p:nvPr/>
        </p:nvPicPr>
        <p:blipFill>
          <a:blip r:embed="rId2"/>
          <a:stretch/>
        </p:blipFill>
        <p:spPr>
          <a:xfrm>
            <a:off x="0" y="0"/>
            <a:ext cx="1187280" cy="1557360"/>
          </a:xfrm>
          <a:prstGeom prst="rect">
            <a:avLst/>
          </a:prstGeom>
          <a:ln w="0">
            <a:noFill/>
          </a:ln>
        </p:spPr>
      </p:pic>
      <p:pic>
        <p:nvPicPr>
          <p:cNvPr id="1652" name="Picture 13" descr="flowers28"/>
          <p:cNvPicPr/>
          <p:nvPr/>
        </p:nvPicPr>
        <p:blipFill>
          <a:blip r:embed="rId3"/>
          <a:stretch/>
        </p:blipFill>
        <p:spPr>
          <a:xfrm>
            <a:off x="7667640" y="5300640"/>
            <a:ext cx="1476360" cy="1557360"/>
          </a:xfrm>
          <a:prstGeom prst="rect">
            <a:avLst/>
          </a:prstGeom>
          <a:ln w="0">
            <a:noFill/>
          </a:ln>
        </p:spPr>
      </p:pic>
      <p:sp>
        <p:nvSpPr>
          <p:cNvPr id="1653" name="Text Box 16"/>
          <p:cNvSpPr/>
          <p:nvPr/>
        </p:nvSpPr>
        <p:spPr>
          <a:xfrm>
            <a:off x="4800600" y="5867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99"/>
                </a:solidFill>
                <a:latin typeface="Arial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0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7" dur="2000"/>
                                        <p:tgtEl>
                                          <p:spTgt spid="1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0" dur="2000"/>
                                        <p:tgtEl>
                                          <p:spTgt spid="1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3" dur="2000"/>
                                        <p:tgtEl>
                                          <p:spTgt spid="1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6" dur="2000"/>
                                        <p:tgtEl>
                                          <p:spTgt spid="1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9" dur="2000"/>
                                        <p:tgtEl>
                                          <p:spTgt spid="1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6" name="Picture 7" descr="daylight"/>
          <p:cNvPicPr/>
          <p:nvPr/>
        </p:nvPicPr>
        <p:blipFill>
          <a:blip r:embed="rId1"/>
          <a:stretch/>
        </p:blipFill>
        <p:spPr>
          <a:xfrm>
            <a:off x="0" y="0"/>
            <a:ext cx="9394920" cy="6858000"/>
          </a:xfrm>
          <a:prstGeom prst="rect">
            <a:avLst/>
          </a:prstGeom>
          <a:ln w="0">
            <a:noFill/>
          </a:ln>
        </p:spPr>
      </p:pic>
      <p:sp>
        <p:nvSpPr>
          <p:cNvPr id="1657" name="WordArt 10"/>
          <p:cNvSpPr txBox="1"/>
          <p:nvPr/>
        </p:nvSpPr>
        <p:spPr>
          <a:xfrm>
            <a:off x="2700360" y="476280"/>
            <a:ext cx="367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ключение.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8" name="Text Box 11"/>
          <p:cNvSpPr/>
          <p:nvPr/>
        </p:nvSpPr>
        <p:spPr>
          <a:xfrm>
            <a:off x="1116000" y="227664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ff00"/>
                </a:solidFill>
                <a:uFillTx/>
                <a:latin typeface="Comic Sans MS"/>
              </a:rPr>
              <a:t>  </a:t>
            </a:r>
            <a:r>
              <a:rPr b="1" lang="ru-RU" sz="2400" spc="-1" strike="noStrike" u="sng">
                <a:solidFill>
                  <a:srgbClr val="00ff00"/>
                </a:solidFill>
                <a:uFillTx/>
                <a:latin typeface="Comic Sans MS"/>
              </a:rPr>
              <a:t>Изучение информатики необходимо в наше время. Так как информатика это наука будущего. В жизни современного человека информация играет не меньшую роль, чем вещество и энерг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9" name="Picture 28" descr="bird4"/>
          <p:cNvPicPr/>
          <p:nvPr/>
        </p:nvPicPr>
        <p:blipFill>
          <a:blip r:embed="rId2"/>
          <a:stretch/>
        </p:blipFill>
        <p:spPr>
          <a:xfrm>
            <a:off x="8244000" y="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1660" name="Picture 34" descr="bird4"/>
          <p:cNvPicPr/>
          <p:nvPr/>
        </p:nvPicPr>
        <p:blipFill>
          <a:blip r:embed="rId3"/>
          <a:stretch/>
        </p:blipFill>
        <p:spPr>
          <a:xfrm>
            <a:off x="7020000" y="83664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37" descr="bird4"/>
          <p:cNvPicPr/>
          <p:nvPr/>
        </p:nvPicPr>
        <p:blipFill>
          <a:blip r:embed="rId4"/>
          <a:stretch/>
        </p:blipFill>
        <p:spPr>
          <a:xfrm>
            <a:off x="5867280" y="1413000"/>
            <a:ext cx="1143000" cy="1333440"/>
          </a:xfrm>
          <a:prstGeom prst="rect">
            <a:avLst/>
          </a:prstGeom>
          <a:ln w="0">
            <a:noFill/>
          </a:ln>
        </p:spPr>
      </p:pic>
      <p:sp>
        <p:nvSpPr>
          <p:cNvPr id="16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0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6" dur="20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0" dur="20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Введ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Информация и группы зна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3" action="ppaction://hlinksldjump"/>
              </a:rPr>
              <a:t>Язык-способ выражения информ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4" action="ppaction://hlinksldjump"/>
              </a:rPr>
              <a:t>Информационные процесс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5" action="ppaction://hlinksldjump"/>
              </a:rPr>
              <a:t>Количество информ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6d1ec"/>
                </a:solidFill>
                <a:uFillTx/>
                <a:latin typeface="Arial"/>
                <a:hlinkClick r:id="rId6" action="ppaction://hlinksldjump"/>
              </a:rPr>
              <a:t>C</a:t>
            </a: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7" action="ppaction://hlinksldjump"/>
              </a:rPr>
              <a:t>истема счис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8" action="ppaction://hlinksldjump"/>
              </a:rPr>
              <a:t>Архитектура ЭВ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9" action="ppaction://hlinksldjump"/>
              </a:rPr>
              <a:t>Устройство П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10" action="ppaction://hlinksldjump"/>
              </a:rPr>
              <a:t>Текстовые файлы и редакто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11" action="ppaction://hlinksldjump"/>
              </a:rPr>
              <a:t>Тексты в компьютерной памя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12" action="ppaction://hlinksldjump"/>
              </a:rPr>
              <a:t>Компьютерная граф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13" action="ppaction://hlinksldjump"/>
              </a:rPr>
              <a:t>Устройство компьютерной сети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14" action="ppaction://hlinksldjump"/>
              </a:rPr>
              <a:t>Электронная поч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WordArt 4"/>
          <p:cNvSpPr txBox="1"/>
          <p:nvPr/>
        </p:nvSpPr>
        <p:spPr>
          <a:xfrm>
            <a:off x="2700360" y="260280"/>
            <a:ext cx="302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План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pic>
        <p:nvPicPr>
          <p:cNvPr id="1484" name="Picture 8" descr="flowers15"/>
          <p:cNvPicPr/>
          <p:nvPr/>
        </p:nvPicPr>
        <p:blipFill>
          <a:blip r:embed="rId15"/>
          <a:stretch/>
        </p:blipFill>
        <p:spPr>
          <a:xfrm>
            <a:off x="6877080" y="0"/>
            <a:ext cx="1878120" cy="1557360"/>
          </a:xfrm>
          <a:prstGeom prst="rect">
            <a:avLst/>
          </a:prstGeom>
          <a:ln w="0">
            <a:noFill/>
          </a:ln>
        </p:spPr>
      </p:pic>
      <p:sp>
        <p:nvSpPr>
          <p:cNvPr id="14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7" name="Picture 4" descr="Luv Bubble - 1024 x 768"/>
          <p:cNvPicPr/>
          <p:nvPr/>
        </p:nvPicPr>
        <p:blipFill>
          <a:blip r:embed="rId1"/>
          <a:stretch/>
        </p:blipFill>
        <p:spPr>
          <a:xfrm>
            <a:off x="-252360" y="-2430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488" name="WordArt 7"/>
          <p:cNvSpPr txBox="1"/>
          <p:nvPr/>
        </p:nvSpPr>
        <p:spPr>
          <a:xfrm>
            <a:off x="468360" y="836640"/>
            <a:ext cx="3457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нформатика -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9" name="WordArt 8"/>
          <p:cNvSpPr txBox="1"/>
          <p:nvPr/>
        </p:nvSpPr>
        <p:spPr>
          <a:xfrm>
            <a:off x="0" y="3284640"/>
            <a:ext cx="41720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нформатика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0" name="Text Box 14"/>
          <p:cNvSpPr/>
          <p:nvPr/>
        </p:nvSpPr>
        <p:spPr>
          <a:xfrm>
            <a:off x="4356000" y="907920"/>
            <a:ext cx="453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Это наука, изучающая все аспекты получения, хранения, преобразования, передачи и использования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Text Box 15"/>
          <p:cNvSpPr/>
          <p:nvPr/>
        </p:nvSpPr>
        <p:spPr>
          <a:xfrm>
            <a:off x="4643280" y="3500280"/>
            <a:ext cx="450072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Это множество дисциплин, объединенных общим предметом изучения -информаци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еория информ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ибернет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ограммиро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еория алгоритм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WordArt 16"/>
          <p:cNvSpPr txBox="1"/>
          <p:nvPr/>
        </p:nvSpPr>
        <p:spPr>
          <a:xfrm>
            <a:off x="3203640" y="0"/>
            <a:ext cx="2665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веде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1493" name="Picture 17" descr="dog4"/>
          <p:cNvPicPr/>
          <p:nvPr/>
        </p:nvPicPr>
        <p:blipFill>
          <a:blip r:embed="rId2"/>
          <a:stretch/>
        </p:blipFill>
        <p:spPr>
          <a:xfrm>
            <a:off x="395280" y="5013360"/>
            <a:ext cx="2881440" cy="1584360"/>
          </a:xfrm>
          <a:prstGeom prst="rect">
            <a:avLst/>
          </a:prstGeom>
          <a:ln w="0">
            <a:noFill/>
          </a:ln>
        </p:spPr>
      </p:pic>
      <p:sp>
        <p:nvSpPr>
          <p:cNvPr id="1494" name="Text Box 19"/>
          <p:cNvSpPr/>
          <p:nvPr/>
        </p:nvSpPr>
        <p:spPr>
          <a:xfrm>
            <a:off x="0" y="6673680"/>
            <a:ext cx="434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Text Box 20">
            <a:hlinkClick r:id="rId3" action="ppaction://hlinksldjump"/>
          </p:cNvPr>
          <p:cNvSpPr/>
          <p:nvPr/>
        </p:nvSpPr>
        <p:spPr>
          <a:xfrm>
            <a:off x="0" y="640080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9" name="Picture 4" descr="Bliss2"/>
          <p:cNvPicPr/>
          <p:nvPr/>
        </p:nvPicPr>
        <p:blipFill>
          <a:blip r:embed="rId1"/>
          <a:stretch/>
        </p:blipFill>
        <p:spPr>
          <a:xfrm>
            <a:off x="-324000" y="-458640"/>
            <a:ext cx="9753840" cy="7800840"/>
          </a:xfrm>
          <a:prstGeom prst="rect">
            <a:avLst/>
          </a:prstGeom>
          <a:ln w="0">
            <a:noFill/>
          </a:ln>
        </p:spPr>
      </p:pic>
      <p:sp>
        <p:nvSpPr>
          <p:cNvPr id="1500" name="Text Box 7"/>
          <p:cNvSpPr/>
          <p:nvPr/>
        </p:nvSpPr>
        <p:spPr>
          <a:xfrm>
            <a:off x="611280" y="189000"/>
            <a:ext cx="61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Text Box 11"/>
          <p:cNvSpPr/>
          <p:nvPr/>
        </p:nvSpPr>
        <p:spPr>
          <a:xfrm>
            <a:off x="1332000" y="333360"/>
            <a:ext cx="49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WordArt 13"/>
          <p:cNvSpPr txBox="1"/>
          <p:nvPr/>
        </p:nvSpPr>
        <p:spPr>
          <a:xfrm>
            <a:off x="1187280" y="-243000"/>
            <a:ext cx="612468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нформация и группы знаний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3" name="WordArt 15"/>
          <p:cNvSpPr txBox="1"/>
          <p:nvPr/>
        </p:nvSpPr>
        <p:spPr>
          <a:xfrm>
            <a:off x="179280" y="2565360"/>
            <a:ext cx="2981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нформац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04" name="Text Box 16"/>
          <p:cNvSpPr/>
          <p:nvPr/>
        </p:nvSpPr>
        <p:spPr>
          <a:xfrm>
            <a:off x="3924360" y="2205000"/>
            <a:ext cx="338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для человека - это знания, которые он получает из различных источ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Text Box 18"/>
          <p:cNvSpPr/>
          <p:nvPr/>
        </p:nvSpPr>
        <p:spPr>
          <a:xfrm>
            <a:off x="0" y="4005360"/>
            <a:ext cx="9144000" cy="2704680"/>
          </a:xfrm>
          <a:prstGeom prst="rect">
            <a:avLst/>
          </a:prstGeom>
          <a:solidFill>
            <a:srgbClr val="f8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Все знания делят на 3 групп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1 группа начинается со слов «я знаю, что…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и знания называют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декларативными</a:t>
            </a: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т слова «декларация»- знания, сообще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2 группа начинается со слов «я знаю, как..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и знания называют </a:t>
            </a: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процедурными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определяют достижение какой-либо ц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Comic Sans MS"/>
              </a:rPr>
              <a:t>3 группа называется знания неинформатив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Эти сообщения не пополняют знания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6" name="Picture 19" descr="book17"/>
          <p:cNvPicPr/>
          <p:nvPr/>
        </p:nvPicPr>
        <p:blipFill>
          <a:blip r:embed="rId2"/>
          <a:stretch/>
        </p:blipFill>
        <p:spPr>
          <a:xfrm>
            <a:off x="7020000" y="2924280"/>
            <a:ext cx="2124000" cy="1195200"/>
          </a:xfrm>
          <a:prstGeom prst="rect">
            <a:avLst/>
          </a:prstGeom>
          <a:ln w="0">
            <a:noFill/>
          </a:ln>
        </p:spPr>
      </p:pic>
      <p:sp>
        <p:nvSpPr>
          <p:cNvPr id="1507" name="Text Box 23"/>
          <p:cNvSpPr/>
          <p:nvPr/>
        </p:nvSpPr>
        <p:spPr>
          <a:xfrm>
            <a:off x="0" y="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1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1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2" name="WordArt 9"/>
          <p:cNvSpPr txBox="1"/>
          <p:nvPr/>
        </p:nvSpPr>
        <p:spPr>
          <a:xfrm>
            <a:off x="0" y="260280"/>
            <a:ext cx="9144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зык - как способ выражения информации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3" name="WordArt 10"/>
          <p:cNvSpPr txBox="1"/>
          <p:nvPr/>
        </p:nvSpPr>
        <p:spPr>
          <a:xfrm>
            <a:off x="468360" y="1916280"/>
            <a:ext cx="126684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Язык-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1514" name="Text Box 11"/>
          <p:cNvSpPr/>
          <p:nvPr/>
        </p:nvSpPr>
        <p:spPr>
          <a:xfrm>
            <a:off x="2050920" y="1844640"/>
            <a:ext cx="51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Это знаковый способ представления информации. Общение на языках- это процесс передачи информации в знаковой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WordArt 12"/>
          <p:cNvSpPr txBox="1"/>
          <p:nvPr/>
        </p:nvSpPr>
        <p:spPr>
          <a:xfrm>
            <a:off x="179280" y="3860640"/>
            <a:ext cx="329580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Языки бывают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16" name="Text Box 13"/>
          <p:cNvSpPr/>
          <p:nvPr/>
        </p:nvSpPr>
        <p:spPr>
          <a:xfrm>
            <a:off x="3995640" y="4149720"/>
            <a:ext cx="5148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Comic Sans MS"/>
              </a:rPr>
              <a:t>Естественными и формальным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WordArt 14"/>
          <p:cNvSpPr txBox="1"/>
          <p:nvPr/>
        </p:nvSpPr>
        <p:spPr>
          <a:xfrm>
            <a:off x="250920" y="4941720"/>
            <a:ext cx="5410080" cy="89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бразная информация-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8" name="Text Box 15"/>
          <p:cNvSpPr/>
          <p:nvPr/>
        </p:nvSpPr>
        <p:spPr>
          <a:xfrm>
            <a:off x="684360" y="595008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Это сохранение в памяти ощущения человека от контакта с источни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Text Box 16"/>
          <p:cNvSpPr/>
          <p:nvPr/>
        </p:nvSpPr>
        <p:spPr>
          <a:xfrm>
            <a:off x="6172200" y="65530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WordArt 7"/>
          <p:cNvSpPr txBox="1"/>
          <p:nvPr/>
        </p:nvSpPr>
        <p:spPr>
          <a:xfrm>
            <a:off x="1619280" y="476280"/>
            <a:ext cx="6335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Информационные процессы.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522" name="Text Box 9"/>
          <p:cNvSpPr/>
          <p:nvPr/>
        </p:nvSpPr>
        <p:spPr>
          <a:xfrm>
            <a:off x="539640" y="2019240"/>
            <a:ext cx="8280360" cy="5229720"/>
          </a:xfrm>
          <a:prstGeom prst="rect">
            <a:avLst/>
          </a:prstGeom>
          <a:solidFill>
            <a:srgbClr val="f8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елят на 3 группы: Процесс хранения </a:t>
            </a:r>
            <a:r>
              <a:rPr b="1" lang="ru-RU" sz="2400" spc="-1" strike="noStrike">
                <a:solidFill>
                  <a:srgbClr val="bc6626"/>
                </a:solidFill>
                <a:latin typeface="Comic Sans MS"/>
              </a:rPr>
              <a:t>информации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, процесс передачи информации, процесс обработки </a:t>
            </a:r>
            <a:r>
              <a:rPr b="1" lang="ru-RU" sz="2400" spc="-1" strike="noStrike">
                <a:solidFill>
                  <a:srgbClr val="bc6626"/>
                </a:solidFill>
                <a:latin typeface="Comic Sans MS"/>
              </a:rPr>
              <a:t>информации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еловек хранит информацию в собственной памяти и на внешних носителях. Процесс передачи информации осуществляется от источника к приемнику по информационным каналам связи. Процесс обработки информации связан с получением новой или изменением формы или структуры данной информации; осуществлением поиска информации на внешних носител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3" name="Picture 10" descr="star60"/>
          <p:cNvPicPr/>
          <p:nvPr/>
        </p:nvPicPr>
        <p:blipFill>
          <a:blip r:embed="rId1"/>
          <a:stretch/>
        </p:blipFill>
        <p:spPr>
          <a:xfrm>
            <a:off x="7951680" y="189000"/>
            <a:ext cx="1192320" cy="1008000"/>
          </a:xfrm>
          <a:prstGeom prst="rect">
            <a:avLst/>
          </a:prstGeom>
          <a:ln w="0">
            <a:noFill/>
          </a:ln>
        </p:spPr>
      </p:pic>
      <p:pic>
        <p:nvPicPr>
          <p:cNvPr id="1524" name="Picture 16" descr="star60"/>
          <p:cNvPicPr/>
          <p:nvPr/>
        </p:nvPicPr>
        <p:blipFill>
          <a:blip r:embed="rId2"/>
          <a:stretch/>
        </p:blipFill>
        <p:spPr>
          <a:xfrm>
            <a:off x="7740720" y="2637000"/>
            <a:ext cx="1192320" cy="963360"/>
          </a:xfrm>
          <a:prstGeom prst="rect">
            <a:avLst/>
          </a:prstGeom>
          <a:ln w="0">
            <a:noFill/>
          </a:ln>
        </p:spPr>
      </p:pic>
      <p:sp>
        <p:nvSpPr>
          <p:cNvPr id="1525" name="Text Box 19"/>
          <p:cNvSpPr/>
          <p:nvPr/>
        </p:nvSpPr>
        <p:spPr>
          <a:xfrm>
            <a:off x="6019920" y="16002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4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4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4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9" name="Picture 4" descr="UT2003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30" name="WordArt 7"/>
          <p:cNvSpPr txBox="1"/>
          <p:nvPr/>
        </p:nvSpPr>
        <p:spPr>
          <a:xfrm>
            <a:off x="826920" y="260280"/>
            <a:ext cx="763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Lucida Sans"/>
              </a:rPr>
              <a:t>Количество информации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Lucida Sans"/>
              <a:ea typeface="Lucida Sans"/>
            </a:endParaRPr>
          </a:p>
        </p:txBody>
      </p:sp>
      <p:sp>
        <p:nvSpPr>
          <p:cNvPr id="1531" name="WordArt 8"/>
          <p:cNvSpPr txBox="1"/>
          <p:nvPr/>
        </p:nvSpPr>
        <p:spPr>
          <a:xfrm>
            <a:off x="755640" y="1628640"/>
            <a:ext cx="1114560" cy="152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Бит-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532" name="Text Box 9"/>
          <p:cNvSpPr/>
          <p:nvPr/>
        </p:nvSpPr>
        <p:spPr>
          <a:xfrm>
            <a:off x="2268360" y="1773360"/>
            <a:ext cx="68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нформационный вес символа двоичного алфавита принятый за единицу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WordArt 10"/>
          <p:cNvSpPr txBox="1"/>
          <p:nvPr/>
        </p:nvSpPr>
        <p:spPr>
          <a:xfrm>
            <a:off x="0" y="3573360"/>
            <a:ext cx="2363760" cy="125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Алфавит-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1534" name="Text Box 11"/>
          <p:cNvSpPr/>
          <p:nvPr/>
        </p:nvSpPr>
        <p:spPr>
          <a:xfrm>
            <a:off x="3059280" y="3500280"/>
            <a:ext cx="608472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Это вся совокупность символов, используемых в некотором языке для представления информ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Мощность алфавита- это число символов в н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WordArt 12"/>
          <p:cNvSpPr txBox="1"/>
          <p:nvPr/>
        </p:nvSpPr>
        <p:spPr>
          <a:xfrm>
            <a:off x="826920" y="5229360"/>
            <a:ext cx="1219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Байт-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536" name="Text Box 13"/>
          <p:cNvSpPr/>
          <p:nvPr/>
        </p:nvSpPr>
        <p:spPr>
          <a:xfrm>
            <a:off x="2916360" y="5546880"/>
            <a:ext cx="482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нформационный вес символа из алфавита мощностью 256 символов.                                          1 байт=8 б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7" name="Picture 14" descr="butterfly46"/>
          <p:cNvPicPr/>
          <p:nvPr/>
        </p:nvPicPr>
        <p:blipFill>
          <a:blip r:embed="rId2"/>
          <a:stretch/>
        </p:blipFill>
        <p:spPr>
          <a:xfrm>
            <a:off x="7667640" y="5300640"/>
            <a:ext cx="1768320" cy="1851120"/>
          </a:xfrm>
          <a:prstGeom prst="rect">
            <a:avLst/>
          </a:prstGeom>
          <a:ln w="0">
            <a:noFill/>
          </a:ln>
        </p:spPr>
      </p:pic>
      <p:sp>
        <p:nvSpPr>
          <p:cNvPr id="1538" name="Text Box 17"/>
          <p:cNvSpPr/>
          <p:nvPr/>
        </p:nvSpPr>
        <p:spPr>
          <a:xfrm>
            <a:off x="5105520" y="64771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WordArt 7"/>
          <p:cNvSpPr txBox="1"/>
          <p:nvPr/>
        </p:nvSpPr>
        <p:spPr>
          <a:xfrm>
            <a:off x="1042920" y="260280"/>
            <a:ext cx="7274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Cистема счисления.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1" name="WordArt 8"/>
          <p:cNvSpPr txBox="1"/>
          <p:nvPr/>
        </p:nvSpPr>
        <p:spPr>
          <a:xfrm>
            <a:off x="250920" y="1916280"/>
            <a:ext cx="4667040" cy="8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истема счисления-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2" name="Text Box 9"/>
          <p:cNvSpPr/>
          <p:nvPr/>
        </p:nvSpPr>
        <p:spPr>
          <a:xfrm>
            <a:off x="324000" y="3141720"/>
            <a:ext cx="8496000" cy="703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bc6626"/>
                </a:solidFill>
                <a:latin typeface="Comic Sans MS"/>
              </a:rPr>
              <a:t>Это способ изображения чисел  и соответствующие ему правила действия над числами</a:t>
            </a:r>
            <a:r>
              <a:rPr b="1" lang="ru-RU" sz="2000" spc="-1" strike="noStrike">
                <a:solidFill>
                  <a:srgbClr val="f8e8d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Text Box 10"/>
          <p:cNvSpPr/>
          <p:nvPr/>
        </p:nvSpPr>
        <p:spPr>
          <a:xfrm>
            <a:off x="468360" y="4149720"/>
            <a:ext cx="8351640" cy="100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Системы счисления бывают позиционными и непозиционными. Примером непозиционной системы является римская система чис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Text Box 11"/>
          <p:cNvSpPr/>
          <p:nvPr/>
        </p:nvSpPr>
        <p:spPr>
          <a:xfrm>
            <a:off x="468360" y="5661000"/>
            <a:ext cx="8207280" cy="100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bc6626"/>
                </a:solidFill>
                <a:latin typeface="Comic Sans MS"/>
              </a:rPr>
              <a:t>Наименьшее возможное основание позиционной системы счисления – 2. Такая система называется двоичной</a:t>
            </a:r>
            <a:r>
              <a:rPr b="1" lang="ru-RU" sz="2000" spc="-1" strike="noStrike">
                <a:solidFill>
                  <a:srgbClr val="00ff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5" name="Picture 12" descr="book8"/>
          <p:cNvPicPr/>
          <p:nvPr/>
        </p:nvPicPr>
        <p:blipFill>
          <a:blip r:embed="rId3"/>
          <a:stretch/>
        </p:blipFill>
        <p:spPr>
          <a:xfrm>
            <a:off x="6948360" y="1916280"/>
            <a:ext cx="2195640" cy="1008000"/>
          </a:xfrm>
          <a:prstGeom prst="rect">
            <a:avLst/>
          </a:prstGeom>
          <a:ln w="0">
            <a:noFill/>
          </a:ln>
        </p:spPr>
      </p:pic>
      <p:sp>
        <p:nvSpPr>
          <p:cNvPr id="1546" name="Text Box 15"/>
          <p:cNvSpPr/>
          <p:nvPr/>
        </p:nvSpPr>
        <p:spPr>
          <a:xfrm>
            <a:off x="5181480" y="647712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7:12:56Z</dcterms:created>
  <dc:creator>!</dc:creator>
  <dc:description/>
  <dc:language>en-US</dc:language>
  <cp:lastModifiedBy>LEGION</cp:lastModifiedBy>
  <dcterms:modified xsi:type="dcterms:W3CDTF">2015-04-01T07:36:15Z</dcterms:modified>
  <cp:revision>34</cp:revision>
  <dc:subject/>
  <dc:title>Слайд 1</dc:title>
</cp:coreProperties>
</file>