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26.gif" ContentType="image/gif"/>
  <Override PartName="/ppt/media/image24.gif" ContentType="image/gif"/>
  <Override PartName="/ppt/media/image23.jpeg" ContentType="image/jpeg"/>
  <Override PartName="/ppt/media/image22.png" ContentType="image/png"/>
  <Override PartName="/ppt/media/image19.jpeg" ContentType="image/jpeg"/>
  <Override PartName="/ppt/media/image32.gif" ContentType="image/gif"/>
  <Override PartName="/ppt/media/image18.gif" ContentType="image/gif"/>
  <Override PartName="/ppt/media/image21.png" ContentType="image/png"/>
  <Override PartName="/ppt/media/image16.gif" ContentType="image/gif"/>
  <Override PartName="/ppt/media/image8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9.gif" ContentType="image/gif"/>
  <Override PartName="/ppt/media/image9.gif" ContentType="image/gif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15.gif" ContentType="image/gif"/>
  <Override PartName="/ppt/media/image11.gif" ContentType="image/gif"/>
  <Override PartName="/ppt/media/image20.png" ContentType="image/png"/>
  <Override PartName="/ppt/media/image36.jpeg" ContentType="image/jpeg"/>
  <Override PartName="/ppt/media/image35.gif" ContentType="image/gif"/>
  <Override PartName="/ppt/media/image38.jpeg" ContentType="image/jpeg"/>
  <Override PartName="/ppt/media/image29.jpeg" ContentType="image/jpeg"/>
  <Override PartName="/ppt/media/image37.gif" ContentType="image/gif"/>
  <Override PartName="/ppt/media/image7.gif" ContentType="image/gif"/>
  <Override PartName="/ppt/media/image13.gif" ContentType="image/gif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D3F8-F6FA-49B5-A738-2DC946A949B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«Основы информати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CEE3-DD0B-4CB1-9DE6-044DFF930F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ур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а ЭВ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описание устройства и принципов работы компьютера, достаточное для пользователя и программи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Программ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указание на последовательность действий, которую должен выполнить 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В состав компьютера входят: процессор, память, устройство ввода, устройство вывода. У компьютера имеется внутренняя и внешняя память. Внутренняя- оперативная память. Внешняя- долговременна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B16A-6B2C-41F5-8C55-E68B4381C3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Устройство П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В состав системного блока входят : микропроцессор, внутренняя память, дисководы, блок питания, контроллеры внешних устр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Все устройство ПК связаны между собой по многопроводной линии, которая называется информационной магистрал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ыми техническими характеристиками ПК являются: объем внутренней памяти, тактовая чистота микропроцессора, разрядность микропроцесс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Каждое внешнее устройство имеет свой адрес. Передаваемая к нему информация – по шине данных сопровождается адресом устройства – по адресной ш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1EBF-5B75-48F7-9F66-F7F915256D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Текстовые файлы и ред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Текстовый фай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Простейший способ организации данных в компьютере. Он состоит только из кодов таблицы символьной кодировки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Текстовый редактор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Это прикладная программа, позволяющая создать текстовые документы, редактировать их, просматривать содержимое документа на экране, распечатывать документ, изменять формат доку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Стандартными компонентами среды ТР являются: рабочее поле, текстовый курсор, строка состояния, меню команд. Текстовый файл разделен на строки. Разделителем является специальные управляющие коды. В конце файла ставится код «Конец файл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7D5E-C81C-4EC8-BFFD-6BC3734C6F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Тексты в компьютерно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Гипертекс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Это способ организации текста, который можно просматривать в последовательности смысловых связей между его отдельными фрагме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Таблица кодировк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Таблица в которой всем символам компьютерного алфавита поставлены в соответствие порядковые но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Международным стандартом является код </a:t>
            </a: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ASCII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- американский  стандартный код информационного  обмена. Каждый символ текста кодируется восьмиразрядным двоичным кодом. Для представления текстов в компьютере используется алфавит мощностью 256 симво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6CB5-BA0C-47C9-B974-6CDC05A252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пьютерная г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пьютерная график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3366ff"/>
                </a:solidFill>
                <a:latin typeface="Comic Sans MS"/>
              </a:rPr>
              <a:t>Раздел информации, занимающийся проблемами «рисования» н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Мультимед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Это объединенный вывод на компьютере текста, статических изображений, видео, анимации и зв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cc0099"/>
                </a:solidFill>
                <a:latin typeface="Comic Sans MS"/>
              </a:rPr>
              <a:t>Устройства вывода графических изображений на компьютере: графопостроитель,  графический дисплей, принтер. Для получения графических изображений требуется специальное программное обеспечение- графические пакеты. Основные области применения компьютерной графики: научная графика, деловая графика, иллюстративная графика, художественная и рекламная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61AC-DF55-49D2-9B20-91698C6CE6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Средства компьютерной граф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вывода изображения на экран включает в себя дисплей и видеоадаптер. Изображение на дисплее получается из совокупности множества светящихся точек - видеопикс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ксели на экране образуют сетку из горизонтальных строк и вертикальных столбцов, которая носит название «растр». Размер графической сет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* 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ределяет разрешающую способность экрана, от которой зависит качество изображения. Луч электронной пушки периодически сканирует строки растра с высокой частотой, воспроизводя изображение. На черно-белых дисплеях пиксель может иметь только два цвета. Электронная пушка испускает один луч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еоадаптер состоит из видеопамяти и дисплейного процессора. В видеопамяти хранится двоичный код изображения, выводимого на экран. Для ввода изображения в компьютер используются сканеры, цифровые фотоаппараты, цифровые видеока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FB97-E57F-45AF-88CA-0F795AB106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Таблицы и мо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оде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некоторое упрощенное подобие реального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Модели бывают материальными и информационными. Информационная модель представляет собой описание моделированного объекта. Прежде чем строить информационную модель, производится системный анализ объекта моделирования. Задача системного анализа- выделить существенные части, свойства, связи моделируемой системы, определить её структуру. Наглядным способом представления информационных моделей являются графические изображения: карты, чертежи, схемы,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Monotype Corsiva"/>
              </a:rPr>
              <a:t> график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949D-7D45-4CE0-A42D-0DE8939998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Графический реда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Графический редактор-</a:t>
            </a: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прикладная программа для получения рисованных изобра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Рисунок, создаваемый средствами графического редактора, формируется на экране, а затем может быть сохранен в фай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Среда любого ГР содержит рабочее поле, меню инструментов, цветов, меню команд для работы с файлами, печати рисунка и других операций. ГР позволяет включать в рисунок тексты, используя буквы разных размеров и шриф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721C-C6CE-43AF-A52D-18275D4613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о компьютерной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f497d"/>
                </a:solidFill>
                <a:latin typeface="Arial Unicode MS"/>
                <a:ea typeface="Arial Unicode MS"/>
              </a:rPr>
              <a:t>Компьютерная сеть-</a:t>
            </a:r>
            <a:r>
              <a:rPr b="1" lang="en-US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omic Sans MS"/>
              </a:rPr>
              <a:t>Система компьютеров, связанных каналами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66cc"/>
                </a:solidFill>
                <a:latin typeface="Comic Sans MS"/>
              </a:rPr>
              <a:t>Компьютерные сети бывают локальными и глобальными. В одноранговых локальных сетях все компьютеры равноправны. Локальная сеть с выделенным компьютером включает в себя сервер и множество рабочих станций. Сервер используется как хранилище общих информационных ресурсов, а так же содержит некоторые технические устройства общего доступа. Глобальная сеть- это система связанных между собой локальных сетей и компьютеров отдельных пользователей. Персональные компьютеры пользователей подсоединяются к узлам глобальной сети. Существуют сети региональные, отраслевые. В настоящее время большинство из них объединено в мировую систему –</a:t>
            </a:r>
            <a:r>
              <a:rPr b="1" lang="en-US" sz="1200" spc="-1" strike="noStrike">
                <a:solidFill>
                  <a:srgbClr val="ff66cc"/>
                </a:solidFill>
                <a:latin typeface="Comic Sans MS"/>
              </a:rPr>
              <a:t>Internet</a:t>
            </a:r>
            <a:r>
              <a:rPr b="1" lang="ru-RU" sz="1200" spc="-1" strike="noStrike">
                <a:solidFill>
                  <a:srgbClr val="ff66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E183-AE2D-4853-9EF7-57A11CA3D1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ccff"/>
                </a:solidFill>
                <a:latin typeface="Comic Sans MS"/>
              </a:rPr>
              <a:t>Электронная поч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онная почта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обмен письмами в компьютерных сет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Почтовый ящик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раздел внешней памяти почтового сервера, отделенный для абон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онное письмо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текстовый файл, содержащий конверт с адресом получателя и текст пись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Телеконференция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система обмена информацией на определенную тему между абонентами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556F-1542-4F6E-A233-05B7DC3410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Более подробно изучить основы информатики, так как в ней выступают одновременно инструмент для работы и объект изучения и совершенствования –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1F2A-2EC5-4B71-B6CA-690CD40694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"Всемирная паутин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Гипермедиа- система гиперсвязей между мультимедиа-докуме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Киберпространство-это совокупность мировых систем телекоммуникаций и циркулирующей в них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а- отдельный документ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ервер- компьютер в сети Интернет, хранящий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ы и соответствующее программное обесп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Internet-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всемирная глобальная компьютерная с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F873-7CB6-4C1B-8225-D92CAD790F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ff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ff00"/>
                </a:solidFill>
                <a:uFillTx/>
                <a:latin typeface="Comic Sans MS"/>
              </a:rPr>
              <a:t>Изучение информатики необходимо в наше время. Так как информатика это наука будущего. В жизни современного человека информация играет не меньшую роль, чем вещество и эне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DED7-7570-4BD2-B399-D80301E3AA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рмация и группы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Язык-способ выраж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стема счис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рхитектур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стройство П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екстовые файлы и ред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ексты в компьютерно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мпьютерная г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стройство компьютерной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лектронная поч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F39C-75BE-4159-8FF1-F0150D62D3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ccff"/>
                </a:solidFill>
                <a:latin typeface="Impact"/>
              </a:rPr>
              <a:t>Информатика -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наука, изучающая все аспекты получения, хранения, преобразования, передачи и использова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Информатик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множество дисциплин, объединенных общим предметом изучения -информ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Теория информации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Кибернетика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Программирование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Теория алгоритмо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E415-0A0E-4BEA-BA42-07008B0524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ция и группы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Все знания делят на 3 груп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1 группа начинается со слов «я знаю, что…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и знания называют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декларативными</a:t>
            </a:r>
            <a:r>
              <a:rPr b="0" lang="ru-RU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слова «декларация»- знания, сообще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2 группа начинается со слов «я знаю, как..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и знания называют </a:t>
            </a: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процедурным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пределяют достижение какой-либо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3 группа называется знания неинформ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и сообщения не пополняют зна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BB3E-5DFA-4C64-B39D-1C15853321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Язык - как способ выраж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Язык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Это знаковый способ представления информации. Общение на языках- это процесс передачи информации в знаков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 быв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Естественными и форма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разная информац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Это сохранение в памяти ощущения человека от контакта с источ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F6AD-339B-4C44-B90E-DEA8535131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Делят на 3 группы: Процесс хранения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, процесс передачи информации, процесс обработки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Человек хранит информацию в собственной памяти и на внешних носителях. Процесс передачи информации осуществляется от источника к приемнику по информационным каналам связи. Процесс обработки информации связан с получением новой или изменением формы или структуры данной информации; осуществлением поиска информации на внешних носите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90A3-69E5-4F7E-9D76-32BCD92094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cc"/>
                </a:solidFill>
                <a:latin typeface="Lucida Sans"/>
              </a:rPr>
              <a:t>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Б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двоичного алфавита принятый за единицу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Алфав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вся совокупность символов, используемых в некотором языке для представл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ощность алфавита- это число символов в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Бай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из алфавита мощностью 256 символов.                                          1 байт=8 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0FC3-493A-4842-8A26-6AF3DD81D2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стема счис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счислен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Это способ изображения чисел  и соответствующие ему правила действия над числами</a:t>
            </a:r>
            <a:r>
              <a:rPr b="1" lang="ru-RU" sz="1200" spc="-1" strike="noStrike">
                <a:solidFill>
                  <a:srgbClr val="f8e8d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Системы счисления бывают позиционными и непозиционными. Примером непозиционной системы является римская система чис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Наименьшее возможное основание позиционной системы счисления – 2. Такая система называется двоичной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33FF-4674-4342-983B-66D9DED345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BA3-41EA-4FE3-9809-5F9F577D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807-B2AE-4FD5-8584-DCED21E0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85667-F5A1-4EFD-B54A-21832A2F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5A2B1-1E03-407F-B99E-F927A9EF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F35FD-9C06-4DF5-B0C1-014117A5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53D9B-4B10-47C0-9035-34BFC5D4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2F185-806F-4B3D-BCD5-15454E91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333F0-3320-44B1-9C5B-E860F22C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E9C46-D7BB-456D-8BC6-F5B03AF2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DBC92-B999-4855-A298-6C75C7A2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4B938-32C0-495F-9C44-ABF405F5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080A5-B599-40B7-BF94-C378A56B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3F1-74FA-46D3-A727-11D7B214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19369-BA09-482F-893C-7DE126AA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5C78E-956C-47E6-B091-3314ED3F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93B26-D9C5-4695-A4B5-EF71C62F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0C7F4-941B-442C-B55A-4984A953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B1A4F-6C92-4621-89AA-DE5AB075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28BC6-EFB9-42AD-BE1C-A7285AB9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D9419-53B6-47F9-9ACD-5B92736E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A7B24-D9FE-49A1-953F-6E0749A1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BC0D7-6E59-48EF-B994-269CD3DF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D4F5E-3F0F-4851-A9D6-3434CEF7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834D-C7EA-4272-A57A-CA65D7CD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7F4E2-E90A-4AB7-8D66-D38ED1EB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F94DF-8859-4AFF-8A9B-26BA2DBE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8AFA3-4352-429E-82C4-646D2343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374DD-F4C3-4479-8074-F7D0669C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9D4CD-1A9A-4E9F-A23D-7D240A31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84AB2-8BC8-434E-8432-72CB92B3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68800-B452-40C8-B46A-9C9B5BF3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4534A-317D-490E-B392-35B923C2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2F036-F3B4-48A6-B358-34DA5D5E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A73FF-C1DE-4EEF-A81C-C9F75C21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AE0D-04B4-4A33-A339-1D1FA854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A9246-11FA-45D5-BB83-BA0B821B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1BCD7-E038-4A41-A88B-7C19EA77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2CA0A-573E-4452-951B-FF944CF6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A4F6F-5028-4CD0-A1B7-4585D53D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F67B2-725D-4FF5-A7DF-357DF151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3415C-3CF5-44DF-9384-717CCCEF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808B2-A834-4F1D-9B39-81C0BB75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66B6F-C551-4235-AEFB-649C42D3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2D65F-4F59-4339-A1E6-66DC4542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03207-196A-4F1D-8944-2835E0F9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50AA-77CF-413C-AA7B-746EBCB1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29DD9-2D8E-45C1-A3B8-17F0739B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4E675-2B2F-4594-BBC0-33A9C334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89798-D08D-4670-816D-B1B1DD99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7F67C-681D-40E2-AE72-3C5EE8A4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E605F-B46E-45D5-B22E-6052A199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C8ADC-4A49-4F33-9B50-EE888CDA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176EC-1FD3-424E-8DF3-1AEDB652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40879-23E1-487A-9712-8916BB4D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0DA03-6326-4D5E-9F5C-CC2E7659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D4E79-577E-4512-9E4F-E5F14B60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845B-F140-44A3-8D33-4EE65560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D97E38-1C07-4F2E-9706-5FD9BB13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405F6B-1676-4826-BC7C-2732032B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73048-09B7-40A6-833F-4D79D506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3828F-1800-4617-A9E1-74AB08C2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F065A-5AE2-4BC9-A4CC-EAFE1C7F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A0870-C41A-48F6-B872-8282CCBE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64F261-634C-4F63-BEB3-2A6EE53C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B3010-EE58-40D6-AB03-27E2CD8C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68677C-9840-4E2A-9DB7-6B0D8019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9E3D0-90BD-45EE-8F0F-60238220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C00B-5336-4D6D-87A2-E0E58830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84070A-10B9-46EA-A1CF-FCB0813E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894925-ADAC-4D61-A7B3-793DCAE2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6EE49-A218-4D64-A986-EAD19560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7C6CB0-D7EC-45CE-88A5-3E4F555C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44709-F0E5-46F7-9BB5-47607E2E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86E5D0-7D7F-45E4-B46C-5C931663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A1FB59-E204-473D-B20A-34EF8CC7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DA58C-5D14-45FC-BF59-E8AE913A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245B7D-5F26-4E00-BF41-50A7C2B6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A5667F-C867-4D83-A9D7-22179580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6D2A-440F-4069-BA26-FDA627EC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2EFE3F-2EDB-4B7A-8E8F-652E0933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716605-12CC-4982-8858-C63E2723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5EB1E3-EAA0-409E-BB54-27F9E3F5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767DB7-9466-409D-ABBA-C890C252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D7A6B7-0FCA-4880-8FB5-C25C08AB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680D76-224C-451E-8B02-273C62C1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3CD3C-43EF-4FEA-8D6B-E1204490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3D7444-8FB7-4ECC-B094-3C3DEE4A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AFC8F-60FE-4C2B-8AA9-40729088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7AE866-F2BA-4201-B106-C83DA4DA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7F6B-1ADD-4D8F-89BB-37449905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9DB9DA-5745-4247-BC7A-767B5A94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9E2DCB-9482-4611-950A-26721548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963B02-8A58-49B5-BE27-F1E3236C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BB2A4D-2BFB-4E8D-B048-F8B9AA4B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F966B4-C360-4F8C-9A57-FA9D65C5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9B4B18-D0F8-41D3-823E-EF285BAF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ECAD2-F5A9-49F6-8729-B38F864C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DC0956-7AD9-4C83-A26F-799CDC70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3C056D-23DD-4FAD-924E-3E1384DC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13A2B2-E543-46DE-AF28-5AA3E17B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A17E-B9B2-43FB-A042-006CCCDB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786085-17DD-4715-85D8-5D34BE40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1D9B6-02FA-4B42-8677-10665DEF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7FEB1E-C06C-40CF-A8B2-EA8A35A2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BE9DE1-712D-4911-ADD7-3CE94CDF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FCA192-5CAF-4EAD-871A-2665ECED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11675B-C619-4215-B5A9-48BAB5B2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1CFFD6-A755-45BB-B6D2-9DF89904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67CBEB-14BA-4940-8B47-7EB81BA5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F90B7E-1F7B-4CE4-B4C5-21A62A41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2A2684-F2D5-4755-8FAD-C4551552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0B99-832F-47CF-A80D-52910FAF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AA41-5D42-4C25-B9C1-56D1C34B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7458D5-3334-4C95-BC05-B053FEF9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BAD202-FE8D-4BC1-A172-A3069CB5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6E1E06-0C76-4389-B98F-7F2B6109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1F84B2-94CF-4599-A30E-59F317D7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3A8E76-362A-4D64-9AFC-1C9D5092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265467-C97F-4621-80BC-82AEE20C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2C95CF-321E-415C-97ED-747049C9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6EF8D2-71B5-435A-8605-1406A4E4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791BD8-EC4D-405E-A8B2-D5B90A7F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908BB7-7099-4F3F-9481-713B58D5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D2B5-6F8F-41A2-9C9C-B23740B7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3C332F-4A68-4361-9E4C-B5131E2B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AABEF8-EA87-4843-94D7-8D22B865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98E408-C057-4AFA-B788-41083B3C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C88966-6A6B-4218-B540-467CB383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F45811-38FF-4EDE-A4E1-9865F201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7B453B-8AB9-49BB-9746-BB900389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5C2043-7A27-4547-BEB2-22955D28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DB7E80-553B-47CA-B0AA-E5ABF3A8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F8A062-FCB4-4B4D-BD3B-64465A69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3F3C69-3232-4C9C-90D6-E2F66F62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3833-BDD9-4ECC-88B8-202CE7D8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312EB3-1C1F-4AEE-9E78-BC9B7452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AA6CF3-9566-494D-84F1-4EC5FFBD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070420-33B6-43FB-A45F-29E29135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167AAD-6BDE-4270-AE42-4957D14E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5E72D8-35AD-4E3F-A4F8-90E0B78C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7D513A-5F8A-477C-A8B5-EC119928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2DA0AB-AF51-4D86-BA80-F09E0FE3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194CA5-0CDA-4646-B423-F0C7ED6A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F31B1C-144E-4AFE-9207-24F00E0B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7FA5B4-818E-4701-809E-A55A9161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2814-373A-4E51-A571-A093C49B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410B9F-3A6B-4A02-A00B-C7060980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6CCF25-9A08-41B5-8767-438587F6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92578B-C3D8-475F-AD47-1AA8CB1B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A155C8-E1A8-4678-94C6-4CC3F7C3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28AB44-B067-4992-80A7-7BF65004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CAAE18-F6F5-4933-AB98-9B8DCE4D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9899FC-E7C2-497B-9042-69D37B27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E323F4-12B2-485F-8092-8B85E757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386F9C-61C0-48AE-AD35-B183D222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EB0F9E-0909-45A4-9799-CF1006EA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1EFA-76E7-4274-BF4B-BD448BF4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D51D8C-62AC-41C1-A1B2-6D8962A1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ADCDCC-2E92-4983-91C4-C131F98E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54223E-7578-4D77-ACA0-F9AD2598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AB743A-C2AB-4E05-86C5-42D107ED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81E88A-1598-4FDC-B122-3D4056F6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D858D8-94F9-4D02-ACEC-993C00DC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E0E07E-37FF-4AF2-AAEE-F2043A59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BC536F-D7ED-44FC-8BDA-1F2F5825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B2847B-495E-4E8F-806F-1911EAD2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A5B7F4-699E-4929-9E88-2D30A4B2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996BF-E237-4ABF-957F-B9549934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D0AE21-BD5E-4DE2-99A6-5F1F163C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BAE4C0-073E-4962-AA1C-67CC33CF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EB9D0C-F55A-483C-AE1B-CA5A5245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02A722-DD42-43F0-9892-EFACBA22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402817-F2C2-45DB-8B3A-946A9BBB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30B5F8-A682-4951-A923-3BB8D412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DAC054-CC79-470A-8138-534526CF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BAA774-09D5-4B47-9EC3-A89ACD00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FF1E53-6019-456E-836C-F0C1477E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DADDCE-0C26-4BCB-80ED-89D1BC03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CAE7C-4F43-4580-BB5B-F85CCD47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6397F7-E17C-47FC-9409-EEF4E021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CEB616-B6B4-4057-B14E-ACCEADA6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83FFEA-0316-41FA-A8B2-4697DB19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DF3EB8-ECCB-4D6F-B837-AC027A09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97E930-20D2-42B1-ADAC-1F3FA4F3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6E3709-7465-4B87-A642-D2FD71B6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D423A6-C4A1-4634-AC90-655240F7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06F495-6708-4867-A352-D3453024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7A25D0-F88C-4203-9968-080A4DF9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7E3F06-FABF-497D-8CC1-0A599DB8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27646-ED03-42D9-AF82-C25DED9D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BD4738-9458-496B-9509-A5338659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2F19EF-6B79-4142-B058-AF01BEFC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54A9EA-7D5A-412A-9515-B5929744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03E295-52B7-49FB-A1C5-CEFD0444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43D606-DEEC-4AB3-B718-E4266008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505FF1-75C7-4A0B-8581-34520D99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0E02C5-4396-4206-BBDC-FB0A03E8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79D317-8EB0-4AF8-8460-D9C53F8C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E0C23C-64DC-44EA-98E2-86CEA416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53FD47-DDD2-40E5-9EB0-7C31F1CD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3B8A-3591-4641-A0C9-DB5F1A30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603379-D7FF-4B9A-B129-D58085E4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9F5910-A318-4B1B-8293-9A587C00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B580A3-C7AC-48AC-8258-4ED7ABB4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DA5167-0DB6-439C-822D-500FA1F1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2560D2-E4A5-4113-9C83-C61EE311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A5FF5C-D2F2-47F9-B5CE-43D19FDF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26A285-4935-428E-B631-2466F496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49D303-9682-4B8F-B9FC-DC7BEAA3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C4C243-389B-40A1-9B7A-DEC77F0D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F70F7-DCC1-41C4-80AC-F9BAE847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8256-B506-45E3-83A3-541638D9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AB2A2-9142-4F3A-8AFF-21E90F28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B37CE-A063-4B3D-AA6C-A1E16251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D00E3-50B2-48ED-9097-0A7C067C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94B48-D10C-4598-87BB-ADB61C48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E86C3-18A6-41A9-A6AB-5B14B1ED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FEE18-CD6C-45F5-8C8F-CBE3A922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2FA7C-42BE-47D1-BE38-AA2D53EC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E6A5D-0C2F-45B7-94CA-1463370A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D67BA-4A37-4373-B09E-DB268389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4C22C-1689-45FF-BFEE-E267C722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79B-B59D-47EA-9C97-A58505D7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5A60F-064C-4A86-96DB-6DA80332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DF945-EB38-456F-B8B1-FBC80C31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12C39-F23B-4BD7-80DB-12226F46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8AAA8-E9F3-4DCD-BD20-4D1F3F49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71B7E-35F0-4BDC-ABA0-7CC7B5B1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6DE76-0998-4075-8CD4-3A95E026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CDF7A-229B-4C62-9A46-BE0A4332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CEFED-BBFE-4250-B06B-9C79CBA9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EBDDF-EB83-454D-8F51-2F895D3F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FCDD4-8399-4AFE-B7C9-B2AF72C0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D29-FC4D-4744-B416-9DDE14DA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66A03-994B-4903-B0EA-24FD5AF4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9236C-021F-4C98-B6F8-19332B1A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36A17-6DEE-44D0-AE4E-B03C016F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FCE6F-7B66-48F3-BDB9-7088514F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6C7B2-B19A-4A4B-94F3-7BEE3E02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91BC4-6DC3-4EE8-BAA7-B69669B9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2127F-B138-4A3C-A388-A43508C9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F2F67-28FD-42A1-BF60-6AA188A1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8510A-062B-45BA-BE47-E9CDCD0C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F9C3F-A346-431E-B468-FA678768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B253-72D9-4D6A-B7A3-57986CF0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8A169-ACC9-45C2-A718-4EDE4771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3C031-0E7A-418B-B86F-2B0062A0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D46DA-DE52-4CA5-A9C2-C71C56D5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6673A-D128-4960-81A0-13CBD873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CCC23-9930-4E16-8232-B74F5793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765F0-BA61-439D-A8AD-3CD5DAB4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31DF7-4817-40D3-B3EB-4EF06EB6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16068-D1C8-4649-9A86-256F6E2B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942E1-AB3E-42AF-B054-8F8A0784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09C9C-E400-4DB7-9722-271154F1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9F88-770D-4AAC-AE53-F887D9D7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37AB0-4898-4FCC-9468-2291A294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14AFD-5D29-4A3D-A3EA-47229AAE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80692-BAF3-4AD3-A9D8-98A2B032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60727-AE0C-4621-B70C-6E93A737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89D0F-9B8B-40C0-9EBE-3C53817A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253CF-071E-4AFD-8EE6-6815F71E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0A9DC-84F7-4A26-B71F-01EC2366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E2ED3-94D8-4CE0-96BE-AAC8E43E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FC13C-109E-4ADF-B174-502EAA85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A5D0E-EFB7-4AF9-802E-767A8B85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F92-5FBC-4237-8DB1-08FBCC92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2D99B-B852-4BE1-B431-0E1EAD9E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D2132-6A6C-466A-8686-F9EA1F88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45CA5-1B80-4D0F-A1E2-FB8FC79A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05CF2-6BB3-4CF3-BECF-BBBAE7EF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9AA6F-A8CD-46CE-A4E1-6EFD2769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C8204-E5EA-4753-A4E4-7A2B18F3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C2A75-F893-41F8-9103-281B3CDC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0EBFD-F086-4624-AB33-AFEA02A7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66EB2-6C3A-48B2-8DB5-1E05708B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FB68B-D965-4512-9EC5-9B8BD685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E73-9965-441A-A10E-5B99A493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9E1E8-ECB1-4BE8-9CBD-2F2349E4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B3678-F860-4E4F-A628-D854EC7D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7AEBA-8DC6-44E6-8DDB-624D9110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EB25B-2742-4800-A618-F649111B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CFBBD-5799-4AD7-977C-F381DDEC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556F6-6AE0-43AD-B961-AD54B6FB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9F81C-2158-4F91-B957-773C6554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FA485-BE1B-4A9E-B9B1-1860EA8C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33C2D-D99A-415F-A4A7-C73BF468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62FB7-F699-43A7-A58B-9E0B85B7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B98E-E089-47AE-8753-458EDC15DA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7B7F-FD2A-4CC3-8D24-006EABEE02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8A9A-6FCD-451C-82D5-EFC66E4F1A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5D10-640A-423E-AF47-D51524B997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7C3E-66C9-4FB1-A9B0-5FBC24D7FF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7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1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BBB1-C7E7-4CA9-9CBA-1F32E87DA1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5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9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C67B-5A9A-4D19-9386-CE21C4FEF52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3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7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3F2A-570C-4DF6-8926-5B5E278EC14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5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F0D5-9F10-4743-AA12-85714851CE5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165C-0C5F-476C-BE21-4550E74DC29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7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1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4A7E-767A-4EB4-82AA-75C615EC48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F865-3275-4C02-A59E-17A657BB248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06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9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A8CB-1C2D-4D9A-90C4-219122CB2BB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4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7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42DB-7405-478E-AB3B-A2DCED0D5F4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2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5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298D-C0B1-4EE1-A2B3-DE62F1E94A2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0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34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4C89-304D-49D2-ACAC-DE94BC6BC30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8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42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B865-AA8E-45B2-9288-CD84C487F25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CF76-736D-439A-8FAF-9907F0D867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0753-B22B-486D-8916-B246A9FC9D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1D8A-3C90-4C10-A403-3E53747944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A9DB-5DC3-41F1-8C39-85ABCF8B33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C17C-A86B-445A-AC10-2FE1ACCB16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3D33-E26B-41A0-AA4E-4422B60BE7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C19A-753F-4310-A342-98F5AF8B1F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" Target="slide3.xml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" Target="slide3.xml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4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image" Target="../media/image7.gif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6.gif"/><Relationship Id="rId4" Type="http://schemas.openxmlformats.org/officeDocument/2006/relationships/slide" Target="slide3.xml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WordArt 7"/>
          <p:cNvSpPr txBox="1"/>
          <p:nvPr/>
        </p:nvSpPr>
        <p:spPr>
          <a:xfrm>
            <a:off x="1835280" y="817560"/>
            <a:ext cx="5976720" cy="208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ворческая работа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2" name="WordArt 9"/>
          <p:cNvSpPr txBox="1"/>
          <p:nvPr/>
        </p:nvSpPr>
        <p:spPr>
          <a:xfrm>
            <a:off x="1187280" y="2082960"/>
            <a:ext cx="684072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Основы информатики».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3" name="Text Box 13"/>
          <p:cNvSpPr/>
          <p:nvPr/>
        </p:nvSpPr>
        <p:spPr>
          <a:xfrm>
            <a:off x="250920" y="395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МОУ «Большеберезниковская средняя общеобразовательная школа №1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14"/>
          <p:cNvSpPr/>
          <p:nvPr/>
        </p:nvSpPr>
        <p:spPr>
          <a:xfrm>
            <a:off x="3924360" y="4121280"/>
            <a:ext cx="4968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Comic Sans MS"/>
              </a:rPr>
              <a:t>Автор: Забатурина Алё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Comic Sans MS"/>
              </a:rPr>
              <a:t>Учитель:Устимкина Л.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 Box 15"/>
          <p:cNvSpPr/>
          <p:nvPr/>
        </p:nvSpPr>
        <p:spPr>
          <a:xfrm>
            <a:off x="3059280" y="6091200"/>
            <a:ext cx="25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2007 год</a:t>
            </a: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WordArt 7"/>
          <p:cNvSpPr txBox="1"/>
          <p:nvPr/>
        </p:nvSpPr>
        <p:spPr>
          <a:xfrm>
            <a:off x="1547640" y="189000"/>
            <a:ext cx="4680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Архитектура ЭВМ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49" name="WordArt 8"/>
          <p:cNvSpPr txBox="1"/>
          <p:nvPr/>
        </p:nvSpPr>
        <p:spPr>
          <a:xfrm>
            <a:off x="468360" y="1916280"/>
            <a:ext cx="42447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рхитектура ЭВМ-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0" name="Text Box 9"/>
          <p:cNvSpPr/>
          <p:nvPr/>
        </p:nvSpPr>
        <p:spPr>
          <a:xfrm>
            <a:off x="1763640" y="2997360"/>
            <a:ext cx="7559640" cy="100872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описание устройства и принципов работы компьютера, достаточное для пользователя и программ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WordArt 10"/>
          <p:cNvSpPr txBox="1"/>
          <p:nvPr/>
        </p:nvSpPr>
        <p:spPr>
          <a:xfrm>
            <a:off x="468360" y="4221000"/>
            <a:ext cx="25430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грамма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2" name="Text Box 11"/>
          <p:cNvSpPr/>
          <p:nvPr/>
        </p:nvSpPr>
        <p:spPr>
          <a:xfrm>
            <a:off x="3492360" y="4149720"/>
            <a:ext cx="5867640" cy="96228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Comic Sans MS"/>
              </a:rPr>
              <a:t>Это указание на последовательность действий, которую должен выполнить компьюте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12"/>
          <p:cNvSpPr/>
          <p:nvPr/>
        </p:nvSpPr>
        <p:spPr>
          <a:xfrm>
            <a:off x="324000" y="5373720"/>
            <a:ext cx="8569080" cy="131364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 состав компьютера входят: процессор, память, устройство ввода, устройство вывода. У компьютера имеется внутренняя и внешняя память. Внутренняя- оперативная память. Внешняя- долговременная па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4" name="Picture 13" descr="star71"/>
          <p:cNvPicPr/>
          <p:nvPr/>
        </p:nvPicPr>
        <p:blipFill>
          <a:blip r:embed="rId3"/>
          <a:stretch/>
        </p:blipFill>
        <p:spPr>
          <a:xfrm>
            <a:off x="8238960" y="0"/>
            <a:ext cx="905040" cy="81900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6" descr="star71"/>
          <p:cNvPicPr/>
          <p:nvPr/>
        </p:nvPicPr>
        <p:blipFill>
          <a:blip r:embed="rId4"/>
          <a:stretch/>
        </p:blipFill>
        <p:spPr>
          <a:xfrm>
            <a:off x="7380360" y="765000"/>
            <a:ext cx="904680" cy="81936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9" descr="star71"/>
          <p:cNvPicPr/>
          <p:nvPr/>
        </p:nvPicPr>
        <p:blipFill>
          <a:blip r:embed="rId5"/>
          <a:stretch/>
        </p:blipFill>
        <p:spPr>
          <a:xfrm>
            <a:off x="6588000" y="1628640"/>
            <a:ext cx="905040" cy="819360"/>
          </a:xfrm>
          <a:prstGeom prst="rect">
            <a:avLst/>
          </a:prstGeom>
          <a:ln w="0">
            <a:noFill/>
          </a:ln>
        </p:spPr>
      </p:pic>
      <p:sp>
        <p:nvSpPr>
          <p:cNvPr id="1557" name="Text Box 22"/>
          <p:cNvSpPr/>
          <p:nvPr/>
        </p:nvSpPr>
        <p:spPr>
          <a:xfrm>
            <a:off x="5562720" y="64771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WordArt 13"/>
          <p:cNvSpPr txBox="1"/>
          <p:nvPr/>
        </p:nvSpPr>
        <p:spPr>
          <a:xfrm>
            <a:off x="2050920" y="549360"/>
            <a:ext cx="46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Устройство ПК.</a:t>
            </a:r>
            <a:endParaRPr b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60" name="Text Box 14"/>
          <p:cNvSpPr/>
          <p:nvPr/>
        </p:nvSpPr>
        <p:spPr>
          <a:xfrm>
            <a:off x="395280" y="1557360"/>
            <a:ext cx="8353440" cy="531000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В состав системного блока входят : микропроцессор, внутренняя память, дисководы, блок питания, контроллеры внешних устрой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Все устройство ПК связаны между собой по многопроводной линии, которая называется информационной магистрал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ыми техническими характеристиками ПК являются: объем внутренней памяти, тактовая чистота микропроцессора, разрядность микропроцесс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Каждое внешнее устройство имеет свой адрес. Передаваемая к нему информация – по шине данных сопровождается адресом устройства – по адресной ши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8"/>
          <p:cNvSpPr/>
          <p:nvPr/>
        </p:nvSpPr>
        <p:spPr>
          <a:xfrm>
            <a:off x="4038480" y="61722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Picture 7" descr="Seaside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66" name="WordArt 10"/>
          <p:cNvSpPr txBox="1"/>
          <p:nvPr/>
        </p:nvSpPr>
        <p:spPr>
          <a:xfrm>
            <a:off x="900000" y="189000"/>
            <a:ext cx="727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е файлы и редакторы.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7" name="WordArt 11"/>
          <p:cNvSpPr txBox="1"/>
          <p:nvPr/>
        </p:nvSpPr>
        <p:spPr>
          <a:xfrm>
            <a:off x="468360" y="1484280"/>
            <a:ext cx="3514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й файл-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4211640" y="141300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Простейший способ организации данных в компьютере. Он состоит только из кодов таблицы символьной кодировки</a:t>
            </a: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WordArt 13"/>
          <p:cNvSpPr txBox="1"/>
          <p:nvPr/>
        </p:nvSpPr>
        <p:spPr>
          <a:xfrm>
            <a:off x="0" y="3357720"/>
            <a:ext cx="43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й редактор-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4643280" y="2852640"/>
            <a:ext cx="450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Это прикладная программа, позволяющая создать текстовые документы, редактировать их, просматривать содержимое документа на экране, распечатывать документ, изменять формат доку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0" y="5373720"/>
            <a:ext cx="89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Стандартными компонентами среды ТР являются: рабочее поле, текстовый курсор, строка состояния, меню команд. Текстовый файл разделен на строки. Разделителем является специальные управляющие коды. В конце файла ставится код «Конец фай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5715000" y="6673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6" name="Picture 4" descr="SKYSONG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77" name="WordArt 7"/>
          <p:cNvSpPr txBox="1"/>
          <p:nvPr/>
        </p:nvSpPr>
        <p:spPr>
          <a:xfrm>
            <a:off x="611280" y="333360"/>
            <a:ext cx="5819760" cy="7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ксты в компьютерной памят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78" name="WordArt 8"/>
          <p:cNvSpPr txBox="1"/>
          <p:nvPr/>
        </p:nvSpPr>
        <p:spPr>
          <a:xfrm>
            <a:off x="539640" y="1700280"/>
            <a:ext cx="38163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Гипертекст-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79" name="Text Box 9"/>
          <p:cNvSpPr/>
          <p:nvPr/>
        </p:nvSpPr>
        <p:spPr>
          <a:xfrm>
            <a:off x="4284720" y="1197000"/>
            <a:ext cx="46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Это способ организации текста, который можно просматривать в последовательности смысловых связей между его отдельными фрагме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WordArt 10"/>
          <p:cNvSpPr txBox="1"/>
          <p:nvPr/>
        </p:nvSpPr>
        <p:spPr>
          <a:xfrm>
            <a:off x="250920" y="3068640"/>
            <a:ext cx="50101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Таблица кодировки-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81" name="Text Box 11"/>
          <p:cNvSpPr/>
          <p:nvPr/>
        </p:nvSpPr>
        <p:spPr>
          <a:xfrm>
            <a:off x="5219640" y="3068640"/>
            <a:ext cx="42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Таблица в которой всем символам компьютерного алфавита поставлены в соответствие порядковые ном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12"/>
          <p:cNvSpPr/>
          <p:nvPr/>
        </p:nvSpPr>
        <p:spPr>
          <a:xfrm>
            <a:off x="250920" y="5013360"/>
            <a:ext cx="93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Международным стандартом является код </a:t>
            </a: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ASCII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- американский  стандартный код информационного  обмена. Каждый символ текста кодируется восьмиразрядным двоичным кодом. Для представления текстов в компьютере используется алфавит мощностью 256 симв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3" name="Picture 13" descr="book10"/>
          <p:cNvPicPr/>
          <p:nvPr/>
        </p:nvPicPr>
        <p:blipFill>
          <a:blip r:embed="rId2"/>
          <a:stretch/>
        </p:blipFill>
        <p:spPr>
          <a:xfrm>
            <a:off x="7451640" y="189000"/>
            <a:ext cx="1692360" cy="718920"/>
          </a:xfrm>
          <a:prstGeom prst="rect">
            <a:avLst/>
          </a:prstGeom>
          <a:ln w="0">
            <a:noFill/>
          </a:ln>
        </p:spPr>
      </p:pic>
      <p:sp>
        <p:nvSpPr>
          <p:cNvPr id="1584" name="Text Box 16"/>
          <p:cNvSpPr/>
          <p:nvPr/>
        </p:nvSpPr>
        <p:spPr>
          <a:xfrm>
            <a:off x="5029200" y="6248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Вернуть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cc33"/>
                </a:solidFill>
                <a:latin typeface="Arial"/>
              </a:rPr>
              <a:t>к п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4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8" name="Picture 4" descr="Sunset"/>
          <p:cNvPicPr/>
          <p:nvPr/>
        </p:nvPicPr>
        <p:blipFill>
          <a:blip r:embed="rId1"/>
          <a:stretch/>
        </p:blipFill>
        <p:spPr>
          <a:xfrm>
            <a:off x="-1332000" y="-674640"/>
            <a:ext cx="11331720" cy="8229600"/>
          </a:xfrm>
          <a:prstGeom prst="rect">
            <a:avLst/>
          </a:prstGeom>
          <a:ln w="0">
            <a:noFill/>
          </a:ln>
        </p:spPr>
      </p:pic>
      <p:sp>
        <p:nvSpPr>
          <p:cNvPr id="1589" name="WordArt 7"/>
          <p:cNvSpPr txBox="1"/>
          <p:nvPr/>
        </p:nvSpPr>
        <p:spPr>
          <a:xfrm>
            <a:off x="900000" y="0"/>
            <a:ext cx="669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Компьютерная графика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90" name="WordArt 8"/>
          <p:cNvSpPr txBox="1"/>
          <p:nvPr/>
        </p:nvSpPr>
        <p:spPr>
          <a:xfrm>
            <a:off x="0" y="184464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Компьютерная графика-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91" name="Text Box 9"/>
          <p:cNvSpPr/>
          <p:nvPr/>
        </p:nvSpPr>
        <p:spPr>
          <a:xfrm>
            <a:off x="3851280" y="1700280"/>
            <a:ext cx="554508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3366ff"/>
                </a:solidFill>
                <a:latin typeface="Comic Sans MS"/>
              </a:rPr>
              <a:t>Раздел информации, занимающийся проблемами «рисования» на ЭВ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WordArt 10"/>
          <p:cNvSpPr txBox="1"/>
          <p:nvPr/>
        </p:nvSpPr>
        <p:spPr>
          <a:xfrm>
            <a:off x="179280" y="2924280"/>
            <a:ext cx="273708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onotype Corsiva"/>
              </a:rPr>
              <a:t>Мультимедия-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593" name="Text Box 11"/>
          <p:cNvSpPr/>
          <p:nvPr/>
        </p:nvSpPr>
        <p:spPr>
          <a:xfrm>
            <a:off x="2771640" y="2924280"/>
            <a:ext cx="5977080" cy="143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ff0066"/>
                </a:solidFill>
                <a:latin typeface="Comic Sans MS"/>
              </a:rPr>
              <a:t>Это объединенный вывод на компьютере текста, статических изображений, видео, анимации и зву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12"/>
          <p:cNvSpPr/>
          <p:nvPr/>
        </p:nvSpPr>
        <p:spPr>
          <a:xfrm>
            <a:off x="0" y="4221000"/>
            <a:ext cx="9650520" cy="2440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cc0099"/>
                </a:solidFill>
                <a:latin typeface="Comic Sans MS"/>
              </a:rPr>
              <a:t>Устройства вывода графических изображений на компьютере: графопостроитель,  графический дисплей, принтер. Для получения графических изображений требуется специальное программное обеспечение- графические пакеты. Основные области применения компьютерной графики: научная графика, деловая графика, иллюстративная графика, художественная и рекламная граф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Picture 13" descr="butterfly23"/>
          <p:cNvPicPr/>
          <p:nvPr/>
        </p:nvPicPr>
        <p:blipFill>
          <a:blip r:embed="rId4"/>
          <a:stretch/>
        </p:blipFill>
        <p:spPr>
          <a:xfrm>
            <a:off x="8062920" y="333360"/>
            <a:ext cx="1081080" cy="647640"/>
          </a:xfrm>
          <a:prstGeom prst="rect">
            <a:avLst/>
          </a:prstGeom>
          <a:ln w="0">
            <a:noFill/>
          </a:ln>
        </p:spPr>
      </p:pic>
      <p:sp>
        <p:nvSpPr>
          <p:cNvPr id="1596" name="Text Box 16"/>
          <p:cNvSpPr/>
          <p:nvPr/>
        </p:nvSpPr>
        <p:spPr>
          <a:xfrm>
            <a:off x="533520" y="15238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9" name="Picture 4" descr="COF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0" name="WordArt 8"/>
          <p:cNvSpPr txBox="1"/>
          <p:nvPr/>
        </p:nvSpPr>
        <p:spPr>
          <a:xfrm>
            <a:off x="971640" y="404640"/>
            <a:ext cx="727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редства компьютерной графики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1" name="Text Box 9"/>
          <p:cNvSpPr/>
          <p:nvPr/>
        </p:nvSpPr>
        <p:spPr>
          <a:xfrm>
            <a:off x="971640" y="1127160"/>
            <a:ext cx="7777080" cy="516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истема вывода изображения на экран включает в себя дисплей и видеоадаптер. Изображение на дисплее получается из совокупности множества светящихся точек - видеопикселе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иксели на экране образуют сетку из горизонтальных строк и вертикальных столбцов, которая носит название «растр». Размер графической сетки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 * N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определяет разрешающую способность экрана, от которой зависит качество изображения. Луч электронной пушки периодически сканирует строки растра с высокой частотой, воспроизводя изображение. На черно-белых дисплеях пиксель может иметь только два цвета. Электронная пушка испускает один луч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идеоадаптер состоит из видеопамяти и дисплейного процессора. В видеопамяти хранится двоичный код изображения, выводимого на экран. Для ввода изображения в компьютер используются сканеры, цифровые фотоаппараты, цифровые видеокамер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2" name="Picture 10" descr="star15"/>
          <p:cNvPicPr/>
          <p:nvPr/>
        </p:nvPicPr>
        <p:blipFill>
          <a:blip r:embed="rId2"/>
          <a:stretch/>
        </p:blipFill>
        <p:spPr>
          <a:xfrm>
            <a:off x="8101080" y="1125360"/>
            <a:ext cx="711000" cy="581040"/>
          </a:xfrm>
          <a:prstGeom prst="rect">
            <a:avLst/>
          </a:prstGeom>
          <a:ln w="0">
            <a:noFill/>
          </a:ln>
        </p:spPr>
      </p:pic>
      <p:pic>
        <p:nvPicPr>
          <p:cNvPr id="1603" name="Picture 13" descr="star15"/>
          <p:cNvPicPr/>
          <p:nvPr/>
        </p:nvPicPr>
        <p:blipFill>
          <a:blip r:embed="rId3"/>
          <a:stretch/>
        </p:blipFill>
        <p:spPr>
          <a:xfrm>
            <a:off x="179280" y="6021360"/>
            <a:ext cx="1008000" cy="654120"/>
          </a:xfrm>
          <a:prstGeom prst="rect">
            <a:avLst/>
          </a:prstGeom>
          <a:ln w="0">
            <a:noFill/>
          </a:ln>
        </p:spPr>
      </p:pic>
      <p:pic>
        <p:nvPicPr>
          <p:cNvPr id="1604" name="Picture 16" descr="star15"/>
          <p:cNvPicPr/>
          <p:nvPr/>
        </p:nvPicPr>
        <p:blipFill>
          <a:blip r:embed="rId4"/>
          <a:stretch/>
        </p:blipFill>
        <p:spPr>
          <a:xfrm>
            <a:off x="7885080" y="6021360"/>
            <a:ext cx="1258920" cy="83664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19" descr="star15"/>
          <p:cNvPicPr/>
          <p:nvPr/>
        </p:nvPicPr>
        <p:blipFill>
          <a:blip r:embed="rId5"/>
          <a:stretch/>
        </p:blipFill>
        <p:spPr>
          <a:xfrm>
            <a:off x="0" y="1700280"/>
            <a:ext cx="971640" cy="64908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22" descr="star15"/>
          <p:cNvPicPr/>
          <p:nvPr/>
        </p:nvPicPr>
        <p:blipFill>
          <a:blip r:embed="rId6"/>
          <a:stretch/>
        </p:blipFill>
        <p:spPr>
          <a:xfrm>
            <a:off x="4284720" y="1989000"/>
            <a:ext cx="1079280" cy="509760"/>
          </a:xfrm>
          <a:prstGeom prst="rect">
            <a:avLst/>
          </a:prstGeom>
          <a:ln w="0">
            <a:noFill/>
          </a:ln>
        </p:spPr>
      </p:pic>
      <p:sp>
        <p:nvSpPr>
          <p:cNvPr id="1607" name="Text Box 25"/>
          <p:cNvSpPr/>
          <p:nvPr/>
        </p:nvSpPr>
        <p:spPr>
          <a:xfrm>
            <a:off x="4267080" y="64771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9" dur="200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2" dur="200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Picture 7" descr="pic1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1" name="WordArt 10"/>
          <p:cNvSpPr txBox="1"/>
          <p:nvPr/>
        </p:nvSpPr>
        <p:spPr>
          <a:xfrm>
            <a:off x="1547640" y="260280"/>
            <a:ext cx="525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блицы и модели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2" name="WordArt 11"/>
          <p:cNvSpPr txBox="1"/>
          <p:nvPr/>
        </p:nvSpPr>
        <p:spPr>
          <a:xfrm>
            <a:off x="755640" y="1916280"/>
            <a:ext cx="1714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дель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3" name="Text Box 12"/>
          <p:cNvSpPr/>
          <p:nvPr/>
        </p:nvSpPr>
        <p:spPr>
          <a:xfrm>
            <a:off x="3059280" y="170028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некоторое упрощенное подобие реального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13"/>
          <p:cNvSpPr/>
          <p:nvPr/>
        </p:nvSpPr>
        <p:spPr>
          <a:xfrm>
            <a:off x="826920" y="2924280"/>
            <a:ext cx="7993080" cy="5045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Monotype Corsiva"/>
              </a:rPr>
              <a:t>  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Monotype Corsiva"/>
              </a:rPr>
              <a:t>Модели бывают материальными и информационными. Информационная модель представляет собой описание моделированного объекта. Прежде чем строить информационную модель, производится системный анализ объекта моделирования. Задача системного анализа- выделить существенные части, свойства, связи моделируемой системы, определить её структуру. Наглядным способом представления информационных моделей являются графические изображения: карты, чертежи, схемы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Picture 14" descr="BULLET4"/>
          <p:cNvPicPr/>
          <p:nvPr/>
        </p:nvPicPr>
        <p:blipFill>
          <a:blip r:embed="rId4"/>
          <a:stretch/>
        </p:blipFill>
        <p:spPr>
          <a:xfrm>
            <a:off x="7920000" y="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17" descr="BULLET4"/>
          <p:cNvPicPr/>
          <p:nvPr/>
        </p:nvPicPr>
        <p:blipFill>
          <a:blip r:embed="rId5"/>
          <a:stretch/>
        </p:blipFill>
        <p:spPr>
          <a:xfrm>
            <a:off x="6948360" y="1268280"/>
            <a:ext cx="1295640" cy="720720"/>
          </a:xfrm>
          <a:prstGeom prst="rect">
            <a:avLst/>
          </a:prstGeom>
          <a:ln w="0">
            <a:noFill/>
          </a:ln>
        </p:spPr>
      </p:pic>
      <p:sp>
        <p:nvSpPr>
          <p:cNvPr id="1617" name="Text Box 20"/>
          <p:cNvSpPr/>
          <p:nvPr/>
        </p:nvSpPr>
        <p:spPr>
          <a:xfrm>
            <a:off x="5334120" y="62485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2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0" name="Picture 4" descr="BIG 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1" name="WordArt 7"/>
          <p:cNvSpPr txBox="1"/>
          <p:nvPr/>
        </p:nvSpPr>
        <p:spPr>
          <a:xfrm>
            <a:off x="1692360" y="189000"/>
            <a:ext cx="55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афический редактор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2" name="WordArt 8"/>
          <p:cNvSpPr txBox="1"/>
          <p:nvPr/>
        </p:nvSpPr>
        <p:spPr>
          <a:xfrm>
            <a:off x="684360" y="1844640"/>
            <a:ext cx="54003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рафический редактор-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3" name="Text Box 9"/>
          <p:cNvSpPr/>
          <p:nvPr/>
        </p:nvSpPr>
        <p:spPr>
          <a:xfrm>
            <a:off x="1979640" y="2637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прикладная программа для получения рисованных изобра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 Box 10"/>
          <p:cNvSpPr/>
          <p:nvPr/>
        </p:nvSpPr>
        <p:spPr>
          <a:xfrm>
            <a:off x="539640" y="3716280"/>
            <a:ext cx="835344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Рисунок, создаваемый средствами графического редактора, формируется на экране, а затем может быть сохранен в фай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Среда любого ГР содержит рабочее поле, меню инструментов, цветов, меню команд для работы с файлами, печати рисунка и других операций. ГР позволяет включать в рисунок тексты, используя буквы разных размеров и шриф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5" name="Picture 11" descr="V25ANI"/>
          <p:cNvPicPr/>
          <p:nvPr/>
        </p:nvPicPr>
        <p:blipFill>
          <a:blip r:embed="rId2"/>
          <a:stretch/>
        </p:blipFill>
        <p:spPr>
          <a:xfrm>
            <a:off x="7596360" y="836640"/>
            <a:ext cx="1223640" cy="107964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14" descr="V25ANI"/>
          <p:cNvPicPr/>
          <p:nvPr/>
        </p:nvPicPr>
        <p:blipFill>
          <a:blip r:embed="rId3"/>
          <a:stretch/>
        </p:blipFill>
        <p:spPr>
          <a:xfrm>
            <a:off x="179280" y="2492280"/>
            <a:ext cx="1368360" cy="1152720"/>
          </a:xfrm>
          <a:prstGeom prst="rect">
            <a:avLst/>
          </a:prstGeom>
          <a:ln w="0">
            <a:noFill/>
          </a:ln>
        </p:spPr>
      </p:pic>
      <p:sp>
        <p:nvSpPr>
          <p:cNvPr id="1627" name="Text Box 17"/>
          <p:cNvSpPr/>
          <p:nvPr/>
        </p:nvSpPr>
        <p:spPr>
          <a:xfrm>
            <a:off x="4572000" y="61722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0" dur="20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0" name="Picture 4" descr="whitemagic"/>
          <p:cNvPicPr/>
          <p:nvPr/>
        </p:nvPicPr>
        <p:blipFill>
          <a:blip r:embed="rId1"/>
          <a:stretch/>
        </p:blipFill>
        <p:spPr>
          <a:xfrm>
            <a:off x="-396720" y="-67464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1631" name="WordArt 8"/>
          <p:cNvSpPr txBox="1"/>
          <p:nvPr/>
        </p:nvSpPr>
        <p:spPr>
          <a:xfrm>
            <a:off x="1187280" y="0"/>
            <a:ext cx="7410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ройство компьютерной сети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2" name="WordArt 9"/>
          <p:cNvSpPr txBox="1"/>
          <p:nvPr/>
        </p:nvSpPr>
        <p:spPr>
          <a:xfrm>
            <a:off x="324000" y="1413000"/>
            <a:ext cx="49528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Unicode MS"/>
              </a:rPr>
              <a:t>Компьютерная сеть-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633" name="Text Box 10"/>
          <p:cNvSpPr/>
          <p:nvPr/>
        </p:nvSpPr>
        <p:spPr>
          <a:xfrm>
            <a:off x="5508720" y="112536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Система компьютеров, связанных каналами передачи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11"/>
          <p:cNvSpPr/>
          <p:nvPr/>
        </p:nvSpPr>
        <p:spPr>
          <a:xfrm>
            <a:off x="468360" y="2492280"/>
            <a:ext cx="892800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66cc"/>
                </a:solidFill>
                <a:latin typeface="Comic Sans MS"/>
              </a:rPr>
              <a:t>Компьютерные сети бывают локальными и глобальными. В одноранговых локальных сетях все компьютеры равноправны. Локальная сеть с выделенным компьютером включает в себя сервер и множество рабочих станций. Сервер используется как хранилище общих информационных ресурсов, а так же содержит некоторые технические устройства общего доступа. Глобальная сеть- это система связанных между собой локальных сетей и компьютеров отдельных пользователей. Персональные компьютеры пользователей подсоединяются к узлам глобальной сети. Существуют сети региональные, отраслевые. В настоящее время большинство из них объединено в мировую систему –</a:t>
            </a:r>
            <a:r>
              <a:rPr b="1" lang="en-US" sz="2000" spc="-1" strike="noStrike">
                <a:solidFill>
                  <a:srgbClr val="ff66cc"/>
                </a:solidFill>
                <a:latin typeface="Comic Sans MS"/>
              </a:rPr>
              <a:t>Internet</a:t>
            </a:r>
            <a:r>
              <a:rPr b="1" lang="ru-RU" sz="2000" spc="-1" strike="noStrike">
                <a:solidFill>
                  <a:srgbClr val="ff66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 Box 16"/>
          <p:cNvSpPr/>
          <p:nvPr/>
        </p:nvSpPr>
        <p:spPr>
          <a:xfrm>
            <a:off x="5334120" y="5867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WordArt 7"/>
          <p:cNvSpPr txBox="1"/>
          <p:nvPr/>
        </p:nvSpPr>
        <p:spPr>
          <a:xfrm>
            <a:off x="1547640" y="0"/>
            <a:ext cx="55454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Электронная почта.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38" name="WordArt 8"/>
          <p:cNvSpPr txBox="1"/>
          <p:nvPr/>
        </p:nvSpPr>
        <p:spPr>
          <a:xfrm>
            <a:off x="611280" y="1341360"/>
            <a:ext cx="3771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онная почта-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9" name="Text Box 9"/>
          <p:cNvSpPr/>
          <p:nvPr/>
        </p:nvSpPr>
        <p:spPr>
          <a:xfrm>
            <a:off x="4462560" y="1600200"/>
            <a:ext cx="46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обмен письмами в компьютерных се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WordArt 10"/>
          <p:cNvSpPr txBox="1"/>
          <p:nvPr/>
        </p:nvSpPr>
        <p:spPr>
          <a:xfrm>
            <a:off x="0" y="2637000"/>
            <a:ext cx="3591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чтовый ящик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1" name="Text Box 11"/>
          <p:cNvSpPr/>
          <p:nvPr/>
        </p:nvSpPr>
        <p:spPr>
          <a:xfrm>
            <a:off x="3581280" y="297180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раздел внешней памяти почтового сервера, отделенный для абон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WordArt 12"/>
          <p:cNvSpPr txBox="1"/>
          <p:nvPr/>
        </p:nvSpPr>
        <p:spPr>
          <a:xfrm>
            <a:off x="395280" y="3860640"/>
            <a:ext cx="4952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онное письмо-</a:t>
            </a:r>
            <a:endParaRPr b="1" lang="en-US" sz="1800" spc="1" strike="noStrike">
              <a:ln w="12600">
                <a:solidFill>
                  <a:srgbClr val="ff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3" name="Text Box 13"/>
          <p:cNvSpPr/>
          <p:nvPr/>
        </p:nvSpPr>
        <p:spPr>
          <a:xfrm>
            <a:off x="3814920" y="4437000"/>
            <a:ext cx="53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текстовый файл, содержащий конверт с адресом получателя и текст пись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WordArt 14"/>
          <p:cNvSpPr txBox="1"/>
          <p:nvPr/>
        </p:nvSpPr>
        <p:spPr>
          <a:xfrm>
            <a:off x="324000" y="5734080"/>
            <a:ext cx="3895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леконференция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5" name="Text Box 15"/>
          <p:cNvSpPr/>
          <p:nvPr/>
        </p:nvSpPr>
        <p:spPr>
          <a:xfrm>
            <a:off x="4211640" y="5516640"/>
            <a:ext cx="49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система обмена информацией на определенную тему между абонентами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Picture 16" descr="lines18"/>
          <p:cNvPicPr/>
          <p:nvPr/>
        </p:nvPicPr>
        <p:blipFill>
          <a:blip r:embed="rId2"/>
          <a:stretch/>
        </p:blipFill>
        <p:spPr>
          <a:xfrm>
            <a:off x="5940360" y="6237360"/>
            <a:ext cx="3672000" cy="811080"/>
          </a:xfrm>
          <a:prstGeom prst="rect">
            <a:avLst/>
          </a:prstGeom>
          <a:ln w="0">
            <a:noFill/>
          </a:ln>
        </p:spPr>
      </p:pic>
      <p:sp>
        <p:nvSpPr>
          <p:cNvPr id="1647" name="Text Box 22"/>
          <p:cNvSpPr/>
          <p:nvPr/>
        </p:nvSpPr>
        <p:spPr>
          <a:xfrm>
            <a:off x="0" y="3352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5" dur="2000"/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Picture 4" descr="1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9" name="WordArt 7"/>
          <p:cNvSpPr txBox="1"/>
          <p:nvPr/>
        </p:nvSpPr>
        <p:spPr>
          <a:xfrm>
            <a:off x="3419640" y="404640"/>
            <a:ext cx="187308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и: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80" name="Text Box 8"/>
          <p:cNvSpPr/>
          <p:nvPr/>
        </p:nvSpPr>
        <p:spPr>
          <a:xfrm>
            <a:off x="826920" y="2133720"/>
            <a:ext cx="792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ff33cc"/>
                </a:solidFill>
                <a:latin typeface="Comic Sans MS"/>
              </a:rPr>
              <a:t>Более подробно изучить основы информатики, так как в ней выступают одновременно инструмент для работы и объект изучения и совершенствования – информа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WordArt 8"/>
          <p:cNvSpPr txBox="1"/>
          <p:nvPr/>
        </p:nvSpPr>
        <p:spPr>
          <a:xfrm>
            <a:off x="2340000" y="549360"/>
            <a:ext cx="4371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Всемирная паутина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0" name="Text Box 9"/>
          <p:cNvSpPr/>
          <p:nvPr/>
        </p:nvSpPr>
        <p:spPr>
          <a:xfrm>
            <a:off x="539640" y="2492280"/>
            <a:ext cx="8280360" cy="31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   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Гипермедиа- система гиперсвязей между мультимедиа-докуме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Киберпространство-это совокупность мировых систем телекоммуникаций и циркулирующей в них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а- отдельный документ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ервер- компьютер в сети Интернет, хранящий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ы и соответствующее программное обеспе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Internet-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всемирная глобальная компьютерн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1" name="Picture 10" descr="flowers28"/>
          <p:cNvPicPr/>
          <p:nvPr/>
        </p:nvPicPr>
        <p:blipFill>
          <a:blip r:embed="rId2"/>
          <a:stretch/>
        </p:blipFill>
        <p:spPr>
          <a:xfrm>
            <a:off x="0" y="0"/>
            <a:ext cx="1187280" cy="1557360"/>
          </a:xfrm>
          <a:prstGeom prst="rect">
            <a:avLst/>
          </a:prstGeom>
          <a:ln w="0">
            <a:noFill/>
          </a:ln>
        </p:spPr>
      </p:pic>
      <p:pic>
        <p:nvPicPr>
          <p:cNvPr id="1652" name="Picture 13" descr="flowers28"/>
          <p:cNvPicPr/>
          <p:nvPr/>
        </p:nvPicPr>
        <p:blipFill>
          <a:blip r:embed="rId3"/>
          <a:stretch/>
        </p:blipFill>
        <p:spPr>
          <a:xfrm>
            <a:off x="7667640" y="5300640"/>
            <a:ext cx="1476360" cy="1557360"/>
          </a:xfrm>
          <a:prstGeom prst="rect">
            <a:avLst/>
          </a:prstGeom>
          <a:ln w="0">
            <a:noFill/>
          </a:ln>
        </p:spPr>
      </p:pic>
      <p:sp>
        <p:nvSpPr>
          <p:cNvPr id="1653" name="Text Box 16"/>
          <p:cNvSpPr/>
          <p:nvPr/>
        </p:nvSpPr>
        <p:spPr>
          <a:xfrm>
            <a:off x="4800600" y="5867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3" dur="2000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6" dur="2000"/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9" dur="2000"/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2" dur="2000"/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5" dur="2000"/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Picture 7" descr="daylight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1657" name="WordArt 10"/>
          <p:cNvSpPr txBox="1"/>
          <p:nvPr/>
        </p:nvSpPr>
        <p:spPr>
          <a:xfrm>
            <a:off x="2700360" y="476280"/>
            <a:ext cx="36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ключение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8" name="Text Box 11"/>
          <p:cNvSpPr/>
          <p:nvPr/>
        </p:nvSpPr>
        <p:spPr>
          <a:xfrm>
            <a:off x="1116000" y="227664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ff00"/>
                </a:solidFill>
                <a:uFillTx/>
                <a:latin typeface="Comic Sans MS"/>
              </a:rPr>
              <a:t>  </a:t>
            </a:r>
            <a:r>
              <a:rPr b="1" lang="ru-RU" sz="2400" spc="-1" strike="noStrike" u="sng">
                <a:solidFill>
                  <a:srgbClr val="00ff00"/>
                </a:solidFill>
                <a:uFillTx/>
                <a:latin typeface="Comic Sans MS"/>
              </a:rPr>
              <a:t>Изучение информатики необходимо в наше время. Так как информатика это наука будущего. В жизни современного человека информация играет не меньшую роль, чем вещество и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9" name="Picture 28" descr="bird4"/>
          <p:cNvPicPr/>
          <p:nvPr/>
        </p:nvPicPr>
        <p:blipFill>
          <a:blip r:embed="rId2"/>
          <a:stretch/>
        </p:blipFill>
        <p:spPr>
          <a:xfrm>
            <a:off x="8244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660" name="Picture 34" descr="bird4"/>
          <p:cNvPicPr/>
          <p:nvPr/>
        </p:nvPicPr>
        <p:blipFill>
          <a:blip r:embed="rId3"/>
          <a:stretch/>
        </p:blipFill>
        <p:spPr>
          <a:xfrm>
            <a:off x="7020000" y="83664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7" descr="bird4"/>
          <p:cNvPicPr/>
          <p:nvPr/>
        </p:nvPicPr>
        <p:blipFill>
          <a:blip r:embed="rId4"/>
          <a:stretch/>
        </p:blipFill>
        <p:spPr>
          <a:xfrm>
            <a:off x="5867280" y="141300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16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6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В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Информация и группы зн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3" action="ppaction://hlinksldjump"/>
              </a:rPr>
              <a:t>Язык-способ выражения информ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4" action="ppaction://hlinksldjump"/>
              </a:rPr>
              <a:t>Информационные процес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5" action="ppaction://hlinksldjump"/>
              </a:rPr>
              <a:t>Количество информ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6" action="ppaction://hlinksldjump"/>
              </a:rPr>
              <a:t>C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7" action="ppaction://hlinksldjump"/>
              </a:rPr>
              <a:t>истема счис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8" action="ppaction://hlinksldjump"/>
              </a:rPr>
              <a:t>Архитектура ЭВ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9" action="ppaction://hlinksldjump"/>
              </a:rPr>
              <a:t>Устройство П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0" action="ppaction://hlinksldjump"/>
              </a:rPr>
              <a:t>Текстовые файлы и редакто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1" action="ppaction://hlinksldjump"/>
              </a:rPr>
              <a:t>Тексты в компьютерной памя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2" action="ppaction://hlinksldjump"/>
              </a:rPr>
              <a:t>Компьютерная граф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3" action="ppaction://hlinksldjump"/>
              </a:rPr>
              <a:t>Устройство компьютерной сети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4" action="ppaction://hlinksldjump"/>
              </a:rPr>
              <a:t>Электронная поч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WordArt 4"/>
          <p:cNvSpPr txBox="1"/>
          <p:nvPr/>
        </p:nvSpPr>
        <p:spPr>
          <a:xfrm>
            <a:off x="2700360" y="260280"/>
            <a:ext cx="302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План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pic>
        <p:nvPicPr>
          <p:cNvPr id="1484" name="Picture 8" descr="flowers15"/>
          <p:cNvPicPr/>
          <p:nvPr/>
        </p:nvPicPr>
        <p:blipFill>
          <a:blip r:embed="rId15"/>
          <a:stretch/>
        </p:blipFill>
        <p:spPr>
          <a:xfrm>
            <a:off x="6877080" y="0"/>
            <a:ext cx="1878120" cy="1557360"/>
          </a:xfrm>
          <a:prstGeom prst="rect">
            <a:avLst/>
          </a:prstGeom>
          <a:ln w="0">
            <a:noFill/>
          </a:ln>
        </p:spPr>
      </p:pic>
      <p:sp>
        <p:nvSpPr>
          <p:cNvPr id="1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Picture 4" descr="Luv Bubble - 1024 x 768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88" name="WordArt 7"/>
          <p:cNvSpPr txBox="1"/>
          <p:nvPr/>
        </p:nvSpPr>
        <p:spPr>
          <a:xfrm>
            <a:off x="468360" y="836640"/>
            <a:ext cx="345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форматика -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9" name="WordArt 8"/>
          <p:cNvSpPr txBox="1"/>
          <p:nvPr/>
        </p:nvSpPr>
        <p:spPr>
          <a:xfrm>
            <a:off x="0" y="3284640"/>
            <a:ext cx="4172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форматика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0" name="Text Box 14"/>
          <p:cNvSpPr/>
          <p:nvPr/>
        </p:nvSpPr>
        <p:spPr>
          <a:xfrm>
            <a:off x="4356000" y="907920"/>
            <a:ext cx="453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наука, изучающая все аспекты получения, хранения, преобразования, передачи и использова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15"/>
          <p:cNvSpPr/>
          <p:nvPr/>
        </p:nvSpPr>
        <p:spPr>
          <a:xfrm>
            <a:off x="4643280" y="3500280"/>
            <a:ext cx="45007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то множество дисциплин, объединенных общим предметом изучения -информаци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ория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ибернет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грамм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ория алгорит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WordArt 16"/>
          <p:cNvSpPr txBox="1"/>
          <p:nvPr/>
        </p:nvSpPr>
        <p:spPr>
          <a:xfrm>
            <a:off x="3203640" y="0"/>
            <a:ext cx="2665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вед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493" name="Picture 17" descr="dog4"/>
          <p:cNvPicPr/>
          <p:nvPr/>
        </p:nvPicPr>
        <p:blipFill>
          <a:blip r:embed="rId2"/>
          <a:stretch/>
        </p:blipFill>
        <p:spPr>
          <a:xfrm>
            <a:off x="395280" y="5013360"/>
            <a:ext cx="2881440" cy="1584360"/>
          </a:xfrm>
          <a:prstGeom prst="rect">
            <a:avLst/>
          </a:prstGeom>
          <a:ln w="0">
            <a:noFill/>
          </a:ln>
        </p:spPr>
      </p:pic>
      <p:sp>
        <p:nvSpPr>
          <p:cNvPr id="1494" name="Text Box 19"/>
          <p:cNvSpPr/>
          <p:nvPr/>
        </p:nvSpPr>
        <p:spPr>
          <a:xfrm>
            <a:off x="0" y="66736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20">
            <a:hlinkClick r:id="rId3" action="ppaction://hlinksldjump"/>
          </p:cNvPr>
          <p:cNvSpPr/>
          <p:nvPr/>
        </p:nvSpPr>
        <p:spPr>
          <a:xfrm>
            <a:off x="0" y="64008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Picture 4" descr="Bliss2"/>
          <p:cNvPicPr/>
          <p:nvPr/>
        </p:nvPicPr>
        <p:blipFill>
          <a:blip r:embed="rId1"/>
          <a:stretch/>
        </p:blipFill>
        <p:spPr>
          <a:xfrm>
            <a:off x="-324000" y="-458640"/>
            <a:ext cx="9753840" cy="7800840"/>
          </a:xfrm>
          <a:prstGeom prst="rect">
            <a:avLst/>
          </a:prstGeom>
          <a:ln w="0">
            <a:noFill/>
          </a:ln>
        </p:spPr>
      </p:pic>
      <p:sp>
        <p:nvSpPr>
          <p:cNvPr id="1500" name="Text Box 7"/>
          <p:cNvSpPr/>
          <p:nvPr/>
        </p:nvSpPr>
        <p:spPr>
          <a:xfrm>
            <a:off x="611280" y="18900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11"/>
          <p:cNvSpPr/>
          <p:nvPr/>
        </p:nvSpPr>
        <p:spPr>
          <a:xfrm>
            <a:off x="1332000" y="33336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WordArt 13"/>
          <p:cNvSpPr txBox="1"/>
          <p:nvPr/>
        </p:nvSpPr>
        <p:spPr>
          <a:xfrm>
            <a:off x="1187280" y="-243000"/>
            <a:ext cx="61246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формация и группы знаний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3" name="WordArt 15"/>
          <p:cNvSpPr txBox="1"/>
          <p:nvPr/>
        </p:nvSpPr>
        <p:spPr>
          <a:xfrm>
            <a:off x="179280" y="2565360"/>
            <a:ext cx="2981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4" name="Text Box 16"/>
          <p:cNvSpPr/>
          <p:nvPr/>
        </p:nvSpPr>
        <p:spPr>
          <a:xfrm>
            <a:off x="3924360" y="220500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для человека - это знания, которые он получает из различных источ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18"/>
          <p:cNvSpPr/>
          <p:nvPr/>
        </p:nvSpPr>
        <p:spPr>
          <a:xfrm>
            <a:off x="0" y="4005360"/>
            <a:ext cx="9144000" cy="270468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Все знания делят на 3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1 группа начинается со слов «я знаю, что…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 знания называют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декларативными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слова «декларация»- знания, сообщ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2 группа начинается со слов «я знаю, как..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 знания называют </a:t>
            </a: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процедурным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определяют достижение какой-либо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Comic Sans MS"/>
              </a:rPr>
              <a:t>3 группа называется знания неинформатив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Эти сообщения не пополняют знания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6" name="Picture 19" descr="book17"/>
          <p:cNvPicPr/>
          <p:nvPr/>
        </p:nvPicPr>
        <p:blipFill>
          <a:blip r:embed="rId2"/>
          <a:stretch/>
        </p:blipFill>
        <p:spPr>
          <a:xfrm>
            <a:off x="7020000" y="2924280"/>
            <a:ext cx="2124000" cy="1195200"/>
          </a:xfrm>
          <a:prstGeom prst="rect">
            <a:avLst/>
          </a:prstGeom>
          <a:ln w="0">
            <a:noFill/>
          </a:ln>
        </p:spPr>
      </p:pic>
      <p:sp>
        <p:nvSpPr>
          <p:cNvPr id="1507" name="Text Box 23"/>
          <p:cNvSpPr/>
          <p:nvPr/>
        </p:nvSpPr>
        <p:spPr>
          <a:xfrm>
            <a:off x="0" y="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1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2" name="WordArt 9"/>
          <p:cNvSpPr txBox="1"/>
          <p:nvPr/>
        </p:nvSpPr>
        <p:spPr>
          <a:xfrm>
            <a:off x="0" y="260280"/>
            <a:ext cx="914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 - как способ выражения информации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3" name="WordArt 10"/>
          <p:cNvSpPr txBox="1"/>
          <p:nvPr/>
        </p:nvSpPr>
        <p:spPr>
          <a:xfrm>
            <a:off x="468360" y="1916280"/>
            <a:ext cx="1266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Язык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14" name="Text Box 11"/>
          <p:cNvSpPr/>
          <p:nvPr/>
        </p:nvSpPr>
        <p:spPr>
          <a:xfrm>
            <a:off x="2050920" y="1844640"/>
            <a:ext cx="51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Это знаковый способ представления информации. Общение на языках- это процесс передачи информации в знаков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WordArt 12"/>
          <p:cNvSpPr txBox="1"/>
          <p:nvPr/>
        </p:nvSpPr>
        <p:spPr>
          <a:xfrm>
            <a:off x="179280" y="3860640"/>
            <a:ext cx="32958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Языки бывают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16" name="Text Box 13"/>
          <p:cNvSpPr/>
          <p:nvPr/>
        </p:nvSpPr>
        <p:spPr>
          <a:xfrm>
            <a:off x="3995640" y="4149720"/>
            <a:ext cx="5148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omic Sans MS"/>
              </a:rPr>
              <a:t>Естественными и формальны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WordArt 14"/>
          <p:cNvSpPr txBox="1"/>
          <p:nvPr/>
        </p:nvSpPr>
        <p:spPr>
          <a:xfrm>
            <a:off x="250920" y="4941720"/>
            <a:ext cx="5410080" cy="8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разная информация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8" name="Text Box 15"/>
          <p:cNvSpPr/>
          <p:nvPr/>
        </p:nvSpPr>
        <p:spPr>
          <a:xfrm>
            <a:off x="684360" y="595008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Это сохранение в памяти ощущения человека от контакта с источ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 Box 16"/>
          <p:cNvSpPr/>
          <p:nvPr/>
        </p:nvSpPr>
        <p:spPr>
          <a:xfrm>
            <a:off x="6172200" y="6553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WordArt 7"/>
          <p:cNvSpPr txBox="1"/>
          <p:nvPr/>
        </p:nvSpPr>
        <p:spPr>
          <a:xfrm>
            <a:off x="1619280" y="476280"/>
            <a:ext cx="633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нформационные процессы.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22" name="Text Box 9"/>
          <p:cNvSpPr/>
          <p:nvPr/>
        </p:nvSpPr>
        <p:spPr>
          <a:xfrm>
            <a:off x="539640" y="2019240"/>
            <a:ext cx="8280360" cy="522972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елят на 3 группы: Процесс хранения </a:t>
            </a:r>
            <a:r>
              <a:rPr b="1" lang="ru-RU" sz="24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процесс передачи информации, процесс обработки </a:t>
            </a:r>
            <a:r>
              <a:rPr b="1" lang="ru-RU" sz="24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ловек хранит информацию в собственной памяти и на внешних носителях. Процесс передачи информации осуществляется от источника к приемнику по информационным каналам связи. Процесс обработки информации связан с получением новой или изменением формы или структуры данной информации; осуществлением поиска информации на внешних носите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3" name="Picture 10" descr="star60"/>
          <p:cNvPicPr/>
          <p:nvPr/>
        </p:nvPicPr>
        <p:blipFill>
          <a:blip r:embed="rId1"/>
          <a:stretch/>
        </p:blipFill>
        <p:spPr>
          <a:xfrm>
            <a:off x="7951680" y="189000"/>
            <a:ext cx="1192320" cy="100800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16" descr="star60"/>
          <p:cNvPicPr/>
          <p:nvPr/>
        </p:nvPicPr>
        <p:blipFill>
          <a:blip r:embed="rId2"/>
          <a:stretch/>
        </p:blipFill>
        <p:spPr>
          <a:xfrm>
            <a:off x="7740720" y="2637000"/>
            <a:ext cx="1192320" cy="963360"/>
          </a:xfrm>
          <a:prstGeom prst="rect">
            <a:avLst/>
          </a:prstGeom>
          <a:ln w="0">
            <a:noFill/>
          </a:ln>
        </p:spPr>
      </p:pic>
      <p:sp>
        <p:nvSpPr>
          <p:cNvPr id="1525" name="Text Box 19"/>
          <p:cNvSpPr/>
          <p:nvPr/>
        </p:nvSpPr>
        <p:spPr>
          <a:xfrm>
            <a:off x="6019920" y="1600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Picture 4" descr="UT2003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30" name="WordArt 7"/>
          <p:cNvSpPr txBox="1"/>
          <p:nvPr/>
        </p:nvSpPr>
        <p:spPr>
          <a:xfrm>
            <a:off x="826920" y="260280"/>
            <a:ext cx="763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Lucida Sans"/>
              </a:rPr>
              <a:t>Количество информации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Lucida Sans"/>
              <a:ea typeface="Lucida Sans"/>
            </a:endParaRPr>
          </a:p>
        </p:txBody>
      </p:sp>
      <p:sp>
        <p:nvSpPr>
          <p:cNvPr id="1531" name="WordArt 8"/>
          <p:cNvSpPr txBox="1"/>
          <p:nvPr/>
        </p:nvSpPr>
        <p:spPr>
          <a:xfrm>
            <a:off x="755640" y="1628640"/>
            <a:ext cx="111456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Бит-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32" name="Text Box 9"/>
          <p:cNvSpPr/>
          <p:nvPr/>
        </p:nvSpPr>
        <p:spPr>
          <a:xfrm>
            <a:off x="2268360" y="1773360"/>
            <a:ext cx="68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двоичного алфавита принятый за единицу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WordArt 10"/>
          <p:cNvSpPr txBox="1"/>
          <p:nvPr/>
        </p:nvSpPr>
        <p:spPr>
          <a:xfrm>
            <a:off x="0" y="3573360"/>
            <a:ext cx="2363760" cy="12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Алфавит-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534" name="Text Box 11"/>
          <p:cNvSpPr/>
          <p:nvPr/>
        </p:nvSpPr>
        <p:spPr>
          <a:xfrm>
            <a:off x="3059280" y="3500280"/>
            <a:ext cx="60847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то вся совокупность символов, используемых в некотором языке для представления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Мощность алфавита- это число символов в н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WordArt 12"/>
          <p:cNvSpPr txBox="1"/>
          <p:nvPr/>
        </p:nvSpPr>
        <p:spPr>
          <a:xfrm>
            <a:off x="826920" y="5229360"/>
            <a:ext cx="1219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Байт-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36" name="Text Box 13"/>
          <p:cNvSpPr/>
          <p:nvPr/>
        </p:nvSpPr>
        <p:spPr>
          <a:xfrm>
            <a:off x="2916360" y="5546880"/>
            <a:ext cx="48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из алфавита мощностью 256 символов.                                          1 байт=8 б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Picture 14" descr="butterfly46"/>
          <p:cNvPicPr/>
          <p:nvPr/>
        </p:nvPicPr>
        <p:blipFill>
          <a:blip r:embed="rId2"/>
          <a:stretch/>
        </p:blipFill>
        <p:spPr>
          <a:xfrm>
            <a:off x="7667640" y="5300640"/>
            <a:ext cx="1768320" cy="1851120"/>
          </a:xfrm>
          <a:prstGeom prst="rect">
            <a:avLst/>
          </a:prstGeom>
          <a:ln w="0">
            <a:noFill/>
          </a:ln>
        </p:spPr>
      </p:pic>
      <p:sp>
        <p:nvSpPr>
          <p:cNvPr id="1538" name="Text Box 17"/>
          <p:cNvSpPr/>
          <p:nvPr/>
        </p:nvSpPr>
        <p:spPr>
          <a:xfrm>
            <a:off x="5105520" y="6477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WordArt 7"/>
          <p:cNvSpPr txBox="1"/>
          <p:nvPr/>
        </p:nvSpPr>
        <p:spPr>
          <a:xfrm>
            <a:off x="1042920" y="260280"/>
            <a:ext cx="7274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Cистема счисления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1" name="WordArt 8"/>
          <p:cNvSpPr txBox="1"/>
          <p:nvPr/>
        </p:nvSpPr>
        <p:spPr>
          <a:xfrm>
            <a:off x="250920" y="1916280"/>
            <a:ext cx="466704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стема счисления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2" name="Text Box 9"/>
          <p:cNvSpPr/>
          <p:nvPr/>
        </p:nvSpPr>
        <p:spPr>
          <a:xfrm>
            <a:off x="324000" y="3141720"/>
            <a:ext cx="849600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bc6626"/>
                </a:solidFill>
                <a:latin typeface="Comic Sans MS"/>
              </a:rPr>
              <a:t>Это способ изображения чисел  и соответствующие ему правила действия над числами</a:t>
            </a:r>
            <a:r>
              <a:rPr b="1" lang="ru-RU" sz="2000" spc="-1" strike="noStrike">
                <a:solidFill>
                  <a:srgbClr val="f8e8d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10"/>
          <p:cNvSpPr/>
          <p:nvPr/>
        </p:nvSpPr>
        <p:spPr>
          <a:xfrm>
            <a:off x="468360" y="4149720"/>
            <a:ext cx="835164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Системы счисления бывают позиционными и непозиционными. Примером непозиционной системы является римская система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11"/>
          <p:cNvSpPr/>
          <p:nvPr/>
        </p:nvSpPr>
        <p:spPr>
          <a:xfrm>
            <a:off x="468360" y="5661000"/>
            <a:ext cx="820728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bc6626"/>
                </a:solidFill>
                <a:latin typeface="Comic Sans MS"/>
              </a:rPr>
              <a:t>Наименьшее возможное основание позиционной системы счисления – 2. Такая система называется двоичной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12" descr="book8"/>
          <p:cNvPicPr/>
          <p:nvPr/>
        </p:nvPicPr>
        <p:blipFill>
          <a:blip r:embed="rId3"/>
          <a:stretch/>
        </p:blipFill>
        <p:spPr>
          <a:xfrm>
            <a:off x="6948360" y="1916280"/>
            <a:ext cx="2195640" cy="1008000"/>
          </a:xfrm>
          <a:prstGeom prst="rect">
            <a:avLst/>
          </a:prstGeom>
          <a:ln w="0">
            <a:noFill/>
          </a:ln>
        </p:spPr>
      </p:pic>
      <p:sp>
        <p:nvSpPr>
          <p:cNvPr id="1546" name="Text Box 15"/>
          <p:cNvSpPr/>
          <p:nvPr/>
        </p:nvSpPr>
        <p:spPr>
          <a:xfrm>
            <a:off x="5181480" y="64771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7:12:56Z</dcterms:created>
  <dc:creator>!</dc:creator>
  <dc:description/>
  <dc:language>en-US</dc:language>
  <cp:lastModifiedBy>LEGION</cp:lastModifiedBy>
  <dcterms:modified xsi:type="dcterms:W3CDTF">2015-04-01T07:36:15Z</dcterms:modified>
  <cp:revision>34</cp:revision>
  <dc:subject/>
  <dc:title>Слайд 1</dc:title>
</cp:coreProperties>
</file>