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CB57-F95F-4689-86BB-FFC55A4AD3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. Компьютер.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ервичное понятие об информации, информатике и компьют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учебником; дать представление о предмете из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5598-D2E5-4D75-852B-5F59778CCE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книгу, мы тоже получаем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5606-C7BA-4735-9199-8D92C4DCCC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я такая Зовется просто —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звук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925C-7023-4EE4-91E0-D275A8F90B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уя с друзьями, можно узнать много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4439-4949-4260-AE39-7B9898412F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Информац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и данные об окружающем нас ми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CA82-796A-4A2E-A0F6-1917D5FDF3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4F60-229F-4E75-9D43-C6FF99FC68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кусе пищи узнаем, Когда во рту ее жуем. А информация какая, Ты догадался?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кусо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1AF7-D706-466E-974A-8582F176C3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и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67BA-8D9E-4005-B2A6-19E4E96419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2512-AD23-4E95-8B74-C25AE9F4F7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ти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8629-0401-415E-B6CC-1CC2584A64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ня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цветут в лесу цветы, То запах носом чуешь ты. И аромат акации Опять же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0402-DAB5-448E-9F03-219A24D71E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техник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8786-1B46-4A70-B228-E894D137A8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Органы чувств челове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2: какими органами чувств воспринимается информац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DE31-AD31-42C1-AEBC-610A02773B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A2FF-7805-4204-AE2F-545566F6B9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1C26-008D-4220-ABC6-1203913362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е обходятся без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87B6-BE9F-4EC1-94CB-DC0CD91EF4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, № 5 (учебн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( Р.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B645-E890-45B8-A39E-61FC39347A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загадки отгад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еселее отвеч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ней ты слышал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есет учитель в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звучит по 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радио включа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музыка игра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ю ка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лучаем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фильм по телевидению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зьями вместе ви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т мультиплик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маем пробу с разных блю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ни нам разный вкус даю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Во время дегуст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Какая информ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осим руки мы к костр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рнем, чувствуя жа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ая реа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этой информ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F83E-C6CA-41CF-AFF4-19907B6FD5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 1.1. с.7-10, § 2.2, РТ: №1, № 2 – с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FB3F-A5DE-4AB6-A5B5-9F6B50B4E8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0290-2EA2-460C-B859-87A2906BAA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F8EE-C854-42BD-8F0F-9F08536D47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A28-73ED-48E6-9BCA-59D8EFB5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BB3-B578-479C-9F55-F5C49341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093-B36C-4845-94FB-AAADE7CE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4A7-2912-4F18-B000-B52C172C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383C-03E3-44E9-9351-C0D1312F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0986-5B3E-4C85-8BDE-CB7E797E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067A-4DFD-4544-906C-CE6D1D9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4B07-F7BF-441F-A173-EF04572A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5D2E-9A66-4243-9DF0-38E7BE70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EE13-5248-42E1-8D47-55317B1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09D8-F95E-4D0E-BB87-DD9C4B60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F1B-C61B-458C-8BFE-B2348867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96E7-FDF8-4105-8BCF-6B449811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BA08-E3C6-4F49-89D3-0479D9F3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C7B9-6746-41C5-B9E0-E2C269CD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F6D8-C355-44AE-8E47-9A8D8504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C54C-9101-489A-88C7-215744B1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19060-D471-4F08-B5EC-A7314ECD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B8318-B094-4474-9285-1B9EFCA7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7864C-5795-434B-B998-70DE1D61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13D41-63E0-4C16-B6E3-47782103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C5E11-A99B-4238-BA0D-FB1FDC93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A6C-A389-478D-9EAE-E56DE408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51240-3340-4EA9-89FD-F891BF6C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19FE5-887F-45E3-9277-56EEDB23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3339B-46E6-4F75-AF86-92BA6F0B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4854F-089E-4D90-A0BF-A0D7B12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92B23-8063-498D-B609-6D24FA32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A0111-5A4A-4639-82B4-6C856899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65FEC-20CD-4A05-A56A-71AF0530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12DC8-1547-485E-A681-856295C3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D22F2-39C9-48BB-9482-6EC5787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D2805-F47D-4F4C-B747-6BBE8C0F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042-FD1A-4FA4-99EA-0C620B89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B433F-2E85-4E24-BDC6-705CCC6B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6CA02-1F7F-4DD6-BEA4-FCD7394A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0003-10F7-40CB-8B8B-F41894A3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C7A87-6C96-4B92-8645-F59B9F28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6208-534F-468A-95D6-9C56726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776E-2746-42DB-B2CD-52CFC5C1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E978-379E-46E6-8DBD-04CE6F84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31D5D-1038-400B-AAAD-E26C9AF8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DD97E-B381-4769-8CDF-984C93C9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CBD0D-3CAD-435E-A206-5AC7618F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386-50EB-42F2-AFD9-D8765412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745E5-CC5D-40DF-8218-4825D03A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5FC91-09A1-4AFA-A689-E334B6A3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28F78-EF1C-4496-A664-E62CC4E9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D419C-8D57-4321-B920-EFFC1B3D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C4964-37AA-48BB-BBD4-CA178916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597E8-82AD-4604-A4B5-3964909E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54124-806C-4731-9660-2A651322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E7EDE-2EB7-4DCC-9FB6-DD17B247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38248-76C2-4EEE-A030-BB42A500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45BA5-AB2D-4AB2-99D4-017166B4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3F4-D64A-41C6-A6F5-638F69E9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6AB2-7461-43D6-A3F8-E941BBC0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0A890-843F-4C68-8E70-A7783515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F15A-AE4F-4B17-BAE9-AEA36E5B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576AC-F582-40CD-91B6-A8A5CED5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B6A59-3C8A-43D2-9BB4-33B6C683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F8AEB-28D1-4E37-8F77-31D8DB6E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D0AD1-24D0-4329-92A0-8532FF38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7BA36-E3CB-4DB8-982D-6830B387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798F1-5186-4BE8-A501-1FF1CFBB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5B8EA-0B90-4BCB-8CD6-CFCB5A21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3DF-01C5-4C70-8A93-7CA7F835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F2AA8-F507-4EFB-8482-A35BE0B5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21F76-5E41-48F3-81F6-2365044E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08879-A484-4F7F-8367-BBE83217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433-23EE-4C8E-99E4-90135723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0C8-30BF-4D1B-8927-645FCE78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5137-454D-4F8A-A43C-0A280BAEAF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9CC6-0177-4A02-AD53-D2995526347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AC28-4DA6-4CB3-A1B9-357A4D304B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5FBF-2B08-4884-9E08-0951A5A722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0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28CE-5D28-44DE-87EA-7874D8791D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6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0E1C-6AB6-45DE-867B-027801F20B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нформация. Компьютер. Информатика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: первичное понятие об информации, информатике и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учащихся с учебником; дать представление о предмете из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03848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итая книгу, мы тоже получаем информаци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2843280" y="2133720"/>
          <a:ext cx="547380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133720"/>
                    <a:ext cx="547380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 информация такая Зовется просто —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звукова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4648320" y="2381400"/>
          <a:ext cx="4038480" cy="29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1400"/>
                    <a:ext cx="403848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седуя с друзьями, можно узнать мно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48320" y="177012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012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Comic Sans MS"/>
              </a:rPr>
              <a:t>Информация -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ведения и данные об окружающем нас мир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кус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313080" y="1655640"/>
          <a:ext cx="460872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3080" y="1655640"/>
                    <a:ext cx="46087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4"/>
          <p:cNvSpPr/>
          <p:nvPr/>
        </p:nvSpPr>
        <p:spPr>
          <a:xfrm>
            <a:off x="611280" y="206532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вкусе пищи узнаем, Когда во рту ее жуем. А информация какая, Ты догадался?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кусов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и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2332080" y="1600200"/>
          <a:ext cx="44784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600200"/>
                    <a:ext cx="4478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2" name="Object 3"/>
          <p:cNvGraphicFramePr/>
          <p:nvPr/>
        </p:nvGraphicFramePr>
        <p:xfrm>
          <a:off x="2308320" y="1600200"/>
          <a:ext cx="45259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600200"/>
                    <a:ext cx="45259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акти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6" name="Object 3"/>
          <p:cNvGraphicFramePr/>
          <p:nvPr/>
        </p:nvGraphicFramePr>
        <p:xfrm>
          <a:off x="2292480" y="1600200"/>
          <a:ext cx="4557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2480" y="1600200"/>
                    <a:ext cx="4557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оня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3851280" y="1484280"/>
          <a:ext cx="4678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84280"/>
                    <a:ext cx="4678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4360" y="3281400"/>
            <a:ext cx="241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цветут в лесу цветы, То запах носом чуешь ты. И аромат акации Опять же информ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накомство с техникой безопасност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3"/>
          <p:cNvGraphicFramePr/>
          <p:nvPr/>
        </p:nvGraphicFramePr>
        <p:xfrm>
          <a:off x="1116000" y="189000"/>
          <a:ext cx="636912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9000"/>
                    <a:ext cx="636912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гра «Органы чувств человека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2: какими органами чувств воспринимается информация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тик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компьют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181840" cy="537372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 космосе не обходятся без компьютер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714920" cy="502920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крепление изученн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, № 5 (учебник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 ( Р.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ерь загадки отгад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еселее отве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ты слышал много ра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е несет учитель в клас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звучит по 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это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радио включ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м музыка игр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информацию как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лучаем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фильм по телевидени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друзьями вместе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ую 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ет мультиплик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имаем пробу с разных блю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Они нам разный вкус даю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 время дегуст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Какая информ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осим руки мы к костр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рнем, чувствуя жа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гновенная 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этой информ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дание на до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§ 1.1. с.7-10, § 2.2, РТ: №1, № 2 – с.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ТБ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ТБ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ТБ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50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ТБ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Безымянный"/>
          <p:cNvPicPr/>
          <p:nvPr/>
        </p:nvPicPr>
        <p:blipFill>
          <a:blip r:embed="rId1"/>
          <a:stretch/>
        </p:blipFill>
        <p:spPr>
          <a:xfrm>
            <a:off x="179280" y="404640"/>
            <a:ext cx="8964720" cy="60246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зучение нового материа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ция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4:59:45Z</dcterms:created>
  <dc:creator>Сервер</dc:creator>
  <dc:description/>
  <dc:language>en-US</dc:language>
  <cp:lastModifiedBy>LEGION</cp:lastModifiedBy>
  <dcterms:modified xsi:type="dcterms:W3CDTF">2015-04-01T07:37:12Z</dcterms:modified>
  <cp:revision>9</cp:revision>
  <dc:subject/>
  <dc:title>Информация. Компьютер. Информатика.</dc:title>
</cp:coreProperties>
</file>