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15.png" ContentType="image/png"/>
  <Override PartName="/ppt/media/image14.gif" ContentType="image/gif"/>
  <Override PartName="/ppt/media/image10.wmf" ContentType="image/x-wmf"/>
  <Override PartName="/ppt/media/image1.jpeg" ContentType="image/jpeg"/>
  <Override PartName="/ppt/media/image54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31.png" ContentType="image/png"/>
  <Override PartName="/ppt/media/image37.png" ContentType="image/png"/>
  <Override PartName="/ppt/media/image48.jpeg" ContentType="image/jpeg"/>
  <Override PartName="/ppt/media/image39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30.wmf" ContentType="image/x-wmf"/>
  <Override PartName="/ppt/media/image46.png" ContentType="image/png"/>
  <Override PartName="/ppt/media/image53.gif" ContentType="image/gif"/>
  <Override PartName="/ppt/media/image52.wmf" ContentType="image/x-wmf"/>
  <Override PartName="/ppt/media/image38.png" ContentType="image/png"/>
  <Override PartName="/ppt/media/image55.jpeg" ContentType="image/jpeg"/>
  <Override PartName="/ppt/media/image11.wmf" ContentType="image/x-wmf"/>
  <Override PartName="/ppt/media/image36.png" ContentType="image/png"/>
  <Override PartName="/ppt/media/image56.jpeg" ContentType="image/jpeg"/>
  <Override PartName="/ppt/media/image33.png" ContentType="image/png"/>
  <Override PartName="/ppt/media/image32.wmf" ContentType="image/x-wmf"/>
  <Override PartName="/ppt/media/image7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50.jpeg" ContentType="image/jpeg"/>
  <Override PartName="/ppt/media/image13.wmf" ContentType="image/x-wmf"/>
  <Override PartName="/ppt/media/image12.wmf" ContentType="image/x-wmf"/>
  <Override PartName="/ppt/media/image6.wmf" ContentType="image/x-wmf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339B-1AFB-4FEA-8941-52F437933D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DE77-1196-4666-B44D-A81501B713A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может быть закодирована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B5B4-EEC0-46DC-ACB4-0D051420042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и передача информации с помощью некотор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одной формы представления информации к дру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C489-265D-4C72-8DCD-F7054DA2B14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збука 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5384-252A-4E7D-AB39-7CA59DF7D9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рская 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A1B-0D05-42D1-895E-B15EEAF4BA6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, п.1.6, 1.7 (вопросы и задания 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: №15, 16, 17,18 (стр.18-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DD76-781C-4EE3-9823-9023A70D91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мпьютерный 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5732-2C6E-415B-AAB1-DEF2F50C571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5A73-B0AB-418F-A15E-6C40B9232B3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E26D-52F3-4467-9E7B-5748024607F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89CC-D52B-46E1-BD03-18F663FAAF9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5EBD-C54B-462D-8762-6F9EF2DCAAB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НФОРМАЦИЯ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ействия человек совершает с информа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может сохранить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овременные носители информации вам извест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77F1-1F95-488B-B52E-26C7FEF80BB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 домашнего зад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 №3, стр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294-F721-41D1-8E7D-4C90127BB20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йми  ме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BF2-77DA-43CD-85E8-9A0E1F31B6D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79A1-F7CD-4C93-B72C-2293C3523FC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ОД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173C-706F-464E-A454-12D90DF694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азнообразие  к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бука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знаков международного телеграфн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их-код на то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ичное кодирование информации в компьют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0 или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1FA-A5A7-4B6D-9F09-95D467C2F58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чем люди кодируют информац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крыть ее от других (все случаи шифров и тайноп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исать информацию короче. Самый простой пример - аббревиатуры. Что  такое  ОО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AD0-1A68-412E-8E9A-FF9D342390B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чего зависит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особ  кодирования информации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кодирования зависит от цели, ради которой оно осущест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85E-ECA7-40B4-A9D9-6C46AF9A541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F94-BE2E-4CFA-A5BD-16C5F094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399-687D-4A90-A702-956441D8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D88DC-D834-44CC-90D5-EEF43FB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85FBC-9AC3-4351-924C-6F2CC3E6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32133-3878-47FC-89A1-0DAA4DD3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A782E-5B32-45F6-A212-513B7E5B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9E878-E5CD-443F-8048-E3E5903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B7858-50AC-4062-A456-77028A9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E4F6D-5A00-4C4E-BC81-0BEA170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8D041-422C-4E82-BC3E-FC7EA97E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9A461-A10F-4164-B856-D60034EB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EAB99-7EE1-415F-8157-CCDCF156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FF7-328E-494F-82AE-D603A189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A7E0B-F1C2-4456-90C0-5B56FA10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18021-ABC5-45A4-AD2B-11767D16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2BED3-F89C-4954-8D3C-050B2CC6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141B9-F80B-4E62-8E83-DB695A66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D4E2D-F7A7-489D-AEC0-5DCDADCA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E8BA5-B17F-4C94-98F6-64A698A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F7639-E1EE-465B-9F7F-1706C29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65444-6A21-424E-AB7D-61F812DD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CBC0B-0BB4-4886-85FC-CA9308EA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DE6BF-2510-4A4D-B575-C07873FD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9FA-B814-42B2-BB45-18C8B957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DE02D-D7D3-4C0F-9818-57EF6941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45267-F286-488D-85FE-E21052C7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2D798-15DC-4B5D-A0D0-EE42D10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D839A-D8E8-440D-BA26-DC039F9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BFD19-E659-471C-BFAD-4B7338DB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A7C52-A7C3-47E0-BC8A-313226DE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AEB1A-60E5-447A-81CE-808FEEE0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3869B-2028-455C-A958-1939B2E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F31F2-DC86-4CC8-B061-D5B5F484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89E68-D108-4F63-82B2-C754077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7D60-4E27-42DC-8E24-8687C60B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F3BC-1DD9-4E93-8382-57489943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D1374-D88B-4D57-AC62-DA13A722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8A7C4-9DE6-4F8D-8AE9-A5CEFC04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44683-6661-43AA-B2E4-4A74E545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E0E4C-8799-4427-AA06-F49649A6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D9834-E2C6-465A-92F6-E716825E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165D4-321D-432F-B74A-B98C1A2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EF492-EB65-4C59-B1E3-D157DDE0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68703-32B2-4A55-BA97-40A97CDE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57EF9-B7A6-47E1-BCD1-AC0FA9C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0946-504F-4262-83C0-06FB650A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BA63E-5453-4613-B752-14470C7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21F8C-EE23-4466-8297-E116F874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3AB67-694E-4A51-8DDF-659F2F4E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DB9AE-9461-4983-92F4-2D4D8D4F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8846E-B2B3-4148-9B64-FAABEC77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9475D-8E1E-45B4-AFD7-8C564478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866CE-5B11-4E6E-B675-AC6652B6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FDCF0-6128-4407-B5E7-29C3772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81618-3BE9-414F-8D85-287EFBD1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81963-DBF6-4BF2-91AB-90615235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E399-5480-4D16-8BBE-AB4D116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863F7-BAFD-433D-9B55-FF46B809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6B429-F826-4315-873C-30EC4E4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56BF5-9B3C-4157-839F-EF0601F5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C1CB8-B3FC-45F0-BADA-F409C001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4C981-D128-4396-A70C-2EEC4A32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26F0C-2D46-417B-8D77-92EA5CE6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DF77A-009E-4B6E-984B-E3D676D1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32155-EC80-4740-A213-4154A42E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68870-703E-453F-96BC-E1225C13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04A8F-7472-45FE-8FC9-2569C8A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6D8-0BEC-40DB-8F6C-3DCF1E1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A3B09-7DDF-4B32-8C3D-29FB3DB8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0EE66-0353-4308-AF3F-81A01AA8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4AC25-BB5E-4F0C-9C58-58C83A7D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7C404-E998-498C-82B8-A13371B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AB895-845D-4361-AD31-26C5B9B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E29F9-F916-4D02-B08B-EB264F3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888F7-280C-4AE3-87EB-B3E5646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5E91F-3F84-4998-BE6F-2A8A551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44EEA-FA03-4DE5-9938-2C32D0D3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8F441-2192-4A3E-969D-EFEA619E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019B-81DA-43B3-89B0-92E9783A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501B0-6509-488A-9D04-B8ECAA1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B9D0E-56F3-4C1D-8513-CE3F8DA5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B7AC8-65CB-4FDA-BED2-C1AAECA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94412-1DF8-4DCA-9325-E4AC593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A82F5-6646-4A3B-9707-4AE079D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EB25C-AEC4-4ADD-9F5E-09AC205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6DB7F-DBCC-4A87-B055-91E1B9B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BF5AF-D7F9-43F0-825B-10A4259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F16F0-3F54-4095-B141-F3AD6724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A635B-22D8-4217-8A14-F78D5786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A195-1934-4AAA-8E06-D66C2E77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49FB4-B857-4BC0-8E7C-CDD513F2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219EC-D1C3-4231-9D89-1BE81F57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8BE5B-1DFF-4370-A49A-40A5113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C14F3-AA7A-40FC-AACE-A9AD22B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553A5-BA6C-4E23-9BB8-559964E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9AF16-3040-4889-B9A8-B8947E0F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00135-8B22-4811-92BF-BAE9976D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134F0-234A-41AE-B601-1C306190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AD4C3-497D-4D49-901C-A7B781F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583C7-636A-4B31-83C2-9A8E84D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399A-115F-43F7-A4D9-E504E0C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EC129-CDB9-4654-B860-0522AA1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230E3-FA9A-48C0-BB3D-41151148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B0A2D-E108-4450-B645-F22093BC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C6BE1-B2E2-419A-9E00-2C6A834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D99D3-31EF-4BDF-B08A-D8B4876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B221E-929B-48DA-9D07-8727AB6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B142F-1056-4AB4-B2FA-05345421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9C55F-9FF6-4B63-81EF-EF1C020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BF81B-A5E3-4BAA-BB3D-0242A924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B376C-81E2-4C43-8F88-B311307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489-F2F5-42A8-BDC6-7B5DFC45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7D0-2404-4B43-8E7F-952B5E84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F1807-9F1A-4AD2-8D79-F33B417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D0451A-68D9-43F1-A205-7A617982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D5218-12E2-4546-881A-EBD32907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56F1E-5B43-44EA-B2C4-C7FF93E6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45057-FC2E-4981-A968-6825CAC3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D3DC-35E8-4E2D-A8A0-9AFEFCD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6B56-2164-4E3F-98AD-64CD5DE2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45F-EF6F-4C3C-8464-941983EF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7582-5E05-4752-A714-4A1F722E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97F29-59E1-41D4-A176-55D3953E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9A996-F3C9-47E8-9E44-6EE3943C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DF200-2580-4F7B-B3F0-805EBA2F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FD6EB-A690-440D-A4AC-233302E9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AF4B3-812A-4D30-99FE-66AE83AC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899-ED11-4F50-A285-F4893F0E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E3C8E-4E1C-49F7-8421-3FE6D104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9B5FD-E6C8-410E-ACFE-1E6DA2A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0DDF0-EC7B-41FE-B202-9F40744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DFEB2-7E0B-420B-83F7-7C2F68B3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F7494-1097-47E0-94B0-4DDE653D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184C5-0E20-40D7-A8FA-FEEB1E99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2B5FE-E364-4EB0-A7CD-039EBE9D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182C-85DE-450B-8D17-B0706CCA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D1DE-B48A-4BAB-9E3F-87618DA3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FC0A-8CAB-4079-81E1-E3D1F5B9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5A3-C32B-400C-B075-10328FB0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CC55-96EB-4FC5-8D80-A0B37EC7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60B6-D34F-477E-962C-2CA4ECC8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0015-DA3C-4AFB-A2E4-EFF7213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DF03-E4F0-486C-BBD7-A8DB9345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391A-C592-4745-8179-B877F3C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51FE-E31E-44DE-A20D-7581532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8B29-2ECE-438A-A1B3-DF46BC16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7F7B-7684-4665-AA45-0DBE3098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BCB7-C9A9-4E60-9DE6-5593D9E5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D9A7-7CF5-4721-A4B3-0AA63CB3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302-1142-422D-A9A3-266A665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FBFD3-718E-4249-8B9B-9A0E5F07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1872-6CD1-4D21-A56F-F9A8D6E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F55E-3611-43A3-9826-8A48017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7D1C-3D0F-47E4-A6F3-3AFCEF59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64CB-586B-4A58-AD9A-0D32167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BE98-4605-481E-80EB-71E04B4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0F66-E107-4B24-B76C-71CEB3E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C312-D83A-44B0-99E2-7253CF9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D4B0-9C5E-471B-8197-33559A6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A9A5-8838-4C95-8058-CF403CBF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37D-CD5D-4D90-BE64-53A36BEC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6AFF-18AE-47DF-8D5A-1E48088F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1E32-343D-4ECD-AAB5-00D43F26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E7E1D-7E6C-409F-921C-3623E540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2C50-C0FD-4332-A4E3-BB4C6ED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152F-0FD0-4536-A952-0F02643A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3CC5-8506-4286-A65D-C4032B4D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E8692-47D7-4494-92B1-0854532D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C80A-F8BC-43D9-9750-227637C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F650-0C54-41C7-AD18-E827E67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0842-D4CE-4453-92B0-F354BA4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50A-6F9A-460E-882F-869ACC5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B63B-6858-45EF-9D55-06FF172B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F00B5-E931-4257-80AB-901733B7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FC0FB-F10D-46DB-AAD8-AF50DB7F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C9DE-7258-4A5E-824B-E667E3EA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0D7D-9C39-45C9-81BD-F2E1CD37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B117-73CC-4AF4-9231-4232737F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DAD2-244D-45B3-A840-EDA4AD3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556F2-E7DD-4EFC-9C0F-90CB3DE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21BF-D2E1-46D6-9902-13E5DDD8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A1629-FD41-4223-ACB1-D8E73B5F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A91-D3BD-47C4-BB38-1C173D4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23696-FD40-423A-B2A9-7A4EAAC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0023-02E6-4002-8E2E-413F85FB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7EA63-17C6-47B9-A5A3-0516DF90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430C1-4A51-4F28-AC24-0864CAD3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96A6-BAEA-43E8-8EC6-54FAB955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E5D09-4B59-48ED-8D22-CEE470F7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BBF3-C3FA-4C73-95E5-A3D681EF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CCADB-1B9D-49F3-95E2-5D7FC841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E9712-E24D-4B68-BED0-A8045B28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3E78-963F-4650-8D50-BD634832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51B-87DC-4F29-970F-868CFD62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5B1F-5983-45C9-864A-3EB929E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FA4D-7052-43BD-B75B-0846372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8EFDA-E7DA-452B-8164-9584C88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90FA7-7AFE-4092-B0FF-BF8AADD3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F8E47-CA93-4434-A630-2C7DF03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98861-5D40-4FD8-8662-D0F208B2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4BC1F-DA2A-42EC-BBB3-AAD3B552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0160B-86CC-49F1-AC9A-6B93BC0D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C1D8B-1FC5-4FA5-B406-9E1027A3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62AAD-9B75-4526-B6CB-E8376BC5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F40-7B68-44A6-91BC-CC4B72B8E4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0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1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B560-CD61-4C3B-8262-DB7B7C3BB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8F7F-4F4F-47AE-BBF7-9F6A6120FD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BF4-550A-4EE0-AC4D-0FB0813DD8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8CA-CA32-4810-8EBB-3B4B6AD534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E859-DC5C-4050-9188-40163C381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BA2-15B0-4929-9D6D-8F62885D61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842-185D-40D4-B8D7-8E4F7C87528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4B4-CECA-496A-8324-CEEA0E3CA57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8DEE-54DA-4511-AF60-DAC9FADFA0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E3FF-CD57-47DE-ABFD-599DD8AA96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4BB-3BF6-48F7-8BEE-D5AA535B31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6394-D1EE-4722-BDB1-AEAD465F8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B0D2-63E5-4311-99B0-7D9ECE557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AFA-01B3-43D9-8625-A9B906556C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BFF7-8DD4-4963-89CF-8D0D8D69475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928E-BBCC-438D-B413-2BD6DAC964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0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акой форме может быть закодирована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BD00023_"/>
          <p:cNvPicPr/>
          <p:nvPr/>
        </p:nvPicPr>
        <p:blipFill>
          <a:blip r:embed="rId1"/>
          <a:stretch/>
        </p:blipFill>
        <p:spPr>
          <a:xfrm>
            <a:off x="1332000" y="15573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BD05090_"/>
          <p:cNvPicPr/>
          <p:nvPr/>
        </p:nvPicPr>
        <p:blipFill>
          <a:blip r:embed="rId2"/>
          <a:stretch/>
        </p:blipFill>
        <p:spPr>
          <a:xfrm>
            <a:off x="4572000" y="4149720"/>
            <a:ext cx="1327320" cy="12002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BD05092_"/>
          <p:cNvPicPr/>
          <p:nvPr/>
        </p:nvPicPr>
        <p:blipFill>
          <a:blip r:embed="rId3"/>
          <a:stretch/>
        </p:blipFill>
        <p:spPr>
          <a:xfrm>
            <a:off x="5724360" y="1773360"/>
            <a:ext cx="1211400" cy="10983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8" descr="BD07139_"/>
          <p:cNvPicPr/>
          <p:nvPr/>
        </p:nvPicPr>
        <p:blipFill>
          <a:blip r:embed="rId4"/>
          <a:stretch/>
        </p:blipFill>
        <p:spPr>
          <a:xfrm>
            <a:off x="1692360" y="2708280"/>
            <a:ext cx="92376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9" descr="BD07173_"/>
          <p:cNvPicPr/>
          <p:nvPr/>
        </p:nvPicPr>
        <p:blipFill>
          <a:blip r:embed="rId5"/>
          <a:stretch/>
        </p:blipFill>
        <p:spPr>
          <a:xfrm>
            <a:off x="468360" y="3500280"/>
            <a:ext cx="1328760" cy="11289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0" descr="EN00753_"/>
          <p:cNvPicPr/>
          <p:nvPr/>
        </p:nvPicPr>
        <p:blipFill>
          <a:blip r:embed="rId6"/>
          <a:stretch/>
        </p:blipFill>
        <p:spPr>
          <a:xfrm>
            <a:off x="3276720" y="4221000"/>
            <a:ext cx="1441440" cy="10256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1" descr="BS00809_"/>
          <p:cNvPicPr/>
          <p:nvPr/>
        </p:nvPicPr>
        <p:blipFill>
          <a:blip r:embed="rId7"/>
          <a:stretch/>
        </p:blipFill>
        <p:spPr>
          <a:xfrm>
            <a:off x="2987640" y="5157720"/>
            <a:ext cx="1546200" cy="13924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2" descr="BS00935_"/>
          <p:cNvPicPr/>
          <p:nvPr/>
        </p:nvPicPr>
        <p:blipFill>
          <a:blip r:embed="rId8"/>
          <a:stretch/>
        </p:blipFill>
        <p:spPr>
          <a:xfrm>
            <a:off x="7380360" y="2421000"/>
            <a:ext cx="1114200" cy="11635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3" descr="BS01112_"/>
          <p:cNvPicPr/>
          <p:nvPr/>
        </p:nvPicPr>
        <p:blipFill>
          <a:blip r:embed="rId9"/>
          <a:stretch/>
        </p:blipFill>
        <p:spPr>
          <a:xfrm>
            <a:off x="6012000" y="2708280"/>
            <a:ext cx="1433520" cy="117144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4" descr=""/>
          <p:cNvPicPr/>
          <p:nvPr/>
        </p:nvPicPr>
        <p:blipFill>
          <a:blip r:embed="rId10"/>
          <a:stretch/>
        </p:blipFill>
        <p:spPr>
          <a:xfrm>
            <a:off x="4572000" y="5300640"/>
            <a:ext cx="955800" cy="11970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7" descr="BD05099_"/>
          <p:cNvPicPr/>
          <p:nvPr/>
        </p:nvPicPr>
        <p:blipFill>
          <a:blip r:embed="rId11"/>
          <a:stretch/>
        </p:blipFill>
        <p:spPr>
          <a:xfrm>
            <a:off x="611280" y="220500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6" descr=""/>
          <p:cNvPicPr/>
          <p:nvPr/>
        </p:nvPicPr>
        <p:blipFill>
          <a:blip r:embed="rId12"/>
          <a:stretch/>
        </p:blipFill>
        <p:spPr>
          <a:xfrm>
            <a:off x="1763640" y="2276640"/>
            <a:ext cx="1440000" cy="4888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7" descr="BS01323_"/>
          <p:cNvPicPr/>
          <p:nvPr/>
        </p:nvPicPr>
        <p:blipFill>
          <a:blip r:embed="rId13"/>
          <a:stretch/>
        </p:blipFill>
        <p:spPr>
          <a:xfrm rot="20703600">
            <a:off x="7092720" y="1773360"/>
            <a:ext cx="1081080" cy="969840"/>
          </a:xfrm>
          <a:prstGeom prst="rect">
            <a:avLst/>
          </a:prstGeom>
          <a:ln w="0">
            <a:noFill/>
          </a:ln>
        </p:spPr>
      </p:pic>
      <p:sp>
        <p:nvSpPr>
          <p:cNvPr id="1401" name="Oval 19"/>
          <p:cNvSpPr/>
          <p:nvPr/>
        </p:nvSpPr>
        <p:spPr>
          <a:xfrm rot="1836000">
            <a:off x="347400" y="1319040"/>
            <a:ext cx="2879640" cy="3818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Oval 20"/>
          <p:cNvSpPr/>
          <p:nvPr/>
        </p:nvSpPr>
        <p:spPr>
          <a:xfrm>
            <a:off x="2484360" y="3645000"/>
            <a:ext cx="4175280" cy="3213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Oval 21"/>
          <p:cNvSpPr/>
          <p:nvPr/>
        </p:nvSpPr>
        <p:spPr>
          <a:xfrm>
            <a:off x="5219640" y="1341360"/>
            <a:ext cx="3745080" cy="273708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кодировани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ь и передача информации с помощью некоторого к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ход от одной формы представления информации к друг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7" name="Picture 5" descr="BD07224_"/>
          <p:cNvPicPr/>
          <p:nvPr/>
        </p:nvPicPr>
        <p:blipFill>
          <a:blip r:embed="rId1"/>
          <a:stretch/>
        </p:blipFill>
        <p:spPr>
          <a:xfrm>
            <a:off x="6407280" y="3357720"/>
            <a:ext cx="2736720" cy="3284280"/>
          </a:xfrm>
          <a:prstGeom prst="rect">
            <a:avLst/>
          </a:prstGeom>
          <a:ln w="0">
            <a:noFill/>
          </a:ln>
        </p:spPr>
      </p:pic>
      <p:sp>
        <p:nvSpPr>
          <p:cNvPr id="1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збука  Мор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130320" y="2251080"/>
          <a:ext cx="8893080" cy="10796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90640"/>
                <a:gridCol w="889200"/>
                <a:gridCol w="888840"/>
                <a:gridCol w="889200"/>
                <a:gridCol w="888840"/>
                <a:gridCol w="954000"/>
                <a:gridCol w="719280"/>
                <a:gridCol w="99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рская семафорн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40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1081080" cy="10094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1079280" cy="103176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42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43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1079280" cy="10429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44" descr=""/>
          <p:cNvPicPr/>
          <p:nvPr/>
        </p:nvPicPr>
        <p:blipFill>
          <a:blip r:embed="rId5"/>
          <a:stretch/>
        </p:blipFill>
        <p:spPr>
          <a:xfrm>
            <a:off x="3924360" y="2205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5" descr=""/>
          <p:cNvPicPr/>
          <p:nvPr/>
        </p:nvPicPr>
        <p:blipFill>
          <a:blip r:embed="rId6"/>
          <a:stretch/>
        </p:blipFill>
        <p:spPr>
          <a:xfrm>
            <a:off x="4716360" y="2924280"/>
            <a:ext cx="1079640" cy="104292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6" descr=""/>
          <p:cNvPicPr/>
          <p:nvPr/>
        </p:nvPicPr>
        <p:blipFill>
          <a:blip r:embed="rId7"/>
          <a:stretch/>
        </p:blipFill>
        <p:spPr>
          <a:xfrm>
            <a:off x="5364000" y="2209680"/>
            <a:ext cx="1079640" cy="103212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7" descr=""/>
          <p:cNvPicPr/>
          <p:nvPr/>
        </p:nvPicPr>
        <p:blipFill>
          <a:blip r:embed="rId8"/>
          <a:stretch/>
        </p:blipFill>
        <p:spPr>
          <a:xfrm>
            <a:off x="6227640" y="299736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8" descr=""/>
          <p:cNvPicPr/>
          <p:nvPr/>
        </p:nvPicPr>
        <p:blipFill>
          <a:blip r:embed="rId9"/>
          <a:stretch/>
        </p:blipFill>
        <p:spPr>
          <a:xfrm>
            <a:off x="6732720" y="22050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9" descr=""/>
          <p:cNvPicPr/>
          <p:nvPr/>
        </p:nvPicPr>
        <p:blipFill>
          <a:blip r:embed="rId10"/>
          <a:stretch/>
        </p:blipFill>
        <p:spPr>
          <a:xfrm>
            <a:off x="7524720" y="2997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50" descr=""/>
          <p:cNvPicPr/>
          <p:nvPr/>
        </p:nvPicPr>
        <p:blipFill>
          <a:blip r:embed="rId11"/>
          <a:stretch/>
        </p:blipFill>
        <p:spPr>
          <a:xfrm>
            <a:off x="7956720" y="2071800"/>
            <a:ext cx="1020600" cy="942840"/>
          </a:xfrm>
          <a:prstGeom prst="rect">
            <a:avLst/>
          </a:prstGeom>
          <a:ln w="0">
            <a:noFill/>
          </a:ln>
        </p:spPr>
      </p:pic>
      <p:sp>
        <p:nvSpPr>
          <p:cNvPr id="1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ик, п.1.6, 1.7 (вопросы и задания ус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: №15, 16, 17,18 (стр.18-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мпьютерный 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7" descr="111"/>
          <p:cNvPicPr/>
          <p:nvPr/>
        </p:nvPicPr>
        <p:blipFill>
          <a:blip r:embed="rId1"/>
          <a:stretch/>
        </p:blipFill>
        <p:spPr>
          <a:xfrm>
            <a:off x="0" y="907920"/>
            <a:ext cx="7775640" cy="583596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8" descr="111"/>
          <p:cNvPicPr/>
          <p:nvPr/>
        </p:nvPicPr>
        <p:blipFill>
          <a:blip r:embed="rId2"/>
          <a:stretch/>
        </p:blipFill>
        <p:spPr>
          <a:xfrm>
            <a:off x="5003640" y="1052640"/>
            <a:ext cx="3578400" cy="264132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9" descr="111"/>
          <p:cNvPicPr/>
          <p:nvPr/>
        </p:nvPicPr>
        <p:blipFill>
          <a:blip r:embed="rId3"/>
          <a:stretch/>
        </p:blipFill>
        <p:spPr>
          <a:xfrm>
            <a:off x="5867280" y="2637000"/>
            <a:ext cx="3276720" cy="2404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111"/>
          <p:cNvPicPr/>
          <p:nvPr/>
        </p:nvPicPr>
        <p:blipFill>
          <a:blip r:embed="rId4"/>
          <a:stretch/>
        </p:blipFill>
        <p:spPr>
          <a:xfrm>
            <a:off x="6318360" y="4773600"/>
            <a:ext cx="2825640" cy="2084400"/>
          </a:xfrm>
          <a:prstGeom prst="rect">
            <a:avLst/>
          </a:prstGeom>
          <a:ln w="0">
            <a:noFill/>
          </a:ln>
        </p:spPr>
      </p:pic>
      <p:sp>
        <p:nvSpPr>
          <p:cNvPr id="14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5" descr="111"/>
          <p:cNvPicPr/>
          <p:nvPr/>
        </p:nvPicPr>
        <p:blipFill>
          <a:blip r:embed="rId1"/>
          <a:stretch/>
        </p:blipFill>
        <p:spPr>
          <a:xfrm>
            <a:off x="0" y="1197000"/>
            <a:ext cx="8675640" cy="4995720"/>
          </a:xfrm>
          <a:prstGeom prst="rect">
            <a:avLst/>
          </a:prstGeom>
          <a:ln w="0">
            <a:noFill/>
          </a:ln>
        </p:spPr>
      </p:pic>
      <p:sp>
        <p:nvSpPr>
          <p:cNvPr id="1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4" descr="J0078742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2886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6" descr="AG00373_"/>
          <p:cNvPicPr/>
          <p:nvPr/>
        </p:nvPicPr>
        <p:blipFill>
          <a:blip r:embed="rId2"/>
          <a:stretch/>
        </p:blipFill>
        <p:spPr>
          <a:xfrm>
            <a:off x="5148360" y="1628640"/>
            <a:ext cx="2879640" cy="276876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7" descr="AG00339_"/>
          <p:cNvPicPr/>
          <p:nvPr/>
        </p:nvPicPr>
        <p:blipFill>
          <a:blip r:embed="rId3"/>
          <a:stretch/>
        </p:blipFill>
        <p:spPr>
          <a:xfrm rot="16200000">
            <a:off x="3585960" y="4701960"/>
            <a:ext cx="2448000" cy="1485720"/>
          </a:xfrm>
          <a:prstGeom prst="rect">
            <a:avLst/>
          </a:prstGeom>
          <a:ln w="0">
            <a:noFill/>
          </a:ln>
        </p:spPr>
      </p:pic>
      <p:sp>
        <p:nvSpPr>
          <p:cNvPr id="1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4" descr="111"/>
          <p:cNvPicPr/>
          <p:nvPr/>
        </p:nvPicPr>
        <p:blipFill>
          <a:blip r:embed="rId1"/>
          <a:stretch/>
        </p:blipFill>
        <p:spPr>
          <a:xfrm rot="21382800">
            <a:off x="250560" y="1628280"/>
            <a:ext cx="2516040" cy="31687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5" descr="111"/>
          <p:cNvPicPr/>
          <p:nvPr/>
        </p:nvPicPr>
        <p:blipFill>
          <a:blip r:embed="rId2"/>
          <a:stretch/>
        </p:blipFill>
        <p:spPr>
          <a:xfrm>
            <a:off x="2843280" y="1413000"/>
            <a:ext cx="3003480" cy="309564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111"/>
          <p:cNvPicPr/>
          <p:nvPr/>
        </p:nvPicPr>
        <p:blipFill>
          <a:blip r:embed="rId3"/>
          <a:stretch/>
        </p:blipFill>
        <p:spPr>
          <a:xfrm rot="275400">
            <a:off x="6011640" y="1628640"/>
            <a:ext cx="2728800" cy="3168720"/>
          </a:xfrm>
          <a:prstGeom prst="rect">
            <a:avLst/>
          </a:prstGeom>
          <a:ln w="0">
            <a:noFill/>
          </a:ln>
        </p:spPr>
      </p:pic>
      <p:sp>
        <p:nvSpPr>
          <p:cNvPr id="1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4" descr="AG00373_"/>
          <p:cNvPicPr/>
          <p:nvPr/>
        </p:nvPicPr>
        <p:blipFill>
          <a:blip r:embed="rId1"/>
          <a:stretch/>
        </p:blipFill>
        <p:spPr>
          <a:xfrm>
            <a:off x="2484360" y="1773360"/>
            <a:ext cx="3745080" cy="3600360"/>
          </a:xfrm>
          <a:prstGeom prst="rect">
            <a:avLst/>
          </a:prstGeom>
          <a:ln w="0">
            <a:noFill/>
          </a:ln>
        </p:spPr>
      </p:pic>
      <p:sp>
        <p:nvSpPr>
          <p:cNvPr id="1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ИНФОРМАЦИЯ для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действия человек совершает с информац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человек может сохранить информац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современные носители информации вам известн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 №3, стр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BS00264_"/>
          <p:cNvPicPr/>
          <p:nvPr/>
        </p:nvPicPr>
        <p:blipFill>
          <a:blip r:embed="rId1"/>
          <a:stretch/>
        </p:blipFill>
        <p:spPr>
          <a:xfrm>
            <a:off x="3203640" y="5229360"/>
            <a:ext cx="1193760" cy="1182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BS00287_"/>
          <p:cNvPicPr/>
          <p:nvPr/>
        </p:nvPicPr>
        <p:blipFill>
          <a:blip r:embed="rId2"/>
          <a:stretch/>
        </p:blipFill>
        <p:spPr>
          <a:xfrm>
            <a:off x="7380360" y="5157720"/>
            <a:ext cx="1360440" cy="11700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BS00552_"/>
          <p:cNvPicPr/>
          <p:nvPr/>
        </p:nvPicPr>
        <p:blipFill>
          <a:blip r:embed="rId3"/>
          <a:stretch/>
        </p:blipFill>
        <p:spPr>
          <a:xfrm>
            <a:off x="395280" y="1700280"/>
            <a:ext cx="2533680" cy="21333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BS00649_"/>
          <p:cNvPicPr/>
          <p:nvPr/>
        </p:nvPicPr>
        <p:blipFill>
          <a:blip r:embed="rId4"/>
          <a:stretch/>
        </p:blipFill>
        <p:spPr>
          <a:xfrm>
            <a:off x="3132000" y="1844640"/>
            <a:ext cx="1656000" cy="145116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BS00800_"/>
          <p:cNvPicPr/>
          <p:nvPr/>
        </p:nvPicPr>
        <p:blipFill>
          <a:blip r:embed="rId5"/>
          <a:stretch/>
        </p:blipFill>
        <p:spPr>
          <a:xfrm>
            <a:off x="6588000" y="2852640"/>
            <a:ext cx="1650960" cy="20210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EN00270_"/>
          <p:cNvPicPr/>
          <p:nvPr/>
        </p:nvPicPr>
        <p:blipFill>
          <a:blip r:embed="rId6"/>
          <a:stretch/>
        </p:blipFill>
        <p:spPr>
          <a:xfrm>
            <a:off x="4788000" y="1341360"/>
            <a:ext cx="1441440" cy="1892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EN00272_"/>
          <p:cNvPicPr/>
          <p:nvPr/>
        </p:nvPicPr>
        <p:blipFill>
          <a:blip r:embed="rId7"/>
          <a:stretch/>
        </p:blipFill>
        <p:spPr>
          <a:xfrm>
            <a:off x="4427640" y="3500280"/>
            <a:ext cx="1566720" cy="165744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1" descr="EN00321_"/>
          <p:cNvPicPr/>
          <p:nvPr/>
        </p:nvPicPr>
        <p:blipFill>
          <a:blip r:embed="rId8"/>
          <a:stretch/>
        </p:blipFill>
        <p:spPr>
          <a:xfrm>
            <a:off x="6877080" y="126828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2" descr="EN00377_"/>
          <p:cNvPicPr/>
          <p:nvPr/>
        </p:nvPicPr>
        <p:blipFill>
          <a:blip r:embed="rId9"/>
          <a:stretch/>
        </p:blipFill>
        <p:spPr>
          <a:xfrm>
            <a:off x="2484360" y="3573360"/>
            <a:ext cx="1798560" cy="150336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3" descr="EN00664_"/>
          <p:cNvPicPr/>
          <p:nvPr/>
        </p:nvPicPr>
        <p:blipFill>
          <a:blip r:embed="rId10"/>
          <a:stretch/>
        </p:blipFill>
        <p:spPr>
          <a:xfrm>
            <a:off x="395280" y="4005360"/>
            <a:ext cx="1589040" cy="20160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4" descr="HH01639_"/>
          <p:cNvPicPr/>
          <p:nvPr/>
        </p:nvPicPr>
        <p:blipFill>
          <a:blip r:embed="rId11"/>
          <a:stretch/>
        </p:blipFill>
        <p:spPr>
          <a:xfrm>
            <a:off x="4859280" y="5084640"/>
            <a:ext cx="2578320" cy="13766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5" descr="AG00003_"/>
          <p:cNvPicPr/>
          <p:nvPr/>
        </p:nvPicPr>
        <p:blipFill>
          <a:blip r:embed="rId12"/>
          <a:stretch/>
        </p:blipFill>
        <p:spPr>
          <a:xfrm>
            <a:off x="1476360" y="5553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351" name="Oval 16"/>
          <p:cNvSpPr/>
          <p:nvPr/>
        </p:nvSpPr>
        <p:spPr>
          <a:xfrm>
            <a:off x="2195640" y="3429000"/>
            <a:ext cx="1942920" cy="165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Oval 17"/>
          <p:cNvSpPr/>
          <p:nvPr/>
        </p:nvSpPr>
        <p:spPr>
          <a:xfrm>
            <a:off x="3059280" y="5157720"/>
            <a:ext cx="1728720" cy="1366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Oval 18"/>
          <p:cNvSpPr/>
          <p:nvPr/>
        </p:nvSpPr>
        <p:spPr>
          <a:xfrm>
            <a:off x="7236000" y="5013360"/>
            <a:ext cx="1657080" cy="1511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Oval 19"/>
          <p:cNvSpPr/>
          <p:nvPr/>
        </p:nvSpPr>
        <p:spPr>
          <a:xfrm>
            <a:off x="6156360" y="2708280"/>
            <a:ext cx="2376360" cy="2160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Oval 20"/>
          <p:cNvSpPr/>
          <p:nvPr/>
        </p:nvSpPr>
        <p:spPr>
          <a:xfrm>
            <a:off x="4643280" y="1197000"/>
            <a:ext cx="1873440" cy="1944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йми  мен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такое  КОД ?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 такое кодирова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6" descr="BS00847A"/>
          <p:cNvPicPr/>
          <p:nvPr/>
        </p:nvPicPr>
        <p:blipFill>
          <a:blip r:embed="rId2"/>
          <a:stretch/>
        </p:blipFill>
        <p:spPr>
          <a:xfrm>
            <a:off x="468360" y="2133720"/>
            <a:ext cx="1674720" cy="172692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7" descr="BD05088_"/>
          <p:cNvPicPr/>
          <p:nvPr/>
        </p:nvPicPr>
        <p:blipFill>
          <a:blip r:embed="rId3"/>
          <a:stretch/>
        </p:blipFill>
        <p:spPr>
          <a:xfrm>
            <a:off x="3059280" y="2060640"/>
            <a:ext cx="1074600" cy="19209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3"/>
          <p:cNvSpPr/>
          <p:nvPr/>
        </p:nvSpPr>
        <p:spPr>
          <a:xfrm>
            <a:off x="468360" y="443700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Rectangle 14"/>
          <p:cNvSpPr/>
          <p:nvPr/>
        </p:nvSpPr>
        <p:spPr>
          <a:xfrm>
            <a:off x="539640" y="4508640"/>
            <a:ext cx="10080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Rectangle 15"/>
          <p:cNvSpPr/>
          <p:nvPr/>
        </p:nvSpPr>
        <p:spPr>
          <a:xfrm>
            <a:off x="611280" y="458136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16"/>
          <p:cNvSpPr/>
          <p:nvPr/>
        </p:nvSpPr>
        <p:spPr>
          <a:xfrm>
            <a:off x="684360" y="4724280"/>
            <a:ext cx="10792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17"/>
          <p:cNvSpPr/>
          <p:nvPr/>
        </p:nvSpPr>
        <p:spPr>
          <a:xfrm>
            <a:off x="147636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18"/>
          <p:cNvSpPr/>
          <p:nvPr/>
        </p:nvSpPr>
        <p:spPr>
          <a:xfrm>
            <a:off x="611280" y="486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2" name="Picture 19" descr="j0293234"/>
          <p:cNvPicPr/>
          <p:nvPr/>
        </p:nvPicPr>
        <p:blipFill>
          <a:blip r:embed="rId4"/>
          <a:stretch/>
        </p:blipFill>
        <p:spPr>
          <a:xfrm>
            <a:off x="2700360" y="4797360"/>
            <a:ext cx="2305080" cy="17002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20" descr="j0293238"/>
          <p:cNvPicPr/>
          <p:nvPr/>
        </p:nvPicPr>
        <p:blipFill>
          <a:blip r:embed="rId5"/>
          <a:stretch/>
        </p:blipFill>
        <p:spPr>
          <a:xfrm>
            <a:off x="4284720" y="4508640"/>
            <a:ext cx="2232000" cy="16491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21" descr="EN00753_"/>
          <p:cNvPicPr/>
          <p:nvPr/>
        </p:nvPicPr>
        <p:blipFill>
          <a:blip r:embed="rId6"/>
          <a:stretch/>
        </p:blipFill>
        <p:spPr>
          <a:xfrm>
            <a:off x="6948360" y="2060640"/>
            <a:ext cx="1727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22" descr="EN00769_"/>
          <p:cNvPicPr/>
          <p:nvPr/>
        </p:nvPicPr>
        <p:blipFill>
          <a:blip r:embed="rId7"/>
          <a:stretch/>
        </p:blipFill>
        <p:spPr>
          <a:xfrm>
            <a:off x="7937640" y="2492280"/>
            <a:ext cx="1206360" cy="17352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3" descr="BD07303_"/>
          <p:cNvPicPr/>
          <p:nvPr/>
        </p:nvPicPr>
        <p:blipFill>
          <a:blip r:embed="rId8"/>
          <a:stretch/>
        </p:blipFill>
        <p:spPr>
          <a:xfrm>
            <a:off x="4572000" y="2133720"/>
            <a:ext cx="1825560" cy="1817640"/>
          </a:xfrm>
          <a:prstGeom prst="rect">
            <a:avLst/>
          </a:prstGeom>
          <a:ln w="0">
            <a:noFill/>
          </a:ln>
        </p:spPr>
      </p:pic>
      <p:sp>
        <p:nvSpPr>
          <p:cNvPr id="13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Разнообразие  код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250920" y="907920"/>
            <a:ext cx="8281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збука Морз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ор знаков международного телеграфного к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трих-код на това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ичное кодирование информации в компьютер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0 или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339933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Зачем люди кодируют информацию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-108000" y="1915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скрыть ее от других (все случаи шифров и тайнопис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записать информацию короче. Самый простой пример - аббревиатуры. Что  такое  ОО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8000" y="2725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чего зависи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особ  кодирования информаци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Способ кодирования зависит от цели, ради которой оно осуществляется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8:52:27Z</dcterms:created>
  <dc:creator>User</dc:creator>
  <dc:description/>
  <dc:language>en-US</dc:language>
  <cp:lastModifiedBy>LEGION</cp:lastModifiedBy>
  <dcterms:modified xsi:type="dcterms:W3CDTF">2015-04-01T07:38:46Z</dcterms:modified>
  <cp:revision>10</cp:revision>
  <dc:subject/>
  <dc:title>Кодирование  информации</dc:title>
</cp:coreProperties>
</file>