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png" ContentType="image/png"/>
  <Override PartName="/ppt/media/image49.jpeg" ContentType="image/jpeg"/>
  <Override PartName="/ppt/media/image15.png" ContentType="image/png"/>
  <Override PartName="/ppt/media/image14.gif" ContentType="image/gif"/>
  <Override PartName="/ppt/media/image10.wmf" ContentType="image/x-wmf"/>
  <Override PartName="/ppt/media/image1.jpeg" ContentType="image/jpeg"/>
  <Override PartName="/ppt/media/image54.gif" ContentType="image/gi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9.wmf" ContentType="image/x-wmf"/>
  <Override PartName="/ppt/media/image31.png" ContentType="image/png"/>
  <Override PartName="/ppt/media/image37.png" ContentType="image/png"/>
  <Override PartName="/ppt/media/image48.jpeg" ContentType="image/jpeg"/>
  <Override PartName="/ppt/media/image39.png" ContentType="image/png"/>
  <Override PartName="/ppt/media/image42.png" ContentType="image/png"/>
  <Override PartName="/ppt/media/image44.png" ContentType="image/png"/>
  <Override PartName="/ppt/media/image43.png" ContentType="image/png"/>
  <Override PartName="/ppt/media/image57.jpeg" ContentType="image/jpeg"/>
  <Override PartName="/ppt/media/image45.png" ContentType="image/png"/>
  <Override PartName="/ppt/media/image30.wmf" ContentType="image/x-wmf"/>
  <Override PartName="/ppt/media/image46.png" ContentType="image/png"/>
  <Override PartName="/ppt/media/image53.gif" ContentType="image/gif"/>
  <Override PartName="/ppt/media/image52.wmf" ContentType="image/x-wmf"/>
  <Override PartName="/ppt/media/image38.png" ContentType="image/png"/>
  <Override PartName="/ppt/media/image55.jpeg" ContentType="image/jpeg"/>
  <Override PartName="/ppt/media/image11.wmf" ContentType="image/x-wmf"/>
  <Override PartName="/ppt/media/image36.png" ContentType="image/png"/>
  <Override PartName="/ppt/media/image56.jpeg" ContentType="image/jpeg"/>
  <Override PartName="/ppt/media/image33.png" ContentType="image/png"/>
  <Override PartName="/ppt/media/image32.wmf" ContentType="image/x-wmf"/>
  <Override PartName="/ppt/media/image7.wmf" ContentType="image/x-wmf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50.jpeg" ContentType="image/jpeg"/>
  <Override PartName="/ppt/media/image13.wmf" ContentType="image/x-wmf"/>
  <Override PartName="/ppt/media/image12.wmf" ContentType="image/x-wmf"/>
  <Override PartName="/ppt/media/image6.wmf" ContentType="image/x-wmf"/>
  <Override PartName="/ppt/media/image4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CBB6-1DDE-41C1-83B7-0336138358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C814-54E5-4692-A910-538BF4B3532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может быть закодирована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C798-3A73-4A22-9CF5-B631BBFD208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дир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и передача информации с помощью некоторого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одной формы представления информации к дру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7E6C-983C-4467-ADAF-62C2B8B8FC6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збука  Мор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2DF7-5092-4785-8495-E4A368D182A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рская семафорная азб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1283-2541-4E84-904C-A17232BEE65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, п.1.6, 1.7 (вопросы и задания 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Т: №15, 16, 17,18 (стр.18-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D15E-B164-4906-9C86-491CB9B8B5B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мпьютерный 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6D03-47BC-4832-8CB6-30E7BF10F08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ADC4-DABD-467C-B005-B31041822A7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E112-4C8E-405D-9B45-051A721164E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Игра «Что бы это значил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2F92-241D-4FD8-9B89-9209A4DB4E8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Итог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E549-F72D-4B61-A0EF-030C4C546A2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НФОРМАЦИЯ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действия человек совершает с информа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может сохранить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овременные носители информации вам извест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1AD3-5297-4DDF-A633-E36377DD330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 домашнего зад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Т №3, стр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F94A-EB02-4D9C-97F8-E9427F5CDA9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йми  ме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9E81-713D-4EE6-BE16-B131E20AD6F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E48F-2105-4F5D-8F05-711CBBFDD51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ОД 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 такое кодиров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1379-C7DE-4456-A966-B44D22E30F0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Разнообразие  к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кириллических букв (А, Б, В, Г, Д, Е, Ё, Ж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латинских букв ( А, В, 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, E, F, G, H, I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десятичных цифр (0,1, 2, 3, 4, 5, 6, 7, 8, 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фавит знаков зодиака (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символика (+, -, =, ∑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форная азб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знаков азбуки для слепых  (азбука Брай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бука Мор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знаков международного телеграфного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их-код на то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ичное кодирование информации в компьют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0 или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D2A8-6B18-414E-B7A8-FA19F8006C3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чем люди кодируют информацию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крыть ее от других (все случаи шифров и тайноп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писать информацию короче. Самый простой пример - аббревиатуры. Что  такое  ООН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 ее  удобнее  было обрабатывать и передавать. Например, как передать информацию по телеграф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91E1-942E-44B8-A607-619039D51FB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чего зависит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особ  кодирования информации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кодирования зависит от цели, ради которой оно осущест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D560-B409-41F4-94F9-A618E0DD3EE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E3E-80EE-4397-9785-73809669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C9F-1659-4C54-AA0E-92E54000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D9A64-F3BD-4925-83F6-C737FC90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7857A-A4DB-4C48-AC41-471DB0BC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6D4D5-26F2-45F5-9BD4-81EE3489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09AA1-BC75-45FE-985F-3D15A42B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0081B-B844-43C3-98D9-86BB73AA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A99D4-BCF9-4F67-BF5D-75A0FC8F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88873-B59F-401F-AEB9-1DD95470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2426D-75CD-4114-B416-47AF4F77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76073-3047-43E4-A678-839B7465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F6F81-AA50-4B9A-A458-52BCF284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972-9C4B-4D0A-9EEB-B019E8ED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A6A17-957D-4989-B5BD-1518CA69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640C4-3BF7-4E3F-8E04-752BC835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3015D-BD62-40E5-A1DD-9BB80253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F1C8F-B664-4715-A624-55DEB9F1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4C623-ED21-4A8C-86D9-CBF544AB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A20FA-8052-45E8-8667-FFEAF004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748AE-44A3-4041-B374-5DDDBAB1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55386-A9FA-4093-A713-51030F88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91D8F-06F7-4AB8-8E46-83E1FEAA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061A9-5141-4B1F-8CF1-7C7C248B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919-FD47-4CFA-B7D0-FAB36621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2C7A0-E81B-42B8-A62E-03B91D1A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64A74-2C21-4B8B-9132-50A30E2D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1A817-8455-44EE-8D50-05EBC20B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096DE-9501-4710-9CFB-3855F355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DA973-73DF-48E6-A2B1-2C09C053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D06C4-884E-4481-8F7E-223FC8F5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059D6-0896-4016-B47D-90910BF2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5AD2B-BAE6-4F71-9CC9-D9DCA0CA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D8A8A-5A9A-47FB-9086-D19C54D3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18D45-972E-4B0C-8E62-99270C35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CD3D-D838-4B8C-A91A-4337F10D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BA87D-0816-4524-BCFD-73819632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6F32E-237C-40BE-ACAD-02B14F7D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58093-1A6E-44F4-91CE-46072D6C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21338-E30F-4CD7-BB42-1480021D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5B1A8-CA47-4AA4-89EE-7B5D4D8B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08F8F-C7A9-49D6-AF1B-95C99DB8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B37E0-C8A1-4836-B674-06D2EF78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AE25B-AEDE-4E62-A4C8-8FC260B7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7324D-B5A0-485A-A3BB-B7DE8210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E7EC5-BE32-4B25-B2D5-3A13F3C2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6138-97CE-4A52-B4AF-F3BAE454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6BDDF-9554-4CCA-B92C-F5E6C93E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3ABA9-8374-4ED2-8357-DE25E89A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A4195-0828-4DA7-9F48-53CBA664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B7635-D4CC-47DE-A47F-54935F8C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8C012-7930-4811-9347-2DCAF689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03EAA-D756-4D34-8CD0-0D3CE67E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106F3-46F8-490A-8F68-72EEE980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C337A-71C4-4C01-BA8B-A9E09FD6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439CC-8C3D-4CD9-A2A0-5583B5DE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4BBE2-A772-4BD4-854A-82DF0CD7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1754-7B3D-4B6F-A4A8-1BBB8C71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1ACDE-E69D-4718-8E1E-F356225B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A09DB-7452-41DE-AFF2-DE2FA41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82A8C-21C1-41E1-B16C-20F761D3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4EEE1-768E-48D9-BDE9-09637B10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1A949-7F1B-455D-885E-0268F1C9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B6F74-1214-4829-A6B5-2D93D563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E0DB8-3A67-4060-80AA-F8022AB9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8D018-DAF5-4563-9D4E-30D3EC61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0608E-A572-4C5D-9027-7C108EDE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D16BC-FB87-4AA2-9E52-7D2C7E20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6294-1131-4D26-8743-02AD3A41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DB256-DB18-422F-8C4C-60BBD5B6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E11D3-10C7-4CB1-B47C-D610ABDF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27062-ABF8-457D-AD91-0CE08236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2441A-DA31-4F7C-B426-A43E44B4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C238F-A481-420C-9B82-8F6064CB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8F87A-C62E-4302-AFED-0EDC40B5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9CF49-D59A-48C1-9F66-2DAA6EDC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D88A2-9595-4839-8F3C-23973449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34253-6509-4205-BB8B-4BC0787E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40D31C-501A-48EF-8B0A-C7000812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06B4-5FD3-46D1-8068-CA2706E3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4BC53-BC99-4123-9314-F69FB013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0B892-D971-4915-9503-C88D3C61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A95E13-0242-496A-954D-0A45CE52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15F10F-D6B9-4EFB-AABE-9BE13384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6211C5-F684-4BED-9210-4986C65C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D3B79-8C19-49F7-B989-C85FAF15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46E92-FAF2-443E-A44D-3DD64221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B8B01-52A7-4A71-8269-59A84F62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39EAC-EE49-4FF8-A23F-EE96B2D9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91CBA6-9274-41FF-9DAD-162FFAB1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FD9F-0F06-4041-9B2F-FA6F2E24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C90D1-75EB-4E49-AEF4-0B42BE50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72B1D0-C270-45A9-B170-ADCEB000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B4272-228B-430A-ADCD-3F599633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C050C-DFDF-4C4D-8B1E-57B9C163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999EA-43F6-4A2C-9434-AE55DB10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0DB9E7-05AD-4869-B512-4BDA0FD0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5160E9-6535-460F-A99A-D6E4A6BA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2CED0-3D34-4177-89E4-2B8AFEC0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BC9DFA-465B-483B-95C7-CAB0526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4B20D-80AA-4495-AFE1-62A2C33E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B7D4-9921-4A2E-BB31-E8ADD829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771B48-B351-4920-B587-2DA601B8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C5EB5-D933-4371-A059-1A58845C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7FB4E-1E17-4FA1-84A9-1CB01C67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B39C09-D666-43ED-B9E0-CA6CB6D0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025D3-6E9B-4B9B-9BFB-EABE7A31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52150-0144-4CC4-B910-FC5F5030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B14B86-29ED-4426-8669-22E2121D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20A6F7-9031-4D86-8E00-AE6C0DC1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EDC79-0FAB-4AAE-9675-9CA71D97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5C5E9-5899-4183-8BF7-111C749A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FF1-F064-4DDC-B6EC-C23E38B0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AC70-972B-43B7-BAE6-BDB13FAD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AE976-9046-4BF2-BB55-EDF16DCA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39DED8-F218-43A9-84DF-EEBB40DC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7B3F0-0B45-4300-A9F4-FF0DA998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B66053-DDBA-4345-8C34-C2BACC99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7B6FAA-F74C-4683-9B0F-5C3103D3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417E-4D82-4FF4-A923-39608D0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3146-819C-45C1-87EC-2AA2E06D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EF1A-92F1-41B2-8E47-E3C44D07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3D11-0203-48F9-B84C-A1BB0CAF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C5030-38AC-431E-A4B9-3B864062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6EB40-0A71-43F3-AF9E-85859848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73C49-C924-4DB8-AB53-25550FBC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F9051-ACFC-4221-95C1-FA1582C4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A9750-8EB6-4B4D-B094-E5CE7DD4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F87-4DBB-4085-8D2A-CE75CA62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3CE05-7BB8-4C25-A3D5-5C7B52AB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5B434-0A1A-4F15-8430-3FA562E5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05CA5-9528-4123-A96E-7F8C9672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C01DC-B0DE-4005-87FA-03A72912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B4BD1-D711-4DE5-870C-B10F93C0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E5AC0-FF7C-4B75-B487-860AE02D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8114A-D3B9-4F5D-B5A2-66AF347F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9B971-1F7C-436A-BFA7-F4C75995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74454-EE85-4689-B78F-FB1E5E2E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4E904-AD9C-4B84-9A9E-EBB9E2F1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78F-DD29-46BA-B53D-05BDCA33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B0537-2196-4DC5-A6B2-0EC5408E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9680-59A3-45FC-A1DA-724297E4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B9E9-8E99-4DFA-AF3B-C7870CA5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10951-2651-41F2-B544-08446CBC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F51D-2137-40F6-B0BA-AB078B8C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2404F-408D-4301-9DFF-A8253BB7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A58DD-ACB2-45A7-B386-16417C9A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9BDC-DD35-455B-9D8A-78C9552C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5AC3-9B07-4D1D-9D02-AF997701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4B9DB-4A9C-40AE-95A4-0D2089EC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43B-2556-49C5-8E17-7BB2B99B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148FA-E4F0-4A4D-A735-FE6FAADC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6296C-6E88-4146-A558-6C0DED4A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C63E2-22D4-4E53-B187-ECFED132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47340-0009-4EF6-805C-27128660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020E4-6476-46EE-B7FA-6A38517A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E0450-4017-4FFA-9654-744CBB84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33AC2-4BC1-40D0-846F-833E457A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43E50-EEAA-4298-B268-AC16D162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4936-0619-45A8-BFAF-356F58FD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AA911-F788-4C95-A5FE-3BE293C6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72B-9DD5-4C19-BE3F-3140D116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16CD5-4C54-4451-AD42-87FC8C17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BDA5E-E278-4926-9AF7-B956F9C6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9EE6A-A801-4122-BF92-94E41E6F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CB8D0-25A7-4856-80BF-2BF8F819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E1CC7-FC1C-4B07-96ED-07C1573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BF1D2-356F-433B-9EE8-F13A0D5B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FD302-372E-44A4-943B-28501B16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7EBE7-9133-498A-958B-5430C9D3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38F05-77C6-477C-BB26-E78B02D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74046-8161-49C3-9760-48E74945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845-299A-4092-A4F0-9AF47598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EC5CD-4386-436C-AC4E-685379EF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5DCEB-6A2F-40ED-AC07-B5CB124B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A75F3-7568-4BC2-A042-E9BFAB28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FE610-F447-4953-8878-DE6665AF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AC83C-272E-485C-8E4D-8F4EA409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F5AB3-5C30-460B-97F1-97748636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F7DA5-1D9B-4D6D-B7D1-02E92099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555CC-C1EF-4E7C-8191-4A7741D6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CCE7E-BFAB-45E4-A45A-2DC9137D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A57B7-0C1C-4F39-A158-D3AD8C1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688-32B1-43F6-BEDA-28E9B0CB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68FB1-8ACC-423A-8819-E3850453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516E0-7C06-4BEB-8D70-68E7D811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EFB23-6E08-422A-8972-2227EB23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98539-08F5-4177-A4B9-1CC73415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A60ED-47BF-43AB-BF73-8D9FDDC2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1EABB-A60F-48E1-8718-20332C46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AAC7A-99F5-4B2A-843E-F338504E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3D09C-3721-484D-B54D-D20D012A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F2881-5F98-4E7A-81FB-CBCA1250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46193-C9AC-4098-9B7E-184FBBB1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D29-8804-4F9A-9F58-4D5DA415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97D49-9E85-458F-84F9-FCDF6FD9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2D42C-6B89-42FA-A0E3-257C6FDE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4E356-394B-4227-B4B6-219F8AC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AD19B-EE63-4B0C-B406-B9ACB6BD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A5B3A-B116-41AD-BB72-CAB28603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E8CB0-0BE2-4224-992D-837B727B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AB694-B483-488F-B259-FB6D3F5B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76AAE-0758-4933-ACE6-2036EB68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5037B-1485-4753-9F16-9B2F609D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A3663-DA56-482A-AF4D-37636637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5178-EF65-4A0C-8E5C-3A83B1A8B0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0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1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993A-3474-458E-8BDB-0D0E38D2C2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9BB5-0C1F-4B48-AD66-BCE6D5389F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A8F7-FBBB-4EE4-A3F0-2CB08BEC8D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5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3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A36D-E0E5-4286-8F1E-FA0183957D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0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3EFC-C07C-4A47-8990-21B7C914C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5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9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9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0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4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4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9EC6-F670-460B-BAA1-5CED1AA883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5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6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9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E22A-0636-4394-B7D8-690C4893339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4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B459-8C75-4B4F-ACCC-F1F9AE68D04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515D-E2F3-4AB9-810D-94702EB780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9FE8-AE33-49BD-B7DB-7855D771D3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B94F-3C4E-42DE-A568-F4BA19168B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92D3-1EE6-46F0-A06F-DC7655EF3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6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5714-BEFA-45DE-BD59-542863A25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2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6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7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0636-A0AC-47C4-958D-09E3F06E6D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2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5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5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010B-BACF-486C-9533-045406FA72F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0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0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1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1543-C45B-4D58-89B0-0165529BB2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0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png"/><Relationship Id="rId11" Type="http://schemas.openxmlformats.org/officeDocument/2006/relationships/image" Target="../media/image32.wmf"/><Relationship Id="rId12" Type="http://schemas.openxmlformats.org/officeDocument/2006/relationships/image" Target="../media/image33.png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49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gif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gi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68724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Кодирование  информаци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какой форме может быть закодирована информ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Picture 4" descr="BD00023_"/>
          <p:cNvPicPr/>
          <p:nvPr/>
        </p:nvPicPr>
        <p:blipFill>
          <a:blip r:embed="rId1"/>
          <a:stretch/>
        </p:blipFill>
        <p:spPr>
          <a:xfrm>
            <a:off x="1332000" y="1557360"/>
            <a:ext cx="863640" cy="78732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BD05090_"/>
          <p:cNvPicPr/>
          <p:nvPr/>
        </p:nvPicPr>
        <p:blipFill>
          <a:blip r:embed="rId2"/>
          <a:stretch/>
        </p:blipFill>
        <p:spPr>
          <a:xfrm>
            <a:off x="4572000" y="4149720"/>
            <a:ext cx="1327320" cy="120024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BD05092_"/>
          <p:cNvPicPr/>
          <p:nvPr/>
        </p:nvPicPr>
        <p:blipFill>
          <a:blip r:embed="rId3"/>
          <a:stretch/>
        </p:blipFill>
        <p:spPr>
          <a:xfrm>
            <a:off x="5724360" y="1773360"/>
            <a:ext cx="1211400" cy="109836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8" descr="BD07139_"/>
          <p:cNvPicPr/>
          <p:nvPr/>
        </p:nvPicPr>
        <p:blipFill>
          <a:blip r:embed="rId4"/>
          <a:stretch/>
        </p:blipFill>
        <p:spPr>
          <a:xfrm>
            <a:off x="1692360" y="2708280"/>
            <a:ext cx="923760" cy="122400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9" descr="BD07173_"/>
          <p:cNvPicPr/>
          <p:nvPr/>
        </p:nvPicPr>
        <p:blipFill>
          <a:blip r:embed="rId5"/>
          <a:stretch/>
        </p:blipFill>
        <p:spPr>
          <a:xfrm>
            <a:off x="468360" y="3500280"/>
            <a:ext cx="1328760" cy="112896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10" descr="EN00753_"/>
          <p:cNvPicPr/>
          <p:nvPr/>
        </p:nvPicPr>
        <p:blipFill>
          <a:blip r:embed="rId6"/>
          <a:stretch/>
        </p:blipFill>
        <p:spPr>
          <a:xfrm>
            <a:off x="3276720" y="4221000"/>
            <a:ext cx="1441440" cy="102564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11" descr="BS00809_"/>
          <p:cNvPicPr/>
          <p:nvPr/>
        </p:nvPicPr>
        <p:blipFill>
          <a:blip r:embed="rId7"/>
          <a:stretch/>
        </p:blipFill>
        <p:spPr>
          <a:xfrm>
            <a:off x="2987640" y="5157720"/>
            <a:ext cx="1546200" cy="139248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12" descr="BS00935_"/>
          <p:cNvPicPr/>
          <p:nvPr/>
        </p:nvPicPr>
        <p:blipFill>
          <a:blip r:embed="rId8"/>
          <a:stretch/>
        </p:blipFill>
        <p:spPr>
          <a:xfrm>
            <a:off x="7380360" y="2421000"/>
            <a:ext cx="1114200" cy="116352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13" descr="BS01112_"/>
          <p:cNvPicPr/>
          <p:nvPr/>
        </p:nvPicPr>
        <p:blipFill>
          <a:blip r:embed="rId9"/>
          <a:stretch/>
        </p:blipFill>
        <p:spPr>
          <a:xfrm>
            <a:off x="6012000" y="2708280"/>
            <a:ext cx="1433520" cy="117144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4" descr=""/>
          <p:cNvPicPr/>
          <p:nvPr/>
        </p:nvPicPr>
        <p:blipFill>
          <a:blip r:embed="rId10"/>
          <a:stretch/>
        </p:blipFill>
        <p:spPr>
          <a:xfrm>
            <a:off x="4572000" y="5300640"/>
            <a:ext cx="955800" cy="119700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7" descr="BD05099_"/>
          <p:cNvPicPr/>
          <p:nvPr/>
        </p:nvPicPr>
        <p:blipFill>
          <a:blip r:embed="rId11"/>
          <a:stretch/>
        </p:blipFill>
        <p:spPr>
          <a:xfrm>
            <a:off x="611280" y="2205000"/>
            <a:ext cx="772920" cy="115272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16" descr=""/>
          <p:cNvPicPr/>
          <p:nvPr/>
        </p:nvPicPr>
        <p:blipFill>
          <a:blip r:embed="rId12"/>
          <a:stretch/>
        </p:blipFill>
        <p:spPr>
          <a:xfrm>
            <a:off x="1763640" y="2276640"/>
            <a:ext cx="1440000" cy="48888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7" descr="BS01323_"/>
          <p:cNvPicPr/>
          <p:nvPr/>
        </p:nvPicPr>
        <p:blipFill>
          <a:blip r:embed="rId13"/>
          <a:stretch/>
        </p:blipFill>
        <p:spPr>
          <a:xfrm rot="20703600">
            <a:off x="7092720" y="1773360"/>
            <a:ext cx="1081080" cy="969840"/>
          </a:xfrm>
          <a:prstGeom prst="rect">
            <a:avLst/>
          </a:prstGeom>
          <a:ln w="0">
            <a:noFill/>
          </a:ln>
        </p:spPr>
      </p:pic>
      <p:sp>
        <p:nvSpPr>
          <p:cNvPr id="1401" name="Oval 19"/>
          <p:cNvSpPr/>
          <p:nvPr/>
        </p:nvSpPr>
        <p:spPr>
          <a:xfrm rot="1836000">
            <a:off x="347400" y="1319040"/>
            <a:ext cx="2879640" cy="3818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Oval 20"/>
          <p:cNvSpPr/>
          <p:nvPr/>
        </p:nvSpPr>
        <p:spPr>
          <a:xfrm>
            <a:off x="2484360" y="3645000"/>
            <a:ext cx="4175280" cy="32130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Oval 21"/>
          <p:cNvSpPr/>
          <p:nvPr/>
        </p:nvSpPr>
        <p:spPr>
          <a:xfrm>
            <a:off x="5219640" y="1341360"/>
            <a:ext cx="3745080" cy="273708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кодировани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ь и передача информации с помощью некоторого ко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ход от одной формы представления информации к друг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7" name="Picture 5" descr="BD07224_"/>
          <p:cNvPicPr/>
          <p:nvPr/>
        </p:nvPicPr>
        <p:blipFill>
          <a:blip r:embed="rId1"/>
          <a:stretch/>
        </p:blipFill>
        <p:spPr>
          <a:xfrm>
            <a:off x="6407280" y="3357720"/>
            <a:ext cx="2736720" cy="3284280"/>
          </a:xfrm>
          <a:prstGeom prst="rect">
            <a:avLst/>
          </a:prstGeom>
          <a:ln w="0">
            <a:noFill/>
          </a:ln>
        </p:spPr>
      </p:pic>
      <p:sp>
        <p:nvSpPr>
          <p:cNvPr id="1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збука  Мор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130320" y="2251080"/>
          <a:ext cx="8893080" cy="10796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90640"/>
                <a:gridCol w="889200"/>
                <a:gridCol w="888840"/>
                <a:gridCol w="889200"/>
                <a:gridCol w="888840"/>
                <a:gridCol w="954000"/>
                <a:gridCol w="719280"/>
                <a:gridCol w="995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орская семафорная азб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5" name="Picture 40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1081080" cy="100944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41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1079280" cy="103176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42" descr=""/>
          <p:cNvPicPr/>
          <p:nvPr/>
        </p:nvPicPr>
        <p:blipFill>
          <a:blip r:embed="rId3"/>
          <a:stretch/>
        </p:blipFill>
        <p:spPr>
          <a:xfrm>
            <a:off x="2050920" y="2205000"/>
            <a:ext cx="1008360" cy="99684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43" descr=""/>
          <p:cNvPicPr/>
          <p:nvPr/>
        </p:nvPicPr>
        <p:blipFill>
          <a:blip r:embed="rId4"/>
          <a:stretch/>
        </p:blipFill>
        <p:spPr>
          <a:xfrm>
            <a:off x="2916360" y="2924280"/>
            <a:ext cx="1079280" cy="104292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44" descr=""/>
          <p:cNvPicPr/>
          <p:nvPr/>
        </p:nvPicPr>
        <p:blipFill>
          <a:blip r:embed="rId5"/>
          <a:stretch/>
        </p:blipFill>
        <p:spPr>
          <a:xfrm>
            <a:off x="3924360" y="2205000"/>
            <a:ext cx="1008000" cy="98424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5" descr=""/>
          <p:cNvPicPr/>
          <p:nvPr/>
        </p:nvPicPr>
        <p:blipFill>
          <a:blip r:embed="rId6"/>
          <a:stretch/>
        </p:blipFill>
        <p:spPr>
          <a:xfrm>
            <a:off x="4716360" y="2924280"/>
            <a:ext cx="1079640" cy="104292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46" descr=""/>
          <p:cNvPicPr/>
          <p:nvPr/>
        </p:nvPicPr>
        <p:blipFill>
          <a:blip r:embed="rId7"/>
          <a:stretch/>
        </p:blipFill>
        <p:spPr>
          <a:xfrm>
            <a:off x="5364000" y="2209680"/>
            <a:ext cx="1079640" cy="103212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47" descr=""/>
          <p:cNvPicPr/>
          <p:nvPr/>
        </p:nvPicPr>
        <p:blipFill>
          <a:blip r:embed="rId8"/>
          <a:stretch/>
        </p:blipFill>
        <p:spPr>
          <a:xfrm>
            <a:off x="6227640" y="2997360"/>
            <a:ext cx="1008360" cy="99684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48" descr=""/>
          <p:cNvPicPr/>
          <p:nvPr/>
        </p:nvPicPr>
        <p:blipFill>
          <a:blip r:embed="rId9"/>
          <a:stretch/>
        </p:blipFill>
        <p:spPr>
          <a:xfrm>
            <a:off x="6732720" y="22050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49" descr=""/>
          <p:cNvPicPr/>
          <p:nvPr/>
        </p:nvPicPr>
        <p:blipFill>
          <a:blip r:embed="rId10"/>
          <a:stretch/>
        </p:blipFill>
        <p:spPr>
          <a:xfrm>
            <a:off x="7524720" y="2997360"/>
            <a:ext cx="1008000" cy="961920"/>
          </a:xfrm>
          <a:prstGeom prst="rect">
            <a:avLst/>
          </a:prstGeom>
          <a:ln w="0">
            <a:noFill/>
          </a:ln>
        </p:spPr>
      </p:pic>
      <p:pic>
        <p:nvPicPr>
          <p:cNvPr id="1425" name="Picture 50" descr=""/>
          <p:cNvPicPr/>
          <p:nvPr/>
        </p:nvPicPr>
        <p:blipFill>
          <a:blip r:embed="rId11"/>
          <a:stretch/>
        </p:blipFill>
        <p:spPr>
          <a:xfrm>
            <a:off x="7956720" y="2071800"/>
            <a:ext cx="1020600" cy="942840"/>
          </a:xfrm>
          <a:prstGeom prst="rect">
            <a:avLst/>
          </a:prstGeom>
          <a:ln w="0">
            <a:noFill/>
          </a:ln>
        </p:spPr>
      </p:pic>
      <p:sp>
        <p:nvSpPr>
          <p:cNvPr id="1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бник, п.1.6, 1.7 (вопросы и задания устн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Т: №15, 16, 17,18 (стр.18-2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омпьютерный 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1" name="Picture 7" descr="111"/>
          <p:cNvPicPr/>
          <p:nvPr/>
        </p:nvPicPr>
        <p:blipFill>
          <a:blip r:embed="rId1"/>
          <a:stretch/>
        </p:blipFill>
        <p:spPr>
          <a:xfrm>
            <a:off x="0" y="907920"/>
            <a:ext cx="7775640" cy="583596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8" descr="111"/>
          <p:cNvPicPr/>
          <p:nvPr/>
        </p:nvPicPr>
        <p:blipFill>
          <a:blip r:embed="rId2"/>
          <a:stretch/>
        </p:blipFill>
        <p:spPr>
          <a:xfrm>
            <a:off x="5003640" y="1052640"/>
            <a:ext cx="3578400" cy="264132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9" descr="111"/>
          <p:cNvPicPr/>
          <p:nvPr/>
        </p:nvPicPr>
        <p:blipFill>
          <a:blip r:embed="rId3"/>
          <a:stretch/>
        </p:blipFill>
        <p:spPr>
          <a:xfrm>
            <a:off x="5867280" y="2637000"/>
            <a:ext cx="3276720" cy="240480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0" descr="111"/>
          <p:cNvPicPr/>
          <p:nvPr/>
        </p:nvPicPr>
        <p:blipFill>
          <a:blip r:embed="rId4"/>
          <a:stretch/>
        </p:blipFill>
        <p:spPr>
          <a:xfrm>
            <a:off x="6318360" y="4773600"/>
            <a:ext cx="2825640" cy="2084400"/>
          </a:xfrm>
          <a:prstGeom prst="rect">
            <a:avLst/>
          </a:prstGeom>
          <a:ln w="0">
            <a:noFill/>
          </a:ln>
        </p:spPr>
      </p:pic>
      <p:sp>
        <p:nvSpPr>
          <p:cNvPr id="14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5" descr="111"/>
          <p:cNvPicPr/>
          <p:nvPr/>
        </p:nvPicPr>
        <p:blipFill>
          <a:blip r:embed="rId1"/>
          <a:stretch/>
        </p:blipFill>
        <p:spPr>
          <a:xfrm>
            <a:off x="0" y="1197000"/>
            <a:ext cx="8675640" cy="4995720"/>
          </a:xfrm>
          <a:prstGeom prst="rect">
            <a:avLst/>
          </a:prstGeom>
          <a:ln w="0">
            <a:noFill/>
          </a:ln>
        </p:spPr>
      </p:pic>
      <p:sp>
        <p:nvSpPr>
          <p:cNvPr id="1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Picture 4" descr="J0078742"/>
          <p:cNvPicPr/>
          <p:nvPr/>
        </p:nvPicPr>
        <p:blipFill>
          <a:blip r:embed="rId1"/>
          <a:stretch/>
        </p:blipFill>
        <p:spPr>
          <a:xfrm>
            <a:off x="539640" y="1484280"/>
            <a:ext cx="3168720" cy="28861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6" descr="AG00373_"/>
          <p:cNvPicPr/>
          <p:nvPr/>
        </p:nvPicPr>
        <p:blipFill>
          <a:blip r:embed="rId2"/>
          <a:stretch/>
        </p:blipFill>
        <p:spPr>
          <a:xfrm>
            <a:off x="5148360" y="1628640"/>
            <a:ext cx="2879640" cy="276876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7" descr="AG00339_"/>
          <p:cNvPicPr/>
          <p:nvPr/>
        </p:nvPicPr>
        <p:blipFill>
          <a:blip r:embed="rId3"/>
          <a:stretch/>
        </p:blipFill>
        <p:spPr>
          <a:xfrm rot="16200000">
            <a:off x="3585960" y="4701960"/>
            <a:ext cx="2448000" cy="1485720"/>
          </a:xfrm>
          <a:prstGeom prst="rect">
            <a:avLst/>
          </a:prstGeom>
          <a:ln w="0">
            <a:noFill/>
          </a:ln>
        </p:spPr>
      </p:pic>
      <p:sp>
        <p:nvSpPr>
          <p:cNvPr id="1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Игра «Что бы это значило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4" descr="111"/>
          <p:cNvPicPr/>
          <p:nvPr/>
        </p:nvPicPr>
        <p:blipFill>
          <a:blip r:embed="rId1"/>
          <a:stretch/>
        </p:blipFill>
        <p:spPr>
          <a:xfrm rot="21382800">
            <a:off x="250560" y="1628280"/>
            <a:ext cx="2516040" cy="31687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5" descr="111"/>
          <p:cNvPicPr/>
          <p:nvPr/>
        </p:nvPicPr>
        <p:blipFill>
          <a:blip r:embed="rId2"/>
          <a:stretch/>
        </p:blipFill>
        <p:spPr>
          <a:xfrm>
            <a:off x="2843280" y="1413000"/>
            <a:ext cx="3003480" cy="309564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6" descr="111"/>
          <p:cNvPicPr/>
          <p:nvPr/>
        </p:nvPicPr>
        <p:blipFill>
          <a:blip r:embed="rId3"/>
          <a:stretch/>
        </p:blipFill>
        <p:spPr>
          <a:xfrm rot="275400">
            <a:off x="6011640" y="1628640"/>
            <a:ext cx="2728800" cy="3168720"/>
          </a:xfrm>
          <a:prstGeom prst="rect">
            <a:avLst/>
          </a:prstGeom>
          <a:ln w="0">
            <a:noFill/>
          </a:ln>
        </p:spPr>
      </p:pic>
      <p:sp>
        <p:nvSpPr>
          <p:cNvPr id="1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4" descr="AG00373_"/>
          <p:cNvPicPr/>
          <p:nvPr/>
        </p:nvPicPr>
        <p:blipFill>
          <a:blip r:embed="rId1"/>
          <a:stretch/>
        </p:blipFill>
        <p:spPr>
          <a:xfrm>
            <a:off x="2484360" y="1773360"/>
            <a:ext cx="3745080" cy="3600360"/>
          </a:xfrm>
          <a:prstGeom prst="rect">
            <a:avLst/>
          </a:prstGeom>
          <a:ln w="0">
            <a:noFill/>
          </a:ln>
        </p:spPr>
      </p:pic>
      <p:sp>
        <p:nvSpPr>
          <p:cNvPr id="1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2438280" y="1268280"/>
            <a:ext cx="6400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акое ИНФОРМАЦИЯ для челове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действия человек совершает с информаци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человек может сохранить информаци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современные носители информации вам известн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 домашнего зада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Т №3, стр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Picture 4" descr="BS00264_"/>
          <p:cNvPicPr/>
          <p:nvPr/>
        </p:nvPicPr>
        <p:blipFill>
          <a:blip r:embed="rId1"/>
          <a:stretch/>
        </p:blipFill>
        <p:spPr>
          <a:xfrm>
            <a:off x="3203640" y="5229360"/>
            <a:ext cx="1193760" cy="11826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5" descr="BS00287_"/>
          <p:cNvPicPr/>
          <p:nvPr/>
        </p:nvPicPr>
        <p:blipFill>
          <a:blip r:embed="rId2"/>
          <a:stretch/>
        </p:blipFill>
        <p:spPr>
          <a:xfrm>
            <a:off x="7380360" y="5157720"/>
            <a:ext cx="1360440" cy="117000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6" descr="BS00552_"/>
          <p:cNvPicPr/>
          <p:nvPr/>
        </p:nvPicPr>
        <p:blipFill>
          <a:blip r:embed="rId3"/>
          <a:stretch/>
        </p:blipFill>
        <p:spPr>
          <a:xfrm>
            <a:off x="395280" y="1700280"/>
            <a:ext cx="2533680" cy="213336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7" descr="BS00649_"/>
          <p:cNvPicPr/>
          <p:nvPr/>
        </p:nvPicPr>
        <p:blipFill>
          <a:blip r:embed="rId4"/>
          <a:stretch/>
        </p:blipFill>
        <p:spPr>
          <a:xfrm>
            <a:off x="3132000" y="1844640"/>
            <a:ext cx="1656000" cy="145116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8" descr="BS00800_"/>
          <p:cNvPicPr/>
          <p:nvPr/>
        </p:nvPicPr>
        <p:blipFill>
          <a:blip r:embed="rId5"/>
          <a:stretch/>
        </p:blipFill>
        <p:spPr>
          <a:xfrm>
            <a:off x="6588000" y="2852640"/>
            <a:ext cx="1650960" cy="202104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9" descr="EN00270_"/>
          <p:cNvPicPr/>
          <p:nvPr/>
        </p:nvPicPr>
        <p:blipFill>
          <a:blip r:embed="rId6"/>
          <a:stretch/>
        </p:blipFill>
        <p:spPr>
          <a:xfrm>
            <a:off x="4788000" y="1341360"/>
            <a:ext cx="1441440" cy="189252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10" descr="EN00272_"/>
          <p:cNvPicPr/>
          <p:nvPr/>
        </p:nvPicPr>
        <p:blipFill>
          <a:blip r:embed="rId7"/>
          <a:stretch/>
        </p:blipFill>
        <p:spPr>
          <a:xfrm>
            <a:off x="4427640" y="3500280"/>
            <a:ext cx="1566720" cy="165744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11" descr="EN00321_"/>
          <p:cNvPicPr/>
          <p:nvPr/>
        </p:nvPicPr>
        <p:blipFill>
          <a:blip r:embed="rId8"/>
          <a:stretch/>
        </p:blipFill>
        <p:spPr>
          <a:xfrm>
            <a:off x="6877080" y="1268280"/>
            <a:ext cx="1584360" cy="124308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12" descr="EN00377_"/>
          <p:cNvPicPr/>
          <p:nvPr/>
        </p:nvPicPr>
        <p:blipFill>
          <a:blip r:embed="rId9"/>
          <a:stretch/>
        </p:blipFill>
        <p:spPr>
          <a:xfrm>
            <a:off x="2484360" y="3573360"/>
            <a:ext cx="1798560" cy="150336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13" descr="EN00664_"/>
          <p:cNvPicPr/>
          <p:nvPr/>
        </p:nvPicPr>
        <p:blipFill>
          <a:blip r:embed="rId10"/>
          <a:stretch/>
        </p:blipFill>
        <p:spPr>
          <a:xfrm>
            <a:off x="395280" y="4005360"/>
            <a:ext cx="1589040" cy="201600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4" descr="HH01639_"/>
          <p:cNvPicPr/>
          <p:nvPr/>
        </p:nvPicPr>
        <p:blipFill>
          <a:blip r:embed="rId11"/>
          <a:stretch/>
        </p:blipFill>
        <p:spPr>
          <a:xfrm>
            <a:off x="4859280" y="5084640"/>
            <a:ext cx="2578320" cy="137664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5" descr="AG00003_"/>
          <p:cNvPicPr/>
          <p:nvPr/>
        </p:nvPicPr>
        <p:blipFill>
          <a:blip r:embed="rId12"/>
          <a:stretch/>
        </p:blipFill>
        <p:spPr>
          <a:xfrm>
            <a:off x="1476360" y="555300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1351" name="Oval 16"/>
          <p:cNvSpPr/>
          <p:nvPr/>
        </p:nvSpPr>
        <p:spPr>
          <a:xfrm>
            <a:off x="2195640" y="3429000"/>
            <a:ext cx="1942920" cy="1655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Oval 17"/>
          <p:cNvSpPr/>
          <p:nvPr/>
        </p:nvSpPr>
        <p:spPr>
          <a:xfrm>
            <a:off x="3059280" y="5157720"/>
            <a:ext cx="1728720" cy="13669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Oval 18"/>
          <p:cNvSpPr/>
          <p:nvPr/>
        </p:nvSpPr>
        <p:spPr>
          <a:xfrm>
            <a:off x="7236000" y="5013360"/>
            <a:ext cx="1657080" cy="151128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Oval 19"/>
          <p:cNvSpPr/>
          <p:nvPr/>
        </p:nvSpPr>
        <p:spPr>
          <a:xfrm>
            <a:off x="6156360" y="2708280"/>
            <a:ext cx="2376360" cy="21607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Oval 20"/>
          <p:cNvSpPr/>
          <p:nvPr/>
        </p:nvSpPr>
        <p:spPr>
          <a:xfrm>
            <a:off x="4643280" y="1197000"/>
            <a:ext cx="1873440" cy="194472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ойми  мен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042920" y="1699920"/>
            <a:ext cx="68724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Кодирование  информаци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такое  КОД ?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то  такое кодировани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4" name="Picture 6" descr="BS00847A"/>
          <p:cNvPicPr/>
          <p:nvPr/>
        </p:nvPicPr>
        <p:blipFill>
          <a:blip r:embed="rId2"/>
          <a:stretch/>
        </p:blipFill>
        <p:spPr>
          <a:xfrm>
            <a:off x="468360" y="2133720"/>
            <a:ext cx="1674720" cy="172692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7" descr="BD05088_"/>
          <p:cNvPicPr/>
          <p:nvPr/>
        </p:nvPicPr>
        <p:blipFill>
          <a:blip r:embed="rId3"/>
          <a:stretch/>
        </p:blipFill>
        <p:spPr>
          <a:xfrm>
            <a:off x="3059280" y="2060640"/>
            <a:ext cx="1074600" cy="1920960"/>
          </a:xfrm>
          <a:prstGeom prst="rect">
            <a:avLst/>
          </a:prstGeom>
          <a:ln w="0">
            <a:noFill/>
          </a:ln>
        </p:spPr>
      </p:pic>
      <p:sp>
        <p:nvSpPr>
          <p:cNvPr id="1366" name="Rectangle 13"/>
          <p:cNvSpPr/>
          <p:nvPr/>
        </p:nvSpPr>
        <p:spPr>
          <a:xfrm>
            <a:off x="468360" y="4437000"/>
            <a:ext cx="1008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Rectangle 14"/>
          <p:cNvSpPr/>
          <p:nvPr/>
        </p:nvSpPr>
        <p:spPr>
          <a:xfrm>
            <a:off x="539640" y="4508640"/>
            <a:ext cx="100800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Rectangle 15"/>
          <p:cNvSpPr/>
          <p:nvPr/>
        </p:nvSpPr>
        <p:spPr>
          <a:xfrm>
            <a:off x="611280" y="4581360"/>
            <a:ext cx="1008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Rectangle 16"/>
          <p:cNvSpPr/>
          <p:nvPr/>
        </p:nvSpPr>
        <p:spPr>
          <a:xfrm>
            <a:off x="684360" y="4724280"/>
            <a:ext cx="107928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17"/>
          <p:cNvSpPr/>
          <p:nvPr/>
        </p:nvSpPr>
        <p:spPr>
          <a:xfrm>
            <a:off x="147636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18"/>
          <p:cNvSpPr/>
          <p:nvPr/>
        </p:nvSpPr>
        <p:spPr>
          <a:xfrm>
            <a:off x="611280" y="4869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2" name="Picture 19" descr="j0293234"/>
          <p:cNvPicPr/>
          <p:nvPr/>
        </p:nvPicPr>
        <p:blipFill>
          <a:blip r:embed="rId4"/>
          <a:stretch/>
        </p:blipFill>
        <p:spPr>
          <a:xfrm>
            <a:off x="2700360" y="4797360"/>
            <a:ext cx="2305080" cy="170028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20" descr="j0293238"/>
          <p:cNvPicPr/>
          <p:nvPr/>
        </p:nvPicPr>
        <p:blipFill>
          <a:blip r:embed="rId5"/>
          <a:stretch/>
        </p:blipFill>
        <p:spPr>
          <a:xfrm>
            <a:off x="4284720" y="4508640"/>
            <a:ext cx="2232000" cy="164916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21" descr="EN00753_"/>
          <p:cNvPicPr/>
          <p:nvPr/>
        </p:nvPicPr>
        <p:blipFill>
          <a:blip r:embed="rId6"/>
          <a:stretch/>
        </p:blipFill>
        <p:spPr>
          <a:xfrm>
            <a:off x="6948360" y="2060640"/>
            <a:ext cx="1727280" cy="122868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22" descr="EN00769_"/>
          <p:cNvPicPr/>
          <p:nvPr/>
        </p:nvPicPr>
        <p:blipFill>
          <a:blip r:embed="rId7"/>
          <a:stretch/>
        </p:blipFill>
        <p:spPr>
          <a:xfrm>
            <a:off x="7937640" y="2492280"/>
            <a:ext cx="1206360" cy="173520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23" descr="BD07303_"/>
          <p:cNvPicPr/>
          <p:nvPr/>
        </p:nvPicPr>
        <p:blipFill>
          <a:blip r:embed="rId8"/>
          <a:stretch/>
        </p:blipFill>
        <p:spPr>
          <a:xfrm>
            <a:off x="4572000" y="2133720"/>
            <a:ext cx="1825560" cy="1817640"/>
          </a:xfrm>
          <a:prstGeom prst="rect">
            <a:avLst/>
          </a:prstGeom>
          <a:ln w="0">
            <a:noFill/>
          </a:ln>
        </p:spPr>
      </p:pic>
      <p:sp>
        <p:nvSpPr>
          <p:cNvPr id="13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Разнообразие  кодо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9" name="Text Box 3"/>
          <p:cNvSpPr/>
          <p:nvPr/>
        </p:nvSpPr>
        <p:spPr>
          <a:xfrm>
            <a:off x="250920" y="907920"/>
            <a:ext cx="8281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кириллических букв (А, Б, В, Г, Д, Е, Ё, Ж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латинских букв ( А, В, С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, E, F, G, H, I …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десятичных цифр (0,1, 2, 3, 4, 5, 6, 7, 8, 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знаков зодиака (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.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символика (+, -, =, ∑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афорная азбу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знаков азбуки для слепых  (азбука Брайля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збука Морз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бор знаков международного телеграфного ко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трих-код на товар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оичное кодирование информации в компьютер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0 или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339933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Зачем люди кодируют информацию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-108000" y="191592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скрыть ее от других (все случаи шифров и тайнопис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записать информацию короче. Самый простой пример - аббревиатуры. Что  такое  ООН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 ее  удобнее  было обрабатывать и передавать. Например, как передать информацию по телеграф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08000" y="2725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 чего зависит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пособ  кодирования информаци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5400" y="2276280"/>
            <a:ext cx="822636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Способ кодирования зависит от цели, ради которой оно осуществляется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8:52:27Z</dcterms:created>
  <dc:creator>User</dc:creator>
  <dc:description/>
  <dc:language>en-US</dc:language>
  <cp:lastModifiedBy>LEGION</cp:lastModifiedBy>
  <dcterms:modified xsi:type="dcterms:W3CDTF">2015-04-01T07:38:46Z</dcterms:modified>
  <cp:revision>10</cp:revision>
  <dc:subject/>
  <dc:title>Кодирование  информации</dc:title>
</cp:coreProperties>
</file>