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4B50-E291-4ED9-90D7-2D54C05218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44D-061E-4F99-8B07-7E82DA0025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F80-FCE6-47B6-8D55-790279BA9F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Неценовые факторы изменения спроса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FA2A-1950-423D-A008-56EE0B9A7D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21F-3A50-4D49-816D-3491BF5335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рос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0D22-AED1-4C73-B308-C05B26A087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EFC0-98B5-4901-A118-691B8BBAB8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657A-EA27-45BF-986E-FB5C03496A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8CF0-4A31-44C1-8582-166B44786F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D97-10F4-49B4-B66E-21E091FA4A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1D80-6D82-4E8E-B0AC-C9A1E5C6C9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EC11-078D-4D2B-A3FC-CF7C3A10F6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DB3-0FAD-46AB-B988-74C3A7D6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756-53C3-4308-9122-4FB1E38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EEA-EDD3-4C46-A256-880537F7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DCF-941F-492B-AE93-4586D948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6273-07BE-4032-8CBA-0FB2959C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8628-259A-4C14-BC68-5BB27A8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EC42-BD74-49EC-BB84-B5C3EDC4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3EFE-B884-40CE-82C5-E70908C1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DFC4-A4AE-4A82-934D-5CC6974C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68DA-684E-4BBD-AD8A-372344C0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F075-D31B-44B0-98BE-8A35D8A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0A2-9A97-4F76-964F-37B2D044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718E-F4AE-4B43-A7F6-A3359AE9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0BAF-8111-4117-8BD8-37BC0D56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57C5-6E2F-4769-A472-FB5E8C49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8ED0-1B5F-4CEB-A31D-D60DF9D8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6CA4-2860-4491-9ED8-04477752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E3C-F571-4BCD-BAC8-5720EE48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096-5D5D-4C4D-964B-6F285C7B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75D-757E-4B2B-8029-D148370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54C-A1B5-4192-90A7-0E12BF18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0BB-3CEF-4C4E-8816-E28F6DB2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8E5-081E-4CF8-B04C-1EA36CA7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0B4-3096-49DA-B379-ED0DFEC3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10E-389F-4B87-A6DA-48D457CF00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FB47-CB06-4382-B5A1-BADBA123D4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5" descr="C:\Documents and Settings\Администратор.АДМИНИСТРАТОР\Мои документы\Мои рисунки\Движ картинки\food14[1].gif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C:\Documents and Settings\Администратор.АДМИНИСТРАТОР\Мои документы\Мои рисунки\Движ картинки\026.gif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C:\Documents and Settings\Администратор.АДМИНИСТРАТОР\Мои документы\Мои рисунки\Движ картинки\Картинки\002.gif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Администратор.АДМИНИСТРАТОР\Мои документы\Мои рисунки\Движ картинки\AG00032_.GIF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Documents and Settings\Администратор.АДМИНИСТРАТОР\Мои документы\Мои рисунки\Движ картинки\AG00033_.GIF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Администратор.АДМИНИСТРАТОР\Мои документы\Мои рисунки\Движ картинки\AG00328_.GIF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Documents and Settings\Администратор.АДМИНИСТРАТОР\Мои документы\Мои рисунки\Движ картинки\AG00327_.GIF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Documents and Settings\Администратор.АДМИНИСТРАТОР\Мои документы\Мои рисунки\Движ картинки\AG00330_.GIF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C:\Documents and Settings\Администратор.АДМИНИСТРАТОР\Мои документы\Мои рисунки\Движ картинки\AG00331_.GIF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Documents and Settings\Администратор.АДМИНИСТРАТОР\Мои документы\Мои рисунки\Движ картинки\AG00332_.GIF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Администратор.АДМИНИСТРАТОР\Мои документы\Мои рисунки\Движ картинки\AG00333_.GIF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C:\Documents and Settings\Администратор.АДМИНИСТРАТОР\Мои документы\Мои рисунки\Движ картинки\J0076210.GIF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C:\Documents and Settings\Администратор.АДМИНИСТРАТОР\Мои документы\Мои рисунки\Движ картинки\J0095685.GIF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Администратор.АДМИНИСТРАТОР\Мои документы\Мои рисунки\Движ картинки\J0095684.GIF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Администратор.АДМИНИСТРАТОР\Мои документы\Мои рисунки\Движ картинки\J0095723.GIF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C:\Documents and Settings\Администратор.АДМИНИСТРАТОР\Мои документы\Мои рисунки\Движ картинки\J0095724.GIF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Documents and Settings\Администратор.АДМИНИСТРАТОР\Мои документы\Мои рисунки\Движ картинки\J0095710.GIF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Администратор.АДМИНИСТРАТОР\Мои документы\Мои рисунки\Движ картинки\J0076120.GIF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Documents and Settings\Администратор.АДМИНИСТРАТОР\Мои документы\Мои рисунки\Движ картинки\J0095678.GIF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C:\Documents and Settings\Администратор.АДМИНИСТРАТОР\Мои документы\Мои рисунки\Движ картинки\food19[1].gif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5" descr="C:\Documents and Settings\Администратор.АДМИНИСТРАТОР\Мои документы\Мои рисунки\Движ картинки\Движ картинки\BS00004A.GIF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Администратор.АДМИНИСТРАТОР\Мои документы\Мои рисунки\Движ картинки\Движ картинки\BS00005A.GIF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Picture 6" descr="C:\Documents and Settings\Администратор.АДМИНИСТРАТОР\Мои документы\Мои рисунки\Движ картинки\food26[1].gif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Documents and Settings\Администратор.АДМИНИСТРАТОР\Мои документы\Мои рисунки\Движ картинки\food10[1].gif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Администратор.АДМИНИСТРАТОР\Мои документы\Мои рисунки\Движ картинки\food20[1].gif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Documents and Settings\Администратор.АДМИНИСТРАТОР\Мои документы\Мои рисунки\Движ картинки\food33[1].gif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C:\Documents and Settings\Администратор.АДМИНИСТРАТОР\Мои документы\Мои рисунки\Движ картинки\Движ картинки\BS00558A.GIF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4-11-10T12:18:21Z</dcterms:modified>
  <cp:revision>21</cp:revision>
  <dc:subject/>
  <dc:title>Спрос. Предложение. Равновесие.</dc:title>
</cp:coreProperties>
</file>