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6.gif" ContentType="image/gif"/>
  <Override PartName="/ppt/media/image23.wmf" ContentType="image/x-wmf"/>
  <Override PartName="/ppt/media/image27.gif" ContentType="image/gif"/>
  <Override PartName="/ppt/media/image20.gif" ContentType="image/gif"/>
  <Override PartName="/ppt/media/image28.gif" ContentType="image/gif"/>
  <Override PartName="/ppt/media/image5.gif" ContentType="image/gif"/>
  <Override PartName="/ppt/media/image10.gif" ContentType="image/gif"/>
  <Override PartName="/ppt/media/image29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33.gif" ContentType="image/gif"/>
  <Override PartName="/ppt/media/image13.gif" ContentType="image/gif"/>
  <Override PartName="/ppt/media/image9.gif" ContentType="image/gif"/>
  <Override PartName="/ppt/media/image30.png" ContentType="image/png"/>
  <Override PartName="/ppt/media/image4.gif" ContentType="image/gif"/>
  <Override PartName="/ppt/media/image3.png" ContentType="image/png"/>
  <Override PartName="/ppt/media/image32.png" ContentType="image/png"/>
  <Override PartName="/ppt/media/image2.png" ContentType="image/png"/>
  <Override PartName="/ppt/media/image22.gif" ContentType="image/gif"/>
  <Override PartName="/ppt/media/image25.png" ContentType="image/png"/>
  <Override PartName="/ppt/media/image1.png" ContentType="image/png"/>
  <Override PartName="/ppt/media/image19.gif" ContentType="image/gif"/>
  <Override PartName="/ppt/media/image21.gif" ContentType="image/gif"/>
  <Override PartName="/ppt/media/image31.gif" ContentType="image/gif"/>
  <Override PartName="/ppt/media/image24.png" ContentType="image/png"/>
  <Override PartName="/ppt/media/image14.gif" ContentType="image/gif"/>
  <Override PartName="/ppt/media/image15.gif" ContentType="image/gif"/>
  <Override PartName="/ppt/media/image16.gif" ContentType="image/gif"/>
  <Override PartName="/ppt/media/image17.gif" ContentType="image/gif"/>
  <Override PartName="/ppt/media/image1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B7D6-FC7F-4661-A528-3E69BD6D4FF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slide" Target="../slides/slide11.xml"/><Relationship Id="rId8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рос. Закон спроса. Эластичность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FB6B-BB9C-4B09-B971-3FB39B9C8C2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чины неэластичности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товары первой необход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их трудно найти замени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относительно недор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выходное положение потреб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201F-ABAA-4E0A-BCBD-06005D4467B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Неценовые факторы изменения спроса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иматические или сезонные изме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зменения дох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зменения в стиле, вкусе, привычк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спективные ожид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цены на товары – замените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цены на дополняющие това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96CE-5436-4EAD-AD92-8F947A840CF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спрос увеличивается, то кривая спроса смещается вправо 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1)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спрос снижается, то кривая спроса смещается влево 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0773-B456-4952-9C76-6DC87FCA341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рос 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желание и возможность потребителя купить продукт или услугу в определенном месте и в определенно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0FA8-E531-4B3B-998C-9B831C27796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Школьная столо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B914-00E0-4F2E-98CD-7A0B0AABB31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Шкала спроса на пирожки в школьной столов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1498-DA88-40A6-BCF2-22B359A45D8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кон спро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ворит о том, что при прочих равных условиях по низкой цене удастся продать больше товаров, чем по высо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84F9-7837-4731-927D-9E5C9531BFA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ффекты в законе спроса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до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заме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убывания предельной полез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1939-4207-4D4D-8DA3-091E9258014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ффект убывания предельной полезности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 описания ситуации, когда последняя единица товара приносит меньше удовлетворения, чем предпоследня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3DFB-8393-48D5-A0AA-B2B6B959476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ластичнос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ывает, в какой степени изменение цены влияет на величину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6EFB-BCBE-42E3-AE29-A4C74B4399A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ECE6-A8A2-4FCB-A715-27956F915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EF25-4587-481C-96AC-6230F121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EB31-6E57-42E4-ACE2-2605B5779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8B28-872D-4412-BE22-3CF2226F3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7205-AFF7-44B8-B6E5-D11DE8C85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155D-3EF8-4A73-B869-62BB1793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0614-5C3C-4B40-ABDC-242D76BA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E5D7-BDC7-4852-8CFE-E17D4C42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A19A-3DF1-44FC-91E0-CE3AFC35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8BFB4-E766-4640-A656-C7711793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AFB0-40EB-466E-A707-5B171713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6453-55C7-4A0F-A962-7EE88E6A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BBC8-03A3-4108-ABCE-5F6B02B6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E253-03CC-4B0D-9E47-AA10CBC8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79D3-138B-4280-8488-C6051BFE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0C71-CB8D-4A65-BB91-1C4A4F0C3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3E98-17B3-42D2-BC2C-40CBD03D7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31D4-BFFB-4063-A8E5-38E1300C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E88E-451B-4AF4-B12F-435FEF6C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BF98-5BB9-4C9F-AF75-A9120899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E480-2CF5-4AFA-8D2A-5A4F3962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05B5-60C0-41AF-9BD7-C54F3251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F82A-C015-4574-B293-89019F6B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1DD8-4FDB-4C45-AD7D-59C3CF4B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B7F9-82A4-4858-ADF8-BDA341BEF2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C:\My Documents\bits\earth.GIF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C:\My Documents\bits\earth.GIF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E589-2113-4DC2-B54B-34058E293B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image" Target="../media/image12.gif"/><Relationship Id="rId9" Type="http://schemas.openxmlformats.org/officeDocument/2006/relationships/image" Target="../media/image13.gif"/><Relationship Id="rId10" Type="http://schemas.openxmlformats.org/officeDocument/2006/relationships/image" Target="../media/image14.gif"/><Relationship Id="rId11" Type="http://schemas.openxmlformats.org/officeDocument/2006/relationships/image" Target="../media/image15.gif"/><Relationship Id="rId12" Type="http://schemas.openxmlformats.org/officeDocument/2006/relationships/image" Target="../media/image16.gif"/><Relationship Id="rId13" Type="http://schemas.openxmlformats.org/officeDocument/2006/relationships/image" Target="../media/image17.gif"/><Relationship Id="rId14" Type="http://schemas.openxmlformats.org/officeDocument/2006/relationships/image" Target="../media/image18.gif"/><Relationship Id="rId15" Type="http://schemas.openxmlformats.org/officeDocument/2006/relationships/image" Target="../media/image19.gif"/><Relationship Id="rId16" Type="http://schemas.openxmlformats.org/officeDocument/2006/relationships/image" Target="../media/image20.gif"/><Relationship Id="rId17" Type="http://schemas.openxmlformats.org/officeDocument/2006/relationships/image" Target="../media/image21.gif"/><Relationship Id="rId18" Type="http://schemas.openxmlformats.org/officeDocument/2006/relationships/image" Target="../media/image22.gi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image" Target="../media/image28.gif"/><Relationship Id="rId7" Type="http://schemas.openxmlformats.org/officeDocument/2006/relationships/image" Target="../media/image29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04760" y="2133360"/>
            <a:ext cx="693396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Спрос. Закон спроса. Эластичность спроса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Місце для нижнього колонтитула 1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040" y="1142640"/>
            <a:ext cx="69930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Причины неэластичности спроса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о товары первой необходим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них трудно найти заменител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ни относительно недорог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езвыходное положение потребител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9" name="Picture 5" descr="C:\Documents and Settings\Администратор.АДМИНИСТРАТОР\Мои документы\Мои рисунки\Движ картинки\food14[1].gif"/>
          <p:cNvPicPr/>
          <p:nvPr/>
        </p:nvPicPr>
        <p:blipFill>
          <a:blip r:embed="rId5"/>
          <a:stretch/>
        </p:blipFill>
        <p:spPr>
          <a:xfrm>
            <a:off x="7315200" y="4038480"/>
            <a:ext cx="1387440" cy="1981440"/>
          </a:xfrm>
          <a:prstGeom prst="rect">
            <a:avLst/>
          </a:prstGeom>
          <a:ln w="0">
            <a:noFill/>
          </a:ln>
        </p:spPr>
      </p:pic>
      <p:sp>
        <p:nvSpPr>
          <p:cNvPr id="39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3"/>
          <p:cNvSpPr/>
          <p:nvPr/>
        </p:nvSpPr>
        <p:spPr>
          <a:xfrm>
            <a:off x="380880" y="76212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Неценовые факторы изменения спроса</a:t>
            </a: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304920" y="2209680"/>
            <a:ext cx="83818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лиматические или сезонные измене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менения доход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менения в стиле, вкусе, привычках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спективные ожида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ены на товары – замените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ены на дополняющие това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Line 2"/>
          <p:cNvSpPr/>
          <p:nvPr/>
        </p:nvSpPr>
        <p:spPr>
          <a:xfrm flipV="1">
            <a:off x="611280" y="1341360"/>
            <a:ext cx="0" cy="4464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3"/>
          <p:cNvSpPr/>
          <p:nvPr/>
        </p:nvSpPr>
        <p:spPr>
          <a:xfrm>
            <a:off x="611280" y="5805360"/>
            <a:ext cx="7489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4"/>
          <p:cNvSpPr/>
          <p:nvPr/>
        </p:nvSpPr>
        <p:spPr>
          <a:xfrm flipH="1" flipV="1">
            <a:off x="3352320" y="1904760"/>
            <a:ext cx="2449800" cy="270972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5"/>
          <p:cNvSpPr/>
          <p:nvPr/>
        </p:nvSpPr>
        <p:spPr>
          <a:xfrm flipH="1" flipV="1">
            <a:off x="5562360" y="1980720"/>
            <a:ext cx="2476440" cy="2630520"/>
          </a:xfrm>
          <a:prstGeom prst="line">
            <a:avLst/>
          </a:prstGeom>
          <a:ln w="7632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6"/>
          <p:cNvSpPr/>
          <p:nvPr/>
        </p:nvSpPr>
        <p:spPr>
          <a:xfrm flipH="1" flipV="1">
            <a:off x="1294920" y="1905120"/>
            <a:ext cx="2210040" cy="2666880"/>
          </a:xfrm>
          <a:prstGeom prst="line">
            <a:avLst/>
          </a:prstGeom>
          <a:ln w="7632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838080" y="121932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3124080" y="12193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5181480" y="121932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0"/>
          <p:cNvSpPr/>
          <p:nvPr/>
        </p:nvSpPr>
        <p:spPr>
          <a:xfrm>
            <a:off x="0" y="112536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11"/>
          <p:cNvSpPr/>
          <p:nvPr/>
        </p:nvSpPr>
        <p:spPr>
          <a:xfrm>
            <a:off x="8001000" y="59436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2"/>
          <p:cNvSpPr/>
          <p:nvPr/>
        </p:nvSpPr>
        <p:spPr>
          <a:xfrm>
            <a:off x="609480" y="335268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2514600" y="3352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4"/>
          <p:cNvSpPr/>
          <p:nvPr/>
        </p:nvSpPr>
        <p:spPr>
          <a:xfrm>
            <a:off x="4648320" y="3352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5"/>
          <p:cNvSpPr/>
          <p:nvPr/>
        </p:nvSpPr>
        <p:spPr>
          <a:xfrm>
            <a:off x="6858000" y="3352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16"/>
          <p:cNvSpPr/>
          <p:nvPr/>
        </p:nvSpPr>
        <p:spPr>
          <a:xfrm>
            <a:off x="152280" y="3124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7"/>
          <p:cNvSpPr/>
          <p:nvPr/>
        </p:nvSpPr>
        <p:spPr>
          <a:xfrm>
            <a:off x="4343400" y="5943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18"/>
          <p:cNvSpPr/>
          <p:nvPr/>
        </p:nvSpPr>
        <p:spPr>
          <a:xfrm>
            <a:off x="6400800" y="5943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9"/>
          <p:cNvSpPr/>
          <p:nvPr/>
        </p:nvSpPr>
        <p:spPr>
          <a:xfrm>
            <a:off x="2209680" y="5943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2286000" y="1447920"/>
            <a:ext cx="52578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спрос увеличивается, то кривая спроса смещается вправо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1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спрос снижается, то кривая спроса смещается влево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Picture 3" descr="C:\Documents and Settings\Администратор.АДМИНИСТРАТОР\Мои документы\Мои рисунки\Движ картинки\026.gif"/>
          <p:cNvPicPr/>
          <p:nvPr/>
        </p:nvPicPr>
        <p:blipFill>
          <a:blip r:embed="rId1"/>
          <a:stretch/>
        </p:blipFill>
        <p:spPr>
          <a:xfrm>
            <a:off x="838080" y="1676520"/>
            <a:ext cx="373320" cy="3733560"/>
          </a:xfrm>
          <a:prstGeom prst="rect">
            <a:avLst/>
          </a:prstGeom>
          <a:ln w="0">
            <a:noFill/>
          </a:ln>
        </p:spPr>
      </p:pic>
      <p:sp>
        <p:nvSpPr>
          <p:cNvPr id="41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c6600"/>
                </a:solidFill>
                <a:latin typeface="Times New Roman"/>
              </a:rPr>
              <a:t>Спрос -</a:t>
            </a: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Это желание и возможность потребителя купить продукт или услугу в определенном месте и в определенное время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6" name="Picture 7" descr="C:\Documents and Settings\Администратор.АДМИНИСТРАТОР\Мои документы\Мои рисунки\Движ картинки\Картинки\002.gif"/>
          <p:cNvPicPr/>
          <p:nvPr/>
        </p:nvPicPr>
        <p:blipFill>
          <a:blip r:embed="rId1"/>
          <a:stretch/>
        </p:blipFill>
        <p:spPr>
          <a:xfrm>
            <a:off x="6477120" y="4038480"/>
            <a:ext cx="1996920" cy="1997280"/>
          </a:xfrm>
          <a:prstGeom prst="rect">
            <a:avLst/>
          </a:prstGeom>
          <a:ln w="0">
            <a:noFill/>
          </a:ln>
        </p:spPr>
      </p:pic>
      <p:sp>
        <p:nvSpPr>
          <p:cNvPr id="33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C:\Documents and Settings\Администратор.АДМИНИСТРАТОР\Мои документы\Мои рисунки\Движ картинки\21M4.gif"/>
          <p:cNvPicPr/>
          <p:nvPr/>
        </p:nvPicPr>
        <p:blipFill>
          <a:blip r:embed="rId1"/>
          <a:stretch/>
        </p:blipFill>
        <p:spPr>
          <a:xfrm>
            <a:off x="7543800" y="51814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C:\Documents and Settings\Администратор.АДМИНИСТРАТОР\Мои документы\Мои рисунки\Движ картинки\AG00032_.GIF"/>
          <p:cNvPicPr/>
          <p:nvPr/>
        </p:nvPicPr>
        <p:blipFill>
          <a:blip r:embed="rId2"/>
          <a:stretch/>
        </p:blipFill>
        <p:spPr>
          <a:xfrm>
            <a:off x="152280" y="990720"/>
            <a:ext cx="1920960" cy="18684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C:\Documents and Settings\Администратор.АДМИНИСТРАТОР\Мои документы\Мои рисунки\Движ картинки\AG00033_.GIF"/>
          <p:cNvPicPr/>
          <p:nvPr/>
        </p:nvPicPr>
        <p:blipFill>
          <a:blip r:embed="rId3"/>
          <a:stretch/>
        </p:blipFill>
        <p:spPr>
          <a:xfrm>
            <a:off x="7605720" y="3505320"/>
            <a:ext cx="1255680" cy="15238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C:\Documents and Settings\Администратор.АДМИНИСТРАТОР\Мои документы\Мои рисунки\Движ картинки\AG00328_.GIF"/>
          <p:cNvPicPr/>
          <p:nvPr/>
        </p:nvPicPr>
        <p:blipFill>
          <a:blip r:embed="rId4"/>
          <a:stretch/>
        </p:blipFill>
        <p:spPr>
          <a:xfrm>
            <a:off x="685800" y="4800600"/>
            <a:ext cx="1447920" cy="14191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C:\Documents and Settings\Администратор.АДМИНИСТРАТОР\Мои документы\Мои рисунки\Движ картинки\AG00327_.GIF"/>
          <p:cNvPicPr/>
          <p:nvPr/>
        </p:nvPicPr>
        <p:blipFill>
          <a:blip r:embed="rId5"/>
          <a:stretch/>
        </p:blipFill>
        <p:spPr>
          <a:xfrm>
            <a:off x="8077320" y="990720"/>
            <a:ext cx="838080" cy="6285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C:\Documents and Settings\Администратор.АДМИНИСТРАТОР\Мои документы\Мои рисунки\Движ картинки\AG00330_.GIF"/>
          <p:cNvPicPr/>
          <p:nvPr/>
        </p:nvPicPr>
        <p:blipFill>
          <a:blip r:embed="rId6"/>
          <a:stretch/>
        </p:blipFill>
        <p:spPr>
          <a:xfrm>
            <a:off x="2438280" y="4038480"/>
            <a:ext cx="862200" cy="22100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C:\Documents and Settings\Администратор.АДМИНИСТРАТОР\Мои документы\Мои рисунки\Движ картинки\AG00331_.GIF"/>
          <p:cNvPicPr/>
          <p:nvPr/>
        </p:nvPicPr>
        <p:blipFill>
          <a:blip r:embed="rId7"/>
          <a:stretch/>
        </p:blipFill>
        <p:spPr>
          <a:xfrm>
            <a:off x="5943600" y="4114800"/>
            <a:ext cx="831960" cy="21337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C:\Documents and Settings\Администратор.АДМИНИСТРАТОР\Мои документы\Мои рисунки\Движ картинки\AG00332_.GIF"/>
          <p:cNvPicPr/>
          <p:nvPr/>
        </p:nvPicPr>
        <p:blipFill>
          <a:blip r:embed="rId8"/>
          <a:stretch/>
        </p:blipFill>
        <p:spPr>
          <a:xfrm>
            <a:off x="4191120" y="4038480"/>
            <a:ext cx="861840" cy="22100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C:\Documents and Settings\Администратор.АДМИНИСТРАТОР\Мои документы\Мои рисунки\Движ картинки\AG00333_.GIF"/>
          <p:cNvPicPr/>
          <p:nvPr/>
        </p:nvPicPr>
        <p:blipFill>
          <a:blip r:embed="rId9"/>
          <a:stretch/>
        </p:blipFill>
        <p:spPr>
          <a:xfrm>
            <a:off x="3429000" y="4267080"/>
            <a:ext cx="711360" cy="19926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1" descr="C:\Documents and Settings\Администратор.АДМИНИСТРАТОР\Мои документы\Мои рисунки\Движ картинки\J0076210.GIF"/>
          <p:cNvPicPr/>
          <p:nvPr/>
        </p:nvPicPr>
        <p:blipFill>
          <a:blip r:embed="rId10"/>
          <a:stretch/>
        </p:blipFill>
        <p:spPr>
          <a:xfrm>
            <a:off x="3962520" y="990720"/>
            <a:ext cx="2520720" cy="32763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2" descr="C:\Documents and Settings\Администратор.АДМИНИСТРАТОР\Мои документы\Мои рисунки\Движ картинки\J0095685.GIF"/>
          <p:cNvPicPr/>
          <p:nvPr/>
        </p:nvPicPr>
        <p:blipFill>
          <a:blip r:embed="rId11"/>
          <a:stretch/>
        </p:blipFill>
        <p:spPr>
          <a:xfrm>
            <a:off x="2394000" y="1905120"/>
            <a:ext cx="1244520" cy="2133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3" descr="C:\Documents and Settings\Администратор.АДМИНИСТРАТОР\Мои документы\Мои рисунки\Движ картинки\J0095684.GIF"/>
          <p:cNvPicPr/>
          <p:nvPr/>
        </p:nvPicPr>
        <p:blipFill>
          <a:blip r:embed="rId12"/>
          <a:stretch/>
        </p:blipFill>
        <p:spPr>
          <a:xfrm>
            <a:off x="7391520" y="838080"/>
            <a:ext cx="742680" cy="971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4" descr="C:\Documents and Settings\Администратор.АДМИНИСТРАТОР\Мои документы\Мои рисунки\Движ картинки\J0095723.GIF"/>
          <p:cNvPicPr/>
          <p:nvPr/>
        </p:nvPicPr>
        <p:blipFill>
          <a:blip r:embed="rId13"/>
          <a:stretch/>
        </p:blipFill>
        <p:spPr>
          <a:xfrm>
            <a:off x="7772400" y="1295280"/>
            <a:ext cx="846000" cy="93672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15"/>
          <p:cNvSpPr/>
          <p:nvPr/>
        </p:nvSpPr>
        <p:spPr>
          <a:xfrm>
            <a:off x="167652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</a:rPr>
              <a:t>Школьная столова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16" descr="C:\Documents and Settings\Администратор.АДМИНИСТРАТОР\Мои документы\Мои рисунки\Движ картинки\J0095724.GIF"/>
          <p:cNvPicPr/>
          <p:nvPr/>
        </p:nvPicPr>
        <p:blipFill>
          <a:blip r:embed="rId14"/>
          <a:stretch/>
        </p:blipFill>
        <p:spPr>
          <a:xfrm>
            <a:off x="8305920" y="1600200"/>
            <a:ext cx="639720" cy="10396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7" descr="C:\Documents and Settings\Администратор.АДМИНИСТРАТОР\Мои документы\Мои рисунки\Движ картинки\J0095710.GIF"/>
          <p:cNvPicPr/>
          <p:nvPr/>
        </p:nvPicPr>
        <p:blipFill>
          <a:blip r:embed="rId15"/>
          <a:stretch/>
        </p:blipFill>
        <p:spPr>
          <a:xfrm>
            <a:off x="6705720" y="990720"/>
            <a:ext cx="982440" cy="720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8" descr="C:\Documents and Settings\Администратор.АДМИНИСТРАТОР\Мои документы\Мои рисунки\Движ картинки\J0076120.GIF"/>
          <p:cNvPicPr/>
          <p:nvPr/>
        </p:nvPicPr>
        <p:blipFill>
          <a:blip r:embed="rId16"/>
          <a:stretch/>
        </p:blipFill>
        <p:spPr>
          <a:xfrm>
            <a:off x="7391520" y="1981080"/>
            <a:ext cx="990360" cy="947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9" descr="C:\Documents and Settings\Администратор.АДМИНИСТРАТОР\Мои документы\Мои рисунки\Движ картинки\J0095678.GIF"/>
          <p:cNvPicPr/>
          <p:nvPr/>
        </p:nvPicPr>
        <p:blipFill>
          <a:blip r:embed="rId17"/>
          <a:stretch/>
        </p:blipFill>
        <p:spPr>
          <a:xfrm>
            <a:off x="7086600" y="1523880"/>
            <a:ext cx="777960" cy="8794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2" descr="C:\Documents and Settings\Администратор.АДМИНИСТРАТОР\Мои документы\Мои рисунки\Движ картинки\food19[1].gif"/>
          <p:cNvPicPr/>
          <p:nvPr/>
        </p:nvPicPr>
        <p:blipFill>
          <a:blip r:embed="rId18"/>
          <a:stretch/>
        </p:blipFill>
        <p:spPr>
          <a:xfrm>
            <a:off x="5181480" y="5410080"/>
            <a:ext cx="669960" cy="838440"/>
          </a:xfrm>
          <a:prstGeom prst="rect">
            <a:avLst/>
          </a:prstGeom>
          <a:ln w="0">
            <a:noFill/>
          </a:ln>
        </p:spPr>
      </p:pic>
      <p:sp>
        <p:nvSpPr>
          <p:cNvPr id="35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Шкала спроса на пирожки в школьной столовой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84360" y="2133720"/>
          <a:ext cx="7772400" cy="4144680"/>
        </p:xfrm>
        <a:graphic>
          <a:graphicData uri="http://schemas.openxmlformats.org/drawingml/2006/table">
            <a:tbl>
              <a:tblPr/>
              <a:tblGrid>
                <a:gridCol w="4421160"/>
                <a:gridCol w="3351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за пирожок,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рос, шт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1" name="Object 4"/>
          <p:cNvGraphicFramePr/>
          <p:nvPr/>
        </p:nvGraphicFramePr>
        <p:xfrm>
          <a:off x="0" y="990720"/>
          <a:ext cx="914400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440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c6600"/>
                </a:solidFill>
                <a:latin typeface="Times New Roman"/>
              </a:rPr>
              <a:t>Закон спроса</a:t>
            </a:r>
            <a:endParaRPr b="0" i="1" lang="en-US" sz="6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Говорит о том, что при прочих равных условиях по низкой цене удастся продать больше товаров, чем по высокой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6" name="Picture 5" descr="C:\Documents and Settings\Администратор.АДМИНИСТРАТОР\Мои документы\Мои рисунки\Движ картинки\Движ картинки\BS00004A.GIF"/>
          <p:cNvPicPr/>
          <p:nvPr/>
        </p:nvPicPr>
        <p:blipFill>
          <a:blip r:embed="rId1"/>
          <a:stretch/>
        </p:blipFill>
        <p:spPr>
          <a:xfrm>
            <a:off x="5943600" y="4952880"/>
            <a:ext cx="1523880" cy="10605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C:\Documents and Settings\Администратор.АДМИНИСТРАТОР\Мои документы\Мои рисунки\Движ картинки\Движ картинки\BS00005A.GIF"/>
          <p:cNvPicPr/>
          <p:nvPr/>
        </p:nvPicPr>
        <p:blipFill>
          <a:blip r:embed="rId2"/>
          <a:stretch/>
        </p:blipFill>
        <p:spPr>
          <a:xfrm>
            <a:off x="7086600" y="4191120"/>
            <a:ext cx="1271520" cy="1458720"/>
          </a:xfrm>
          <a:prstGeom prst="rect">
            <a:avLst/>
          </a:prstGeom>
          <a:ln w="0">
            <a:noFill/>
          </a:ln>
        </p:spPr>
      </p:pic>
      <p:sp>
        <p:nvSpPr>
          <p:cNvPr id="36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44056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Эффекты в законе спроса :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ффект доход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ффект замещ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ффект убывания предельной полезн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1" name="Picture 6" descr="C:\Documents and Settings\Администратор.АДМИНИСТРАТОР\Мои документы\Мои рисунки\Движ картинки\food26[1].gif"/>
          <p:cNvPicPr/>
          <p:nvPr/>
        </p:nvPicPr>
        <p:blipFill>
          <a:blip r:embed="rId4"/>
          <a:stretch/>
        </p:blipFill>
        <p:spPr>
          <a:xfrm>
            <a:off x="6095880" y="48006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C:\Documents and Settings\Администратор.АДМИНИСТРАТОР\Мои документы\Мои рисунки\Движ картинки\food10[1].gif"/>
          <p:cNvPicPr/>
          <p:nvPr/>
        </p:nvPicPr>
        <p:blipFill>
          <a:blip r:embed="rId5"/>
          <a:stretch/>
        </p:blipFill>
        <p:spPr>
          <a:xfrm>
            <a:off x="3505320" y="5334120"/>
            <a:ext cx="1714320" cy="6858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0" descr="C:\Documents and Settings\Администратор.АДМИНИСТРАТОР\Мои документы\Мои рисунки\Движ картинки\food20[1].gif"/>
          <p:cNvPicPr/>
          <p:nvPr/>
        </p:nvPicPr>
        <p:blipFill>
          <a:blip r:embed="rId6"/>
          <a:stretch/>
        </p:blipFill>
        <p:spPr>
          <a:xfrm>
            <a:off x="6095880" y="213372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1" descr="C:\Documents and Settings\Администратор.АДМИНИСТРАТОР\Мои документы\Мои рисунки\Движ картинки\food33[1].gif"/>
          <p:cNvPicPr/>
          <p:nvPr/>
        </p:nvPicPr>
        <p:blipFill>
          <a:blip r:embed="rId7"/>
          <a:stretch/>
        </p:blipFill>
        <p:spPr>
          <a:xfrm>
            <a:off x="914400" y="4952880"/>
            <a:ext cx="1600200" cy="1521000"/>
          </a:xfrm>
          <a:prstGeom prst="rect">
            <a:avLst/>
          </a:prstGeom>
          <a:ln w="0">
            <a:noFill/>
          </a:ln>
        </p:spPr>
      </p:pic>
      <p:sp>
        <p:nvSpPr>
          <p:cNvPr id="37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Эффект убывания предельной полезности -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7238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об описания ситуации, когда последняя единица товара приносит меньше удовлетворения, чем предпоследня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228600" y="5029200"/>
            <a:ext cx="8686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00"/>
                </a:solidFill>
                <a:latin typeface="Times New Roman"/>
              </a:rPr>
              <a:t>Полезность </a:t>
            </a:r>
            <a:r>
              <a:rPr b="1" i="1" lang="ru-RU" sz="3200" spc="-1" strike="noStrike">
                <a:solidFill>
                  <a:srgbClr val="996600"/>
                </a:solidFill>
                <a:latin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зможность использования товара себе на благ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5" descr="C:\Documents and Settings\Администратор.АДМИНИСТРАТОР\Мои документы\Мои рисунки\Движ картинки\21M4.gif"/>
          <p:cNvPicPr/>
          <p:nvPr/>
        </p:nvPicPr>
        <p:blipFill>
          <a:blip r:embed="rId1"/>
          <a:stretch/>
        </p:blipFill>
        <p:spPr>
          <a:xfrm>
            <a:off x="7391520" y="3733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38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6600"/>
                </a:solidFill>
                <a:latin typeface="Times New Roman"/>
              </a:rPr>
              <a:t>Эластичность </a:t>
            </a:r>
            <a:endParaRPr b="0" i="1" lang="en-US" sz="6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77724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исывает, в какой степени изменение цены влияет на величину спрос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2286000" y="297180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эффект от изменения цен относительно мал, то спрос на этот товар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неэластичен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0" y="464832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спрос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эластичен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то небольшие изменения в цене могут вызвать относительно значительные изменения в спросе на това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6" descr="C:\Documents and Settings\Администратор.АДМИНИСТРАТОР\Мои документы\Мои рисунки\Движ картинки\Движ картинки\BS00558A.GIF"/>
          <p:cNvPicPr/>
          <p:nvPr/>
        </p:nvPicPr>
        <p:blipFill>
          <a:blip r:embed="rId1"/>
          <a:stretch/>
        </p:blipFill>
        <p:spPr>
          <a:xfrm>
            <a:off x="7467480" y="4191120"/>
            <a:ext cx="1447920" cy="1274760"/>
          </a:xfrm>
          <a:prstGeom prst="rect">
            <a:avLst/>
          </a:prstGeom>
          <a:ln w="0">
            <a:noFill/>
          </a:ln>
        </p:spPr>
      </p:pic>
      <p:sp>
        <p:nvSpPr>
          <p:cNvPr id="38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04:20:26Z</dcterms:created>
  <dc:creator>Администратор</dc:creator>
  <dc:description/>
  <dc:language>en-US</dc:language>
  <cp:lastModifiedBy>LEGION</cp:lastModifiedBy>
  <dcterms:modified xsi:type="dcterms:W3CDTF">2014-11-10T12:18:21Z</dcterms:modified>
  <cp:revision>21</cp:revision>
  <dc:subject/>
  <dc:title>Спрос. Предложение. Равновесие.</dc:title>
</cp:coreProperties>
</file>