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1801-525B-4E70-A253-78C46755C56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в современной начальной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проекта Еремеева И.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A619-2EBF-46F2-ADF0-C0B7F6D2F77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ть/понима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ласть применения и назначение технических устройств (в том числе компьютеров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ые источники информа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значение основных устройств компьютер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а безопасного поведения и гигиены при работе с инструментами (в том числе с компьютером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е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учать необходимую информацию об объекте деятельности, используя рисунки, схемы, эскизы, чертежи (на бумажных и электронных носителях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BDF0-C777-483B-908E-F2A691A885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овать приобретенные знания и умения в практической деятельности и повседневной жизни дл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людения безопасных приемов работы со средствами информационных и коммуникационных технолог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ения учебных и практических задач с применением возможностей компьютер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иска информации с использованием простейших запрос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менения и создания простых информационных объектов на компьюте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4D03-4C98-43EB-9D87-D3804554BFB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держание учебного модул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значение основных устройств компьютера для ввода, вывода, обработки информации. Включение и выключение компьютера и подключаемых к нему устройств. Клавиатура, общее представление о правилах клавиатурного письма, пользование мышью, использование простейших средств текстового редактора. Простейшие приемы поиска информации: по ключевым словам, каталогам. Соблюдение безопасных приемов труда при работе на компьютере; бережное отношение к техническим устройств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простыми информационными объектами (текст, таблица, схема, рисунок): преобразование, создание, сохранение, удаление. Вывод текста на прин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ебольшого текста по интересной детям тематике с использованием изображений на экране компьютер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670D-8072-4A6F-AB28-AA811CAFD7F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держ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чебного модуля «Практика работы на компьютере (использования информационных технологий)»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авленно лишь на обеспечение компьютерной грамот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чащими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на разница в целях преподавания информатики в начальной школе как отдельного предмета и в качестве учебного модуля предмета «Технолог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пада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дна из основных целей эт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е и развитие логического и алгоритмического мышл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не в полной мере реализуется цель: формирование первичного понятийного аппарата информатики – как науки об информации, ее формах, свойствах, способах представления и обработки о соответствующем инструмента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8655-7A2B-429E-B3A6-C08D3495A87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исьме Министерства образования Российской Федерации от 17.12. 2001 №957/13-13 "Методическое письмо по вопросам обучения информатике в начальной школе" представлены три варианта преподавания информатики в начальной шко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2E8C-9857-4636-86B6-887F04A714E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ескомпьютерное изучение информатики в рамках 1 урока в интеграции с предмета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местное обучение с такими предметами как математика, риторика, рисование, труд, музыка, окружающий мир в бескомпьютерном варианте обучения возможно реализовать по схеме: 1 урок информатики и использование практических знаний в содержании других предметных уроков.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учение проводит учитель начальных классов без деления класса на групп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1CAE-124B-4DCB-9A0E-86F652F5EFF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рганизация компьютерной поддержки предмета "Информатика" в рамках одного урока без деления на группы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случае необходимо учитывать наличие компьютеров в начальной школе (например, компьютер учителя или 3-7 компьютеров в классе), электронных средств обучения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отовность учителей начальной школ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использованию компьютерной поддержки на уроках инфор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учении информатике с компьютерной поддержкой также возможно использовать интегрированный подход по схеме первого с использованием 15-минутного компьютерного практику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й практикум может быть индивидуальным (один ученик за одним компьютером) и демонстрационным. При этом один компьютер учителя в классе может быть использован как "электронная" до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7EAF-9BD2-4D95-B91F-9A86BAA4808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рок информатики с делением на группы в кабинете информати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боре формы обучения информатике с компьютерной поддержкой с использованием компьютерного кабинета школы (12 мест) рекомендуетс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влека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проведению урока информатики (1 час)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я информатики школы для совместного параллельного проведения занятий двумя учителя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локами по 15 минут. Теоретическая часть для 1-й группы и компьютерная часть урока для 2-й группы соответственно, и наобор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компьютерной поддержке обучения информатике необходимо соблюдать требования к оборудованию кабинета вычислительной техникой, санитарные нормы организации труда детей за компьютер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у за компьютером следует заканчивать профилактическими упражнениями для зрения (1 мин) и осанки (1-2 ми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8EEB-41D0-4068-A392-34A04259180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лектронные средства учебного назначе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азбуки и буквари для ознакомления работы с текс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виатурные тренажеры с ненавязчивой скоростью раб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раскраски и геометрические конструкто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лабиринты для управления объек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моза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еские игры на компьютер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энциклопедии, путешеств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9DA2-EACD-4938-BA4C-082A0C1B5DC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топологические сх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учебники с иллюстрациями и заданиями удовлетворяющие возможности использования фрагментами по 5 минут с дальнейшим обсуждени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вычислительные игровые и алгоритмические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синтезаторы зву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ы-кроссворды и азбуки на компьютере на иностранных язы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среды управления исполните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инструментальные развивающие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7828-6674-4071-80DD-E3BD7A55431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ые цели введения уроков информатики в начальной школ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ервич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нятийного аппарата информатики – как науки об информации, ее формах, свойствах, способах представления и обработки на соответствующем инструментар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нформационной культуры в процессе использования учебных игровых программ, простейших компьютерных тренажеров и т.д. на уроках математики, русского языка, ИЗО и других предм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ервичных психомоторных и поведенческих навыков общения с компьютер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развитие логического и алгоритмического мыш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838C-B32D-4364-A831-1C625B5915C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 проведения занят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установочной фазы урока идет его основная, познавательная часть, определяемая доминантной целью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следует его вариативная часть, когда вид деятельности определяется вспомогательными целями урока: развитие памяти, мышления, проверка домашнего задания, вопросы для закрепления нового материала и проверки качества его усвоения. При этом используются тесты, задачи, игры - деятельность, при которой требуется “пошевелить мозгами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ждом занятии желательно предоставлять возможность учащимся поработать на компью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BAF1-366D-4646-8259-B8491B6C423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овательная систем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Школа 2100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комендуемый учебно-методический комплек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в играх и задачах: Учебник-тетрадь для 1 (2, 3, 4) кл. /А.В. Горячев и др. – М.: Баласс, 1998 – 200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в играх и задачах: Учебник-тетрадь для 1 (2, 3, 4) кл.  Методические рекомендации для учителя. /А.В. Горячев и др. – М.: Баласс, 1998 – 200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мпьютерную поддержку рекомендуется осуществля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шествие в информатику (компьютерная поддержка  к курсу А.В. Горячева «Информатика в играх и задачах»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кет «Роботландия» (авторы Ю.А. Первин, А.А. Дуванов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C3B4-E1EF-4E93-A0F1-5540B26BB5A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ельные лин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, группы (классы) объект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еские рассужд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нформатики в начальной школе по данному комплекту предполагается в основном без использования компьютеров. Компьютерная поддержка допустима, но не обязатель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207C-3055-4AF9-BF5C-64EDDF22095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разовательная систем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Перспективная начальная школ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комендуемый учебно-методический комплек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енсон Е.П., Паутова А.Г. Информатика. Учебник-тетрадь. 2 (3, 4) класс. В 2-х ч. - М.: Академ-книга, 2003-2005;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енсон Е.П., Паутова А.Г. Информатика. 2 (3, 4) класс. Методическое пособие. - М.: Академ-книга, 2003-2005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това А.Г. Информатика: Комплект компьютерных программ к учебнику-тетради. 2 (3, 4) класс. Методическое пособие + CD-диск. - М.: Академ-книга, 2003-2005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88FB-866A-478D-82A1-2B370932D26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ельные лин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картина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 – универсальная машина для обработки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ы и исполните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и их свой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ческие нормы при работе с информацией и информационная безопас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УМК предусматривает два варианта преподавания информатики: без компьютерной поддержки (все задания выполняются в учебнике или тетради) и с компьютерной поддержкой (на основе специально разработанного программного комплекс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D252-F663-4B24-BFBA-A5AD800F756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ая система «Гармония» и друг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чебные планы и УМК данных образовательных систе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ая дисциплина «Информатика» не включена как самостоятельный предм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ешению правомочного органа управления образовательным учреждением при наличии материально-технического, программно-методического и кадрового обеспече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тику целесообразно включать в учебные планы начальной ступени обучения за счет часов компонента образовательного учреж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B767-4AF0-467F-B04A-F47F1176B42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уемый для преподавания информатики УМК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веева Н.В. и др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. 2 (3, 4) кл. - М.: Изд-во «Бином. Лаборатория знаний», 2004-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веева Н.В. и др. Информатика. Рабочая тетрадь для 2 (3, 4) кл. в 2-х частях, 2-е изд. - М.: Изд-во «Бином. Лаборатория знаний», 2004-200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веева Н.В. и др. Информатика. Методический комплект: пособие + практикум на CD. - М.: Изд-во «Бином. Лаборатория знаний», 2004-200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веева Н.В. и др. Введение в информатику: Комплект из 12 плакатов + методическое пособие. - М.: Изд-во «Бином. Лаборатория знаний», 2004-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4A5C-16EE-4242-AB7E-9B30E7A24CC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и обучения информатике в начальной школе должны соответствовать линиям основной школы, но реализуются на пропедевтическом уров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значает, что должна существовать связь между обучением информатики в начальной и базовой шко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50F9-81D0-416E-8A4A-01A86D2CD1C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ельные лин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, виды информации (по способу восприятия, по способу представл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объекты (текст, изображение, аудиозапись, видеозапис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(живая и неживая природа, творения человек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информацией (обмен, поиск, преобразование, хранение, использовани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информационных технологий (телефон, компьютер, радио, телевидение, устройства мультимеди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информации и данных (оглавление, указатели, каталоги, записные книжки и друго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01C1-5B2C-402A-945D-ACB984F7236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вторский курс 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Первые шаги в мире информатики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-методический комплект состои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е информатики. Методическое пособие для учителей. 1-4 класс. Тур С.Н., Бокучава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. Рабочая тетрадь. 1-4 класс. Тур С.Н., Бокучава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кет педагогических программных средств "Страна "Фантазия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9DEA-DE10-4650-92BD-B3C36AB2E35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ые содержательные лин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 в логику (понятие множества, работа с массивами, логические высказывания, понятие присваивания и т.п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информации, виды работы с информац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ы и исполни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ую поддержку на каждый год обучения обеспечивает пакет педагогических программных средств «Страна «Фантаз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в каждом уроке дополнительного задания позволяет проводить уроки и в «безмашинном вариант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702E-2F45-4CB0-B8A9-28F60ED602A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рс «Информатика»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тор Семенов А.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мплект учебных материалов по информатике для каждого класса входя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ов А. Л. Информатика. Книга для учителя (2-4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ов А. Л.  Информатика. Рабочая тетрадь проектов для 2 – 4 к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ов А. Л. Информатика. Учебное пособие для 2 - 4 кл. ч.1,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А. Л. Семенова и др. "Информатика" для начальной школы интегрирует теоретическую информатику, социальную информатику и информационные техноло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курса соответствует Обязательному минимуму содержания обучения для средних общеобразовательных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D98D-FF5A-4A0A-BD95-702C59AAA57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тарно – гигиенические нормы для работы школьников за компьютер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09C3-105B-44CC-8E45-7846F53AEA3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должен осуществлять преподавание предмета: учитель информатики или учитель начального класс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информатики хорошо знает компьютерные технологии, но плохо - методику обучения и уровень развития младших школь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начального класса, наоборот, не разбирается в компьютерах, но хорошо владеет методикой обу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DAE7-A547-4990-8196-97538AE08D8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  долж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о разбираться в психологии ребен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о владеть методическими приемами обучения детей младшего школьного возрас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ь специалистами в области информационных техно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740C-B9CB-4CB6-8D99-411ABBB33BD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 содержанием уроков информатики в начальной школе должны стать игры и задачи на формирование алгоритмического мышления, нестандартные  математические задачи и упражнения на формирование навыков работы на компью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5430-7926-4A63-B22F-18F5F1D0F35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тоды и формы обучения на уроках информатики в начальной школе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лог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группа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ые методи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минут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ристический подх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349E-AD1C-4B29-B0D8-46B5B706F30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формат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начальной школ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едставле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2002/03 учебного года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к отдельный предмет в связи с эксперимент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совершенствованию структуры и содержания общего образования, и начальной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жет изучать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ступени начального общего образовани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качестве самостоятельного учебного предмета только за счет часов, предусмотренных учебными планами отдельных образовательных систем начальной школы,  или  компонента образовательного учреж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по решению правомочного органа управления образовательным учреждение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BD00-4DDB-4EB4-A0A1-ACB02732BFA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мерном учебном плане для образовательных учреждений Российской Федерации, реализующих программы общего образования, предмет «Информатика и ИКТ» представлен в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3-4 класс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качеств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язатель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0-25 часовог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ебного моду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Практика работы на компьютере (использования информационных технологий)» в рамках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едмета «Технолог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</a:t>
            </a: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Федеральный базисный учебный план и примерные учебные планы для образовательных учреждений Российской Федерации, реализующих программы общего образования (утвержден приказом № 1312 Министерства образования РФ от 09.03.2004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7352-D506-488E-BA6E-A79E6FBE067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 изучения, обязательный минимум содержания, требования к уровню подготовки выпускни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данному учебному модулю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ределе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едеральным компонентом государственного образовательного стандарта начального общего образования предмета «Технология»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 наличии материально-технического обеспе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__________________________________________________Федеральный компонент государственного стандарта общего образования. Часть I. Начальное общее образование. Основное общее образование. / Министерство образования Российской Федерации. – М. 2004. – 221 с. – С.56-60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CB62-B374-40FA-97FD-DF80033157C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9C3C-1742-4088-8221-6486FDBE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27D1-43D7-45AE-BD82-3CA975B2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F0F7-CCB6-4A5D-9A61-C32538F7B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50F8-46DF-4A5B-AB86-0F7E35FE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53E7D-AAB9-4183-9FAE-45E105F7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168A0-71E0-4364-9D60-B148ECE3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7620C-4D60-4F72-B28F-594CC843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5D7A7-EAF6-485D-AA90-DE3378C6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22084-EFB1-41C9-AFBB-DA0288F1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89BB7-8310-4A90-B899-F74945F2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4E823-5851-4B2D-9F96-1F767136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641A-84C9-475F-AC31-A818A3AD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7B23E-5487-438F-9BD6-D13A3EB1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10103-503A-424A-8E39-6305BCB9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92D3B-BE28-47BA-B77C-A8B147E2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70989-AC28-4E01-8253-9C93B794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3BE41-1D3C-43FE-8320-69DDBE0D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705F-BBA8-4853-8957-765C8E44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195E-DFB1-45BB-BAD9-EC5243F7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F009-BFBE-44E5-A014-8CB0C943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5DE6-583E-43BD-B777-2E781E87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C34F-836A-4E18-A109-99E9A387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DD2C-07AF-483C-9554-2310F8CC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3658-AEC8-4061-92EA-BB885646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722F-4244-45B6-821B-DAA55305000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0B90-4AB9-459F-A281-3859900FA2D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Информатика в современной начальной школе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258920" y="5084280"/>
            <a:ext cx="640080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р проекта Еремеева И.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ть/понима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ласть применения и назначение технических устройств (в том числе компьютеров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источники информ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начение основных устройств компьютер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а безопасного поведения и гигиены при работе с инструментами (в том числе с компьютером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е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учать необходимую информацию об объекте деятельности, используя рисунки, схемы, эскизы, чертежи (на бумажных и электронных носителях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ть приобретенные знания и умения в практической деятельности и повседневной жизни дл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блюдения безопасных приемов работы со средствами информационных и коммуникационных технолог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ения учебных и практических задач с применением возможностей компьюте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иска информации с использованием простейших запро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менения и создания простых информационных объектов на компьюте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Содержание учебного модуля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61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«Назначение основных устройств компьютера для ввода, вывода, обработки информации. Включение и выключение компьютера и подключаемых к нему устройств. Клавиатура, общее представление о правилах клавиатурного письма, пользование мышью, использование простейших средств текстового редактора. Простейшие приемы поиска информации: по ключевым словам, каталогам. Соблюдение безопасных приемов труда при работе на компьютере; бережное отношение к техническим устройства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61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абота с простыми информационными объектами (текст, таблица, схема, рисунок): преобразование, создание, сохранение, удаление. Вывод текста на принте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61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оздание небольшого текста по интересной детям тематике с использованием изображений на экране компьютера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61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507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одержа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учебного модуля «Практика работы на компьютере (использования информационных технологий)»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аправленно лишь на обеспечение компьютерной грамотност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учащими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дна разница в целях преподавания информатики в начальной школе как отдельного предмета и в качестве учебного модуля предмета «Технология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ыпада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дна из основных целей это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формирование и развитие логического и алгоритмического мышле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не в полной мере реализуется цель: формирование первичного понятийного аппарата информатики – как науки об информации, ее формах, свойствах, способах представления и обработки о соответствующем инструментар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исьме Министерства образования Российской Федерации от 17.12. 2001 №957/13-13 "Методическое письмо по вопросам обучения информатике в начальной школе" представлены три варианта преподавания информатики в начальной школ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Бескомпьютерное изучение информатики в рамках 1 урока в интеграции с предметами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местное обучение с такими предметами как математика, риторика, рисование, труд, музыка, окружающий мир в бескомпьютерном варианте обучения возможно реализовать по схеме: 1 урок информатики и использование практических знаний в содержании других предметных уроков.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бучение проводит учитель начальных классов без деления класса на групп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Организация компьютерной поддержки предмета "Информатика" в рамках одного урока без деления на группы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этом случае необходимо учитывать наличие компьютеров в начальной школе (например, компьютер учителя или 3-7 компьютеров в классе), электронных средств обучения и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готовность учителей начальной школы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к использованию компьютерной поддержки на уроках информатик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обучении информатике с компьютерной поддержкой также возможно использовать интегрированный подход по схеме первого с использованием 15-минутного компьютерного практикум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омпьютерный практикум может быть индивидуальным (один ученик за одним компьютером) и демонстрационным. При этом один компьютер учителя в классе может быть использован как "электронная" доск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439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Урок информатики с делением на группы в кабинете информатики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выборе формы обучения информатике с компьютерной поддержкой с использованием компьютерного кабинета школы (12 мест) рекомендуется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привлекать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к проведению урока информатики (1 час)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учителя информатики школы для совместного параллельного проведения занятий двумя учителям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блоками по 15 минут. Теоретическая часть для 1-й группы и компьютерная часть урока для 2-й группы соответственно, и наоборот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компьютерной поддержке обучения информатике необходимо соблюдать требования к оборудованию кабинета вычислительной техникой, санитарные нормы организации труда детей за компьютеро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аботу за компьютером следует заканчивать профилактическими упражнениями для зрения (1 мин) и осанки (1-2 мин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Электронные средства учебного назначения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азбуки и буквари для ознакомления работы с текст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авиатурные тренажеры с ненавязчивой скоростью рабо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раскраски и геометрические конструктор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лабиринты для управления объект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мозаи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огические игры на компьютере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энциклопедии, путешеств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топологические схем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учебники с иллюстрациями и заданиями удовлетворяющие возможности использования фрагментами по 5 минут с дальнейшим обсуждение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вычислительные игровые и алгоритмические сред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синтезаторы зву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кроссворды и азбуки на компьютере на иностранных язык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среды управления исполнителе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инструментальные развивающие сре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4308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ервичног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нятийного аппарата информатики – как науки об информации, ее формах, свойствах, способах представления и обработки на соответствующем инструментар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сн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нформационной культуры в процессе использования учебных игровых программ, простейших компьютерных тренажеров и т.д. на уроках математики, русского языка, ИЗО и других предме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ервичных психомоторных и поведенческих навыков общения с компьютер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формирова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развитие логического и алгоритмического мыш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сновные цели введения уроков информатики в начальной школе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етодика проведения занятий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ле установочной фазы урока идет его основная, познавательная часть, определяемая доминантной целью ур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тем следует его вариативная часть, когда вид деятельности определяется вспомогательными целями урока: развитие памяти, мышления, проверка домашнего задания, вопросы для закрепления нового материала и проверки качества его усвоения. При этом используются тесты, задачи, игры - деятельность, при которой требуется “пошевелить мозгами”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каждом занятии желательно предоставлять возможность учащимся поработать на компьютер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179280" y="1268280"/>
          <a:ext cx="8713800" cy="3816360"/>
        </p:xfrm>
        <a:graphic>
          <a:graphicData uri="http://schemas.openxmlformats.org/drawingml/2006/table">
            <a:tbl>
              <a:tblPr/>
              <a:tblGrid>
                <a:gridCol w="1800360"/>
                <a:gridCol w="2152800"/>
                <a:gridCol w="3003480"/>
                <a:gridCol w="1757160"/>
              </a:tblGrid>
              <a:tr h="177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знавательная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мышления, памяти, внимания; проверка усвоения изученного материала, домашнее задание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на компьютер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</a:tr>
              <a:tr h="127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ства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учения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исунки, таблицы, презентац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сты, задачи, рисунки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ПС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олжит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-15 мину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-20 мину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-15 мину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бразовательная система </a:t>
            </a: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«Школа 2100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just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ffff"/>
                </a:solidFill>
                <a:uFillTx/>
                <a:latin typeface="Arial"/>
              </a:rPr>
              <a:t>Рекомендуемый учебно-методический комплект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Информатика в играх и задачах: Учебник-тетрадь для 1 (2, 3, 4) кл. /А.В. Горячев и др. – М.: Баласс, 1998 – 2002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Информатика в играх и задачах: Учебник-тетрадь для 1 (2, 3, 4) кл.  Методические рекомендации для учителя. /А.В. Горячев и др. – М.: Баласс, 1998 – 2002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0" algn="just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ffff"/>
                </a:solidFill>
                <a:uFillTx/>
                <a:latin typeface="Arial"/>
              </a:rPr>
              <a:t>Компьютерную поддержку рекомендуется осуществлять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путешествие в информатику (компьютерная поддержка  к курсу А.В. Горячева «Информатика в играх и задачах»)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пакет «Роботландия» (авторы Ю.А. Первин, А.А. Дуванов и др.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5" name="Picture 11" descr="930606664"/>
          <p:cNvPicPr/>
          <p:nvPr/>
        </p:nvPicPr>
        <p:blipFill>
          <a:blip r:embed="rId1"/>
          <a:stretch/>
        </p:blipFill>
        <p:spPr>
          <a:xfrm>
            <a:off x="5292720" y="333360"/>
            <a:ext cx="3484440" cy="456408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186" name="Picture 8" descr="2759"/>
          <p:cNvPicPr/>
          <p:nvPr/>
        </p:nvPicPr>
        <p:blipFill>
          <a:blip r:embed="rId2"/>
          <a:stretch/>
        </p:blipFill>
        <p:spPr>
          <a:xfrm>
            <a:off x="3132000" y="1916280"/>
            <a:ext cx="2903760" cy="471780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187" name="Picture 14" descr="1000064670"/>
          <p:cNvPicPr/>
          <p:nvPr/>
        </p:nvPicPr>
        <p:blipFill>
          <a:blip r:embed="rId3"/>
          <a:stretch/>
        </p:blipFill>
        <p:spPr>
          <a:xfrm>
            <a:off x="0" y="189000"/>
            <a:ext cx="3405240" cy="439236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держательные линии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6238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лгоритмы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екты, группы (классы) объекто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огические рассужд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д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21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учение информатики в начальной школе по данному комплекту предполагается в основном без использования компьютеров. Компьютерная поддержка допустима, но не обязательн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бразовательная система </a:t>
            </a: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«Перспективная начальная школа»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just">
              <a:lnSpc>
                <a:spcPct val="8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900" spc="-1" strike="noStrike" u="sng">
                <a:solidFill>
                  <a:srgbClr val="ffffff"/>
                </a:solidFill>
                <a:uFillTx/>
                <a:latin typeface="Arial"/>
              </a:rPr>
              <a:t>Рекомендуемый учебно-методический комплект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Бененсон Е.П., Паутова А.Г. Информатика. Учебник-тетрадь. 2 (3, 4) класс. В 2-х ч. - М.: Академ-книга, 2003-2005;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Бененсон Е.П., Паутова А.Г. Информатика. 2 (3, 4) класс. Методическое пособие. - М.: Академ-книга, 2003-2005;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аутова А.Г. Информатика: Комплект компьютерных программ к учебнику-тетради. 2 (3, 4) класс. Методическое пособие + CD-диск. - М.: Академ-книга, 2003-2005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6238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ционная картина ми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ьютер – универсальная машина для обработки информ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горитмы и исполнител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екты и их свой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ические нормы при работе с информацией и информационная безопас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нный УМК предусматривает два варианта преподавания информатики: без компьютерной поддержки (все задания выполняются в учебнике или тетради) и с компьютерной поддержкой (на основе специально разработанного программного комплекса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держательные линии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бразовательная система «Гармония» и другие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учебные планы и УМК данных образовательных систем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бная дисциплина «Информатика» не включена как самостоятельный предм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21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решению правомочного органа управления образовательным учреждением при наличии материально-технического, программно-методического и кадрового обеспечения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форматику целесообразно включать в учебные планы начальной ступени обучения за счет часов компонента образовательного учрежде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just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Рекомендуемый для преподавания информатики УМК: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Матвеева Н.В. и др.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Информатика. 2 (3, 4) кл. - М.: Изд-во «Бином. Лаборатория знаний», 2004-2005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Матвеева Н.В. и др. Информатика. Рабочая тетрадь для 2 (3, 4) кл. в 2-х частях, 2-е изд. - М.: Изд-во «Бином. Лаборатория знаний», 2004-2005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Матвеева Н.В. и др. Информатика. Методический комплект: пособие + практикум на CD. - М.: Изд-во «Бином. Лаборатория знаний», 2004-2005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Матвеева Н.В. и др. Введение в информатику: Комплект из 12 плакатов + методическое пособие. - М.: Изд-во «Бином. Лаборатория знаний», 2004-2005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5" descr="view_images"/>
          <p:cNvPicPr/>
          <p:nvPr/>
        </p:nvPicPr>
        <p:blipFill>
          <a:blip r:embed="rId1"/>
          <a:stretch/>
        </p:blipFill>
        <p:spPr>
          <a:xfrm>
            <a:off x="155520" y="15840"/>
            <a:ext cx="2924280" cy="380988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206" name="Picture 7" descr="98657"/>
          <p:cNvPicPr/>
          <p:nvPr/>
        </p:nvPicPr>
        <p:blipFill>
          <a:blip r:embed="rId2"/>
          <a:stretch/>
        </p:blipFill>
        <p:spPr>
          <a:xfrm>
            <a:off x="2411280" y="1341360"/>
            <a:ext cx="3461040" cy="446400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207" name="Picture 11" descr="big-722754"/>
          <p:cNvPicPr/>
          <p:nvPr/>
        </p:nvPicPr>
        <p:blipFill>
          <a:blip r:embed="rId3"/>
          <a:stretch/>
        </p:blipFill>
        <p:spPr>
          <a:xfrm>
            <a:off x="5364000" y="2637000"/>
            <a:ext cx="3065760" cy="388908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нии обучения информатике в начальной школе должны соответствовать линиям основной школы, но реализуются на пропедевтическом уровн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означает, что должна существовать связь между обучением информатики в начальной и базовой школ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нформация, виды информации (по способу восприятия, по способу представления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нформационные объекты (текст, изображение, аудиозапись, видеозапись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сточники информации (живая и неживая природа, творения человека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работа с информацией (обмен, поиск, преобразование, хранение, использование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редства информационных технологий (телефон, компьютер, радио, телевидение, устройства мультимедиа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рганизация информации и данных (оглавление, указатели, каталоги, записные книжки и другое)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держательные линии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Авторский курс </a:t>
            </a:r>
            <a:br>
              <a:rPr sz="4000"/>
            </a:b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«Первые шаги в мире информатики»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Учебно-методический комплект состоит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37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мире информатики. Методическое пособие для учителей. 1-4 класс. Тур С.Н., Бокучава Т.П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37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Информатика. Рабочая тетрадь. 1-4 класс. Тур С.Н., Бокучава Т.П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37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акет педагогических программных средств "Страна "Фантазия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6" name="Picture 13" descr="00043811big"/>
          <p:cNvPicPr/>
          <p:nvPr/>
        </p:nvPicPr>
        <p:blipFill>
          <a:blip r:embed="rId1"/>
          <a:stretch/>
        </p:blipFill>
        <p:spPr>
          <a:xfrm>
            <a:off x="324000" y="333360"/>
            <a:ext cx="2982600" cy="417528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217" name="Picture 5" descr="105833"/>
          <p:cNvPicPr/>
          <p:nvPr/>
        </p:nvPicPr>
        <p:blipFill>
          <a:blip r:embed="rId2"/>
          <a:stretch/>
        </p:blipFill>
        <p:spPr>
          <a:xfrm>
            <a:off x="2843280" y="1989000"/>
            <a:ext cx="3273480" cy="453708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218" name="Picture 9" descr="om_1860320"/>
          <p:cNvPicPr/>
          <p:nvPr/>
        </p:nvPicPr>
        <p:blipFill>
          <a:blip r:embed="rId3"/>
          <a:stretch/>
        </p:blipFill>
        <p:spPr>
          <a:xfrm>
            <a:off x="5364000" y="549360"/>
            <a:ext cx="3052800" cy="417672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сновные содержательные линии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504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ведение в логику (понятие множества, работа с массивами, логические высказывания, понятие присваивания и т.п.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6504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ятие информации, виды работы с информаци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6504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горитмы и исполнит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аммную поддержку на каждый год обучения обеспечивает пакет педагогических программных средств «Страна «Фантаз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личие в каждом уроке дополнительного задания позволяет проводить уроки и в «безмашинном вариант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Курс «Информатика»,</a:t>
            </a: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автор Семенов А.Л.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9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В комплект учебных материалов по информатике для каждого класса входят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65040" algn="just">
              <a:lnSpc>
                <a:spcPct val="90000"/>
              </a:lnSpc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Семенов А. Л. Информатика. Книга для учителя (2-4 класс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65040" algn="just">
              <a:lnSpc>
                <a:spcPct val="90000"/>
              </a:lnSpc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Семенов А. Л.  Информатика. Рабочая тетрадь проектов для 2 – 4 кл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65040" algn="just">
              <a:lnSpc>
                <a:spcPct val="90000"/>
              </a:lnSpc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Семенов А. Л. Информатика. Учебное пособие для 2 - 4 кл. ч.1, 2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Курс А. Л. Семенова и др. "Информатика" для начальной школы интегрирует теоретическую информатику, социальную информатику и информационные технологии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Программа курса соответствует Обязательному минимуму содержания обучения для средних общеобразовательных учреждений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7" name="Rectangle 30"/>
          <p:cNvSpPr/>
          <p:nvPr/>
        </p:nvSpPr>
        <p:spPr>
          <a:xfrm>
            <a:off x="3851280" y="692280"/>
            <a:ext cx="2665440" cy="18730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27" descr="svalka"/>
          <p:cNvPicPr/>
          <p:nvPr/>
        </p:nvPicPr>
        <p:blipFill>
          <a:blip r:embed="rId1"/>
          <a:stretch/>
        </p:blipFill>
        <p:spPr>
          <a:xfrm>
            <a:off x="1547640" y="260280"/>
            <a:ext cx="5086440" cy="65977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Санитарно – гигиенические нормы для работы школьников за компьютером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438280" y="1600200"/>
          <a:ext cx="6400800" cy="493704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вый нормати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торой нормати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етий нормати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рещен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 мин.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 мин.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– 4 кла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 мин.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 мин.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час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– 6 кла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час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5 часа в неделю, но не более 45 мин.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часа в неделю, но не более 1 часа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 – 9 кла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часа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5 часа в неделю, но не более 1 часа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часа в неделю, но не более 1 часа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 – 11 кла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часа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часов в неделю, но не более 1 часа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 часов в неделю, но не более 1 часа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должен осуществлять преподавание предмета: учитель информатики или учитель начального класс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информатики хорошо знает компьютерные технологии, но плохо - методику обучения и уровень развития младших школьник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начального класса, наоборот, не разбирается в компьютерах, но хорошо владеет методикой обуч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о разбираться в психологии ребенк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о владеть методическими приемами обучения детей младшего школьного возрас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ыть специалистами в области информационных технолог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еподаватель  должен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м содержанием уроков информатики в начальной школе должны стать игры и задачи на формирование алгоритмического мышления, нестандартные  математические задачи и упражнения на формирование навыков работы на компьютер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63240"/>
            <a:ext cx="8075520" cy="9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Методы и формы обучения на уроках информатики в начальной школе: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43080" algn="just"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алог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в группах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овые методик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формационные минутк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вристический подхо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0" algn="just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6840" y="620280"/>
            <a:ext cx="84358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нформати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начальной школ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едставле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 2002/03 учебного года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ак отдельный предмет в связи с эксперимент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 совершенствованию структуры и содержания общего образования, и начальной шко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ожет изучатьс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а ступени начального общего образования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 качестве самостоятельного учебного предмета только за счет часов, предусмотренных учебными планами отдельных образовательных систем начальной школы,  или  компонента образовательного учрежд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по решению правомочного органа управления образовательным учреждением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Picture 50" descr=""/>
          <p:cNvPicPr/>
          <p:nvPr/>
        </p:nvPicPr>
        <p:blipFill>
          <a:blip r:embed="rId1">
            <a:lum contrast="36000"/>
          </a:blip>
          <a:srcRect l="7051" t="28311" r="7051" b="44199"/>
          <a:stretch/>
        </p:blipFill>
        <p:spPr>
          <a:xfrm>
            <a:off x="0" y="1484280"/>
            <a:ext cx="9144000" cy="309708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римерном учебном плане для образовательных учреждений Российской Федерации, реализующих программы общего образования, предмет «Информатика и ИКТ» представлен в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3-4 класса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качеств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бязательног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20-25 часового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учебного модул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«Практика работы на компьютере (использования информационных технологий)» в рамках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едмета «Технолог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_____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Федеральный базисный учебный план и примерные учебные планы для образовательных учреждений Российской Федерации, реализующих программы общего образования (утвержден приказом № 1312 Министерства образования РФ от 09.03.2004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ли изучения, обязательный минимум содержания, требования к уровню подготовки выпускник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 данному учебному модулю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пределен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федеральным компонентом государственного образовательного стандарта начального общего образования предмета «Технология»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и наличии материально-технического обеспеч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Федеральный компонент государственного стандарта общего образования. Часть I. Начальное общее образование. Основное общее образование. / Министерство образования Российской Федерации. – М. 2004. – 221 с. – С.56-6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4:36:31Z</dcterms:created>
  <dc:creator>Админ</dc:creator>
  <dc:description/>
  <dc:language>en-US</dc:language>
  <cp:lastModifiedBy>LEGION</cp:lastModifiedBy>
  <dcterms:modified xsi:type="dcterms:W3CDTF">2015-04-01T07:39:50Z</dcterms:modified>
  <cp:revision>18</cp:revision>
  <dc:subject/>
  <dc:title>Информатика в современной начальной школе</dc:title>
</cp:coreProperties>
</file>