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B749B-F36A-4FCF-B64C-E165F32B87A0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8CB22-FC7E-48B2-B3FE-34A324E86B8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3CC3B-40C2-486C-B9A7-6E2589A0E84F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Адресация и передача информации в сети Интернет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венцов Л.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нцип работы D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кать нужный компьютер в Интернете пользовательским машинам помогают DNS-серверы - программы, которые при обращении к ним выискивают нужный IP-адрес по введенному URL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Місце для дати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D8525-FFFA-4C6A-8790-0BD0E0EB08A1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2B91F-5176-49AA-B38F-094A6F6D8D5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енные домен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М - Всемирная коммерческая зона Интернет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GOV  - Правительства государств и правительственные учрежд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NET - Общесетевые ресурс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EDU - Сеть учебных заведений и учреждений образ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IL - Военные организ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RG - Некоммерческие орган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Місце для дати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61156-0615-4110-89D9-1F908AEDD152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F488C-1876-4364-9ACB-C8AD6F52258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зучить новый материа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дготовиться к тесту по теме: Адресация и передача информации в сети Интерн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Місце для дати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33027-F483-48D8-AE9C-52871E4801C6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08593-E6F4-4682-87A5-A90458F1463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ль протоколов при обмене информацие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околы – это единые правила передачи данных в се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Місце для дати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F7FF9-260A-4792-8176-352736DB0042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28DA8-BF02-44EA-A685-7AD7E331D5D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дрес компьютера в се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дрес компьютера в сети носит название IP-адре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щий вид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ХХ.ХХХ.ХХХ.ХХ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Місце для дати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BF8C2-8AC7-452F-ABAD-D64C403EB477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477CC-1793-431A-9090-8A35A1A4A97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ответствие классов сетей значению первого октета IP-адрес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Місце для дати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1DCD5-66DA-4EBC-B25F-F87A97122C13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F75CC-6DB9-4814-A922-16EF6322D9B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значение адресов по класса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дреса класса А используются в крупных сетях общего польз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дреса класса В применяют в корпоративных сетях средних размер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дреса класса С - в локальных сетях небольших предприят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дреса класса D - для обращения к группам маши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дреса класса Е пока не используются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Місце для дати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51763-F32B-4D2B-BF3B-170F5B5A5732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88D08-5600-4A28-A501-66B1E1F6649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IP-адрес компьютер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ост - любой подключенный к Интернету компьютер независимо от его назначен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95.85.102.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Місце для дати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2BF55-5A76-4E2C-8CF1-90E8FCF3795E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9429D-EF40-4F81-AA8C-676C307AC31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DNS - доменная система име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Domain Name System (DNS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NS преобразует цифровой IP-адрес хоста (компьютера) в набор символ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Місце для дати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F32D4-175A-4558-BA30-CD3D68421139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D0877-9884-44AC-87A2-118C9BEE55F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http://www.myhost.mydomain.spb.ru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дрес того или иного ресурса Всемирной сети, записанный в стандарте DNS, дробится на несколько составляющих, отделенных друг от друга точкой. Эти элементы носят название "доменов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акое обозначение принято называть URL (Uniform Resource Locator), что можно перевести на русский язык, как "универсальный определитель местонахождения ресурса"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Місце для дати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4A760-D5B7-498E-895B-3BF3A8ED3900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0186E-B691-44B3-94DD-D3248751BC0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http://www.myhost.mydomain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ff0000"/>
                </a:solidFill>
                <a:latin typeface="Arial"/>
              </a:rPr>
              <a:t>http:// -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ротокол передачи гипертекстового документа (Hyper TextTransfer Protocol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ff0000"/>
                </a:solidFill>
                <a:latin typeface="Arial"/>
              </a:rPr>
              <a:t>www -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World Wide Web - Всемирная паутин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ff0000"/>
                </a:solidFill>
                <a:latin typeface="Arial"/>
              </a:rPr>
              <a:t>myhost.mydomain - </a:t>
            </a:r>
            <a:r>
              <a:rPr b="1" i="1" lang="ru-RU" sz="1100" spc="-1" strike="noStrike">
                <a:solidFill>
                  <a:srgbClr val="000000"/>
                </a:solidFill>
                <a:latin typeface="Arial"/>
              </a:rPr>
              <a:t>домен третьего уровня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ff0000"/>
                </a:solidFill>
                <a:latin typeface="Arial"/>
              </a:rPr>
              <a:t>spb - </a:t>
            </a:r>
            <a:r>
              <a:rPr b="1" i="1" lang="ru-RU" sz="1100" spc="-1" strike="noStrike">
                <a:solidFill>
                  <a:srgbClr val="000000"/>
                </a:solidFill>
                <a:latin typeface="Arial"/>
              </a:rPr>
              <a:t>домен второго уровня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ff0000"/>
                </a:solidFill>
                <a:latin typeface="Arial"/>
              </a:rPr>
              <a:t>Ru - </a:t>
            </a:r>
            <a:r>
              <a:rPr b="1" i="1" lang="ru-RU" sz="1100" spc="-1" strike="noStrike">
                <a:solidFill>
                  <a:srgbClr val="000000"/>
                </a:solidFill>
                <a:latin typeface="Arial"/>
              </a:rPr>
              <a:t>домен первого уровня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Місце для дати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74F14-CCDF-4478-9F82-22441E03F676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157A8-39A2-402B-B012-26BCF4F3E57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06C0A-2994-402F-99F6-5EEB18DF1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BE812-A2A0-4B30-B352-F6C96BB1E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D8F07-3672-49CD-A443-84BBDB876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DFECC-CC85-4AE0-AC0F-EEF3A192E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04BDB-5E59-4E70-9153-1EF9C19C2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AA5A3-46DC-47EA-94EB-D3D349EF9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DFD43-1F93-4863-9C70-038B1159C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F1223-AC89-42A0-921D-698AF2511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3D187-6EC7-4709-A435-14E8708E4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1E534-B5B4-4555-9912-7916AF5DB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B4C52-3DB1-4D3B-9C4D-92DE89D73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20B60-A927-4875-A65A-02B233782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89D73-1A7C-4CD5-B164-3621E885C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F98A0-6F7B-4139-908D-B33B0FF8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45C67-6C27-41FF-8F0D-CBCA5FC21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296AD-B46D-4604-A684-560DE41FB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1B4C5-B503-4525-B5FA-8D4B0463A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884C7-DE2A-4ADB-9AA6-AEDB54081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5C698-8C20-49CF-AC47-59FB558BB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44FE3-891E-48B1-B513-E91033616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171CC-ED4E-49CF-A854-1DA0068C1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A63B3-D43A-4211-9BCC-FDAC76C6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1B39D-E256-4411-A35A-43BE50B0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AF9AC-7F13-4DFA-931F-A442B0B5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9924E-E151-444C-B5CB-8CF67576720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A979B-1A83-4B90-90C4-841CE41F3D0B}" type="datetime3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1 июля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2120" y="556380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228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3B174-FBC0-4315-909B-510F243DFF75}" type="datetime3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31 июля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6A91B-0997-4485-856A-5DEFE39B76E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20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765A4-FBAE-4681-9010-590B74237D69}" type="datetime3">
              <a:rPr b="0" lang="ru-RU" sz="1200" spc="-1" strike="noStrike">
                <a:solidFill>
                  <a:srgbClr val="ffffff"/>
                </a:solidFill>
                <a:latin typeface="Arial"/>
              </a:rPr>
              <a:t>31 июля, 20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fdef6"/>
                </a:solidFill>
                <a:latin typeface="Arial"/>
              </a:rPr>
              <a:t>«Адресация и передача информации в сети Интернет»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5791320" y="4952520"/>
            <a:ext cx="32004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ривенцов Л.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4"/>
          <p:cNvSpPr/>
          <p:nvPr/>
        </p:nvSpPr>
        <p:spPr>
          <a:xfrm>
            <a:off x="385200" y="2514600"/>
            <a:ext cx="820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http://www.myhost.mydomain.spb.r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fdef6"/>
                </a:solidFill>
                <a:latin typeface="Arial"/>
              </a:rPr>
              <a:t>Принцип работы DNS: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92" name="Picture 7" descr="архивкккопирование"/>
          <p:cNvPicPr/>
          <p:nvPr/>
        </p:nvPicPr>
        <p:blipFill>
          <a:blip r:embed="rId1"/>
          <a:stretch/>
        </p:blipFill>
        <p:spPr>
          <a:xfrm>
            <a:off x="4419720" y="1752480"/>
            <a:ext cx="399960" cy="324000"/>
          </a:xfrm>
          <a:prstGeom prst="rect">
            <a:avLst/>
          </a:prstGeom>
          <a:ln w="0">
            <a:noFill/>
          </a:ln>
        </p:spPr>
      </p:pic>
      <p:sp>
        <p:nvSpPr>
          <p:cNvPr id="593" name="AutoShape 9"/>
          <p:cNvSpPr/>
          <p:nvPr/>
        </p:nvSpPr>
        <p:spPr>
          <a:xfrm flipH="1">
            <a:off x="7467480" y="3124080"/>
            <a:ext cx="914400" cy="457200"/>
          </a:xfrm>
          <a:custGeom>
            <a:avLst/>
            <a:gdLst>
              <a:gd name="textAreaLeft" fmla="*/ 159840 w 914400"/>
              <a:gd name="textAreaRight" fmla="*/ 663120 w 91440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AutoShape 10"/>
          <p:cNvSpPr/>
          <p:nvPr/>
        </p:nvSpPr>
        <p:spPr>
          <a:xfrm flipH="1">
            <a:off x="5790600" y="3124080"/>
            <a:ext cx="1600200" cy="457200"/>
          </a:xfrm>
          <a:custGeom>
            <a:avLst/>
            <a:gdLst>
              <a:gd name="textAreaLeft" fmla="*/ 280080 w 1600200"/>
              <a:gd name="textAreaRight" fmla="*/ 1160280 w 160020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AutoShape 11"/>
          <p:cNvSpPr/>
          <p:nvPr/>
        </p:nvSpPr>
        <p:spPr>
          <a:xfrm flipH="1">
            <a:off x="3351960" y="3124080"/>
            <a:ext cx="2210040" cy="457200"/>
          </a:xfrm>
          <a:custGeom>
            <a:avLst/>
            <a:gdLst>
              <a:gd name="textAreaLeft" fmla="*/ 386640 w 2210040"/>
              <a:gd name="textAreaRight" fmla="*/ 1602360 w 221004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6" name="Picture 12" descr="архивкккопирование"/>
          <p:cNvPicPr/>
          <p:nvPr/>
        </p:nvPicPr>
        <p:blipFill>
          <a:blip r:embed="rId2"/>
          <a:stretch/>
        </p:blipFill>
        <p:spPr>
          <a:xfrm>
            <a:off x="7848720" y="3657600"/>
            <a:ext cx="399960" cy="32400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13" descr="архивкккопирование"/>
          <p:cNvPicPr/>
          <p:nvPr/>
        </p:nvPicPr>
        <p:blipFill>
          <a:blip r:embed="rId3"/>
          <a:stretch/>
        </p:blipFill>
        <p:spPr>
          <a:xfrm>
            <a:off x="6477120" y="3657600"/>
            <a:ext cx="399960" cy="32400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14" descr="архивкккопирование"/>
          <p:cNvPicPr/>
          <p:nvPr/>
        </p:nvPicPr>
        <p:blipFill>
          <a:blip r:embed="rId4"/>
          <a:stretch/>
        </p:blipFill>
        <p:spPr>
          <a:xfrm>
            <a:off x="4419720" y="3809880"/>
            <a:ext cx="399960" cy="324000"/>
          </a:xfrm>
          <a:prstGeom prst="rect">
            <a:avLst/>
          </a:prstGeom>
          <a:ln w="0">
            <a:noFill/>
          </a:ln>
        </p:spPr>
      </p:pic>
      <p:sp>
        <p:nvSpPr>
          <p:cNvPr id="599" name="Line 15"/>
          <p:cNvSpPr/>
          <p:nvPr/>
        </p:nvSpPr>
        <p:spPr>
          <a:xfrm>
            <a:off x="4952880" y="1981080"/>
            <a:ext cx="335304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Rectangle 16"/>
          <p:cNvSpPr/>
          <p:nvPr/>
        </p:nvSpPr>
        <p:spPr>
          <a:xfrm>
            <a:off x="6402600" y="1828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Rectangle 17"/>
          <p:cNvSpPr/>
          <p:nvPr/>
        </p:nvSpPr>
        <p:spPr>
          <a:xfrm>
            <a:off x="7850160" y="3123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6561360" y="3123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Rectangle 19"/>
          <p:cNvSpPr/>
          <p:nvPr/>
        </p:nvSpPr>
        <p:spPr>
          <a:xfrm>
            <a:off x="4427640" y="3123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Rectangle 20"/>
          <p:cNvSpPr/>
          <p:nvPr/>
        </p:nvSpPr>
        <p:spPr>
          <a:xfrm>
            <a:off x="609480" y="4267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кать нужный компьютер в Интернете пользовательским машинам помогают DNS-серверы - программы, которые при обращении к ним выискивают нужный IP-адрес по введенному URL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Місце для дати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EE2A3-36DD-42B1-9554-42B19E80F032}" type="datetime3">
              <a:rPr b="0" lang="ru-RU" sz="1200" spc="-1" strike="noStrike">
                <a:solidFill>
                  <a:srgbClr val="ffffff"/>
                </a:solidFill>
                <a:latin typeface="Arial"/>
              </a:rPr>
              <a:t>31 июля, 20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Выделенные домены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М - Всемирная коммерческая зона Интернет 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GOV  - Правительства государств и правительственные учрежд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NET - Общесетевые ресурс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EDU - Сеть учебных заведений и учреждений образова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MIL - Военные организаци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ORG - Некоммерческие организ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Місце для дати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2B561-1A12-4684-A2DA-AF5E19EC1651}" type="datetime3">
              <a:rPr b="0" lang="ru-RU" sz="1200" spc="-1" strike="noStrike">
                <a:solidFill>
                  <a:srgbClr val="ffffff"/>
                </a:solidFill>
                <a:latin typeface="Arial"/>
              </a:rPr>
              <a:t>31 июля, 20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Місце для нижнього колонтитула 2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-457200" y="457200"/>
            <a:ext cx="9220320" cy="9144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dfdef6"/>
                </a:solidFill>
                <a:latin typeface="Arial"/>
              </a:rPr>
              <a:t>Домашнее задание:</a:t>
            </a:r>
            <a:endParaRPr b="0" lang="en-US" sz="6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2514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зучить новый материа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дготовиться к тесту по теме: Адресация и передача информации в сети Интерн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Місце для дати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2FAD2-264B-4461-AB4A-1F8191609B24}" type="datetime3">
              <a:rPr b="0" lang="ru-RU" sz="1200" spc="-1" strike="noStrike">
                <a:solidFill>
                  <a:srgbClr val="ffffff"/>
                </a:solidFill>
                <a:latin typeface="Arial"/>
              </a:rPr>
              <a:t>31 июля, 20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fdef6"/>
                </a:solidFill>
                <a:latin typeface="Arial"/>
              </a:rPr>
              <a:t>Роль протоколов при обмене информацией: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токолы – это единые правила передачи данных в се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Rectangle 4"/>
          <p:cNvSpPr/>
          <p:nvPr/>
        </p:nvSpPr>
        <p:spPr>
          <a:xfrm>
            <a:off x="533520" y="3657600"/>
            <a:ext cx="1295280" cy="914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ай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Line 5"/>
          <p:cNvSpPr/>
          <p:nvPr/>
        </p:nvSpPr>
        <p:spPr>
          <a:xfrm flipV="1">
            <a:off x="1828800" y="3276360"/>
            <a:ext cx="83808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Line 6"/>
          <p:cNvSpPr/>
          <p:nvPr/>
        </p:nvSpPr>
        <p:spPr>
          <a:xfrm flipV="1">
            <a:off x="1828800" y="3809520"/>
            <a:ext cx="83808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Line 7"/>
          <p:cNvSpPr/>
          <p:nvPr/>
        </p:nvSpPr>
        <p:spPr>
          <a:xfrm>
            <a:off x="1828800" y="4267080"/>
            <a:ext cx="83808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Rectangle 8"/>
          <p:cNvSpPr/>
          <p:nvPr/>
        </p:nvSpPr>
        <p:spPr>
          <a:xfrm>
            <a:off x="3200400" y="2971800"/>
            <a:ext cx="1295280" cy="533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лок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9"/>
          <p:cNvSpPr/>
          <p:nvPr/>
        </p:nvSpPr>
        <p:spPr>
          <a:xfrm>
            <a:off x="3200400" y="3581280"/>
            <a:ext cx="1295280" cy="533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лок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Rectangle 10"/>
          <p:cNvSpPr/>
          <p:nvPr/>
        </p:nvSpPr>
        <p:spPr>
          <a:xfrm>
            <a:off x="3200400" y="4191120"/>
            <a:ext cx="1295280" cy="533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Rectangle 11"/>
          <p:cNvSpPr/>
          <p:nvPr/>
        </p:nvSpPr>
        <p:spPr>
          <a:xfrm>
            <a:off x="3200400" y="4800600"/>
            <a:ext cx="1295280" cy="533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лок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Line 12"/>
          <p:cNvSpPr/>
          <p:nvPr/>
        </p:nvSpPr>
        <p:spPr>
          <a:xfrm>
            <a:off x="1828800" y="4419720"/>
            <a:ext cx="83808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Rectangle 13"/>
          <p:cNvSpPr/>
          <p:nvPr/>
        </p:nvSpPr>
        <p:spPr>
          <a:xfrm>
            <a:off x="2666880" y="4800600"/>
            <a:ext cx="533520" cy="533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Начало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Rectangle 14"/>
          <p:cNvSpPr/>
          <p:nvPr/>
        </p:nvSpPr>
        <p:spPr>
          <a:xfrm>
            <a:off x="2666880" y="4191120"/>
            <a:ext cx="533520" cy="533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Начало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15"/>
          <p:cNvSpPr/>
          <p:nvPr/>
        </p:nvSpPr>
        <p:spPr>
          <a:xfrm>
            <a:off x="2666880" y="3581280"/>
            <a:ext cx="533520" cy="533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Начало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Rectangle 16"/>
          <p:cNvSpPr/>
          <p:nvPr/>
        </p:nvSpPr>
        <p:spPr>
          <a:xfrm>
            <a:off x="2666880" y="2971800"/>
            <a:ext cx="533520" cy="533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Начало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Rectangle 18"/>
          <p:cNvSpPr/>
          <p:nvPr/>
        </p:nvSpPr>
        <p:spPr>
          <a:xfrm>
            <a:off x="4495680" y="2971800"/>
            <a:ext cx="533520" cy="533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Конец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19"/>
          <p:cNvSpPr/>
          <p:nvPr/>
        </p:nvSpPr>
        <p:spPr>
          <a:xfrm>
            <a:off x="4495680" y="3581280"/>
            <a:ext cx="533520" cy="533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Конец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Rectangle 20"/>
          <p:cNvSpPr/>
          <p:nvPr/>
        </p:nvSpPr>
        <p:spPr>
          <a:xfrm>
            <a:off x="4495680" y="4191120"/>
            <a:ext cx="533520" cy="533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Конец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Rectangle 21"/>
          <p:cNvSpPr/>
          <p:nvPr/>
        </p:nvSpPr>
        <p:spPr>
          <a:xfrm>
            <a:off x="4495680" y="4800600"/>
            <a:ext cx="533520" cy="533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Конец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4" name="Picture 24" descr="Безымянный"/>
          <p:cNvPicPr/>
          <p:nvPr/>
        </p:nvPicPr>
        <p:blipFill>
          <a:blip r:embed="rId1"/>
          <a:stretch/>
        </p:blipFill>
        <p:spPr>
          <a:xfrm>
            <a:off x="5410080" y="3581280"/>
            <a:ext cx="3191040" cy="1105200"/>
          </a:xfrm>
          <a:prstGeom prst="rect">
            <a:avLst/>
          </a:prstGeom>
          <a:ln w="0">
            <a:noFill/>
          </a:ln>
        </p:spPr>
      </p:pic>
      <p:sp>
        <p:nvSpPr>
          <p:cNvPr id="545" name="Rectangle 25"/>
          <p:cNvSpPr/>
          <p:nvPr/>
        </p:nvSpPr>
        <p:spPr>
          <a:xfrm>
            <a:off x="1295280" y="5408640"/>
            <a:ext cx="64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сети Интернет действуе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еждународный протокол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TCP/IP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Місце для дати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B9B1F-086E-486E-9B9D-79995022F85E}" type="datetime3">
              <a:rPr b="0" lang="ru-RU" sz="1200" spc="-1" strike="noStrike">
                <a:solidFill>
                  <a:srgbClr val="ffffff"/>
                </a:solidFill>
                <a:latin typeface="Arial"/>
              </a:rPr>
              <a:t>31 июля, 20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Місце для нижнього колонтитула 2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дрес компьютера в сети носит название IP-адре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бщий вид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ХХХ.ХХХ.ХХХ.ХХ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fdef6"/>
                </a:solidFill>
                <a:latin typeface="Arial"/>
              </a:rPr>
              <a:t>Адрес компьютера в сети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0" name="Rectangle 8"/>
          <p:cNvSpPr/>
          <p:nvPr/>
        </p:nvSpPr>
        <p:spPr>
          <a:xfrm>
            <a:off x="3735000" y="579024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ктет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Line 10"/>
          <p:cNvSpPr/>
          <p:nvPr/>
        </p:nvSpPr>
        <p:spPr>
          <a:xfrm flipH="1" flipV="1">
            <a:off x="3200040" y="5181120"/>
            <a:ext cx="68580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Line 11"/>
          <p:cNvSpPr/>
          <p:nvPr/>
        </p:nvSpPr>
        <p:spPr>
          <a:xfrm flipH="1" flipV="1">
            <a:off x="4038480" y="5181120"/>
            <a:ext cx="7632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Line 12"/>
          <p:cNvSpPr/>
          <p:nvPr/>
        </p:nvSpPr>
        <p:spPr>
          <a:xfrm flipV="1">
            <a:off x="4419720" y="5181120"/>
            <a:ext cx="53316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Line 13"/>
          <p:cNvSpPr/>
          <p:nvPr/>
        </p:nvSpPr>
        <p:spPr>
          <a:xfrm flipV="1">
            <a:off x="4876920" y="5181120"/>
            <a:ext cx="99036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Місце для дати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22598-F7BE-40D2-855F-DFD2CDD2A7AF}" type="datetime3">
              <a:rPr b="0" lang="ru-RU" sz="1200" spc="-1" strike="noStrike">
                <a:solidFill>
                  <a:srgbClr val="ffffff"/>
                </a:solidFill>
                <a:latin typeface="Arial"/>
              </a:rPr>
              <a:t>31 июля, 20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Місце для нижнього колонтитула 2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fdef6"/>
                </a:solidFill>
                <a:latin typeface="Arial"/>
              </a:rPr>
              <a:t>Соответствие классов сетей значению первого октета IP-адреса</a:t>
            </a: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58" name=""/>
          <p:cNvGraphicFramePr/>
          <p:nvPr/>
        </p:nvGraphicFramePr>
        <p:xfrm>
          <a:off x="457200" y="1600200"/>
          <a:ext cx="8229600" cy="4937040"/>
        </p:xfrm>
        <a:graphic>
          <a:graphicData uri="http://schemas.openxmlformats.org/drawingml/2006/table">
            <a:tbl>
              <a:tblPr/>
              <a:tblGrid>
                <a:gridCol w="1447920"/>
                <a:gridCol w="2101680"/>
                <a:gridCol w="2457360"/>
                <a:gridCol w="2222640"/>
              </a:tblGrid>
              <a:tr h="15548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Класс сети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Диапазон значений первого октета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Возможное количество подсетей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Возможное количество узлов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36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-126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8-19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2-223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24-239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0-247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6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382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9715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-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-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777214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5534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4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-28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-27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9" name="Місце для дати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0A933-6692-4C32-B901-61603B8C5E96}" type="datetime3">
              <a:rPr b="0" lang="ru-RU" sz="1200" spc="-1" strike="noStrike">
                <a:solidFill>
                  <a:srgbClr val="ffffff"/>
                </a:solidFill>
                <a:latin typeface="Arial"/>
              </a:rPr>
              <a:t>31 июля, 20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Місце для нижнього колонтитула 2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fdef6"/>
                </a:solidFill>
                <a:latin typeface="Arial"/>
              </a:rPr>
              <a:t>Назначение адресов по классам: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дреса класса А используются в крупных сетях общего пользова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дреса класса В применяют в корпоративных сетях средних размер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дреса класса С - в локальных сетях небольших предприяти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дреса класса D - для обращения к группам машин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дреса класса Е пока не используются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Місце для дати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97937-54D9-4F58-A0FB-55DE590D4153}" type="datetime3">
              <a:rPr b="0" lang="ru-RU" sz="1200" spc="-1" strike="noStrike">
                <a:solidFill>
                  <a:srgbClr val="ffffff"/>
                </a:solidFill>
                <a:latin typeface="Arial"/>
              </a:rPr>
              <a:t>31 июля, 20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Місце для нижнього колонтитула 2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fdef6"/>
                </a:solidFill>
                <a:latin typeface="Arial"/>
              </a:rPr>
              <a:t>IP-адрес компьютера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Хост - любой подключенный к Интернету компьютер независимо от его назначени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95.85.102.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Rectangle 4"/>
          <p:cNvSpPr/>
          <p:nvPr/>
        </p:nvSpPr>
        <p:spPr>
          <a:xfrm>
            <a:off x="157680" y="4571280"/>
            <a:ext cx="35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95-я подсеть сети Интернет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994680" y="5637960"/>
            <a:ext cx="30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85-я подсеть 195 подсе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Rectangle 6"/>
          <p:cNvSpPr/>
          <p:nvPr/>
        </p:nvSpPr>
        <p:spPr>
          <a:xfrm>
            <a:off x="4347360" y="6171480"/>
            <a:ext cx="30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02-я подсеть 85 подсе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Rectangle 7"/>
          <p:cNvSpPr/>
          <p:nvPr/>
        </p:nvSpPr>
        <p:spPr>
          <a:xfrm>
            <a:off x="5339160" y="5104800"/>
            <a:ext cx="36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4-й компьютер в 102 подсе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Line 8"/>
          <p:cNvSpPr/>
          <p:nvPr/>
        </p:nvSpPr>
        <p:spPr>
          <a:xfrm flipH="1">
            <a:off x="1676160" y="4114800"/>
            <a:ext cx="15238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Line 9"/>
          <p:cNvSpPr/>
          <p:nvPr/>
        </p:nvSpPr>
        <p:spPr>
          <a:xfrm flipH="1">
            <a:off x="2743200" y="4267080"/>
            <a:ext cx="144792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Line 10"/>
          <p:cNvSpPr/>
          <p:nvPr/>
        </p:nvSpPr>
        <p:spPr>
          <a:xfrm>
            <a:off x="4876920" y="4267080"/>
            <a:ext cx="685800" cy="1905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Line 12"/>
          <p:cNvSpPr/>
          <p:nvPr/>
        </p:nvSpPr>
        <p:spPr>
          <a:xfrm>
            <a:off x="5638680" y="4267080"/>
            <a:ext cx="9144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Місце для дати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FA0F0-E0C3-41FF-80CC-4BBA1207C560}" type="datetime3">
              <a:rPr b="0" lang="ru-RU" sz="1200" spc="-1" strike="noStrike">
                <a:solidFill>
                  <a:srgbClr val="ffffff"/>
                </a:solidFill>
                <a:latin typeface="Arial"/>
              </a:rPr>
              <a:t>31 июля, 20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Місце для нижнього колонтитула 2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fdef6"/>
                </a:solidFill>
                <a:latin typeface="Arial"/>
              </a:rPr>
              <a:t>DNS - доменная система имен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Domain Name System (DNS)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14724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4724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DNS преобразует цифровой IP-адрес хоста (компьютера) в набор символов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Rectangle 6"/>
          <p:cNvSpPr/>
          <p:nvPr/>
        </p:nvSpPr>
        <p:spPr>
          <a:xfrm>
            <a:off x="1066680" y="4191120"/>
            <a:ext cx="1025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омен - это некий логический уровень Интернета, то есть группа сетевых ресурсов, имеющая собственное имя и управляемая своей сетевой станцией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Місце для дати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B75B9-64D3-4100-9BD5-EFF0F84D72E3}" type="datetime3">
              <a:rPr b="0" lang="ru-RU" sz="1200" spc="-1" strike="noStrike">
                <a:solidFill>
                  <a:srgbClr val="ffffff"/>
                </a:solidFill>
                <a:latin typeface="Arial"/>
              </a:rPr>
              <a:t>31 июля, 20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Місце для нижнього колонтитула 2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4"/>
          <p:cNvSpPr/>
          <p:nvPr/>
        </p:nvSpPr>
        <p:spPr>
          <a:xfrm>
            <a:off x="228600" y="1220760"/>
            <a:ext cx="85345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дрес того или иного ресурса Всемирной сети, записанный в стандарте DNS, дробится на несколько составляющих, отделенных друг от друга точкой. Эти элементы носят название "доменов"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кое обозначение принято называть URL (Uniform Resource Locator), что можно перевести на русский язык, как "универсальный определитель местонахождения ресурса"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http://www.myhost.mydomain.spb.ru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Місце для дати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F8C06-83CB-4E3C-B10E-C50AD31A6695}" type="datetime3">
              <a:rPr b="0" lang="ru-RU" sz="1200" spc="-1" strike="noStrike">
                <a:solidFill>
                  <a:srgbClr val="ffffff"/>
                </a:solidFill>
                <a:latin typeface="Arial"/>
              </a:rPr>
              <a:t>31 июля, 20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Місце для нижнього колонтитула 2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http://www.myhost.mydomain.spb.ru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http:// -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ротокол передачи гипертекстового документа (Hyper TextTransfer Protocol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www -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World Wide Web - Всемирная паутин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myhost.mydomain -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домен третьего уровн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spb -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домен второго уровн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Ru -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домен первого уровн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Місце для дати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7779C-68D5-4792-8D76-CD8C0517041C}" type="datetime3">
              <a:rPr b="0" lang="ru-RU" sz="1200" spc="-1" strike="noStrike">
                <a:solidFill>
                  <a:srgbClr val="ffffff"/>
                </a:solidFill>
                <a:latin typeface="Arial"/>
              </a:rPr>
              <a:t>31 июля, 20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Місце для нижнього колонтитула 2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4-01T07:40:21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