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029D-3C0E-471A-98BE-545F895A1E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уМир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выполнела ученица 9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нжеваткина Антон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950F-E73C-45A4-91FF-0EDC05547D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ец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7201-2582-4BF3-B534-5C3DE866C4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Мир (Комплект Учебных МИРов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ограммирования, предназначенная для поддержки начальных курсов информатики и программирования в средней и высшей школе. Основана на методике, разработанной во второй половине 1980-х годов под руководством академика А. П. Ершова. Эта методика широко использовалась в средних школах СССР и Ро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E2BE-FAA9-43A7-BF35-2EB0F4D5E0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тель среды КуМир Кушниренко Анатолий Георгиевич. В системе КуМир используется придуманный А. П. Ершовым школьный алгоритмический язык — простой алголоподобный язык с русской лексикой и встроенными командами управления программными исполнителями (Робот, Чертёжник). Эти же исполнители изучаются по программе Босовой Л.Л. в 7 класс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7D68-3F97-49EE-8E47-C14EC99CB8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воде программы КуМир осуществляет постоянный полный контроль ее правильности, сообщая на полях программы обо всех обнаруженных ошибк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26A7-1BBE-4735-A4EA-A2FEBA81594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полнении программы в пошаговом режиме КуМир выводит на поля результаты операций присваивания и значения логических выражений. Это позволяет ускорить процесс освоения азов программ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6CF7-654E-44D0-8202-8031B5AF9F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мир работает в операционных системах Windows или Linu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1128-DF6D-42DD-AD13-F6084CD528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F6BD-2ADC-4D55-93B5-AC1CAD5FE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19B4-162F-4E11-9CC2-2A1F74DD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FDA0-AAAA-4215-9738-37232DEB7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BA1C-E103-44E8-9935-586F24762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5ED1-80B5-4806-B6B6-7777190E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F73D-3FD5-410D-83D4-BFE75C49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9B37-2CB9-4C86-805B-238BBF61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BF41-2E87-4755-8048-CAEAD625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D5D3-5A64-4A2F-8DA1-6E23970B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F25E-5CBB-416E-8862-97C91CD9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AD61-8A30-4022-AC46-F42356BA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BC10-BEF0-432C-B9C5-5AFAA075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21C1-4688-4323-97AD-CFD4DE68A9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%D1%84%D0%BE%D0%B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КуМир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05092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ю выполнела ученица 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нжеваткина Антон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%D1%84%D0%BE%D0%B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23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Конец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%D1%84%D0%BE%D0%B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уМир (Комплект Учебных МИРов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5280" y="191628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79640" y="1599840"/>
            <a:ext cx="511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программирования, предназначенная для поддержки начальных курсов информатики и программирования в средней и высшей школе. Основана на методике, разработанной во второй половине 1980-х годов под руководством академика А. П. Ершова. Эта методика широко использовалась в средних школах СССР и Рос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1" descr="%D1%84%D0%BE%D0%B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340200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тель среды КуМир Кушниренко Анатолий Георгиевич. В системе КуМир используется придуманный А. П. Ершовым школьный алгоритмический язык — простой алголоподобный язык с русской лексикой и встроенными командами управления программными исполнителями (Робот, Чертёжник). Эти же исполнители изучаются по программе Босовой Л.Л. в 7 класс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4-0"/>
          <p:cNvPicPr/>
          <p:nvPr/>
        </p:nvPicPr>
        <p:blipFill>
          <a:blip r:embed="rId2"/>
          <a:stretch/>
        </p:blipFill>
        <p:spPr>
          <a:xfrm>
            <a:off x="1908000" y="98280"/>
            <a:ext cx="5112000" cy="33321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%D1%84%D0%BE%D0%B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4941360"/>
            <a:ext cx="914400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вводе программы КуМир осуществляет постоянный полный контроль ее правильности, сообщая на полях программы обо всех обнаруженных ошибк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8-0"/>
          <p:cNvPicPr/>
          <p:nvPr/>
        </p:nvPicPr>
        <p:blipFill>
          <a:blip r:embed="rId2"/>
          <a:stretch/>
        </p:blipFill>
        <p:spPr>
          <a:xfrm>
            <a:off x="971640" y="0"/>
            <a:ext cx="7056360" cy="48513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1" descr="%D1%84%D0%BE%D0%B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выполнении программы в пошаговом режиме КуМир выводит на поля результаты операций присваивания и значения логических выражений. Это позволяет ускорить процесс освоения азов программир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image004"/>
          <p:cNvPicPr/>
          <p:nvPr/>
        </p:nvPicPr>
        <p:blipFill>
          <a:blip r:embed="rId2"/>
          <a:stretch/>
        </p:blipFill>
        <p:spPr>
          <a:xfrm>
            <a:off x="755640" y="2647800"/>
            <a:ext cx="7704000" cy="421020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%D1%84%D0%BE%D0%B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KuMir"/>
          <p:cNvPicPr/>
          <p:nvPr/>
        </p:nvPicPr>
        <p:blipFill>
          <a:blip r:embed="rId2"/>
          <a:stretch/>
        </p:blipFill>
        <p:spPr>
          <a:xfrm>
            <a:off x="250920" y="0"/>
            <a:ext cx="8604000" cy="69310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%D1%84%D0%BE%D0%BD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362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умир работает в операционных системах Windows или Linux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9" descr="%D1%84%D0%BE%D0%BD"/>
          <p:cNvPicPr/>
          <p:nvPr/>
        </p:nvPicPr>
        <p:blipFill>
          <a:blip r:embed="rId1"/>
          <a:stretch/>
        </p:blipFill>
        <p:spPr>
          <a:xfrm>
            <a:off x="0" y="0"/>
            <a:ext cx="9198000" cy="6899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image002"/>
          <p:cNvPicPr/>
          <p:nvPr/>
        </p:nvPicPr>
        <p:blipFill>
          <a:blip r:embed="rId2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%D1%84%D0%BE%D0%BD"/>
          <p:cNvPicPr/>
          <p:nvPr/>
        </p:nvPicPr>
        <p:blipFill>
          <a:blip r:embed="rId1"/>
          <a:stretch/>
        </p:blipFill>
        <p:spPr>
          <a:xfrm>
            <a:off x="0" y="0"/>
            <a:ext cx="9144000" cy="6789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image004 (1)"/>
          <p:cNvPicPr/>
          <p:nvPr/>
        </p:nvPicPr>
        <p:blipFill>
          <a:blip r:embed="rId2"/>
          <a:stretch/>
        </p:blipFill>
        <p:spPr>
          <a:xfrm>
            <a:off x="0" y="344520"/>
            <a:ext cx="9144000" cy="651348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4T11:56:46Z</dcterms:created>
  <dc:creator>Portable</dc:creator>
  <dc:description/>
  <dc:language>en-US</dc:language>
  <cp:lastModifiedBy>LEGION</cp:lastModifiedBy>
  <dcterms:modified xsi:type="dcterms:W3CDTF">2015-04-01T07:42:03Z</dcterms:modified>
  <cp:revision>11</cp:revision>
  <dc:subject/>
  <dc:title>Слайд 1</dc:title>
</cp:coreProperties>
</file>