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716F4-E4B2-4B0C-80DA-2C202D3A512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уМир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ю выполнела ученица 9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нжеваткина Антон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3D579-06F3-4344-8C2A-125E4A17D04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ец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94A5F-448E-4588-B46D-C45355057F5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уМир (Комплект Учебных МИРов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программирования, предназначенная для поддержки начальных курсов информатики и программирования в средней и высшей школе. Основана на методике, разработанной во второй половине 1980-х годов под руководством академика А. П. Ершова. Эта методика широко использовалась в средних школах СССР и Росс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5577E-2761-4472-863B-451E81F1B83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тель среды КуМир Кушниренко Анатолий Георгиевич. В системе КуМир используется придуманный А. П. Ершовым школьный алгоритмический язык — простой алголоподобный язык с русской лексикой и встроенными командами управления программными исполнителями (Робот, Чертёжник). Эти же исполнители изучаются по программе Босовой Л.Л. в 7 класс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53F0C-531B-4615-A35A-BAD3FCEFF4E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воде программы КуМир осуществляет постоянный полный контроль ее правильности, сообщая на полях программы обо всех обнаруженных ошибк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9D990-970E-4BBF-BE15-A5D5C29B74D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ыполнении программы в пошаговом режиме КуМир выводит на поля результаты операций присваивания и значения логических выражений. Это позволяет ускорить процесс освоения азов программир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3B4FC-894E-45D5-8301-E5B9E71088B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мир работает в операционных системах Windows или Linu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C1AEB-FFEA-4038-A713-50E3467E547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2E4D-FD30-4F39-8163-601E05D29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8B6D-0F4E-4AE0-AF81-96DAD4D26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74D7-3E33-42A1-AB19-5B4E9B07C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5652-1202-477F-B680-A4807FB4B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3236-D75E-4295-B830-52E08F84A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A410-F72A-4B7A-8328-5C25BD785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F713-CDE8-472D-A729-7A481F913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7135-C097-451D-8E3B-829BEE129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3A40-D81F-4D54-A258-50249D891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AB7B-444D-4C0A-8FA8-3ABC8371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1E3A-2B2D-41A6-969D-B44BD02B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DE0D-7B3A-4B66-BCC7-8CA6EC52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1AD2F-4CA1-42E8-A436-6AC6DDAFCA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%D1%84%D0%BE%D0%BD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КуМир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05092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ентацию выполнела ученица 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нжеваткина Антон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%D1%84%D0%BE%D0%B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268280"/>
            <a:ext cx="7772400" cy="23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Конец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асибо за вним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%D1%84%D0%BE%D0%BD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уМир (Комплект Учебных МИРов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95280" y="1916280"/>
            <a:ext cx="317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779640" y="1599840"/>
            <a:ext cx="5113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программирования, предназначенная для поддержки начальных курсов информатики и программирования в средней и высшей школе. Основана на методике, разработанной во второй половине 1980-х годов под руководством академика А. П. Ершова. Эта методика широко использовалась в средних школах СССР и Росс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1" descr="%D1%84%D0%BE%D0%BD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3402000"/>
            <a:ext cx="91440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тель среды КуМир Кушниренко Анатолий Георгиевич. В системе КуМир используется придуманный А. П. Ершовым школьный алгоритмический язык — простой алголоподобный язык с русской лексикой и встроенными командами управления программными исполнителями (Робот, Чертёжник). Эти же исполнители изучаются по программе Босовой Л.Л. в 7 класс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" descr="4-0"/>
          <p:cNvPicPr/>
          <p:nvPr/>
        </p:nvPicPr>
        <p:blipFill>
          <a:blip r:embed="rId2"/>
          <a:stretch/>
        </p:blipFill>
        <p:spPr>
          <a:xfrm>
            <a:off x="1908000" y="98280"/>
            <a:ext cx="5112000" cy="333216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8" descr="%D1%84%D0%BE%D0%BD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0" y="4941360"/>
            <a:ext cx="9144000" cy="19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вводе программы КуМир осуществляет постоянный полный контроль ее правильности, сообщая на полях программы обо всех обнаруженных ошибк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8-0"/>
          <p:cNvPicPr/>
          <p:nvPr/>
        </p:nvPicPr>
        <p:blipFill>
          <a:blip r:embed="rId2"/>
          <a:stretch/>
        </p:blipFill>
        <p:spPr>
          <a:xfrm>
            <a:off x="971640" y="0"/>
            <a:ext cx="7056360" cy="485136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1" descr="%D1%84%D0%BE%D0%BD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24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выполнении программы в пошаговом режиме КуМир выводит на поля результаты операций присваивания и значения логических выражений. Это позволяет ускорить процесс освоения азов программиров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image004"/>
          <p:cNvPicPr/>
          <p:nvPr/>
        </p:nvPicPr>
        <p:blipFill>
          <a:blip r:embed="rId2"/>
          <a:stretch/>
        </p:blipFill>
        <p:spPr>
          <a:xfrm>
            <a:off x="755640" y="2647800"/>
            <a:ext cx="7704000" cy="421020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7" descr="%D1%84%D0%BE%D0%BD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KuMir"/>
          <p:cNvPicPr/>
          <p:nvPr/>
        </p:nvPicPr>
        <p:blipFill>
          <a:blip r:embed="rId2"/>
          <a:stretch/>
        </p:blipFill>
        <p:spPr>
          <a:xfrm>
            <a:off x="250920" y="0"/>
            <a:ext cx="8604000" cy="693108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6" descr="%D1%84%D0%BE%D0%BD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773000"/>
            <a:ext cx="83628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умир работает в операционных системах Windows или Linux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9" descr="%D1%84%D0%BE%D0%BD"/>
          <p:cNvPicPr/>
          <p:nvPr/>
        </p:nvPicPr>
        <p:blipFill>
          <a:blip r:embed="rId1"/>
          <a:stretch/>
        </p:blipFill>
        <p:spPr>
          <a:xfrm>
            <a:off x="0" y="0"/>
            <a:ext cx="9198000" cy="6899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image002"/>
          <p:cNvPicPr/>
          <p:nvPr/>
        </p:nvPicPr>
        <p:blipFill>
          <a:blip r:embed="rId2"/>
          <a:stretch/>
        </p:blipFill>
        <p:spPr>
          <a:xfrm>
            <a:off x="0" y="0"/>
            <a:ext cx="9144000" cy="697248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%D1%84%D0%BE%D0%BD"/>
          <p:cNvPicPr/>
          <p:nvPr/>
        </p:nvPicPr>
        <p:blipFill>
          <a:blip r:embed="rId1"/>
          <a:stretch/>
        </p:blipFill>
        <p:spPr>
          <a:xfrm>
            <a:off x="0" y="0"/>
            <a:ext cx="9144000" cy="6789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image004 (1)"/>
          <p:cNvPicPr/>
          <p:nvPr/>
        </p:nvPicPr>
        <p:blipFill>
          <a:blip r:embed="rId2"/>
          <a:stretch/>
        </p:blipFill>
        <p:spPr>
          <a:xfrm>
            <a:off x="0" y="344520"/>
            <a:ext cx="9144000" cy="651348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4T11:56:46Z</dcterms:created>
  <dc:creator>Portable</dc:creator>
  <dc:description/>
  <dc:language>en-US</dc:language>
  <cp:lastModifiedBy>LEGION</cp:lastModifiedBy>
  <dcterms:modified xsi:type="dcterms:W3CDTF">2015-04-01T07:42:03Z</dcterms:modified>
  <cp:revision>11</cp:revision>
  <dc:subject/>
  <dc:title>Слайд 1</dc:title>
</cp:coreProperties>
</file>