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71B8-5332-4E7D-A66C-A9A08E98A5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уМи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ела ученица 9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жеваткина Анто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E8C1-6359-4242-8669-2A813CA7A0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4559-47F7-43DA-AC89-14A41A119F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Мир (Комплект Учебных МИР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2DE1-B715-42B0-AF75-E2E658086F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FC38-65FA-4E69-AE04-5FF76C1021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9F65-5E30-4BC5-83E2-06BB9E9B2F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789E-1C03-4106-9444-CF564F4B30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мир работает в операционных системах Windows или Lin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0F3F-4974-4C28-A7C7-DB41117C69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A43-4501-4656-B174-B106B00C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97F-FF21-4EA8-8073-CCFF5949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81A-FC7C-4FC4-B5E7-53F1D475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027-46CA-45C0-BBD7-D936C6E0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6B5-7AC1-4CAC-BF21-5A218110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875A-96D1-49FD-951C-548A6938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3E0-342C-4AA7-BE85-677E0750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B6F-9BAD-493F-BFF8-4AEE8A47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664-B9B6-429A-BA90-E24E9AB2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AB9-CD5B-482A-B748-55267C51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FE93-585C-458E-9A1A-1D769460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FE9E-8134-45BB-A78F-007468F8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1FBE-4253-4453-9E1E-09BD4E7A20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КуМир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050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ю выполнела ученица 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нжеваткина Анто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онец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(Комплект Учебных МИР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5280" y="1916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79640" y="1599840"/>
            <a:ext cx="511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программирования, предназначенная для поддержки начальных курсов информатики и программирования в средней и высшей школе. Основана на методике, разработанной во второй половине 1980-х годов под руководством академика А. П. Ершова. Эта методика широко использовалась в средних школах СССР и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3402000"/>
            <a:ext cx="91440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ель среды КуМир Кушниренко Анатолий Георгиевич. В системе КуМир используется придуманный А. П. Ершовым школьный алгоритмический язык — простой алголоподобный язык с русской лексикой и встроенными командами управления программными исполнителями (Робот, Чертёжник). Эти же исполнители изучаются по программе Босовой Л.Л. в 7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4-0"/>
          <p:cNvPicPr/>
          <p:nvPr/>
        </p:nvPicPr>
        <p:blipFill>
          <a:blip r:embed="rId2"/>
          <a:stretch/>
        </p:blipFill>
        <p:spPr>
          <a:xfrm>
            <a:off x="1908000" y="98280"/>
            <a:ext cx="5112000" cy="3332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воде программы КуМир осуществляет постоянный полный контроль ее правильности, сообщая на полях программы обо всех обнаруженных ошиб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8-0"/>
          <p:cNvPicPr/>
          <p:nvPr/>
        </p:nvPicPr>
        <p:blipFill>
          <a:blip r:embed="rId2"/>
          <a:stretch/>
        </p:blipFill>
        <p:spPr>
          <a:xfrm>
            <a:off x="971640" y="0"/>
            <a:ext cx="7056360" cy="4851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полнении программы в пошаговом режиме КуМир выводит на поля результаты операций присваивания и значения логических выражений. Это позволяет ускорить процесс освоения азов программир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image004"/>
          <p:cNvPicPr/>
          <p:nvPr/>
        </p:nvPicPr>
        <p:blipFill>
          <a:blip r:embed="rId2"/>
          <a:stretch/>
        </p:blipFill>
        <p:spPr>
          <a:xfrm>
            <a:off x="755640" y="2647800"/>
            <a:ext cx="7704000" cy="42102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%D1%84%D0%BE%D0%BD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KuMir"/>
          <p:cNvPicPr/>
          <p:nvPr/>
        </p:nvPicPr>
        <p:blipFill>
          <a:blip r:embed="rId2"/>
          <a:stretch/>
        </p:blipFill>
        <p:spPr>
          <a:xfrm>
            <a:off x="250920" y="0"/>
            <a:ext cx="8604000" cy="69310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%D1%84%D0%BE%D0%BD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умир работает в операционных системах Windows или Linu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image002"/>
          <p:cNvPicPr/>
          <p:nvPr/>
        </p:nvPicPr>
        <p:blipFill>
          <a:blip r:embed="rId2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%D1%84%D0%BE%D0%BD"/>
          <p:cNvPicPr/>
          <p:nvPr/>
        </p:nvPicPr>
        <p:blipFill>
          <a:blip r:embed="rId1"/>
          <a:stretch/>
        </p:blipFill>
        <p:spPr>
          <a:xfrm>
            <a:off x="0" y="0"/>
            <a:ext cx="9144000" cy="678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age004 (1)"/>
          <p:cNvPicPr/>
          <p:nvPr/>
        </p:nvPicPr>
        <p:blipFill>
          <a:blip r:embed="rId2"/>
          <a:stretch/>
        </p:blipFill>
        <p:spPr>
          <a:xfrm>
            <a:off x="0" y="344520"/>
            <a:ext cx="9144000" cy="6513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1:56:46Z</dcterms:created>
  <dc:creator>Portable</dc:creator>
  <dc:description/>
  <dc:language>en-US</dc:language>
  <cp:lastModifiedBy>LEGION</cp:lastModifiedBy>
  <dcterms:modified xsi:type="dcterms:W3CDTF">2015-04-01T07:42:03Z</dcterms:modified>
  <cp:revision>11</cp:revision>
  <dc:subject/>
  <dc:title>Слайд 1</dc:title>
</cp:coreProperties>
</file>