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5.jpeg" ContentType="image/jpe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32.wmf" ContentType="image/x-wmf"/>
  <Override PartName="/ppt/media/image12.png" ContentType="image/png"/>
  <Override PartName="/ppt/media/image10.png" ContentType="image/png"/>
  <Override PartName="/ppt/media/image11.png" ContentType="image/png"/>
  <Override PartName="/ppt/media/image34.wmf" ContentType="image/x-wmf"/>
  <Override PartName="/ppt/media/image7.png" ContentType="image/png"/>
  <Override PartName="/ppt/media/image35.wmf" ContentType="image/x-wmf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3C02-237C-430C-A524-1B3F2D6AA3F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пособы представления учеб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16C8-4026-461F-938C-852C28BC2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Результат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616E-7468-42CE-9409-D222903928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 (от лат. denoto — обозначаю) — очень эффективный способ вычленения из текста существенных признаков ключевого понятия. Правила постро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ое понят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о или словосочетание) и проанализируйте его существенные признаки. Впишите ключевое понятие в верхни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олее точ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берите глаголы, связывающие ключевое понятие и его существенные призна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ражающие движение от понятия к его существенным признакам. Это могут быть самые разнообразные глаголы-связки, с помощью которых осуществляется выход на определение понятия. Впишите глаголы в прямоугольники второго уров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ируйте в прямоугольниках следующего уровн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выбранных вами глаго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более полного раскрытия ключевого по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едованием име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менем может быть одно существительное или группа существительных в сочетании с другими именными частями речи)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го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йте каждый блок включенной в граф информации  с целью исключения возможных ошибок, несоответствий и противореч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F4C0-BA31-4500-A35D-ABEEE31DC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3FEC-9D0D-44C3-AFDA-EF749E43F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(причинно-следственная диаграмма или диаграмма Исикавы) – графическое изображением, помогающее идентифицировать и наглядно представить причины конкретных событий, явлений, проблем или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ую проблему помещают на правом конце горизонтального отрезка (голова рыб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группы причин распределяют как рыбий ске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аждой первичной причине подводят линии (стрелки) второго порядка, к которым, в свою очередь можно подвести линии третьего порядк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линий, нанесенная на схему, должна представлять собой  в зависимости от ее положения либо причину, либо следствие: предыдущая линия по отношению к последующей всегда выступает как причина, а последующая как след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05DA-267D-4CAE-A30C-D4B5AC425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«шести 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существуют следующие шесть возможных причин тех или ины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teria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chin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easureme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E3AD-EED9-4CA2-AB38-BE08EE997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AF35-BC3C-4D33-9BC4-2D9AA72EC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 (интеллект-ка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, интеллект-карта или ментальная карта (Mind maps) – э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 изображения информации в графическом виде, отражающая связ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мысловые, ассоциативные, причинно-следственные и други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жду понятиями, частями, составляющ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ой области, которую мы изучаем (рассматрива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 строгих прави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я интеллект-карт, как нет и неправильных ка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DA1A-AC74-4819-97B2-B8A32E469B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изаци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: каждую мысль, каждый образ или эмоцию можно представить себе как объект (узел), от которого расходятся во все стороны многочисленные ниточки-связи, ведущие к другим объектам (мыслям, образам, эмоц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хранилище информации – выглядит как огромная система таких объектов и связей между ними, а мышление можно себе представить, как электрический ток, бегущий по связующим ниточкам, будто по проводам, от одного объекта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ление «разбегается» от центрального объекта в разные стороны. Своеобразной моделью такого процесса и является карта памя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1A3A-218C-48FA-8A9E-CB1925545F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. 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80F2-0873-4463-9E51-B6BC3789AE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ь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 (коллективное творчество, мозговой штур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ирование или аннотирование текстовых матери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думывание проблем, анализ слож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0E4F-DB36-4E2C-BF8E-C03CF5127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хемы как инструмент работы с информ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графических сх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 (интеллект-ка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графических сх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схем-опорных консп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3023-7C6F-453A-AB20-B9486C93BA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и графических сх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х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ют представить тему целиком, наглядно и понят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обеспечивает повышение мотивация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скорость, точность и прочность восприятия, запоминания и переработки информации учащимся, что служит основой для генерации идей и принятия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готовые графические схемы (в учебниках или на плакатах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нее готовить к уроку собственные графические схемы (презентации, опорные конспект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ь графические схемы непосредственно на уроке по ходу изложения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разнообразные виды индивидуальной и коллективной деятельности учащихся по использованию готовых и созданию (под руководством учителя и самостоятельно) собственных графических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A20D-B806-43EA-9519-850F41F7B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ческие схемы использую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ложении нов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мысления и закрепления изучаем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бщении и систематизации изучен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апе контроля знаний, умений и навыков, присвоенных уче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37A-B443-4EF6-8690-AD621ADCF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запоми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1D07-533D-4E31-8CBE-6D0F72DF9D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аглядности  – инструмент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наглядно-образ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я навыков работы с графической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ации внимания при усвоении учеб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ации учебно-познаватель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и изучаемых вопро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й систематиза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4AFF-E6DC-4D4B-A7CB-A94ED9C26F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Графические схемы как инструмент работы с информацией</a:t>
            </a:r>
            <a:br>
              <a:rPr sz="11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Лавинообразный рост информации требует от человека навыков работы с книгой, справочной и другой литературой, с цифровыми информационными источниками, с распределенным информационным ресурсом сети Интерн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ффективная работа с большими информационными объемами требует развития мыслительных умений высокого уровня, включающих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осмысленно учить материал, выделяя в нем главное и отбрасывая второстепенно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анализировать, сравнивать, классифицировать, устанавливать причинно-следственные связи и т.д.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построения рассказа, ответа, речи, аргументирования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формулирования выводов, умозаключений; умение построения плана действий, самостоятельного принятия решения и т.д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ощным визуальным инструментом развития перечисленных умений и навыков являются разнообразные графические схемы - разновидность информационных моделей, навыки построения и исследования которых в наши дни относятся к разряду общеучебных и систематически формируются на уроках информатики и ИК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BF2F-FD29-4C14-8BF7-0ABC455044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кластер» происходит от английского «cluster» – гроздь,  скоп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строении клас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нтральном ова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ют ключевое понят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валах второ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нятия, раскрывающие смысл ключев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овалах третье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детализация понятий, упомянутых на предыдуще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0930-D851-4195-B93A-97EAD2B526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Пример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достающие надписи в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63DB-4791-42C0-9870-15BE8774A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ластер. Пример зада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анализируйте текст, выделите в нем ключевые слова и постройте кластер, визуализирующий основные положения изучаемого материал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сональный компьютер является частью системы «человек – компьютер». Средства, обеспечивающие взаимосвязь между объектами этой системы, называют интерфейсом. Различают аппаратный, программный, аппаратно-программный и пользовательский интерфей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ый интерфейс — взаимодействие между устройствами компьютера; обеспечивается производителями этого оборудова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граммный интерфейс — взаимодействие (совместимость) программ между собой, а также программного обеспечения и информационных ресурсов; обеспечивается разработчиками программного обеспеч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о-программный и пользовательский интерфейс обеспечивается операционной системой компьютер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о-программный интерфейс — взаимодействие аппаратного и программного обеспечения компьютер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льзовательский интерфейс — взаимодействие человека и компьютера. Пользовательский интерфейс на основе меню предлагает возможность выбора управляющей команды из меню (списка команд). В графическом интерфейсе компьютерные объекты представляются небольшими рисунками (значками). Нужный значок выбирают с помощью мыши. Кроме значков используются также тексты (для подсказок) и меню (для выбора команд). Трехмерный интерфейс позволяет осуществлять навигацию в трехмерном компьютерном пространстве. Указав мышью на дверь виртуального музея, можно в него войти. В виртуальном зале можно оглядеться, подойти к любой картине и рассмотреть ее более подробно. Такой интерфейс имитирует реальный мир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FC71-DA27-43FF-9418-B84BAEB737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Методика постро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е понятие в представленном фрагменте является самым главным, ключевым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фей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располагают ключевое поняти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ючевое понятие располагают в центральном ова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понятия раскрывают смысл ключевого понятия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понятия: аппаратный интерфейс, программный интерфейс, аппаратно-программный интерфейс, пользовательский интерфей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 эти понятия мы разместим на схем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ятия, раскрывающие смысл ключевого, следует размещать в овалах втор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е из понятий второго уровня детализировано в данном фрагмент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ьзовательский интерфейс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 мы на схеме отразим детализацию понятия «пользовательский интерфейс»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ответствующую информацию разместим в овалах третье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5521-1304-47D0-B41D-00189A759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EE5-FEB8-4BDE-8E0E-23ADB88C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B8C2-B3F8-4A18-8C32-2080EB11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5576-1B95-45F8-ADF1-62120ECD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1EB-83D2-4D0A-AA25-C71A9739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E1B6-8FB4-4FBD-BD7C-D9D94556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0D5CE-F72A-4F95-A421-C4EE1840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7324-145E-4FC1-8092-7DF9F4E8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684C-ACA9-4A65-99FE-1DDA72CF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980B-3BCC-47D0-9CBE-0B55B0D5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82C2-6AA2-454D-A4C8-BC562AD8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A077-34F6-458A-98EC-5557D340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1946-560A-4D60-9526-9778419D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94B7-EBDE-48AC-B852-C608B860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CFE8-C796-42D5-9D00-C626B5B8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363C-693C-4062-A50D-8CEF123D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F334-8804-413F-AE79-7B3C56EA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1E05-146D-4C17-B5E2-9D79C842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557D-20F0-4F1E-AEF1-45DB4769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1061-D2C5-4B5C-95AC-FF99E707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30103-D6A0-4C2C-97AE-748F6350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8F1F4-6022-4B5E-BBD9-13F01BBA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8510-B350-4295-B9DB-F69B4CC8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3F7A-28B1-4042-B5C8-DBC85AFC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23E5-31DB-4AEA-9106-7E7C6798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71DA3-832A-4239-8B52-8BD79C4F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197D-3F8D-48BB-8FB6-92445355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03EA-A511-493B-8165-2DF96184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02B21-643C-40E0-B299-1C5813E9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146B-3F6C-40EE-8A5F-56CFB3FE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E2E8-0E1A-4856-BD85-420BAD74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A0E4-B84A-4AB0-8DDA-02813B05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B044-9FC3-4258-85CC-C3C14518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4BC2-8539-4343-B123-4066123B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493-4E7E-47A2-B853-DA60E483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3004A-E37B-4906-AE1E-7CD59100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E8A8-ED50-4153-AA66-4FC66647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2F50-8702-4A0A-8C25-81998092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C5B37-26EF-49A1-8AA6-367B72C1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1BB5D-674D-4C71-BB6C-578FE572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8C189-1D65-4920-A4CA-E71F4FFB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1415F-A04C-454A-9515-C1C39635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3AE4-225A-40D2-A002-BB780ACC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EAF51-8EBD-4B76-8249-0FA0323CD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A2336-1E5D-4AFA-9183-3CFB42DB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DAF-352B-4EDB-89AF-9675A793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58FAA-D4B6-4017-964A-60095E92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FD541-ECD7-4ECD-8B90-054DACB4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A63E3-FC40-4FD9-85BC-8C30A1E2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1244F-45ED-416E-B1EE-A6145758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F57DB-6F27-47A3-B1A0-7FDF2573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BC532-6931-4901-9D51-FD56FE7B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4DECD-58E7-41AA-BBB6-47331E93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8E7B3-AFE0-422A-9EAA-045F2B26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291CC-6E09-4592-A6BD-660A3455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2824D-1683-47B6-B16E-241A5C88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9AD-607E-40D2-A804-3E36691F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ECD1B-FB38-4D34-9551-952D700C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BF052-141A-449E-AFC5-F4495F82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E803C-BEB1-4831-89A3-25DC636F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042D2-4FE5-4DE2-BA47-66D569BB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BF92B-E0B3-4A90-8B40-C2C62F17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4F6C4-1265-49CF-BABE-4B812DFF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552BC-1F2F-4344-ACFB-8E089E1F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1C6E-7F19-4C88-9995-451E59A0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19F9C-ECE3-4F3D-AC63-5D75A1AB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DFC20-2128-40AF-A2B7-B323D3CA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522-4DDE-4287-AB4D-517019ED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15C99-16B2-4CA2-9573-3B2D92CF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10849-9114-4FA7-BC0B-09C6BAF4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BB2A7-7FB7-453A-83DF-9BFB094F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BF0F-BAEC-415F-95BB-380F8330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A4E8A-1BEE-4493-964C-91F4CFF3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50D65-A980-482C-8094-841DD1F9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F7D63-F20A-4075-AA6C-426CF160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E9386-056D-40BD-9440-5AE0A0A4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2F313-0A17-4EB6-A917-E5DB05FF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4F582-5F06-497D-B1EB-ED322A37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D1A-A7FB-4935-81E1-CDAE90DD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AB519-94DC-4757-9B14-31007E99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A16D9-3CAC-4516-9042-2F4F6305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85141-0F11-42E8-90BD-20798C20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96379-4EA8-46CB-BBB9-58CB3316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2AA7A-4372-4E64-B8E3-BA43C7AE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BB2E4-E545-4255-BBAA-8C51F3DE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04088-CAEA-41CA-A1BD-1BB95527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2964E-3299-4FA9-A6BE-D833A3A1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EA6A1-ABB5-43FB-988A-DCBA2902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A643E-AA6E-4CD0-A316-CE984FBA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359-F226-470F-9BF8-EA2D0B11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71A6C-FD00-4892-BAA5-6ABC5D2E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E2040-FE1D-43D6-8A04-CC191634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BE504-24DA-4CF7-BA41-B0E6A489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FA4EA-9D5F-49F7-AD49-352AD291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EFA5A-5EF7-4D45-BC1F-CBD36B1C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20C42-EC9B-4B74-8CC7-E3DFA676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C6ACC-E282-4C6F-BA90-1E04B80C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D8AC-0D3C-49A0-9FE0-711EA7C69E8C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8B5B-4DBE-40D1-9C56-2A00AC23F96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576D-80FD-45E9-8DF7-CE3FFA4D2504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f0f4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45F9-BFF8-41F8-8A7A-B56291DF4ACD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7A2A-4B20-48A1-8067-4A4BAA57B20B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B86B-370C-45B5-B3C8-AF66C7CE05B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F4D3-382A-4F8A-8668-A0FCB8E760BD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F2A0-A699-45ED-8FE7-1720C1765E8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A182-4686-4F67-9650-3856475A4A46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1126-8582-422B-811E-D5F2DE8B6D8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9FB0-0AEA-4767-A0BE-385737872A11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C84A-46E9-4A32-8440-DDDD379400D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27AC-5869-4CA7-BED4-38D91113CFE1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032B-D26F-4849-A0AA-C4514FF3656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D9C4-40B9-42D9-ACA0-82C670701D36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475C-E4D9-41EE-9233-C1A5719B3AEE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000080" y="1633680"/>
            <a:ext cx="8199360" cy="2536560"/>
          </a:xfrm>
          <a:prstGeom prst="rect">
            <a:avLst/>
          </a:prstGeom>
          <a:ln w="0">
            <a:noFill/>
          </a:ln>
        </p:spPr>
      </p:pic>
      <p:sp>
        <p:nvSpPr>
          <p:cNvPr id="378" name="Подзаголовок 2"/>
          <p:cNvSpPr/>
          <p:nvPr/>
        </p:nvSpPr>
        <p:spPr>
          <a:xfrm>
            <a:off x="714240" y="1429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Lucida Sans Unicode"/>
              </a:rPr>
              <a:t>Босова Людмил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kulll@mail.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3"/>
          <p:cNvGrpSpPr/>
          <p:nvPr/>
        </p:nvGrpSpPr>
        <p:grpSpPr>
          <a:xfrm>
            <a:off x="642960" y="1214280"/>
            <a:ext cx="7429320" cy="4357440"/>
            <a:chOff x="642960" y="1214280"/>
            <a:chExt cx="7429320" cy="4357440"/>
          </a:xfrm>
        </p:grpSpPr>
        <p:grpSp>
          <p:nvGrpSpPr>
            <p:cNvPr id="450" name="Group 14"/>
            <p:cNvGrpSpPr/>
            <p:nvPr/>
          </p:nvGrpSpPr>
          <p:grpSpPr>
            <a:xfrm>
              <a:off x="1357200" y="1214280"/>
              <a:ext cx="6512400" cy="3445920"/>
              <a:chOff x="1357200" y="1214280"/>
              <a:chExt cx="6512400" cy="3445920"/>
            </a:xfrm>
          </p:grpSpPr>
          <p:sp>
            <p:nvSpPr>
              <p:cNvPr id="451" name="Oval 15"/>
              <p:cNvSpPr/>
              <p:nvPr/>
            </p:nvSpPr>
            <p:spPr>
              <a:xfrm>
                <a:off x="3666960" y="2451600"/>
                <a:ext cx="1857240" cy="879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16"/>
              <p:cNvSpPr/>
              <p:nvPr/>
            </p:nvSpPr>
            <p:spPr>
              <a:xfrm>
                <a:off x="3916800" y="2591280"/>
                <a:ext cx="128592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Интерфей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17"/>
              <p:cNvSpPr/>
              <p:nvPr/>
            </p:nvSpPr>
            <p:spPr>
              <a:xfrm>
                <a:off x="1369080" y="2547000"/>
                <a:ext cx="135720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18"/>
              <p:cNvSpPr/>
              <p:nvPr/>
            </p:nvSpPr>
            <p:spPr>
              <a:xfrm>
                <a:off x="1357200" y="2754360"/>
                <a:ext cx="14166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аппарат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9"/>
              <p:cNvSpPr/>
              <p:nvPr/>
            </p:nvSpPr>
            <p:spPr>
              <a:xfrm>
                <a:off x="3835800" y="1214280"/>
                <a:ext cx="135720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0"/>
              <p:cNvSpPr/>
              <p:nvPr/>
            </p:nvSpPr>
            <p:spPr>
              <a:xfrm>
                <a:off x="3717000" y="1307520"/>
                <a:ext cx="1619280" cy="62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аппаратно-программ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21"/>
              <p:cNvSpPr/>
              <p:nvPr/>
            </p:nvSpPr>
            <p:spPr>
              <a:xfrm>
                <a:off x="6476760" y="2340000"/>
                <a:ext cx="1357200" cy="828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22"/>
              <p:cNvSpPr/>
              <p:nvPr/>
            </p:nvSpPr>
            <p:spPr>
              <a:xfrm>
                <a:off x="6512400" y="2573280"/>
                <a:ext cx="13572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рограмм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3"/>
              <p:cNvSpPr/>
              <p:nvPr/>
            </p:nvSpPr>
            <p:spPr>
              <a:xfrm>
                <a:off x="3856680" y="3831840"/>
                <a:ext cx="150012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4"/>
              <p:cNvSpPr/>
              <p:nvPr/>
            </p:nvSpPr>
            <p:spPr>
              <a:xfrm>
                <a:off x="3761280" y="4064760"/>
                <a:ext cx="176184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ользовательски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25"/>
              <p:cNvSpPr/>
              <p:nvPr/>
            </p:nvSpPr>
            <p:spPr>
              <a:xfrm flipV="1">
                <a:off x="4536000" y="2042640"/>
                <a:ext cx="0" cy="40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6"/>
              <p:cNvSpPr/>
              <p:nvPr/>
            </p:nvSpPr>
            <p:spPr>
              <a:xfrm flipH="1">
                <a:off x="2738160" y="2909520"/>
                <a:ext cx="91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27"/>
              <p:cNvSpPr/>
              <p:nvPr/>
            </p:nvSpPr>
            <p:spPr>
              <a:xfrm>
                <a:off x="5512320" y="2857680"/>
                <a:ext cx="96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28"/>
              <p:cNvSpPr/>
              <p:nvPr/>
            </p:nvSpPr>
            <p:spPr>
              <a:xfrm>
                <a:off x="4619520" y="3362400"/>
                <a:ext cx="0" cy="47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Oval 29"/>
            <p:cNvSpPr/>
            <p:nvPr/>
          </p:nvSpPr>
          <p:spPr>
            <a:xfrm>
              <a:off x="642960" y="474372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30"/>
            <p:cNvSpPr/>
            <p:nvPr/>
          </p:nvSpPr>
          <p:spPr>
            <a:xfrm>
              <a:off x="3893400" y="492516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1"/>
            <p:cNvSpPr/>
            <p:nvPr/>
          </p:nvSpPr>
          <p:spPr>
            <a:xfrm>
              <a:off x="6512760" y="471780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32"/>
            <p:cNvSpPr/>
            <p:nvPr/>
          </p:nvSpPr>
          <p:spPr>
            <a:xfrm flipH="1">
              <a:off x="1702440" y="4316760"/>
              <a:ext cx="215496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33"/>
            <p:cNvSpPr/>
            <p:nvPr/>
          </p:nvSpPr>
          <p:spPr>
            <a:xfrm>
              <a:off x="5333760" y="4251960"/>
              <a:ext cx="2059920" cy="4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34"/>
            <p:cNvSpPr/>
            <p:nvPr/>
          </p:nvSpPr>
          <p:spPr>
            <a:xfrm>
              <a:off x="4619520" y="467928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5"/>
            <p:cNvSpPr/>
            <p:nvPr/>
          </p:nvSpPr>
          <p:spPr>
            <a:xfrm>
              <a:off x="842760" y="4782600"/>
              <a:ext cx="1214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на основе мен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6"/>
            <p:cNvSpPr/>
            <p:nvPr/>
          </p:nvSpPr>
          <p:spPr>
            <a:xfrm>
              <a:off x="3938400" y="4989600"/>
              <a:ext cx="1357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графиче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7"/>
            <p:cNvSpPr/>
            <p:nvPr/>
          </p:nvSpPr>
          <p:spPr>
            <a:xfrm>
              <a:off x="6522120" y="4769640"/>
              <a:ext cx="1452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трехмер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28400" y="857160"/>
            <a:ext cx="84294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енотатный граф (от лат. denoto — обозначаю) — очень эффективный способ вычленения из текста существенных признаков ключевого понятия. Правила построения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делите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ключевое понятие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слово или словосочетание) и проанализируйте его существенные признаки. Впишите ключевое понятие в верхний прямоугольник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ак можно более точно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подберите глаголы, связывающие ключевое понятие и его существенные признаки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, отражающие движение от понятия к его существенным признакам. Это могут быть самые разнообразные глаголы-связки, с помощью которых осуществляется выход на определение понятия. Впишите глаголы в прямоугольники второго уровня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онкретизируйте в прямоугольниках следующего уровня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смысл выбранных вами глаголов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для более полного раскрытия ключевого понятия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ледите за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чередованием имени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именем может быть одно существительное или группа существительных в сочетании с другими именными частями речи) и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глагола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оверяйте каждый блок включенной в граф информации  с целью исключения возможных ошибок, несоответствий и противоречий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1"/>
          <p:cNvGraphicFramePr/>
          <p:nvPr/>
        </p:nvGraphicFramePr>
        <p:xfrm>
          <a:off x="214200" y="1071720"/>
          <a:ext cx="8643960" cy="47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071720"/>
                    <a:ext cx="864396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ричинная карта (причинно-следственная диаграмма или диаграмма Исикавы) – графическое изображением, помогающее идентифицировать и наглядно представить причины конкретных событий, явлений, проблем или результатов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Анализируемую проблему помещают на правом конце горизонтального отрезка (голова рыбы)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сновные группы причин распределяют как рыбий скелет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 каждой первичной причине подводят линии (стрелки) второго порядка, к которым, в свою очередь можно подвести линии третьего порядка и т. д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аждая из линий, нанесенная на схему, должна представлять собой  в зависимости от ее положения либо причину, либо следствие: предыдущая линия по отношению к последующей всегда выступает как причина, а последующая как следствие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2"/>
          <a:stretch/>
        </p:blipFill>
        <p:spPr>
          <a:xfrm>
            <a:off x="6645240" y="5645160"/>
            <a:ext cx="2084400" cy="852480"/>
          </a:xfrm>
          <a:prstGeom prst="rect">
            <a:avLst/>
          </a:prstGeom>
          <a:ln w="0">
            <a:noFill/>
          </a:ln>
        </p:spPr>
      </p:pic>
      <p:sp>
        <p:nvSpPr>
          <p:cNvPr id="49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1430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 общем случае существуют следующие шесть возможных причин тех или иных результатов: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атериал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terial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оборудование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chine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измерение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етод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ethod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люди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n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енеджмент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nagement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8"/>
          <p:cNvGrpSpPr/>
          <p:nvPr/>
        </p:nvGrpSpPr>
        <p:grpSpPr>
          <a:xfrm>
            <a:off x="1000080" y="3429000"/>
            <a:ext cx="7571520" cy="2927520"/>
            <a:chOff x="1000080" y="3429000"/>
            <a:chExt cx="7571520" cy="2927520"/>
          </a:xfrm>
        </p:grpSpPr>
        <p:sp>
          <p:nvSpPr>
            <p:cNvPr id="497" name="Line 49"/>
            <p:cNvSpPr/>
            <p:nvPr/>
          </p:nvSpPr>
          <p:spPr>
            <a:xfrm>
              <a:off x="4716360" y="528876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50"/>
            <p:cNvSpPr/>
            <p:nvPr/>
          </p:nvSpPr>
          <p:spPr>
            <a:xfrm>
              <a:off x="4446720" y="555408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1"/>
            <p:cNvSpPr/>
            <p:nvPr/>
          </p:nvSpPr>
          <p:spPr>
            <a:xfrm>
              <a:off x="3941640" y="545220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52"/>
            <p:cNvGrpSpPr/>
            <p:nvPr/>
          </p:nvGrpSpPr>
          <p:grpSpPr>
            <a:xfrm>
              <a:off x="1000080" y="3429000"/>
              <a:ext cx="7571520" cy="2927520"/>
              <a:chOff x="1000080" y="3429000"/>
              <a:chExt cx="7571520" cy="2927520"/>
            </a:xfrm>
          </p:grpSpPr>
          <p:grpSp>
            <p:nvGrpSpPr>
              <p:cNvPr id="501" name="Group 53"/>
              <p:cNvGrpSpPr/>
              <p:nvPr/>
            </p:nvGrpSpPr>
            <p:grpSpPr>
              <a:xfrm>
                <a:off x="1795680" y="3690000"/>
                <a:ext cx="6775920" cy="2355840"/>
                <a:chOff x="1795680" y="3690000"/>
                <a:chExt cx="6775920" cy="2355840"/>
              </a:xfrm>
            </p:grpSpPr>
            <p:grpSp>
              <p:nvGrpSpPr>
                <p:cNvPr id="502" name="Group 54"/>
                <p:cNvGrpSpPr/>
                <p:nvPr/>
              </p:nvGrpSpPr>
              <p:grpSpPr>
                <a:xfrm>
                  <a:off x="2098800" y="3974040"/>
                  <a:ext cx="6472800" cy="1734120"/>
                  <a:chOff x="2098800" y="3974040"/>
                  <a:chExt cx="6472800" cy="1734120"/>
                </a:xfrm>
              </p:grpSpPr>
              <p:sp>
                <p:nvSpPr>
                  <p:cNvPr id="503" name="Line 55"/>
                  <p:cNvSpPr/>
                  <p:nvPr/>
                </p:nvSpPr>
                <p:spPr>
                  <a:xfrm>
                    <a:off x="2098800" y="4866120"/>
                    <a:ext cx="4951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utoShape 56"/>
                  <p:cNvSpPr/>
                  <p:nvPr/>
                </p:nvSpPr>
                <p:spPr>
                  <a:xfrm rot="5400000">
                    <a:off x="6953040" y="4089600"/>
                    <a:ext cx="1734120" cy="1503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Text Box 57"/>
                  <p:cNvSpPr/>
                  <p:nvPr/>
                </p:nvSpPr>
                <p:spPr>
                  <a:xfrm>
                    <a:off x="6999840" y="4559400"/>
                    <a:ext cx="1515960" cy="59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spcAft>
                        <a:spcPts val="4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изкая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100" spc="-1" strike="noStrike">
                        <a:solidFill>
                          <a:srgbClr val="000000"/>
                        </a:solidFill>
                        <a:latin typeface="Calibri"/>
                      </a:rPr>
                      <a:t>успеваемость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Line 58"/>
                <p:cNvSpPr/>
                <p:nvPr/>
              </p:nvSpPr>
              <p:spPr>
                <a:xfrm>
                  <a:off x="5117760" y="369000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59"/>
                <p:cNvSpPr/>
                <p:nvPr/>
              </p:nvSpPr>
              <p:spPr>
                <a:xfrm>
                  <a:off x="3930480" y="3700080"/>
                  <a:ext cx="126288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60"/>
                <p:cNvSpPr/>
                <p:nvPr/>
              </p:nvSpPr>
              <p:spPr>
                <a:xfrm>
                  <a:off x="2667240" y="370008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1"/>
                <p:cNvSpPr/>
                <p:nvPr/>
              </p:nvSpPr>
              <p:spPr>
                <a:xfrm flipV="1">
                  <a:off x="2654640" y="484236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62"/>
                <p:cNvSpPr/>
                <p:nvPr/>
              </p:nvSpPr>
              <p:spPr>
                <a:xfrm flipV="1">
                  <a:off x="3892320" y="487296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3"/>
                <p:cNvSpPr/>
                <p:nvPr/>
              </p:nvSpPr>
              <p:spPr>
                <a:xfrm flipV="1">
                  <a:off x="5054760" y="4872960"/>
                  <a:ext cx="126288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64"/>
                <p:cNvSpPr/>
                <p:nvPr/>
              </p:nvSpPr>
              <p:spPr>
                <a:xfrm>
                  <a:off x="1795680" y="4577400"/>
                  <a:ext cx="303120" cy="26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65"/>
                <p:cNvSpPr/>
                <p:nvPr/>
              </p:nvSpPr>
              <p:spPr>
                <a:xfrm flipV="1">
                  <a:off x="1833480" y="4832280"/>
                  <a:ext cx="303120" cy="26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Text Box 66"/>
              <p:cNvSpPr/>
              <p:nvPr/>
            </p:nvSpPr>
            <p:spPr>
              <a:xfrm>
                <a:off x="3475800" y="4910040"/>
                <a:ext cx="241272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Учебный процес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67"/>
              <p:cNvSpPr/>
              <p:nvPr/>
            </p:nvSpPr>
            <p:spPr>
              <a:xfrm>
                <a:off x="3492720" y="6071040"/>
                <a:ext cx="92196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Люд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68"/>
              <p:cNvSpPr/>
              <p:nvPr/>
            </p:nvSpPr>
            <p:spPr>
              <a:xfrm>
                <a:off x="5168520" y="3481200"/>
                <a:ext cx="1350720" cy="28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атериал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69"/>
              <p:cNvSpPr/>
              <p:nvPr/>
            </p:nvSpPr>
            <p:spPr>
              <a:xfrm>
                <a:off x="5055120" y="6034320"/>
                <a:ext cx="166788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Оборудова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70"/>
              <p:cNvSpPr/>
              <p:nvPr/>
            </p:nvSpPr>
            <p:spPr>
              <a:xfrm>
                <a:off x="1163160" y="3429000"/>
                <a:ext cx="151596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Измер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71"/>
              <p:cNvSpPr/>
              <p:nvPr/>
            </p:nvSpPr>
            <p:spPr>
              <a:xfrm>
                <a:off x="3349440" y="3516120"/>
                <a:ext cx="102384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ето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2"/>
              <p:cNvSpPr/>
              <p:nvPr/>
            </p:nvSpPr>
            <p:spPr>
              <a:xfrm>
                <a:off x="1000080" y="6024600"/>
                <a:ext cx="1666440" cy="28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енеджмен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Text Box 73"/>
            <p:cNvSpPr/>
            <p:nvPr/>
          </p:nvSpPr>
          <p:spPr>
            <a:xfrm>
              <a:off x="4435560" y="5674320"/>
              <a:ext cx="9205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оди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4"/>
            <p:cNvSpPr/>
            <p:nvPr/>
          </p:nvSpPr>
          <p:spPr>
            <a:xfrm>
              <a:off x="4862160" y="5299200"/>
              <a:ext cx="9205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е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75"/>
            <p:cNvSpPr/>
            <p:nvPr/>
          </p:nvSpPr>
          <p:spPr>
            <a:xfrm>
              <a:off x="3175920" y="5319360"/>
              <a:ext cx="920520" cy="29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ител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6"/>
            <p:cNvSpPr/>
            <p:nvPr/>
          </p:nvSpPr>
          <p:spPr>
            <a:xfrm>
              <a:off x="5872680" y="5309280"/>
              <a:ext cx="381600" cy="34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77"/>
            <p:cNvSpPr/>
            <p:nvPr/>
          </p:nvSpPr>
          <p:spPr>
            <a:xfrm>
              <a:off x="5827680" y="5655960"/>
              <a:ext cx="122364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78"/>
            <p:cNvSpPr/>
            <p:nvPr/>
          </p:nvSpPr>
          <p:spPr>
            <a:xfrm flipH="1">
              <a:off x="6030000" y="428904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79"/>
            <p:cNvSpPr/>
            <p:nvPr/>
          </p:nvSpPr>
          <p:spPr>
            <a:xfrm>
              <a:off x="6007680" y="4044240"/>
              <a:ext cx="102168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еб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80"/>
            <p:cNvSpPr/>
            <p:nvPr/>
          </p:nvSpPr>
          <p:spPr>
            <a:xfrm flipH="1">
              <a:off x="4671360" y="414648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1"/>
            <p:cNvSpPr/>
            <p:nvPr/>
          </p:nvSpPr>
          <p:spPr>
            <a:xfrm flipH="1">
              <a:off x="5041800" y="451368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82"/>
            <p:cNvSpPr/>
            <p:nvPr/>
          </p:nvSpPr>
          <p:spPr>
            <a:xfrm>
              <a:off x="5097960" y="4360680"/>
              <a:ext cx="80820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рие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83"/>
            <p:cNvSpPr/>
            <p:nvPr/>
          </p:nvSpPr>
          <p:spPr>
            <a:xfrm>
              <a:off x="4604040" y="3940200"/>
              <a:ext cx="819360" cy="29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Фор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84"/>
            <p:cNvSpPr/>
            <p:nvPr/>
          </p:nvSpPr>
          <p:spPr>
            <a:xfrm flipV="1">
              <a:off x="4547880" y="4513680"/>
              <a:ext cx="23256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85"/>
            <p:cNvSpPr/>
            <p:nvPr/>
          </p:nvSpPr>
          <p:spPr>
            <a:xfrm>
              <a:off x="3582360" y="4289040"/>
              <a:ext cx="976680" cy="417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Домашня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або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86"/>
            <p:cNvSpPr/>
            <p:nvPr/>
          </p:nvSpPr>
          <p:spPr>
            <a:xfrm flipV="1">
              <a:off x="2583000" y="3840120"/>
              <a:ext cx="2242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87"/>
            <p:cNvSpPr/>
            <p:nvPr/>
          </p:nvSpPr>
          <p:spPr>
            <a:xfrm flipV="1">
              <a:off x="2998440" y="4227840"/>
              <a:ext cx="2242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88"/>
            <p:cNvSpPr/>
            <p:nvPr/>
          </p:nvSpPr>
          <p:spPr>
            <a:xfrm>
              <a:off x="1437840" y="3932280"/>
              <a:ext cx="122364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Контрольн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89"/>
            <p:cNvSpPr/>
            <p:nvPr/>
          </p:nvSpPr>
          <p:spPr>
            <a:xfrm>
              <a:off x="2392200" y="4370760"/>
              <a:ext cx="6847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ст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90"/>
            <p:cNvSpPr/>
            <p:nvPr/>
          </p:nvSpPr>
          <p:spPr>
            <a:xfrm>
              <a:off x="2897280" y="519696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91"/>
            <p:cNvSpPr/>
            <p:nvPr/>
          </p:nvSpPr>
          <p:spPr>
            <a:xfrm>
              <a:off x="2481840" y="564588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92"/>
            <p:cNvSpPr/>
            <p:nvPr/>
          </p:nvSpPr>
          <p:spPr>
            <a:xfrm>
              <a:off x="2032920" y="4972680"/>
              <a:ext cx="1145160" cy="27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жим д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93"/>
            <p:cNvSpPr/>
            <p:nvPr/>
          </p:nvSpPr>
          <p:spPr>
            <a:xfrm>
              <a:off x="1482480" y="5380560"/>
              <a:ext cx="1066320" cy="44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аспис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ро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"/>
          <p:cNvGrpSpPr/>
          <p:nvPr/>
        </p:nvGrpSpPr>
        <p:grpSpPr>
          <a:xfrm>
            <a:off x="1000080" y="2000160"/>
            <a:ext cx="7143840" cy="2700360"/>
            <a:chOff x="1000080" y="2000160"/>
            <a:chExt cx="7143840" cy="2700360"/>
          </a:xfrm>
        </p:grpSpPr>
        <p:sp>
          <p:nvSpPr>
            <p:cNvPr id="547" name="AutoShape 3"/>
            <p:cNvSpPr/>
            <p:nvPr/>
          </p:nvSpPr>
          <p:spPr>
            <a:xfrm rot="5400000">
              <a:off x="6309360" y="2865960"/>
              <a:ext cx="2197440" cy="1471680"/>
            </a:xfrm>
            <a:prstGeom prst="triangle">
              <a:avLst>
                <a:gd name="adj" fmla="val 50000"/>
              </a:avLst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"/>
            <p:cNvSpPr/>
            <p:nvPr/>
          </p:nvSpPr>
          <p:spPr>
            <a:xfrm>
              <a:off x="6641640" y="3143520"/>
              <a:ext cx="13593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Достоинства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 и недостатки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графических 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схе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"/>
            <p:cNvSpPr/>
            <p:nvPr/>
          </p:nvSpPr>
          <p:spPr>
            <a:xfrm>
              <a:off x="1613160" y="3485160"/>
              <a:ext cx="504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6"/>
            <p:cNvSpPr/>
            <p:nvPr/>
          </p:nvSpPr>
          <p:spPr>
            <a:xfrm>
              <a:off x="5629680" y="2479320"/>
              <a:ext cx="848160" cy="97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7"/>
            <p:cNvSpPr/>
            <p:nvPr/>
          </p:nvSpPr>
          <p:spPr>
            <a:xfrm>
              <a:off x="4679280" y="2479320"/>
              <a:ext cx="848160" cy="97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8"/>
            <p:cNvSpPr/>
            <p:nvPr/>
          </p:nvSpPr>
          <p:spPr>
            <a:xfrm>
              <a:off x="3697920" y="2409480"/>
              <a:ext cx="909360" cy="10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9"/>
            <p:cNvSpPr/>
            <p:nvPr/>
          </p:nvSpPr>
          <p:spPr>
            <a:xfrm>
              <a:off x="2941560" y="249120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0"/>
            <p:cNvSpPr/>
            <p:nvPr/>
          </p:nvSpPr>
          <p:spPr>
            <a:xfrm flipH="1">
              <a:off x="3043800" y="348516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1"/>
            <p:cNvSpPr/>
            <p:nvPr/>
          </p:nvSpPr>
          <p:spPr>
            <a:xfrm flipH="1">
              <a:off x="5087880" y="347364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4147920" y="2479320"/>
              <a:ext cx="120456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Нагляд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360600" y="2000160"/>
              <a:ext cx="132840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Компакт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1695600" y="2010960"/>
              <a:ext cx="123660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бозрим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2451240" y="2468520"/>
              <a:ext cx="1328400" cy="4082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Разнообраз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6"/>
            <p:cNvSpPr/>
            <p:nvPr/>
          </p:nvSpPr>
          <p:spPr>
            <a:xfrm>
              <a:off x="5373360" y="2070000"/>
              <a:ext cx="181908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Привлекатель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7"/>
            <p:cNvSpPr/>
            <p:nvPr/>
          </p:nvSpPr>
          <p:spPr>
            <a:xfrm>
              <a:off x="4136760" y="4151520"/>
              <a:ext cx="187164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тсутствие точ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8"/>
            <p:cNvSpPr/>
            <p:nvPr/>
          </p:nvSpPr>
          <p:spPr>
            <a:xfrm>
              <a:off x="1602720" y="4162680"/>
              <a:ext cx="216648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тсутствие подробност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9"/>
            <p:cNvSpPr/>
            <p:nvPr/>
          </p:nvSpPr>
          <p:spPr>
            <a:xfrm flipH="1" flipV="1">
              <a:off x="2011320" y="2420640"/>
              <a:ext cx="919800" cy="10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0"/>
            <p:cNvSpPr/>
            <p:nvPr/>
          </p:nvSpPr>
          <p:spPr>
            <a:xfrm flipH="1" flipV="1">
              <a:off x="1715400" y="2970720"/>
              <a:ext cx="439200" cy="50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1000080" y="2701800"/>
              <a:ext cx="120636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Систем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рта памяти, интеллект-карта или ментальная карта (Mind maps) – это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технология изображения информации в графическом виде, отражающая связ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смысловые, ассоциативные, причинно-следственные и другие)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ежду понятиями, частями, составляющим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метной области, которую мы изучаем (рассматриваем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т строгих правил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троения интеллект-карт, как нет и неправильных кар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8" name="Заголовок 2" descr=""/>
          <p:cNvPicPr/>
          <p:nvPr/>
        </p:nvPicPr>
        <p:blipFill>
          <a:blip r:embed="rId1"/>
          <a:stretch/>
        </p:blipFill>
        <p:spPr>
          <a:xfrm>
            <a:off x="231840" y="60480"/>
            <a:ext cx="8454960" cy="104904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213840" y="928800"/>
            <a:ext cx="8543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сновная идея: каждую мысль, каждый образ или эмоцию можно представить себе как объект (узел), от которого расходятся во все стороны многочисленные ниточки-связи, ведущие к другим объектам (мыслям, образам, эмоциям)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озг – хранилище информации – выглядит как огромная система таких объектов и связей между ними, а мышление можно себе представить, как электрический ток, бегущий по связующим ниточкам, будто по проводам, от одного объекта к другому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ышление «разбегается» от центрального объекта в разные стороны. Своеобразной моделью такого процесса и является карта памяти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3" name="Заголовок 2" descr=""/>
          <p:cNvPicPr/>
          <p:nvPr/>
        </p:nvPicPr>
        <p:blipFill>
          <a:blip r:embed="rId1"/>
          <a:stretch/>
        </p:blipFill>
        <p:spPr>
          <a:xfrm>
            <a:off x="274680" y="103320"/>
            <a:ext cx="8454960" cy="1055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3" descr=""/>
          <p:cNvPicPr/>
          <p:nvPr/>
        </p:nvPicPr>
        <p:blipFill>
          <a:blip r:embed="rId2"/>
          <a:stretch/>
        </p:blipFill>
        <p:spPr>
          <a:xfrm>
            <a:off x="6929280" y="4929120"/>
            <a:ext cx="1386000" cy="1602000"/>
          </a:xfrm>
          <a:prstGeom prst="rect">
            <a:avLst/>
          </a:prstGeom>
          <a:ln w="0">
            <a:noFill/>
          </a:ln>
        </p:spPr>
      </p:pic>
      <p:sp>
        <p:nvSpPr>
          <p:cNvPr id="57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Ментальная карта"/>
          <p:cNvPicPr/>
          <p:nvPr/>
        </p:nvPicPr>
        <p:blipFill>
          <a:blip r:embed="rId1"/>
          <a:stretch/>
        </p:blipFill>
        <p:spPr>
          <a:xfrm>
            <a:off x="1214280" y="1357200"/>
            <a:ext cx="7380360" cy="4741920"/>
          </a:xfrm>
          <a:prstGeom prst="rect">
            <a:avLst/>
          </a:prstGeom>
          <a:ln w="0">
            <a:noFill/>
          </a:ln>
        </p:spPr>
      </p:pic>
      <p:pic>
        <p:nvPicPr>
          <p:cNvPr id="577" name="Заголовок 5" descr=""/>
          <p:cNvPicPr/>
          <p:nvPr/>
        </p:nvPicPr>
        <p:blipFill>
          <a:blip r:embed="rId2"/>
          <a:stretch/>
        </p:blipFill>
        <p:spPr>
          <a:xfrm>
            <a:off x="231840" y="96840"/>
            <a:ext cx="8454960" cy="1049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рупповая работа (коллективное творчество, мозговой штурм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конспектирование или аннотирование текстовых материалов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бдумывание проблем, анализ сложных ситуаций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ланирова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ринятие решени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0" name="Заголовок 2" descr=""/>
          <p:cNvPicPr/>
          <p:nvPr/>
        </p:nvPicPr>
        <p:blipFill>
          <a:blip r:embed="rId1"/>
          <a:stretch/>
        </p:blipFill>
        <p:spPr>
          <a:xfrm>
            <a:off x="208080" y="55440"/>
            <a:ext cx="8478720" cy="113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"/>
          <p:cNvPicPr/>
          <p:nvPr/>
        </p:nvPicPr>
        <p:blipFill>
          <a:blip r:embed="rId2"/>
          <a:stretch/>
        </p:blipFill>
        <p:spPr>
          <a:xfrm>
            <a:off x="5643720" y="3857760"/>
            <a:ext cx="3112920" cy="2484360"/>
          </a:xfrm>
          <a:prstGeom prst="rect">
            <a:avLst/>
          </a:prstGeom>
          <a:ln w="0">
            <a:noFill/>
          </a:ln>
        </p:spPr>
      </p:pic>
      <p:sp>
        <p:nvSpPr>
          <p:cNvPr id="58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6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ческие схемы как инструмент работы с информаци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ипы графических схем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ластер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денотатный граф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чинная карт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арта памяти (интеллект-карта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есто графических схем на урок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ы схем-опорных конспект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-103320" y="55440"/>
            <a:ext cx="8899560" cy="113364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Графические схемы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зволяют представить тему целиком, наглядно и понятно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что обеспечивает повышение мотивация учащихся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еспечивают скорость, точность и прочность восприятия, запоминания и переработки информации учащимся, что служит основой для генерации идей и принятия решен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читель может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спользовать готовые графические схемы (в учебниках или на плакатах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ранее готовить к уроку собственные графические схемы (презентации, опорные конспекты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троить графические схемы непосредственно на уроке по ходу изложения материал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ганизовать разнообразные виды индивидуальной и коллективной деятельности учащихся по использованию готовых и созданию (под руководством учителя и самостоятельно) собственных графических схе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10238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285840" y="114264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изложении нов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осмысления и закрепления изучаем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обобщении и систематизации изученн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 этапе контроля знаний, умений и навыков, присвоенных ученик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2960640" cy="2357280"/>
          </a:xfrm>
          <a:prstGeom prst="rect">
            <a:avLst/>
          </a:prstGeom>
          <a:ln w="0">
            <a:noFill/>
          </a:ln>
        </p:spPr>
      </p:pic>
      <p:sp>
        <p:nvSpPr>
          <p:cNvPr id="589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Object 2"/>
          <p:cNvGraphicFramePr/>
          <p:nvPr/>
        </p:nvGraphicFramePr>
        <p:xfrm>
          <a:off x="142920" y="0"/>
          <a:ext cx="87804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0"/>
                    <a:ext cx="87804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Object 2"/>
          <p:cNvGraphicFramePr/>
          <p:nvPr/>
        </p:nvGraphicFramePr>
        <p:xfrm>
          <a:off x="142920" y="142920"/>
          <a:ext cx="8780400" cy="56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8780400" cy="56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Object 2"/>
          <p:cNvGraphicFramePr/>
          <p:nvPr/>
        </p:nvGraphicFramePr>
        <p:xfrm>
          <a:off x="88920" y="0"/>
          <a:ext cx="896616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01600" y="189000"/>
            <a:ext cx="8485200" cy="1182600"/>
          </a:xfrm>
          <a:prstGeom prst="rect">
            <a:avLst/>
          </a:prstGeom>
          <a:ln w="0">
            <a:noFill/>
          </a:ln>
        </p:spPr>
      </p:pic>
      <p:pic>
        <p:nvPicPr>
          <p:cNvPr id="383" name="Схема 1" descr=""/>
          <p:cNvPicPr/>
          <p:nvPr/>
        </p:nvPicPr>
        <p:blipFill>
          <a:blip r:embed="rId2"/>
          <a:stretch/>
        </p:blipFill>
        <p:spPr>
          <a:xfrm>
            <a:off x="360360" y="1500120"/>
            <a:ext cx="8345520" cy="399888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71360" y="244440"/>
            <a:ext cx="8515440" cy="1382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14240" y="1356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я наглядно-образного мышлени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я навыков работы с графической информацией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иксации внимания при усвоении учебного материал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ктивизации учебно-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кретизации изучаемых вопросо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глядной систематизации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классификац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Лавинообразный рост информации требует от человека навыков работы с книгой, справочной и другой литературой, с цифровыми информационными источниками, с распределенным информационным ресурсом сети Интерне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Эффективная работа с большими информационными объемами требует развития мыслительных умений высокого уровня, включающих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осмысленно учить материал, выделяя в нем главное и отбрасывая второстепенное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анализировать, сравнивать, классифицировать, устанавливать причинно-следственные связи и т.д.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построения рассказа, ответа, речи, аргументирования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формулирования выводов, умозаключений; умение построения плана действий, самостоятельного принятия решения и т.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Мощным визуальным инструментом развития перечисленных умений и навыков являются разнообразные графические схемы - разновидность информационных моделей, навыки построения и исследования которых в наши дни относятся к разряду общеучебных и систематически формируются на уроках информатики и ИК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274680" y="-60480"/>
            <a:ext cx="8412120" cy="1481400"/>
          </a:xfrm>
          <a:prstGeom prst="rect">
            <a:avLst/>
          </a:prstGeom>
          <a:ln w="0">
            <a:noFill/>
          </a:ln>
        </p:spPr>
      </p:pic>
      <p:sp>
        <p:nvSpPr>
          <p:cNvPr id="390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42920" y="107172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ермин «кластер» происходит от английского «cluster» – гроздь,  скопление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 построении кластер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в центральном овале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сполагают ключевое понятие;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 овалах второго уровня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– понятия, раскрывающие смысл ключевого;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овалах третьего уровня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идет детализация понятий, упомянутых на предыдущем уровн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2"/>
          <p:cNvGrpSpPr/>
          <p:nvPr/>
        </p:nvGrpSpPr>
        <p:grpSpPr>
          <a:xfrm>
            <a:off x="1428840" y="4000680"/>
            <a:ext cx="6962760" cy="2547720"/>
            <a:chOff x="1428840" y="4000680"/>
            <a:chExt cx="6962760" cy="2547720"/>
          </a:xfrm>
        </p:grpSpPr>
        <p:grpSp>
          <p:nvGrpSpPr>
            <p:cNvPr id="394" name="Group 3"/>
            <p:cNvGrpSpPr/>
            <p:nvPr/>
          </p:nvGrpSpPr>
          <p:grpSpPr>
            <a:xfrm>
              <a:off x="1428840" y="4000680"/>
              <a:ext cx="6962760" cy="2547720"/>
              <a:chOff x="1428840" y="4000680"/>
              <a:chExt cx="6962760" cy="2547720"/>
            </a:xfrm>
          </p:grpSpPr>
          <p:sp>
            <p:nvSpPr>
              <p:cNvPr id="395" name="Oval 4"/>
              <p:cNvSpPr/>
              <p:nvPr/>
            </p:nvSpPr>
            <p:spPr>
              <a:xfrm>
                <a:off x="4465080" y="4911120"/>
                <a:ext cx="1734840" cy="647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5"/>
              <p:cNvSpPr/>
              <p:nvPr/>
            </p:nvSpPr>
            <p:spPr>
              <a:xfrm>
                <a:off x="4698720" y="5014080"/>
                <a:ext cx="120096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Признаки объект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6"/>
              <p:cNvGrpSpPr/>
              <p:nvPr/>
            </p:nvGrpSpPr>
            <p:grpSpPr>
              <a:xfrm>
                <a:off x="2318400" y="4981680"/>
                <a:ext cx="1267920" cy="609480"/>
                <a:chOff x="2318400" y="4981680"/>
                <a:chExt cx="1267920" cy="609480"/>
              </a:xfrm>
            </p:grpSpPr>
            <p:sp>
              <p:nvSpPr>
                <p:cNvPr id="398" name="Oval 7"/>
                <p:cNvSpPr/>
                <p:nvPr/>
              </p:nvSpPr>
              <p:spPr>
                <a:xfrm>
                  <a:off x="2318400" y="4981680"/>
                  <a:ext cx="1267920" cy="609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8"/>
                <p:cNvSpPr/>
                <p:nvPr/>
              </p:nvSpPr>
              <p:spPr>
                <a:xfrm>
                  <a:off x="2485080" y="5153040"/>
                  <a:ext cx="94536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</a:rPr>
                    <a:t>свойства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Oval 9"/>
              <p:cNvSpPr/>
              <p:nvPr/>
            </p:nvSpPr>
            <p:spPr>
              <a:xfrm>
                <a:off x="4623120" y="4000680"/>
                <a:ext cx="126792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10"/>
              <p:cNvSpPr/>
              <p:nvPr/>
            </p:nvSpPr>
            <p:spPr>
              <a:xfrm>
                <a:off x="4790160" y="4173840"/>
                <a:ext cx="10677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овед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2" name="Group 11"/>
              <p:cNvGrpSpPr/>
              <p:nvPr/>
            </p:nvGrpSpPr>
            <p:grpSpPr>
              <a:xfrm>
                <a:off x="7090200" y="4829400"/>
                <a:ext cx="1267560" cy="609480"/>
                <a:chOff x="7090200" y="4829400"/>
                <a:chExt cx="1267560" cy="609480"/>
              </a:xfrm>
            </p:grpSpPr>
            <p:sp>
              <p:nvSpPr>
                <p:cNvPr id="403" name="Oval 12"/>
                <p:cNvSpPr/>
                <p:nvPr/>
              </p:nvSpPr>
              <p:spPr>
                <a:xfrm>
                  <a:off x="7090200" y="4829400"/>
                  <a:ext cx="1267560" cy="609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 Box 13"/>
                <p:cNvSpPr/>
                <p:nvPr/>
              </p:nvSpPr>
              <p:spPr>
                <a:xfrm>
                  <a:off x="7256880" y="5000760"/>
                  <a:ext cx="94500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</a:rPr>
                    <a:t>действия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Oval 14"/>
              <p:cNvSpPr/>
              <p:nvPr/>
            </p:nvSpPr>
            <p:spPr>
              <a:xfrm>
                <a:off x="4689360" y="5938920"/>
                <a:ext cx="126756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15"/>
              <p:cNvSpPr/>
              <p:nvPr/>
            </p:nvSpPr>
            <p:spPr>
              <a:xfrm>
                <a:off x="4844880" y="6091200"/>
                <a:ext cx="101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состоя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6"/>
              <p:cNvSpPr/>
              <p:nvPr/>
            </p:nvSpPr>
            <p:spPr>
              <a:xfrm flipV="1">
                <a:off x="5277240" y="4610160"/>
                <a:ext cx="0" cy="2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17"/>
              <p:cNvSpPr/>
              <p:nvPr/>
            </p:nvSpPr>
            <p:spPr>
              <a:xfrm flipH="1">
                <a:off x="3597840" y="5248440"/>
                <a:ext cx="85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18"/>
              <p:cNvSpPr/>
              <p:nvPr/>
            </p:nvSpPr>
            <p:spPr>
              <a:xfrm>
                <a:off x="6189120" y="5210280"/>
                <a:ext cx="90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9"/>
              <p:cNvSpPr/>
              <p:nvPr/>
            </p:nvSpPr>
            <p:spPr>
              <a:xfrm>
                <a:off x="5299560" y="5581800"/>
                <a:ext cx="0" cy="35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0"/>
              <p:cNvSpPr/>
              <p:nvPr/>
            </p:nvSpPr>
            <p:spPr>
              <a:xfrm>
                <a:off x="7145640" y="423864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21"/>
              <p:cNvSpPr/>
              <p:nvPr/>
            </p:nvSpPr>
            <p:spPr>
              <a:xfrm>
                <a:off x="7212600" y="569628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22"/>
              <p:cNvSpPr/>
              <p:nvPr/>
            </p:nvSpPr>
            <p:spPr>
              <a:xfrm>
                <a:off x="1428840" y="5772600"/>
                <a:ext cx="1179000" cy="371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23"/>
              <p:cNvSpPr/>
              <p:nvPr/>
            </p:nvSpPr>
            <p:spPr>
              <a:xfrm>
                <a:off x="3186000" y="580104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24"/>
            <p:cNvSpPr/>
            <p:nvPr/>
          </p:nvSpPr>
          <p:spPr>
            <a:xfrm>
              <a:off x="3330720" y="5858280"/>
              <a:ext cx="9118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зна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540080" y="5829480"/>
              <a:ext cx="989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величи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6"/>
            <p:cNvSpPr/>
            <p:nvPr/>
          </p:nvSpPr>
          <p:spPr>
            <a:xfrm>
              <a:off x="7234560" y="4267080"/>
              <a:ext cx="989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ак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7301520" y="5743800"/>
              <a:ext cx="10900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пасс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8"/>
            <p:cNvSpPr/>
            <p:nvPr/>
          </p:nvSpPr>
          <p:spPr>
            <a:xfrm flipH="1">
              <a:off x="2229120" y="5572440"/>
              <a:ext cx="38916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9"/>
            <p:cNvSpPr/>
            <p:nvPr/>
          </p:nvSpPr>
          <p:spPr>
            <a:xfrm>
              <a:off x="3319560" y="5543640"/>
              <a:ext cx="3780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0"/>
            <p:cNvSpPr/>
            <p:nvPr/>
          </p:nvSpPr>
          <p:spPr>
            <a:xfrm flipV="1">
              <a:off x="7735320" y="460080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1"/>
            <p:cNvSpPr/>
            <p:nvPr/>
          </p:nvSpPr>
          <p:spPr>
            <a:xfrm>
              <a:off x="7757640" y="544860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Picture 3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39800" cy="22860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28760" y="16426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несите недостающие надписи в схем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Organization Chart 3"/>
          <p:cNvGrpSpPr/>
          <p:nvPr/>
        </p:nvGrpSpPr>
        <p:grpSpPr>
          <a:xfrm>
            <a:off x="1428840" y="2500200"/>
            <a:ext cx="6429240" cy="2571480"/>
            <a:chOff x="1428840" y="2500200"/>
            <a:chExt cx="6429240" cy="2571480"/>
          </a:xfrm>
        </p:grpSpPr>
        <p:cxnSp>
          <p:nvCxnSpPr>
            <p:cNvPr id="429" name="_s1028"/>
            <p:cNvCxnSpPr>
              <a:stCxn id="430" idx="0"/>
              <a:endCxn id="431" idx="2"/>
            </p:cNvCxnSpPr>
            <p:nvPr/>
          </p:nvCxnSpPr>
          <p:spPr>
            <a:xfrm flipV="1" rot="16200000">
              <a:off x="5668200" y="2536200"/>
              <a:ext cx="450720" cy="25005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2" name="_s1029"/>
            <p:cNvCxnSpPr>
              <a:stCxn id="433" idx="0"/>
              <a:endCxn id="431" idx="2"/>
            </p:cNvCxnSpPr>
            <p:nvPr/>
          </p:nvCxnSpPr>
          <p:spPr>
            <a:xfrm flipV="1" rot="16200000">
              <a:off x="4834440" y="3369960"/>
              <a:ext cx="450720" cy="8334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4" name="_s1030"/>
            <p:cNvCxnSpPr>
              <a:stCxn id="435" idx="0"/>
              <a:endCxn id="431" idx="2"/>
            </p:cNvCxnSpPr>
            <p:nvPr/>
          </p:nvCxnSpPr>
          <p:spPr>
            <a:xfrm flipH="1" flipV="1" rot="5400000">
              <a:off x="4001400" y="3369600"/>
              <a:ext cx="450720" cy="8341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6" name="_s1031"/>
            <p:cNvCxnSpPr>
              <a:stCxn id="437" idx="0"/>
              <a:endCxn id="431" idx="2"/>
            </p:cNvCxnSpPr>
            <p:nvPr/>
          </p:nvCxnSpPr>
          <p:spPr>
            <a:xfrm flipH="1" flipV="1" rot="5400000">
              <a:off x="3167640" y="2536200"/>
              <a:ext cx="450720" cy="25009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31" name="_s1032"/>
            <p:cNvSpPr/>
            <p:nvPr/>
          </p:nvSpPr>
          <p:spPr>
            <a:xfrm>
              <a:off x="3928680" y="250020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и объек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3"/>
            <p:cNvSpPr/>
            <p:nvPr/>
          </p:nvSpPr>
          <p:spPr>
            <a:xfrm>
              <a:off x="142884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4"/>
            <p:cNvSpPr/>
            <p:nvPr/>
          </p:nvSpPr>
          <p:spPr>
            <a:xfrm>
              <a:off x="309564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5"/>
            <p:cNvSpPr/>
            <p:nvPr/>
          </p:nvSpPr>
          <p:spPr>
            <a:xfrm>
              <a:off x="476280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6"/>
            <p:cNvSpPr/>
            <p:nvPr/>
          </p:nvSpPr>
          <p:spPr>
            <a:xfrm>
              <a:off x="6429960" y="4043160"/>
              <a:ext cx="142812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2876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оанализируйте текст, выделите в нем ключевые слова и постройте кластер, визуализирующий основные положения изучаемого материал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ерсональный компьютер является частью системы «человек – компьютер». Средства, обеспечивающие взаимосвязь между объектами этой системы, называют интерфейсом. Различают аппаратный, программный, аппаратно-программный и пользовательский интерфейс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ый интерфейс — взаимодействие между устройствами компьютера; обеспечивается производителями этого оборудова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рограммный интерфейс — взаимодействие (совместимость) программ между собой, а также программного обеспечения и информационных ресурсов; обеспечивается разработчиками программного обеспече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о-программный и пользовательский интерфейс обеспечивается операционной системой компью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о-программный интерфейс — взаимодействие аппаратного и программного обеспечения компью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ользовательский интерфейс — взаимодействие человека и компьютера. Пользовательский интерфейс на основе меню предлагает возможность выбора управляющей команды из меню (списка команд). В графическом интерфейсе компьютерные объекты представляются небольшими рисунками (значками). Нужный значок выбирают с помощью мыши. Кроме значков используются также тексты (для подсказок) и меню (для выбора команд). Трехмерный интерфейс позволяет осуществлять навигацию в трехмерном компьютерном пространстве. Указав мышью на дверь виртуального музея, можно в него войти. В виртуальном зале можно оглядеться, подойти к любой картине и рассмотреть ее более подробно. Такой интерфейс имитирует реальный мир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2876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1. Какое понятие в представленном фрагменте является самым главным, ключевым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Интерфейс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2. Как располагают ключевое поняти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Ключевое понятие располагают в центральном овале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3. Какие понятия раскрывают смысл ключевого понятия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Это понятия: аппаратный интерфейс, программный интерфейс, аппаратно-программный интерфейс, пользовательский интерфейс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4. Как эти понятия мы разместим на схем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нятия, раскрывающие смысл ключевого, следует размещать в овалах второго уровн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5. Какое из понятий второго уровня детализировано в данном фрагмент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льзовательский интерфейс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6. Как мы на схеме отразим детализацию понятия «пользовательский интерфейс»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Соответствующую информацию разместим в овалах третьего уровн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4:57:46Z</dcterms:created>
  <dc:creator>Владелец</dc:creator>
  <dc:description/>
  <dc:language>en-US</dc:language>
  <cp:lastModifiedBy>LEGION</cp:lastModifiedBy>
  <dcterms:modified xsi:type="dcterms:W3CDTF">2015-04-01T07:43:30Z</dcterms:modified>
  <cp:revision>25</cp:revision>
  <dc:subject/>
  <dc:title>Графические способы представления учебной информации</dc:title>
</cp:coreProperties>
</file>