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wmf" ContentType="image/x-wmf"/>
  <Override PartName="/ppt/media/image8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5D9F-B70B-41EA-AD8D-778722C5E9AC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сновы информатики и программ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1 курс экономический факульт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2299-84F9-4F99-8E0B-A55B714FA41C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Разделы кур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OC Wind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Текстовый процессор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Табличный процессор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СУБД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Ac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ограммирование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VB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езентации в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Power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6063-7935-4B65-BEA2-9AE907579386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alibri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1.1. Основные принципы работы в </a:t>
            </a:r>
            <a:r>
              <a:rPr b="0" lang="en-US" sz="1200" spc="-1" strike="noStrike">
                <a:solidFill>
                  <a:srgbClr val="00ff00"/>
                </a:solidFill>
                <a:latin typeface="Calibri"/>
              </a:rPr>
              <a:t>Windows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 (окна, прилож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1.2. Работа с файлами и папками (проводник, мой компьютер, корзин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20DB-3914-49FB-9CD4-134F2E60E894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W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абл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лия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п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826C-A4DB-407C-BEBC-7E6AC352736C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alibri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иалоговые  ок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п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онсолид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3C0C-5974-4B16-970A-D69E55C8959B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№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4-1. Создание баз дан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№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4-2.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«ЗАПРОС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125B-A4AA-42EA-9621-718B20C6BD1C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VBA</a:t>
            </a:r>
            <a:br>
              <a:rPr sz="18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№5_1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зработка  функций для реализации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нейных и разветвляющихся  алгоритм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0270-724A-4B78-BAEF-52B915D151CD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Power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6_1.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Создание презентации по курсу "Основы информатики и программирования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4F96-A05D-447C-BAD1-976A82322C87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ccff"/>
                </a:solidFill>
                <a:latin typeface="Calibri"/>
              </a:rPr>
              <a:t>Об авто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66ff"/>
                </a:solidFill>
                <a:latin typeface="Calibri"/>
              </a:rPr>
              <a:t>Кардаш Татьяна </a:t>
            </a: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И</a:t>
            </a:r>
            <a:r>
              <a:rPr b="0" lang="be-BY" sz="1200" spc="-1" strike="noStrike">
                <a:solidFill>
                  <a:srgbClr val="0066ff"/>
                </a:solidFill>
                <a:latin typeface="Calibri"/>
              </a:rPr>
              <a:t>ван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87EB-0665-4AB3-9094-D2CD3C81360E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2E0F-5EED-4D66-871D-B6F2FFF5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FD10-3D70-4E84-ABD4-50EAAF6E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8138-AC3F-48FA-A0B5-44EB4CA5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BCFB-6DD1-44E3-904D-B159C8D2E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3A83-B01E-4618-BB6B-25688E24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FA39-C30F-4DAD-944F-9C008D5D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EDB3-32F0-4A65-AC7E-E360DE97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9376-8ECB-416E-960D-A945344D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4ED9-C65B-435E-BE00-48C1F705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795A-395E-40FB-9B27-1CB0AC0A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668D-8C9E-496B-A3B0-304D17D3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B44F-8DA0-42E4-8149-B869BE2A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89D6-8531-44E2-9AFE-8982E96DA6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ffff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Основы информатики и программиров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ffff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1 курс экономический факульт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2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Arial"/>
              </a:rPr>
              <a:t>Разделы курс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OC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Текстовый процессор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W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Табличный процессор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Exc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СУБД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A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Программирование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V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Презентации в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1000">
    <p:cover dir="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75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00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Arial"/>
              </a:rPr>
              <a:t>Window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1.1. Основные принципы работы в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Windows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 (окна, прилож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1.2. Работа с файлами и папками (проводник, мой компьютер, корзи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2000">
    <p:strips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Wor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Слия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Спи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connected_multiple_big"/>
          <p:cNvPicPr/>
          <p:nvPr/>
        </p:nvPicPr>
        <p:blipFill>
          <a:blip r:embed="rId1"/>
          <a:stretch/>
        </p:blipFill>
        <p:spPr>
          <a:xfrm>
            <a:off x="5003640" y="2133720"/>
            <a:ext cx="1155960" cy="136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Object 8"/>
          <p:cNvGraphicFramePr/>
          <p:nvPr/>
        </p:nvGraphicFramePr>
        <p:xfrm>
          <a:off x="4859280" y="3645000"/>
          <a:ext cx="4038480" cy="2601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3645000"/>
                    <a:ext cx="4038480" cy="26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1000">
    <p:pull dir="u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75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75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75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7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7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Arial"/>
              </a:rPr>
              <a:t>Exc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Диалоговые  ок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пи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онсолид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6"/>
          <p:cNvGraphicFramePr/>
          <p:nvPr/>
        </p:nvGraphicFramePr>
        <p:xfrm>
          <a:off x="4651200" y="1600200"/>
          <a:ext cx="4032360" cy="452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51200" y="1600200"/>
                    <a:ext cx="4032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3000">
    <p:wipe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3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3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3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cc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№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4-1. Создание баз да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№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4-2.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«ЗАПРОСЫ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9"/>
          <p:cNvGraphicFramePr/>
          <p:nvPr/>
        </p:nvGraphicFramePr>
        <p:xfrm>
          <a:off x="458640" y="2516040"/>
          <a:ext cx="403560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2516040"/>
                    <a:ext cx="403560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3000"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7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7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VBA</a:t>
            </a:r>
            <a:br>
              <a:rPr sz="54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№5_1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азработка  функций для реализации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инейных и разветвляющихся  алгоритм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1187280" y="3789360"/>
            <a:ext cx="6821640" cy="25653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3000">
    <p:wipe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Power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6_1.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 Создание презентации по курсу "Основы информатики и программирования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12"/>
          <p:cNvPicPr/>
          <p:nvPr/>
        </p:nvPicPr>
        <p:blipFill>
          <a:blip r:embed="rId2"/>
          <a:stretch/>
        </p:blipFill>
        <p:spPr>
          <a:xfrm>
            <a:off x="5508720" y="1557360"/>
            <a:ext cx="3319200" cy="3816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3473640" y="5916600"/>
            <a:ext cx="1183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3300"/>
                </a:solidFill>
                <a:latin typeface="Arial"/>
              </a:rPr>
              <a:t>Конец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3000">
    <p:zoom dir="in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7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7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75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75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6000" spc="-1" strike="noStrike">
                <a:solidFill>
                  <a:srgbClr val="00ccff"/>
                </a:solidFill>
                <a:latin typeface="Arial"/>
              </a:rPr>
              <a:t>Об автор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66ff"/>
                </a:solidFill>
                <a:latin typeface="Arial"/>
              </a:rPr>
              <a:t>Кардаш Татьяна </a:t>
            </a: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И</a:t>
            </a:r>
            <a:r>
              <a:rPr b="0" lang="be-BY" sz="3200" spc="-1" strike="noStrike">
                <a:solidFill>
                  <a:srgbClr val="0066ff"/>
                </a:solidFill>
                <a:latin typeface="Arial"/>
              </a:rPr>
              <a:t>ван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i"/>
          <p:cNvPicPr/>
          <p:nvPr/>
        </p:nvPicPr>
        <p:blipFill>
          <a:blip r:embed="rId1"/>
          <a:stretch/>
        </p:blipFill>
        <p:spPr>
          <a:xfrm>
            <a:off x="971640" y="1628640"/>
            <a:ext cx="2585880" cy="25862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16:37:39Z</dcterms:created>
  <dc:creator>Owner</dc:creator>
  <dc:description/>
  <dc:language>en-US</dc:language>
  <cp:lastModifiedBy>LEGION</cp:lastModifiedBy>
  <dcterms:modified xsi:type="dcterms:W3CDTF">2015-04-01T07:43:49Z</dcterms:modified>
  <cp:revision>11</cp:revision>
  <dc:subject/>
  <dc:title>Основы информатики и программирования</dc:title>
</cp:coreProperties>
</file>