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8771-E515-48B5-9D3F-291C02E32D32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сновы информатики и программ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1 курс экономический факульт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0E32-F0A0-40E8-8859-169451FF170F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Разделы кур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OC 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екстовый процессор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абличный процессор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УБД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ограммирование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V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зентации в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AE72-D24B-493C-94F1-086DE345FB38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alibri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1.1. Основные принципы работы в </a:t>
            </a:r>
            <a:r>
              <a:rPr b="0" lang="en-US" sz="1200" spc="-1" strike="noStrike">
                <a:solidFill>
                  <a:srgbClr val="00ff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(окна, при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1.2. Работа с файлами и папками (проводник, мой компьютер, корзи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CEB4-4FBE-4C4F-94A8-9ECEABDB70F5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лия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AED2-5B00-4A8D-B37C-4D2F2624C697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иалоговые  ок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нсолид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00C2-C179-4921-961B-901E74C65475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4-1. Создание баз да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4-2.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ЗАПРОС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D84A-4A42-464F-9788-81408161556E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VBA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№5_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работка  функций для реализации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нейных и разветвляющихся 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35CE-211B-424C-AC5C-200AA2D233CB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ower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6_1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Создание презентации по курсу "Основы информатики и программирован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5314-53BE-4484-8998-A008DDB55D07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ccff"/>
                </a:solidFill>
                <a:latin typeface="Calibri"/>
              </a:rPr>
              <a:t>Об авто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66ff"/>
                </a:solidFill>
                <a:latin typeface="Calibri"/>
              </a:rPr>
              <a:t>Кардаш Татьяна </a:t>
            </a: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И</a:t>
            </a:r>
            <a:r>
              <a:rPr b="0" lang="be-BY" sz="1200" spc="-1" strike="noStrike">
                <a:solidFill>
                  <a:srgbClr val="0066ff"/>
                </a:solidFill>
                <a:latin typeface="Calibri"/>
              </a:rPr>
              <a:t>ван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6436-C966-4188-9104-470DB64C2773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DDE5-E769-4DF3-9757-315D7ABF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BCF-9234-49CF-97E8-03F1D5CB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70A-14D1-4DDF-A25E-22E6FB87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92B-D385-4346-A73B-81C51524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65C4-E712-4A3B-9415-016D8585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41B-C4C4-45EB-B4E0-7733CFFB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8F0-8745-413C-AD52-42908C63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A566-E718-4F01-B39B-CA798917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D35-9966-444E-86E7-9BDEC49A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980A-4C1D-4195-BF63-27D2A691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730-C4CA-4182-BA25-01B1D68C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D13-C122-4F26-8EF0-B2FA186D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7150-AD95-4926-A67F-4069C1BC00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Основы информатики и программир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ffff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1 курс экономический факульт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2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Arial"/>
              </a:rPr>
              <a:t>Разделы кур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OC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кстовый процессор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абличный процессор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xc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СУБД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рограммирование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V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резентации в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1000"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0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Window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1.1. Основные принципы работы в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(окна, прилож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1.2. Работа с файлами и папками (проводник, мой компьютер, корз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2000"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Wor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Сли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Спи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connected_multiple_big"/>
          <p:cNvPicPr/>
          <p:nvPr/>
        </p:nvPicPr>
        <p:blipFill>
          <a:blip r:embed="rId1"/>
          <a:stretch/>
        </p:blipFill>
        <p:spPr>
          <a:xfrm>
            <a:off x="5003640" y="2133720"/>
            <a:ext cx="1155960" cy="13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8"/>
          <p:cNvGraphicFramePr/>
          <p:nvPr/>
        </p:nvGraphicFramePr>
        <p:xfrm>
          <a:off x="4859280" y="3645000"/>
          <a:ext cx="4038480" cy="2601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3645000"/>
                    <a:ext cx="4038480" cy="26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1000">
    <p:pull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75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75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Exc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иалоговые  о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п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онсолид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4651200" y="1600200"/>
          <a:ext cx="403236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3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3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3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c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-1. Создание баз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-2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«ЗАПРОС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9"/>
          <p:cNvGraphicFramePr/>
          <p:nvPr/>
        </p:nvGraphicFramePr>
        <p:xfrm>
          <a:off x="458640" y="2516040"/>
          <a:ext cx="40356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2516040"/>
                    <a:ext cx="40356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VBA</a:t>
            </a:r>
            <a:br>
              <a:rPr sz="54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№5_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работка  функций для реализаци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инейных и разветвляющихся  алгоритм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187280" y="3789360"/>
            <a:ext cx="6821640" cy="2565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wipe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6_1.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Создание презентации по курсу "Основы информатики и программирования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12"/>
          <p:cNvPicPr/>
          <p:nvPr/>
        </p:nvPicPr>
        <p:blipFill>
          <a:blip r:embed="rId2"/>
          <a:stretch/>
        </p:blipFill>
        <p:spPr>
          <a:xfrm>
            <a:off x="5508720" y="1557360"/>
            <a:ext cx="3319200" cy="3816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473640" y="5916600"/>
            <a:ext cx="1183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3300"/>
                </a:solidFill>
                <a:latin typeface="Arial"/>
              </a:rPr>
              <a:t>Конец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zoom dir="in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00ccff"/>
                </a:solidFill>
                <a:latin typeface="Arial"/>
              </a:rPr>
              <a:t>Об автор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66ff"/>
                </a:solidFill>
                <a:latin typeface="Arial"/>
              </a:rPr>
              <a:t>Кардаш Татьяна 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r>
              <a:rPr b="0" lang="be-BY" sz="3200" spc="-1" strike="noStrike">
                <a:solidFill>
                  <a:srgbClr val="0066ff"/>
                </a:solidFill>
                <a:latin typeface="Arial"/>
              </a:rPr>
              <a:t>ва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i"/>
          <p:cNvPicPr/>
          <p:nvPr/>
        </p:nvPicPr>
        <p:blipFill>
          <a:blip r:embed="rId1"/>
          <a:stretch/>
        </p:blipFill>
        <p:spPr>
          <a:xfrm>
            <a:off x="971640" y="1628640"/>
            <a:ext cx="2585880" cy="25862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16:37:39Z</dcterms:created>
  <dc:creator>Owner</dc:creator>
  <dc:description/>
  <dc:language>en-US</dc:language>
  <cp:lastModifiedBy>LEGION</cp:lastModifiedBy>
  <dcterms:modified xsi:type="dcterms:W3CDTF">2015-04-01T07:43:49Z</dcterms:modified>
  <cp:revision>11</cp:revision>
  <dc:subject/>
  <dc:title>Основы информатики и программирования</dc:title>
</cp:coreProperties>
</file>