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2FEC-CCE0-44AF-A642-ABD4BFCF98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ложения инструктивно – методического письма « О преподавании предмета «Информатика и ИКТ»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 общеобразовательных учрежде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городской обл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2010 -2011 уч. год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F025-2FE3-4B22-B60A-0B36A5ADFA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редмета «Информатика и ИКТ» в общеобразовательных учреждениях Белгородской области в 2010-2011 учебном году осуществляется (согласно ГОС – 2004 г. и областного БУП-2006) следующими этап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в 3-4 классах «Информатика и ИКТ» может изучаться в качестве модуля в рамках предмета «Технология»[1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 качестве самостоятельного учебного предмета «Информатика и ИКТ» изучается в 8 и 9 кла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 10–11 классах предмет "Информатика и ИКТ" может быть представлен на двух уровнях: базовом или профильн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] 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ча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AC81-CD5A-4487-A919-359CE49C3A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елгородской области рекомендуется в начальной школе учебный предмет «Информатика и ИКТ» изучать в III-IV классах в качестве учебного модуля в рамках учебного предмета «Технология (Труд)»  с целью обеспечить всеобщую компьютерную грамотность. Согласно примерной программе начального общего образования по технологии (труд) модуль называется «Практика работы на компьютере» и на его изучение рекомендовано 20-25 часов. К этому времени можно прибавить 10% резервного времени предмета «Технология» и получится 35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ассном журнале все записи по изучению модуля производятся на странице предмета «Технология» и выставлением оценки по предмету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условии выполнения программы по предмету «Технология» за 1 ч. в 3 кл., и 1 ч. в 4 кл.,  общеобразовательное учреждение может организовать изучение предмета «Информатика и ИКТ» по 1 часу в неделю в 3 классе и по 1 часу в неделю в 4 классе как самостоятельный предмет (за счет часов предмета Технология),  с отдельной страницей в журнале и выставлением оценки за год по предмету «Информатика и ИК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CC6D-44AC-437A-9FE3-33EE98B0F1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остоятельный учебный предмет федерального компонента государственного стандарта общего образования, областного базисного учебного плана «Информатика и ИКТ» изучается в 8 классе по 1 часу в неделю и в 9 классе – по 2 часа в неделю. Всего за два года обучения в основной школе – 105 часов. В 9 классе в системе предпрофильной подготовки возможно расширить границы предмета за счет элективных курсов по выбору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компонент государственного стандарта общего образования не предусматривает изучение «Информатики и ИКТ» в 5-7 классах, но за счет компонента образовательного учреждения возможно изучать этот предмет в 5, 6, 7 классе. Это позволит реализовать непрерывный курс информатик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прерывного изучения предмета «Информатика и ИКТ» общеобразовательные учреждения должны при составлении учебных планов учитывать выделение часов на изучение предмета при переходе одного класса в другой из года в год т.е., если 5 класс в  2008-2009 учебном году изучал предмет «Информатика и ИКТ», следовательно, в 2009-2010 учебном году этот класс уже став 6,  также должен изучать предмет «Информатика и ИКТ», а в 2010-2011 учебном году,  перейдя из 6 класса в 7 класс, учащиеся  продолжают обучение инфор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ED4D-D4F6-4F46-9D59-4F6FA4D982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тарш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шей школе вводится профильное обучение. Каждое общеобразовательное учреждение реализует свой профиль или несколько  профильных направлений. В выбравших профилях предмет «Информатика и ИКТ» может быть представлен на одном из двух уровней – базовом или профильн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е информатики и ИКТ н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фильном уровн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уществляется в 10-11 классах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ко-математического и информационно-технологического профи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где учебный предмет «Информатика и ИКТ» является одним из профильных предметов. Преподается предмет «Информатика и ИКТ» из расчета 4 часа в неделю, всего - 280 ч. за два года обучения. Это означает, что обучение информатике и информационным технологиям осуществляется на повышенном уров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редмета на профильном уровне  может быть расширено за счет часов, отводимых на элективные кур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D988-7853-4B37-AC89-1DCB44E0DE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ор учебников в условиях перехода на ОС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сложилась следующая ситуация: в нормативных документах (государственный образовательный стандарт по информатике, примерные программы по информатике) не указывается название изучаемых операционных систем и прикладных программ, а в авторских программах и содержании учебников рассматривается изучение содержания информатики на примере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е прикладных программ. На территории Российской Федерации в общеобразовательных учреждениях лицензия по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анчивается 31 декабря 2010 г.  С 1 января 2011 года реализуется  переход на операционную систем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учителям информатики и ИКТ при выборе учебников необходимо учесть, что все представленные УМК в Федеральном перечне ориентированы на изучение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е прикладные программы. Из всех УМК в учебнике автора Угриновича Н.Д. есть практикум для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язи с этим учителям информатики и ИК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стоятельно адаптирова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теоретических сведений (в сравнении двух операционных систем) и практических работ по изучаемым темам с учетом используемого программного обеспечения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ложение №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работая по выбранной ранее авторской ли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ики переиздаваться в ближайшее время не буд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мощь учителям информатики рекомендуется с сайта ПСПО для учреждений России по ссылке http://linux.armd.ru/ru/documentation/metod/#2 скачать учебные пособия, оформленные как  практические руководства  по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е прикладным программ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6C3A-1DAD-403B-8988-1FB09707B9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абочим программам относятся: программы по учебным предметам; программы элективных курсов; программы факультативных курсов; дополнительных образовательных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абочих программ учебных курсов, предметов, дисциплин (модулей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ходит в компетенцию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. 2. ст. 32 Закона РФ «Об образовании»).  Рабочая программ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абатывается педаго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группой педагогов и проходит экспертизу на уровне общеобразовательного учреждения. Общеобразовательное учреждение несет ответственность за качество реализуемых рабочих програ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чая программа обновляется ежего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ю разработки Рабочей программы является сохранение единого образовательного пространства учреждения и предоставление широких возможностей для реализации различных технологий, подходов к построению учебного курса, предмета, дисциплины (модул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программ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ляются на основ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. 28 Закона РФ «Об образовании»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х программ по отдельным учебным предметам общего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х программ по отдельным учебным предметам общего образования и авторских программ к линиям учебников, входящих в федеральный перечень УМК, рекомендованных Минобразования РФ к использованию в образовательном процес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х программ по отдельным учебным предметам общего образования и материалам авторского учебно-методического комплекса (при отсутствии соответствующих авторских программ к линии учебников, имеющихся в федеральном перечн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165A-C96D-449C-9B6D-BEE78EB51E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ж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сти изменения в составляемую рабочую программ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более чем на 20 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вышеназванных программ. Например, определять новый порядок изучения материала, изменять количество часов, вносить изменения в содержание изучаемой темы, дополнять требования к уровню подготовк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й минимум содержания каждой Рабочей программы устанавливается в соответствии с примерной образовательной программой и государственным образовательным стандар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часов, отводимых на освоение Рабочей программы, должно соответствовать Базисному учебному плану общеобразовательных учреждений Российской Федерации, утвержденному приказом Минобразования РФ № 1312 от 09.03.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ая примерная структура Рабочей программы включает следующие компон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итульный лис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яснительная зап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требования к уровню подготовки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лендарно-тематическое планирование (учебно-тематический пла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держание программы учебного предмета, курса, дисциплины (модул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формы и средства контро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еречень учебно-методических средств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EC00-00AB-4082-8E9A-8C5A9C949A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формление рабоче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итульный ли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бочей программы должен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именование образовательного учреж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иф утверждения и согласования программы (таблица №1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вание учебного курса, предмета, дисциплины (модул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.И.О. педагога, разработавшего и реализующего учебный курс, предмет, дисциплину (модул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ласс (параллель), в котором изучается учебный курс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мет, курс, дисциплина (модул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од составления пр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5E59-DD32-469A-B005-B207502DC9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тексте пояснительной запис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Рабочей программе указыва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вание, автор и год издания предметной учебной программы (примерной, авторской), на основе которой разработана Рабочая программ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ели и задачи данной программы обучения в области формирования системы знаний, умений[1]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ения, внесенные в примерную (типовую) и авторскую учебную программу и их обоснов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вание учебно-методического комплекта (учебник, рабочая тетрадь, тетрадь для контрольных работ, атлас, контурная карта и др. согласно перечню учебников, утвержденных приказом Минобрнауки РФ), используемого для достижения поставленной цели в соответствии с образовательной программой учреждения[2]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личество учебных часов, на которое рассчитана Рабочая программа, в т.ч. количество часов для проведения контрольных, лабораторных, практических работ, экскурсий, проектов исследов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] Задачи формулируются в соответствии с ФГОС и с учетом особенностей общеобразовательного учре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2] Учебники, рабочие тетради, пособия, входящие в учебно-методический комплект, обозначаются с указанием их названия, класса, ФИО автора, издательства, года из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4570-F115-4F09-B83E-1798E58D22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ы организации учебного процесса и их сочетание, а также преобладающие формы текущего контроля знаний, умений, навыков (в соответствии с Положением о текущем контроле учащихся в образовательном учреждении), промежуточной и итоговой аттестации учащихся (в соответствии с соответствующими Положения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 структуры Рабочей программы 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учащих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ся, если авторская учебная программа отсутствует, а Рабочая программа составлена на основе примерной (типовой) учебной программы и авторскому учебно-методическому комплек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 «Требования к уровню подготовки учащихся»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описание целей-результатов обучения, выраженных в действиях учащихся (операциональных) и реально опознаваемых с помощью диагностических инструментов. Данный перечень целей-результатов обучения включает специальные предметные и общие учебные умения и способы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учащихся, прописанные в Рабочей программе, должны соответствовать требованиям, сформулированных в федеральном государственном стандарте общего образования и примерной (типовой) учебной программе (Закон РФ «Об образовании» ст. 12, 13, 15, 3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C1D0-63E3-4158-80AC-A0228A9A34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е документы, регламентирующие деятельность учителя – предмет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стандартов второго поколения по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 – методическое обеспечение и контроль по предмету в 2010-2011 учебном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ставлению рабочих программ учебных курсов, предметов, дисциплин (модулей) обще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ставлению КТП с учетом подготовки к ГИА и ЕГ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обязательного оборудования, необходимого для реализации общеобразовательных программ на базовом и профильном уровнях по предметам инвариантной части учебного плана (по ступеням обу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ведению записей в классных журнал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подготовке школьников к олимпиадам и конк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0480-6023-4D5F-A0D2-C806C4A737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лендарно-тематический пл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формляется в виде таблицы на весь срок обучения (таблица 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9B45-B8AC-47B2-8A62-C4A5488744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держание учебного кур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дмета, дисциплины (модуля) Рабочей программы включает краткое описание каждой темы (3-4 предложения). Изложение учебного материала в заданной последовательности предусматривает конкретизацию всех дидактических единиц содерж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й компонент Рабочей программы 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ормы и средства контроля»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материалы в виде тестовых, контрольных работ, вопросов для зачета и др. для оценки освоения школьниками содержания учебного материала. Количество контрольных работ определяется инструктивно-методическими документами о преподавании учебных предметов и дисциплин, принятыми на уровне реги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чень учебно-методических средств обучения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компонент Рабочей программы,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ую и дополнительную учебную литературу (учебники, учебные пособия, сборники упражнений и задач, контрольных заданий, тестов, практических работ и лабораторных практикумов, хрестомати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ые пособия (словари, справочники); наглядный материал (альбомы, атласы, карты, таблицы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 и приборы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оформляется в соответствии с ГОСТом: элементы описания каждого учебно-методического средства должны приводиться в алфавитном порядке и соответствовать требованиям к библиографическому опис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A449-9EAF-44C5-9939-363360F47E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 работы ГМ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2010-2011 уч.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тематических семинара по плану НМИЦ г. Бел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ая и перспективная работа с аттестующимися для адекватной оценки их дости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ая поддержка молодых уч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сохранению высокого уровня олимпиадного движения по информатике в го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и поддержка учителей информатики, имеющих лучшие показатели по результатам ГИА и ЕГЭ, распространение их опыта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нформационной базы по разделам сайта ГМО, развитие новых технологий взаимодействия пользователей городской Интрас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DC18-A5F4-40D1-877A-DB237BFB56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«Об образовании» от 10 июля 1992 года № 3266-1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образования Российской Федерации от 05 марта 2004 г.  № 1089 "Об утверждении федерального компонента государственных стандартов начального общего, основного общего и среднего (полного) общего образова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и примерные учебные планы для общеобразовательных учреждений РФ, реализующих программу общего образования (приказ Министерства образования Российской Федерации от 09.03.2004г. №131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образования и науки РФ от 20.08.2008 года № 241 «О внесении изменений в 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, утверждённые приказом Министерства образования Российской Федерации от 9 марта 2004 года № 1312 «Об утверждении федерального базисного учебного плана и примерных учебных планов для образовательных учреждений Российской Федерации, реализующих программы общего образов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FF9C-7CC1-44AC-9FD7-FE9B0C5085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начального общего образования по технологии (приказ Минобразования России «Об утверждении федерального компонента государственных стандартов начального общего, основного общего и среднего (полного) общего образования» от 5 марта 2004 г. № 108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основного общего образования по информатике и ИКТ (приложение из приказа Министерства образования Российской Федерации от 05 марта 2004 г. № 108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среднего (полного) общего образования по информатике и ИКТ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азовый урове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(приложение из приказа Министерства образования Российской Федерации от 05 марта 2004 г. № 1089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среднего (полного) общего образования по информатике и ИКТ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фильный урове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(приложение из приказа Министерства образования Российской Федерации от 05 марта 2004 г. № 108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начального общего образования по технологии (тру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основного общего образования по информатике и ИК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среднего (полного) общего образования по информатике и ИКТ (базовый уровен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среднего (полного) общего образования по информатике и ИКТ  (профильный уровен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498F-BCBF-42DA-80A6-2518881508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перечень учебников на 2010-2011 учебный год (Приказ Министерства образования и науки Российской Федерации от «23 » декабря 2009 г. № 822  г. Москва "Об утверждении федеральных перечней учебников, рекомендованных (допущенных) к использованию в образовательном процессе в образовательных учреждениях, реализующих образовательные программы общего образования и имеющих государственную аккредитацию, на 2010/2011 учебный год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 Министерства образования и науки РФ от 09 ноября 2009 г. № 03-2235 «Об использовании учебников разных лет выпус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областного экспертного совета Департамента образования, культуры и молодежной политики Белгородской области по вопросам научно-методического обеспечения образовательного процесса и инновационной деятельности в сфере образования от 9 февраля 2010 года «Об итогах экспертизы учебно-методических комплексов по общеобразовательным предметам и рекомендуемом перечне на 2010-2011 учебный го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45A4-EEF0-4BF4-9DF7-E72CCB9ABC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Департамента образования, культуры и молодёжной политики Белгородской области от 13.05.2010 г. №9-06/2729-ВА «Об использовании БУП в общеобразовательных учреждений области в 2010-2011 учебном год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Департамента образования, культуры и молодёжной политики Белгородской области от 23.03.2010 г. № 819 «Об утверждении положения 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й программе учебных курсов, предметов, дисциплин (модулей) общеобразовательного учреж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вное письмо Департамента образования, культуры и молодёжной    политики   Белгородской    области  от  13.05.2009 г. № 9-06/1674-ВА  «О реализации программ  углублённого уровня в общеобразовательных учреждениях обла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 Департамента образования, культуры и молодежной политики Белгородской области от 27 февраля 2009 года № 9-06/547-ИВ «Об использовании в работе инструктивно-методического письма по ведению классных журнал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вное письмо Департамента образования, культуры и молодёжной политики Белгородской области от  05.05.2008г. № 9-06/1847-ЛИ «Об организации начальной профессиональной подготовки в условиях реализации универсального и профильного обуче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7663-9326-49D4-AB24-08D0CFFB54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стандарты общего образования разрабатываются Министерством образования и науки Российской Федерации не реже чем раз в 10 лет.  В 2012 году на территории РФ вступят в силу новые стандар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ое отличие  нового образовательного стандарта от предшествующих разработок заключается в том, что суть его идеологии составляет  переход от минимизационного подхода к конструированию образовательного пространства на основе принципа фундаментальност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ундаментальным ядром по предмету «Информатика» можно подробнее ознакомиться на сайте ФГОС по ссылке http://www.standart.edu.ru/catalog.aspx?CatalogId=82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C95A-9165-4968-A2D6-59922A6892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ткая характеристика стандартов второго поко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чальной школы по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 сентября 2010 года экспериментально некоторые образовательные учреждения начинают работу в начальной школе по стандартам втор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екте стандартов второго поколения информатика, как самостоятельный учебный предм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ьном звене не представле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проекту базисного учебного плана для образовательных учреждений РФ, реализующих основную образовательную программу начального общего образования: «Учебный курс «Информатика» в начальной школе изучается во 2–4 классах в качеств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ого модуля в рамках учебных предметов «Математика» и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грамме по предмету «Математика» четко не выделены часы и темы, связанные с информатикой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часов на изучение модуля по информатике в программе по «Технологии» так же не представл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49D4-6948-46DE-9896-8C6B91F7B0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ткая характеристика стандартов второго поко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сновной школы по информати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предложенному проекту БУП основной школы на сайте ФГОС  в основной школе на изучение предмета «Информатика и ИКТ» предусмотрено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7, 8, 9 классе  по 1 часу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вечерних (сменных) общеобразовательных учреждений Российской Федерации (основное общее образование, очная форма обучения) изучение предмета «Информатика и ИКТ» предполагает в 8 классе1 час в неделю, в 9 классе 1 час в недел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проекту ФГО стандарта основного общего образования, разработанного к апрелю 2010 года,  информатика включена в предметную область с названи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Математика и информатика» без четкого разграничения изучаемых тем по предм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A27A-F9BF-4AB6-88F0-4F7E6B6D03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87F-49C2-414C-BCA3-82AA37A0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F4E-5DD5-4A67-B0D7-39F1DE3A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5C7B-2474-42B2-9432-727B2455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188-419E-4318-A364-E45309CC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5C3C-D748-474C-854B-4B3F0BA8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FE5-F4AB-448A-9C25-A1399344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0D4B-85D1-43AF-9956-2BD10E9B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2FD6-A9AA-4FEE-A154-8C22748F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CC7E-415C-4632-BC45-A7BDD6C3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4CD8-6345-450B-977C-3E29941A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735D-33A3-4BED-AC63-457717F5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4307-D236-490A-BFA5-DAA07B75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3EC0-3A6D-496F-8D8E-5A4D8C57B5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du.ru/db/mo/Data/d_08/m379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andart.edu.ru/catalog.aspx?CatalogId=82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положения инструктивно – методического письма « О преподавании предмета «Информатика и ИКТ»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общеобразовательных учреждения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городской облас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 2010 -2011 уч. году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179280" y="18900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предмета «Информатика и ИКТ» в общеобразовательных учреждениях Белгородской области в 2010-2011 учебном году осуществляется (согласно ГОС – 2004 г. и областного БУП-2006) следующими этап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в 3-4 классах «Информатика и ИКТ» может изучаться в качестве модуля в рамках предмета «Технология»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 качестве самостоятельного учебного предмета «Информатика и ИКТ» изучается в 8 и 9 класс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в 10–11 классах предмет "Информатика и ИКТ" может быть представлен на двух уровнях: базовом или профильном.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[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4508640"/>
          <a:ext cx="8424720" cy="1096920"/>
        </p:xfrm>
        <a:graphic>
          <a:graphicData uri="http://schemas.openxmlformats.org/drawingml/2006/table">
            <a:tbl>
              <a:tblPr/>
              <a:tblGrid>
                <a:gridCol w="5956200"/>
                <a:gridCol w="1235160"/>
                <a:gridCol w="1233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 «Практика работы на компьютере» в рамках предмета «Технолог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25 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два года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4" name="Rectangle 41"/>
          <p:cNvSpPr/>
          <p:nvPr/>
        </p:nvSpPr>
        <p:spPr>
          <a:xfrm>
            <a:off x="399960" y="414972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ча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5"/>
          <p:cNvSpPr/>
          <p:nvPr/>
        </p:nvSpPr>
        <p:spPr>
          <a:xfrm>
            <a:off x="179280" y="5950080"/>
            <a:ext cx="89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404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городской области рекомендуется в начальной школе учебный предмет «Информатика и ИКТ» изучать в III-IV классах в качестве учебного модуля в рамках учебного предмета «Технология (Труд)»  с целью обеспечить всеобщую компьютерную грамотность. Согласно примерной программе начального общего образования по технологии (труд) модуль называется «Практика работы на компьютере» и на его изучение рекомендовано 20-25 часов. К этому времени можно прибавить 10% резервного времени предмета «Технология» и получится 35 ча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лассном журнале все записи по изучению модуля производятся на странице предмета «Технология» и выставлением оценки по предмету «Техн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словии выполнения программы по предмету «Технология» за 1 ч. в 3 кл., и 1 ч. в 4 кл.,  общеобразовательное учреждение может организовать изучение предмета «Информатика и ИКТ» по 1 часу в неделю в 3 классе и по 1 часу в неделю в 4 классе как самостоятельный предмет (за счет часов предмета Технология),  с отдельной страницей в журнале и выставлением оценки за год по предмету «Информатика и ИКТ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0"/>
            <a:ext cx="50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4"/>
          <p:cNvSpPr/>
          <p:nvPr/>
        </p:nvSpPr>
        <p:spPr>
          <a:xfrm>
            <a:off x="5424480" y="3575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50920" y="404640"/>
          <a:ext cx="6732360" cy="1204920"/>
        </p:xfrm>
        <a:graphic>
          <a:graphicData uri="http://schemas.openxmlformats.org/drawingml/2006/table">
            <a:tbl>
              <a:tblPr/>
              <a:tblGrid>
                <a:gridCol w="3306600"/>
                <a:gridCol w="687600"/>
                <a:gridCol w="687240"/>
                <a:gridCol w="684360"/>
                <a:gridCol w="684000"/>
                <a:gridCol w="68256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чет школьного компон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Text Box 106"/>
          <p:cNvSpPr/>
          <p:nvPr/>
        </p:nvSpPr>
        <p:spPr>
          <a:xfrm>
            <a:off x="0" y="1822320"/>
            <a:ext cx="89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амостоятельный учебный предмет федерального компонента государственного стандарта общего образования, областного базисного учебного плана «Информатика и ИКТ» изучается в 8 классе по 1 часу в неделю и в 9 классе – по 2 часа в неделю. Всего за два года обучения в основной школе – 105 часов. В 9 классе в системе предпрофильной подготовки возможно расширить границы предмета за счет элективных курсов по выбору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компонент государственного стандарта общего образования не предусматривает изучение «Информатики и ИКТ» в 5-7 классах, но за счет компонента образовательного учреждения возможно изучать этот предмет в 5, 6, 7 классе. Это позволит реализовать непрерывный курс информати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епрерывного изучения предмета «Информатика и ИКТ» общеобразовательные учреждения должны при составлении учебных планов учитывать выделение часов на изучение предмета при переходе одного класса в другой из года в год т.е., если 5 класс в  2008-2009 учебном году изучал предмет «Информатика и ИКТ», следовательно, в 2009-2010 учебном году этот класс уже став 6,  также должен изучать предмет «Информатика и ИКТ», а в 2010-2011 учебном году,  перейдя из 6 класса в 7 класс, учащиеся  продолжают обучение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50920" y="260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арш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907920"/>
          <a:ext cx="8172360" cy="1006560"/>
        </p:xfrm>
        <a:graphic>
          <a:graphicData uri="http://schemas.openxmlformats.org/drawingml/2006/table">
            <a:tbl>
              <a:tblPr/>
              <a:tblGrid>
                <a:gridCol w="5778360"/>
                <a:gridCol w="1197000"/>
                <a:gridCol w="119700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63"/>
          <p:cNvSpPr/>
          <p:nvPr/>
        </p:nvSpPr>
        <p:spPr>
          <a:xfrm>
            <a:off x="0" y="22050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аршей школе вводится профильное обучение. Каждое общеобразовательное учреждение реализует свой профиль или несколько  профильных направлений. В выбравших профилях предмет «Информатика и ИКТ» может быть представлен на одном из двух уровней – базовом или профиль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ние информатики и ИКТ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фильном уров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уществляется в 10-11 класса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зико-математического и информационно-технологического профи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учебный предмет «Информатика и ИКТ» является одним из профильных предметов. Преподается предмет «Информатика и ИКТ» из расчета 4 часа в неделю, всего - 280 ч. за два года обучения. Это означает, что обучение информатике и информационным технологиям осуществляется на повышенном уров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предмета на профильном уровне  может быть расширено за счет часов, отводимых на элективные кур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учебников в условиях перехода на О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 сложилась следующая ситуация: в нормативных документах (государственный образовательный стандарт по информатике, примерные программы по информатике) не указывается название изучаемых операционных систем и прикладных программ, а в авторских программах и содержании учебников рассматривается изучение содержания информатики на примере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е прикладных программ. На территории Российской Федерации в общеобразовательных учреждениях лицензия по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канчивается 31 декабря 2010 г.  С 1 января 2011 года реализуется  переход на операцион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учителям информатики и ИКТ при выборе учебников необходимо учесть, что все представленные УМК в Федеральном перечне ориентированы на изучение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е прикладные программы. Из всех УМК в учебнике автора Угриновича Н.Д. есть практикум для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язи с этим учителям информатики и ИК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оятельно адаптирова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 теоретических сведений (в сравнении двух операционных систем) и практических работ по изучаемым темам с учетом используемого программного обеспечения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ложение №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работая по выбранной ранее авторской ли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ики переиздаваться в ближайшее время не буд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мощь учителям информатики рекомендуется с сайта ПСПО для учреждений России по ссылке http://linux.armd.ru/ru/documentation/metod/#2 скачать учебные пособия, оформленные как  практические руководства  по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е прикладным программ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рабочим программам относятся: программы по учебным предметам; программы элективных курсов; программы факультативных курсов; дополнительных образовательных кур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рабочих программ учебных курсов, предметов, дисциплин (модулей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ит в компетенцию образовательного учреж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. 2. ст. 32 Закона РФ «Об образовании»).  Рабочая программ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атывается педагог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группой педагогов и проходит экспертизу на уровне общеобразовательного учреждения. Общеобразовательное учреждение несет ответственность за качество реализуемых рабочих програм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ая программа обновляется ежего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ю разработки Рабочей программы является сохранение единого образовательного пространства учреждения и предоставление широких возможностей для реализации различных технологий, подходов к построению учебного курса, предмета, дисциплины (модул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ие программ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ются на основ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. 28 Закона РФ «Об образовании»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х программ по отдельным учебным предметам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х программ по отдельным учебным предметам общего образования и авторских программ к линиям учебников, входящих в федеральный перечень УМК, рекомендованных Минобразования РФ к использованию в образовательном процесс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х программ по отдельным учебным предметам общего образования и материалам авторского учебно-методического комплекса (при отсутствии соответствующих авторских программ к линии учебников, имеющихся в федеральном перечн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0" y="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ож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сти изменения в составляемую рабочую програм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более чем на 20 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вышеназванных программ. Например, определять новый порядок изучения материала, изменять количество часов, вносить изменения в содержание изучаемой темы, дополнять требования к уровню подготовк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ый минимум содержания каждой Рабочей программы устанавливается в соответствии с примерной образовательной программой и государственным образовательным стандар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часов, отводимых на освоение Рабочей программы, должно соответствовать Базисному учебному плану общеобразовательных учреждений Российской Федерации, утвержденному приказом Минобразования РФ № 1312 от 09.03.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уемая примерная структура Рабочей программы включает следующие компоне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титульный ли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яснительная запис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ребования к уровню подготовки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алендарно-тематическое планирование (учебно-тематический пла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содержание программы учебного предмета, курса, дисциплины (модул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формы и средства контро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еречень учебно-методических средств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формление рабоче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чей программы должен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именование образовательного учрежд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гриф утверждения и согласования программы (таблица №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 учебного курса, предмета, дисциплины (модуля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.И.О. педагога, разработавшего и реализующего учебный курс, предмет, дисциплину (модул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ласс (параллель), в котором изучается учебный кур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едмет, курс, дисциплина (модул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год составления програм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3716280"/>
          <a:ext cx="8642160" cy="1463760"/>
        </p:xfrm>
        <a:graphic>
          <a:graphicData uri="http://schemas.openxmlformats.org/drawingml/2006/table">
            <a:tbl>
              <a:tblPr/>
              <a:tblGrid>
                <a:gridCol w="2601720"/>
                <a:gridCol w="3013200"/>
                <a:gridCol w="3027240"/>
              </a:tblGrid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гласова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Шашаев А.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окол № ___ о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____________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гласова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 школы по УВР МОУ СОШ № ___ г. Белг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 Королёва Н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____________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тверждаю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ОУ СОШ №__ г.Белг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Головинкина И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№ ___ от «___»____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тексте пояснительной запи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 Рабочей программе указывае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, автор и год издания предметной учебной программы (примерной, авторской), на основе которой разработана Рабочая программ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цели и задачи данной программы обучения в области формирования системы знаний, умений[1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менения, внесенные в примерную (типовую) и авторскую учебную программу и их обосн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 учебно-методического комплекта (учебник, рабочая тетрадь, тетрадь для контрольных работ, атлас, контурная карта и др. согласно перечню учебников, утвержденных приказом Минобрнауки РФ), используемого для достижения поставленной цели в соответствии с образовательной программой учреждения[2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личество учебных часов, на которое рассчитана Рабочая программа, в т.ч. количество часов для проведения контрольных, лабораторных, практических работ, экскурсий, проектов исследова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1] Задачи формулируются в соответствии с ФГОС и с учетом особенностей общеобразовательного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2] Учебники, рабочие тетради, пособия, входящие в учебно-методический комплект, обозначаются с указанием их названия, класса, ФИО автора, издательства, года из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ы организации учебного процесса и их сочетание, а также преобладающие формы текущего контроля знаний, умений, навыков (в соответствии с Положением о текущем контроле учащихся в образовательном учреждении), промежуточной и итоговой аттестации учащихся (в соответствии с соответствующими Положениям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структуры Рабочей программы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ебования к уровню подготовки учащих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ся, если авторская учебная программа отсутствует, а Рабочая программа составлена на основе примерной (типовой) учебной программы и авторскому учебно-методическому комплек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«Требования к уровню подготовки учащихся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ет собой описание целей-результатов обучения, выраженных в действиях учащихся (операциональных) и реально опознаваемых с помощью диагностических инструментов. Данный перечень целей-результатов обучения включает специальные предметные и общие учебные умения и способы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 к уровню подготовки учащихся, прописанные в Рабочей программе, должны соответствовать требованиям, сформулированных в федеральном государственном стандарте общего образования и примерной (типовой) учебной программе (Закон РФ «Об образовании» ст. 12, 13, 15, 3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ые документы, регламентирующие деятельность учителя – предме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стика стандартов второго поколения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 – методическое обеспечение и контроль по предмету в 2010-2011 учебном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составлению рабочих программ учебных курсов, предметов, дисциплин (модулей) общеобразовательного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составлению КТП с учетом подготовки к ГИА 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чень обязательного оборудования, необходимого для реализации общеобразовательных программ на базовом и профильном уровнях по предметам инвариантной части учебного плана (по ступеням обуч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ведению записей в классных журна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подготовке школьников к олимпиадам и конкур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лендарно-тематический пл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формляется в виде таблицы на весь срок обучения (таблица 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" y="836640"/>
          <a:ext cx="6227640" cy="1341360"/>
        </p:xfrm>
        <a:graphic>
          <a:graphicData uri="http://schemas.openxmlformats.org/drawingml/2006/table">
            <a:tbl>
              <a:tblPr/>
              <a:tblGrid>
                <a:gridCol w="466560"/>
                <a:gridCol w="1940040"/>
                <a:gridCol w="1092240"/>
                <a:gridCol w="1052280"/>
                <a:gridCol w="167652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а и 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ы учебного време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е сроки про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3"/>
          <p:cNvSpPr/>
          <p:nvPr/>
        </p:nvSpPr>
        <p:spPr>
          <a:xfrm>
            <a:off x="0" y="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держание учебного кур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едмета, дисциплины (модуля) Рабочей программы включает краткое описание каждой темы (3-4 предложения). Изложение учебного материала в заданной последовательности предусматривает конкретизацию всех дидактических единиц содерж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ный компонент Рабочей программы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рмы и средства контроля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материалы в виде тестовых, контрольных работ, вопросов для зачета и др. для оценки освоения школьниками содержания учебного материала. Количество контрольных работ определяется инструктивно-методическими документами о преподавании учебных предметов и дисциплин, принятыми на уровне реги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ечень учебно-методических средств обучения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компонент Рабочей программы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ую и дополнительную учебную литературу (учебники, учебные пособия, сборники упражнений и задач, контрольных заданий, тестов, практических работ и лабораторных практикумов, хрестомати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очные пособия (словари, справочники); наглядный материал (альбомы, атласы, карты, таблицы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рудование и приборы и т.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а оформляется в соответствии с ГОСТом: элементы описания каждого учебно-методического средства должны приводиться в алфавитном порядке и соответствовать требованиям к библиографическому опис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 работы ГМ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 2010-2011 уч.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тематических семинара по плану НМИЦ г. Бел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ая и перспективная работа с аттестующимися для адекватной оценки их дост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ая поддержка молодых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по сохранению высокого уровня олимпиадного движения по информатике в 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и поддержка учителей информатики, имеющих лучшие показатели по результатам ГИА и ЕГЭ, распространение их опыта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информационной базы по разделам сайта ГМО, развитие новых технологий взаимодействия пользователей городской Интра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26028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 «Об образовании» от 10 июля 1992 года № 3266-1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Российской Федерации от 05 марта 2004 г.  № 1089 "Об утверждении федерального компонента государственных стандартов начального общего, основного общего и среднего (полного) общего образования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базисный учебный план и примерные учебные планы для общеобразовательных учреждений РФ, реализующих программу общего образования (приказ Министерства образования Российской Федерации от 09.03.2004г. №131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и науки РФ от 20.08.2008 года № 241 «О внесении изменений в 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, утверждённые приказом Министерства образования Российской Федерации от 9 марта 2004 года № 1312 «Об утверждении федерального базисного учебного плана и примерных учебных планов для образовательных учреждений Российской Федерации, реализующих программы общего образов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6028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начального общего образования по технологии (приказ Минобразования России «Об утверждении федерального компонента государственных стандартов начального общего, основного общего и среднего (полного) общего образования» от 5 марта 2004 г. № 10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основного общего образования по информатике и ИКТ (приложение из приказа Министерства образования Российской Федерации от 05 марта 2004 г. № 10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среднего (полного) общего образования по информатике и ИКТ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(приложение из приказа Министерства образования Российской Федерации от 05 марта 2004 г. № 1089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среднего (полного) общего образования по информатике и ИКТ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(приложение из приказа Министерства образования Российской Федерации от 05 марта 2004 г. № 10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начального общего образования по технологии (тру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основного общего образования по информатике и ИК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среднего (полного) общего образования по информатике и ИКТ (базовый уровень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среднего (полного) общего образования по информатике и ИКТ  (профильный уровен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250920" y="54936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перечень учебников на 2010-2011 учебный год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истерства образования и науки Российской Федерации от «23 » декабря 2009 г. 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22  г. Москва "Об утверждении федеральных перечней учебников, рекомендованных (допущенных) к использованию в образовательном процессе в образовательных учреждениях, реализующих образовательные программы общего образования и имеющих государственную аккредитацию, на 2010/2011 учебный год"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Министерства образования и науки РФ от 09 ноября 2009 г. № 03-2235 «Об использовании учебников разных лет выпус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областного экспертного совета Департамента образования, культуры и молодежной политики Белгородской области по вопросам научно-методического обеспечения образовательного процесса и инновационной деятельности в сфере образования от 9 февраля 2010 года «Об итогах экспертизы учебно-методических комплексов по общеобразовательным предметам и рекомендуемом перечне на 2010-2011 учебный год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50920" y="54936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Департамента образования, культуры и молодёжной политики Белгородской области от 13.05.2010 г. №9-06/2729-ВА «Об использовании БУП в общеобразовательных учреждений области в 2010-2011 учебном год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Департамента образования, культуры и молодёжной политики Белгородской области от 23.03.2010 г. № 819 «Об утверждении положения 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ей программе учебных курсов, предметов, дисциплин (модулей) общеобразовательного учреж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тивное письмо Департамента образования, культуры и молодёжной    политики   Белгородской    области  от  13.05.2009 г. № 9-06/1674-ВА  «О реализации программ  углублённого уровня в общеобразовательных учреждениях обла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Департамента образования, культуры и молодежной политики Белгородской области от 27 февраля 2009 года № 9-06/547-ИВ «Об использовании в работе инструктивно-методического письма по ведению классных журнал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тивное письмо Департамента образования, культуры и молодёжной политики Белгородской области от  05.05.2008г. № 9-06/1847-ЛИ «Об организации начальной профессиональной подготовки в условиях реализации универсального и профильного обуч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18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ые стандарты общего образования разрабатываются Министерством образования и науки Российской Федерации не реже чем раз в 10 лет.  В 2012 году на территории РФ вступят в силу новые стандар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0" y="1484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евое отличие  нового образовательного стандарта от предшествующих разработок заключается в том, что суть его идеологии составляет  переход от минимизационного подхода к конструированию образовательного пространства на основе принципа фундаментальности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78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фундаментальным ядром по предмету «Информатика» можно подробнее ознакомиться на сайте ФГОС по ссылк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ndart.edu.ru/catalog.aspx?CatalogId=8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кая характеристика стандартов второго поко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начальной школы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7650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 сентября 2010 года экспериментально некоторые образовательные учреждения начинают работу в начальной школе по стандартам второго пок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екте стандартов второго поколения информатика, как самостоятельный учебный предм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ьном звене не представл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оекту базисного учебного плана для образовательных учреждений РФ, реализующих основную образовательную программу начального общего образования: «Учебный курс «Информатика» в начальной школе изучается во 2–4 классах в качеств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ого модуля в рамках учебных предметов «Математика» и «Техн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грамме по предмету «Математика» четко не выделены часы и темы, связанные с информатикой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часов на изучение модуля по информатике в программе по «Технологии» так же не представле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кая характеристика стандартов второго поко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новной школы по информати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0" y="9079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едложенному проекту БУП основной школы на сайте ФГОС  в основной школе на изучение предмета «Информатика и ИКТ» предусмотрен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7, 8, 9 классе  по 1 часу в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исный учебный план вечерних (сменных) общеобразовательных учреждений Российской Федерации (основное общее образование, очная форма обучения) изучение предмета «Информатика и ИКТ» предполагает в 8 классе1 час в неделю, в 9 классе 1 час в недел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328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оекту ФГО стандарта основного общего образования, разработанного к апрелю 2010 года,  информатика включена в предметную область с название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атематика и информатика» без четкого разграничения изучаемых тем по предме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39:14Z</dcterms:created>
  <dc:creator>МАМА</dc:creator>
  <dc:description/>
  <dc:language>en-US</dc:language>
  <cp:lastModifiedBy>LEGION</cp:lastModifiedBy>
  <dcterms:modified xsi:type="dcterms:W3CDTF">2015-04-01T07:45:09Z</dcterms:modified>
  <cp:revision>7</cp:revision>
  <dc:subject/>
  <dc:title>Основные положения инструктивно – методического письма « О преподавании предмета «Информатика и ИКТ» в общеобразовательных учреждениях  Белгородской области  в 2010 -2011 уч. году».</dc:title>
</cp:coreProperties>
</file>