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4518-B8E2-44CB-BA4B-ADDD89564F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ма: Решение задач с условным операто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учить решать задачи с условным опе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Развивать умения составлять программы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условным опера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Воспитывать интерес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6AF1-9602-4134-BE38-887E081674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тор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конструкция условного опера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формы условного опера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 условного опера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340C-FE8F-41E0-869F-ADFEAA9D06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y, 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x , a, b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=2 then y: =a*x*x + b else y: =sqr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b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7E00-AB00-4D3A-834A-DB8EBD3047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ычисл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y, 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x , a, b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&lt;a  then y: =a + b else y: =(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x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827A-5F4D-4B9E-A2A8-BDC19B200E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даны длины сторон треугольника, определить, является ли этот треугольник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 b, c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 a, 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*a + b*b = c*c   then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 else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E6D3-D8AD-4C9B-8A39-F091F3AD79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Заданы длины сторон треугольника, определить, является ли данный треугольник равнобедр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 b, c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 a, b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(a = b) OR (a = c) then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else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D0F5-3CD0-427F-BA79-E770244A89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75 – 83 повто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ограм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ны два числа, найти среди них минимальн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319B-7899-460A-9291-E86B8AEBD0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цель Любовь Николаевна- учитель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больская средняя школа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найский район, Кустанайская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5B86-B8D5-406B-969D-D63B2102F7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104-1361-43E2-A5E2-EF57F5C1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A06-D5AC-49DB-A2A3-42802233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9B3-7BB9-477E-848B-59D9EE80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75D-4F44-4BD2-92B1-6FDEF413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456-BA22-4A20-9800-97D4ABE9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ED3-41BF-4E05-A3E0-3FF7CE2C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903-709B-41D5-A1CD-0539C2D7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E13-4B68-4B18-8B99-4729CB4C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806-B5FA-4B45-A363-30010431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01E-4316-4F01-A05B-AD653738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B33-1B49-4AD3-A798-08A8B95C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1DD-5E1E-4FC1-BD9F-437879E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24C9-60B5-4ECD-8503-9FCD4DFA9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924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ма: Решение задач с условным операторо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учить решать задачи с условным операт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Развивать умения составлять программы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условным опер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Воспитывать интерес к предм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конструкция условного опера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формы условного опера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 условного опера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19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y, a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x , a, b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=2 then y: =a*x*x + b else y: =sqr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200400" y="228600"/>
            <a:ext cx="5410080" cy="99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ычислить значение:                 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7467480" y="380880"/>
                <a:ext cx="98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ычис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s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y, a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: 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ln (x , a, b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x &lt;a  then y: =a + b else y: =(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ln (‘y=’, 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657600" y="775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4267080" y="533520"/>
                <a:ext cx="10670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114480" y="38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Заданы длины сторон треугольника, определить, является ли этот треугольник прямоуго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a,  b, c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 a,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*a + b*b = c*c   then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 else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Заданы длины сторон треугольника, определить, является ли данный треугольник равнобедре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a,  b, c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 a, b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a = b) OR (a = c) then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lse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75 – 83 повт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програ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ны два числа, найти среди них минималь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цель Любовь Николаевна- учитель инфор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обольская средняя школ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найский район, Кустанай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46:0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