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AED2-DC83-4DED-8F23-E9F435AC2D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ема: Решение задач с условным операторо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аучить решать задачи с условным опера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Развивать умения составлять программы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условным операто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Воспитывать интерес к предме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223A-ED5F-4BFE-A390-7AE0B0F344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тор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конструкция условного операто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уществуют формы условного операто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 условного опера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7E68-8E8A-45B2-B6DA-CB398BBBCF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ешение задач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y, a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b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x , a, b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gt;=2 then y: =a*x*x + b else y: =sqr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b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255F-1D32-4E58-8511-9541F131BC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ычисл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y, a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b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x , a, b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 &lt;a  then y: =a + b else y: =(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x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7D6F-372D-41E8-A67E-63F0F69671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Заданы длины сторон треугольника, определить, является ли этот треугольник прям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a,  b, c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 a, b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*a + b*b = c*c   then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уголь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) else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A3CF-163D-454F-A65F-75B93BA63F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Заданы длины сторон треугольника, определить, является ли данный треугольник равнобедр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a,  b, c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 a, b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(a = b) OR (a = c) then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уголь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бедрен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else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бедрен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AE76-1754-4011-8FB1-5DDF78E0F1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75 – 83 повто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програм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ны два числа, найти среди них минимальное чи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920C-20FF-4600-A46C-F2D34EFE60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цель Любовь Николаевна- учитель инфор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обольская средняя школа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найский район, Кустанайская об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89C9-402C-4869-B131-A7F08813C1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BCA-B2A1-42BC-9827-C836CE7E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9E1-7655-443B-BA59-84FD0A51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0E22-C28A-4A23-9221-A54E286A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4854-F733-4A93-A9A2-DA56EB97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3E69-0467-415B-9C58-19AA3FF5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955-C388-4301-8D1E-5EBBEC4A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20F7-AE19-4B07-9AB1-ACF3FD38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CEFB-F15B-402F-A5DD-313523EB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A79A-AD29-42B6-8C86-378101B3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652-C652-44C5-8136-E0D09206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9955-4D3F-40A5-AC29-AE04FA55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2021-A3EA-4F77-A4A1-4D1DCEC8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0137-2025-4A9E-A7D5-3C6CEBA0EE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9246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Тема: Решение задач с условным операторо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учить решать задачи с условным операт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Развивать умения составлять программы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условным опера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Воспитывать интерес к предме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а конструкция условного операт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уществуют формы условного операт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пример условного опера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819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u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y, a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 (x , a, b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gt;=2 then y: =a*x*x + b else y: =sqr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, 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200400" y="228600"/>
            <a:ext cx="5410080" cy="99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Вычислить значение:                  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7467480" y="380880"/>
                <a:ext cx="981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Вычис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su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y, a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: re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ln (x , a, b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x &lt;a  then y: =a + b else y: =(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ln (‘y=’, 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657600" y="775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4267080" y="533520"/>
                <a:ext cx="10670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" name="Rectangle 6"/>
          <p:cNvSpPr/>
          <p:nvPr/>
        </p:nvSpPr>
        <p:spPr>
          <a:xfrm>
            <a:off x="114480" y="389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Заданы длины сторон треугольника, определить, является ли этот треугольник прямоуго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um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a,  b, c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 ( a, 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*a + b*b = c*c   then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) else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Заданы длины сторон треугольника, определить, является ли данный треугольник равнобедрен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a,  b, c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 ( a, b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a = b) OR (a = c) then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бедрен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lse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бедрен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75 – 83 повт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програм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ны два числа, найти среди них минималь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рцель Любовь Николаевна- учитель информа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обольская средняя школа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станайский район, Кустанайск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1T07:46:0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