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D2C4-9B9E-4928-8D43-75F2D266E3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B957-F6B5-4ECF-945F-911884B623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1E50-CFED-4C9F-8EB4-BF99EBEEE8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программ мы можем использовать не только несколько условий для задания ветвлений, но и несколько раз использовать саму конструкцию ветвления, вкладывая их одну в другую, создавая сложные усло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возникает необходимость проверить условие, и в зависимости от результата проверки выполнить ту или иную серию операторов. В  Паскале эта серия операторов объединяется в один составной оператор, который заключается в операторные скоб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5638-4B32-4D65-AE91-CAE292CA95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. Составить программ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2 THEN Y: = X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3 THEN Y: = 2 ELSE  Y: = -X + 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C74F-1D5F-4FF1-935D-800847372B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2. Найти корни квадратного урав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B, C, D, X1, X2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A, B, C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= SQR(B) – 4 * A* 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&lt;0 THEN WRITELN (‘NET CORNEY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1:= (-B + SQRT (D)/ (2 * A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:= (-B - SQRT (D)/ (2 * A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X1=’,X1,’’:2,’X2=’,X2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474D-1B0C-4535-B379-7E31F30B49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=0  THEN Y: = SQR(X)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1 THEN Y: = 2*X+4 ELSE  Y: = SQRT(SIN(X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:1: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648E-A6D4-4667-A12C-55420B23F7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=3 THEN Y: =12+COS(5*X)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5 THEN Y: = X+5 ELSE  Y: = (5*X+7)/(3*X-4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3BCB-D4E2-4C96-8E38-542C0523D5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79-83 повтор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програм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FA62-B156-4F30-8955-272C2CC797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C62-04CE-44C7-9CE0-C4276913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044-17AB-4B0A-B702-E68A799F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152-E7F0-4485-9BDC-68F9C5BE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9BA-335D-4D75-93CF-9C1010FF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84E-DDF3-4608-8995-EA06FAB2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E83E-456C-4C7B-84B5-BF799844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4C3-C880-4318-AF36-C63D41A0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EAB-4539-4E94-B976-1094041A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F56-FF8A-4589-9C68-EF8D1915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38C4-8B6E-4819-AB07-12FB0BE8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158-82F7-4F05-855B-45F0C37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A2F-528C-4DC7-B2CF-9880BFD3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aabd"/>
            </a:gs>
            <a:gs pos="100000">
              <a:srgbClr val="1bcde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CE7F-FA28-4BAD-9364-47860A9BC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цель Любовь Николаевна- учитель информатики, матема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обольская средняя школ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найский район, Кустанай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: Сложные услов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: Научить составлять программы   используя сложные усло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Развивать умения составлять программы с условным опера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Воспитывать интерес к предмету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ая 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оставлении программ мы можем использовать не только несколько условий для задания ветвлений, но и несколько раз использовать саму конструкцию ветвления, вкладывая их одну в другую, создавая сложные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возникает необходимость проверить условие, и в зависимости от результата проверки выполнить ту или иную серию операторов. В  Паскале эта серия операторов объединяется в один составной оператор, который заключается в операторные скоб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. Составить программу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2 THEN Y: = X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3 THEN Y: = 2 ELSE  Y: = -X +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4932360" y="765000"/>
                <a:ext cx="135900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Х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2. Найти корни квадратного уравн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, B, C, D, X1, X2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A, B,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= SQR(B) – 4 * A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&lt;0 THEN WRITELN (‘NET CORNE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:= (-B + SQRT (D)/ (2 * 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2:= (-B - SQRT (D)/ (2 * 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 (‘X1=’,X1,’’:2,’X2=’,X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=0  THEN Y: = SQR(X)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1 THEN Y: = 2*X+4 ELSE  Y: = SQRT(SIN(X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:1: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5003640" y="260280"/>
                <a:ext cx="20894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Х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e>
                            </m:rad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=3 THEN Y: =12+COS(5*X)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5 THEN Y: = X+5 ELSE  Y: = (5*X+7)/(3*X-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4932360" y="260280"/>
                <a:ext cx="31687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79-83 повт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програ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1547640" y="2720880"/>
                <a:ext cx="1584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8:13:53Z</dcterms:created>
  <dc:creator>User</dc:creator>
  <dc:description/>
  <dc:language>en-US</dc:language>
  <cp:lastModifiedBy>LEGION</cp:lastModifiedBy>
  <dcterms:modified xsi:type="dcterms:W3CDTF">2015-04-01T07:47:13Z</dcterms:modified>
  <cp:revision>12</cp:revision>
  <dc:subject/>
  <dc:title>Тема:Сложные условия. </dc:title>
</cp:coreProperties>
</file>