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030D-B569-44BA-A287-3F414A6183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4893-2C7E-4CFF-8D63-C135F4ADFB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зучения 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.В. Соколо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и  группой авторов  в 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97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2622-C0AE-45C1-9C75-36EF4A95D6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социальной информатики как  научного знани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B6DA-4685-4965-A286-95B5871F979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C6D9-E9DB-4AC3-BFDC-734D17CFC73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учебного курса «Социальная информат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468A-AA27-4622-A73B-0EB0987968C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еальный ход информат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AF0D-C340-4A82-B068-449A6B05D3A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МЕТ И ЗАДАЧИ КУРС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2C95-1CC4-43A6-8A55-67EE89381FF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  вступления  общества  в постиндустриальный  период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BEBF-CDCB-4908-A304-65B912117E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стельс 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китов А.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компьютерной революции. - М.,19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колова И.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. - М.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E02C-9C23-40D0-B299-968C7E4E975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трудоспособного населения, занятого в сфере услуг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ерий занят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коммуникационной сети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ческий кри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наблюдать человечество из космоса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трономический критерий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14C4-5D13-4C45-9C7E-CE00E1D8942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щественного развития устойчив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ционным кризи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ружественный интерфей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E3E7-1817-429A-8442-1EAD370EB81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диатизацию, компьютеризацию и  интеллектуа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7344-1A59-4E53-826B-EF3C5AA7085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етико-методологические подходы к информатизации общест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кра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уманитар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0884-A9D7-4D08-85DA-97DC87C60AB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зь информатизации с устойчивым развити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нформационное общество с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ой сферой услу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шено большинства социально-экономических и экологи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информированность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лобальная информатизация позволит сформиро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льный интеллект цивил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особный обеспечить устойчивое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2287-430E-4E92-B1AB-194CED40A25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01B-2E30-4C7C-81DA-3DE9404D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745-86EF-4D8A-BFE8-2B47371B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BA0-5B06-4A20-9E92-AEEB83B7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B6F-ADEF-4DAC-B2EF-CDFE811B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067-02E9-4C7E-AAB3-E84AE0A0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91A-0B40-4063-862C-FE4DA039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134-E715-40AB-A2A5-5D3D11B5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67B-F8D5-4751-A9E5-A9E62607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135-4199-4DB4-B417-F35B7308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E3B-A5C4-466B-A84F-5397824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8D1-F644-4CB1-9505-AC8EC225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CCA-01E8-4735-9322-33239CA9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3F89-3F04-4834-8D09-957C93096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LEGION</cp:lastModifiedBy>
  <dcterms:modified xsi:type="dcterms:W3CDTF">2015-04-01T07:48:19Z</dcterms:modified>
  <cp:revision>29</cp:revision>
  <dc:subject/>
  <dc:title>Слайд 1</dc:title>
</cp:coreProperties>
</file>