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C820-40F0-4B6C-A7F0-86938239E9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../slides/slide13.xml"/><Relationship Id="rId7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новационные технологии на уроках инфор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совершенствовать у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больше размышлять, чем заучи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не Декар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физики и информатики МОУ-ООШ с. Золотая Степь Крючко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42FC-DD69-4F2D-AA40-3A1EAA0A14D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9337-3E0D-4573-89ED-89B494888AF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офиль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D451-A7C3-4F27-874A-31C6CB72FBE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Проектная работа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 физике(элективный курс)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«Определение силы тяжести и массы линейки с помощью медных моне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85AE-FFAB-450B-827A-8301D09E898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Рисунок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ыв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Библиогра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C1E3-D554-4BEF-B790-27339317E22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исунок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0D34-1BFE-4A18-8DAE-D2705896016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строил «детские» весы: положил на упор доще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онеты тяжелее я снимал по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ось 3 моне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0B70-2ABA-419C-80AF-F8D8B818B90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 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= 0,003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 0,003*10=0,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]=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*Н/кг=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9963-7D48-4A96-8D58-52B6A5800EC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4074-705A-4118-8341-3864098B1C6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687B-8633-40F1-B523-EFFABD62AB3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по физике 9кл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щ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Перышкин ,Е.М.Гут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2FA8-78F4-4944-B87A-33732266374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я понимаю под инновациями в образовани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5650-996C-4F4F-B349-C03D9297EBA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льтимедиа-урок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EC6E-E96C-48C7-867F-81B45FCC20A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интерактивные так и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как готовые тесты так и разрабатываю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с выбором ответа так и на установление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7B6F-2F11-4D21-89B9-97272EBB1F8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ы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EB39-B91E-4DFB-B846-1258B0D28B5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является главным устройством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7177-9251-4256-8AA6-8909EAEE38D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ешней       памяти компьютера относя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утренней памяти компьютера относи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5A53-9B5C-4D93-920F-4E95CDF47D4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ая адресуемая часть памяти компьютера 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ется свойство дискретности внутренней памяти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байт памяти имеет свой адр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им элементом внутренней памяти является 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яемая программа хранится во внутренней памяти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 подряд расположенных бит образуют байт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5F86-4375-488F-A9F5-7F5D49685B2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тактовая частота процессора, т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производительность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характеристик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ъема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личества внешних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ипа мони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44CE-6440-4313-BD03-AA431BE2BD3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предложение: «При отключении  компьютер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регистрах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тирается из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лговременного хранения информации слу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в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запоминающе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B93F-260F-4E48-A650-ED5E2CADD78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3AA5-5071-4FD5-B7B0-8BC67CB2C15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AA38-770C-4C53-BE1B-0F9469212CF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нновационные образовательные средства применяю в своей практ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теорию личностно-ориентированн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средства тест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проектную технолог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6D3A-DB86-4007-A055-BBA4D8A19CA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ехнологии дифференциации и индивиду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фильное  и предпрофильное об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 Проект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4C44-B454-4DF6-B5BD-5A2A1BFA2D8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51DA-A9C3-4B11-89D8-2C35D4A7969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A0A8-47C0-444E-B252-B1F040F9FAD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0C51-E28A-4261-87E2-B234797737F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 ?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2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0) - ?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A2B9-E0DC-4E49-86B9-44D589B3D5F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едите числа из 2-ой с/с в 8-ую, 16-ую с/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10010111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1000001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1110010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100011101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101100101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8971-EB3B-4BCD-889B-56E5D029E3A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BD2-FB42-49D4-BC39-C67680D1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250-17AE-4283-A3A7-FF882E7F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F8E-9985-481E-A64A-820A3FC5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DCE-5F70-4540-B643-B3D01D39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6C9F-E0F3-4553-8778-5B56A21C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FAA8-791B-4405-808A-A51AADAB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0821-BE02-4E9C-AF2D-76815D6E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BD9C-E0FE-44A6-99F9-B0ACE2E1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835C-3CDF-416F-8C48-8D5B689F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FCE2-94F8-4DA7-B9DD-2782DC8E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3C6F-7BF7-47C2-8B50-C3AD8C9E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FFB-AD07-4858-859B-5F8A3D02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BB53-1988-4191-95C9-7DAC5DB2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1240-544F-4E93-8015-CDCDC757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A80F-2136-4478-997A-6F9D48C9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2E71-8A9F-4287-B0E5-8ECFB9BA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C6C6-0010-4CA0-AE34-531BC123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67F-CE06-477A-8661-C73C0DC0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EAB-33C2-452E-82A9-C05C0F3B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9FE-FE73-4EA0-9FBC-4F9D0E8A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E7A-DD3E-4FBC-9579-53BF1FFD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4A1-11F5-4CE2-A62D-E739B0F0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317-0A67-4314-B578-FB0309C2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AB3-906D-44B6-ADAA-D5B71F1D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E22B-6CC2-4B9E-ADE1-B568F325A5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8A22-0C99-4E2E-B51E-A429818F3C5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Инновационные технологии на уроках информатики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того, чтобы усовершенствовать ум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до больше размышлять, чем заучиват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Рене Декарт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готовила учитель физики и информатики МОУ-ООШ с. Золотая Степь Крючкова Т.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едпрофильное обу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e6b"/>
                </a:solidFill>
                <a:latin typeface="Garamond"/>
              </a:rPr>
              <a:t>Проектная работа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ab475"/>
                </a:solidFill>
                <a:latin typeface="Garamond"/>
              </a:rPr>
              <a:t>по физике(элективный курс)</a:t>
            </a: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«Определение силы тяжести и массы линейки с помощью медных монет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722920" y="4005360"/>
            <a:ext cx="3421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полнил учени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 б класса МОУ-ООШ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.Золотая степ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армушев Ж.Ж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ководитель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ючкова Т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  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главл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1" action="ppaction://hlinksldjump"/>
              </a:rPr>
              <a:t>Рисунок опы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2" action="ppaction://hlinksldjump"/>
              </a:rPr>
              <a:t>Расче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3" action="ppaction://hlinksldjump"/>
              </a:rPr>
              <a:t>Вывод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4" action="ppaction://hlinksldjump"/>
              </a:rPr>
              <a:t>Заключен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5" action="ppaction://hlinksldjump"/>
              </a:rPr>
              <a:t>Библиограф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</a:t>
            </a:r>
            <a:r>
              <a:rPr b="1" lang="ru-RU" sz="4400" spc="-1" strike="noStrike">
                <a:solidFill>
                  <a:srgbClr val="006e6b"/>
                </a:solidFill>
                <a:latin typeface="Garamond"/>
              </a:rPr>
              <a:t>Рисунок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Ход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устроил «детские» весы: положил на упор дощеч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монеты тяжелее я снимал по од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училось 3 монет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асче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m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= 3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г = 0,003 к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 0,003*10=0,03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]=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*Н/кг=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603440"/>
            <a:ext cx="82011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Библиограф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ебник по физике 9кл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свещение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В.Перышкин ,Е.М.Гутни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Что я понимаю под инновациями в образовании?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ультимедиа-уроки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редства тестиров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интерактивные так и на бумажном носите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как готовые тесты так и разрабатываю самостоятель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с выбором ответа так и на установление соответств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ы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лон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является главным устройством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ешней       памяти компьютера относя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утренней памяти компьютера относи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ая адресуемая часть памяти компьютера  - 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ай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й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ласте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чем заключается свойство дискретности внутренней памяти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ждый байт памяти имеет свой адре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им элементом внутренней памяти является 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няемая программа хранится во внутренней памяти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емь подряд расположенных бит образуют байт памя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м больше тактовая частота процессора, тем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ш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ольш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чего зависит производительность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характеристик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объема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количества внешних устройств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типа монит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должите предложение: «При отключении  компьютера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регистрах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тирается из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долговременного хранения информации служ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исковод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перативное запоминающее устройст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ешняя памя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1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/>
        </a:graphic>
      </p:graphicFrame>
      <p:graphicFrame>
        <p:nvGraphicFramePr>
          <p:cNvPr id="210" name=""/>
          <p:cNvGraphicFramePr/>
          <p:nvPr/>
        </p:nvGraphicFramePr>
        <p:xfrm>
          <a:off x="1763640" y="1916280"/>
          <a:ext cx="6077160" cy="3931920"/>
        </p:xfrm>
        <a:graphic>
          <a:graphicData uri="http://schemas.openxmlformats.org/drawingml/2006/table">
            <a:tbl>
              <a:tblPr/>
              <a:tblGrid>
                <a:gridCol w="3038400"/>
                <a:gridCol w="303876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ерационная система (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на диске под определенным именем, где хранятся списки файлов и подкаталогов(папок) по определенной темати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Rectangle 69"/>
          <p:cNvSpPr/>
          <p:nvPr/>
        </p:nvSpPr>
        <p:spPr>
          <a:xfrm>
            <a:off x="0" y="538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2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кладное программное обеспечение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в конкретной области человеческой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Какие инновационные образовательные средства применяю в своей практике?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теорию личностно-ориентированного развит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средства тестирова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проектную технолог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Спасибо за внимание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ичностно-ориентированные технологи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ехнологии дифференциации и индивидуализаци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2) Профильное  и предпрофильное обуч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3)  Проектные технолог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 ?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2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0) - ?(2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еведите числа из 2-ой с/с в 8-ую, 16-ую с/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100101110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1000001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1110010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1000111011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) 1011001011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5:02:31Z</dcterms:created>
  <dc:creator>Лена</dc:creator>
  <dc:description/>
  <dc:language>en-US</dc:language>
  <cp:lastModifiedBy>LEGION</cp:lastModifiedBy>
  <dcterms:modified xsi:type="dcterms:W3CDTF">2015-04-01T07:49:15Z</dcterms:modified>
  <cp:revision>5</cp:revision>
  <dc:subject/>
  <dc:title>Инновационные технологии на уроках информатики</dc:title>
</cp:coreProperties>
</file>