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ABE0-640A-462E-83F2-0A56DD47CA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../slides/slide13.xml"/><Relationship Id="rId7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ые технологии на уроках инфор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совершенствовать у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больше размышлять, чем заучи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не Декар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физики и информатики МОУ-ООШ с. Золотая Степь Крючко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1576-12C1-478F-9B6E-0988EC251A8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BFF1-4EE8-4D5E-A24D-9F2759F0A0B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офиль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A354-3C19-4945-B3BE-2AC01C82EE9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Проектная работа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 физике(элективный курс)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«Определение силы тяжести и массы линейки с помощью медных моне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1BBF-EF6A-4516-BEBE-C223A74B228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Рисунок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ыв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Библи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AE00-7037-4290-8A92-3FA459FFF27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исунок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DEA2-9F9D-4796-91CC-0C0F932436E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строил «детские» весы: положил на упор доще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онеты тяжелее я снимал по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ось 3 моне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4AA1-C3FB-4A65-8FCF-0BA4963C601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 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= 0,003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 0,003*10=0,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]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*Н/кг=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45A6-BFCA-42FF-82AC-9841DFD7F10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375C-3973-40B9-8174-189BB50B300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30DE-DDAB-4922-9DE9-B409C76D4C4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по физике 9кл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щ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Перышкин ,Е.М.Гут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8364-29B3-48CC-878E-409831F2517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я понимаю под инновациями в образовании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38DB-7FB9-493B-A48A-EABD8F07C44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льтимедиа-урок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D7CE-C09A-427E-8A31-2C7EF0AE468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интерактивные так и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как готовые тесты так и разрабатываю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ы использую как с выбором ответа так и на установление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D9E1-5C13-43C8-95DC-0E992716D1C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устройства, предназначенные для вывод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56E9-2CBC-43D2-B74E-4A0F2E6A56D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является главным устройством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D1FA-6ED0-4096-8340-DCEF217367E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ешней       памяти компьютера относя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нутренней памяти компьютера относится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эш-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е д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кий ди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FB11-E110-4EF8-87C8-ADA0F7E8C76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ая адресуемая часть памяти компьютера 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ется свойство дискретности внутренней памяти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байт памяти имеет свой адр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ьшим элементом внутренней памяти является б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яемая программа хранится во внутренней памяти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 подряд расположенных бит образуют байт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4753-8330-4D35-958F-F830B555657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тактовая частота процессора, т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скорость работы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объем данных, обрабатываемых з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производительность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характеристик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ъема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личества внешних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ипа мони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0EA5-2868-4CCF-A8D4-61E4BFBC50D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предложение: «При отключении  компьютер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охраняется в регистрах процесс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стирается из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№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лговременного хранения информации слу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в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запоминающе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094E-6E98-4E32-841F-E3FE3968C0F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B4EC-4DE6-4D13-AA97-D8FE3B24774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311F-8A48-477C-B523-E0A02B196C1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нновационные образовательные средства применяю в своей практ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теорию личностно-ориентированн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средства тест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 проектную технолог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FBE2-B3BD-472F-ADBF-DF23EDE6EC8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ехнологии дифференциации и индивиду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фильное  и предпрофильное об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 Проект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155B-EF06-42D4-84E7-25E146BD8C0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EEA2-83B7-4494-87A8-108AF579351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хнологии дифференциации и индивидуализац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78E7-6047-4A66-A238-0D01C12EC41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B7D0-4842-4CF9-B249-61BEC499B02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 ?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2) - ? 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0) - ?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16) -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(8) - ?(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90C3-33DB-4159-9EF5-69F3D6A994B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едите числа из 2-ой с/с в 8-ую, 16-ую с/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10010111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1000001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1110010112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100011101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101100101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1D16-8972-4EEE-B740-7ABF4BD9F84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B6E-081A-400A-808C-854E422A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5E4-337D-4443-8920-00433FD6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D26-417A-46B8-B877-2A78F3CD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38A-B67F-4198-A0FA-C62D9054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F9C6-7083-4B72-A1C0-F0D7C49A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7C61-5FFA-41CE-AD09-605C1BD5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488C-74C2-4ED9-90E5-EBF9E521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D713-3177-4181-9D7E-8F37CE09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62DE-74EE-401D-9B43-20F7B9FE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C97F-DFDF-4186-8A22-F8425F1B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75A1-F922-44EA-A155-0F7B0EFA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E5D-A3F3-4235-8DF3-C8D05C4D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69E4-96CF-4407-8B70-4C7733B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F362-588D-4183-A6C3-05FD6E9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6D73-8BD5-4E3C-AE89-1EED65C3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6F2A-55C1-4442-973D-ACE897D7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F463-E6D6-45FA-AC31-0AEB61EF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0C2-8CFD-4191-99A9-AA9E4C1B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440-EB6C-4196-80E8-A74BF587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946-66C3-4BB8-AB2A-10F4A7D3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33C-EA2C-424A-A62C-0E9B7F57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590-228F-4940-A4C0-F9A3678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856-739E-48CE-B02F-D9C2DA0F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1A0-AA3C-4EBF-8030-5BA896B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D487-3E00-4B31-A108-BF067B4FA1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FC90-BAF7-49F4-B8B2-48CDD9041C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Инновационные технологии на уроках информатики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того, чтобы усовершенствовать ум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до больше размышлять, чем заучи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Рене Декар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готовила учитель физики и информатики МОУ-ООШ с. Золотая Степь Крючкова Т.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уть такая: ученик получает карточку с таблицей, в которой обозначены номера точки и её координаты, представленные в какой-либо системе счисления (но не десятичной). Надо выполнить перевод координат в десятичную систему счисления (восьмеричную или шестнадцатеричную) и отметить точку на координатной плоскости. (Работа выполняется на бумаге в клетку). В итоге учащиеся, правильно сделав перевод и соединив последовательно все точки, получают изображение какого-либо животного или предмет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тоже время отставшие учащиеся стремятся поскорее выполнить свою карточку и получить такое же творческое задание. Можно сказать, что желание выполнить творческое задание стимулирует школьников как можно лучше справиться со своими карточками и приступить к процессу перевода координат и построения рисунка. В качестве домашнего задания можно предложить самим нарисовать картинку, записать её координаты и перевести их в одну из изучаемых систем счисления. Такой подход позволяет развивать творческие способности учащихся и применить полученные во время урока навык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дпрофильное обу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шлые года я вела элективный курс по физике в 9 классе «Измерение физических величин», который имел практическую направленность и заканчивался созданием проекта, который учащиеся по моему совету делали в виде мультимедийной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году я веду в 9 классе курс «Базы данных – путь к успеху», который тоже предполагает создание проек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e6b"/>
                </a:solidFill>
                <a:latin typeface="Garamond"/>
              </a:rPr>
              <a:t>Проектная работа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ab475"/>
                </a:solidFill>
                <a:latin typeface="Garamond"/>
              </a:rPr>
              <a:t>по физике(элективный курс)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«Определение силы тяжести и массы линейки с помощью медных монет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722920" y="4005360"/>
            <a:ext cx="3421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полнил учени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 б класса МОУ-ООШ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.Золотая степ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армушев Ж.Ж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ючкова Т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  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главл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1" action="ppaction://hlinksldjump"/>
              </a:rPr>
              <a:t>Рисунок опы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2" action="ppaction://hlinksldjump"/>
              </a:rPr>
              <a:t>Расч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3" action="ppaction://hlinksldjump"/>
              </a:rPr>
              <a:t>Вывод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4" action="ppaction://hlinksldjump"/>
              </a:rPr>
              <a:t>Заключен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5" action="ppaction://hlinksldjump"/>
              </a:rPr>
              <a:t>Библиограф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         </a:t>
            </a:r>
            <a:r>
              <a:rPr b="1" lang="ru-RU" sz="4400" spc="-1" strike="noStrike">
                <a:solidFill>
                  <a:srgbClr val="006e6b"/>
                </a:solidFill>
                <a:latin typeface="Garamond"/>
              </a:rPr>
              <a:t>Рисунок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Ход опыт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устроил «детские» весы: положил на упор дощеч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одну часть рычага положил линейку на другую положил стопку советских медных монет достоинством 1 коп., что соответствует 1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монеты тяжелее я снимал по одн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училось 3 монет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асче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m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= 3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 = 0,003 к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= 0,003*10=0,03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]=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*Н/кг=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603440"/>
            <a:ext cx="82011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Я измерил на опыте массу линейки с помощью медных монет, а после определил силу тяжести этой линейки. Она равна 0,03 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ом опыте мы убедились, что не для каждого физического опыта обязательно использовать специальное оборудование. В некоторых случаях можно использовать подручные средства, некоторые физические опыты можно проводить в домашних услов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иблиограф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бник по физике 9кл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свещение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В.Перышкин ,Е.М.Гутни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Что я понимаю под инновациями в образовании?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 инновациями понимаю внедрение и практическое использование в работе передовых педагогических технологий, информационных технологий, владение знаниями последних научных исследований в области педагогики и психолог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ультимедиа-уроки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льтимедиа-уроки, которые проводятся на основе приложенных к учебнику компьютерных обучающих дисков или делаю свои презент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редства тестир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интерактивные так и на бумажном носите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как готовые тесты так и разрабатываю самостоятель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сты использую как с выбором ответа так и на установление соответств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1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берите устройства, предназначенные для вывода информ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лон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кроф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а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т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является главным устройством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прос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устройство предназначено для подключения всех внутренних устройств компьют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стемный бл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ешней       памяти компьютера относя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 №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внутренней памяти компьютера относится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лэш-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азерные дис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еративная памя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есткий дис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ая адресуемая часть памяти компьютера  - 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ай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ласте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4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чем заключается свойство дискретности внутренней памяти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ждый байт памяти имеет свой адре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именьшим элементом внутренней памяти является б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няемая программа хранится во внутренней памяти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емь подряд расположенных бит образуют байт памя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м больше тактовая частота процессора, те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ш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скорость работы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ольш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иже объем данных, обрабатываемых за единицу време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чего зависит производительность компьютер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характеристик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объема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количества внешних устройств компьюте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типа монит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 в 7 классе по теме «Устройство компьютера» учебник Угринович Н.Д. «Информатика и ИКТ 7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должите предложение: «При отключении  компьютера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охраняется в регистрах процесс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формация стирается из оперативной памя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прос №6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долговременного хранения информации служ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исковод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перативное запоминающее устройст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ешняя памя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1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/>
        </a:graphic>
      </p:graphicFrame>
      <p:graphicFrame>
        <p:nvGraphicFramePr>
          <p:cNvPr id="210" name=""/>
          <p:cNvGraphicFramePr/>
          <p:nvPr/>
        </p:nvGraphicFramePr>
        <p:xfrm>
          <a:off x="1763640" y="1916280"/>
          <a:ext cx="6077160" cy="3931920"/>
        </p:xfrm>
        <a:graphic>
          <a:graphicData uri="http://schemas.openxmlformats.org/drawingml/2006/table">
            <a:tbl>
              <a:tblPr/>
              <a:tblGrid>
                <a:gridCol w="3038400"/>
                <a:gridCol w="30387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ерационная система (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на диске под определенным именем, где хранятся списки файлов и подкаталогов(папок) по определенной темати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69"/>
          <p:cNvSpPr/>
          <p:nvPr/>
        </p:nvSpPr>
        <p:spPr>
          <a:xfrm>
            <a:off x="0" y="538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пример, в 7 классе по теме «программное обеспечение» учебник Угринович Н.Д. «Информатика и ИКТ 7»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ариант 2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обеспечение 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, записанная на диск под определенным имен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тирование д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о программ, которые управляют работой компьютера и организуют диалог пользователя с операционной систем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кладное программное обеспечение(П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на компьют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оначальная подготовка диска к работе: нанесение магнитных дорожек и секторов на его поверх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ное программн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, используемые для работы в конкретной области человеческой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Какие инновационные образовательные средства применяю в своей практике?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теорию личностно-ориентированного развит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мультимедиа-уроки, которые проводятся на основе компьютерных обучающих дисков или делаю свои презент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средства тестирования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 проектную технолог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ичностно-ориентированные технологи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ехнологии дифференциации и индивидуализаци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2) Профильное  и предпрофильное обучени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3)  Проектные технолог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Цель дифференцированного обучения - создание оптимальных условий для выявления задатков, развития интересов и способностей; сущность – усвоение программного материала на различных планируемых уровнях, но не ниже обязательного (стандарт)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Технологии дифференциации и индивидуализации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же строить урок, чтобы учение всем приносило радость познания, пробуждало интерес к предмету и повышало качество образования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им из наиболее оптимальных решений данного вопроса, на мой взгляд, является использование разноуровневых заданий на различных этапах уро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ъясняю тему для всего класса, если не последует вопросов от учащихся первой группы (сильных учеников), они получают задания творческого характера. Для учащихся второй и третьей групп проводится повторное объяснение темы. Если и здесь не будет вопросов, то учащиеся второй группы получают задания с элементами творчества. Для обучающихся третьей группы ещё раз объясняется материал с использованием таблиц, учебника и даётся практическое задание. Движение вперёд идёт на основе возврата к изученному, усиленного закрепления на большом количестве примеров и упражнений, каждый работает в меру своих сил и возможностей, не теряет интереса к предмет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ноуровневые группы подвижны. Если учащийся второй и третьей групп работает в полную силу, справляется с заданиями, он может перейти в другую группу. Каждый получает справедливо заработанную оценк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ервом этапе изучения темы «Системы счисления», после объяснения теоретического материала учащимся предлагается выполнить ряд заданий для его закрепления. Задания выдаются на карточк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 ?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2) - ? (1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0) - ?(2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16) -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0(8) - ?(2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это время появляется возможность индивидуально работать с теми учащимися, которые не до конца поняли принцип выполнения переводов из одной системы счисления в другую. Во-первых, это работа у доски с подробным рассмотрением каждого выполняемого действия. Во-вторых, это индивидуальная работа с каждым из учеников. После этого учащиеся выполняют выданные задания и получают карточ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 этому времени большинство учащихся успевает справиться со второй карточкой и получают дополнительно творческое задание «Построить по предложенным координатам рисунок, предварительно переведя их в одну из систем счисления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Например, урок объяснения нового материала «Системы счисления» 9 класс учебник Угринович Н. Д. «Информатика и ИКТ 9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, усвоившие материал, справляются с простым заданием очень быстро и получают новую карточку с более сложными пример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ведите числа из 2-ой с/с в 8-ую, 16-ую с/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100101110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1000001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1110010112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10001110112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) 1011001011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5:02:31Z</dcterms:created>
  <dc:creator>Лена</dc:creator>
  <dc:description/>
  <dc:language>en-US</dc:language>
  <cp:lastModifiedBy>LEGION</cp:lastModifiedBy>
  <dcterms:modified xsi:type="dcterms:W3CDTF">2015-04-01T07:49:15Z</dcterms:modified>
  <cp:revision>5</cp:revision>
  <dc:subject/>
  <dc:title>Инновационные технологии на уроках информатики</dc:title>
</cp:coreProperties>
</file>