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E4B8-A507-47B9-8149-1F85E088EC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КТ и ЦОР на уроках информатики в начальной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ff66cc"/>
                </a:solidFill>
                <a:latin typeface="Calibri"/>
              </a:rPr>
              <a:t>«Обучая других — обучаюсь сам».</a:t>
            </a:r>
            <a:br>
              <a:rPr sz="1000"/>
            </a:br>
            <a:r>
              <a:rPr b="0" i="1" lang="ru-RU" sz="1000" spc="-1" strike="noStrike">
                <a:solidFill>
                  <a:srgbClr val="ff66cc"/>
                </a:solidFill>
                <a:latin typeface="Calibri"/>
              </a:rPr>
              <a:t>известный римский философ Сенек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6399-80F9-4FAF-BBB5-3CAD400FF7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спользуя компьютер на уроке нельзя забывать и о том, что мы призваны не только научить ребёнка, но и, по возможности,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сохранить его здоровье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По нормам СанПина непрерывная работа за компьютером учащихся начальной школы не должна превышать 10—15 минут за урок. Об этом нужно помнить при подготовке и планировании уро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5EB1-9DEB-43C9-B8BB-3967B7BD09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«Всё есть лекарство и всё есть я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Нужно знать меру!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Демокр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6437-CDDF-453F-8CC2-823485935A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66ff"/>
                </a:solidFill>
                <a:latin typeface="Calibri"/>
              </a:rPr>
              <a:t>По своему целевому назначению обучающие программы разнообразны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Управляющ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иагностирующ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емонстрационны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енерирующ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перационны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онтролирующ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оделирующие и т. 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ABDC-A5E3-4AF2-B469-FD893E961B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ff"/>
                </a:solidFill>
                <a:latin typeface="Calibri"/>
              </a:rPr>
              <a:t>Существует несколько вариантов использования компьютера на урок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 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обычном классе с 1 компьютеризированным местом учител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что позволяет, демонстрируя слова учителя, удерживать внимание всего класса на объясняемом материале. Данный вариант удобен при изучении нового материала, фронтальной работе с класс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В компьютерном классе (при наличии локальной сети и без неё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), что позволяет каждому ученику продвигаться по теме урока в собственном темпе, т. е. применяется дифференцированный подход к каждому. Данный вариант целесообразно использовать при отработке навыков и при проведении проверочных, контрольных работ, тестировании. Наличие локальной сети облегчает работу учителя и позволяет ему сразу собирать данные по классу в одном месте, что удобно при проверке и анализе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7A51-E997-4521-B47A-E00A265A2C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ff"/>
                </a:solidFill>
                <a:latin typeface="Calibri"/>
              </a:rPr>
              <a:t>ЦОР, можно использовать на уроках в качестве дополнительного или наглядного материал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собое место среди готовых программных продуктов занимает серия НАЧАЛЬНАЯ ШКОЛА компании Кирилл и Мефод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Это не просто диски, а мультимедийные учебники, разработанные с участием ведущих педагогов-практиков, психологов и дизайнеров. Они включают в себя предметы курса начальной школы: ОБУЧЕНИЕ ГРАМОТЕ, РУССКИЙ ЯЗЫК, МАТЕМАТИКУ, ОКРУЖАЮЩИЙ МИР,ИНФОРМАТ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C1D6-1D53-4BF8-B1F0-E19F4C692F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ограмма Информатика - эффективное средство для уяснения, повторения и закрепления начальных понятий информатики. Дети узнают, что такое линейный и разветвляющийся алгоритм, научатся составлять алгоритмы и блок-схемы, угадывать алгоритм работы "черного ящика", работать с системой координат и т.д. Задания систематизированы в соответствии со школьным курсом информатики. Это своеобразный электронный репетитор, который следит за каждым вашим шагом, мгновенно реагирует на ошибки, выводит на экран подсказки и "шпаргалки", подводит итоги каждого выполненного варианта и выставляет оценку. Подробные результаты работы сохраняются также в текстовом фай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10BD-8A75-4BE5-A88A-6893EC8306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удрый Дракоша приглашает всех детей в увлекательное путешествие в мир компьютеров. Наш обаятельный гид расскажет вашему ребенку о первых вычислительных машинах и современных операционных системах, о локальных сетях и Интернете, объяснит устройство компьютера и научит первым правилам безопасности. А в перерывах между экскурсиями можно заниматься отстрелом злобных вирусов и прочими забавными мини-иг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5211-631A-4FA3-94A5-B492AA539B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Это яркое, увлекательное, весёлое пособие создано для школьников 1–4 классов. Чтобы помочь детям сделать первый шаг в страну Информатику легко и с удовольствием, задачи в нём представлены в игровой форме. Каждое новое понятие иллюстрируется примерами из обыденной детской жизни (игрушки, зверюшки, фрукты, овощи, семья, сказки), где ребёнку всё знакомо и ничто его не пугает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атериал пособия разбит на главы по классам, и потому в оглавлении встречаются повторяющиеся названия. Но содержание одноименных глав различается: из класса в класс раскрытие тем постепенно усложняется, освещаются их новые стороны и особенности. Эти занятия развивают у ребёнка абстрактное мышление, способность думать логически, принимать правильные обоснованные решени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иск может быть использован как для самостоятельного обучения, так и в качестве пособия для работы в кла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309F-7B9C-4DDC-A591-2422728396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гры любимы всеми. Но особенно - детьми. Поэтому основу образовательного комплекса (ОК) «Игры и задачи, 1-4 классы» составили красочные интерактивные задания и игровые тренажеры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одержание ОК охватывает основные предметные линии начального образования: обучение грамоте, русский язык, литературное чтение, математика, информатика, окружающий мир, технология и искус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B15B-A573-4F52-905A-8BCDD6220E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Calibri"/>
              </a:rPr>
              <a:t>Комплект интерактивных учебно-методических образовательных программных комплексов серии «УМНИК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337A-5CCA-4E4C-A683-5D9F62119B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A01C-B7FB-41E1-BB1A-68C5D229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89C9-0FA8-41C0-A7EC-E1357B4E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AADD-C16F-4C38-97D2-BE779699F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B968-CA15-4824-8E66-E90CAF89A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A23E-49E7-417F-B865-CFF9B463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7EF1-1738-485D-9E8B-D94520D2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48C3-6437-4E6F-89C7-96B3F7A7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566E-8115-4FF4-8B5A-3B25319D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64BA-8D29-439E-A805-29D6E043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3B8E-B1F7-474C-8C7A-3F9C77B6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AF89-9628-4AF7-8FE2-2A2E354E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35A7-278A-4FD4-A85B-5BFE1D06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2E3A-1D00-4B41-B4AD-A9BBF981E7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2204640"/>
            <a:ext cx="6480000" cy="16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пользование ИКТ и ЦОР на уроках информатики в начальной школ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92360" y="5084280"/>
            <a:ext cx="6400800" cy="12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66cc"/>
                </a:solidFill>
                <a:latin typeface="Arial"/>
              </a:rPr>
              <a:t>«Обучая других — обучаюсь сам».</a:t>
            </a:r>
            <a:br>
              <a:rPr sz="2800"/>
            </a:br>
            <a:r>
              <a:rPr b="0" i="1" lang="ru-RU" sz="2800" spc="-1" strike="noStrike">
                <a:solidFill>
                  <a:srgbClr val="ff66cc"/>
                </a:solidFill>
                <a:latin typeface="Arial"/>
              </a:rPr>
              <a:t>известный римский философ Сен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уя компьютер на уроке нельзя забывать и о том, что мы призваны не только научить ребёнка, но и, по возможности, </a:t>
            </a: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сохранить его здоровье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ffff"/>
                </a:solidFill>
                <a:latin typeface="Arial"/>
              </a:rPr>
              <a:t>По нормам СанПина непрерывная работа за компьютером учащихся начальной школы не должна превышать 10—15 минут за урок. Об этом нужно помнить при подготовке и планировании уро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9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«Всё есть лекарство и всё есть я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Нужно знать меру!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Демокри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687708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По своему целевому назначению обучающие программы разнообраз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правляющ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иагностирующ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монстрационн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нерирующ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ерационн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тролирующ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делирующие и т. 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648036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Существует несколько вариантов использования компьютера на уро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 </a:t>
            </a: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обычном классе с 1 компьютеризированным местом учител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что позволяет, демонстрируя слова учителя, удерживать внимание всего класса на объясняемом материале. Данный вариант удобен при изучении нового материала, фронтальной работе с класс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В компьютерном классе (при наличии локальной сети и без неё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, что позволяет каждому ученику продвигаться по теме урока в собственном темпе, т. е. применяется дифференцированный подход к каждому. Данный вариант целесообразно использовать при отработке навыков и при проведении проверочных, контрольных работ, тестировании. Наличие локальной сети облегчает работу учителя и позволяет ему сразу собирать данные по классу в одном месте, что удобно при проверке и анализе у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41988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ЦОР, можно использовать на уроках в качестве дополнительного или наглядного матери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обое место среди готовых программных продуктов занимает серия НАЧАЛЬНАЯ ШКОЛА компании Кирилл и Мефод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 не просто диски, а мультимедийные учебники, разработанные с участием ведущих педагогов-практиков, психологов и дизайнеров. Они включают в себя предметы курса начальной школы: ОБУЧЕНИЕ ГРАМОТЕ, РУССКИЙ ЯЗЫК, МАТЕМАТИКУ, ОКРУЖАЮЩИЙ МИР,ИНФОРМАТ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i-main-pic" descr="Картинка 14 из 1203"/>
          <p:cNvPicPr/>
          <p:nvPr/>
        </p:nvPicPr>
        <p:blipFill>
          <a:blip r:embed="rId1"/>
          <a:stretch/>
        </p:blipFill>
        <p:spPr>
          <a:xfrm>
            <a:off x="4572000" y="4076640"/>
            <a:ext cx="1666800" cy="1952640"/>
          </a:xfrm>
          <a:prstGeom prst="rect">
            <a:avLst/>
          </a:prstGeom>
          <a:ln w="0">
            <a:noFill/>
          </a:ln>
        </p:spPr>
      </p:pic>
      <p:pic>
        <p:nvPicPr>
          <p:cNvPr id="60" name="i-main-pic" descr="Картинка 2 из 1203"/>
          <p:cNvPicPr/>
          <p:nvPr/>
        </p:nvPicPr>
        <p:blipFill>
          <a:blip r:embed="rId2"/>
          <a:stretch/>
        </p:blipFill>
        <p:spPr>
          <a:xfrm>
            <a:off x="6588000" y="4005360"/>
            <a:ext cx="2232000" cy="22111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грамма Информатика - эффективное средство для уяснения, повторения и закрепления начальных понятий информатики. Дети узнают, что такое линейный и разветвляющийся алгоритм, научатся составлять алгоритмы и блок-схемы, угадывать алгоритм работы "черного ящика", работать с системой координат и т.д. Задания систематизированы в соответствии со школьным курсом информатики. Это своеобразный электронный репетитор, который следит за каждым вашим шагом, мгновенно реагирует на ошибки, выводит на экран подсказки и "шпаргалки", подводит итоги каждого выполненного варианта и выставляет оценку. Подробные результаты работы сохраняются также в текстовом фай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148750"/>
          <p:cNvPicPr/>
          <p:nvPr/>
        </p:nvPicPr>
        <p:blipFill>
          <a:blip r:embed="rId1"/>
          <a:stretch/>
        </p:blipFill>
        <p:spPr>
          <a:xfrm>
            <a:off x="6227640" y="0"/>
            <a:ext cx="2305080" cy="19670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удрый Дракоша приглашает всех детей в увлекательное путешествие в мир компьютеров. Наш обаятельный гид расскажет вашему ребенку о первых вычислительных машинах и современных операционных системах, о локальных сетях и Интернете, объяснит устройство компьютера и научит первым правилам безопасности. А в перерывах между экскурсиями можно заниматься отстрелом злобных вирусов и прочими забавными мини-иг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170507"/>
          <p:cNvPicPr/>
          <p:nvPr/>
        </p:nvPicPr>
        <p:blipFill>
          <a:blip r:embed="rId1"/>
          <a:stretch/>
        </p:blipFill>
        <p:spPr>
          <a:xfrm>
            <a:off x="6227640" y="0"/>
            <a:ext cx="2232000" cy="19684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 яркое, увлекательное, весёлое пособие создано для школьников 1–4 классов. Чтобы помочь детям сделать первый шаг в страну Информатику легко и с удовольствием, задачи в нём представлены в игровой форме. Каждое новое понятие иллюстрируется примерами из обыденной детской жизни (игрушки, зверюшки, фрукты, овощи, семья, сказки), где ребёнку всё знакомо и ничто его не пугает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териал пособия разбит на главы по классам, и потому в оглавлении встречаются повторяющиеся названия. Но содержание одноименных глав различается: из класса в класс раскрытие тем постепенно усложняется, освещаются их новые стороны и особенности. Эти занятия развивают у ребёнка абстрактное мышление, способность думать логически, принимать правильные обоснованные решения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ск может быть использован как для самостоятельного обучения, так и в качестве пособия для работы в кла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i-main-pic" descr="Картинка 1 из 431"/>
          <p:cNvPicPr/>
          <p:nvPr/>
        </p:nvPicPr>
        <p:blipFill>
          <a:blip r:embed="rId1"/>
          <a:stretch/>
        </p:blipFill>
        <p:spPr>
          <a:xfrm>
            <a:off x="6372360" y="0"/>
            <a:ext cx="2381040" cy="33526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 любимы всеми. Но особенно - детьми. Поэтому основу образовательного комплекса (ОК) «Игры и задачи, 1-4 классы» составили красочные интерактивные задания и игровые тренажеры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держание ОК охватывает основные предметные линии начального образования: обучение грамоте, русский язык, литературное чтение, математика, информатика, окружающий мир, технология и искус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i-main-pic" descr="Картинка 33 из 431"/>
          <p:cNvPicPr/>
          <p:nvPr/>
        </p:nvPicPr>
        <p:blipFill>
          <a:blip r:embed="rId1"/>
          <a:stretch/>
        </p:blipFill>
        <p:spPr>
          <a:xfrm>
            <a:off x="6156360" y="189000"/>
            <a:ext cx="2400120" cy="338436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120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ff"/>
                </a:solidFill>
                <a:latin typeface="Arial"/>
              </a:rPr>
              <a:t>Комплект интерактивных учебно-методических образовательных программных комплексов серии «УМНИК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smart"/>
          <p:cNvPicPr/>
          <p:nvPr/>
        </p:nvPicPr>
        <p:blipFill>
          <a:blip r:embed="rId1"/>
          <a:stretch/>
        </p:blipFill>
        <p:spPr>
          <a:xfrm>
            <a:off x="5796000" y="0"/>
            <a:ext cx="3238560" cy="24098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179280" y="2492280"/>
            <a:ext cx="820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Высокая интерактивность обучающих курсов · Простота в использовании · Богатый визуальный материал (яркая анимация явлений и процессов, 3D-модели, динамические схемы, интерактивные таблицы, фотографии и иллюстрации) · Учебный материал программ представлен в виде логически завершенных отдельных фраг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04:34:54Z</dcterms:created>
  <dc:creator>Mosina T.V</dc:creator>
  <dc:description/>
  <dc:language>en-US</dc:language>
  <cp:lastModifiedBy>LEGION</cp:lastModifiedBy>
  <dcterms:modified xsi:type="dcterms:W3CDTF">2015-04-01T07:49:35Z</dcterms:modified>
  <cp:revision>6</cp:revision>
  <dc:subject/>
  <dc:title>Использование ИКТ и ЦОР на уроках информатики в начальной школе.</dc:title>
</cp:coreProperties>
</file>