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1D96-EA06-41E5-8727-8FA90BDEBD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КТ и ЦОР на уроках информатики в начальной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«Обучая других — обучаюсь сам».</a:t>
            </a:r>
            <a:br>
              <a:rPr sz="1000"/>
            </a:b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известный римский философ Сене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CDF4-03FC-432F-9711-DE9AB89F05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охранить его здоровье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9BF6-9174-4884-99F9-CFA3F142FF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«Всё есть лекарство и всё есть я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Нужно знать меру!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D6BC-D327-431B-8FD3-5DDE4928AF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66ff"/>
                </a:solidFill>
                <a:latin typeface="Calibri"/>
              </a:rPr>
              <a:t>По своему целевому назначению обучающие программы разнообразн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правля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агност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нст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нер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е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нтрол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оделирующие и т. 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A5AF-887C-4AAA-AA85-7DB37FBD68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Существует несколько вариантов использования компьютера на уро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 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обычном классе с 1 компьютеризированным местом учител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 компьютерном классе (при наличии локальной сети и без неё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6941-DD35-413E-BCC0-7729B6C262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325A-5D20-46CB-A5F7-ACA878C9C4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57BE-3684-40AF-A966-2630CD7602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F153-EDFC-4D31-AED8-CA17EB3BCD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415F-EC58-4714-B678-E439EBCCB1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6799-9166-4603-9B6F-11E9C4D738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9F32-F6B2-41E8-A937-2E25ADF4A6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CE7-3BFD-4547-88D7-EA359668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057-7449-4332-87AD-B997916C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36C-4F64-4203-A82D-F217C98E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3D8-EBB7-4F52-9EBE-E34804CB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D07-CA43-4268-83A3-48A0F175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14C-D86A-4084-9750-22E29238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330-7FA1-430A-A620-D14B6256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CA8-F416-4DDB-9CAB-16EEFE6A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512-CE57-4835-8D7D-0E5C7639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A2E-683A-41AE-9231-C6E342D4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044-5FC2-4057-917E-ED7D201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01C-DEC4-42AC-8542-F6A7395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E871-3A73-4B73-A09C-752261EAF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4640"/>
            <a:ext cx="64800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льзование ИКТ и ЦОР на уроках информатики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508428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«Обучая других — обучаюсь сам».</a:t>
            </a:r>
            <a:br>
              <a:rPr sz="2800"/>
            </a:b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известный римский философ 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охранить его здоровь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«Всё есть лекарство и всё есть я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Нужно знать меру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Демокр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877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о своему целевому назначению обучающие программы разнообраз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ност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нст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ер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ирующие и т. 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48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уществует несколько вариантов использования компьютера на 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обычном классе с 1 компьютеризированным местом учите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В компьютерном классе (при наличии локальной сети и без неё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19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-main-pic" descr="Картинка 14 из 1203"/>
          <p:cNvPicPr/>
          <p:nvPr/>
        </p:nvPicPr>
        <p:blipFill>
          <a:blip r:embed="rId1"/>
          <a:stretch/>
        </p:blipFill>
        <p:spPr>
          <a:xfrm>
            <a:off x="4572000" y="4076640"/>
            <a:ext cx="1666800" cy="195264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2 из 1203"/>
          <p:cNvPicPr/>
          <p:nvPr/>
        </p:nvPicPr>
        <p:blipFill>
          <a:blip r:embed="rId2"/>
          <a:stretch/>
        </p:blipFill>
        <p:spPr>
          <a:xfrm>
            <a:off x="6588000" y="4005360"/>
            <a:ext cx="2232000" cy="22111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48750"/>
          <p:cNvPicPr/>
          <p:nvPr/>
        </p:nvPicPr>
        <p:blipFill>
          <a:blip r:embed="rId1"/>
          <a:stretch/>
        </p:blipFill>
        <p:spPr>
          <a:xfrm>
            <a:off x="6227640" y="0"/>
            <a:ext cx="2305080" cy="1967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70507"/>
          <p:cNvPicPr/>
          <p:nvPr/>
        </p:nvPicPr>
        <p:blipFill>
          <a:blip r:embed="rId1"/>
          <a:stretch/>
        </p:blipFill>
        <p:spPr>
          <a:xfrm>
            <a:off x="6227640" y="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1 из 431"/>
          <p:cNvPicPr/>
          <p:nvPr/>
        </p:nvPicPr>
        <p:blipFill>
          <a:blip r:embed="rId1"/>
          <a:stretch/>
        </p:blipFill>
        <p:spPr>
          <a:xfrm>
            <a:off x="6372360" y="0"/>
            <a:ext cx="2381040" cy="33526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-main-pic" descr="Картинка 33 из 431"/>
          <p:cNvPicPr/>
          <p:nvPr/>
        </p:nvPicPr>
        <p:blipFill>
          <a:blip r:embed="rId1"/>
          <a:stretch/>
        </p:blipFill>
        <p:spPr>
          <a:xfrm>
            <a:off x="6156360" y="189000"/>
            <a:ext cx="2400120" cy="3384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12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mart"/>
          <p:cNvPicPr/>
          <p:nvPr/>
        </p:nvPicPr>
        <p:blipFill>
          <a:blip r:embed="rId1"/>
          <a:stretch/>
        </p:blipFill>
        <p:spPr>
          <a:xfrm>
            <a:off x="5796000" y="0"/>
            <a:ext cx="3238560" cy="2409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9280" y="249228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Высокая интерактивность обучающих курсов · Простота в использовании · Богатый визуальный материал (яркая анимация явлений и процессов, 3D-модели, динамические схемы, интерактивные таблицы, фотографии и иллюстрации) · Учебный материал программ представлен в виде логически завершенных отдельных фраг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34:54Z</dcterms:created>
  <dc:creator>Mosina T.V</dc:creator>
  <dc:description/>
  <dc:language>en-US</dc:language>
  <cp:lastModifiedBy>LEGION</cp:lastModifiedBy>
  <dcterms:modified xsi:type="dcterms:W3CDTF">2015-04-01T07:49:35Z</dcterms:modified>
  <cp:revision>6</cp:revision>
  <dc:subject/>
  <dc:title>Использование ИКТ и ЦОР на уроках информатики в начальной школе.</dc:title>
</cp:coreProperties>
</file>