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248F-9820-4F21-ADF1-8A0E1B576E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менение ЦОР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уроках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1B94-52C4-4151-B840-9C35819DA3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«Современная Россия глазами детей». Это урок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C3E0-1718-41B8-8517-8A867CB98B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CBD7-DFB6-4182-BF25-4E668E3BE4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B5BA-24A5-44EF-8D22-897FB0D6F7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CFA1-8846-41F0-B867-F8502929F8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chool-collection.edu.ru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CA54-1308-4837-9CBC-A92A29FB27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1219-AF87-488C-9209-9E35E22C8A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50AB-DEF0-4542-B891-BAD9E5995B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6892-7558-4873-BB51-CE6E55F775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музыка (работы на Всероссийскую олимпиаду по искусству и музык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истор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C2CE-F4CA-4695-8FE4-77CFAAC014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C4D39-3C3C-4C85-AE99-75E4BD8B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2005-5F2F-44B8-8B78-710461CE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80C0-3C7F-4384-BACB-5C505E9F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361F-398E-4293-95F2-6BE6F7FA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5678-4ED1-4548-80CD-683D985E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561B-3F75-4A56-BA4B-2DBFC036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769A-F8CD-4201-AB2C-DBBBAB0E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FFB7-ED06-4F35-9E4E-574E74F5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9C74-0924-4D32-B788-19059778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A177-F20A-4AFA-950B-72FEEFC0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718C-9D4D-449C-974A-4D2AE113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5175-8523-460E-90E5-BA609408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28FD-26B5-491F-94DA-7223F669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F062-8E32-43A5-90F4-314344C4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7535-DD80-4AC6-9CBF-31ACC509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2968-CFCC-4C24-9DEA-EBEB550C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D10C-B287-4FCD-9298-CC36C5BA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29EB-E538-4ADB-A377-047B4DB2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381F-CAD5-4240-8D87-6E261031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C7FC-3E01-42C7-AE9B-80470838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BA49-5D54-4664-8331-F353CAF3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94B0-6793-4D9D-B921-B264192B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62B78-B7F9-45DE-ACD3-4D844B41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4AB1-E0B3-4E2B-B471-2FF4A3F0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9899-2183-47FD-8FF3-0606B02271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F0A1-2FD8-4709-8C67-10ACAFCB1B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7;&#1077;&#1084;&#1080;&#1085;&#1072;&#1088;%20&#1045;&#1082;&#1080;&#1084;&#1086;&#1074;&#1072;/&#1091;&#1088;&#1086;&#1082;%20&#1089;&#1086;&#1074;&#1088;&#1077;&#1084;&#1077;&#1085;&#1085;&#1072;&#1103;%20&#1056;&#1086;&#1089;&#1089;&#1080;&#1103;%20&#1075;&#1083;&#1072;&#1079;&#1072;&#1084;&#1080;%20&#1076;&#1077;&#1090;&#1077;&#1081;.ppt" TargetMode="External"/><Relationship Id="rId2" Type="http://schemas.openxmlformats.org/officeDocument/2006/relationships/hyperlink" Target="file:///&#1057;&#1077;&#1084;&#1080;&#1085;&#1072;&#1088;%20&#1045;&#1082;&#1080;&#1084;&#1086;&#1074;&#1072;/&#1054;&#1090;&#1082;&#1088;&#1099;&#1090;&#1099;&#1081;%20&#1091;&#1088;&#1086;&#1082;%20&#1076;&#1083;&#1103;%20&#1087;&#1088;&#1077;&#1079;&#1080;&#1076;&#1077;&#1085;&#1090;&#1072;%20&#1056;&#1086;&#1089;&#1089;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hyperlink" Target="file:///&#1054;&#1083;&#1080;&#1084;&#1087;&#1080;&#1072;&#1076;&#1072;.%20&#1045;&#1082;&#1080;&#1084;&#1086;&#1074;&#1072;%20&#1053;&#1080;&#1085;&#1072;/&#1054;&#1083;&#1080;&#1084;&#1087;&#1080;&#1072;&#1076;&#1072;%20&#1084;&#1091;&#1079;&#1099;&#1082;&#1072;%20&#1053;&#1080;&#1085;&#1072;%20&#1045;&#1082;&#1080;&#1084;&#1086;&#1074;&#1072;%20&#1043;&#1054;&#1059;&#1057;&#1054;&#1064;%20&#8470;%20264.ppt" TargetMode="External"/><Relationship Id="rId5" Type="http://schemas.openxmlformats.org/officeDocument/2006/relationships/hyperlink" Target="file:///&#1041;&#1072;&#1083;&#1099;%20&#1074;%20XVIII%20&#1074;%20&#1055;&#1077;&#1090;&#1077;&#1088;&#1073;&#1091;&#1088;&#1075;&#1077;.ppt" TargetMode="External"/><Relationship Id="rId6" Type="http://schemas.openxmlformats.org/officeDocument/2006/relationships/hyperlink" Target="file:///&#1050;&#1091;&#1079;&#1085;&#1077;&#1094;&#1086;&#1074;&#1072;%20&#1050;/&#1055;&#1088;&#1077;&#1079;&#1077;&#1085;&#1090;&#1072;&#1094;&#1080;&#1103;/Adobe%20Photoshop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Применение ЦОР </a:t>
            </a:r>
            <a:br>
              <a:rPr sz="4600"/>
            </a:b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на уроках информа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84000" y="4437000"/>
            <a:ext cx="6480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«Современная Россия глазами детей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Это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урок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M900178307[1]"/>
          <p:cNvPicPr/>
          <p:nvPr/>
        </p:nvPicPr>
        <p:blipFill>
          <a:blip r:embed="rId3"/>
          <a:stretch/>
        </p:blipFill>
        <p:spPr>
          <a:xfrm>
            <a:off x="6588000" y="4940280"/>
            <a:ext cx="1171800" cy="1171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M900254490[1]"/>
          <p:cNvPicPr/>
          <p:nvPr/>
        </p:nvPicPr>
        <p:blipFill>
          <a:blip r:embed="rId1"/>
          <a:stretch/>
        </p:blipFill>
        <p:spPr>
          <a:xfrm>
            <a:off x="6300720" y="364500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M900283268[1]"/>
          <p:cNvPicPr/>
          <p:nvPr/>
        </p:nvPicPr>
        <p:blipFill>
          <a:blip r:embed="rId1"/>
          <a:stretch/>
        </p:blipFill>
        <p:spPr>
          <a:xfrm>
            <a:off x="7164360" y="5162400"/>
            <a:ext cx="1203480" cy="1189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school-collection.edu.ru/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M900283757[1]"/>
          <p:cNvPicPr/>
          <p:nvPr/>
        </p:nvPicPr>
        <p:blipFill>
          <a:blip r:embed="rId3"/>
          <a:stretch/>
        </p:blipFill>
        <p:spPr>
          <a:xfrm>
            <a:off x="4643280" y="4437000"/>
            <a:ext cx="288144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42472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C900345651[1]"/>
          <p:cNvPicPr/>
          <p:nvPr/>
        </p:nvPicPr>
        <p:blipFill>
          <a:blip r:embed="rId1"/>
          <a:stretch/>
        </p:blipFill>
        <p:spPr>
          <a:xfrm>
            <a:off x="6372360" y="4869000"/>
            <a:ext cx="1636560" cy="176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C900234103[1]"/>
          <p:cNvPicPr/>
          <p:nvPr/>
        </p:nvPicPr>
        <p:blipFill>
          <a:blip r:embed="rId2"/>
          <a:stretch/>
        </p:blipFill>
        <p:spPr>
          <a:xfrm>
            <a:off x="826920" y="5229360"/>
            <a:ext cx="2217960" cy="1412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C900215934[1]"/>
          <p:cNvPicPr/>
          <p:nvPr/>
        </p:nvPicPr>
        <p:blipFill>
          <a:blip r:embed="rId1"/>
          <a:stretch/>
        </p:blipFill>
        <p:spPr>
          <a:xfrm>
            <a:off x="3419640" y="3141720"/>
            <a:ext cx="2304720" cy="1224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M900286755[1]"/>
          <p:cNvPicPr/>
          <p:nvPr/>
        </p:nvPicPr>
        <p:blipFill>
          <a:blip r:embed="rId1"/>
          <a:stretch/>
        </p:blipFill>
        <p:spPr>
          <a:xfrm>
            <a:off x="7308720" y="5445000"/>
            <a:ext cx="1440000" cy="1413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Информатика и музыка (работы на Всероссийскую олимпиаду по искусству и музык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Информатика и история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2:40Z</dcterms:created>
  <dc:creator>user</dc:creator>
  <dc:description/>
  <dc:language>en-US</dc:language>
  <cp:lastModifiedBy>LEGION</cp:lastModifiedBy>
  <dcterms:modified xsi:type="dcterms:W3CDTF">2015-04-01T07:50:42Z</dcterms:modified>
  <cp:revision>16</cp:revision>
  <dc:subject/>
  <dc:title>Применение ЦОР  на уроках информатики</dc:title>
</cp:coreProperties>
</file>