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34E9-B63A-4F45-9F58-534ED45E61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менение ЦОР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уроках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A8CA-A75F-4503-9F6C-A7A13A3B4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«Современная Россия глазами детей». Это урок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3CFC-72E6-439E-B1AE-9DC59139B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B248-FA43-4E79-B9F3-BD96685CC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C86F-EF70-4B1D-91B5-95688545E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C0E-81A4-4614-BB81-413483AA0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chool-collection.edu.ru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FAA-3B95-43E3-8900-D59D4EE841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2E81-01CF-405A-87BB-30376154B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65F-D7A6-46FA-B069-F61D44841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D35-5311-45FD-8A4E-171ACC896A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музыка (работы на Всероссийскую олимпиаду по искусству и музык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истор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5D66-E232-49D4-8D60-0624EE1BC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66B7C-0786-4C7D-857E-B69593AA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3182-E30E-48F5-A3FF-BFCFCD83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6525-9C62-423C-A547-80AA1AB6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A7D6-5D54-4BCE-A87D-C4D2119B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FE7A-469D-46BF-872C-D9A9009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37CF-08A3-4862-B5B2-66D8901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DA2F-C583-4801-A105-F27C8D4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CD8-CE6D-4B6E-A9FA-A5F59F0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001C-86FA-47F0-9B0A-6C53F921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58B0-487D-4DA5-9C1D-BAD3580D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495-BF59-4A1B-A6C5-6519B62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BC68-7993-4104-A20E-C0B69D16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5C0-E29E-4DD2-A50E-AFA0508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7D5D-B69B-423C-831F-DAC145A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D3C9-8904-4915-9568-10BC9762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0380-868F-482E-AD43-177C1CB1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D417-EE4E-45B8-AB53-15973BE0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1C91-1843-4AAF-9466-D578027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DD00-4A05-41B8-B6F7-817D58FA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6E6C-4C77-491F-A1DB-EF0AD52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9F18-7FD6-47C9-B097-6E28FA4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65D5-7800-4A5F-BAC3-B46E28D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12B6-4C94-4E0B-98AB-6A67D46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2201-0E23-4612-BC3F-6B13565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EAE4-1C43-41C2-8957-2E29F708DA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A5C0-3DBF-4333-82C9-48612E637B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&#1077;&#1084;&#1080;&#1085;&#1072;&#1088;%20&#1045;&#1082;&#1080;&#1084;&#1086;&#1074;&#1072;/&#1091;&#1088;&#1086;&#1082;%20&#1089;&#1086;&#1074;&#1088;&#1077;&#1084;&#1077;&#1085;&#1085;&#1072;&#1103;%20&#1056;&#1086;&#1089;&#1089;&#1080;&#1103;%20&#1075;&#1083;&#1072;&#1079;&#1072;&#1084;&#1080;%20&#1076;&#1077;&#1090;&#1077;&#1081;.ppt" TargetMode="External"/><Relationship Id="rId2" Type="http://schemas.openxmlformats.org/officeDocument/2006/relationships/hyperlink" Target="file:///&#1057;&#1077;&#1084;&#1080;&#1085;&#1072;&#1088;%20&#1045;&#1082;&#1080;&#1084;&#1086;&#1074;&#1072;/&#1054;&#1090;&#1082;&#1088;&#1099;&#1090;&#1099;&#1081;%20&#1091;&#1088;&#1086;&#1082;%20&#1076;&#1083;&#1103;%20&#1087;&#1088;&#1077;&#1079;&#1080;&#1076;&#1077;&#1085;&#1090;&#1072;%20&#1056;&#1086;&#1089;&#1089;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hyperlink" Target="file:///&#1054;&#1083;&#1080;&#1084;&#1087;&#1080;&#1072;&#1076;&#1072;.%20&#1045;&#1082;&#1080;&#1084;&#1086;&#1074;&#1072;%20&#1053;&#1080;&#1085;&#1072;/&#1054;&#1083;&#1080;&#1084;&#1087;&#1080;&#1072;&#1076;&#1072;%20&#1084;&#1091;&#1079;&#1099;&#1082;&#1072;%20&#1053;&#1080;&#1085;&#1072;%20&#1045;&#1082;&#1080;&#1084;&#1086;&#1074;&#1072;%20&#1043;&#1054;&#1059;&#1057;&#1054;&#1064;%20&#8470;%20264.ppt" TargetMode="External"/><Relationship Id="rId5" Type="http://schemas.openxmlformats.org/officeDocument/2006/relationships/hyperlink" Target="file:///&#1041;&#1072;&#1083;&#1099;%20&#1074;%20XVIII%20&#1074;%20&#1055;&#1077;&#1090;&#1077;&#1088;&#1073;&#1091;&#1088;&#1075;&#1077;.ppt" TargetMode="External"/><Relationship Id="rId6" Type="http://schemas.openxmlformats.org/officeDocument/2006/relationships/hyperlink" Target="file:///&#1050;&#1091;&#1079;&#1085;&#1077;&#1094;&#1086;&#1074;&#1072;%20&#1050;/&#1055;&#1088;&#1077;&#1079;&#1077;&#1085;&#1090;&#1072;&#1094;&#1080;&#1103;/Adobe%20Photoshop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Применение ЦОР </a:t>
            </a:r>
            <a:br>
              <a:rPr sz="4600"/>
            </a:b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на уроках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84000" y="4437000"/>
            <a:ext cx="64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«Современная Россия глазами детей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Это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ур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M900178307[1]"/>
          <p:cNvPicPr/>
          <p:nvPr/>
        </p:nvPicPr>
        <p:blipFill>
          <a:blip r:embed="rId3"/>
          <a:stretch/>
        </p:blipFill>
        <p:spPr>
          <a:xfrm>
            <a:off x="6588000" y="4940280"/>
            <a:ext cx="117180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M900254490[1]"/>
          <p:cNvPicPr/>
          <p:nvPr/>
        </p:nvPicPr>
        <p:blipFill>
          <a:blip r:embed="rId1"/>
          <a:stretch/>
        </p:blipFill>
        <p:spPr>
          <a:xfrm>
            <a:off x="630072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M900283268[1]"/>
          <p:cNvPicPr/>
          <p:nvPr/>
        </p:nvPicPr>
        <p:blipFill>
          <a:blip r:embed="rId1"/>
          <a:stretch/>
        </p:blipFill>
        <p:spPr>
          <a:xfrm>
            <a:off x="7164360" y="516240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school-collection.edu.ru/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M900283757[1]"/>
          <p:cNvPicPr/>
          <p:nvPr/>
        </p:nvPicPr>
        <p:blipFill>
          <a:blip r:embed="rId3"/>
          <a:stretch/>
        </p:blipFill>
        <p:spPr>
          <a:xfrm>
            <a:off x="4643280" y="4437000"/>
            <a:ext cx="28814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247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345651[1]"/>
          <p:cNvPicPr/>
          <p:nvPr/>
        </p:nvPicPr>
        <p:blipFill>
          <a:blip r:embed="rId1"/>
          <a:stretch/>
        </p:blipFill>
        <p:spPr>
          <a:xfrm>
            <a:off x="6372360" y="4869000"/>
            <a:ext cx="163656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900234103[1]"/>
          <p:cNvPicPr/>
          <p:nvPr/>
        </p:nvPicPr>
        <p:blipFill>
          <a:blip r:embed="rId2"/>
          <a:stretch/>
        </p:blipFill>
        <p:spPr>
          <a:xfrm>
            <a:off x="826920" y="5229360"/>
            <a:ext cx="2217960" cy="1412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C900215934[1]"/>
          <p:cNvPicPr/>
          <p:nvPr/>
        </p:nvPicPr>
        <p:blipFill>
          <a:blip r:embed="rId1"/>
          <a:stretch/>
        </p:blipFill>
        <p:spPr>
          <a:xfrm>
            <a:off x="3419640" y="3141720"/>
            <a:ext cx="230472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M900286755[1]"/>
          <p:cNvPicPr/>
          <p:nvPr/>
        </p:nvPicPr>
        <p:blipFill>
          <a:blip r:embed="rId1"/>
          <a:stretch/>
        </p:blipFill>
        <p:spPr>
          <a:xfrm>
            <a:off x="7308720" y="5445000"/>
            <a:ext cx="1440000" cy="1413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форматика и музыка (работы на Всероссийскую олимпиаду по искусству и музы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форматика и истор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2:40Z</dcterms:created>
  <dc:creator>user</dc:creator>
  <dc:description/>
  <dc:language>en-US</dc:language>
  <cp:lastModifiedBy>LEGION</cp:lastModifiedBy>
  <dcterms:modified xsi:type="dcterms:W3CDTF">2015-04-01T07:50:42Z</dcterms:modified>
  <cp:revision>16</cp:revision>
  <dc:subject/>
  <dc:title>Применение ЦОР  на уроках информатики</dc:title>
</cp:coreProperties>
</file>