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5.wmf" ContentType="image/x-wmf"/>
  <Override PartName="/ppt/media/image3.gif" ContentType="image/gif"/>
  <Override PartName="/ppt/media/image6.wmf" ContentType="image/x-wmf"/>
  <Override PartName="/ppt/media/image4.gif" ContentType="image/gif"/>
  <Override PartName="/ppt/media/image7.wmf" ContentType="image/x-wmf"/>
  <Override PartName="/ppt/media/image8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46F36-1787-4A57-ACA4-5B30A03BF8A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hyperlink" Target="http://school-collection.edu.ru/" TargetMode="External"/><Relationship Id="rId2" Type="http://schemas.openxmlformats.org/officeDocument/2006/relationships/hyperlink" Target="http://school-collection.edu.ru/" TargetMode="External"/><Relationship Id="rId3" Type="http://schemas.openxmlformats.org/officeDocument/2006/relationships/slide" Target="../slides/slide2.xml"/><Relationship Id="rId4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school-collection.edu.ru/" TargetMode="External"/><Relationship Id="rId2" Type="http://schemas.openxmlformats.org/officeDocument/2006/relationships/hyperlink" Target="http://school-collection.edu.ru/" TargetMode="External"/><Relationship Id="rId3" Type="http://schemas.openxmlformats.org/officeDocument/2006/relationships/slide" Target="../slides/slide5.xml"/><Relationship Id="rId4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hyperlink" Target="http://school-collection.edu.ru/" TargetMode="External"/><Relationship Id="rId2" Type="http://schemas.openxmlformats.org/officeDocument/2006/relationships/hyperlink" Target="http://school-collection.edu.ru/" TargetMode="External"/><Relationship Id="rId3" Type="http://schemas.openxmlformats.org/officeDocument/2006/relationships/hyperlink" Target="file:///&#1057;&#1084;&#1086;&#1083;&#1100;&#1085;&#1099;&#1081;%20&#1080;&#1085;&#1089;&#1090;&#1080;&#1090;&#1091;&#1090;.ppt" TargetMode="External"/><Relationship Id="rId4" Type="http://schemas.openxmlformats.org/officeDocument/2006/relationships/slide" Target="../slides/slide9.xml"/><Relationship Id="rId5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рименение ЦОР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на уроках информати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Учитель инфор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ГОУ СОШ № 26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Екимова Римма Виталье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C2157-438A-4554-97FB-744FE5D4C0A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Хочется показать особенно удачно спланированный урок: «Современная Россия глазами детей». Это урок повторения, на котором учащиеся закрепляют полученные знания по теме создание компьютерных презентаций используют ЦО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5B273-2159-4774-A06E-37D456A916B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Что такое ЦОР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Цифровые образовательные ресурсы – это объекты, предназначенные для образовательных целей, представленные в цифровом (электронном) виде, доступные для использования, собранные в одном огромном архиве, расположенном на сайте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http://school-collection.edu.ru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8688A-5DC4-4DBD-80E5-3559657FE7B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Объекты ЦОР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Фотограф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виде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информационные объек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кар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резент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звуковые запис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текстовые докумен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48B1C-1F4B-4C7F-8167-6E6875979B1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Задачи ЦОР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редъявление учебной информ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информационно-справочное обеспечение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всех видов занят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моделирование и демонстрация объек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оддержка различных форм активных фор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занят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тренаж навыков и умений решения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различных задач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контроль навыков и зна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36DFE-0F18-481E-AB9C-AB1B7DC2E76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Материалы на сайте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school-collection.edu.ru/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расположены очень удачно, есть подборки по предметам, по классам, по различным технологиям, а также есть техническая поддержка, можно скачать необходимое ПО, не беспокоясь за его качество, его стоимость, а также исключает возможность заражения своего компьюте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B5A16-D0C1-4C9B-82C4-D64E2AA12A2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Каждый учитель, разрабатывая свой урок, хочет найти много нужной, полезной, наглядной  и интересной информации. Для этого он использует книги (художественную литературу, техническую, научно-популярную), а также возможности сети Интернет. Но сделать это не всегда просто: мешает нехватка времени, в Интернете оглушает ненужная реклама, подстерегают вирусы и т.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A31FF-D5EE-40FD-948A-E532BE86956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Ни для кого не секрет, что борьба с этим  отнимает много времени и сил. И не кривя душой, не всегда это под силу, каждый урок продумать до мелочей и сделать конфеткой, особенно если нагрузка вели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На помощь учителю приходит сайт с ЦОР (можно использовать готовые решения, усовершенствовать имеющиеся, естественно сохраняя авторские права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BC99D-B451-47F0-B0D7-5E2605D7DF3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Мне очень нравиться использовать ЦОР для организации работы детей на уроках посвященных созданию компьютерных презентаций. После  изучения темы, для закрепления полученных знаний и умений каждый ребенок создает свою презентацию на определенную тему, а для этого необходим материал (текстовый, графический, звуковой и т.д.), его естественно можно взять в Интернете, но Вы прекрасно знаете, почему нельзя бездумно пускать детей в плавание по Интернету (установленные фильтры не всегда помогают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D3E9D-8037-4AFD-AE34-485F4CC8C15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На помощь приходит сайт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http://school-collection.edu.ru/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здесь можно найти много проверенной и качественной информации. С ребятами мы используем этот сайт в своей проектной деятельност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hlinkClick r:id="rId3"/>
              </a:rPr>
              <a:t>Информатика и история Санкт-Петербурга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Информатика и музыка (работы на Всероссийскую олимпиаду по искусству и музыке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Информатика и история 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Создание презентаций по предмету информатика. Для объяснения нового материала в младших класс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Создание предметных презентаций(биология, физика, литература, английский язык… 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Создание презентаций на конкурсы  по воспитательной рабо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E2CA8-7BAF-4A82-898C-C3614AD2B3C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53548-C804-48F5-AE01-D9513F0AE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47B1B-E27C-4BF2-BE9E-879A7A881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FE4D6-E09E-4975-8A65-2A11C5A67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4B909-49D7-47AC-95AE-12C05352E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22CDD-3ABD-4D29-B4AA-609FF14A1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C875B-9D64-492D-B918-0F483FBE1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08E0A-8951-45D0-B8D0-CBC711797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5677B-B6EC-4F0E-845F-ED5A85CC2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D970D-36B0-4A56-8383-CF717BFDC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9D1EB-230C-4E26-B4A1-DDB5910CE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B8744-2C6A-47A5-8225-7AE31D9D8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8E609-A21F-4240-98BF-2AA1D34C1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3FA1C-81CF-4B99-96EC-16813CEE4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1CB94-D4D7-4B87-B828-543A01C25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D5FCF-8E74-4F7E-BFDA-5BB80A097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E9DA0-BAD4-4E31-8171-FB58A7D68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C5284-42BE-4DEE-8F4E-5DC7731A4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B6813-FF2E-4B33-8327-7A41085DF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1C465-296A-40D8-99A6-704A07113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BD4DF-C63F-4867-8105-4E1B193AD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4FC6C-1EA3-4BAB-B596-94D5785EB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0F7F5-1FE5-4047-8C32-2E715342F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F8CC5-33D3-4A1A-889C-0D7F9C2B8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EF26D-4104-4D84-9482-3A397AEEA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6bcb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08B20-8AC2-4FD0-A4E3-060475BDB20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779f92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6bcb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2C90E-4515-465D-95B7-19E2D90EB4A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&#1057;&#1077;&#1084;&#1080;&#1085;&#1072;&#1088;%20&#1045;&#1082;&#1080;&#1084;&#1086;&#1074;&#1072;/&#1091;&#1088;&#1086;&#1082;%20&#1089;&#1086;&#1074;&#1088;&#1077;&#1084;&#1077;&#1085;&#1085;&#1072;&#1103;%20&#1056;&#1086;&#1089;&#1089;&#1080;&#1103;%20&#1075;&#1083;&#1072;&#1079;&#1072;&#1084;&#1080;%20&#1076;&#1077;&#1090;&#1077;&#1081;.ppt" TargetMode="External"/><Relationship Id="rId2" Type="http://schemas.openxmlformats.org/officeDocument/2006/relationships/hyperlink" Target="file:///&#1057;&#1077;&#1084;&#1080;&#1085;&#1072;&#1088;%20&#1045;&#1082;&#1080;&#1084;&#1086;&#1074;&#1072;/&#1054;&#1090;&#1082;&#1088;&#1099;&#1090;&#1099;&#1081;%20&#1091;&#1088;&#1086;&#1082;%20&#1076;&#1083;&#1103;%20&#1087;&#1088;&#1077;&#1079;&#1080;&#1076;&#1077;&#1085;&#1090;&#1072;%20&#1056;&#1086;&#1089;&#1089;&#1080;&#1080;.doc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chool-collection.edu.ru/" TargetMode="External"/><Relationship Id="rId2" Type="http://schemas.openxmlformats.org/officeDocument/2006/relationships/hyperlink" Target="http://school-collection.edu.ru/" TargetMode="External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school-collection.edu.ru/" TargetMode="External"/><Relationship Id="rId2" Type="http://schemas.openxmlformats.org/officeDocument/2006/relationships/hyperlink" Target="http://school-collection.edu.ru/" TargetMode="External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school-collection.edu.ru/" TargetMode="External"/><Relationship Id="rId2" Type="http://schemas.openxmlformats.org/officeDocument/2006/relationships/hyperlink" Target="http://school-collection.edu.ru/" TargetMode="External"/><Relationship Id="rId3" Type="http://schemas.openxmlformats.org/officeDocument/2006/relationships/hyperlink" Target="file:///&#1057;&#1084;&#1086;&#1083;&#1100;&#1085;&#1099;&#1081;%20&#1080;&#1085;&#1089;&#1090;&#1080;&#1090;&#1091;&#1090;.ppt" TargetMode="External"/><Relationship Id="rId4" Type="http://schemas.openxmlformats.org/officeDocument/2006/relationships/hyperlink" Target="file:///&#1054;&#1083;&#1080;&#1084;&#1087;&#1080;&#1072;&#1076;&#1072;.%20&#1045;&#1082;&#1080;&#1084;&#1086;&#1074;&#1072;%20&#1053;&#1080;&#1085;&#1072;/&#1054;&#1083;&#1080;&#1084;&#1087;&#1080;&#1072;&#1076;&#1072;%20&#1084;&#1091;&#1079;&#1099;&#1082;&#1072;%20&#1053;&#1080;&#1085;&#1072;%20&#1045;&#1082;&#1080;&#1084;&#1086;&#1074;&#1072;%20&#1043;&#1054;&#1059;&#1057;&#1054;&#1064;%20&#8470;%20264.ppt" TargetMode="External"/><Relationship Id="rId5" Type="http://schemas.openxmlformats.org/officeDocument/2006/relationships/hyperlink" Target="file:///&#1041;&#1072;&#1083;&#1099;%20&#1074;%20XVIII%20&#1074;%20&#1055;&#1077;&#1090;&#1077;&#1088;&#1073;&#1091;&#1088;&#1075;&#1077;.ppt" TargetMode="External"/><Relationship Id="rId6" Type="http://schemas.openxmlformats.org/officeDocument/2006/relationships/hyperlink" Target="file:///&#1050;&#1091;&#1079;&#1085;&#1077;&#1094;&#1086;&#1074;&#1072;%20&#1050;/&#1055;&#1088;&#1077;&#1079;&#1077;&#1085;&#1090;&#1072;&#1094;&#1080;&#1103;/Adobe%20Photoshop.ppt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600" spc="-1" strike="noStrike">
                <a:solidFill>
                  <a:srgbClr val="ffffff"/>
                </a:solidFill>
                <a:latin typeface="Times New Roman"/>
              </a:rPr>
              <a:t>Применение ЦОР </a:t>
            </a:r>
            <a:br>
              <a:rPr sz="4600"/>
            </a:br>
            <a:r>
              <a:rPr b="0" i="1" lang="ru-RU" sz="4600" spc="-1" strike="noStrike">
                <a:solidFill>
                  <a:srgbClr val="ffffff"/>
                </a:solidFill>
                <a:latin typeface="Times New Roman"/>
              </a:rPr>
              <a:t>на уроках информатики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484000" y="4437000"/>
            <a:ext cx="648036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Times New Roman"/>
              </a:rPr>
              <a:t>Учитель информатик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100" spc="-1" strike="noStrike">
                <a:solidFill>
                  <a:srgbClr val="000000"/>
                </a:solidFill>
                <a:latin typeface="Times New Roman"/>
              </a:rPr>
              <a:t>ГОУ СОШ № 264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Times New Roman"/>
              </a:rPr>
              <a:t>Екимова Римма Витальевн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Хочется показать особенно удачно спланированный урок: </a:t>
            </a:r>
            <a:r>
              <a:rPr b="0" lang="ru-RU" sz="3200" spc="-1" strike="noStrike" u="sng">
                <a:solidFill>
                  <a:srgbClr val="006666"/>
                </a:solidFill>
                <a:uFillTx/>
                <a:latin typeface="Times New Roman"/>
                <a:hlinkClick r:id="rId1"/>
              </a:rPr>
              <a:t>«Современная Россия глазами детей»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. Это </a:t>
            </a:r>
            <a:r>
              <a:rPr b="0" lang="ru-RU" sz="3200" spc="-1" strike="noStrike" u="sng">
                <a:solidFill>
                  <a:srgbClr val="006666"/>
                </a:solidFill>
                <a:uFillTx/>
                <a:latin typeface="Times New Roman"/>
                <a:hlinkClick r:id="rId2"/>
              </a:rPr>
              <a:t>урок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повторения, на котором учащиеся закрепляют полученные знания по теме создание компьютерных презентаций используют ЦОР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Что такое ЦОР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Цифровые образовательные ресурсы – это объекты, предназначенные для образовательных целей, представленные в цифровом (электронном) виде, доступные для использования, собранные в одном огромном архиве, расположенном на сайте </a:t>
            </a:r>
            <a:r>
              <a:rPr b="0" lang="ru-RU" sz="2800" spc="-1" strike="noStrike" u="sng">
                <a:solidFill>
                  <a:srgbClr val="006666"/>
                </a:solidFill>
                <a:uFillTx/>
                <a:latin typeface="Times New Roman"/>
                <a:hlinkClick r:id="rId1"/>
              </a:rPr>
              <a:t>http://school-collection.edu.ru</a:t>
            </a:r>
            <a:r>
              <a:rPr b="0" lang="en-US" sz="2800" spc="-1" strike="noStrike" u="sng">
                <a:solidFill>
                  <a:srgbClr val="006666"/>
                </a:solidFill>
                <a:uFillTx/>
                <a:latin typeface="Times New Roman"/>
                <a:hlinkClick r:id="rId2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MM900178307[1]"/>
          <p:cNvPicPr/>
          <p:nvPr/>
        </p:nvPicPr>
        <p:blipFill>
          <a:blip r:embed="rId3"/>
          <a:stretch/>
        </p:blipFill>
        <p:spPr>
          <a:xfrm>
            <a:off x="6588000" y="4940280"/>
            <a:ext cx="1171800" cy="117144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Объекты ЦОР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Фотограф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виде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информационные объект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карт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резента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звуковые запис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текстовые докумен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MM900254490[1]"/>
          <p:cNvPicPr/>
          <p:nvPr/>
        </p:nvPicPr>
        <p:blipFill>
          <a:blip r:embed="rId1"/>
          <a:stretch/>
        </p:blipFill>
        <p:spPr>
          <a:xfrm>
            <a:off x="6300720" y="3645000"/>
            <a:ext cx="2232000" cy="237636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Задачи ЦОР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редъявление учебной информа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информационно-справочное обеспечение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всех видов занят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моделирование и демонстрация объект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оддержка различных форм активных фор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занят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тренаж навыков и умений решения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различных задач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контроль навыков и зн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MM900283268[1]"/>
          <p:cNvPicPr/>
          <p:nvPr/>
        </p:nvPicPr>
        <p:blipFill>
          <a:blip r:embed="rId1"/>
          <a:stretch/>
        </p:blipFill>
        <p:spPr>
          <a:xfrm>
            <a:off x="7164360" y="5162400"/>
            <a:ext cx="1203480" cy="118908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1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Материалы на сайте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http://school-collection.edu.ru/</a:t>
            </a:r>
            <a:r>
              <a:rPr b="0" lang="en-US" sz="32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расположены очень удачно, есть подборки по предметам, по классам, по различным технологиям, а также есть техническая поддержка, можно скачать необходимое ПО, не беспокоясь за его качество, его стоимость, а также исключает возможность заражения своего компьюте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MM900283757[1]"/>
          <p:cNvPicPr/>
          <p:nvPr/>
        </p:nvPicPr>
        <p:blipFill>
          <a:blip r:embed="rId3"/>
          <a:stretch/>
        </p:blipFill>
        <p:spPr>
          <a:xfrm>
            <a:off x="4643280" y="4437000"/>
            <a:ext cx="2881440" cy="242100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50920" y="836280"/>
            <a:ext cx="8424720" cy="529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Каждый учитель, разрабатывая свой урок, хочет найти много нужной, полезной, наглядной  и интересной информации. Для этого он использует книги (художественную литературу, техническую, научно-популярную), а также возможности сети Интернет. Но сделать это не всегда просто: мешает нехватка времени, в Интернете оглушает ненужная реклама, подстерегают вирусы и т.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MC900345651[1]"/>
          <p:cNvPicPr/>
          <p:nvPr/>
        </p:nvPicPr>
        <p:blipFill>
          <a:blip r:embed="rId1"/>
          <a:stretch/>
        </p:blipFill>
        <p:spPr>
          <a:xfrm>
            <a:off x="6372360" y="4869000"/>
            <a:ext cx="1636560" cy="17604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MC900234103[1]"/>
          <p:cNvPicPr/>
          <p:nvPr/>
        </p:nvPicPr>
        <p:blipFill>
          <a:blip r:embed="rId2"/>
          <a:stretch/>
        </p:blipFill>
        <p:spPr>
          <a:xfrm>
            <a:off x="826920" y="5229360"/>
            <a:ext cx="2217960" cy="141264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Ни для кого не секрет, что борьба с этим  отнимает много времени и сил. И не кривя душой, не всегда это под силу, каждый урок продумать до мелочей и сделать конфеткой, особенно если нагрузка вели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На помощь учителю приходит сайт с ЦОР (можно использовать готовые решения, усовершенствовать имеющиеся, естественно сохраняя авторские права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MC900215934[1]"/>
          <p:cNvPicPr/>
          <p:nvPr/>
        </p:nvPicPr>
        <p:blipFill>
          <a:blip r:embed="rId1"/>
          <a:stretch/>
        </p:blipFill>
        <p:spPr>
          <a:xfrm>
            <a:off x="3419640" y="3141720"/>
            <a:ext cx="2304720" cy="122400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Мне очень нравиться использовать ЦОР для организации работы детей на уроках посвященных созданию компьютерных презентаций. После  изучения темы, для закрепления полученных знаний и умений каждый ребенок создает свою презентацию на определенную тему, а для этого необходим материал (текстовый, графический, звуковой и т.д.), его естественно можно взять в Интернете, но Вы прекрасно знаете, почему нельзя бездумно пускать детей в плавание по Интернету (установленные фильтры не всегда помогают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6" descr="MM900286755[1]"/>
          <p:cNvPicPr/>
          <p:nvPr/>
        </p:nvPicPr>
        <p:blipFill>
          <a:blip r:embed="rId1"/>
          <a:stretch/>
        </p:blipFill>
        <p:spPr>
          <a:xfrm>
            <a:off x="7308720" y="5445000"/>
            <a:ext cx="1440000" cy="141300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На помощь приходит сайт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 u="sng">
                <a:solidFill>
                  <a:srgbClr val="006666"/>
                </a:solidFill>
                <a:uFillTx/>
                <a:latin typeface="Times New Roman"/>
                <a:hlinkClick r:id="rId1"/>
              </a:rPr>
              <a:t>http://school-collection.edu.ru/ </a:t>
            </a:r>
            <a:r>
              <a:rPr b="0" lang="ru-RU" sz="2000" spc="-1" strike="noStrike" u="sng">
                <a:solidFill>
                  <a:srgbClr val="006666"/>
                </a:solidFill>
                <a:uFillTx/>
                <a:latin typeface="Times New Roman"/>
                <a:hlinkClick r:id="rId2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здесь можно найти много проверенной и качественной информации. С ребятами мы используем этот сайт в своей проектной деятельност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6666"/>
                </a:solidFill>
                <a:uFillTx/>
                <a:latin typeface="Times New Roman"/>
                <a:hlinkClick r:id="rId3"/>
              </a:rPr>
              <a:t>Информатика и история Санкт-Петербурга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6666"/>
                </a:solidFill>
                <a:uFillTx/>
                <a:latin typeface="Times New Roman"/>
                <a:hlinkClick r:id="rId4"/>
              </a:rPr>
              <a:t>Информатика и музыка (работы на Всероссийскую олимпиаду по искусству и музыке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6666"/>
                </a:solidFill>
                <a:uFillTx/>
                <a:latin typeface="Times New Roman"/>
                <a:hlinkClick r:id="rId5"/>
              </a:rPr>
              <a:t>Информатика и история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6666"/>
                </a:solidFill>
                <a:uFillTx/>
                <a:latin typeface="Times New Roman"/>
                <a:hlinkClick r:id="rId6"/>
              </a:rPr>
              <a:t>Создание презентаций по предмету информатика. Для объяснения нового материала в младших класса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оздание предметных презентаций(биология, физика, литература, английский язык…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оздание презентаций на конкурсы  по воспитательной рабо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6T09:22:40Z</dcterms:created>
  <dc:creator>user</dc:creator>
  <dc:description/>
  <dc:language>en-US</dc:language>
  <cp:lastModifiedBy>LEGION</cp:lastModifiedBy>
  <dcterms:modified xsi:type="dcterms:W3CDTF">2015-04-01T07:50:42Z</dcterms:modified>
  <cp:revision>16</cp:revision>
  <dc:subject/>
  <dc:title>Применение ЦОР  на уроках информатики</dc:title>
</cp:coreProperties>
</file>