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D25E0-EC4F-4986-B8CC-D9621F8FE38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hyperlink" Target="http://makarova.piter.com/" TargetMode="External"/><Relationship Id="rId2" Type="http://schemas.openxmlformats.org/officeDocument/2006/relationships/slide" Target="../slides/slide14.xml"/><Relationship Id="rId3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hyperlink" Target="http://school-collection.edu.ru/catalog" TargetMode="External"/><Relationship Id="rId2" Type="http://schemas.openxmlformats.org/officeDocument/2006/relationships/slide" Target="../slides/slide2.xml"/><Relationship Id="rId3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A590D-EF39-47FC-B1C2-949C6A27EC6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зор УМК по информатике на 2009-2010 учебный г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готовила Горбунова Татьяна Михайловна, методист ГОУ РК «ИПКРО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9A293-5ABF-4FE4-A495-37A60C6D945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пускники школ будут осуществлять свою дальнейшую деятельность в различных социальных и экономических системах, а они представляют собой открытые системы (предсказать их поведение можно только в очень ограниченных пространственных и временных масштабах). В этом случае традиционный технологический подход , предполагающий стандартизированную последовательность действий, ведущих к достижению поставленной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сновная школа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узнецов А. А. и др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т отдельного раздела «Информационные технологии», компьютерные технологии входят в каждую тему в качестве практикум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жным качеством выпускника становится умение оценивать окружающую среду, свою информационную деятельность и принимать обоснованные решения о возможных путях её осуществления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лементы социальной информатики изучаются с использованием понятий информационного взаимодействия и информационной модел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ли может дать сбо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сновная школа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Гейн А.Г., 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енокосов А.И.,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Юнерман Н.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граммы общеобразовательных учреждений. Информатика. 2-9 к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ейн А.Г. и др. Информатика и информационные технологии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ебник 8, 9 клас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ейн А.Г. и др. Информатика и информационные технологии. Книги для учителя. 8,9 к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ейн А.Г.Информатика и информационные технологии. Задачник-практикум. 8-9 к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ейн. А.Г. и др. Информатика и информационные технологии. Рабочая тетрадь. 8 к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ейн. А.Г. и др. Информатика и информационные технологии. Тематические тесты. 8 к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9AC21-9CE6-4B95-A700-4520DDED17D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сновная школ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акарова Н.В. и др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ебник состоит из трех разделов. В разделе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«Информационная картина мира»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формируется представление об информации и информационных процессах, об объекте, системе и их моделях, рассматриваются основные этапы моделирования. В разделе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«Программное обеспечение информационных технологий»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изучаются основы алгоритмизации, формируется представление о программах, системном и прикладном программном обеспечении. В разделе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«Техническое обеспечение информационных технологий»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учащиеся знакомятся с аппаратной частью компьютеров и логическими основами построения компьютер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40FE1-175E-4F3B-BC5E-9A23FF015DD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сновная школа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акарова Н.В. и др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ь практикума — обучить школьников работе на компьютере в операционной системе Windows XP, графическом редакторе Paint, в приложениях пакета Microsoft Office 2003 (текстовом процессоре Word, табличном процессоре Excel, системе управления базой данных Access); технологии работы в сети Интернет. Рассматриваются основы программирования в среде Лого и основы алгоритмизац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1A680-BE73-4784-A118-E2D1C5DDAD9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makarova.piter.co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DVD-приложение включает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терактивные тематические и поурочные планы со ссылками на практический и теоретический материал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сылки на интернет-ресурсы, которые содержат актуальный учебный материал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полнительные программные ресурсы, видеоуроки по темам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амые последние тесты и задания для успешной сдачи ЕГЭ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AE054-BD07-4F1A-AC48-03EACCE498D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сновная школа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Быкадоров Ю.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ыкадоров Ю.А. Информатика и ИКТ: Учебник 8 кл. +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D-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ыкадоров Ю.А. Информатика и ИКТ: Учебник 9 кл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+ CD-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95264-5304-402F-97BC-D3DF0CCF8DA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сновная школа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Быкадоров Ю.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втор использует в качестве языка программирования - язык сценариев Java Scrip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диске только файлы к заданиям учебника, для учителя нет никакой методической литературы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8 классе коллеги рекомендуют +1ч. из школьного компонента, т.к. объём материала большо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2686D-CBE7-42D5-8500-125825C9EE2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редняя школа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Базовый уровен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гринович Н.Д. Информатика и ИКТ (базовый уровень)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гринович Н.Д. Информатика и ИКТ (базовый уровень) 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макин И.Г., Хеннер Е.К. Информатика и ИКТ. Базовый уровень: учебник для 10-11 класс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макин И.Г., Хеннер Е.К. Информатика и ИКТ. Базовый уровень: учебник для 10-11 класс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http://www.metod-kopilka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17BDD-D5DA-417F-80C2-8DAC4DB8E74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редняя школа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Гейн А.Г. 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др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остав УМК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нформатика и ИКТ (базовый и профильный уровни). Учебники 10, 11 клас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ейн А.Г. и др. Книга для учителя 10,11 кл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ирюхин В.М. Информатика: всероссийские олимпиады. Выпуск 1, 2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зиев В.М. Информатика. Задачи и тесты. Профильная школ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иев В.М. Информатика в примерах и задачах. Профильная школ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6C36E-6E7E-4427-93AD-42FA8BAE4B7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редняя школ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азовый уровен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CAF9A-F959-4802-93B2-916F74D6AA6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62FE5-CDCD-47D6-8530-0DA9397D7BD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сновная школа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емакин И.Г., Залогова Л.А., Русаков С.В., Шестакова Л.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ебник 8 клас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ебник 9 клас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дачник-практикум 8-11 (в 2-х т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ическое пособие «Преподавание базового курса информатики в средней школе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лакаты 7-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ОР для 8-9 Единой коллекции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school-collection.edu.ru/catalo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редняя школа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офильный уровен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гринович Н.Д. Информатика и ИКТ (профильный уровень)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гринович Н.Д. Исследование информационных моделей. Элективный курс: учебное пособие. С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-ROM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макин И.Г., Хеннер Е.К. Информационные системы и модели. Элективный курс. Учебное пособие. Методическое пособие. Практику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8640A-A32E-46EC-B099-BA3D71DDC46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редняя школа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офильный уровен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ошин М.Е., Рессин А.А., Юнусов С.М. под ред. Кузнецова А.А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атика и ИКТ. 10-11 классы (в 2-х частях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ложение к учебнику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CD-ROM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1 и 2 части)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43420-8BE2-41FE-97A4-4AA93DEE66C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редняя школа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офильный уровен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у учебника составляют следующие содержательные линии: мировоззренческая, логико-алгоритмическая, информационно-технологическая и моделирующа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ебник содержит весь необходимый теоретический материал для получения сертификата ECDL (The European Computer Driving Licence - Европейские компьютерные права или ICDL - Международные компьютерные права), который является общепризнанным мировым стандартом компьютерной грамотности для пользовател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Язык программирования Delph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6A603-A170-4652-A56B-9764E777183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B3133-B0A3-4CBF-BE5E-98415B3DDD4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сновная школ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C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емакин И.Г. и др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вторская концеп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ация с позиции челове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мпьютер моделирует информационную функцию челове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кладное назначение компьютера (инструмент для работы с информацией, для информационного моделирования, для обеспечения работы в сетях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ационное моделирование (разные формы представления данных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Д – статическая информационная модель, ЭТ и реляционная БД – табличная форма информационной модели с элементами динамики и математического моделирования предметной обла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менение компьютера в управлен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граммирование (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sc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ационные технологии и обще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F82CF-DAFC-4715-B28A-8F44A5D4DD4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сновная школа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емакин И.Г. и др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стоинства УМ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но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ступность изложения материа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риативность препода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стерская на сайте Бин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C6E63-4BD8-4FB7-871A-49EF50541C8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сновная школа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гринович Н.Д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ебник 8 клас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ебник 9 клас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ическое пособие  «Преподавание курса «Информатика и ИКТ» в основной и старшей школе. 8-11 классы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ОР на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344BB-6021-4640-BA00-8F88D53E9F2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сновная школа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гринович Н.Д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 один из первых учебников по информатике, который стал отвечать современным запросам общества на информационное образов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ответствует образовательному стандарту по информатике и ИК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жет быть использован для преподавания информатики как в операционной системе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ndows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так и в свободно распространяемой операционной системе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граммирование на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sual Bas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стерская на сайте Бин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52D98-25AF-4612-BE75-7C1EE251480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сновная школа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узнецов А. А., Бешенков С.А., Ракитина Е.А (допущен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атика: учебник для 8 клас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атика: учебник для 9 клас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атика: сборник типовых задач для 8-9 класс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атика, 8: книга для учител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атика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: книга для учител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A077A-13FD-4183-8B55-ABF40CEF7E7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сновная школа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узнецов А. А. и др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грамма 8 класса практически целиком посвящена обсуждению различных аспектов представления информации.  Именно по линии представления информации осуществляются межпредметные связи информатики с другими школьными дисциплинами. Впервые вводится понятие информационного взаимодействия. В этих взаимодействиях  и возникают информационные процесс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D1574-6AC2-45D8-BBE7-A47DFF89A68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сновная школа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узнецов А. А. и др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9 классе внимание сосредоточено на вопросах преобразования информации. При изучении темы «Программирование»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языке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scal)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м является не программа как таковая, а задача, которая решается с помощью этой программы. Алгоритм и программа являются моделью деятельности субъекта по решению задач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74F57A-4CCB-4B28-B8D5-29CE2DC4A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F74E2E-E6DD-4E8A-A923-75DCA0C17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A44FDA-B36E-414B-8034-69AC0BE9C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D19BBD-CB9B-4F17-BDF6-160022187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B9F2B-C859-42F5-A895-6CCEBDBDA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A9FCA-6560-40D2-A2AE-407F6023E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235CA-A23A-4567-ADD9-24313A9BD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EB73B-45BB-4FC0-8443-84F9328BD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4B6B0-1C7E-4958-9982-5AAD3F30D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85ED7-DDA3-4DF0-8722-4F81C510B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7C1EC-1734-46C8-BE5C-D37951682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0D3A7D-0EDA-421A-9FDF-776511EAC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5F77C-9E11-45D7-A15B-3D50EFAB4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35B19-3A51-4BFD-A057-7F8C4E5A4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C5799-40BF-438E-A86C-3E8696477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A3561-212D-41B9-8B9F-2B7028AEB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76B7D-D019-4B3B-B840-835FE6DAC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B92B66-00E9-4CE9-99F0-9D820B73A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26B33E-7F0E-49A0-A30B-9CF872C6C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2F1216-9276-46C6-9860-CAD52715E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6DBD44-216D-41F5-9EC1-F1F680D10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4E9A01-E5D2-47D8-9D2D-A84569C09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5845AE-D72D-4B8A-87B0-1D4EB22B8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FEA286-4FFE-4A48-8163-ED67AABA8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AF95B-1C36-46C5-9C68-11585D17DD55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Line 6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Line 7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7" name="Rectangle 9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Line 7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8" name="Group 8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59" name="Rectangle 9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Rectangle 10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Rectangle 11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Rectangle 12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Rectangle 13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Rectangle 14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Rectangle 15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Rectangle 16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Rectangle 17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Rectangle 18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Rectangle 19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Rectangle 20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Rectangle 21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2" name="Line 22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B3ABB-6894-4847-BE11-86BB5EB2EF98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makarova.piter.com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makarova.piter.com/" TargetMode="Externa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school-collection.edu.ru/catalog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100" spc="-1" strike="noStrike">
                <a:solidFill>
                  <a:srgbClr val="ffffff"/>
                </a:solidFill>
                <a:latin typeface="Arial"/>
              </a:rPr>
              <a:t>Обзор УМК по информатике на 2009-2010 учебный год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2971440" y="4267080"/>
            <a:ext cx="579132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Подготовила Горбунова Татьяна Михайловна, методист ГОУ РК «ИПКРО»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сновная школа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узнецов А. А. и др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ет отдельного раздела «Информационные технологии», компьютерные технологии входят в каждую тему в качестве практикум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ажным качеством выпускника становится умение оценивать окружающую среду, свою информационную деятельность и принимать обоснованные решения о возможных путях её осуществления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Элементы социальной информатики изучаются с использованием понятий информационного взаимодействия и информационной модел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4674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сновная школа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Гейн А.Г., 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енокосов А.И.,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Юнерман Н.А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619280" y="1981080"/>
            <a:ext cx="7067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Программы общеобразовательных учреждений. Информатика. 2-9 кл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Гейн А.Г. и др. Информатика и информационные технологии.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Учебник 8, 9 класс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Гейн А.Г. и др. Информатика и информационные технологии. Книги для учителя. 8,9 кл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Гейн А.Г.Информатика и информационные технологии. Задачник-практикум. 8-9 кл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Гейн. А.Г. и др. Информатика и информационные технологии. Рабочая тетрадь. 8 кл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Гейн. А.Г. и др. Информатика и информационные технологии. Тематические тесты. 8 кл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сновная школа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акарова Н.В. и др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908000" y="1981080"/>
            <a:ext cx="6778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Учебник состоит из трех разделов. В разделе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Информационная картина мира»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формируется представление об информации и информационных процессах, об объекте, системе и их моделях, рассматриваются основные этапы моделирования. В разделе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Программное обеспечение информационных технологий»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изучаются основы алгоритмизации, формируется представление о программах, системном и прикладном программном обеспечении. В разделе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Техническое обеспечение информационных технологий»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учащиеся знакомятся с аппаратной частью компьютеров и логическими основами построения компьютера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сновная школа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акарова Н.В. и др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Цель практикума — обучить школьников работе на компьютере в операционной системе Windows XP, графическом редакторе Paint, в приложениях пакета Microsoft Office 2003 (текстовом процессоре Word, табличном процессоре Excel, системе управления базой данных Access); технологии работы в сети Интернет. Рассматриваются основы программирования в среде Лого и основы алгоритмизаци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 u="sng">
                <a:solidFill>
                  <a:srgbClr val="3399ff"/>
                </a:solidFill>
                <a:uFillTx/>
                <a:latin typeface="Arial"/>
                <a:hlinkClick r:id="rId1"/>
              </a:rPr>
              <a:t>http://makarova.piter.com</a:t>
            </a: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DVD-приложение включает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нтерактивные тематические и поурочные планы со ссылками на практический и теоретический материал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сылки на интернет-ресурсы, которые содержат актуальный учебный материал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ополнительные программные ресурсы, видеоуроки по темам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амые последние тесты и задания для успешной сдачи ЕГЭ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Picture 4" descr=""/>
          <p:cNvPicPr/>
          <p:nvPr/>
        </p:nvPicPr>
        <p:blipFill>
          <a:blip r:embed="rId2"/>
          <a:stretch/>
        </p:blipFill>
        <p:spPr>
          <a:xfrm>
            <a:off x="0" y="2492280"/>
            <a:ext cx="1527120" cy="1517760"/>
          </a:xfrm>
          <a:prstGeom prst="rect">
            <a:avLst/>
          </a:prstGeom>
          <a:ln w="0">
            <a:noFill/>
          </a:ln>
        </p:spPr>
      </p:pic>
      <p:sp>
        <p:nvSpPr>
          <p:cNvPr id="1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сновная школа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Быкадоров Ю.А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284720" y="1981080"/>
            <a:ext cx="4402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ыкадоров Ю.А. Информатика и ИКТ: Учебник 8 кл. +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D-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ыкадоров Ю.А. Информатика и ИКТ: Учебник 9 кл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CD-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Picture 5" descr=""/>
          <p:cNvPicPr/>
          <p:nvPr/>
        </p:nvPicPr>
        <p:blipFill>
          <a:blip r:embed="rId1"/>
          <a:stretch/>
        </p:blipFill>
        <p:spPr>
          <a:xfrm>
            <a:off x="1403280" y="1916280"/>
            <a:ext cx="1897200" cy="273672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4" descr=""/>
          <p:cNvPicPr/>
          <p:nvPr/>
        </p:nvPicPr>
        <p:blipFill>
          <a:blip r:embed="rId2"/>
          <a:stretch/>
        </p:blipFill>
        <p:spPr>
          <a:xfrm>
            <a:off x="2124000" y="2997360"/>
            <a:ext cx="1868400" cy="273672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8"/>
          <p:cNvSpPr/>
          <p:nvPr/>
        </p:nvSpPr>
        <p:spPr>
          <a:xfrm rot="16200000">
            <a:off x="-1113840" y="3426840"/>
            <a:ext cx="34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ДРОФ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сновная школа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Быкадоров Ю.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втор использует в качестве языка программирования - язык сценариев Java Script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 диске только файлы к заданиям учебника, для учителя нет никакой методической литературы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8 классе коллеги рекомендуют +1ч. из школьного компонента, т.к. объём материала большо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редняя школа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Базовый уровен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гринович Н.Д. Информатика и ИКТ (базовый уровень)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гринович Н.Д. Информатика и ИКТ (базовый уровень) 1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емакин И.Г., Хеннер Е.К. Информатика и ИКТ. Базовый уровень: учебник для 10-11 класс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емакин И.Г., Хеннер Е.К. Информатика и ИКТ. Базовый уровень: учебник для 10-11 класс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http://www.metod-kopilka.r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Text Box 5"/>
          <p:cNvSpPr/>
          <p:nvPr/>
        </p:nvSpPr>
        <p:spPr>
          <a:xfrm rot="16200000">
            <a:off x="-1042560" y="3066480"/>
            <a:ext cx="34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БИНО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редняя школа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Гейн А.Г. и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др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476000" y="1557000"/>
            <a:ext cx="727236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остав УМК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нформатика и ИКТ (базовый и профильный уровни). Учебники 10, 11 класс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Гейн А.Г. и др. Книга для учителя 10,11 кл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ирюхин В.М. Информатика: всероссийские олимпиады. Выпуск 1, 2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азиев В.М. Информатика. Задачи и тесты. Профильная школ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оиев В.М. Информатика в примерах и задачах. Профильная школ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Text Box 7"/>
          <p:cNvSpPr/>
          <p:nvPr/>
        </p:nvSpPr>
        <p:spPr>
          <a:xfrm rot="16200000">
            <a:off x="-826560" y="3354120"/>
            <a:ext cx="345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Просвеще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Средняя школа</a:t>
            </a:r>
            <a:br>
              <a:rPr sz="3900"/>
            </a:b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Базовый уровень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 Box 10"/>
          <p:cNvSpPr/>
          <p:nvPr/>
        </p:nvSpPr>
        <p:spPr>
          <a:xfrm>
            <a:off x="3851280" y="5373720"/>
            <a:ext cx="424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3399ff"/>
                </a:solidFill>
                <a:uFillTx/>
                <a:latin typeface="Arial"/>
                <a:hlinkClick r:id="rId1"/>
              </a:rPr>
              <a:t>http://makarova.piter.com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Text Box 11"/>
          <p:cNvSpPr/>
          <p:nvPr/>
        </p:nvSpPr>
        <p:spPr>
          <a:xfrm rot="16200000">
            <a:off x="-826560" y="3354120"/>
            <a:ext cx="345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Питер Прес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Picture 29" descr=""/>
          <p:cNvPicPr/>
          <p:nvPr/>
        </p:nvPicPr>
        <p:blipFill>
          <a:blip r:embed="rId2"/>
          <a:stretch/>
        </p:blipFill>
        <p:spPr>
          <a:xfrm>
            <a:off x="2340000" y="2421000"/>
            <a:ext cx="1763640" cy="216036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30" descr=""/>
          <p:cNvPicPr/>
          <p:nvPr/>
        </p:nvPicPr>
        <p:blipFill>
          <a:blip r:embed="rId3"/>
          <a:stretch/>
        </p:blipFill>
        <p:spPr>
          <a:xfrm>
            <a:off x="5292720" y="2492280"/>
            <a:ext cx="1751040" cy="2160720"/>
          </a:xfrm>
          <a:prstGeom prst="rect">
            <a:avLst/>
          </a:prstGeom>
          <a:ln w="0">
            <a:noFill/>
          </a:ln>
        </p:spPr>
      </p:pic>
      <p:sp>
        <p:nvSpPr>
          <p:cNvPr id="1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сновная школа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емакин И.Г., Залогова Л.А., Русаков С.В., Шестакова Л.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чебник 8 класс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чебник 9 класс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дачник-практикум 8-11 (в 2-х т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етодическое пособие «Преподавание базового курса информатики в средней школе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лакаты 7-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ЦОР для 8-9 Единой коллекции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 u="sng">
                <a:solidFill>
                  <a:srgbClr val="3399ff"/>
                </a:solidFill>
                <a:uFillTx/>
                <a:latin typeface="Arial"/>
                <a:hlinkClick r:id="rId1"/>
              </a:rPr>
              <a:t>http://school-collection.edu.ru/catalo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5"/>
          <p:cNvSpPr/>
          <p:nvPr/>
        </p:nvSpPr>
        <p:spPr>
          <a:xfrm rot="16200000">
            <a:off x="-826560" y="3354120"/>
            <a:ext cx="345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БИНО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редняя школа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офильный уровен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гринович Н.Д. Информатика и ИКТ (профильный уровень)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гринович Н.Д. Исследование информационных моделей. Элективный курс: учебное пособие. С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-ROM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емакин И.Г., Хеннер Е.К. Информационные системы и модели. Элективный курс. Учебное пособие. Методическое пособие. Практику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Text Box 5"/>
          <p:cNvSpPr/>
          <p:nvPr/>
        </p:nvSpPr>
        <p:spPr>
          <a:xfrm rot="16200000">
            <a:off x="-826560" y="3354120"/>
            <a:ext cx="345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БИНО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618920" y="47628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редняя школа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офильный уровен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402920" y="2060640"/>
            <a:ext cx="74898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Фиошин М.Е., Рессин А.А., Юнусов С.М. под ред. Кузнецова А.А.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нформатика и ИКТ. 10-11 классы (в 2-х частях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ложение к учебнику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CD-ROM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ля 1 и 2 части).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Text Box 9"/>
          <p:cNvSpPr/>
          <p:nvPr/>
        </p:nvSpPr>
        <p:spPr>
          <a:xfrm rot="16200000">
            <a:off x="-1113840" y="3426840"/>
            <a:ext cx="34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ДРОФ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редняя школа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офильный уровен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снову учебника составляют следующие содержательные линии: мировоззренческая, логико-алгоритмическая, информационно-технологическая и моделирующа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Учебник содержит весь необходимый теоретический материал для получения сертификата ECDL (The European Computer Driving Licence - Европейские компьютерные права или ICDL - Международные компьютерные права), который является общепризнанным мировым стандартом компьютерной грамотности для пользователе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Язык программирования Delphi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143480" cy="131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сновная школа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C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емакин И.Г. и др.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вторская концепц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нформация с позиции челове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омпьютер моделирует информационную функцию челове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икладное назначение компьютера (инструмент для работы с информацией, для информационного моделирования, для обеспечения работы в сетях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нформационное моделирование (разные формы представления данных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Д – статическая информационная модель, ЭТ и реляционная БД – табличная форма информационной модели с элементами динамики и математического моделирования предметной област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именение компьютера в управлен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ограммирование (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scal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нформационные технологии и обществ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0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676520" y="457200"/>
            <a:ext cx="72165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сновная школа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емакин И.Г. и др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остоинства УМ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лно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оступность изложения материал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ариативность преподава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астерская на сайте Бино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сновная школа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Угринович Н.Д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чебник 8 класс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чебник 9 класс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етодическое пособие  «Преподавание курса «Информатика и ИКТ» в основной и старшей школе. 8-11 классы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ЭОР на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Text Box 5"/>
          <p:cNvSpPr/>
          <p:nvPr/>
        </p:nvSpPr>
        <p:spPr>
          <a:xfrm rot="16200000">
            <a:off x="-826560" y="3354120"/>
            <a:ext cx="345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БИНО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0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сновная школа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Угринович Н.Д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Это один из первых учебников по информатике, который стал отвечать современным запросам общества на информационное образование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Соответствует образовательному стандарту по информатике и ИКТ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Может быть использован для преподавания информатики как в операционной системе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Windows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, так и в свободно распространяемой операционной системе 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Linux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Программирование на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Visual Basic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Мастерская на сайте Бином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сновная школа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узнецов А. А., Бешенков С.А., Ракитина Е.А (допущен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нформатика: учебник для 8 класс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нформатика: учебник для 9 класс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нформатика: сборник типовых задач для 8-9 класс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нформатика, 8: книга для учител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нформатика,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: книга для учител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5"/>
          <p:cNvSpPr/>
          <p:nvPr/>
        </p:nvSpPr>
        <p:spPr>
          <a:xfrm rot="16200000">
            <a:off x="-826560" y="3354120"/>
            <a:ext cx="345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Просвеще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0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сновная школа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узнецов А. А. и др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ограмма 8 класса практически целиком посвящена обсуждению различных аспектов представления информации.  Именно по линии представления информации осуществляются межпредметные связи информатики с другими школьными дисциплинами. Впервые вводится понятие информационного взаимодействия. В этих взаимодействиях  и возникают информационные процесс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0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сновная школа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узнецов А. А. и др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9 классе внимание сосредоточено на вопросах преобразования информации. При изучении темы «Программирование»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 языке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scal)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сновным является не программа как таковая, а задача, которая решается с помощью этой программы. Алгоритм и программа являются моделью деятельности субъекта по решению задач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7T08:13:15Z</dcterms:created>
  <dc:creator>Charly Root</dc:creator>
  <dc:description/>
  <dc:language>en-US</dc:language>
  <cp:lastModifiedBy>LEGION</cp:lastModifiedBy>
  <dcterms:modified xsi:type="dcterms:W3CDTF">2015-04-01T07:45:48Z</dcterms:modified>
  <cp:revision>100</cp:revision>
  <dc:subject/>
  <dc:title>Обзор УМК по информатике на 2009-2010 учебный год</dc:title>
</cp:coreProperties>
</file>