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EC92-5C79-460B-B179-F2C0EE9932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Calibri"/>
              </a:rPr>
              <a:t>Романсы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53DD-C579-4792-90D7-FDE0EAB7BAF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частлив тем, что встретил В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ый и прекра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значит, жил я не напрас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, волшебный мой Романс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C6E8-310D-4501-9A1C-03EDF96629A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акое роман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D992-E457-4244-B852-B2B7F959A6D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йте ром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A98C-84DA-4C99-A61E-22678D9A978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усского ром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й романс-авторский по способу создания, но фольклорный по способу быт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ыганс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8287-2DBD-4735-A4BA-04C15B09CC0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CBB0-8ADC-423F-AB6C-CD506CE59B6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3A01-6D3B-4FEA-A0C1-5D4AA7D78C7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8E0-3CAF-4024-B1F9-42833DF7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373-F6AE-4B5A-A947-743FE5B7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DB4-C238-45AD-B552-6B0B00D1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EC0-858E-422D-B719-442DD3B7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C7C2-8116-4EAD-9CBB-4EF16791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DAD1-180A-4B21-B4D9-55CFBD40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2DF5-35EA-4CFA-AC1D-53901ECF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8B80-FE7A-487B-BE46-BA5BE875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BA9-B5E6-40E7-81C5-8914DA4C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2F68-B699-425B-9C66-E786AB8F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8993-A5F9-4B7C-8402-3D0C244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9A5-92EE-46DE-9892-5E075FD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963E-47D3-4ECC-9CCB-09A6F7D5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CB21-F528-48D8-BBED-1B61C958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4AD4-A681-44F2-ACAE-72E328B6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B178-9699-4100-8877-F2AE4350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39A7-EC2A-40C4-BC30-57FCFDA3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4B7-EE51-451A-8A63-EB581D23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007-CD3D-4EA4-B487-C8A83A44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BC3-C2C1-4662-8278-1EC12D4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C49-FCF0-4388-877A-783C0528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9ED-884D-4A8E-9008-A89EDD72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E8D-CFCE-46E7-BBB9-F70CA28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9D1-44BC-4931-ABE2-29B9B27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4F07-6AFE-40D2-8FF5-D558C4EDFD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83C0-859C-47C5-A60C-E5896F73B8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4" descr="MM900284089[1]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MM900336598[2]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MM900336703[2]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4" descr="dglxasset[1]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dglxasset[1]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dglxasset[1]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dglxasset[2]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dglxasset[2]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dglxasset[3]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4" descr="dglxasset[4]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M900163113[2]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dglxasset[2]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59" name="minusovki[1].mptri.net romansi_-_v_lunnom_siyanii.mp3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5" descr="i?id=163947780-13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j0281904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4" descr="j0230876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1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3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