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7.wmf" ContentType="image/x-wmf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13CB-438F-4019-B89F-76669CC1A6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Calibri"/>
              </a:rPr>
              <a:t>Романсы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144B-C793-4AF4-9272-114B1BC6DBA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частлив тем, что встретил В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ый и прекра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значит, жил я не напрас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, волшебный мой Романс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EC81-8D67-43BF-B350-13E6B2776F9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акое роман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4B07-362E-40C5-AC85-16D39FBDEAC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йте ром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A69A-7E02-4C6D-9FA4-578235D612A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усского ром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й романс-авторский по способу создания, но фольклорный по способу быт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ыганс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4501-15CF-47A9-87D9-8309403A834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71C4-1FF8-4382-9FEF-8C7F9667CB1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D298-0ECC-4618-B427-1E43A2884D8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A38-2CAC-4777-BC4E-0D322C4B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5C7-23C0-45B6-8D7A-A64179A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13E-74D4-4492-9088-D3FD3139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11A-4A38-4BB5-9711-B75CFEE6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F8AD-6A83-456D-97BC-CAFA99EE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A600-05B3-493B-98A0-55C4AAB7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4505-186D-4170-8CF2-9AC22A84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9733-970C-4E08-BAF0-62A655C1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4232-8AE0-417E-A971-CF4394D3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F1E4-8AC5-4FAB-9CA2-E9D0D64C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FC05-8DF5-4294-8134-66BBCC2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BBE-F862-4C5F-8C32-98A473F2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349C-75FA-4CD3-977B-C7191591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D6C4-A916-454B-9B3A-C096C00A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7050-D27F-4B56-9108-50E84A3B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2601-7FCE-4F20-B4CD-B0FD50DA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D1BD-E4C9-4D83-B3D1-02A9C0A5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009-F1A2-4955-92BE-93BBEF45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0C4-0188-49DD-B88D-39B28B4A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BD8-9B86-452C-97F5-AD6A3413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8EE-C823-440D-AF8C-5D63E280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C88-C4F6-44B6-8E00-708FB49D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32B-62A0-41BD-B820-F67F803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CA3-CE32-4B35-8D84-1460E82B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459D-1983-44E5-9806-87B7E32D63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B642-84CB-486A-BBF4-AB087DDDC6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600" spc="-1" strike="noStrike" u="sng">
                <a:solidFill>
                  <a:srgbClr val="c4c3aa"/>
                </a:solidFill>
                <a:uFillTx/>
                <a:latin typeface="Arial"/>
              </a:rPr>
              <a:t>Романсы.</a:t>
            </a:r>
            <a:endParaRPr b="0" lang="en-US" sz="11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4" descr="MM900284089[1]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2062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MM900336598[2]"/>
          <p:cNvPicPr/>
          <p:nvPr/>
        </p:nvPicPr>
        <p:blipFill>
          <a:blip r:embed="rId2"/>
          <a:stretch/>
        </p:blipFill>
        <p:spPr>
          <a:xfrm>
            <a:off x="1523880" y="4343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MM900336703[2]"/>
          <p:cNvPicPr/>
          <p:nvPr/>
        </p:nvPicPr>
        <p:blipFill>
          <a:blip r:embed="rId3"/>
          <a:stretch/>
        </p:blipFill>
        <p:spPr>
          <a:xfrm>
            <a:off x="5029200" y="4267080"/>
            <a:ext cx="1143000" cy="11239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частлив тем, что встретил Вас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повторимый и прекрас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значит, жил я не напрасн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рю, волшебный мой Романс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4" descr="dglxasset[1]"/>
          <p:cNvPicPr/>
          <p:nvPr/>
        </p:nvPicPr>
        <p:blipFill>
          <a:blip r:embed="rId1"/>
          <a:stretch/>
        </p:blipFill>
        <p:spPr>
          <a:xfrm>
            <a:off x="1447920" y="4419720"/>
            <a:ext cx="1711080" cy="1036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dglxasset[1]"/>
          <p:cNvPicPr/>
          <p:nvPr/>
        </p:nvPicPr>
        <p:blipFill>
          <a:blip r:embed="rId2"/>
          <a:stretch/>
        </p:blipFill>
        <p:spPr>
          <a:xfrm>
            <a:off x="6629400" y="4114800"/>
            <a:ext cx="1095480" cy="1827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dglxasset[1]"/>
          <p:cNvPicPr/>
          <p:nvPr/>
        </p:nvPicPr>
        <p:blipFill>
          <a:blip r:embed="rId3"/>
          <a:stretch/>
        </p:blipFill>
        <p:spPr>
          <a:xfrm>
            <a:off x="3809880" y="4191120"/>
            <a:ext cx="1422360" cy="1218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dglxasset[2]"/>
          <p:cNvPicPr/>
          <p:nvPr/>
        </p:nvPicPr>
        <p:blipFill>
          <a:blip r:embed="rId4"/>
          <a:stretch/>
        </p:blipFill>
        <p:spPr>
          <a:xfrm>
            <a:off x="6400800" y="-152280"/>
            <a:ext cx="1820880" cy="1747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dglxasset[2]"/>
          <p:cNvPicPr/>
          <p:nvPr/>
        </p:nvPicPr>
        <p:blipFill>
          <a:blip r:embed="rId5"/>
          <a:stretch/>
        </p:blipFill>
        <p:spPr>
          <a:xfrm>
            <a:off x="1295280" y="-152280"/>
            <a:ext cx="1640160" cy="1811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4c3aa"/>
                </a:solidFill>
                <a:latin typeface="Arial"/>
              </a:rPr>
              <a:t>Что такое романс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dglxasset[3]"/>
          <p:cNvPicPr/>
          <p:nvPr/>
        </p:nvPicPr>
        <p:blipFill>
          <a:blip r:embed="rId1"/>
          <a:stretch/>
        </p:blipFill>
        <p:spPr>
          <a:xfrm>
            <a:off x="5791320" y="5105520"/>
            <a:ext cx="1825560" cy="10936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слушайте роман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4" descr="dglxasset[4]"/>
          <p:cNvPicPr/>
          <p:nvPr/>
        </p:nvPicPr>
        <p:blipFill>
          <a:blip r:embed="rId1"/>
          <a:stretch/>
        </p:blipFill>
        <p:spPr>
          <a:xfrm>
            <a:off x="6477120" y="4495680"/>
            <a:ext cx="1787400" cy="1668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M900163113[2]"/>
          <p:cNvPicPr/>
          <p:nvPr/>
        </p:nvPicPr>
        <p:blipFill>
          <a:blip r:embed="rId2"/>
          <a:stretch/>
        </p:blipFill>
        <p:spPr>
          <a:xfrm>
            <a:off x="4724280" y="4724280"/>
            <a:ext cx="819360" cy="1200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dglxasset[2]"/>
          <p:cNvPicPr/>
          <p:nvPr/>
        </p:nvPicPr>
        <p:blipFill>
          <a:blip r:embed="rId3"/>
          <a:stretch/>
        </p:blipFill>
        <p:spPr>
          <a:xfrm>
            <a:off x="2057400" y="4952880"/>
            <a:ext cx="1778040" cy="1371600"/>
          </a:xfrm>
          <a:prstGeom prst="rect">
            <a:avLst/>
          </a:prstGeom>
          <a:ln w="0">
            <a:noFill/>
          </a:ln>
        </p:spPr>
      </p:pic>
      <p:pic>
        <p:nvPicPr>
          <p:cNvPr id="359" name="minusovki[1].mptri.net romansi_-_v_lunnom_siyanii.mp3" descr=""/>
          <p:cNvPicPr/>
          <p:nvPr/>
        </p:nvPicPr>
        <p:blipFill>
          <a:blip r:embed="rId4"/>
          <a:stretch/>
        </p:blipFill>
        <p:spPr>
          <a:xfrm>
            <a:off x="79246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639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иды русского романса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Городской романс-авторский по способу создания, но фольклорный по способу бытования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Цыганс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Жесто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5" descr="i?id=163947780-13"/>
          <p:cNvPicPr/>
          <p:nvPr/>
        </p:nvPicPr>
        <p:blipFill>
          <a:blip r:embed="rId1"/>
          <a:stretch/>
        </p:blipFill>
        <p:spPr>
          <a:xfrm>
            <a:off x="1143000" y="838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j0281904"/>
          <p:cNvPicPr/>
          <p:nvPr/>
        </p:nvPicPr>
        <p:blipFill>
          <a:blip r:embed="rId2"/>
          <a:stretch/>
        </p:blipFill>
        <p:spPr>
          <a:xfrm>
            <a:off x="6629400" y="4267080"/>
            <a:ext cx="1825560" cy="172584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Романс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4" descr="j0230876"/>
          <p:cNvPicPr/>
          <p:nvPr/>
        </p:nvPicPr>
        <p:blipFill>
          <a:blip r:embed="rId1"/>
          <a:stretch/>
        </p:blipFill>
        <p:spPr>
          <a:xfrm>
            <a:off x="3505320" y="4800600"/>
            <a:ext cx="1666800" cy="1752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1" name="Picture 5" descr="D:\анимашки\анимашки\валентинки\d63f0f1be326.gif"/>
          <p:cNvPicPr/>
          <p:nvPr/>
        </p:nvPicPr>
        <p:blipFill>
          <a:blip r:embed="rId1"/>
          <a:stretch/>
        </p:blipFill>
        <p:spPr>
          <a:xfrm>
            <a:off x="457200" y="304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1600200" y="3048120"/>
            <a:ext cx="6029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3" name="Picture 3" descr="D:\анимашки\анимашки\валентинки\tn_gallery_2_211_11735.png"/>
          <p:cNvPicPr/>
          <p:nvPr/>
        </p:nvPicPr>
        <p:blipFill>
          <a:blip r:embed="rId2"/>
          <a:stretch/>
        </p:blipFill>
        <p:spPr>
          <a:xfrm>
            <a:off x="380880" y="4191120"/>
            <a:ext cx="3357720" cy="2361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:\анимашки\анимашки\валентинки\tn_gallery_2_211_5267.png"/>
          <p:cNvPicPr/>
          <p:nvPr/>
        </p:nvPicPr>
        <p:blipFill>
          <a:blip r:embed="rId3"/>
          <a:stretch/>
        </p:blipFill>
        <p:spPr>
          <a:xfrm>
            <a:off x="541008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анимашки\анимашки\валентинки\tn_gallery_2_211_101296.png"/>
          <p:cNvPicPr/>
          <p:nvPr/>
        </p:nvPicPr>
        <p:blipFill>
          <a:blip r:embed="rId4"/>
          <a:stretch/>
        </p:blipFill>
        <p:spPr>
          <a:xfrm>
            <a:off x="6553080" y="4572000"/>
            <a:ext cx="2048040" cy="20480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7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