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.gif" ContentType="image/gif"/>
  <Override PartName="/ppt/media/image7.wmf" ContentType="image/x-wmf"/>
  <Override PartName="/ppt/media/image19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5.wmf" ContentType="image/x-wmf"/>
  <Override PartName="/ppt/media/image16.wmf" ContentType="image/x-wmf"/>
  <Override PartName="/ppt/media/image14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gif" ContentType="image/gi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A180-44ED-4577-BD52-A40BEDF81F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6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Calibri"/>
              </a:rPr>
              <a:t>Романсы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A47-F8D5-48AC-A38C-BC729895256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счастлив тем, что встретил Ва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ый и прекрас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значит, жил я не напрасн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, волшебный мой Романс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E3DD-B87B-4588-A97C-FB58863BBBA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то такое романс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7CE4-5884-4FCA-8351-F01782D7DEA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ушайте роман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4888-45EE-41B3-9B61-1D037FE30C1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усского роман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й романс-авторский по способу создания, но фольклорный по способу быт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ыганс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окий 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2C65-82C0-42BB-902D-CE2A6447FB7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51CF-496D-4572-BD11-28CFD4BF6CE6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D1E3-0F55-45F4-A428-A044EAF37A2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80C-2065-4F35-BE9D-219F41B3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D970-8E99-4643-9576-632BF852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C177-C6AE-46FC-97D4-BAC11B62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FAE-0AA9-484A-9EB6-77003DBD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5391-E511-40AB-9EB5-0DC58094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D956-E630-4765-9F46-06FE2CFB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DC50-D37E-4F7D-9697-723EC63AA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D0FD-DAC1-4812-BA2A-BA67ABA4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F6D8-89EB-43B2-A6C5-CDA9F4C8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B652-37DA-4620-BD48-27E2A68C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2BE9-8E72-4625-B700-2CBF9DFA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B25-6D29-4166-88A1-3643B0FE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F82A-0E08-456E-A74D-F86770C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4BFE-35F9-4FAE-83E7-EA45FBB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A1CD-677C-4409-9504-E9B94557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A3E6-0A16-455B-B269-D8CB1DBE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D3FB-B4B0-42FE-B7B0-57250CAC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1A7-F702-4537-B15F-99F5D277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F49-D6E4-4928-AA53-C6A83593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D0D-3301-4DEF-98AD-BF5FD85E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113-954A-41E4-A347-C60A72CA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C4F-ED89-4A2B-878D-A4A19281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C05-4497-4359-AE9B-927B4172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62C-ECC4-4CC0-998D-8D735613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ABDA-D07D-4734-8E58-BD36E72ADE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960" y="2141280"/>
                <a:ext cx="493920" cy="494280"/>
                <a:chOff x="4728960" y="214128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4800" y="236700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432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9C9A-6D3D-4542-ADFF-6864740F4D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600" spc="-1" strike="noStrike" u="sng">
                <a:solidFill>
                  <a:srgbClr val="c4c3aa"/>
                </a:solidFill>
                <a:uFillTx/>
                <a:latin typeface="Arial"/>
              </a:rPr>
              <a:t>Романсы.</a:t>
            </a:r>
            <a:endParaRPr b="0" lang="en-US" sz="116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4" descr="MM900284089[1]"/>
          <p:cNvPicPr/>
          <p:nvPr/>
        </p:nvPicPr>
        <p:blipFill>
          <a:blip r:embed="rId1"/>
          <a:stretch/>
        </p:blipFill>
        <p:spPr>
          <a:xfrm>
            <a:off x="3657600" y="0"/>
            <a:ext cx="1371600" cy="20620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MM900336598[2]"/>
          <p:cNvPicPr/>
          <p:nvPr/>
        </p:nvPicPr>
        <p:blipFill>
          <a:blip r:embed="rId2"/>
          <a:stretch/>
        </p:blipFill>
        <p:spPr>
          <a:xfrm>
            <a:off x="1523880" y="434340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MM900336703[2]"/>
          <p:cNvPicPr/>
          <p:nvPr/>
        </p:nvPicPr>
        <p:blipFill>
          <a:blip r:embed="rId3"/>
          <a:stretch/>
        </p:blipFill>
        <p:spPr>
          <a:xfrm>
            <a:off x="5029200" y="4267080"/>
            <a:ext cx="1143000" cy="11239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Я счастлив тем, что встретил Вас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повторимый и прекрасны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, значит, жил я не напрасно.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Благодарю, волшебный мой Романс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5" name="Picture 4" descr="dglxasset[1]"/>
          <p:cNvPicPr/>
          <p:nvPr/>
        </p:nvPicPr>
        <p:blipFill>
          <a:blip r:embed="rId1"/>
          <a:stretch/>
        </p:blipFill>
        <p:spPr>
          <a:xfrm>
            <a:off x="1447920" y="4419720"/>
            <a:ext cx="1711080" cy="1036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dglxasset[1]"/>
          <p:cNvPicPr/>
          <p:nvPr/>
        </p:nvPicPr>
        <p:blipFill>
          <a:blip r:embed="rId2"/>
          <a:stretch/>
        </p:blipFill>
        <p:spPr>
          <a:xfrm>
            <a:off x="6629400" y="4114800"/>
            <a:ext cx="1095480" cy="1827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dglxasset[1]"/>
          <p:cNvPicPr/>
          <p:nvPr/>
        </p:nvPicPr>
        <p:blipFill>
          <a:blip r:embed="rId3"/>
          <a:stretch/>
        </p:blipFill>
        <p:spPr>
          <a:xfrm>
            <a:off x="3809880" y="4191120"/>
            <a:ext cx="1422360" cy="1218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dglxasset[2]"/>
          <p:cNvPicPr/>
          <p:nvPr/>
        </p:nvPicPr>
        <p:blipFill>
          <a:blip r:embed="rId4"/>
          <a:stretch/>
        </p:blipFill>
        <p:spPr>
          <a:xfrm>
            <a:off x="6400800" y="-152280"/>
            <a:ext cx="1820880" cy="1747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dglxasset[2]"/>
          <p:cNvPicPr/>
          <p:nvPr/>
        </p:nvPicPr>
        <p:blipFill>
          <a:blip r:embed="rId5"/>
          <a:stretch/>
        </p:blipFill>
        <p:spPr>
          <a:xfrm>
            <a:off x="1295280" y="-152280"/>
            <a:ext cx="1640160" cy="1811160"/>
          </a:xfrm>
          <a:prstGeom prst="rect">
            <a:avLst/>
          </a:prstGeom>
          <a:ln w="0">
            <a:noFill/>
          </a:ln>
        </p:spPr>
      </p:pic>
      <p:sp>
        <p:nvSpPr>
          <p:cNvPr id="3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4c3aa"/>
                </a:solidFill>
                <a:latin typeface="Arial"/>
              </a:rPr>
              <a:t>Что такое романс?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 в музыке вокальное сочинение, камерное музыкально-поэтическое произведение для голоса с инструментальным сопровождением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4" descr="dglxasset[3]"/>
          <p:cNvPicPr/>
          <p:nvPr/>
        </p:nvPicPr>
        <p:blipFill>
          <a:blip r:embed="rId1"/>
          <a:stretch/>
        </p:blipFill>
        <p:spPr>
          <a:xfrm>
            <a:off x="5791320" y="5105520"/>
            <a:ext cx="1825560" cy="10936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Прослушайте роман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Определите характер, темп, динамику, краски и попробуйте представить себе картину, и даже можете нарисовать её и описать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6" name="Picture 4" descr="dglxasset[4]"/>
          <p:cNvPicPr/>
          <p:nvPr/>
        </p:nvPicPr>
        <p:blipFill>
          <a:blip r:embed="rId1"/>
          <a:stretch/>
        </p:blipFill>
        <p:spPr>
          <a:xfrm>
            <a:off x="6477120" y="4495680"/>
            <a:ext cx="1787400" cy="1668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MM900163113[2]"/>
          <p:cNvPicPr/>
          <p:nvPr/>
        </p:nvPicPr>
        <p:blipFill>
          <a:blip r:embed="rId2"/>
          <a:stretch/>
        </p:blipFill>
        <p:spPr>
          <a:xfrm>
            <a:off x="4724280" y="4724280"/>
            <a:ext cx="819360" cy="1200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dglxasset[2]"/>
          <p:cNvPicPr/>
          <p:nvPr/>
        </p:nvPicPr>
        <p:blipFill>
          <a:blip r:embed="rId3"/>
          <a:stretch/>
        </p:blipFill>
        <p:spPr>
          <a:xfrm>
            <a:off x="2057400" y="4952880"/>
            <a:ext cx="1778040" cy="1371600"/>
          </a:xfrm>
          <a:prstGeom prst="rect">
            <a:avLst/>
          </a:prstGeom>
          <a:ln w="0">
            <a:noFill/>
          </a:ln>
        </p:spPr>
      </p:pic>
      <p:pic>
        <p:nvPicPr>
          <p:cNvPr id="359" name="minusovki[1].mptri.net romansi_-_v_lunnom_siyanii.mp3" descr=""/>
          <p:cNvPicPr/>
          <p:nvPr/>
        </p:nvPicPr>
        <p:blipFill>
          <a:blip r:embed="rId4"/>
          <a:stretch/>
        </p:blipFill>
        <p:spPr>
          <a:xfrm>
            <a:off x="792468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1639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4c3aa"/>
                </a:solidFill>
                <a:latin typeface="Arial"/>
              </a:rPr>
              <a:t>Виды русского романса.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</a:t>
            </a: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Городской романс-авторский по способу создания, но фольклорный по способу бытования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Цыганс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Жестокий романс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3" name="Picture 5" descr="i?id=163947780-13"/>
          <p:cNvPicPr/>
          <p:nvPr/>
        </p:nvPicPr>
        <p:blipFill>
          <a:blip r:embed="rId1"/>
          <a:stretch/>
        </p:blipFill>
        <p:spPr>
          <a:xfrm>
            <a:off x="1143000" y="838080"/>
            <a:ext cx="1447920" cy="12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j0281904"/>
          <p:cNvPicPr/>
          <p:nvPr/>
        </p:nvPicPr>
        <p:blipFill>
          <a:blip r:embed="rId2"/>
          <a:stretch/>
        </p:blipFill>
        <p:spPr>
          <a:xfrm>
            <a:off x="6629400" y="4267080"/>
            <a:ext cx="1825560" cy="172584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c3aa"/>
                </a:solidFill>
                <a:latin typeface="Arial"/>
              </a:rPr>
              <a:t>Романс.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Романс- испанское слово, в 18 веке стал знаменитым романс исполняющийся соло под аккомпонимент фортепиано или гитара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4" descr="j0230876"/>
          <p:cNvPicPr/>
          <p:nvPr/>
        </p:nvPicPr>
        <p:blipFill>
          <a:blip r:embed="rId1"/>
          <a:stretch/>
        </p:blipFill>
        <p:spPr>
          <a:xfrm>
            <a:off x="3505320" y="4800600"/>
            <a:ext cx="1666800" cy="175248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1" name="Picture 5" descr="D:\анимашки\анимашки\валентинки\d63f0f1be326.gif"/>
          <p:cNvPicPr/>
          <p:nvPr/>
        </p:nvPicPr>
        <p:blipFill>
          <a:blip r:embed="rId1"/>
          <a:stretch/>
        </p:blipFill>
        <p:spPr>
          <a:xfrm>
            <a:off x="457200" y="3049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72" name="WordArt 5"/>
          <p:cNvSpPr txBox="1"/>
          <p:nvPr/>
        </p:nvSpPr>
        <p:spPr>
          <a:xfrm>
            <a:off x="1600200" y="3048120"/>
            <a:ext cx="60292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373" name="Picture 3" descr="D:\анимашки\анимашки\валентинки\tn_gallery_2_211_11735.png"/>
          <p:cNvPicPr/>
          <p:nvPr/>
        </p:nvPicPr>
        <p:blipFill>
          <a:blip r:embed="rId2"/>
          <a:stretch/>
        </p:blipFill>
        <p:spPr>
          <a:xfrm>
            <a:off x="380880" y="4191120"/>
            <a:ext cx="3357720" cy="2361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D:\анимашки\анимашки\валентинки\tn_gallery_2_211_5267.png"/>
          <p:cNvPicPr/>
          <p:nvPr/>
        </p:nvPicPr>
        <p:blipFill>
          <a:blip r:embed="rId3"/>
          <a:stretch/>
        </p:blipFill>
        <p:spPr>
          <a:xfrm>
            <a:off x="5410080" y="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D:\анимашки\анимашки\валентинки\tn_gallery_2_211_101296.png"/>
          <p:cNvPicPr/>
          <p:nvPr/>
        </p:nvPicPr>
        <p:blipFill>
          <a:blip r:embed="rId4"/>
          <a:stretch/>
        </p:blipFill>
        <p:spPr>
          <a:xfrm>
            <a:off x="6553080" y="4572000"/>
            <a:ext cx="2048040" cy="204804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7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