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9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0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21"/>
          </p:nvPr>
        </p:nvSpPr>
        <p:spPr>
          <a:xfrm>
            <a:off x="381960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D007-9822-49ED-841B-920DC42CD7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F28F-DA4A-4BF4-8133-E8963B36D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E44B-1BB8-4BF5-90ED-8DADC11238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читать размер пен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31F6-F9FC-4147-ABEF-82B866EFCE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= 900 руб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79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Ч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44000 руб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632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 19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B0EA-D7F9-44BC-8FAD-DA3D83B04E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:  ежемесячно 6%, т.е. 5000 *6% = 300 руб. Тогда за 30 лет в накопительную часть перечис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00 *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1+0,07)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^29 –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314447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Ч 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14447 руб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1379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19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DDA8-7EA0-4EE0-8733-3CBA250984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рав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900 руб. (Б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2 руб. (С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79 руб. (НЧ) = 2911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5EE8-C70C-4E24-801A-EAEC167964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овая пенсия по инвалид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и III степени - 1 800 рублей в меся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и II степени - 900 рублей в месяц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450 рублей в меся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FB7B-EF72-4FF8-8AE0-F279F5382D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а основных составных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ей пенсион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1815-7348-4CE4-9F9A-3E2D3C8A6E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временной нетрудоспособности (по    среднему заработк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беременности и родам (по среднему заработку за 12 мес. 70 дней до родов и 70 дней после родов, но максимальная сумма 12480 руб. (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0 руб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единоразовое пособие при рождении ребенка (усыновлении) ребенка выплачивается в размере  9592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 (с 01.01.0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A31E-9117-43DE-9DEF-33F05F758E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месячно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на период отпуска п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ходу за ребен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 достижения им возраста полутора лет выплачивается в размер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 руб. (1798,51 – с 01.01.09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го ребенка и 3000 руб. (3597,01 – 01.01.09) на каждого последующег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на детей военнослужащих срочной службы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особие по безработиц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ритуальные пособия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социальная помощь малоимущи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7E84-88A6-43AF-9B7B-E1C1AAFC65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небюджетные фонды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3133-8759-4353-A729-685782466C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тивно – законодательное регулиров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итуц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от 17.12.2001 №173-ФЗ «О трудовых пенсиях в РФ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167 –ФЗ «Об обязательном пенсионном страховании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 81-ФЗ «О государственных пособиях гражданам, имеющим детей»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1AEE-C182-4FDB-8B6D-52BE16F742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ализованные (государственные) внебюдже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меют общегосударственное значение и 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предназначены для реализации конституционных прав граждан н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возрас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в случае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у здоровья и получение бесплат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F1C6-3C06-44BC-AC8B-AEEA9D090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централизованных (государственных) внебюджетных фон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нсионный Фонд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д социального страхования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фонд обязательного медицинского страх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фонд занятости населения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B0C0-2A58-4FA2-8A82-718735BDD2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точниками формирования внебюджетных фондов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е взн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коммерческой деятельности, осуществляемой фондами (если разрешен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доходы, предусмотренные соответствующими законодательными 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9BA4-E895-4A9D-B27B-1ED950B4CD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точники Пенсионного фон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формируются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 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132-F286-48B3-9CB7-851BB10A09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нда социального страх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образуются за сч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граждан и юрид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6520-83FB-4508-B34E-F335E7DBD2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ФСС направляются на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аторно – курортное лечение и оздоровление работников и членов их сем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иных мероприятий в соответствии с задачами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0074-88C7-4032-A453-41961B0951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 формируются 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спользования временно свободных финансовых средств фон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99A5-8B06-4E5D-A4B5-F0D0C81CF9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цель, ви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страхование осуществля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двух вид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обязательном и доброво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C3EF-BD31-4947-AFC3-F0AAFD0C04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84EB-00CC-4B01-A79B-203B561CD8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5DEB-BE3A-4AC5-B451-817F065177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39 Конституции РФ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арант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ам Росс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лище, на образование, на пользование достижениями культур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66D5-7774-422D-9E21-8B0D091256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29DE-AC6E-4D1C-846E-779905D5E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централизованные внебюджетные фо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ются для решения территориальных, отраслевых, межотраслевых и други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им относятся внебюджетные фонды, создаваем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4A7-6B81-4A5A-B40F-C3E690DE77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кономическая категор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06FB-6D4B-4140-A4E0-6735AF281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нципы построения социального обеспечения 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общ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доступ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мер и форма обеспечения зависят от прошл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нообразие предоставляемых форм обеспечения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мократический характер организации социального обеспечения и е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6E9-436C-4F30-AE8A-01855ADE64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ные виды расходов по социальному обеспечению – выплаты пенсий и пособ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нсии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B36B-2107-4E9D-964A-6FAC9D281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пенсии по стар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по старости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Ч + СЧ+Н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– определяется законод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страхов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накопительн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дожития (19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9ABC-99F1-45A1-BE59-FC46289963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для лиц родившихся не ране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3 г (для мужчин)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7 г. (для женщ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начисления в ПФ (персонифицированный учет) составляет в настоящее время 14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3FE0-C5DF-482B-9613-50EC416DDF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541E-D766-4694-808D-62ACCB8D5B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A8C-953F-4E3D-BDBB-D3BC0E29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96A-AD64-40ED-B7FA-B072552A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913-3068-4A01-9A28-C8F5B27B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269-723C-4C5E-85A4-BDC8567F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5FDA-F123-4EE1-8027-03247F6A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7798-3EF4-4FE8-B11B-48A2122B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73C2-FAC8-4AE2-A734-398F6DED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B841-157A-4D02-9399-3ACC1A9A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FEC5-D2B3-4B92-9D92-8ACFE8D6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9656-E763-46FD-AC07-04C15C8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B7E9-BFFD-4642-8CD7-526EDB2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865-71D2-440D-8A2B-E0B4F870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3390-18D6-455D-B94A-A5225EBD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743B-63A7-4BB3-9D56-9D555BD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BAE5-4B46-4874-A7DC-E68922FF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5923-8661-43CF-9AB7-99C77908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7E83-82ED-4906-9FD0-79FB36F8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AF11-D2BF-4248-9A91-3AF5F96D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2F89-B1D7-4AF3-A2F8-B40D840E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D496-941E-4540-8036-89AD64AC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A9BB-77C2-4CF8-9622-D8C5C954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3101-E14E-4C69-9470-4D0A971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073-9685-43F5-86FB-21944BD5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0E65-0370-4B7A-9F1B-577F64AB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2679-C226-441C-B5AF-24DBFF90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77719-A716-49D1-BF62-7CD48FB8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91BB-9640-47C6-A173-BE5DAA51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996A-A5E2-4EB5-97EF-9BC4E791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AFC0-781D-48E3-9CC5-A5D392A2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2CF1-2607-4224-8249-9DB22C32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CC01-E7BB-4EEE-BA4F-232612EA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121E-7186-4737-99EF-C09ABF04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2B52-F63D-4511-946D-15194D7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30D-C1E4-4A16-8A76-9361C206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4CB97-A65F-4C8C-BE43-1CB40E24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D02B4-5C4A-4E37-858A-A4DC0FB4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3F706-C285-4D14-80EC-961988AD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2E824-F36B-4B77-B299-52DC074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2478-0C30-4C20-8552-71C46F4D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AC99-DC83-47BE-A203-171578BF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FC252-5DCB-4B31-AE08-3FD8A488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77A6-8E5F-431F-AE29-E9F879BC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9A7B0-9CBB-4769-A6D8-478A8E08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326F4-AF4A-41BC-93E0-73791B1F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9B2-9553-4517-89E7-4948339E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814D-D32B-4B9C-BF07-852F7023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FFCA5-3BD7-4C82-824D-012E554A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04B95-6760-43FF-82CD-A84CE2B1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9522B-A592-4448-AB23-69229F6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062F2-057F-4C3B-A56B-92434A49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FB28-1BB9-46FA-BDF9-9C5A5C6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67B2-1EE9-4B31-A150-B8286D53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74082-414C-43E0-A73E-BC4F17A2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95FB-98C4-4573-9E88-8CEA92E9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1BDF-4DF9-4CCB-9D34-C3814142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710-1ADB-4C7C-9AE3-F9D3049E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E64A-BD24-4E1F-91F0-3C92DF82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392B-7C0B-4620-826C-15E29841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8A591-9D29-469D-A16C-39941184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127D8-9CB9-41AB-8C96-B6AF81F1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F018B-00EF-4BE9-A8B3-7E019703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B24E5-4AC6-42DA-8082-1555BE4F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26C2D-123E-4244-8CB0-F8923391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DB39-050D-4A2A-ADAA-1F0FFD19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603D9-6D29-4ECA-833E-D6B77BA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E2FE7-0193-4EB2-BFE6-70BB6670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25C-474D-470E-8205-9CA14062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D5383-85B5-400C-BEE0-03B8E4B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2F3B3-B730-43B0-99EB-04D789FC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6AD6F-8583-41D3-9D03-9248C715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B5F-F9BE-467F-9160-7215342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D38-654E-4E22-BCB5-03D90B5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743E-40B7-44AC-B449-EBCFAF7426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" name="Группа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9" name="Прямоуг.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Полилиния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Группа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" name="Автофигура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Автофигура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128B-17A5-43F7-967F-EC06CC6BF2D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FB8-FC1E-40B2-84EF-14671103AE2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олилиния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Линия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9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1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5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49C8-9FCE-461F-8A4F-E7B850FF70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Группа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9" name="Прямоуг.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Автофигура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2" name="Автофигура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Автофигура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86CC-4A19-44FF-8511-40D69BC502C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олилиния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Линия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96F1-CE21-4123-9316-6D638B2981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оциальное обеспе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11280" y="1557360"/>
          <a:ext cx="8353440" cy="4959360"/>
        </p:xfrm>
        <a:graphic>
          <a:graphicData uri="http://schemas.openxmlformats.org/drawingml/2006/table">
            <a:tbl>
              <a:tblPr/>
              <a:tblGrid>
                <a:gridCol w="2452680"/>
                <a:gridCol w="3020760"/>
                <a:gridCol w="2880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ла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ак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ть размер пен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Ч = 900 руб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7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Чмес. =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44000 ру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32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мес* 19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:  ежемесячно 6%, т.е. 5000 *6% = 300 руб. Тогда за 30 лет в накопительную часть перечисл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0 *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1+0,07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^29 –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31444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Ч мес.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14447 руб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379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мес*1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пенсии рав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 900 руб. (Б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32 руб. (С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79 руб. (НЧ) = 2911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удовая пенсия по инвалид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и III степени - 1 800 рублей в меся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ри II степени - 900 рублей в месяц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епени - 450 рублей в меся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6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Характеристика основных составных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частей пенсионной систем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0920" y="1125360"/>
          <a:ext cx="8893080" cy="5542200"/>
        </p:xfrm>
        <a:graphic>
          <a:graphicData uri="http://schemas.openxmlformats.org/drawingml/2006/table">
            <a:tbl>
              <a:tblPr/>
              <a:tblGrid>
                <a:gridCol w="865080"/>
                <a:gridCol w="1149480"/>
                <a:gridCol w="722160"/>
                <a:gridCol w="863640"/>
                <a:gridCol w="792000"/>
                <a:gridCol w="865440"/>
                <a:gridCol w="863640"/>
                <a:gridCol w="863640"/>
                <a:gridCol w="1047600"/>
                <a:gridCol w="860400"/>
              </a:tblGrid>
              <a:tr h="95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н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 пенсионное обесп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пенсионное страх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ое пенсионное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хование и обеспеч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сиона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опите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осударствен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латы к пенс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военнослужащим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«чернобыльца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ая ч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овая  и накопительная ч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ая осно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язательные страховые взнос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ые взн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бюджетов и организ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- 75% 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ого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ксированный разме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капитал и накопления/ожидаемый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 выплат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словиях догов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ешению собственника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фонд РФ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осударственные пенсионные фонды и иные страховщик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собственником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ременной нетрудоспособности (по    среднему заработку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 беременности и родам (по среднему заработку за 12 мес. 70 дней до родов и 70 дней после родов, но максимальная сумма 12480 руб.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0 руб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единоразовое пособие при рождении ребен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сыновлении) ребенка выплачивается в размере  9592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. (с 01.01.0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месячно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обие на период отпуска п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ходу за ребен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достижения им возраста полутора лет выплачивается в разме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0 руб. (1798,51 – с 01.01.09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го ребенка и 3000 руб. (3597,01 – 01.01.09) на каждого последующе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на детей военнослужащих срочной служб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собие по безработиц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итуальные пособ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оциальная помощь малоимущи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небюджетные фонды: определ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рмативно – законодательное регулиров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итуция РФ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от 17.12.2001 №173-ФЗ «О трудовых пенсиях в РФ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167 –ФЗ «Об обязательном пенсионном страховании в РФ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 81-ФЗ «О государственных пособиях гражданам, имеющим детей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Централизованные (государственные) внебюджетные</a:t>
            </a: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онды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6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ют общегосударственное значение и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едназначены для реализации конституционных прав граждан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возраст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в случае безработиц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храну здоровья и получение бесплатн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Состав централизованных (государственных) внебюджетных фондов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42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ный Фонд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фонд обязательного медицинского страх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фонд занятости населения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точниками формирования внебюджетных фондов являю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язательные платеж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овольные взнос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ыль от коммерческой деятельности, осуществляемой фондами (если разрешено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е доходы, предусмотренные соответствующими законодательными ак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сточники Пенсионного фонд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формируются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 страховых взносов работода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фонда социального страх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образуются за счет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работода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 граждан и юридических лиц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чих дох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ФСС направляются на: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аторно – курортное лечение и оздоровление работников и членов их сем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ение иных мероприятий в соответствии с задачами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 формируются 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спользования временно свободных финансовых средств фон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: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цель, виды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ое страхование осуществляет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двух вид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обязательном и доброволь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13564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ья 39 Конституции РФ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рант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ам Росси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лище, на образование, на пользование достижениями культуры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Децентрализованные внебюджетные фонд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60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тся для решения территориальных, отраслевых, межотраслевых и других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ним относятся внебюджетные фонды, создавае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6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ак экономическая категория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оциальное обеспечение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инципы построения социального обеспечения :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еобщ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общедоступ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мер и форма обеспечения зависят от прошлого труд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нообразие предоставляемых форм обеспечения и услуг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демократический характер организации социального обеспечения и его управле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496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виды расходов по социальному обеспечению – выплаты пенсий и пособ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Пенсии –</a:t>
            </a: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чет пенсии по старост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 пенсии по старости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Ч + СЧ+Н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Ч – определяется законод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страхов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накопительн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дожития (19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ся для лиц родившихся не ран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3 г (для мужчин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7 г. (для женщ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начисления в ПФ (персонифицированный учет) составляет в настоящее время 1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4360" y="1600200"/>
          <a:ext cx="8280360" cy="4176720"/>
        </p:xfrm>
        <a:graphic>
          <a:graphicData uri="http://schemas.openxmlformats.org/drawingml/2006/table">
            <a:tbl>
              <a:tblPr/>
              <a:tblGrid>
                <a:gridCol w="3049560"/>
                <a:gridCol w="2616120"/>
                <a:gridCol w="2614680"/>
              </a:tblGrid>
              <a:tr h="12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до 1953 г и женщины до 1957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 1953 – 1966 и женщины 1957 – 1966 г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 -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 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5:41Z</dcterms:created>
  <dc:creator>Riabova Elena</dc:creator>
  <dc:description/>
  <dc:language>en-US</dc:language>
  <cp:lastModifiedBy>LEGION</cp:lastModifiedBy>
  <dcterms:modified xsi:type="dcterms:W3CDTF">2014-11-10T12:20:36Z</dcterms:modified>
  <cp:revision>48</cp:revision>
  <dc:subject/>
  <dc:title>Социальное обеспечение</dc:title>
</cp:coreProperties>
</file>