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9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0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21"/>
          </p:nvPr>
        </p:nvSpPr>
        <p:spPr>
          <a:xfrm>
            <a:off x="381960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FCE-4D09-4EA5-909C-298527AC7F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9E3-CD29-4168-9881-8C027E8D67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8EB0-802D-46EF-B700-410589BC2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читать размер пен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18A-07CD-495E-9684-2CC5F6BC83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= 900 руб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79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Ч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44000 руб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632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 19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95B-C3DB-4E00-9CD2-EEFB9F1FEA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:  ежемесячно 6%, т.е. 5000 *6% = 300 руб. Тогда за 30 лет в накопительную часть перечис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00 *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1+0,07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^29 –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314447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Ч 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14447 руб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1379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19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C65C-ABEA-4436-B0CB-532BA09DE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рав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900 руб. (Б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2 руб. (С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79 руб. (НЧ) = 2911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351F-800A-4782-A578-81684F3B7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ая пенсия по инвалид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и III степени - 1 800 рублей в меся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и II степени - 900 рублей в месяц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450 рублей в меся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B69-6D80-427B-9849-88F5C7591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а основных составных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ей пенсион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F96C-67F9-46EF-A5B6-AEC88BE24D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временной нетрудоспособности (по    среднему заработк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беременности и родам (по среднему заработку за 12 мес. 70 дней до родов и 70 дней после родов, но максимальная сумма 12480 руб. (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0 руб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единоразовое пособие при рождении ребенка (усыновлении) ребенка выплачивается в размере  9592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 (с 01.01.0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6B4B-E69C-45D1-A0DD-4A6627B06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месячно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на период отпуска п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ходу за ребен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 достижения им возраста полутора лет выплачивается в размер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 руб. (1798,51 – с 01.01.09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го ребенка и 3000 руб. (3597,01 – 01.01.09) на каждого последующег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на детей военнослужащих срочной служб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особие по безработиц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итуальные пособия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социальная помощь малоимущи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35C0-5E40-41BF-B8E6-A155D8927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небюджетные фонды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BFCA-3B7A-4993-97D5-DA1FF5174B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тивно – законодательное регулиров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итуц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от 17.12.2001 №173-ФЗ «О трудовых пенсиях в РФ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167 –ФЗ «Об обязательном пенсионном страховании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 81-ФЗ «О государственных пособиях гражданам, имеющим детей»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F0DB-1B46-460C-807A-8C26C24CCF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ализованные (государственные) внебюдже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меют общегосударственное значение и 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предназначены для реализации конституционных прав граждан н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возрас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в случае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у здоровья и получение бесплат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A77E-A121-4D4F-9747-68CB39153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централизованных (государственных) внебюджетных фон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сионный Фонд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 социального страхования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фонд обязательного медицинского страх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фонд занятости населения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9B5-EF4A-41E7-99AF-996DA2954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чниками формирования внебюджетных фондов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е взн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коммерческой деятельности, осуществляемой фондами (если разрешен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доходы, предусмотренные соответствующими законодательными 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E75D-25CF-4869-8365-6880A3BBD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и Пенсионного фон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уются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 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EE8-FDFE-4AE3-842F-3711C9ECB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нда социального страх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образуются за сч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граждан и юрид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E7A-6438-4605-99B0-724D520B83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ФСС направляются на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аторно – курортное лечение и оздоровление работников и членов их сем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иных мероприятий в соответствии с задачами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25A7-B519-4F27-B6EC-840E04991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 формируются 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спользования временно свободных финансовых средств фон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7FC-0ADC-4F3B-9581-D24033967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цель, ви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страхование осуществля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двух вид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обязательном и доброво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0900-7D58-43C6-9734-C993DBBA83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E343-DFC2-40B6-B45A-2195A44278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D57D-5C16-4989-9F6B-2DEFF14AC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39 Конституции РФ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арант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ам Росс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лище, на образование, на пользование достижениями культур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3EA-A445-4CE2-8E8E-F9F7B49A8B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CC5-8C67-4135-8BB7-D8182AC36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централизованные внебюджетные фо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ются для решения территориальных, отраслевых, межотраслевых и други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им относятся внебюджетные фонды, создаваем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2A2-9678-438D-BA7A-52010236B1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кономическая категор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32D2-1B42-4652-8541-96623D08C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нципы построения социального обеспечения 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общ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доступ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мер и форма обеспечения зависят от прошл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нообразие предоставляемых форм обеспечения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мократический характер организации социального обеспечения и е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E6BF-F200-4EBD-B062-22D92190D7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ные виды расходов по социальному обеспечению – выплаты пенсий и пособ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нсии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F125-2197-466B-8734-F60865EDF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пенсии по стар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по старости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Ч + СЧ+Н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– определяется законод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страхов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накопительн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дожития (19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95B-5571-4C7C-A9A0-A44B01BA3A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для лиц родившихся не ране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3 г (для мужчин)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7 г. (для женщ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начисления в ПФ (персонифицированный учет) составляет в настоящее время 14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0715-74F3-4D16-9DE3-4847234BE7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EDCC-7C95-4867-8DBD-9148354CF6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B25-B5AD-4242-AB37-378E7254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633-2F88-40AB-9889-ED4F88C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0CF-9557-4E72-89FD-D896D0C5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341-5D4D-48E2-9749-73CC24CD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80D8-AF80-47A4-8BAB-12A8A00A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078-DC4F-47C1-B935-40AC7CE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D5F7-2BFF-4742-9467-7A6C1BF3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8D3-46E1-440C-864D-9CF53C3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FB5-0D0A-4ABE-B603-83567CD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A617-8057-477E-A175-1D0D9E48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2C8E-B917-4046-B4A0-3F9E32B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720-F02B-4E28-8C4C-7BDA00A8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49D1-5DAE-43BA-9C05-19C0410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FB90-0572-494A-89A3-4752F17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CACC-B77D-470A-BD7E-CBB4B558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F47-8937-4CBF-A36E-46F388D4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681-F71D-498A-82B2-F437BA2B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D536-87B5-4649-9DBA-72C0F00F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962D-EFC1-44EA-A955-0A275E67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B924-38FD-481C-A99A-29E25D36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0C85-41FD-435E-8717-C4F16663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0EF5-0CB5-4AFD-A31D-AB93E3F3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4D2-61EF-4801-ADD7-22B0D88D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E0E1-0844-47BF-BACB-B6B05F3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2AC2-D53A-470B-9FE4-9C6450E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2622-0110-4238-94CD-1ADA768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6EA7-EE35-4FD3-8133-C7920C8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FE0B-D952-4539-9B18-72D1AB9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16B4-FA18-44A7-8BD0-C7824AF5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ACC7-0093-44E9-B8F8-AF4D3194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8742-2CFE-4D15-83E3-6CD6765F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44DA-81A8-43CE-98D6-B209489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44F0-8C5D-4969-880C-5D96BDD3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16D-CC7F-4BE9-A5E6-6F4FC074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1A16-A7DB-4E87-B560-C1E8101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B600-C703-4641-A40A-5179EBFE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D2E3-BC4D-4782-8D88-6E84C56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6A3A7-0D43-4A05-9F89-99B6AED5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2A53-2AB1-40F9-A602-D7A0F75C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9C76-04AA-4468-A2D1-2DA754CE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6212-142E-48F2-B167-57BBCB9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F86D-592A-40AB-83C8-6A40671E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638C-5EEC-4971-A2E1-A84DFAEA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0B8E0-D858-472B-960F-EE02F5E6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C55-43F1-4B8F-AE16-5CC0BE3C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E78C-66B6-45B3-BE86-174C326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C8A0-92A7-4693-B58B-3E237721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B5C9-A7FF-4F81-B262-FAB65550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FFAA-FE19-4AD6-B199-22FDA995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53AF-EB01-41B5-90F4-5AA251D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B1FE-5C51-4D8B-BD39-EE133DA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D110-68BC-4458-89F3-99D2D38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D682D-65AF-4E06-A583-4587C05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9DE1A-3FD4-4242-89C6-EBBB33E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FC0AE-343B-4E4A-863D-7F467AF1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D81-7BDB-48F9-A27E-F8FD8ED6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FDB5-ED0C-4C67-9B72-23F21AC0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89080-0262-492A-AD10-8AFA93B5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3296-770B-4737-B6BB-2DB8652E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1457-3851-467D-8DB7-C1680ED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C57A8-463C-4D3D-A0A6-2C004FB3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7689-7E54-40E9-8E40-B0EC148D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DF92-A1C8-4A95-A2A1-F5337508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8EB9A-4E3D-451E-938D-01A6BB6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EA7B-8FD0-4971-ACEA-32AAE3B2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FE60-7728-45E1-923B-F459C0D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B13-1054-4A6E-808B-1869CAB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364D-5E58-4107-AD47-E6BDF7A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88EE-144C-43D5-B9F1-C355D02B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2557-DEEE-458F-B3F1-11A53718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F86-09C9-4FF3-8F5C-80178C4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FEA-D983-4EFC-ACA3-DC62249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B98-8C2D-4BBC-A8C0-9D883CB194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9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643D-C1E6-4C9A-9FAC-24C01407D74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976-8675-4230-BEC1-43EF771131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олилиния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Линия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865-8056-4F9F-BBD8-0620D51AAD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31BD-5C33-4519-8CFF-D1A619881E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олилиния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Линия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588-6112-4005-B2F1-1F707D4221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оциальное обесп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557360"/>
          <a:ext cx="8353440" cy="4959360"/>
        </p:xfrm>
        <a:graphic>
          <a:graphicData uri="http://schemas.openxmlformats.org/drawingml/2006/table">
            <a:tbl>
              <a:tblPr/>
              <a:tblGrid>
                <a:gridCol w="2452680"/>
                <a:gridCol w="3020760"/>
                <a:gridCol w="2880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ак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размер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Ч = 900 руб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7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мес. =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44000 ру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32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мес* 19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:  ежемесячно 6%, т.е. 5000 *6% = 300 руб. Тогда за 30 лет в накопительную часть перечис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0 *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+0,07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^29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31444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Ч мес.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14447 руб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379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мес*1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пенсии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900 руб. (Б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32 руб. (С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79 руб. (НЧ) = 2911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удовая пенсия по инвалид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 III степени - 1 800 рублей в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 II степени - 900 рублей в месяц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епени - 450 рублей в меся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6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Характеристика основных составных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частей пенсионной систем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125360"/>
          <a:ext cx="8893080" cy="5542200"/>
        </p:xfrm>
        <a:graphic>
          <a:graphicData uri="http://schemas.openxmlformats.org/drawingml/2006/table">
            <a:tbl>
              <a:tblPr/>
              <a:tblGrid>
                <a:gridCol w="865080"/>
                <a:gridCol w="1149480"/>
                <a:gridCol w="722160"/>
                <a:gridCol w="863640"/>
                <a:gridCol w="792000"/>
                <a:gridCol w="865440"/>
                <a:gridCol w="863640"/>
                <a:gridCol w="863640"/>
                <a:gridCol w="1047600"/>
                <a:gridCol w="860400"/>
              </a:tblGrid>
              <a:tr h="95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н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 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енсионное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ание и обеспеч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сиона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опите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сударствен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латы к пенс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военнослужащим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«чернобыльца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ая  и накопительная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ая осн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ые страховые взнос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ые взн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бюджетов и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- 75% 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ого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ксированный разме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капитал и накопления/ожидаемый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 выплат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ловиях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шению собственника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фонд РФ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осударственные пенсионные фонды и иные страховщ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собственником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ной нетрудоспособности (по    среднему заработку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 беременности и родам (по среднему заработку за 12 мес. 70 дней до родов и 70 дней после родов, но максимальная сумма 12480 руб.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0 руб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единоразовое пособие при рождении ребен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ыновлении) ребенка выплачивается в размере  9592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. (с 01.01.0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месяч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обие на период отпуска п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у за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достижения им возраста полутора лет выплачивается в разме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 руб. (1798,51 – с 01.01.09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го ребенка и 3000 руб. (3597,01 – 01.01.09) на каждого последующе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на детей военнослужащих срочной служб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собие по безработиц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итуальные пособ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оциальная помощь малоимущ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небюджетные фонды: опре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рмативно – законодательное регулиров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итуция РФ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от 17.12.2001 №173-ФЗ «О трудовых пенсиях в РФ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167 –ФЗ «Об обязательном пенсионном страховании в РФ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 81-ФЗ «О государственных пособиях гражданам, имеющим детей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Централизованные (государственные) внебюджетные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онды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общегосударственное значение и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ы для реализации конституционных прав граждан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возрас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в случае безрабо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храну здоровья и получение бесплатн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Состав централизованных (государственных) внебюджетных фондов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ный Фонд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фонд обязательного медицинского страх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фонд занятости населения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чниками формирования внебюджетных фондов являю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язательные платеж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вольные взно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ыль от коммерческой деятельности, осуществляемой фондами (если разрешен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е доходы, предусмотренные соответствующими законодательными ак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сточники Пенсионного фон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формируются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 страховых взносов работод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онда социального страх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образуются за счет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работод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 граждан и юридически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чих до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ФСС направляются на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аторно – курортное лечение и оздоровление работников и членов и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иных мероприятий в соответствии с задачами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 формируются 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спользования временно свободных финансовых средств фон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: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цель, виды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ое страхование осущест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двух вид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обязательном и доброволь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13564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я 39 Конституции РФ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рант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ам Росси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лище, на образование, на пользование достижениями культуры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централизованные внебюджетные фонд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ся для решения территориальных, отраслевых, межотраслевых и друг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им относятся внебюджетные фонды, создав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экономическая категория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циальное обеспечение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инципы построения социального обеспечения 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еобщ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общедоступ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мер и форма обеспечения зависят от прошлого труд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нообразие предоставляемых форм обеспечения и услу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демократический характер организации социального обеспечения и его упра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виды расходов по социальному обеспечению – выплаты пенсий и пособ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Пенсии –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чет пенсии по старост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пенсии по старости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Ч + СЧ+Н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Ч – определяется законод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страхов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накопительн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дожития (19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для лиц родившихся не ран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3 г (для мужчин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7 г. (для женщ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начисления в ПФ (персонифицированный учет) составляет в настоящее время 1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600200"/>
          <a:ext cx="8280360" cy="4176720"/>
        </p:xfrm>
        <a:graphic>
          <a:graphicData uri="http://schemas.openxmlformats.org/drawingml/2006/table">
            <a:tbl>
              <a:tblPr/>
              <a:tblGrid>
                <a:gridCol w="3049560"/>
                <a:gridCol w="2616120"/>
                <a:gridCol w="2614680"/>
              </a:tblGrid>
              <a:tr h="12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до 1953 г и женщины до 195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 1953 – 1966 и женщины 1957 – 1966 г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 -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 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LEGION</cp:lastModifiedBy>
  <dcterms:modified xsi:type="dcterms:W3CDTF">2014-11-10T12:20:36Z</dcterms:modified>
  <cp:revision>48</cp:revision>
  <dc:subject/>
  <dc:title>Социальное обеспечение</dc:title>
</cp:coreProperties>
</file>