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2929-FCB5-4F8D-A047-EFD548DA97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Times New Roman"/>
              </a:rPr>
              <a:t>МУЗЫКА НАЧАЛА ХХ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9F2A-F2DE-4388-AD03-135C1F18C3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5C72-55C8-47E2-8B8C-25B617BF70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C18F-6618-407D-B3D0-FE1142D5D0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06B7-7B74-41B2-96EC-F0DBDDAB8E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0D99-5A72-4EF7-A14D-31A85D194B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89D6-8C12-4799-954B-9F21E37768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3BD3-CFFE-43BD-AEA5-8E095114BD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883-2CC7-4D6F-86CF-B4D67D17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6E2-AFB5-4D10-BCAE-1392DC4E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7D3-562C-4621-9468-FB330D29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DBD-30E9-4D6F-B017-71F95FA1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0E1-1426-43B9-AC02-0301CD89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2A9-7BBC-4C0B-9074-367583BB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9AF-301D-4FE4-8BB6-D2BD2EED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6D3-B667-4FEE-BAC2-47332DFF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307-6450-4DDB-A7E2-11E39C1D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6DF-BF12-4D82-931E-02D837C6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354-3A1C-4A47-B3CC-901534CC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065-E1A4-4481-ACB6-CC4AC807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B07E-C287-44BA-AA76-2B4AE455F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МУЗЫКА НАЧАЛА ХХ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67280" y="5410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47960" y="228600"/>
            <a:ext cx="430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ет на земле живого сущ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толь жестокого, крутого, адски зл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Чтоб не могла, хоть на час од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 нём музыка свершить переворота...”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ильям Шекспир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2914560" cy="33339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228600" y="230760"/>
            <a:ext cx="7086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28600" y="22896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04920" y="2820600"/>
            <a:ext cx="845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04920" y="504360"/>
            <a:ext cx="65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римский-корсаков"/>
          <p:cNvPicPr/>
          <p:nvPr/>
        </p:nvPicPr>
        <p:blipFill>
          <a:blip r:embed="rId2"/>
          <a:stretch/>
        </p:blipFill>
        <p:spPr>
          <a:xfrm>
            <a:off x="3505320" y="4419720"/>
            <a:ext cx="174456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Мамонтов Савва"/>
          <p:cNvPicPr/>
          <p:nvPr/>
        </p:nvPicPr>
        <p:blipFill>
          <a:blip r:embed="rId3"/>
          <a:stretch/>
        </p:blipFill>
        <p:spPr>
          <a:xfrm>
            <a:off x="7162920" y="380880"/>
            <a:ext cx="1800000" cy="243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аргомыжский"/>
          <p:cNvPicPr/>
          <p:nvPr/>
        </p:nvPicPr>
        <p:blipFill>
          <a:blip r:embed="rId4"/>
          <a:stretch/>
        </p:blipFill>
        <p:spPr>
          <a:xfrm>
            <a:off x="7086600" y="3962520"/>
            <a:ext cx="179064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231120"/>
            <a:ext cx="487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Глзунов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Хренников"/>
          <p:cNvPicPr/>
          <p:nvPr/>
        </p:nvPicPr>
        <p:blipFill>
          <a:blip r:embed="rId3"/>
          <a:stretch/>
        </p:blipFill>
        <p:spPr>
          <a:xfrm>
            <a:off x="5410080" y="2895480"/>
            <a:ext cx="2210040" cy="2175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152280" y="226800"/>
            <a:ext cx="6096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Могучая кучка"/>
          <p:cNvPicPr/>
          <p:nvPr/>
        </p:nvPicPr>
        <p:blipFill>
          <a:blip r:embed="rId2"/>
          <a:stretch/>
        </p:blipFill>
        <p:spPr>
          <a:xfrm>
            <a:off x="6095880" y="228600"/>
            <a:ext cx="2845080" cy="61722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6:48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