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3CA1-1B33-4CF5-AB2A-7A7635B52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Times New Roman"/>
              </a:rPr>
              <a:t>МУЗЫКА НАЧАЛА ХХ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D8C4-A36C-49AD-82C7-DF7B72DF5D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705D-35C5-4D2F-8C0D-3870812CF1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4A33-BC8E-402D-8CD6-4995D018C3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3C44-F200-4CC5-99B0-EBB0439402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DA685-0BE2-42FD-8BAF-28B74973D6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81B3-B169-4B07-94FA-5C0A0D1577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FE84-BBF3-400D-BB51-FEE21117542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DF01-D7B8-4FD5-B483-3733F8FDA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4B3-0703-4A00-9D46-C5182C1B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F06-4779-4CB1-B079-08F0CC9E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BC0C-56B6-4752-AFD0-44CD3D19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B18B-A06F-4B39-A62D-7096BED9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D2EB-60FB-4659-9B89-88C2E1C6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A5AA-C456-488B-BAA0-BB698869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A06-7627-4132-98BF-B825D09E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A6AB-0C34-4F70-9FA6-AC1B6AA1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E53-9E2B-442E-968C-B6AD1E3F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E420-B8E8-4B93-87DE-35DD6E4D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EA04-18E4-47AF-9BA9-096ED67B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7141-2FFA-4DF8-B705-1E38B43919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imes New Roman"/>
              </a:rPr>
              <a:t>МУЗЫКА НАЧАЛА ХХ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867280" y="54100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Times New Roman"/>
              </a:rPr>
              <a:t>Работу выполнил ученик 11 А класса Мазун Кири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47960" y="228600"/>
            <a:ext cx="4307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Нет на земле живого существ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Столь жестокого, крутого, адски зл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Чтоб не могла, хоть на час од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В нём музыка свершить переворота...”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ильям Шекспир</a:t>
            </a:r>
            <a:r>
              <a:rPr b="1" lang="ru-RU" sz="1800" spc="-1" strike="noStrike">
                <a:solidFill>
                  <a:srgbClr val="660066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457200" y="3124080"/>
            <a:ext cx="2914560" cy="333396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9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Конец XIX и начало XX века (до 1917 года) - период не менее богатый, но гораздо более сложный. Он не отделён от предыдущего каким-либо переломом: лучшие, вершинные сочинения Чайковского и Римского-Корсакова относятся именно к 90 -м годам XIX и к первому десятилетию XX ве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cc"/>
                </a:solidFill>
                <a:latin typeface="Times New Roman"/>
              </a:rPr>
              <a:t>Но уже ушли из жизни Мусоргский и Бородин, а в 1893 году и Чайковский. На смену им приходят ученики, наследники и продолжатели их традиций: С. Танеев, А. Глазунов, С. Рахманинов. Но как ни близки они своим учителям, в их творчестве ясно чувствуются новые вкусы. Опера, в течение более чем столетия занимавшая главное место в русской музыке, явно отходит на второй план. А роль балета, наоборот выраст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228600" y="230760"/>
            <a:ext cx="7086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Широко развиваются симфонические, камерные жанры в творчестве Глазунова и Танеева. Огромной популярностью пользуется фортепьянное творчество Рахманинова, который и сам был великим пианистом. Фортепьянные концерты Рахманинова (как и концерты Чайковского, и скрипичный концерт Глазунова) относятся к вершинам мирового искусства. В последней четверти XIX столетия творчество русских композиторов было признано во всём цивилизованном мир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Среди молодого поколения музыкантов, вступивших в творческую жизнь в конце прошлого - начале нынешнего века, были композиторы и иного типа. Уже первые их сочинения написаны очень по своему: остро, иногда даже дерзко. Таков Скрябин. Одних слушателей его музыка покоряла вдохновенной силой, других возмущала необычностью. Несколько позднее выступил Стравинский. Его балеты, Поставленные во время “Русских сезонов” в Париже, привлекли внимание всей Европы. И наконец, уже в годы первой мировой войны на русском восходит ещё одна звезда - Прокофье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5"/>
          <p:cNvSpPr/>
          <p:nvPr/>
        </p:nvSpPr>
        <p:spPr>
          <a:xfrm>
            <a:off x="228600" y="22896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imes New Roman"/>
              </a:rPr>
              <a:t>Большую роль в музыкальной жизни России этого времени сыграл Беляевский кружок, названный так по имени его основателя Митрофана Петровича Беляева - известного лесопромышленника, владельца огромного состояния и страстного любителя музыки, особенно русской. Кружок, возникший в 80-х годах, объединил почти всех лучших музыкантов того времени ; Н. А. Римский - Корсаков стал идейным центром этого музыкального содружества. Всеми доступными средствами Беляев стремился помочь тем, кто служил русской музы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04920" y="2820600"/>
            <a:ext cx="845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66"/>
                </a:solidFill>
                <a:latin typeface="Times New Roman"/>
              </a:rPr>
              <a:t>Необходимо упомянуть и организованные Беляевым в течении многих сезонов “Русские симфонические концерты”, а также “Русские камерные вечера”. Целью их было - знакомить русскую публику с произведениями национальной музыки. Руководили концертами и вечерами Н.А. Римский -Корсаков и его талантливые ученики А.К. Глазунов и А. К. Лядов. Они разрабатывали план каждого предстоящего сезона, составляли программы, приглашали исполнителей... Исполнялись исключительно произведения русской музыки : многие из них, забытые, отвергнутые ранее русским музыкальным обществом нашли здесь первых своих исполнителей. Например, симфоническая фантазия М.П. Мусоргского “Ночь на лысой горе” впервые прозвучала именно в “Русских симфонических концертах” почти через двадцать лет после создания, а затем была многократна повторена ( “по востребованию публики”, как отмечалось в программах 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304920" y="504360"/>
            <a:ext cx="6553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Беляевский кружок в 80—90-е годы оказался единственным музыкальным центром, где объединялись наиболее активные музыканты, ищущие новые пути развития искусст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Весьма примечательным явлением в русской музыкальной жизни конца XIX века была так называемая частная опера С. И. Мамонтова в Москве. Сам Савва Иванович Мамонтов будучи подобно Беляеву богатым предпринимателем, организовал в России оперную труппу. С ней он осуществил первые постановки русских опер - “Русалки” А. С. Даргомыжского и “Снегурочки” Н. А. Римского-Корсакова, - которые пользовались у московской публики значительным успехом. Так же он поставил оперу “Псковитянка” Н. А. Римского-Корсакова. С этой оперой, которая нигде не шла, театр выехал на гастроли в Петербур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римский-корсаков"/>
          <p:cNvPicPr/>
          <p:nvPr/>
        </p:nvPicPr>
        <p:blipFill>
          <a:blip r:embed="rId2"/>
          <a:stretch/>
        </p:blipFill>
        <p:spPr>
          <a:xfrm>
            <a:off x="3505320" y="4419720"/>
            <a:ext cx="1744560" cy="22096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Мамонтов Савва"/>
          <p:cNvPicPr/>
          <p:nvPr/>
        </p:nvPicPr>
        <p:blipFill>
          <a:blip r:embed="rId3"/>
          <a:stretch/>
        </p:blipFill>
        <p:spPr>
          <a:xfrm>
            <a:off x="7162920" y="380880"/>
            <a:ext cx="180000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Даргомыжский"/>
          <p:cNvPicPr/>
          <p:nvPr/>
        </p:nvPicPr>
        <p:blipFill>
          <a:blip r:embed="rId4"/>
          <a:stretch/>
        </p:blipFill>
        <p:spPr>
          <a:xfrm>
            <a:off x="7086600" y="3962520"/>
            <a:ext cx="179064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380880" y="231120"/>
            <a:ext cx="487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На рубеже XIX-XX века возрождается интерес к старинной музыке. Мало-помалу начинается строительство органов в России. В начале XX столетия их можно было буквально пересчитать по пальцам. Появляются исполнители, знакомящие слушателей с органной музыкой прежних эпох и столетий: А. К. Глазунов, Старокадом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66"/>
                </a:solidFill>
                <a:latin typeface="Times New Roman"/>
              </a:rPr>
              <a:t>Это время является важным этапом в истории скрипки. Появляется группа виртуозов - композиторов и исполнителей, которые раскрывают неведомые прежде возможности скрипки как сольного инструмента. Возникают новые замечательные произведения, среди которых видное место занимают сочинения советских композиторов. В настоящее время всему миру известны концерты, сонаты, пьесы Прокофьева, Хренникова. Их замечательное искусство помогает нам почувствовать, что за удивительный это инструмент - скрип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Глзунов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Хренников"/>
          <p:cNvPicPr/>
          <p:nvPr/>
        </p:nvPicPr>
        <p:blipFill>
          <a:blip r:embed="rId3"/>
          <a:stretch/>
        </p:blipFill>
        <p:spPr>
          <a:xfrm>
            <a:off x="5410080" y="2895480"/>
            <a:ext cx="2210040" cy="21751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81052c3f156a01783ab0dda6df4690e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152280" y="226800"/>
            <a:ext cx="6096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80"/>
                </a:solidFill>
                <a:latin typeface="Times New Roman"/>
              </a:rPr>
              <a:t>В конце XIX и в начале XX века, а особенно в предоктябрьском десятилетии, через всё русское искусство, и в частности музыку, проходит тема ожидания великих перемен, которые должны смести старое, несправедливое общественное устройство. Далеко не все композиторы осознавали неизбежность, необходимость революции и сочувствовали ей, но предгрозовую напряжённость ощущали все или почти все. Таким образом, музыка ХХ века развивает традиции отечественных композиторов – романтиков и композиторов «Могучей кучки». Вместе с тем она продолжает смелые поиски в области формы и содерж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Могучая кучка"/>
          <p:cNvPicPr/>
          <p:nvPr/>
        </p:nvPicPr>
        <p:blipFill>
          <a:blip r:embed="rId2"/>
          <a:stretch/>
        </p:blipFill>
        <p:spPr>
          <a:xfrm>
            <a:off x="6095880" y="228600"/>
            <a:ext cx="2845080" cy="61722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6:48:2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