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C20A-A5BD-46EF-9E04-A7C1EBC0D29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Реквие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1200" spc="-1" strike="noStrike">
                <a:solidFill>
                  <a:srgbClr val="660033"/>
                </a:solidFill>
                <a:latin typeface="Arial"/>
                <a:ea typeface="Arial"/>
              </a:rPr>
              <a:t>Анна Ахмат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71F3-8589-4BB4-816F-F184CB39B96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Вторя часть «Эпилога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звивает тему Памятника, хорошо известную в русской литературе по Державину и Пушкину, но приобретающую под пером Ахматовой совершенно необычный – глубоко трагический – облик и смысл. Никогда , ни в русской , ни в мировой литературе, не возникало столь необычного образа – Памятника Поэту, стоящему, по его желанию и завещанию, у Тюремной Стены. Это – поистине памятник всем жертвам репрессий, замученных в 30-е и иные страшные г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72FD-62F4-4A85-A5DA-2E70A9B72D1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Arial"/>
                <a:ea typeface="Arial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"Нет, и не под чуждым небосвод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И не под защитой чуждых крыл,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Я была тогда с моим народ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там, где мой народ, к несчастью, был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(А.Ахмато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1E4F-EF60-463F-B6EF-47B1AF5A820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авным творческим и гражданским достижением Ахматовой в 30-е г.г. явилось создание ею поэмы «Реквием», посвященной годам «большого террора» - страданиям репрессированного на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оя в очереди у стен тюрьмы, где был заточен ее сын, Ахматова услыхала полушепотом произнесенный вопрос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А это вы можете описать?» - и ответила: «Мог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к рождались стихотворения, вместе составившие «Реквием» - поэму, которая стала данью скорбной памяти о всех безвинно загубленных в годы сталинского произво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0F9D-D1A2-473E-BDC0-CA089625266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ять лет с перерывами работала Ахматова над этим произведением. Создавалась поэма в нечеловеческих условиях. Окончательно эти стихи были скомпонованы в единое произведение лишь осенью 1962 г., когда оно впервые было написано на бумаге.  Л.Чуковская в «Записках об Анне Ахматовой» сообщает, что в этот день Ахматова торжественно сообщила: «Реквием» знали наизусть 11 человек, и никто меня не предал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943E-AE1E-44FC-A1AD-6D9934C2249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Реквием» состоит из 10 стихотворений, прозаического Предисловия, названного Ахматовой «Вместо Предисловия», Посвящения, Вступления и двухчастного Эпил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Реквием» был опубликован через 22 г. после смерти Ахматовой, т.е. в 1988 г., причем сразу в двух изданиях: в журнале «Октябрь» и «Нев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Реквием» создавался не единовременно, а в разные годы, с 1935 по 1940 г.г. и только «Вместо предисловия» и эпиграф помечены 1957 и 1961 г.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8D3F-024D-431D-A304-2AD803A6774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вием – католическое богослужение по умершем, также траурное музыкальное произ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6DE4-87D2-49B5-B5B5-7E9EB00ADDF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пиграфом к «Реквиему» служит отрывок из стихотворения Ахматовой «Так не зря мы вместе бедовали» (1961 г.). Стихотворение было впервые опубликовано в журнале «Знамя» в 1987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Каков смысл эпиграф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самого начала автор подчеркивает, что поэма затрагивает не только ее несчастье как матери, но касается общенародного горя. Этот сплав личного и общего выделен в афористичных строчках эпиграф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Я была тогда с моим народ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м, где мой народ, к несчастью, бы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25FD-C191-4597-9031-D75D6E83FA4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«Вместо предисловия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написано прозой: и содержание, и непривычная форма этого текста приковывают к себе особое внимание. Рассказ о семнадцати месяцах, проведенных в очередях возле тюрьмы, как бы конкретизирует эпиграф. Поэт клянется, что сможет написать о пережитом, и сам текст «Реквиема» служит этому подтвержд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эма – овеществленная клятва, реализация высочайшей миссии, взятой на себя художн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713D-7FC8-4B01-967F-F478096D4D9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колай Иванович Ежов – нарком внутренних дел с 1936 по 1938 год. Годы ежовщины страшны жестокими репрессиями. Ежов был казнен 1 апреля 1940 г. по приговору Военной коллегии Верховного суда СССР. Формулировка приговора была следующая: « За необоснованные репрессии против советского народ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5687-4A29-47CB-BEDC-85B4D3CEF0B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1EFB-33BD-46A3-A73E-C4BF3695F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9DC1-562A-4F0E-A3BF-D9991892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B41F-6A7E-425E-BCE8-924B6113E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1365-A7E9-4AA8-8EF1-01C3FA459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6B3E-0AD7-4670-8ABD-07B6B0F7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85B8-C8FC-4DCA-917C-10109860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C2E9-6CA9-4DA7-8AF8-92EC974B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62A1-546D-4B19-99B4-2C647FF1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B886-FACB-43D5-B9AB-D755ED6E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611B-375A-46C5-83DD-481935DB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4FAB-0FB9-450F-BED0-025F7F5A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0BB2-3D29-416D-8E4E-FF659EF6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A762-E49E-4CFE-A3DC-D823011BB9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 rot="5400000">
            <a:off x="-1424520" y="2800800"/>
            <a:ext cx="6048360" cy="897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еквием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3635280" y="1706400"/>
            <a:ext cx="5040360" cy="339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Анна Ахмат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pic>
        <p:nvPicPr>
          <p:cNvPr id="51" name="Picture 7" descr="ahmatova_pic_02"/>
          <p:cNvPicPr/>
          <p:nvPr/>
        </p:nvPicPr>
        <p:blipFill>
          <a:blip r:embed="rId2"/>
          <a:stretch/>
        </p:blipFill>
        <p:spPr>
          <a:xfrm>
            <a:off x="3132000" y="0"/>
            <a:ext cx="5788080" cy="1387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NA01143_"/>
          <p:cNvPicPr/>
          <p:nvPr/>
        </p:nvPicPr>
        <p:blipFill>
          <a:blip r:embed="rId3"/>
          <a:stretch/>
        </p:blipFill>
        <p:spPr>
          <a:xfrm>
            <a:off x="6443640" y="4548240"/>
            <a:ext cx="2222640" cy="1230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IN00349_"/>
          <p:cNvPicPr/>
          <p:nvPr/>
        </p:nvPicPr>
        <p:blipFill>
          <a:blip r:embed="rId4"/>
          <a:stretch/>
        </p:blipFill>
        <p:spPr>
          <a:xfrm>
            <a:off x="3419640" y="1568520"/>
            <a:ext cx="1687320" cy="1687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3276720" y="6143760"/>
            <a:ext cx="575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полнила ученица 11Т класса Юрьева Евг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327480" y="1433520"/>
            <a:ext cx="5637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Вторя часть «Эпилога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развивает тему Памятника, хорошо известную в русской литературе по Державину и Пушкину, но приобретающую под пером Ахматовой совершенно необычный – глубоко трагический – облик и смысл. Никогда , ни в русской , ни в мировой литературе, не возникало столь необычного образа – Памятника Поэту, стоящему, по его желанию и завещанию, у Тюремной Стены. Это – поистине памятник всем жертвам репрессий, замученных в 30-е и иные страшные год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Гумилевы"/>
          <p:cNvPicPr/>
          <p:nvPr/>
        </p:nvPicPr>
        <p:blipFill>
          <a:blip r:embed="rId2"/>
          <a:stretch/>
        </p:blipFill>
        <p:spPr>
          <a:xfrm>
            <a:off x="250920" y="1628640"/>
            <a:ext cx="2700360" cy="360072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Ахматова=="/>
          <p:cNvPicPr/>
          <p:nvPr/>
        </p:nvPicPr>
        <p:blipFill>
          <a:blip r:embed="rId2"/>
          <a:stretch/>
        </p:blipFill>
        <p:spPr>
          <a:xfrm>
            <a:off x="179280" y="1484280"/>
            <a:ext cx="2660760" cy="3959280"/>
          </a:xfrm>
          <a:prstGeom prst="rect">
            <a:avLst/>
          </a:prstGeom>
          <a:ln w="0">
            <a:noFill/>
          </a:ln>
        </p:spPr>
      </p:pic>
      <p:sp>
        <p:nvSpPr>
          <p:cNvPr id="58" name="WordArt 4"/>
          <p:cNvSpPr txBox="1"/>
          <p:nvPr/>
        </p:nvSpPr>
        <p:spPr>
          <a:xfrm>
            <a:off x="3851280" y="189000"/>
            <a:ext cx="4751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WordArt 6"/>
          <p:cNvSpPr txBox="1"/>
          <p:nvPr/>
        </p:nvSpPr>
        <p:spPr>
          <a:xfrm>
            <a:off x="3419640" y="1989000"/>
            <a:ext cx="540036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Нет, и не под чуждым небосводом,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не под защитой чуждых крыл,-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 была тогда с моим народом,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ам, где мой народ, к несчастью, был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7093080" y="4797360"/>
            <a:ext cx="18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А.Ахматов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Ахматова-"/>
          <p:cNvPicPr/>
          <p:nvPr/>
        </p:nvPicPr>
        <p:blipFill>
          <a:blip r:embed="rId2"/>
          <a:stretch/>
        </p:blipFill>
        <p:spPr>
          <a:xfrm>
            <a:off x="324000" y="1557360"/>
            <a:ext cx="2666880" cy="3724200"/>
          </a:xfrm>
          <a:prstGeom prst="rect">
            <a:avLst/>
          </a:prstGeom>
          <a:ln w="0">
            <a:noFill/>
          </a:ln>
        </p:spPr>
      </p:pic>
      <p:sp>
        <p:nvSpPr>
          <p:cNvPr id="64" name="WordArt 4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635280" y="1484280"/>
            <a:ext cx="5327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лавным творческим и гражданским достижением Ахматовой в 30-е г.г. явилось создание ею поэмы «Реквием», посвященной годам «большого террора» - страданиям репрессированного народ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оя в очереди у стен тюрьмы, где был заточен ее сын, Ахматова услыхала полушепотом произнесенный вопрос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А это вы можете описать?» - и ответила: «Могу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к рождались стихотворения, вместе составившие «Реквием» - поэму, которая стала данью скорбной памяти о всех безвинно загубленных в годы сталинского произвол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419640" y="1484280"/>
            <a:ext cx="54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ять лет с перерывами работала Ахматова над этим произведением. Создавалась поэма в нечеловеческих условиях. Окончательно эти стихи были скомпонованы в единое произведение лишь осенью 1962 г., когда оно впервые было написано на бумаге.  Л.Чуковская в «Записках об Анне Ахматовой» сообщает, что в этот день Ахматова торжественно сообщила: «Реквием» знали наизусть 11 человек, и никто меня не предал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Ах 1940г"/>
          <p:cNvPicPr/>
          <p:nvPr/>
        </p:nvPicPr>
        <p:blipFill>
          <a:blip r:embed="rId2"/>
          <a:stretch/>
        </p:blipFill>
        <p:spPr>
          <a:xfrm>
            <a:off x="324000" y="1484280"/>
            <a:ext cx="2549520" cy="43210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WordArt 4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3492360" y="1700280"/>
            <a:ext cx="5492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Реквием» состоит из 10 стихотворений, прозаического Предисловия, названного Ахматовой «Вместо Предисловия», Посвящения, Вступления и двухчастного Эпилог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Реквием» был опубликован через 22 г. после смерти Ахматовой, т.е. в 1988 г., причем сразу в двух изданиях: в журнале «Октябрь» и «Нева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Реквием» создавался не единовременно, а в разные годы, с 1935 по 1940 г.г. и только «Вместо предисловия» и эпиграф помечены 1957 и 1961 г.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attach"/>
          <p:cNvPicPr/>
          <p:nvPr/>
        </p:nvPicPr>
        <p:blipFill>
          <a:blip r:embed="rId2"/>
          <a:stretch/>
        </p:blipFill>
        <p:spPr>
          <a:xfrm>
            <a:off x="250920" y="1700280"/>
            <a:ext cx="2631960" cy="38163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635280" y="2276640"/>
            <a:ext cx="498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квием – католическое богослужение по умершем, также траурное музыкальное произвед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3" name="Picture 4" descr="Ах"/>
          <p:cNvPicPr/>
          <p:nvPr/>
        </p:nvPicPr>
        <p:blipFill>
          <a:blip r:embed="rId2"/>
          <a:stretch/>
        </p:blipFill>
        <p:spPr>
          <a:xfrm>
            <a:off x="324000" y="1628640"/>
            <a:ext cx="2538360" cy="3961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3419640" y="1413000"/>
            <a:ext cx="541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пиграфом к «Реквиему» служит отрывок из стихотворения Ахматовой «Так не зря мы вместе бедовали» (1961 г.). Стихотворение было впервые опубликовано в журнале «Знамя» в 1987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3492360" y="3213000"/>
            <a:ext cx="53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Каков смысл эпиграф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276720" y="4005360"/>
            <a:ext cx="5867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самого начала автор подчеркивает, что поэма затрагивает не только ее несчастье как матери, но касается общенародного горя. Этот сплав личного и общего выделен в афористичных строчках эпиграф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Я была тогда с моим народо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м, где мой народ, к несчастью, был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400560" y="1433520"/>
            <a:ext cx="549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«Вместо предисловия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написано прозой: и содержание, и непривычная форма этого текста приковывают к себе особое внимание. Рассказ о семнадцати месяцах, проведенных в очередях возле тюрьмы, как бы конкретизирует эпиграф. Поэт клянется, что сможет написать о пережитом, и сам текст «Реквиема» служит этому подтверждени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эма – овеществленная клятва, реализация высочайшей миссии, взятой на себя художни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Ахматова Ан="/>
          <p:cNvPicPr/>
          <p:nvPr/>
        </p:nvPicPr>
        <p:blipFill>
          <a:blip r:embed="rId2"/>
          <a:stretch/>
        </p:blipFill>
        <p:spPr>
          <a:xfrm>
            <a:off x="179280" y="1557360"/>
            <a:ext cx="2789280" cy="396072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492360" y="1844640"/>
            <a:ext cx="5419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колай Иванович Ежов – нарком внутренних дел с 1936 по 1938 год. Годы ежовщины страшны жестокими репрессиями. Ежов был казнен 1 апреля 1940 г. по приговору Военной коллегии Верховного суда СССР. Формулировка приговора была следующая: « За необоснованные репрессии против советского народа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14:56:56Z</dcterms:created>
  <dc:creator>Евгения</dc:creator>
  <dc:description/>
  <dc:language>en-US</dc:language>
  <cp:lastModifiedBy>LEGION</cp:lastModifiedBy>
  <dcterms:modified xsi:type="dcterms:W3CDTF">2015-04-02T06:50:17Z</dcterms:modified>
  <cp:revision>46</cp:revision>
  <dc:subject/>
  <dc:title>Слайд 1</dc:title>
</cp:coreProperties>
</file>