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58.jpeg" ContentType="image/jpeg"/>
  <Override PartName="/ppt/media/image73.png" ContentType="image/png"/>
  <Override PartName="/ppt/media/image56.png" ContentType="image/png"/>
  <Override PartName="/ppt/media/image1.wmf" ContentType="image/x-wmf"/>
  <Override PartName="/ppt/media/image55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4.png" ContentType="image/png"/>
  <Override PartName="/ppt/media/image76.jpeg" ContentType="image/jpeg"/>
  <Override PartName="/ppt/media/image41.jpeg" ContentType="image/jpeg"/>
  <Override PartName="/ppt/media/image32.png" ContentType="image/png"/>
  <Override PartName="/ppt/media/image15.jpeg" ContentType="image/jpeg"/>
  <Override PartName="/ppt/media/image49.jpeg" ContentType="image/jpeg"/>
  <Override PartName="/ppt/media/image51.jpeg" ContentType="image/jpeg"/>
  <Override PartName="/ppt/media/image25.png" ContentType="image/png"/>
  <Override PartName="/ppt/media/image19.jpeg" ContentType="image/jpeg"/>
  <Override PartName="/ppt/media/image57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3.jpeg" ContentType="image/jpeg"/>
  <Override PartName="/ppt/media/image77.png" ContentType="image/png"/>
  <Override PartName="/ppt/media/image61.jpeg" ContentType="image/jpeg"/>
  <Override PartName="/ppt/media/image40.png" ContentType="image/png"/>
  <Override PartName="/ppt/media/image64.jpeg" ContentType="image/jpeg"/>
  <Override PartName="/ppt/media/image38.jpeg" ContentType="image/jpeg"/>
  <Override PartName="/ppt/media/image75.png" ContentType="image/pn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71.jpeg" ContentType="image/jpeg"/>
  <Override PartName="/ppt/media/image66.jpeg" ContentType="image/jpeg"/>
  <Override PartName="/ppt/media/image69.jpeg" ContentType="image/jpeg"/>
  <Override PartName="/ppt/media/image68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67.jpeg" ContentType="image/jpeg"/>
  <Override PartName="/ppt/media/image63.jpeg" ContentType="image/jpeg"/>
  <Override PartName="/ppt/media/image60.jpeg" ContentType="image/jpeg"/>
  <Override PartName="/ppt/media/image20.png" ContentType="image/png"/>
  <Override PartName="/ppt/media/image37.jpeg" ContentType="image/jpeg"/>
  <Override PartName="/ppt/media/image3.png" ContentType="image/png"/>
  <Override PartName="/ppt/media/image16.png" ContentType="image/png"/>
  <Override PartName="/ppt/media/image4.png" ContentType="image/png"/>
  <Override PartName="/ppt/media/image74.jpeg" ContentType="image/jpeg"/>
  <Override PartName="/ppt/media/image34.png" ContentType="image/png"/>
  <Override PartName="/ppt/media/image13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62.jpeg" ContentType="image/jpeg"/>
  <Override PartName="/ppt/media/image7.png" ContentType="image/png"/>
  <Override PartName="/ppt/media/image9.png" ContentType="image/pn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D4C0-A8BA-43C2-BB0D-82E415B73E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9D1D-83F9-4914-84BA-1DE98E18CB3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Античные образы в музыкальной культу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ригорьева Анна, ученица 8 «б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слова Дарья, ученица   8 «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уководитель: Смирнова Е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6138-5337-4547-984B-A0CBC23B226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1C07-F87E-484C-9AB1-AC4D9B0CAC4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Классификация видов античного музыкального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4521-DBEF-49D7-BC3E-1D250C6388C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Фольк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одное песенно-поэтическое творче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нцы  с предста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 на народных инструме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рчество жриц и жрецов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DCD5-9CDF-4B24-8DCB-F03B1EEAC35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рамовое искус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Фольклорно-мифологические былины, оды и кодак; мелоды Ефрема Сирина; песни Гомера, одическая хоровая поэзия Пиндара, песни Ахилла из «Иллады», песни аэдов Демодока из «Одиссее», про опера Франческо Каваллии «Дидона и Эней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4FDF-3DC3-4709-A101-5580085049D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ворцовое искус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ветские произведения под аккомпанемент лиры, труб, 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оизведения: элегии Тиртея, песнопения Зевсу в Олимпии, гимны Афродите, оды Апполону, псалмы и молитвы Давида искусно владеющий своим голосом и арфой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: античное музыкальное искусство носило зрелищно-развлек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89E8-0A5E-4B95-A1DD-AA2A16C1075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2893-248D-4165-B905-25D13B3FEEB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ая опера 159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тальянский композитор Якопо П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5BF4-410C-417A-843A-8CD5503C24A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Композ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8044-4138-40D1-BEEF-EBF7C361A3A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разы отражают  следующие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ные явления и 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Жизнь людей, причины их счастлив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 жалкого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агробное царство и конец 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5D9F-D6E6-41E2-BC44-E8E5415E564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ратория И. Гайдна «Сотворение мир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. Нильс балет «Музы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. Бизе оркестровая симфония Ри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агнер опера «Закат Богов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117F-72E0-4995-BB12-3D608669ED6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огда слышу, как говорят о добродетели или мудрости человека, который сам вполне соответствует тому, что он говорит, я чрезвычайно радуюсь, и, такой человек кажется мне поистине музыкальным. Потому, что он извлекает прекраснейшую гармонию не из лиры или еще какого-либо орудия игры, а из самой жизни, согласив в себе слова с делами по образу единой эллинской гарм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DC9B-06F1-4F24-B028-439347CAE42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Природные явления и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леман Жанекен хоровая кантата «Пени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тиц»,  Скарлатти опера «Нарцисс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фортепианные пьесы Ф.Шумана «Карнавал»,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Танцы давидсбюндлеров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97BA-EE1C-4191-B0C9-5F535B06694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Жизнь людей, причины их счастливого и жалко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А.И.Хачатурян «Спартак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имфония А. Скрябина «Прометей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А.Г. Рубинштейн «Нерон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30DD-F58A-4251-9CB7-53EBA1C04AE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Загробное царство и конец 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А. Журбина «Орфей и Эвридик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 А. Глюка «Орфей и Эврид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дригал Дхезуальдо Джеминозо «Скорбящая радость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баллада «Девушка и смерть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 М. Дариус «Несчастья Орфе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ые образы – это  жизнь мифологических и реальных человеческих характеров, которые рождаются и умирают, любят и ненавидят, радуются и печал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еследует судьбоносный рок, что является важнейшим достижением  культуры древнего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B71A-CDEB-4C07-8C22-ABDF649D48B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  античного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522F-86B5-4990-B6AF-887DD0A0325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2F4E-B316-44C9-AA0F-093C6307E7D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Авгиевы конюшн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Ахиллесова пя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Содом и Гомор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Взгляд Горгон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Танталовы му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Геростратова сла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Все в Тартарар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Кануло в лету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6BFA-C7FA-4FF0-B027-8C685FDDB6A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ыво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европейская культура, в том виде, в котором знакомы с ней современные люди во многом обязаны Греко-Римским корн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красочность античной музыкальной культуры, разнообразие и яркость образов, была и осталась вечной школой композиторов и музыкантов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музыкальные образы наделены антропоморфизмом, высокой художественностью, искренностью, правдивостью, оказывают большую эстетическую и воспитательную 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продолжение этой темы мы видим в постановках опер,  оперетт, балетов, мюзиклов и других музыкальных жанров в самых крупных театрах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 проведение международных Дельфийских игр, где выступают лучшие творческие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5ABB-9B0A-4D6C-8E4A-CC5EC4B2824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идоров Денис - вокал (дипломан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ригорьева Анна – изобразительная деятельность (3 мест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кетирование среди восьм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3 обучающих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античность? - знают 3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узыкальные произведения вы зна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этот вопрос ответили всего12 человек, наиболее знакомые произведения – «Спартак», «Клеопатра», «Муз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узыкальные произведения вы слушали?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шали «Спартак» -6чел., «Орфей и Эвридика» - 4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ели бы посетить театр и посмотреть постановку на античную тем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- ответили 20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8A2A-C5E1-4474-8202-7DD6317B590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стотель. Поэтика //Аристотель. Сочинения в 4 т.- М.,1983г.- т.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афьев Б. «Об изучении музыки средневековья». Новое время Л.,198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нфельд М. «Введение в музыкознание» М.,Владос-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еобщая история зарубежной музыки»-М.,Просвещение,198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дер И. «Идеи и философии теории человечества»М.,Наука,197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 Е. «Античное музыкальное мышление»-Л.,198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Е. «Античная музыкальная педагогика»- Спб.199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 Е «Музыка Древней Греции и Рима» -Спб 199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бер Р. «Всеобщая история музыки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,Музгиз, 1960г,196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усейнов А. «Античная эстетика» М.,Гардарики-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ьберквит М. « Мир музыки»//Дет. Лит. М.-198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лдыш В.Г. «Музыкальный энциклопедический словарь» М.,199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сев А.Ф. «Античная музыкальная эстетика»//Вступит. очерк и собр.текстов М-196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сев А.Ф. «Вступительная статья»//Плутарх. Морали- М.,196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тлик Р. «Античные легенды и сказания» -М.199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с К. Энгельс Ф. «Сочинения»т 1,12,М.,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ая культура древнего мира //Сб. статей под ред.Р.ГубераЛ.193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акина Е.Уколов В. «Музыка в потоке времени»- М.,198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хвидин П. « Мировая художественная культура» М.,Новая школа199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F9CA-1B7F-40CE-A44C-FFAC9355318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612B-E368-42F7-BC16-C1EF6E206C9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Цель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и задачи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ссмотреть истоки античной музыки, описать характерные особенности музыкального искусства и музыкальных образов античного пери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казать, что человек с древних времен тянулся к  музы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ыяснить, как «рождались» и «умирали» музыкальные образы и что осталось веч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E1D4-6EC5-4683-A510-4966945EF58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ивительная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а  му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936B-BB29-43A4-A5FE-B0AB74AF84A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Р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Гре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о-драматические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представления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C6B0-2508-4588-84DC-051688ED790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E7BB-F4DB-4D55-A21C-D6C040E582B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7BE6-65A4-4C92-9418-93C4A58A011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981D-E4A4-4FFA-9B5A-8607149D296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F22-4ADC-4325-A6E4-AD2867C2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178-ADF8-446F-B86C-040971DD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2D4-006A-4296-BBFF-50F33A38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DF2-4658-47DC-A0CB-63719FA8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B094-6A55-42C5-BE17-3C222288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D699-313B-486C-9EC3-72D1FF28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30DB-C1EB-4510-9491-6B6F4EF3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FB0B-9997-4874-8204-736F90D7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01F9-FA60-49E6-A3DA-51DFAD06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1A6B-4C6A-4597-9F3E-3B05EFC0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A74B-2255-45D0-90E1-A26EAE5E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F95-68E8-4467-81D2-59087DFD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BD41-1F49-4532-9876-7EACF591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5FFF-FF40-4664-8336-9E666BDC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8DA1-36E6-443B-A788-CC361E2F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A5F1-DC2B-4E21-AC43-9A900976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A1C2-EEBA-45BB-B1B6-72F306CA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521-AAEB-4CD0-96C5-5CC65F3A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8FE-7294-4CDD-8AF8-0047D4E7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6D5-4F17-48C2-9D86-4C0F1049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3BC-B583-4ED9-8440-27880B41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DFC-1FE4-4C32-8720-2C69A21B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795-6E91-4894-A624-68E9AC56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1D5-0E5D-4DB2-974A-7C4E6DB8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A9EF-590B-4095-9771-93637DC89C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A9B9-49E6-40BC-BC78-7B7DF2FA4A8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1.xm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png"/><Relationship Id="rId5" Type="http://schemas.openxmlformats.org/officeDocument/2006/relationships/image" Target="../media/image7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7.png"/><Relationship Id="rId3" Type="http://schemas.openxmlformats.org/officeDocument/2006/relationships/image" Target="../media/image77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69660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Античные образы в музыкальной культур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27280" y="3645000"/>
            <a:ext cx="489096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полнил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ригорьева Анна, ученица 8 «б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Маслова Дарья, ученица   8 «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уководитель: Смирнова Е.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24" descr="Grecia"/>
          <p:cNvPicPr/>
          <p:nvPr/>
        </p:nvPicPr>
        <p:blipFill>
          <a:blip r:embed="rId1">
            <a:lum bright="-12000"/>
          </a:blip>
          <a:srcRect l="0" t="0" r="0" b="9284"/>
          <a:stretch/>
        </p:blipFill>
        <p:spPr>
          <a:xfrm>
            <a:off x="539640" y="3573360"/>
            <a:ext cx="2170080" cy="2952720"/>
          </a:xfrm>
          <a:prstGeom prst="rect">
            <a:avLst/>
          </a:prstGeom>
          <a:ln w="0">
            <a:noFill/>
          </a:ln>
        </p:spPr>
      </p:pic>
      <p:pic>
        <p:nvPicPr>
          <p:cNvPr id="202" name="Классическая музыка_-_в тему.mp3" descr=""/>
          <p:cNvPicPr/>
          <p:nvPr/>
        </p:nvPicPr>
        <p:blipFill>
          <a:blip r:embed="rId2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7"/>
          <p:cNvSpPr/>
          <p:nvPr/>
        </p:nvSpPr>
        <p:spPr>
          <a:xfrm>
            <a:off x="3255840" y="573408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ОУ лицей №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. Тутае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03a"/>
          <p:cNvPicPr/>
          <p:nvPr/>
        </p:nvPicPr>
        <p:blipFill>
          <a:blip r:embed="rId1"/>
          <a:stretch/>
        </p:blipFill>
        <p:spPr>
          <a:xfrm>
            <a:off x="179280" y="692280"/>
            <a:ext cx="4505400" cy="5195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834-13"/>
          <p:cNvPicPr/>
          <p:nvPr/>
        </p:nvPicPr>
        <p:blipFill>
          <a:blip r:embed="rId2"/>
          <a:stretch/>
        </p:blipFill>
        <p:spPr>
          <a:xfrm>
            <a:off x="4788000" y="981000"/>
            <a:ext cx="2881080" cy="1933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лады"/>
          <p:cNvPicPr/>
          <p:nvPr/>
        </p:nvPicPr>
        <p:blipFill>
          <a:blip r:embed="rId3"/>
          <a:stretch/>
        </p:blipFill>
        <p:spPr>
          <a:xfrm>
            <a:off x="4859280" y="3573360"/>
            <a:ext cx="2737080" cy="1366920"/>
          </a:xfrm>
          <a:prstGeom prst="rect">
            <a:avLst/>
          </a:prstGeom>
          <a:ln w="0">
            <a:noFill/>
          </a:ln>
        </p:spPr>
      </p:pic>
      <p:pic>
        <p:nvPicPr>
          <p:cNvPr id="249" name="Глюк–Сгамбати, Мелодия из «Орфея и Эвридики».mp3" descr=""/>
          <p:cNvPicPr/>
          <p:nvPr/>
        </p:nvPicPr>
        <p:blipFill>
          <a:blip r:embed="rId4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Классификация видов античного музыкального искус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WordArt 4"/>
          <p:cNvSpPr txBox="1"/>
          <p:nvPr/>
        </p:nvSpPr>
        <p:spPr>
          <a:xfrm>
            <a:off x="468360" y="3141720"/>
            <a:ext cx="223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Фолькл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3" name="Line 6"/>
          <p:cNvSpPr/>
          <p:nvPr/>
        </p:nvSpPr>
        <p:spPr>
          <a:xfrm flipH="1">
            <a:off x="1907640" y="1989000"/>
            <a:ext cx="1008360" cy="1152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WordArt 7"/>
          <p:cNvSpPr txBox="1"/>
          <p:nvPr/>
        </p:nvSpPr>
        <p:spPr>
          <a:xfrm>
            <a:off x="4500720" y="3141720"/>
            <a:ext cx="302400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Храмовое 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5364000" y="1773360"/>
            <a:ext cx="1081080" cy="143964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1979640" y="4437000"/>
            <a:ext cx="4248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Дворцовое 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4140360" y="1989000"/>
            <a:ext cx="0" cy="24480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AutoShape 11">
            <a:hlinkClick r:id="rId1" action="ppaction://hlinksldjump"/>
          </p:cNvPr>
          <p:cNvSpPr/>
          <p:nvPr/>
        </p:nvSpPr>
        <p:spPr>
          <a:xfrm>
            <a:off x="7164360" y="630864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788364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родное песенно-поэтическое творчеств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нцы  с представление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гра на народных инструмент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ворчество жриц и жрецов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AutoShape 4">
            <a:hlinkClick r:id="rId1" action="ppaction://hlinksldjump"/>
          </p:cNvPr>
          <p:cNvSpPr/>
          <p:nvPr/>
        </p:nvSpPr>
        <p:spPr>
          <a:xfrm>
            <a:off x="7093080" y="6453360"/>
            <a:ext cx="615960" cy="198360"/>
          </a:xfrm>
          <a:prstGeom prst="leftArrow">
            <a:avLst>
              <a:gd name="adj1" fmla="val 50000"/>
              <a:gd name="adj2" fmla="val 77632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2" name="Picture 13" descr="307-Ornament-Ancient-Music-q75-386x500"/>
          <p:cNvPicPr/>
          <p:nvPr/>
        </p:nvPicPr>
        <p:blipFill>
          <a:blip r:embed="rId2"/>
          <a:stretch/>
        </p:blipFill>
        <p:spPr>
          <a:xfrm>
            <a:off x="468360" y="3213000"/>
            <a:ext cx="3095640" cy="3429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ancient-music-playing-1"/>
          <p:cNvPicPr/>
          <p:nvPr/>
        </p:nvPicPr>
        <p:blipFill>
          <a:blip r:embed="rId3"/>
          <a:stretch/>
        </p:blipFill>
        <p:spPr>
          <a:xfrm>
            <a:off x="3924360" y="3376440"/>
            <a:ext cx="2592360" cy="3481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0" descr="ancient-music-playing-2"/>
          <p:cNvPicPr/>
          <p:nvPr/>
        </p:nvPicPr>
        <p:blipFill>
          <a:blip r:embed="rId4"/>
          <a:stretch/>
        </p:blipFill>
        <p:spPr>
          <a:xfrm>
            <a:off x="5508720" y="1700280"/>
            <a:ext cx="2200320" cy="3009960"/>
          </a:xfrm>
          <a:prstGeom prst="rect">
            <a:avLst/>
          </a:prstGeom>
          <a:ln w="0">
            <a:noFill/>
          </a:ln>
        </p:spPr>
      </p:pic>
      <p:sp>
        <p:nvSpPr>
          <p:cNvPr id="265" name="WordArt 21"/>
          <p:cNvSpPr txBox="1"/>
          <p:nvPr/>
        </p:nvSpPr>
        <p:spPr>
          <a:xfrm>
            <a:off x="1908000" y="333360"/>
            <a:ext cx="42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льклор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691920"/>
            <a:ext cx="747684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9af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8" name="Picture 4" descr="gomer"/>
          <p:cNvPicPr/>
          <p:nvPr/>
        </p:nvPicPr>
        <p:blipFill>
          <a:blip r:embed="rId1"/>
          <a:stretch/>
        </p:blipFill>
        <p:spPr>
          <a:xfrm>
            <a:off x="61920" y="260280"/>
            <a:ext cx="1328760" cy="151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ахилл">
            <a:hlinkClick r:id="rId2" action="ppaction://hlinksldjump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651640" y="4508640"/>
            <a:ext cx="2068200" cy="21445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6"/>
          <p:cNvSpPr/>
          <p:nvPr/>
        </p:nvSpPr>
        <p:spPr>
          <a:xfrm>
            <a:off x="755640" y="1773360"/>
            <a:ext cx="6769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Фольклорно-мифологические былины, оды и кодак; мелоды Ефрема Сирина; песни Гомера, одическая хоровая поэзия Пиндара, песни Ахилла из «Иллады», песни аэдов Демодока из «Одиссее», про опера Франческо Каваллии «Дидона и Эней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1" name="Picture 10" descr="b_13796"/>
          <p:cNvPicPr/>
          <p:nvPr/>
        </p:nvPicPr>
        <p:blipFill>
          <a:blip r:embed="rId4"/>
          <a:stretch/>
        </p:blipFill>
        <p:spPr>
          <a:xfrm>
            <a:off x="324000" y="4122720"/>
            <a:ext cx="3887640" cy="2546280"/>
          </a:xfrm>
          <a:prstGeom prst="rect">
            <a:avLst/>
          </a:prstGeom>
          <a:ln w="0">
            <a:noFill/>
          </a:ln>
        </p:spPr>
      </p:pic>
      <p:sp>
        <p:nvSpPr>
          <p:cNvPr id="272" name="WordArt 11"/>
          <p:cNvSpPr txBox="1"/>
          <p:nvPr/>
        </p:nvSpPr>
        <p:spPr>
          <a:xfrm>
            <a:off x="1692360" y="54936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Храмовое искусст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692000" y="1557360"/>
            <a:ext cx="58323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ветские произведения под аккомпанемент лиры, труб, орг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роизведения: элегии Тиртея, песнопения Зевсу в Олимпии, гимны Афродите, оды Апполону, псалмы и молитвы Давида искусно владеющий своим голосом и арфой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5" name="Picture 7" descr="ancient-music-playing-3"/>
          <p:cNvPicPr/>
          <p:nvPr/>
        </p:nvPicPr>
        <p:blipFill>
          <a:blip r:embed="rId1"/>
          <a:stretch/>
        </p:blipFill>
        <p:spPr>
          <a:xfrm>
            <a:off x="0" y="1557360"/>
            <a:ext cx="1800360" cy="4468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гарострат"/>
          <p:cNvPicPr/>
          <p:nvPr/>
        </p:nvPicPr>
        <p:blipFill>
          <a:blip r:embed="rId2"/>
          <a:stretch/>
        </p:blipFill>
        <p:spPr>
          <a:xfrm>
            <a:off x="4643280" y="3860640"/>
            <a:ext cx="2521080" cy="2708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орган"/>
          <p:cNvPicPr/>
          <p:nvPr/>
        </p:nvPicPr>
        <p:blipFill>
          <a:blip r:embed="rId3"/>
          <a:stretch/>
        </p:blipFill>
        <p:spPr>
          <a:xfrm>
            <a:off x="1979640" y="4076640"/>
            <a:ext cx="2362320" cy="2637000"/>
          </a:xfrm>
          <a:prstGeom prst="rect">
            <a:avLst/>
          </a:prstGeom>
          <a:ln w="0">
            <a:noFill/>
          </a:ln>
        </p:spPr>
      </p:pic>
      <p:sp>
        <p:nvSpPr>
          <p:cNvPr id="278" name="WordArt 13"/>
          <p:cNvSpPr txBox="1"/>
          <p:nvPr/>
        </p:nvSpPr>
        <p:spPr>
          <a:xfrm>
            <a:off x="1619280" y="404640"/>
            <a:ext cx="540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ворцовое искусст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ывод: античное музыкальное искусство носило зрелищно-развлекательный характер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2" name="Picture 4" descr="49c5e061b77b"/>
          <p:cNvPicPr/>
          <p:nvPr/>
        </p:nvPicPr>
        <p:blipFill>
          <a:blip r:embed="rId1"/>
          <a:stretch/>
        </p:blipFill>
        <p:spPr>
          <a:xfrm>
            <a:off x="0" y="1773360"/>
            <a:ext cx="7740720" cy="48956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-324000" y="5877000"/>
            <a:ext cx="8569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5" name="Picture 7" descr="Картинка 16 из 39"/>
          <p:cNvPicPr/>
          <p:nvPr/>
        </p:nvPicPr>
        <p:blipFill>
          <a:blip r:embed="rId1"/>
          <a:stretch/>
        </p:blipFill>
        <p:spPr>
          <a:xfrm>
            <a:off x="3780000" y="2205000"/>
            <a:ext cx="3708360" cy="3191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Картинка 1 из 6"/>
          <p:cNvPicPr/>
          <p:nvPr/>
        </p:nvPicPr>
        <p:blipFill>
          <a:blip r:embed="rId2"/>
          <a:stretch/>
        </p:blipFill>
        <p:spPr>
          <a:xfrm>
            <a:off x="395280" y="1341360"/>
            <a:ext cx="2941560" cy="403236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2"/>
          <p:cNvSpPr txBox="1"/>
          <p:nvPr/>
        </p:nvSpPr>
        <p:spPr>
          <a:xfrm>
            <a:off x="1547640" y="404640"/>
            <a:ext cx="4972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вая опера 1597 го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WordArt 14"/>
          <p:cNvSpPr txBox="1"/>
          <p:nvPr/>
        </p:nvSpPr>
        <p:spPr>
          <a:xfrm>
            <a:off x="4788000" y="119700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5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Дафн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9" name="WordArt 16"/>
          <p:cNvSpPr txBox="1"/>
          <p:nvPr/>
        </p:nvSpPr>
        <p:spPr>
          <a:xfrm>
            <a:off x="395280" y="558972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альянский композитор Якопо Пер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Композито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2" name="Picture 4" descr="O35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4005360"/>
            <a:ext cx="1706400" cy="2160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Картинка 11 из 11946"/>
          <p:cNvPicPr/>
          <p:nvPr/>
        </p:nvPicPr>
        <p:blipFill>
          <a:blip r:embed="rId2"/>
          <a:stretch/>
        </p:blipFill>
        <p:spPr>
          <a:xfrm>
            <a:off x="2944800" y="1052640"/>
            <a:ext cx="1946160" cy="23050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9"/>
          <p:cNvSpPr/>
          <p:nvPr/>
        </p:nvSpPr>
        <p:spPr>
          <a:xfrm>
            <a:off x="0" y="61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И. Хачатуря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132000" y="3357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 Глю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6" name="Picture 12" descr="Картинка 3 из 27732"/>
          <p:cNvPicPr/>
          <p:nvPr/>
        </p:nvPicPr>
        <p:blipFill>
          <a:blip r:embed="rId3"/>
          <a:stretch/>
        </p:blipFill>
        <p:spPr>
          <a:xfrm>
            <a:off x="5435640" y="1125360"/>
            <a:ext cx="1835280" cy="22323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3"/>
          <p:cNvSpPr/>
          <p:nvPr/>
        </p:nvSpPr>
        <p:spPr>
          <a:xfrm>
            <a:off x="5508720" y="33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С.Ба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15" descr="Картинка 1 из 251"/>
          <p:cNvPicPr/>
          <p:nvPr/>
        </p:nvPicPr>
        <p:blipFill>
          <a:blip r:embed="rId4"/>
          <a:stretch/>
        </p:blipFill>
        <p:spPr>
          <a:xfrm>
            <a:off x="5681520" y="4005360"/>
            <a:ext cx="1470240" cy="21603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6"/>
          <p:cNvSpPr/>
          <p:nvPr/>
        </p:nvSpPr>
        <p:spPr>
          <a:xfrm>
            <a:off x="5003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Ф. Стравинс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0" name="Picture 18" descr="Картинка 7 из 15326"/>
          <p:cNvPicPr/>
          <p:nvPr/>
        </p:nvPicPr>
        <p:blipFill>
          <a:blip r:embed="rId5"/>
          <a:stretch/>
        </p:blipFill>
        <p:spPr>
          <a:xfrm>
            <a:off x="324000" y="1052640"/>
            <a:ext cx="1885680" cy="23050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9"/>
          <p:cNvSpPr/>
          <p:nvPr/>
        </p:nvSpPr>
        <p:spPr>
          <a:xfrm>
            <a:off x="32400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.Вагне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2" name="Picture 21" descr="Картинка 15 из 139"/>
          <p:cNvPicPr/>
          <p:nvPr/>
        </p:nvPicPr>
        <p:blipFill>
          <a:blip r:embed="rId6"/>
          <a:stretch/>
        </p:blipFill>
        <p:spPr>
          <a:xfrm>
            <a:off x="2987640" y="4005360"/>
            <a:ext cx="1665360" cy="21603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22"/>
          <p:cNvSpPr/>
          <p:nvPr/>
        </p:nvSpPr>
        <p:spPr>
          <a:xfrm>
            <a:off x="2843280" y="6165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Журб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1116000" y="177336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1116000" y="2421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Природные явления и живот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Rectangle 18"/>
          <p:cNvSpPr/>
          <p:nvPr/>
        </p:nvSpPr>
        <p:spPr>
          <a:xfrm>
            <a:off x="1184400" y="3068640"/>
            <a:ext cx="581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Жизнь людей, причины их счастливог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и жалкого существов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1187280" y="393372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Загробное царство и конец Све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AutoShape 22"/>
          <p:cNvSpPr/>
          <p:nvPr/>
        </p:nvSpPr>
        <p:spPr>
          <a:xfrm>
            <a:off x="6659640" y="609300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0" name="Picture 24" descr="театр аполлона"/>
          <p:cNvPicPr/>
          <p:nvPr/>
        </p:nvPicPr>
        <p:blipFill>
          <a:blip r:embed="rId1"/>
          <a:stretch/>
        </p:blipFill>
        <p:spPr>
          <a:xfrm>
            <a:off x="1042920" y="4508640"/>
            <a:ext cx="5400720" cy="2160360"/>
          </a:xfrm>
          <a:prstGeom prst="rect">
            <a:avLst/>
          </a:prstGeom>
          <a:ln w="0">
            <a:noFill/>
          </a:ln>
        </p:spPr>
      </p:pic>
      <p:sp>
        <p:nvSpPr>
          <p:cNvPr id="311" name="WordArt 25"/>
          <p:cNvSpPr txBox="1"/>
          <p:nvPr/>
        </p:nvSpPr>
        <p:spPr>
          <a:xfrm>
            <a:off x="539640" y="549360"/>
            <a:ext cx="6912000" cy="318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36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азы отражают  следующие т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7920" y="252360"/>
            <a:ext cx="7211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38684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ратория И. Гайдна «Сотворение мира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. Нильс балет «Музы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Д. Бизе оркестровая симфония Рим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агнер опера «Закат Богов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5" name="Picture 4" descr="12-25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500720" y="3860640"/>
            <a:ext cx="3025440" cy="218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слева на право Агаменон Ахил Гектор Аякс Нестор Одисей Диоменд Манелай Эней"/>
          <p:cNvPicPr/>
          <p:nvPr/>
        </p:nvPicPr>
        <p:blipFill>
          <a:blip r:embed="rId2"/>
          <a:srcRect l="4971" t="0" r="0" b="0"/>
          <a:stretch/>
        </p:blipFill>
        <p:spPr>
          <a:xfrm>
            <a:off x="755640" y="3727440"/>
            <a:ext cx="3095640" cy="272268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907640" y="1052280"/>
            <a:ext cx="576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огда слышу, как говорят о добродетели или мудрости человека, который сам вполне соответствует тому, что он говорит, я чрезвычайно радуюсь, и, такой человек кажется мне поистине музыкальным. Потому, что он извлекает прекраснейшую гармонию не из лиры или еще какого-либо орудия игры, а из самой жизни, согласив в себе слова с делами по образу единой эллинской гармон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96000" y="5661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лато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6" descr="1pic-8a"/>
          <p:cNvPicPr/>
          <p:nvPr/>
        </p:nvPicPr>
        <p:blipFill>
          <a:blip r:embed="rId1">
            <a:lum bright="-6000"/>
          </a:blip>
          <a:srcRect l="0" t="0" r="46398" b="0"/>
          <a:stretch/>
        </p:blipFill>
        <p:spPr>
          <a:xfrm>
            <a:off x="324000" y="981000"/>
            <a:ext cx="1734840" cy="42372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Природные явления и животны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38648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леман Жанекен хоровая кантата «Пение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тиц»,  Скарлатти опера «Нарцисс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фортепианные пьесы Ф.Шумана «Карнавал»,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Танцы давидсбюндлеров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0" name="Picture 4" descr="арцис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932360" y="3141720"/>
            <a:ext cx="2289240" cy="2774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0_2fd61_db51811d_XL"/>
          <p:cNvPicPr/>
          <p:nvPr/>
        </p:nvPicPr>
        <p:blipFill>
          <a:blip r:embed="rId2"/>
          <a:stretch/>
        </p:blipFill>
        <p:spPr>
          <a:xfrm>
            <a:off x="324000" y="3141720"/>
            <a:ext cx="4103640" cy="352728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71600" y="1987560"/>
            <a:ext cx="71164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И.Хачатурян «Спартак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имфония А. Скрябина «Прометей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Г. Рубинштейн «Нерон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4" name="Picture 4" descr="spartak_balet"/>
          <p:cNvPicPr/>
          <p:nvPr/>
        </p:nvPicPr>
        <p:blipFill>
          <a:blip r:embed="rId1"/>
          <a:stretch/>
        </p:blipFill>
        <p:spPr>
          <a:xfrm>
            <a:off x="611280" y="3789360"/>
            <a:ext cx="3311280" cy="2414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ercury01"/>
          <p:cNvPicPr/>
          <p:nvPr/>
        </p:nvPicPr>
        <p:blipFill>
          <a:blip r:embed="rId2"/>
          <a:stretch/>
        </p:blipFill>
        <p:spPr>
          <a:xfrm>
            <a:off x="4211640" y="4221000"/>
            <a:ext cx="3095640" cy="24116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367920" y="316080"/>
            <a:ext cx="722628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Жизнь людей, причины их счастливого и жалкого существова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7" name="Picture 10" descr="img175"/>
          <p:cNvPicPr/>
          <p:nvPr/>
        </p:nvPicPr>
        <p:blipFill>
          <a:blip r:embed="rId3"/>
          <a:stretch/>
        </p:blipFill>
        <p:spPr>
          <a:xfrm>
            <a:off x="6084720" y="1341360"/>
            <a:ext cx="1656000" cy="23749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Загробное царство и конец Св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А. Журбина «Орфей и Эвридика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 А. Глюка «Орфей и Эвридика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мадригал Дхезуальдо Джеминозо «Скорбящая радость»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баллада «Девушка и смерть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 М. Дариус «Несчастья Орфея» и др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1" name="Picture 4" descr="rep_orfey_i_evredika06_b"/>
          <p:cNvPicPr/>
          <p:nvPr/>
        </p:nvPicPr>
        <p:blipFill>
          <a:blip r:embed="rId1"/>
          <a:stretch/>
        </p:blipFill>
        <p:spPr>
          <a:xfrm>
            <a:off x="179280" y="3573360"/>
            <a:ext cx="210528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orpheus_1"/>
          <p:cNvPicPr/>
          <p:nvPr/>
        </p:nvPicPr>
        <p:blipFill>
          <a:blip r:embed="rId2"/>
          <a:stretch/>
        </p:blipFill>
        <p:spPr>
          <a:xfrm>
            <a:off x="5364000" y="3500280"/>
            <a:ext cx="2303640" cy="3030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14482"/>
          <p:cNvPicPr/>
          <p:nvPr/>
        </p:nvPicPr>
        <p:blipFill>
          <a:blip r:embed="rId3"/>
          <a:stretch/>
        </p:blipFill>
        <p:spPr>
          <a:xfrm>
            <a:off x="2484360" y="3429000"/>
            <a:ext cx="2592360" cy="2521080"/>
          </a:xfrm>
          <a:prstGeom prst="rect">
            <a:avLst/>
          </a:prstGeom>
          <a:ln w="0">
            <a:noFill/>
          </a:ln>
        </p:spPr>
      </p:pic>
      <p:pic>
        <p:nvPicPr>
          <p:cNvPr id="334" name="244.mp3" descr=""/>
          <p:cNvPicPr/>
          <p:nvPr/>
        </p:nvPicPr>
        <p:blipFill>
          <a:blip r:embed="rId4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2400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тичные образы – это  жизнь мифологических и реальных человеческих характеров, которые рождаются и умирают, любят и ненавидят, радуются и печалят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х преследует судьбоносный рок, что является важнейшим достижением  культуры древнего мир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7" name="Picture 4" descr="af-teatr"/>
          <p:cNvPicPr/>
          <p:nvPr/>
        </p:nvPicPr>
        <p:blipFill>
          <a:blip r:embed="rId3"/>
          <a:stretch/>
        </p:blipFill>
        <p:spPr>
          <a:xfrm>
            <a:off x="4140360" y="26028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FB07-4560"/>
          <p:cNvPicPr/>
          <p:nvPr/>
        </p:nvPicPr>
        <p:blipFill>
          <a:blip r:embed="rId4"/>
          <a:stretch/>
        </p:blipFill>
        <p:spPr>
          <a:xfrm>
            <a:off x="3780000" y="4437000"/>
            <a:ext cx="3744720" cy="2165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225"/>
          <p:cNvPicPr/>
          <p:nvPr/>
        </p:nvPicPr>
        <p:blipFill>
          <a:blip r:embed="rId5"/>
          <a:stretch/>
        </p:blipFill>
        <p:spPr>
          <a:xfrm>
            <a:off x="755640" y="486900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1061851"/>
          <p:cNvPicPr/>
          <p:nvPr/>
        </p:nvPicPr>
        <p:blipFill>
          <a:blip r:embed="rId6"/>
          <a:stretch/>
        </p:blipFill>
        <p:spPr>
          <a:xfrm>
            <a:off x="250920" y="189000"/>
            <a:ext cx="2047680" cy="223200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аследие  античного искус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828720" y="6858000"/>
            <a:ext cx="127461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4" name="Picture 6" descr="аид"/>
          <p:cNvPicPr/>
          <p:nvPr/>
        </p:nvPicPr>
        <p:blipFill>
          <a:blip r:embed="rId1"/>
          <a:stretch/>
        </p:blipFill>
        <p:spPr>
          <a:xfrm>
            <a:off x="179280" y="141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аида"/>
          <p:cNvPicPr/>
          <p:nvPr/>
        </p:nvPicPr>
        <p:blipFill>
          <a:blip r:embed="rId2"/>
          <a:stretch/>
        </p:blipFill>
        <p:spPr>
          <a:xfrm>
            <a:off x="5940360" y="3716280"/>
            <a:ext cx="1619280" cy="2467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ariadna"/>
          <p:cNvPicPr/>
          <p:nvPr/>
        </p:nvPicPr>
        <p:blipFill>
          <a:blip r:embed="rId3"/>
          <a:stretch/>
        </p:blipFill>
        <p:spPr>
          <a:xfrm>
            <a:off x="3492360" y="3573360"/>
            <a:ext cx="2303640" cy="3024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untitled"/>
          <p:cNvPicPr/>
          <p:nvPr/>
        </p:nvPicPr>
        <p:blipFill>
          <a:blip r:embed="rId4"/>
          <a:stretch/>
        </p:blipFill>
        <p:spPr>
          <a:xfrm>
            <a:off x="4140360" y="1413000"/>
            <a:ext cx="3527280" cy="1973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3"/>
          <p:cNvPicPr/>
          <p:nvPr/>
        </p:nvPicPr>
        <p:blipFill>
          <a:blip r:embed="rId5"/>
          <a:stretch/>
        </p:blipFill>
        <p:spPr>
          <a:xfrm>
            <a:off x="0" y="4076640"/>
            <a:ext cx="3333600" cy="232416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no06_7"/>
          <p:cNvPicPr/>
          <p:nvPr/>
        </p:nvPicPr>
        <p:blipFill>
          <a:blip r:embed="rId1"/>
          <a:stretch/>
        </p:blipFill>
        <p:spPr>
          <a:xfrm>
            <a:off x="250920" y="1052640"/>
            <a:ext cx="3900240" cy="40320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284720" y="1125360"/>
            <a:ext cx="3529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Авгиевы конюшн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Ахиллесова пят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Содом и Гоморр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Взгляд Горгон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Танталовы мук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Геростратова слав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Все в Тартарар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Кануло в лету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вод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европейская культура, в том виде, в котором знакомы с ней современные люди во многом обязаны Греко-Римским корня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красочность античной музыкальной культуры, разнообразие и яркость образов, была и осталась вечной школой композиторов и музыкантов        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музыкальные образы наделены антропоморфизмом, высокой художественностью, искренностью, правдивостью, оказывают большую эстетическую и воспитательную рол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продолжение этой темы мы видим в постановках опер,  оперетт, балетов, мюзиклов и других музыкальных жанров в самых крупных театрах мир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 проведение международных Дельфийских игр, где выступают лучшие творческие лич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4" name="Picture 4" descr="ancient_stringed_instruments_cymbal_musical_2463819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900000" y="189000"/>
            <a:ext cx="2232000" cy="148104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5" descr="Картинка 14 из 57"/>
          <p:cNvPicPr/>
          <p:nvPr/>
        </p:nvPicPr>
        <p:blipFill>
          <a:blip r:embed="rId1"/>
          <a:stretch/>
        </p:blipFill>
        <p:spPr>
          <a:xfrm>
            <a:off x="324000" y="260280"/>
            <a:ext cx="7129440" cy="46576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357" name="Text Box 6"/>
          <p:cNvSpPr/>
          <p:nvPr/>
        </p:nvSpPr>
        <p:spPr>
          <a:xfrm>
            <a:off x="1187280" y="4869000"/>
            <a:ext cx="547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идоров Денис - вокал (дипломант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ригорьева Анна – изобразительная деятельность (3 мест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ши исследов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7386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нкетирование среди восьмых класс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(53 обучающихся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то такое античность? - знают 35 челове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е музыкальные произведения вы знаете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 этот вопрос ответили всего12 человек, наиболее знакомые произведения – «Спартак», «Клеопатра», «Музы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е музыкальные произведения вы слушали?-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лушали «Спартак» -6чел., «Орфей и Эвридика» - 4че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Хотели бы посетить театр и посмотреть постановку на античную тему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–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а- ответили 20 обучающихс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пользуемая литера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писок литературы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ристотель. Поэтика //Аристотель. Сочинения в 4 т.- М.,1983г.- т. 4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сафьев Б. «Об изучении музыки средневековья». Новое время Л.,198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нфельд М. «Введение в музыкознание» М.,Владос-200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Всеобщая история зарубежной музыки»-М.,Просвещение,1980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дер И. «Идеи и философии теории человечества»М.,Наука,1977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 Е. «Античное музыкальное мышление»-Л.,1986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Е. «Античная музыкальная педагогика»- Спб.1996г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 Е «Музыка Древней Греции и Рима» -Спб 1995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рубер Р. «Всеобщая история музыки»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.,Музгиз, 1960г,1965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усейнов А. «Античная эстетика» М.,Гардарики-2004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Зальберквит М. « Мир музыки»//Дет. Лит. М.-1988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Келдыш В.Г. «Музыкальный энциклопедический словарь» М.,199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сев А.Ф. «Античная музыкальная эстетика»//Вступит. очерк и собр.текстов М-1960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сев А.Ф. «Вступительная статья»//Плутарх. Морали- М.,196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ртлик Р. «Античные легенды и сказания» -М.199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аркс К. Энгельс Ф. «Сочинения»т 1,12,М.,1958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узыкальная культура древнего мира //Сб. статей под ред.Р.ГубераЛ.1937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ыбакина Е.Уколов В. «Музыка в потоке времени»- М.,198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Юхвидин П. « Мировая художественная культура» М.,Новая школа1996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Цель</a:t>
            </a:r>
            <a:r>
              <a:rPr b="1" i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и задачи работ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ассмотреть истоки античной музыки, описать характерные особенности музыкального искусства и музыкальных образов античного перио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оказать, что человек с древних времен тянулся к  музы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яснить, как «рождались» и «умирали» музыкальные образы и что осталось вечны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10" descr="гемплей музыка"/>
          <p:cNvPicPr/>
          <p:nvPr/>
        </p:nvPicPr>
        <p:blipFill>
          <a:blip r:embed="rId4"/>
          <a:stretch/>
        </p:blipFill>
        <p:spPr>
          <a:xfrm>
            <a:off x="6156360" y="5129280"/>
            <a:ext cx="1676520" cy="172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img3259_30863"/>
          <p:cNvPicPr/>
          <p:nvPr/>
        </p:nvPicPr>
        <p:blipFill>
          <a:blip r:embed="rId5"/>
          <a:stretch/>
        </p:blipFill>
        <p:spPr>
          <a:xfrm>
            <a:off x="250920" y="189000"/>
            <a:ext cx="1728720" cy="206064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842920" y="907920"/>
            <a:ext cx="604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Удивительная             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сила  музык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6" descr="terps"/>
          <p:cNvPicPr/>
          <p:nvPr/>
        </p:nvPicPr>
        <p:blipFill>
          <a:blip r:embed="rId1"/>
          <a:stretch/>
        </p:blipFill>
        <p:spPr>
          <a:xfrm>
            <a:off x="179280" y="836640"/>
            <a:ext cx="2521080" cy="4897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582236_pic_1"/>
          <p:cNvPicPr/>
          <p:nvPr/>
        </p:nvPicPr>
        <p:blipFill>
          <a:blip r:embed="rId2"/>
          <a:stretch/>
        </p:blipFill>
        <p:spPr>
          <a:xfrm>
            <a:off x="3564000" y="3017880"/>
            <a:ext cx="3744720" cy="33638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71182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Рим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Греция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4" descr="no4_30"/>
          <p:cNvPicPr/>
          <p:nvPr/>
        </p:nvPicPr>
        <p:blipFill>
          <a:blip r:embed="rId1"/>
          <a:stretch/>
        </p:blipFill>
        <p:spPr>
          <a:xfrm>
            <a:off x="755640" y="1773360"/>
            <a:ext cx="6265800" cy="4559040"/>
          </a:xfrm>
          <a:prstGeom prst="rect">
            <a:avLst/>
          </a:prstGeom>
          <a:ln w="0">
            <a:noFill/>
          </a:ln>
        </p:spPr>
      </p:pic>
      <p:sp>
        <p:nvSpPr>
          <p:cNvPr id="220" name="WordArt 8"/>
          <p:cNvSpPr txBox="1"/>
          <p:nvPr/>
        </p:nvSpPr>
        <p:spPr>
          <a:xfrm>
            <a:off x="2484360" y="549360"/>
            <a:ext cx="302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нти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узыкально-драматические    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представления 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Picture 18" descr="medic_21_%D0%9E%D1%80%D1%84%D0%B5%D0%B9"/>
          <p:cNvPicPr/>
          <p:nvPr/>
        </p:nvPicPr>
        <p:blipFill>
          <a:blip r:embed="rId1"/>
          <a:stretch/>
        </p:blipFill>
        <p:spPr>
          <a:xfrm>
            <a:off x="324000" y="1601640"/>
            <a:ext cx="7173720" cy="52563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ancient_12"/>
          <p:cNvPicPr/>
          <p:nvPr/>
        </p:nvPicPr>
        <p:blipFill>
          <a:blip r:embed="rId1">
            <a:lum bright="-6000"/>
          </a:blip>
          <a:stretch/>
        </p:blipFill>
        <p:spPr>
          <a:xfrm rot="18535200">
            <a:off x="3639960" y="3584520"/>
            <a:ext cx="2232000" cy="1990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ancient_stringed_instruments_cymbal_musical_2463819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900000" y="189000"/>
            <a:ext cx="1368360" cy="907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105[1]"/>
          <p:cNvPicPr/>
          <p:nvPr/>
        </p:nvPicPr>
        <p:blipFill>
          <a:blip r:embed="rId3">
            <a:lum bright="-24000"/>
          </a:blip>
          <a:srcRect l="0" t="0" r="0" b="12114"/>
          <a:stretch/>
        </p:blipFill>
        <p:spPr>
          <a:xfrm>
            <a:off x="2124000" y="3500280"/>
            <a:ext cx="1587600" cy="1727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кифара"/>
          <p:cNvPicPr/>
          <p:nvPr/>
        </p:nvPicPr>
        <p:blipFill>
          <a:blip r:embed="rId4"/>
          <a:stretch/>
        </p:blipFill>
        <p:spPr>
          <a:xfrm>
            <a:off x="2916360" y="404640"/>
            <a:ext cx="2057400" cy="2936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rbaydr56"/>
          <p:cNvPicPr/>
          <p:nvPr/>
        </p:nvPicPr>
        <p:blipFill>
          <a:blip r:embed="rId5">
            <a:lum bright="-18000"/>
          </a:blip>
          <a:srcRect l="0" t="0" r="0" b="18017"/>
          <a:stretch/>
        </p:blipFill>
        <p:spPr>
          <a:xfrm>
            <a:off x="1908000" y="5373720"/>
            <a:ext cx="2592720" cy="129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Instrument06"/>
          <p:cNvPicPr/>
          <p:nvPr/>
        </p:nvPicPr>
        <p:blipFill>
          <a:blip r:embed="rId6"/>
          <a:stretch/>
        </p:blipFill>
        <p:spPr>
          <a:xfrm>
            <a:off x="179280" y="1125360"/>
            <a:ext cx="2665440" cy="181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Арфа"/>
          <p:cNvPicPr/>
          <p:nvPr/>
        </p:nvPicPr>
        <p:blipFill>
          <a:blip r:embed="rId7"/>
          <a:stretch/>
        </p:blipFill>
        <p:spPr>
          <a:xfrm>
            <a:off x="5148360" y="404640"/>
            <a:ext cx="2519280" cy="2487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P6a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6012000" y="3500280"/>
            <a:ext cx="1461960" cy="3167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P6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324000" y="3357720"/>
            <a:ext cx="1400040" cy="3024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muses01"/>
          <p:cNvPicPr/>
          <p:nvPr/>
        </p:nvPicPr>
        <p:blipFill>
          <a:blip r:embed="rId1"/>
          <a:stretch/>
        </p:blipFill>
        <p:spPr>
          <a:xfrm>
            <a:off x="395280" y="620640"/>
            <a:ext cx="1612800" cy="2879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germes_afrodita_[1]"/>
          <p:cNvPicPr/>
          <p:nvPr/>
        </p:nvPicPr>
        <p:blipFill>
          <a:blip r:embed="rId2"/>
          <a:stretch/>
        </p:blipFill>
        <p:spPr>
          <a:xfrm>
            <a:off x="2268360" y="404640"/>
            <a:ext cx="2848320" cy="379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dance"/>
          <p:cNvPicPr/>
          <p:nvPr/>
        </p:nvPicPr>
        <p:blipFill>
          <a:blip r:embed="rId3"/>
          <a:stretch/>
        </p:blipFill>
        <p:spPr>
          <a:xfrm>
            <a:off x="395280" y="4292640"/>
            <a:ext cx="3816360" cy="2370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школы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500720" y="4276800"/>
            <a:ext cx="3203280" cy="2406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школа"/>
          <p:cNvPicPr/>
          <p:nvPr/>
        </p:nvPicPr>
        <p:blipFill>
          <a:blip r:embed="rId5"/>
          <a:stretch/>
        </p:blipFill>
        <p:spPr>
          <a:xfrm>
            <a:off x="5219640" y="836640"/>
            <a:ext cx="2592360" cy="19620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Claude_Lorrain_Apollo_Muses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132000" y="3357720"/>
            <a:ext cx="4675320" cy="336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sca081"/>
          <p:cNvPicPr/>
          <p:nvPr/>
        </p:nvPicPr>
        <p:blipFill>
          <a:blip r:embed="rId2"/>
          <a:stretch/>
        </p:blipFill>
        <p:spPr>
          <a:xfrm>
            <a:off x="179280" y="260280"/>
            <a:ext cx="4608720" cy="3068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apolon1"/>
          <p:cNvPicPr/>
          <p:nvPr/>
        </p:nvPicPr>
        <p:blipFill>
          <a:blip r:embed="rId3"/>
          <a:stretch/>
        </p:blipFill>
        <p:spPr>
          <a:xfrm>
            <a:off x="468360" y="3573360"/>
            <a:ext cx="1558800" cy="295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b1397"/>
          <p:cNvPicPr/>
          <p:nvPr/>
        </p:nvPicPr>
        <p:blipFill>
          <a:blip r:embed="rId4">
            <a:lum bright="-6000"/>
          </a:blip>
          <a:srcRect l="7169" t="31112" r="7169" b="31112"/>
          <a:stretch/>
        </p:blipFill>
        <p:spPr>
          <a:xfrm>
            <a:off x="4932360" y="549360"/>
            <a:ext cx="2735280" cy="1871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09:57Z</dcterms:created>
  <dc:creator>Домашний</dc:creator>
  <dc:description/>
  <dc:language>en-US</dc:language>
  <cp:lastModifiedBy>LEGION</cp:lastModifiedBy>
  <dcterms:modified xsi:type="dcterms:W3CDTF">2015-04-02T06:51:44Z</dcterms:modified>
  <cp:revision>91</cp:revision>
  <dc:subject/>
  <dc:title>Античные образы в музыкальной культуре</dc:title>
</cp:coreProperties>
</file>