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3.gif" ContentType="image/gif"/>
  <Override PartName="/ppt/media/image17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EC3B-C158-4950-887A-9BD2798CB9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Западноевропейская музыка романт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8. Многообразие стилей зарубеж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FBDB-FE00-4080-B391-743740D716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0478-3DD2-444D-A3FB-617B7FF212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94D8-0173-4F18-9D62-0EDC182A3D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1. Романтизм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2. Выдающиеся композиторы романтиче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3. Выдающиеся  композиции музыкантов роман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D597-9791-4DDF-A2C6-A36C777F66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3E54-8812-410E-A570-C7433F3482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92AD-56D7-4D63-9982-241ACA582D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иболее яркими представителями романтической школы композиторов бы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EA67-78AA-48CE-A84B-5BEC4E5D14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121B-8D32-4845-B493-DCB2D322A1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97ED-6131-44C8-AA2E-41947494C9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 скульптура Микеланджело «Мыслитель», основой для цикла «Годы странств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7A66-2403-45E5-8C5D-58A2E08795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A6EC-81AC-4998-82AE-94AFFE6E28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55339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адноевропейская музыка романтизм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7480"/>
            <a:ext cx="56768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лава 18. Многообразие стилей зарубежной музыки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Рисунок 3" descr="e1c9efb73a6b2049a240606653fd07d5.gif"/>
          <p:cNvPicPr/>
          <p:nvPr/>
        </p:nvPicPr>
        <p:blipFill>
          <a:blip r:embed="rId1"/>
          <a:stretch/>
        </p:blipFill>
        <p:spPr>
          <a:xfrm>
            <a:off x="785880" y="2643120"/>
            <a:ext cx="542916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122266_f520.jpg"/>
          <p:cNvPicPr/>
          <p:nvPr/>
        </p:nvPicPr>
        <p:blipFill>
          <a:blip r:embed="rId1"/>
          <a:stretch/>
        </p:blipFill>
        <p:spPr>
          <a:xfrm>
            <a:off x="571680" y="2357280"/>
            <a:ext cx="628632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500040" y="357120"/>
            <a:ext cx="792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a194.gif"/>
          <p:cNvPicPr/>
          <p:nvPr/>
        </p:nvPicPr>
        <p:blipFill>
          <a:blip r:embed="rId2"/>
          <a:stretch/>
        </p:blipFill>
        <p:spPr>
          <a:xfrm>
            <a:off x="7000920" y="3000240"/>
            <a:ext cx="18860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1.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Романтизм в музыке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2. Выдающиеся композиторы романтической школы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3. Выдающиеся  композиции музыкантов романтизма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Рисунок 3" descr="589d03168fb4e50a836a898a62e5906f.gif"/>
          <p:cNvPicPr/>
          <p:nvPr/>
        </p:nvPicPr>
        <p:blipFill>
          <a:blip r:embed="rId1"/>
          <a:stretch/>
        </p:blipFill>
        <p:spPr>
          <a:xfrm>
            <a:off x="6572160" y="2857680"/>
            <a:ext cx="214308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Наиболее яркими представителями романтической школы композиторов был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Niccolo_Paganini.jpg"/>
          <p:cNvPicPr/>
          <p:nvPr/>
        </p:nvPicPr>
        <p:blipFill>
          <a:blip r:embed="rId1"/>
          <a:stretch/>
        </p:blipFill>
        <p:spPr>
          <a:xfrm>
            <a:off x="428760" y="1214280"/>
            <a:ext cx="1733400" cy="18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57120" y="3286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Николо Паган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296px-Liszt_1858.jpg"/>
          <p:cNvPicPr/>
          <p:nvPr/>
        </p:nvPicPr>
        <p:blipFill>
          <a:blip r:embed="rId2"/>
          <a:stretch/>
        </p:blipFill>
        <p:spPr>
          <a:xfrm>
            <a:off x="2643120" y="1214280"/>
            <a:ext cx="13575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3572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еренц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428px-Image-Frederic_Chopin_photo_downsampled.jpeg"/>
          <p:cNvPicPr/>
          <p:nvPr/>
        </p:nvPicPr>
        <p:blipFill>
          <a:blip r:embed="rId3"/>
          <a:stretch/>
        </p:blipFill>
        <p:spPr>
          <a:xfrm>
            <a:off x="4429080" y="1214280"/>
            <a:ext cx="1357200" cy="1903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едерик Ш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Carl_Maria_von_Weber.jpg"/>
          <p:cNvPicPr/>
          <p:nvPr/>
        </p:nvPicPr>
        <p:blipFill>
          <a:blip r:embed="rId4"/>
          <a:stretch/>
        </p:blipFill>
        <p:spPr>
          <a:xfrm>
            <a:off x="6286680" y="1143000"/>
            <a:ext cx="152712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143760" y="33577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он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0" descr="Franz_Schubert.jpg"/>
          <p:cNvPicPr/>
          <p:nvPr/>
        </p:nvPicPr>
        <p:blipFill>
          <a:blip r:embed="rId5"/>
          <a:stretch/>
        </p:blipFill>
        <p:spPr>
          <a:xfrm>
            <a:off x="214200" y="4000680"/>
            <a:ext cx="1605240" cy="183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анц Шуб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3" descr="RichardWagner.jpg"/>
          <p:cNvPicPr/>
          <p:nvPr/>
        </p:nvPicPr>
        <p:blipFill>
          <a:blip r:embed="rId6"/>
          <a:stretch/>
        </p:blipFill>
        <p:spPr>
          <a:xfrm>
            <a:off x="2071800" y="3714840"/>
            <a:ext cx="14796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5"/>
          <p:cNvSpPr/>
          <p:nvPr/>
        </p:nvSpPr>
        <p:spPr>
          <a:xfrm>
            <a:off x="185724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ихард Ваг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Schuhmann.jpg"/>
          <p:cNvPicPr/>
          <p:nvPr/>
        </p:nvPicPr>
        <p:blipFill>
          <a:blip r:embed="rId7"/>
          <a:stretch/>
        </p:blipFill>
        <p:spPr>
          <a:xfrm>
            <a:off x="3857760" y="3857760"/>
            <a:ext cx="1285920" cy="1769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7"/>
          <p:cNvSpPr/>
          <p:nvPr/>
        </p:nvSpPr>
        <p:spPr>
          <a:xfrm>
            <a:off x="364320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оберт Ш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8" descr="Verdi.jpg"/>
          <p:cNvPicPr/>
          <p:nvPr/>
        </p:nvPicPr>
        <p:blipFill>
          <a:blip r:embed="rId8"/>
          <a:stretch/>
        </p:blipFill>
        <p:spPr>
          <a:xfrm>
            <a:off x="5572080" y="3929040"/>
            <a:ext cx="1285920" cy="1663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542916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Джузеппе В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0" descr="Мендельсон.jpg"/>
          <p:cNvPicPr/>
          <p:nvPr/>
        </p:nvPicPr>
        <p:blipFill>
          <a:blip r:embed="rId9"/>
          <a:stretch/>
        </p:blipFill>
        <p:spPr>
          <a:xfrm>
            <a:off x="7286760" y="3929040"/>
            <a:ext cx="1428480" cy="185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7072200" y="5786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Менде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85840" y="3571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6e81914a024c524fb7c211a06057940f.gif"/>
          <p:cNvPicPr/>
          <p:nvPr/>
        </p:nvPicPr>
        <p:blipFill>
          <a:blip r:embed="rId1"/>
          <a:stretch/>
        </p:blipFill>
        <p:spPr>
          <a:xfrm>
            <a:off x="50004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74233379c62da084a24e6aad1de9e83e.gif"/>
          <p:cNvPicPr/>
          <p:nvPr/>
        </p:nvPicPr>
        <p:blipFill>
          <a:blip r:embed="rId2"/>
          <a:stretch/>
        </p:blipFill>
        <p:spPr>
          <a:xfrm>
            <a:off x="5000760" y="3071880"/>
            <a:ext cx="3357360" cy="35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b1cad8e0536ada2f1f72d8c8fc668e2b.gif"/>
          <p:cNvPicPr/>
          <p:nvPr/>
        </p:nvPicPr>
        <p:blipFill>
          <a:blip r:embed="rId3"/>
          <a:stretch/>
        </p:blipFill>
        <p:spPr>
          <a:xfrm>
            <a:off x="2792520" y="3286080"/>
            <a:ext cx="17794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ee862dabb6d3.jpg"/>
          <p:cNvPicPr/>
          <p:nvPr/>
        </p:nvPicPr>
        <p:blipFill>
          <a:blip r:embed="rId1"/>
          <a:stretch/>
        </p:blipFill>
        <p:spPr>
          <a:xfrm>
            <a:off x="5143680" y="1500120"/>
            <a:ext cx="3571560" cy="528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428760" y="2000160"/>
            <a:ext cx="2203200" cy="4461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6523cc80f3c1507129b512b2e0df05b9.gif"/>
          <p:cNvPicPr/>
          <p:nvPr/>
        </p:nvPicPr>
        <p:blipFill>
          <a:blip r:embed="rId3"/>
          <a:stretch/>
        </p:blipFill>
        <p:spPr>
          <a:xfrm>
            <a:off x="2786040" y="3214800"/>
            <a:ext cx="228600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28584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А скульптура Микеланджело «Мыслитель», основой для цикла «Годы странстви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785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37240" cy="4848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214200" y="2286000"/>
            <a:ext cx="199260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a541.gif"/>
          <p:cNvPicPr/>
          <p:nvPr/>
        </p:nvPicPr>
        <p:blipFill>
          <a:blip r:embed="rId3"/>
          <a:stretch/>
        </p:blipFill>
        <p:spPr>
          <a:xfrm>
            <a:off x="2500200" y="3071880"/>
            <a:ext cx="20275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858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wagner_richard.jpg"/>
          <p:cNvPicPr/>
          <p:nvPr/>
        </p:nvPicPr>
        <p:blipFill>
          <a:blip r:embed="rId1"/>
          <a:stretch/>
        </p:blipFill>
        <p:spPr>
          <a:xfrm>
            <a:off x="428760" y="2428920"/>
            <a:ext cx="303984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песнь о ниб.jpeg"/>
          <p:cNvPicPr/>
          <p:nvPr/>
        </p:nvPicPr>
        <p:blipFill>
          <a:blip r:embed="rId2"/>
          <a:stretch/>
        </p:blipFill>
        <p:spPr>
          <a:xfrm>
            <a:off x="3786120" y="2357280"/>
            <a:ext cx="5072040" cy="397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a190.GIF"/>
          <p:cNvPicPr/>
          <p:nvPr/>
        </p:nvPicPr>
        <p:blipFill>
          <a:blip r:embed="rId3"/>
          <a:stretch/>
        </p:blipFill>
        <p:spPr>
          <a:xfrm>
            <a:off x="7715160" y="57168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3:45:25Z</dcterms:created>
  <dc:creator>GENA</dc:creator>
  <dc:description/>
  <dc:language>en-US</dc:language>
  <cp:lastModifiedBy>LEGION</cp:lastModifiedBy>
  <dcterms:modified xsi:type="dcterms:W3CDTF">2015-04-02T06:52:17Z</dcterms:modified>
  <cp:revision>11</cp:revision>
  <dc:subject/>
  <dc:title>Западноевропейская музыка романтизма</dc:title>
</cp:coreProperties>
</file>