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jpeg" ContentType="image/jpeg"/>
  <Override PartName="/ppt/media/image23.png" ContentType="image/png"/>
  <Override PartName="/ppt/media/image50.png" ContentType="image/png"/>
  <Override PartName="/ppt/media/image49.jpeg" ContentType="image/jpeg"/>
  <Override PartName="/ppt/media/image4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45.png" ContentType="image/png"/>
  <Override PartName="/ppt/media/image44.jpeg" ContentType="image/jpeg"/>
  <Override PartName="/ppt/media/image43.png" ContentType="image/png"/>
  <Override PartName="/ppt/media/image40.png" ContentType="image/png"/>
  <Override PartName="/ppt/media/image38.jpeg" ContentType="image/jpeg"/>
  <Override PartName="/ppt/media/image37.jpeg" ContentType="image/jpeg"/>
  <Override PartName="/ppt/media/image36.png" ContentType="image/png"/>
  <Override PartName="/ppt/media/image31.png" ContentType="image/png"/>
  <Override PartName="/ppt/media/image30.jpeg" ContentType="image/jpeg"/>
  <Override PartName="/ppt/media/image39.png" ContentType="image/png"/>
  <Override PartName="/ppt/media/image64.jpeg" ContentType="image/jpeg"/>
  <Override PartName="/ppt/media/image29.jpeg" ContentType="image/jpeg"/>
  <Override PartName="/ppt/media/image18.jpeg" ContentType="image/jpeg"/>
  <Override PartName="/ppt/media/image22.png" ContentType="image/png"/>
  <Override PartName="/ppt/media/image24.jpeg" ContentType="image/jpeg"/>
  <Override PartName="/ppt/media/image83.jpeg" ContentType="image/jpeg"/>
  <Override PartName="/ppt/media/image16.jpeg" ContentType="image/jpeg"/>
  <Override PartName="/ppt/media/image51.jpeg" ContentType="image/jpeg"/>
  <Override PartName="/ppt/media/image62.png" ContentType="image/png"/>
  <Override PartName="/ppt/media/image60.png" ContentType="image/png"/>
  <Override PartName="/ppt/media/image63.jpeg" ContentType="image/jpeg"/>
  <Override PartName="/ppt/media/image74.png" ContentType="image/png"/>
  <Override PartName="/ppt/media/image78.jpeg" ContentType="image/jpeg"/>
  <Override PartName="/ppt/media/image61.jpeg" ContentType="image/jpeg"/>
  <Override PartName="/ppt/media/image77.png" ContentType="image/png"/>
  <Override PartName="/ppt/media/image86.jpeg" ContentType="image/jpeg"/>
  <Override PartName="/ppt/media/image75.jpeg" ContentType="image/jpeg"/>
  <Override PartName="/ppt/media/image81.jpeg" ContentType="image/jpeg"/>
  <Override PartName="/ppt/media/image85.jpeg" ContentType="image/jpeg"/>
  <Override PartName="/ppt/media/image26.jpeg" ContentType="image/jpeg"/>
  <Override PartName="/ppt/media/image79.png" ContentType="image/png"/>
  <Override PartName="/ppt/media/image70.jpeg" ContentType="image/jpeg"/>
  <Override PartName="/ppt/media/image17.png" ContentType="image/png"/>
  <Override PartName="/ppt/media/image82.png" ContentType="image/png"/>
  <Override PartName="/ppt/media/image5.png" ContentType="image/png"/>
  <Override PartName="/ppt/media/image65.jpeg" ContentType="image/jpeg"/>
  <Override PartName="/ppt/media/image8.png" ContentType="image/png"/>
  <Override PartName="/ppt/media/image80.jpeg" ContentType="image/jpeg"/>
  <Override PartName="/ppt/media/image52.jpeg" ContentType="image/jpeg"/>
  <Override PartName="/ppt/media/image13.png" ContentType="image/png"/>
  <Override PartName="/ppt/media/image67.png" ContentType="image/png"/>
  <Override PartName="/ppt/media/image69.jpeg" ContentType="image/jpeg"/>
  <Override PartName="/ppt/media/image76.png" ContentType="image/png"/>
  <Override PartName="/ppt/media/image66.jpeg" ContentType="image/jpeg"/>
  <Override PartName="/ppt/media/image25.png" ContentType="image/png"/>
  <Override PartName="/ppt/media/image72.jpeg" ContentType="image/jpeg"/>
  <Override PartName="/ppt/media/image2.png" ContentType="image/png"/>
  <Override PartName="/ppt/media/image3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6.jpeg" ContentType="image/jpeg"/>
  <Override PartName="/ppt/media/image71.png" ContentType="image/png"/>
  <Override PartName="/ppt/media/image14.jpeg" ContentType="image/jpeg"/>
  <Override PartName="/ppt/media/image41.jpeg" ContentType="image/jpeg"/>
  <Override PartName="/ppt/media/image54.png" ContentType="image/png"/>
  <Override PartName="/ppt/media/image28.jpeg" ContentType="image/jpeg"/>
  <Override PartName="/ppt/media/image11.jpeg" ContentType="image/jpeg"/>
  <Override PartName="/ppt/media/image84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BA97-EE31-4A2C-8306-12692A1AFF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адаева Ирина Анатол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ниципальное общеобразовательное учреждение «Средняя общеобразовательная школа №2 г. Лениногорска» Лениногорского муниципального района Республики Татар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ель музыки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валификационная катег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 музыки «Новые краски в музыке композиторов 20 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ить разграничивать понятия «классическая и современная музыка», «традиции и новаторство» в музыке композиторов 20 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ть находить общее в музыкальном языке разных композиторов и в воздействии их музыки на чувства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B177-6F1E-422E-9BF7-9A832EF005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джамин Брит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13-19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Бенджамин Бриттен – это английский композитор, оперы которого стали известны всему миру. Его перу принадлежат такие произведения, как оперы «Питер Граймс», «Поругание Лукреции», «Сон в летнюю ночь», «Поворот винта», «Глориана», а также детские спектакли, хоры, написал много песен, балет «Принц Пагод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C823-3CA7-45D9-844A-101773258E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Одно из лучших Бриттена, которое стало очень знаменито в Европе и Америке, - «Военный реквием». «Военный реквием» написан в форме заупокойной мессы. Бенджамин Бриттен был не только композитором, но и пианистом, дирижером, он писал книги о музыке. Личность композитора многогранна: он не только создатель оперных произведений, - трудно найти такой жанр, в котором бы не творил Бритт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4221-85B5-4465-8EF5-C5EBBE0A57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митрий Шостак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1906-19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митрий Шостакович родился в Петербурге 25 ноября 1906 года. Детство Шостаковича связано с крупнейшими историческими событиями века – первой империалистической войной  и Великой социалистической революцией. Многоплановое, разнообразное по жанрам творчество Шостаковича признано классикой отечественной и мировой музыкальной культуры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ека.</a:t>
            </a:r>
            <a:r>
              <a:rPr b="0" lang="ru-RU" sz="11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CDA0-487C-43FF-A41E-F9E146445D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 его перу принадлежит множество произведений, в том числе – оперы «Нос», «Катерина Измайлова», балет «Золотой век», 15 симфоний, увертюры, музыка к спектаклям и кинофильмам («Овод», «Гамлет») и очень много других произведений. Самым знаменитым произведением стала симфония №7, которая называется «Ленинградска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957F-F315-441E-B757-DF08411088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Экспресс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8560-F3C7-4C01-9371-3D9114EFD0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Описа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рессионизм – это направление во многом контрастный и по содержанию и по средствам выразительности остальным направлениям. Почти все музыкальные направления появились из искусства. По своему содержанию это своеобразный художественный протест против подавления человека буржуазным обществам, против милитаризма, мещ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0430-EDDD-4B1D-B3BF-17E21A1C39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е воплощение экспрессионизма у таких композиторов, как А. Шёнберг, А. Веберн, А. Скрябина. Эти и другие композиторы пытались ярко и правдиво отразить сложнейшие социально-эстетические, идейно-эстетические и психологические конфликты эпохи, остроту противоречивого мышления художника в буржуазном обществе, его смятенность. Экспрессионисты отстаивали право художника на свою действительность, так как считали художнический мир реальным и правдивым, чем мир, окружающи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94BC-BA5C-43FB-982E-6BDA9E658F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Арнольд Шенбе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Александр Скряб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444F-6C1A-4ABB-81DC-159B03845B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Арнольд Шёнбе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1854-19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Арнольд Шёнберг был австрийским композитором, педагогом, дирижер, художник. Творчество одного из крупнейших композиторов современности, главы «Новой венской школы». Все это сформировалось под воздействием эстетики символизма, австро-немецкого экспрессио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15B7-5B45-47B8-B20C-48C86EEB3E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Поиски в области музыкально-выразительных средств привели Шёнберга к созданию метода додекафонии, оказавшего значительное воздействие на музыкальное искусство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ека. Среди произведений: оперы «Счастливая рука», «Ожидание», С сегодня на завтра», 2 камерные симфонии, а также множество других произведений. При всей сложности и противоречности творческих устремлений Шёнберга его музыка – одно из творческих устремлений явлений в искусстве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ека, отразившего дух и веяния своего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FD25-2D31-41DC-A34E-A79CE32D03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узы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2EF9-061B-4FFF-978D-DF1207D3C7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лександр Скряб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1871-19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Скрябин был русским композитором, педагогом, пианистом. Один из крупнейших мастеров музыкальной культуры </a:t>
            </a:r>
            <a:r>
              <a:rPr b="0" lang="en-US" sz="1200" spc="-1" strike="noStrike">
                <a:solidFill>
                  <a:srgbClr val="660033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столетия, яркий и своеобразный мыслитель. Скрябин направил все свои помыслы на переустройства искусства и миропорядка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35C0-79BA-41DD-9307-51FEDC7E42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Определе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аз – род современного искусства, возникший на рубеж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X – 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ов в Южных штатах США в среде американских негров – потомков африканских рабов. Джаз – искусство, основанное на импровизации в сочетании с заранее продуманной, но не обязательно записанной в нотах формой композиции. Значительное место в репертуаре традиционного джаза занял блюз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928A-A9BE-426B-946D-772EBE1EC4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характеристики джаза – наличие в ритмике, во-первых, регулярной пульсации, так называемого «бита», а во-вторых, отклонений от этой пульсации – «свинга»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винга характерно, во-первых,  появление нового типа оркестра – биг-бэнда, который состоит из трёх групп инструментов – секций, каждая может звучать как один многоголосный инструмент: секции саксофонов (позднее с кларнетами), «медной» секции (трубы и тромбоны), ритмической секции (фортепиано, гитара, контрабас, ударные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2D10-E7C5-48FE-A4DA-A26D38C1C0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Советский дж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тельными успехами отмечено развитие советского джаза, начало которому было положено В.Парнахом в 1922 году. В довоенный период джаз в нашей стране развивался внутри эстрадных оркестров. Благодаря сотрудничеству Л.Утёсова с И.Дунаевским возник также песенный джаз. Импровизационный джаз стилей «диксиленд» и «свинг» практиковался в оркестрах А.Варламова, Н.Минха, А.Цфасмана и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3102-4010-491E-AE99-DABA05DC31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рдж Гершвин (1898-1937) – американский композитор и пианист. Систематического музыкального образования он не получил. С 15 лет начал сочинять эстрадные лирические песни, джазовую танцевальную музыку и т.п. Наряду с этим Гершвин создавал популярные произведения, в которых удачно сочетаются принципы симфонической и джазовой музы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CE72-58B2-4546-BA4A-13318AE97A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 сентября 1935 года – день рождения американской национальной оперы «Порги и Бесс», рисующей жизнь негритянской бедноты. Она пронизана негритянским фольклором - мелодиями блюзов и спиричуэлс, народными песнями, хорами, танцами. Творчество Гершвина – одна из вершин американской национальной классики. Мировую известность получили «Рапсодия в блюзовых тонах» и симфоническая поэма «Американец в Париже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2E67-E7B9-45DF-9D8C-14ADCBBA6F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Авангард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591B-D34D-49A6-817E-9E0C49C792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писание на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 авангардистских течениях особенно остро проявились элитарные тенденции, отрыв от задач искусства в обществе, неспособность художников создать общественно значимые концепции, яркое, воздействующее на массы искусство. Среди композиторов, в той или иной степени примыкавших к авангардизму, можно назвать А. Шнитке и П. Шефф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5561-23DA-4516-AB25-80ACC04A44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965B-7757-435A-B87E-BDCC0F2E3E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в музык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ка. 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Многие авангардисты, движимые ложным представлением, что могут выразить новое содержание только с помощью неизвестных средств, а также стремлением к сенсационности, шли на эксперименты, приводившие к разрушению эстетических и даже технологических основ искус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AFF5-F19D-4F3F-97FE-D4B9B98EDD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Альфред Шнит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Карлхайнц Штокхауз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FDB9-0D10-475D-92FA-FC70D0BCEF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Альфред Шни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(1934-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Альфред Шнитке – русский композитор. Является одним из ведущих мастеров современной музыки, синтезирующей в творчестве классические тенденции и разнообразные элементы современной композиторской тех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9C55-A46F-4F58-90CB-52B38CA749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реди сочинений: оперы «Жизнь с идиотом», «Одиннадцатая заповедь»; балеты «Пер Гюнт»; Реквием, 12 инструментальных концертов, музыка к драматическим спектаклям и кинофильмам: «Рикки-Тики-Тави» и «Мертвые души». После смерти композитора в его честь названо музыкальное учебное заве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23A7-F773-428E-A68D-EA40358B7F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хайнц Штокхауз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окхаузен родился в Мёдрате близ Кёльна 22 августа 1928. В 1947 поступил в кельтскую Высшую музыкальную школу, позже учился в Париже у Оливье Мессина и работал в студии конкретной музыки Пьера Шефф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6DC7-7C42-4E4B-9C51-4A2B833D70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60-х годах Штокхаузен стал одним из лидеров в области сериальной музыки и одним из первых европейских композиторов. Во многих сочинениях композитора 1960-х годов предусматривается живая интерпретация Во многих сочинениях композитора 1960-х годов предусматривается живая интерпретация электронных звучаний. В числе самых значительных опусов Штокхаузена: «Мера времени», «Песнь юношей», «Групп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E1BC-1797-4A54-8AE4-DBF41412C6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Импресс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94881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94881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2BC1-B5DE-48D0-9E1F-24DD5080BB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Описа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в импрессионизме была задача передать непосредственное впечатление, отразить тонкие психологические состояния, оттенки субъективных ощущений, вызванных созерцанием внешнего мира. Основоположниками этого направления стали К. Дебюсси, М. Равель, О. Мессиане, М. де Фал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A982-4D25-4F56-A28A-B6D43B8D4F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композиторы утверждали, что именно красота природы способна возбудить художественную фантазию композитора. Потребность передать в звуках состояние природы, её образы вызывает новые краски, новые выразительные средства. Кроме природы, импрессионисты вдохновлялись античной мифологией, сказочностью. В музыке господствовали мягкие переливы красок, гармоний, «мерцание» ритмов, сложная полифония темб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3368-7BB4-4FF2-B4F4-E7D0A23650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од Дебюс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с Рав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3BC2-4E26-41B0-B2E1-4FCE4AB6C2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век – это время кардинальных социальных перемен, революций, открывших новую эру в жизни человечества. Это время и тяжелых испытаний – двух мировых войн. 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век – это и взлет культуры и искусства, в том числе и музыкального, пришедший к великим художественным достижениям, расцвету многих национальных школ, формированию советской музыкаль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0582-491B-4202-9CB3-74D3DA323D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лод Дебюс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1862-19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Клод Дебюсси – один из величайших мастеров французской и мировой музыки в </a:t>
            </a:r>
            <a:r>
              <a:rPr b="0" lang="en-US" sz="12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веке. Он выявил в музыке новые возможности для передачи предельно утонченных оттенков многообразной палитры настроений человека и воспринимаемой им окружающей природы, создал особую импрессионистическую сферу музыкального ритма. Значение музыки Дебюсси </a:t>
            </a:r>
            <a:r>
              <a:rPr b="0" lang="en-US" sz="12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века часто сравнивают со значением музыки Шопена для музыкального искусства </a:t>
            </a:r>
            <a:r>
              <a:rPr b="0" lang="en-US" sz="1200" spc="-1" strike="noStrike">
                <a:solidFill>
                  <a:srgbClr val="7b1f2e"/>
                </a:solidFill>
                <a:latin typeface="Arial"/>
              </a:rPr>
              <a:t>XIX </a:t>
            </a: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век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66B4-D3B5-4233-9CB4-339237EE39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Среди сочинений: оперы «Родриго и Химена», «Пеллеас и Мелизанда», балеты «Игры», Камма», симфонические циклы, фортепианные циклы и сюиты: «Детский уголок», 3 кантаты, песни и романсы, музыка к театральным спектаклям: Мученичество святого Себастьяна», 12 этюдов, 24 прелюдии, очень много ноктюрнов, камерно-инструментальные ансамбли и др. Клод Дебюсси оказал большое влияние на композиторов других стран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49A1-A829-4980-A34D-B75C853D36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Морис Рав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(1875-19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с Равель был французским композитором. В музыкальном стиле Равеля получили дальнейшее развитие также новые импрессионистические музыкальные средства, найденные Дебюсси, несмотря на все различие их почерков. Самая характерная и наиболее яркая черта творчества композитора – удивительное сочетание логики. Стройности, интеллекта – и сердечности, вдохновения – черта, близкая духу французского классицизм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F6CA-C107-440C-939D-E3B73BD21C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ет «Дафнис и Хлоя» - первое и самое значительное произведение новой балетной французской музыки. Всемирную известность получило «Болеро» Равеля – симфоническое произведение, созданное в духе популярного испанского танца. Автор опер «Испанский час», «Дитя и волшебство», фортепианных пьес – циклов «Отражение», «Ночной Гаспар», «Павана умерших инфанте», фантазии для скрипки, сочинений для оркестра «Испанская рапсодия», «Вальс» и других произвед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9D18-C66F-45ED-BA08-89AF8D648A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69DB-498C-4CBE-A0A8-0DDB78FD76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"/>
              </a:rPr>
              <a:t>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596D-0E93-4E97-945C-E4B52FED3C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глухо 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узыкальной культуре Западной Европы и США – это течение, очень пестрое по идейно-художественному уровню и эстетическим принципам. Оно представлено как произведениями, выражающими протест против социальной несправедливости, милитаризма, войны, так и сочинениями, проповедующими анархизм, аморальность, насил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нцу шестого десятилетия рок превратился в мощную политическую и культурную си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04FD-8319-4DFF-BB89-DDAA4CA4FC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at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Pist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Pur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The Bea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ерное, группа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atl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самая известная из всех на нашей планете. Сначала она играла в стиле скиффл, а затем в ро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-ролл. Назва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«The Beatles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риобрели намного поздне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знаменитой группы менялся не очень часто. Первое серьёзное выступл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рел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ода в Шотланд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68D5-78B1-46CF-88E2-25A2308DAF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me d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” была первой настоящей пластинкой “ Биттлз”. Их покорение мира началось со Швеции. Последнее выступление стало “The Beatles” состоялось 29 августа 1966 года. В середине 1967 года они закончили работу над пластинкой “ Сержант Пеппер”, следующей и последней их работой была пластинка “Let it b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70 году группа распала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2E87-E347-4EB4-AC37-23AA7F091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x Pist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е выступление этой группы состоялось в ноябре 1975-го в одном из колледжей Лондона. После британского тура, группа участвовала на панк -фестивале 1976 года, В мае "Sex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stols" подписались к "Virgin" и наконец-то выпустили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Save The Quee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К концу года отношения в группе разладились. В 1996-м Роттен, Джонс, Кук и Матлок возродили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Pistol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E86F-A7C9-489C-ADAD-8C540F1E58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направления в музы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ресс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нгард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ресс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519A-F30C-41F1-B646-15FCDC9F87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ep Pur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«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Deep Purple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»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была создана в апреле 1968 года. Их состав менялся почти 10 раз, но первый состав группы был поначалу таким: Ричи Блэкмор - гитара, Род Эванс - вокал, Джон Лорд - клавишные и бэк-вокал, Иэн Пейс - ударные, Ник Симпер - бас-гитара и бэк-вок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1DD2-D349-4BDE-8F1C-7E03B235A7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Первым альбомом группы стал 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“Shades of Deep Purple”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, выглядя экспериментальным и шероховатым. Но последующие альбомы стали лучше, что привело их к известности после двух лет в Европе. Они сделали попытку соединить рок и классику, что вызвало противоречия, но обеспечило группе столь большое внимание. В 1971 году у группы начинаются серьезные вы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CEA0-644D-4544-9D2D-6959D143D3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CD3B-CF47-4074-AD20-9066FFD506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imes New Roman"/>
                <a:ea typeface="Times New Roman"/>
              </a:rPr>
              <a:t>Описа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ке продолжал развиваться и романтизм. Его наиболее сильная сторона – сопротивление антигуманистическим тенденциям буржуазного общества, утверждения духовной силы и красоты человеческой личности, призыв к духовному обновлению – трансформировалась, стали преобладать субъективистское начало, пассивность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B02D-93F9-42FB-AF56-A56A4FF754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ческие тенденции во многом помогали противостоять модернистическим тенденциям, стремящимся деформировать содержание искусства. В отдельные периоды творчества Б. Бартока, Б. Бриттена и других западных композиторов, а также С. Прокофьева и Д. Шостаковича способствовали обогащению образных решений ярким, романтизированных выраж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673F-26FB-45A5-9DA1-A5328DE6CE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Бенджамин Бритт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Дмитрий Шостак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2932-7340-493C-ADBB-769FF3CC99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5D198-D410-47FC-92D1-B67DDEB8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1B745-C548-4834-B09C-7ADB336C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AEB7F-6200-4FCE-A630-C58E5C90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438B2-F5C0-414C-8C07-699C51F1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ECD67-B693-442C-BA5A-18EE0BE8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8D137-4668-4C80-8F4E-8127850F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EF00C-2CA9-43E3-9B2F-A3ACA128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B4837-2E9D-47F1-8FFF-AE0EF834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A5413-AB74-4FD0-9EA7-753A0183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B3CAC-74A2-47E4-9C28-DD085848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2DAD0-F7FA-4F6B-8019-02C416A8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E9796-0651-4556-B71B-3104A797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3C154-A8BC-4359-B1AC-1F99E51B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89E1A-7579-4354-B598-46FC2581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C6448-79D3-44AC-9424-16259BF7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E3D61-3AA9-45F1-80BA-18360BB8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AED43-C01C-4EB9-9625-047E7913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0DD3F-FC3D-4001-8555-AE390050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201EA-B33B-4BFE-A274-C5E3C1D8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C2750-458A-4D19-9AD6-233BA7D0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B9A3A-016B-4DE3-B495-492984D2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288B9-9CF8-4919-8FDB-7C9C046E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4816B-A4B3-43CA-ADCF-1B0575C1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76825-19E6-455F-BFCC-221E2130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82336-A5BB-41AA-8A1D-8F4151FD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242D6-0B8F-44AA-92DC-8EF809DB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C3C5D-622E-4EA3-A8DC-2405DF49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90BFE-571A-4AC4-B753-078CBA0B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BD231-75B9-4CA3-8743-448DDC08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73C50-59FD-4554-9C5F-ACBFB21D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1808A-8FD9-4FC8-BCAA-77F87B3E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DBA3C-BD05-44A9-BD7B-EB543A01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EB2A1-8855-4468-A920-1BAC22F7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AE389-C9FC-49DD-B082-9B703129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CC15-7455-48DD-BE96-79493F14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9B00A-615B-425F-86E6-47A99A48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CF157-57EC-4A2B-817F-3CD4F9B0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04F74-BEA3-414F-A860-7271CDF2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E69E4-98D9-4CCD-B231-0954393D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1AE1F-D1DC-4945-8798-847C94D0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EB3BA-0590-4AFA-A8A8-B61146DD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6E198-63C2-4777-9691-BB43742A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59E1D-1D57-4495-A039-E9549766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3754A-4375-4633-BD0D-17C9014C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1AB51-DDFC-4181-AD63-B233CD55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2BDF-1EA2-489A-8C5F-D3E5B9CD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2B1CC-0325-439B-A0F6-8582CF72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1A1B3-1C87-4620-98D6-0BCD528D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C235C-CDFD-4B10-8C3F-781F48AD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CCF85-BB2E-4CC1-8E59-8853FD7F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FE084-DB29-4DDA-B032-194D13B8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C450E8-A8AB-47FF-B3B3-B0691602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C8BAC-7D0D-4006-8477-DB39FA3C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7540C-B3D5-445B-851E-A1997A66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DA369-2494-4FD7-A438-31834865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C2C8D-5504-4951-9682-0406F510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1B5E-CF82-4D5F-8E2F-B4BF45EF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07D21A-97AA-4E4C-B519-38347F05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5900D-3952-4625-BFF7-EAD66B2E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D2509-D88D-44AF-B3EE-F3D31918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37736-1A8C-4955-8F0A-7E957EB1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D53AA-BE79-48CE-AB1C-248DECAD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CF672-7EBB-4BF3-891D-B07FF3F8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F03E06-D30D-446F-BBFC-BD5B5309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266B9-6516-4161-A9F4-DAC301EB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E387DF-41A4-4345-A3FA-E6431BFF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8D8672-AAC8-42B1-8BE3-DCDC1EDF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BD7F-C7A5-4965-9487-8EE0B8A9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420E91-F641-4E7E-B5C3-AB8E3535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AC4826-E708-4DCF-8F76-541A34B6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EF401D-F1CB-46C5-B7CD-485D9FB8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D844B8-91CE-477D-948F-400C129B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74DC65-E2AD-462C-9F62-16462E5E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EEB9D-7099-47AD-9940-41029EB9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341768-2935-4832-919E-A11BCCA0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91BFEA-1DF3-4A8A-B2D4-7F9F4691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DCDB3C-B22C-4DBD-A683-E76B0EDB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2586-28D0-41AE-9B61-B36BA4BF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9C86-AEAC-4F91-AF3C-2638CEB0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2E3D-2912-406E-8AC7-C21FEFCD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6FD9B-4C66-47E4-AC89-B59488FC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95B8-6580-4EAE-9611-F00C19C8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5438-14C7-4854-BE69-A6FA0920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8888-A4C4-468F-BCFE-499DB266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D4B3-FB04-4692-86DB-FA7A6C68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5E28-4BDE-4573-97D8-26ADF6BD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16984-85B2-434D-9D43-C0A40605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9C1D3-C32A-4739-B088-8CE22EB0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9CEBC-7A30-47DF-B6A1-93F947B2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8CEE-235C-498E-B22D-6A6853AD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A9678-412D-4D56-8981-76AB7C96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42F1E-6940-4E88-95C3-EE17874E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8D3D4-909B-40F4-833B-0F348545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F9D39-D629-46BB-98AF-8323F571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1A1BF-2AF7-4651-9201-149676D8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AF0F4-02BC-4BA4-B4AC-DD650124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30369-717D-4E52-BA6F-FDF83B8B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DC178-4A47-43E6-AFCA-558E4D30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5D1A8-4402-4621-8611-76F33A36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276004-7612-4875-9EA5-3F8B5283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D00CFA-1215-4137-914D-B4E2F593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F03884-336D-4CB8-8F75-B338DD57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D52AA-3723-404E-98DF-A70F3A64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B370DD-93C7-4892-839E-E8025362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463227-C261-45C9-993B-4365789D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2BD8D8-F7AD-4654-9458-C3E1FD82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DF9E3-A22A-4FE6-B78A-CF58049B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0CD8CA-822E-4DD8-B3C6-CEBBF947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6B19C1-CC66-4BB3-9567-97568A42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8EA290-CE9F-4863-88DD-F833642C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F73590-BAA9-4AC9-923C-9697F672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29B486-B16B-41A6-8AC7-6BD66A6F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0034C-BBEB-4186-A993-10064424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E88C7-603C-40DC-859A-4D529F5A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04123-4A57-4A8B-97EF-B0531554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DFFF2-5F11-4F76-8C78-F4F54290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C2F5D-3A66-403D-AB9D-178700AB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5540E-6392-490C-8D87-7F9CED2B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BFB6A-04D8-4325-9C14-4875D4F5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F3B45-E63C-4915-9720-D40C3FF7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DFBF0-4C7B-4E81-8301-E0F45040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A9224-695A-4CC9-9D5F-72E238F7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6ACF5-3890-4DF8-88C1-1ED393C6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37711-5837-470F-B692-2156E062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50132-EC79-4368-892F-B6358D9E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AEF5A-7BF2-4753-B89A-724A4233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F7224-505E-418D-B03B-B8D2F09F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D79AE-0562-4E3B-8C89-65A059E2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8816B-ABBA-4D44-BD80-6BFF2644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40EDA-85BD-4911-A87B-1B1C17CC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B7993-AC1B-45E9-9C5E-4D03CE82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79C48-34D7-43CD-9BA2-27EB3A15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81DBE-CC27-4AE5-AADA-B3BD47BE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DB449-04FE-4188-8FC4-C0C4338B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F28D6-4F0D-42E0-B27D-1C827C2B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AD953-0618-4B3C-B4EC-D1563780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FE760-6029-4EEB-9D99-4D6536CA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298E5-7D64-4BD9-B14C-8467C279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75019-09B1-4181-900B-640555BC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9CF17-9819-463A-AF22-9A1BED32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A3C2F-04D9-4F4F-973E-4FE71A74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8CC89-4E3D-44B9-92BC-34FC090D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959CE-910F-4975-BC45-15156FB5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AB74F-35DB-4B52-AF77-6D6D0EB7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F7D6F-DD8D-41FB-98EE-E0555ED9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CBB22-1243-44DD-AF21-7AC9B1DA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94125-7331-486B-ACA8-FE5A366A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DDA62-8D47-463C-8446-AF932830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7717A-D39B-4488-88F4-376B6FB2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6BA2C-062B-4ADB-AAD6-DADC20E3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F5F51-9C1B-49C1-BFB9-65FBC42A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D6DB7-7D4C-41D2-B4A8-0FBC63AF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3AD01-C5BF-40A0-A560-4CCD7FFB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A13C9-EA69-4080-985E-D2BE8AD9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8D75A-0493-4F36-A428-6B4FD242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6400F-15F3-4573-B99B-5E3ECB76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1C86E-1D51-4B55-AE7B-7792F0A2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7C3D6-407F-4C79-9BC1-1000879F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29533-C171-4425-AC76-FAE63B58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C9BDB-C516-4E1D-BAB7-02EE55F7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96E9C-E17C-46BD-BC15-7865A39A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813FF-EF6A-4176-A6F7-E2710AF4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D84B0-7D38-4768-9120-D3C3F1F3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0CD69-4C9E-435E-800F-0EDE7187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A36F2-25A6-41E7-AE6B-53375526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2F9FE-9F19-4B01-913A-960555C4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66810-2061-43A4-AB3A-8A86FDF4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73251-863B-4B28-A0C0-EF6C0E7F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9571-0A81-4F94-B6C8-6166251FA05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01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02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03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504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05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06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507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08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09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0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1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2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3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E91D-4A0A-43D5-8098-334919ADE40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grpSp>
        <p:nvGrpSpPr>
          <p:cNvPr id="556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57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58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59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0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1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2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3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4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5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6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7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8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9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570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4B75-804E-45FB-B1EC-36AD541532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6312"/>
            </a:gs>
            <a:gs pos="100000">
              <a:srgbClr val="5cac2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1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5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b8d1a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1a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325e11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7816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6b1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00f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58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bb3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a6d14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4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56312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98819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64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5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7d17"/>
                  </a:gs>
                  <a:gs pos="100000">
                    <a:srgbClr val="5cac2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5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ac20"/>
                  </a:gs>
                  <a:gs pos="100000">
                    <a:srgbClr val="6bb3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B9EE-249C-4A1A-8D6A-A053197206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694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65e2f"/>
                </a:gs>
                <a:gs pos="100000">
                  <a:srgbClr val="ffc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95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3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D06A-3EF8-41AC-B4FF-6248A1E4DDE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738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39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740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741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42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743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44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45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746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747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48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0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1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2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308C-9D8C-4DA2-B03E-F13E179A7119}" type="slidenum">
              <a:rPr b="0" lang="ru-RU" sz="1400" spc="-1" strike="noStrike">
                <a:solidFill>
                  <a:srgbClr val="33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64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66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67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F790-8B06-4756-A028-0BEF6336886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C526-26A2-491C-8C42-88C61855E1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3DE5-A62A-41BB-BDF5-C63F99EF82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grpSp>
        <p:nvGrpSpPr>
          <p:cNvPr id="164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5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6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0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1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3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4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5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6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7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17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6312"/>
            </a:gs>
            <a:gs pos="100000">
              <a:srgbClr val="5cac2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5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b8d1a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1a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325e11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7816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6b1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00f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58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bb3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a6d14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4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56312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5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5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98819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25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5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7d17"/>
                  </a:gs>
                  <a:gs pos="100000">
                    <a:srgbClr val="5cac2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5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ac20"/>
                  </a:gs>
                  <a:gs pos="100000">
                    <a:srgbClr val="6bb3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FDFB-E9A1-4C18-A414-BD285F1429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65e2f"/>
                </a:gs>
                <a:gs pos="100000">
                  <a:srgbClr val="ffc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9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6485-A587-4392-95F5-82A7F257F3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62A1-9E92-4DA5-82D0-5CC70F6BBBD4}" type="slidenum">
              <a:rPr b="0" lang="ru-RU" sz="1400" spc="-1" strike="noStrike">
                <a:solidFill>
                  <a:srgbClr val="33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4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4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4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4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5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5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5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5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5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35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87D6-A99B-447E-95FF-FB33AB6860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3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3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31CB-4656-4F35-A737-DBC92B94BDE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1.png"/><Relationship Id="rId5" Type="http://schemas.openxmlformats.org/officeDocument/2006/relationships/hyperlink" Target="file:///&#1052;&#1091;&#1079;&#1099;&#1082;&#1072;%20&#1074;%20XX%20&#1074;&#1077;&#1082;&#1077;.ppt" TargetMode="External"/><Relationship Id="rId6" Type="http://schemas.openxmlformats.org/officeDocument/2006/relationships/hyperlink" Target="file:///&#1052;&#1091;&#1079;&#1099;&#1082;&#1072;%20&#1074;%20XX%20&#1074;&#1077;&#1082;&#1077;.ppt" TargetMode="External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8.jpe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hyperlink" Target="file:///&#1052;&#1091;&#1079;&#1099;&#1082;&#1072;%20&#1074;%20XX%20&#1074;&#1077;&#1082;&#1077;.ppt" TargetMode="External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hyperlink" Target="file:///&#1052;&#1091;&#1079;&#1099;&#1082;&#1072;%20&#1074;%20XX%20&#1074;&#1077;&#1082;&#1077;.ppt" TargetMode="External"/><Relationship Id="rId5" Type="http://schemas.openxmlformats.org/officeDocument/2006/relationships/hyperlink" Target="file:///&#1052;&#1091;&#1079;&#1099;&#1082;&#1072;%20&#1074;%20XX%20&#1074;&#1077;&#1082;&#1077;.ppt" TargetMode="External"/><Relationship Id="rId6" Type="http://schemas.openxmlformats.org/officeDocument/2006/relationships/hyperlink" Target="file:///&#1052;&#1091;&#1079;&#1099;&#1082;&#1072;%20&#1074;%20XX%20&#1074;&#1077;&#1082;&#1077;.ppt" TargetMode="External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hyperlink" Target="file:///&#1052;&#1091;&#1079;&#1099;&#1082;&#1072;%20&#1074;%20XX%20&#1074;&#1077;&#1082;&#1077;.ppt" TargetMode="External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5"/>
          <p:cNvSpPr/>
          <p:nvPr/>
        </p:nvSpPr>
        <p:spPr>
          <a:xfrm>
            <a:off x="468360" y="476280"/>
            <a:ext cx="763272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аадаева Ирина Анатольевна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униципальное общеобразовательное учреждение «Средняя общеобразовательная школа №2 г. Лениногорска» Лениногорского муниципального района Республики Татарстан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итель музыки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квалификационная категория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рок музыки «Новые краски в музыке композиторов 20 века»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7 класс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Цели: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учить разграничивать понятия «классическая и современная музыка», «традиции и новаторство» в музыке композиторов 20 века;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меть находить общее в музыкальном языке разных композиторов и в воздействии их музыки на чувства людей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4140360" y="2204640"/>
            <a:ext cx="4176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енджамин Бриттен – это английский композитор, оперы которого стали известны всему миру. Его перу принадлежат такие произведения, как оперы «Питер Граймс», «Поругание Лукреции», «Сон в летнюю ночь», «Поворот винта», «Глориана», а также детские спектакли, хоры, написал много песен, балет «Принц Пагод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7" descr="Бенджамин Бриттен"/>
          <p:cNvPicPr/>
          <p:nvPr/>
        </p:nvPicPr>
        <p:blipFill>
          <a:blip r:embed="rId1"/>
          <a:stretch/>
        </p:blipFill>
        <p:spPr>
          <a:xfrm>
            <a:off x="1258920" y="2205000"/>
            <a:ext cx="2346120" cy="3510000"/>
          </a:xfrm>
          <a:prstGeom prst="rect">
            <a:avLst/>
          </a:prstGeom>
          <a:ln w="0">
            <a:noFill/>
          </a:ln>
        </p:spPr>
      </p:pic>
      <p:pic>
        <p:nvPicPr>
          <p:cNvPr id="848" name="WordArt 8" descr=""/>
          <p:cNvPicPr/>
          <p:nvPr/>
        </p:nvPicPr>
        <p:blipFill>
          <a:blip r:embed="rId2"/>
          <a:stretch/>
        </p:blipFill>
        <p:spPr>
          <a:xfrm>
            <a:off x="2335320" y="476280"/>
            <a:ext cx="4913280" cy="1303200"/>
          </a:xfrm>
          <a:prstGeom prst="rect">
            <a:avLst/>
          </a:prstGeom>
          <a:ln w="0">
            <a:noFill/>
          </a:ln>
        </p:spPr>
      </p:pic>
      <p:sp>
        <p:nvSpPr>
          <p:cNvPr id="8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424944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дно из лучших Бриттена, которое стало очень знаменито в Европе и Америке, - «Военный реквием». «Военный реквием» написан в форме заупокойной мессы. Бенджамин Бриттен был не только композитором, но и пианистом, дирижером, он писал книги о музыке. Личность композитора многогранна: он не только создатель оперных произведений, - трудно найти такой жанр, в котором бы не творил Бритт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5">
            <a:hlinkClick r:id="rId1"/>
          </p:cNvPr>
          <p:cNvSpPr/>
          <p:nvPr/>
        </p:nvSpPr>
        <p:spPr>
          <a:xfrm>
            <a:off x="7885080" y="581508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3837"/>
                </a:moveTo>
                <a:lnTo>
                  <a:pt x="15612" y="6448"/>
                </a:ln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lnTo>
                  <a:pt x="19999" y="10800"/>
                </a:lnTo>
                <a:lnTo>
                  <a:pt x="18345" y="10800"/>
                </a:lnTo>
                <a:lnTo>
                  <a:pt x="18345" y="17989"/>
                </a:lnTo>
                <a:lnTo>
                  <a:pt x="7727" y="17989"/>
                </a:lnTo>
                <a:lnTo>
                  <a:pt x="7727" y="10800"/>
                </a:lnTo>
                <a:lnTo>
                  <a:pt x="6073" y="10800"/>
                </a:lnTo>
                <a:close/>
              </a:path>
              <a:path fill="darkenLess" w="26072" h="21600">
                <a:moveTo>
                  <a:pt x="15612" y="6448"/>
                </a:move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close/>
              </a:path>
              <a:path fill="darkenLess" w="26072" h="21600">
                <a:moveTo>
                  <a:pt x="12113" y="14299"/>
                </a:moveTo>
                <a:lnTo>
                  <a:pt x="13959" y="14299"/>
                </a:lnTo>
                <a:lnTo>
                  <a:pt x="13959" y="17989"/>
                </a:lnTo>
                <a:lnTo>
                  <a:pt x="18345" y="17989"/>
                </a:lnTo>
                <a:lnTo>
                  <a:pt x="18345" y="10800"/>
                </a:lnTo>
                <a:lnTo>
                  <a:pt x="7727" y="10800"/>
                </a:lnTo>
                <a:lnTo>
                  <a:pt x="7727" y="17989"/>
                </a:lnTo>
                <a:lnTo>
                  <a:pt x="12113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52" name="Picture 6" descr="Бриттен"/>
          <p:cNvPicPr/>
          <p:nvPr/>
        </p:nvPicPr>
        <p:blipFill>
          <a:blip r:embed="rId2"/>
          <a:stretch/>
        </p:blipFill>
        <p:spPr>
          <a:xfrm>
            <a:off x="5796000" y="1557360"/>
            <a:ext cx="2425680" cy="3267000"/>
          </a:xfrm>
          <a:prstGeom prst="rect">
            <a:avLst/>
          </a:prstGeom>
          <a:ln w="0">
            <a:noFill/>
          </a:ln>
        </p:spPr>
      </p:pic>
      <p:sp>
        <p:nvSpPr>
          <p:cNvPr id="8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/>
          </p:nvPr>
        </p:nvSpPr>
        <p:spPr>
          <a:xfrm>
            <a:off x="4140000" y="2276280"/>
            <a:ext cx="4392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Дмитрий Шостакович родился в Петербурге 25 ноября 1906 года. Детство Шостаковича связано с крупнейшими историческими событиями века – первой империалистической войной  и Великой социалистической революцией. Многоплановое, разнообразное по жанрам творчество Шостаковича признано классикой отечественной и мировой музыкальной культуры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века.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5" descr="Шостакович 1"/>
          <p:cNvPicPr/>
          <p:nvPr/>
        </p:nvPicPr>
        <p:blipFill>
          <a:blip r:embed="rId1"/>
          <a:stretch/>
        </p:blipFill>
        <p:spPr>
          <a:xfrm>
            <a:off x="826920" y="2492280"/>
            <a:ext cx="2900520" cy="3435480"/>
          </a:xfrm>
          <a:prstGeom prst="rect">
            <a:avLst/>
          </a:prstGeom>
          <a:ln w="0">
            <a:noFill/>
          </a:ln>
        </p:spPr>
      </p:pic>
      <p:pic>
        <p:nvPicPr>
          <p:cNvPr id="856" name="WordArt 6" descr=""/>
          <p:cNvPicPr/>
          <p:nvPr/>
        </p:nvPicPr>
        <p:blipFill>
          <a:blip r:embed="rId2"/>
          <a:stretch/>
        </p:blipFill>
        <p:spPr>
          <a:xfrm>
            <a:off x="2120760" y="615960"/>
            <a:ext cx="5370480" cy="1309680"/>
          </a:xfrm>
          <a:prstGeom prst="rect">
            <a:avLst/>
          </a:prstGeom>
          <a:ln w="0">
            <a:noFill/>
          </a:ln>
        </p:spPr>
      </p:pic>
      <p:sp>
        <p:nvSpPr>
          <p:cNvPr id="8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67676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К его перу принадлежит множество произведений, в том числе – оперы «Нос», «Катерина Измайлова», балет «Золотой век», 15 симфоний, увертюры, музыка к спектаклям и кинофильмам («Овод», «Гамлет») и очень много других произведений. Самым знаменитым произведением стала симфония №7, которая называется «Ленинградска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4">
            <a:hlinkClick r:id="rId1"/>
          </p:cNvPr>
          <p:cNvSpPr/>
          <p:nvPr/>
        </p:nvSpPr>
        <p:spPr>
          <a:xfrm>
            <a:off x="7812000" y="5815080"/>
            <a:ext cx="1332000" cy="1042920"/>
          </a:xfrm>
          <a:custGeom>
            <a:avLst/>
            <a:gdLst>
              <a:gd name="textAreaLeft" fmla="*/ 67320 w 1332000"/>
              <a:gd name="textAreaRight" fmla="*/ 1264680 w 1332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7585" h="21600">
                <a:moveTo>
                  <a:pt x="0" y="0"/>
                </a:moveTo>
                <a:lnTo>
                  <a:pt x="27585" y="0"/>
                </a:lnTo>
                <a:lnTo>
                  <a:pt x="27585" y="21600"/>
                </a:lnTo>
                <a:lnTo>
                  <a:pt x="0" y="21600"/>
                </a:lnTo>
                <a:close/>
              </a:path>
              <a:path fill="lightenLess" w="27585" h="21600">
                <a:moveTo>
                  <a:pt x="0" y="0"/>
                </a:moveTo>
                <a:lnTo>
                  <a:pt x="27585" y="0"/>
                </a:lnTo>
                <a:lnTo>
                  <a:pt x="26185" y="1400"/>
                </a:lnTo>
                <a:lnTo>
                  <a:pt x="1400" y="1400"/>
                </a:lnTo>
                <a:close/>
              </a:path>
              <a:path fill="darken" w="27585" h="21600">
                <a:moveTo>
                  <a:pt x="27585" y="0"/>
                </a:moveTo>
                <a:lnTo>
                  <a:pt x="27585" y="21600"/>
                </a:lnTo>
                <a:lnTo>
                  <a:pt x="26185" y="20200"/>
                </a:lnTo>
                <a:lnTo>
                  <a:pt x="26185" y="1400"/>
                </a:lnTo>
                <a:close/>
              </a:path>
              <a:path fill="darkenLess" w="27585" h="21600">
                <a:moveTo>
                  <a:pt x="27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85" y="20200"/>
                </a:lnTo>
                <a:close/>
              </a:path>
              <a:path fill="lighten" w="27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85" h="21600">
                <a:moveTo>
                  <a:pt x="13793" y="3837"/>
                </a:moveTo>
                <a:lnTo>
                  <a:pt x="16369" y="6448"/>
                </a:lnTo>
                <a:lnTo>
                  <a:pt x="16369" y="4707"/>
                </a:lnTo>
                <a:lnTo>
                  <a:pt x="18144" y="4707"/>
                </a:lnTo>
                <a:lnTo>
                  <a:pt x="18144" y="8224"/>
                </a:lnTo>
                <a:lnTo>
                  <a:pt x="20756" y="10800"/>
                </a:lnTo>
                <a:lnTo>
                  <a:pt x="19102" y="10800"/>
                </a:lnTo>
                <a:lnTo>
                  <a:pt x="19102" y="17989"/>
                </a:lnTo>
                <a:lnTo>
                  <a:pt x="8483" y="17989"/>
                </a:lnTo>
                <a:lnTo>
                  <a:pt x="8483" y="10800"/>
                </a:lnTo>
                <a:lnTo>
                  <a:pt x="6830" y="10800"/>
                </a:lnTo>
                <a:close/>
              </a:path>
              <a:path fill="darkenLess" w="27585" h="21600">
                <a:moveTo>
                  <a:pt x="16369" y="6448"/>
                </a:moveTo>
                <a:lnTo>
                  <a:pt x="16369" y="4707"/>
                </a:lnTo>
                <a:lnTo>
                  <a:pt x="18144" y="4707"/>
                </a:lnTo>
                <a:lnTo>
                  <a:pt x="18144" y="8224"/>
                </a:lnTo>
                <a:close/>
              </a:path>
              <a:path fill="darkenLess" w="27585" h="21600">
                <a:moveTo>
                  <a:pt x="12870" y="14299"/>
                </a:moveTo>
                <a:lnTo>
                  <a:pt x="14715" y="14299"/>
                </a:lnTo>
                <a:lnTo>
                  <a:pt x="14715" y="17989"/>
                </a:lnTo>
                <a:lnTo>
                  <a:pt x="19102" y="17989"/>
                </a:lnTo>
                <a:lnTo>
                  <a:pt x="19102" y="10800"/>
                </a:lnTo>
                <a:lnTo>
                  <a:pt x="8483" y="10800"/>
                </a:lnTo>
                <a:lnTo>
                  <a:pt x="8483" y="17989"/>
                </a:lnTo>
                <a:lnTo>
                  <a:pt x="12870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60" name="Picture 6" descr="Шостакович"/>
          <p:cNvPicPr/>
          <p:nvPr/>
        </p:nvPicPr>
        <p:blipFill>
          <a:blip r:embed="rId2"/>
          <a:stretch/>
        </p:blipFill>
        <p:spPr>
          <a:xfrm>
            <a:off x="2484360" y="3573360"/>
            <a:ext cx="3984840" cy="2781360"/>
          </a:xfrm>
          <a:prstGeom prst="rect">
            <a:avLst/>
          </a:prstGeom>
          <a:ln w="0">
            <a:noFill/>
          </a:ln>
        </p:spPr>
      </p:pic>
      <p:sp>
        <p:nvSpPr>
          <p:cNvPr id="8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61196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Описание на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7">
            <a:hlinkClick r:id="rId1"/>
          </p:cNvPr>
          <p:cNvSpPr/>
          <p:nvPr/>
        </p:nvSpPr>
        <p:spPr>
          <a:xfrm>
            <a:off x="611280" y="1916280"/>
            <a:ext cx="5257800" cy="576000"/>
          </a:xfrm>
          <a:custGeom>
            <a:avLst/>
            <a:gdLst>
              <a:gd name="textAreaLeft" fmla="*/ 37080 w 5257800"/>
              <a:gd name="textAreaRight" fmla="*/ 5220720 w 52578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97058" h="21600">
                <a:moveTo>
                  <a:pt x="0" y="0"/>
                </a:moveTo>
                <a:lnTo>
                  <a:pt x="197058" y="0"/>
                </a:lnTo>
                <a:lnTo>
                  <a:pt x="197058" y="21600"/>
                </a:lnTo>
                <a:lnTo>
                  <a:pt x="0" y="21600"/>
                </a:lnTo>
                <a:close/>
              </a:path>
              <a:path fill="lightenLess" w="197058" h="21600">
                <a:moveTo>
                  <a:pt x="0" y="0"/>
                </a:moveTo>
                <a:lnTo>
                  <a:pt x="197058" y="0"/>
                </a:lnTo>
                <a:lnTo>
                  <a:pt x="195658" y="1400"/>
                </a:lnTo>
                <a:lnTo>
                  <a:pt x="1400" y="1400"/>
                </a:lnTo>
                <a:close/>
              </a:path>
              <a:path fill="darken" w="197058" h="21600">
                <a:moveTo>
                  <a:pt x="197058" y="0"/>
                </a:moveTo>
                <a:lnTo>
                  <a:pt x="197058" y="21600"/>
                </a:lnTo>
                <a:lnTo>
                  <a:pt x="195658" y="20200"/>
                </a:lnTo>
                <a:lnTo>
                  <a:pt x="195658" y="1400"/>
                </a:lnTo>
                <a:close/>
              </a:path>
              <a:path fill="darkenLess" w="197058" h="21600">
                <a:moveTo>
                  <a:pt x="1970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658" y="20200"/>
                </a:lnTo>
                <a:close/>
              </a:path>
              <a:path fill="lighten" w="1970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97058" h="21600">
                <a:moveTo>
                  <a:pt x="91522" y="3794"/>
                </a:moveTo>
                <a:lnTo>
                  <a:pt x="105535" y="10800"/>
                </a:lnTo>
                <a:lnTo>
                  <a:pt x="9152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64" name="AutoShape 8">
            <a:hlinkClick r:id="rId2"/>
          </p:cNvPr>
          <p:cNvSpPr/>
          <p:nvPr/>
        </p:nvSpPr>
        <p:spPr>
          <a:xfrm>
            <a:off x="539640" y="2492280"/>
            <a:ext cx="5473800" cy="576360"/>
          </a:xfrm>
          <a:custGeom>
            <a:avLst/>
            <a:gdLst>
              <a:gd name="textAreaLeft" fmla="*/ 37080 w 5473800"/>
              <a:gd name="textAreaRight" fmla="*/ 5436720 w 54738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05025" h="21600">
                <a:moveTo>
                  <a:pt x="0" y="0"/>
                </a:moveTo>
                <a:lnTo>
                  <a:pt x="205025" y="0"/>
                </a:lnTo>
                <a:lnTo>
                  <a:pt x="205025" y="21600"/>
                </a:lnTo>
                <a:lnTo>
                  <a:pt x="0" y="21600"/>
                </a:lnTo>
                <a:close/>
              </a:path>
              <a:path fill="lightenLess" w="205025" h="21600">
                <a:moveTo>
                  <a:pt x="0" y="0"/>
                </a:moveTo>
                <a:lnTo>
                  <a:pt x="205025" y="0"/>
                </a:lnTo>
                <a:lnTo>
                  <a:pt x="203625" y="1400"/>
                </a:lnTo>
                <a:lnTo>
                  <a:pt x="1400" y="1400"/>
                </a:lnTo>
                <a:close/>
              </a:path>
              <a:path fill="darken" w="205025" h="21600">
                <a:moveTo>
                  <a:pt x="205025" y="0"/>
                </a:moveTo>
                <a:lnTo>
                  <a:pt x="205025" y="21600"/>
                </a:lnTo>
                <a:lnTo>
                  <a:pt x="203625" y="20200"/>
                </a:lnTo>
                <a:lnTo>
                  <a:pt x="203625" y="1400"/>
                </a:lnTo>
                <a:close/>
              </a:path>
              <a:path fill="darkenLess" w="205025" h="21600">
                <a:moveTo>
                  <a:pt x="205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625" y="20200"/>
                </a:lnTo>
                <a:close/>
              </a:path>
              <a:path fill="lighten" w="205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05025" h="21600">
                <a:moveTo>
                  <a:pt x="95506" y="3794"/>
                </a:moveTo>
                <a:lnTo>
                  <a:pt x="109519" y="10800"/>
                </a:lnTo>
                <a:lnTo>
                  <a:pt x="955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65" name="WordArt 10" descr=""/>
          <p:cNvPicPr/>
          <p:nvPr/>
        </p:nvPicPr>
        <p:blipFill>
          <a:blip r:embed="rId3"/>
          <a:stretch/>
        </p:blipFill>
        <p:spPr>
          <a:xfrm>
            <a:off x="1755720" y="469800"/>
            <a:ext cx="5529240" cy="11574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3" descr="импр 1"/>
          <p:cNvPicPr/>
          <p:nvPr/>
        </p:nvPicPr>
        <p:blipFill>
          <a:blip r:embed="rId4"/>
          <a:stretch/>
        </p:blipFill>
        <p:spPr>
          <a:xfrm>
            <a:off x="4427640" y="3573360"/>
            <a:ext cx="3541680" cy="2855880"/>
          </a:xfrm>
          <a:prstGeom prst="rect">
            <a:avLst/>
          </a:prstGeom>
          <a:ln w="0">
            <a:noFill/>
          </a:ln>
        </p:spPr>
      </p:pic>
      <p:sp>
        <p:nvSpPr>
          <p:cNvPr id="8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610920" y="1700280"/>
            <a:ext cx="784836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рессионизм – это направление во многом контрастный и по содержанию и по средствам выразительности остальным направлениям. Почти все музыкальные направления появились из искусства. По своему содержанию это своеобразный художественный протест против подавления человека буржуазным обществам, против милитаризма, мещ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WordArt 5" descr=""/>
          <p:cNvPicPr/>
          <p:nvPr/>
        </p:nvPicPr>
        <p:blipFill>
          <a:blip r:embed="rId1"/>
          <a:stretch/>
        </p:blipFill>
        <p:spPr>
          <a:xfrm>
            <a:off x="1474920" y="549360"/>
            <a:ext cx="6492600" cy="69372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7" descr="picture"/>
          <p:cNvPicPr/>
          <p:nvPr/>
        </p:nvPicPr>
        <p:blipFill>
          <a:blip r:embed="rId2"/>
          <a:stretch/>
        </p:blipFill>
        <p:spPr>
          <a:xfrm>
            <a:off x="2843280" y="4149720"/>
            <a:ext cx="3822480" cy="2314440"/>
          </a:xfrm>
          <a:prstGeom prst="rect">
            <a:avLst/>
          </a:prstGeom>
          <a:ln w="0">
            <a:noFill/>
          </a:ln>
        </p:spPr>
      </p:pic>
      <p:sp>
        <p:nvSpPr>
          <p:cNvPr id="8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8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4968720" cy="53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яркое воплощение экспрессионизма у таких композиторов, как А. Шёнберг, А. Веберн, А. Скрябина. Эти и другие композиторы пытались ярко и правдиво отразить сложнейшие социально-эстетические, идейно-эстетические и психологические конфликты эпохи, остроту противоречивого мышления художника в буржуазном обществе, его смятенность. Экспрессионисты отстаивали право художника на свою действительность, так как считали художнический мир реальным и правдивым, чем мир, окружающий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Picture 4" descr="Антон Веберн"/>
          <p:cNvPicPr/>
          <p:nvPr/>
        </p:nvPicPr>
        <p:blipFill>
          <a:blip r:embed="rId1"/>
          <a:stretch/>
        </p:blipFill>
        <p:spPr>
          <a:xfrm>
            <a:off x="5867280" y="1341360"/>
            <a:ext cx="2522520" cy="323064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5"/>
          <p:cNvSpPr/>
          <p:nvPr/>
        </p:nvSpPr>
        <p:spPr>
          <a:xfrm>
            <a:off x="6229440" y="458064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Антон Веберн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75" name="AutoShape 7">
            <a:hlinkClick r:id="rId2"/>
          </p:cNvPr>
          <p:cNvSpPr/>
          <p:nvPr/>
        </p:nvSpPr>
        <p:spPr>
          <a:xfrm>
            <a:off x="8101080" y="580536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Арнольд Шенбе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Александр Скряб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4" descr="Арнольд Шёнберг"/>
          <p:cNvPicPr/>
          <p:nvPr/>
        </p:nvPicPr>
        <p:blipFill>
          <a:blip r:embed="rId1"/>
          <a:stretch/>
        </p:blipFill>
        <p:spPr>
          <a:xfrm>
            <a:off x="5508720" y="1557360"/>
            <a:ext cx="1854000" cy="2131920"/>
          </a:xfrm>
          <a:prstGeom prst="rect">
            <a:avLst/>
          </a:prstGeom>
          <a:ln w="0">
            <a:noFill/>
          </a:ln>
        </p:spPr>
      </p:pic>
      <p:sp>
        <p:nvSpPr>
          <p:cNvPr id="879" name="AutoShape 6">
            <a:hlinkClick r:id="rId2"/>
          </p:cNvPr>
          <p:cNvSpPr/>
          <p:nvPr/>
        </p:nvSpPr>
        <p:spPr>
          <a:xfrm>
            <a:off x="2050920" y="1484280"/>
            <a:ext cx="2376720" cy="1079640"/>
          </a:xfrm>
          <a:custGeom>
            <a:avLst/>
            <a:gdLst>
              <a:gd name="textAreaLeft" fmla="*/ 69840 w 2376720"/>
              <a:gd name="textAreaRight" fmla="*/ 2306880 w 237672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47542" h="21600">
                <a:moveTo>
                  <a:pt x="0" y="0"/>
                </a:moveTo>
                <a:lnTo>
                  <a:pt x="47542" y="0"/>
                </a:lnTo>
                <a:lnTo>
                  <a:pt x="47542" y="21600"/>
                </a:lnTo>
                <a:lnTo>
                  <a:pt x="0" y="21600"/>
                </a:lnTo>
                <a:close/>
              </a:path>
              <a:path fill="lightenLess" w="47542" h="21600">
                <a:moveTo>
                  <a:pt x="0" y="0"/>
                </a:moveTo>
                <a:lnTo>
                  <a:pt x="47542" y="0"/>
                </a:lnTo>
                <a:lnTo>
                  <a:pt x="46142" y="1400"/>
                </a:lnTo>
                <a:lnTo>
                  <a:pt x="1400" y="1400"/>
                </a:lnTo>
                <a:close/>
              </a:path>
              <a:path fill="darken" w="47542" h="21600">
                <a:moveTo>
                  <a:pt x="47542" y="0"/>
                </a:moveTo>
                <a:lnTo>
                  <a:pt x="47542" y="21600"/>
                </a:lnTo>
                <a:lnTo>
                  <a:pt x="46142" y="20200"/>
                </a:lnTo>
                <a:lnTo>
                  <a:pt x="46142" y="1400"/>
                </a:lnTo>
                <a:close/>
              </a:path>
              <a:path fill="darkenLess" w="47542" h="21600">
                <a:moveTo>
                  <a:pt x="4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42" y="20200"/>
                </a:lnTo>
                <a:close/>
              </a:path>
              <a:path fill="lighten" w="4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42" h="21600">
                <a:moveTo>
                  <a:pt x="16764" y="3794"/>
                </a:moveTo>
                <a:lnTo>
                  <a:pt x="30777" y="10800"/>
                </a:lnTo>
                <a:lnTo>
                  <a:pt x="1676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80" name="AutoShape 7">
            <a:hlinkClick r:id="rId3"/>
          </p:cNvPr>
          <p:cNvSpPr/>
          <p:nvPr/>
        </p:nvSpPr>
        <p:spPr>
          <a:xfrm>
            <a:off x="2124000" y="400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81" name="Picture 9" descr="scriabin"/>
          <p:cNvPicPr/>
          <p:nvPr/>
        </p:nvPicPr>
        <p:blipFill>
          <a:blip r:embed="rId4"/>
          <a:stretch/>
        </p:blipFill>
        <p:spPr>
          <a:xfrm>
            <a:off x="5292720" y="3933720"/>
            <a:ext cx="2227320" cy="2470320"/>
          </a:xfrm>
          <a:prstGeom prst="rect">
            <a:avLst/>
          </a:prstGeom>
          <a:ln w="0">
            <a:noFill/>
          </a:ln>
        </p:spPr>
      </p:pic>
      <p:sp>
        <p:nvSpPr>
          <p:cNvPr id="882" name="AutoShape 10">
            <a:hlinkClick r:id="rId5"/>
          </p:cNvPr>
          <p:cNvSpPr/>
          <p:nvPr/>
        </p:nvSpPr>
        <p:spPr>
          <a:xfrm>
            <a:off x="826920" y="1700280"/>
            <a:ext cx="3745080" cy="755640"/>
          </a:xfrm>
          <a:custGeom>
            <a:avLst/>
            <a:gdLst>
              <a:gd name="textAreaLeft" fmla="*/ 48960 w 3745080"/>
              <a:gd name="textAreaRight" fmla="*/ 3696120 w 374508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107013" h="21600">
                <a:moveTo>
                  <a:pt x="0" y="0"/>
                </a:moveTo>
                <a:lnTo>
                  <a:pt x="107013" y="0"/>
                </a:lnTo>
                <a:lnTo>
                  <a:pt x="107013" y="21600"/>
                </a:lnTo>
                <a:lnTo>
                  <a:pt x="0" y="21600"/>
                </a:lnTo>
                <a:close/>
              </a:path>
              <a:path fill="lightenLess" w="107013" h="21600">
                <a:moveTo>
                  <a:pt x="0" y="0"/>
                </a:moveTo>
                <a:lnTo>
                  <a:pt x="107013" y="0"/>
                </a:lnTo>
                <a:lnTo>
                  <a:pt x="105613" y="1400"/>
                </a:lnTo>
                <a:lnTo>
                  <a:pt x="1400" y="1400"/>
                </a:lnTo>
                <a:close/>
              </a:path>
              <a:path fill="darken" w="107013" h="21600">
                <a:moveTo>
                  <a:pt x="107013" y="0"/>
                </a:moveTo>
                <a:lnTo>
                  <a:pt x="107013" y="21600"/>
                </a:lnTo>
                <a:lnTo>
                  <a:pt x="105613" y="20200"/>
                </a:lnTo>
                <a:lnTo>
                  <a:pt x="105613" y="1400"/>
                </a:lnTo>
                <a:close/>
              </a:path>
              <a:path fill="darkenLess" w="107013" h="21600">
                <a:moveTo>
                  <a:pt x="107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5613" y="20200"/>
                </a:lnTo>
                <a:close/>
              </a:path>
              <a:path fill="lighten" w="107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013" h="21600">
                <a:moveTo>
                  <a:pt x="46500" y="3794"/>
                </a:moveTo>
                <a:lnTo>
                  <a:pt x="60513" y="10800"/>
                </a:lnTo>
                <a:lnTo>
                  <a:pt x="465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83" name="AutoShape 11">
            <a:hlinkClick r:id="rId6"/>
          </p:cNvPr>
          <p:cNvSpPr/>
          <p:nvPr/>
        </p:nvSpPr>
        <p:spPr>
          <a:xfrm>
            <a:off x="900000" y="4437000"/>
            <a:ext cx="3888000" cy="682560"/>
          </a:xfrm>
          <a:custGeom>
            <a:avLst/>
            <a:gdLst>
              <a:gd name="textAreaLeft" fmla="*/ 43920 w 3888000"/>
              <a:gd name="textAreaRight" fmla="*/ 3844080 w 388800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122985" h="21600">
                <a:moveTo>
                  <a:pt x="0" y="0"/>
                </a:moveTo>
                <a:lnTo>
                  <a:pt x="122985" y="0"/>
                </a:lnTo>
                <a:lnTo>
                  <a:pt x="122985" y="21600"/>
                </a:lnTo>
                <a:lnTo>
                  <a:pt x="0" y="21600"/>
                </a:lnTo>
                <a:close/>
              </a:path>
              <a:path fill="lightenLess" w="122985" h="21600">
                <a:moveTo>
                  <a:pt x="0" y="0"/>
                </a:moveTo>
                <a:lnTo>
                  <a:pt x="122985" y="0"/>
                </a:lnTo>
                <a:lnTo>
                  <a:pt x="121585" y="1400"/>
                </a:lnTo>
                <a:lnTo>
                  <a:pt x="1400" y="1400"/>
                </a:lnTo>
                <a:close/>
              </a:path>
              <a:path fill="darken" w="122985" h="21600">
                <a:moveTo>
                  <a:pt x="122985" y="0"/>
                </a:moveTo>
                <a:lnTo>
                  <a:pt x="122985" y="21600"/>
                </a:lnTo>
                <a:lnTo>
                  <a:pt x="121585" y="20200"/>
                </a:lnTo>
                <a:lnTo>
                  <a:pt x="121585" y="1400"/>
                </a:lnTo>
                <a:close/>
              </a:path>
              <a:path fill="darkenLess" w="122985" h="21600">
                <a:moveTo>
                  <a:pt x="122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85" y="20200"/>
                </a:lnTo>
                <a:close/>
              </a:path>
              <a:path fill="lighten" w="122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985" h="21600">
                <a:moveTo>
                  <a:pt x="54486" y="3794"/>
                </a:moveTo>
                <a:lnTo>
                  <a:pt x="68499" y="10800"/>
                </a:lnTo>
                <a:lnTo>
                  <a:pt x="5448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84" name="WordArt 14" descr=""/>
          <p:cNvPicPr/>
          <p:nvPr/>
        </p:nvPicPr>
        <p:blipFill>
          <a:blip r:embed="rId7"/>
          <a:stretch/>
        </p:blipFill>
        <p:spPr>
          <a:xfrm>
            <a:off x="1042920" y="549360"/>
            <a:ext cx="7021440" cy="798480"/>
          </a:xfrm>
          <a:prstGeom prst="rect">
            <a:avLst/>
          </a:prstGeom>
          <a:ln w="0">
            <a:noFill/>
          </a:ln>
        </p:spPr>
      </p:pic>
      <p:sp>
        <p:nvSpPr>
          <p:cNvPr id="8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/>
          </p:nvPr>
        </p:nvSpPr>
        <p:spPr>
          <a:xfrm>
            <a:off x="4642920" y="2420640"/>
            <a:ext cx="39610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Арнольд Шёнберг был австрийским композитором, педагогом, дирижер, художник. Творчество одного из крупнейших композиторов современности, главы «Новой венской школы». Все это сформировалось под воздействием эстетики символизма, австро-немецкого экспрессио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4" descr="Арнольд Шёнберг"/>
          <p:cNvPicPr/>
          <p:nvPr/>
        </p:nvPicPr>
        <p:blipFill>
          <a:blip r:embed="rId2"/>
          <a:stretch/>
        </p:blipFill>
        <p:spPr>
          <a:xfrm>
            <a:off x="971640" y="2276640"/>
            <a:ext cx="3476520" cy="4000320"/>
          </a:xfrm>
          <a:prstGeom prst="rect">
            <a:avLst/>
          </a:prstGeom>
          <a:ln w="0">
            <a:noFill/>
          </a:ln>
        </p:spPr>
      </p:pic>
      <p:pic>
        <p:nvPicPr>
          <p:cNvPr id="888" name="WordArt 5" descr=""/>
          <p:cNvPicPr/>
          <p:nvPr/>
        </p:nvPicPr>
        <p:blipFill>
          <a:blip r:embed="rId3"/>
          <a:stretch/>
        </p:blipFill>
        <p:spPr>
          <a:xfrm>
            <a:off x="2620800" y="476280"/>
            <a:ext cx="4449960" cy="1303200"/>
          </a:xfrm>
          <a:prstGeom prst="rect">
            <a:avLst/>
          </a:prstGeom>
          <a:ln w="0">
            <a:noFill/>
          </a:ln>
        </p:spPr>
      </p:pic>
      <p:sp>
        <p:nvSpPr>
          <p:cNvPr id="8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500364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оиски в области музыкально-выразительных средств привели Шёнберга к созданию метода додекафонии, оказавшего значительное воздействие на музыкальное искусство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ека. Среди произведений: оперы «Счастливая рука», «Ожидание», С сегодня на завтра», 2 камерные симфонии, а также множество других произведений. При всей сложности и противоречности творческих устремлений Шёнберга его музыка – одно из творческих устремлений явлений в искусстве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ека, отразившего дух и веяния свое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4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92" name="AutoShape 5">
            <a:hlinkClick r:id="rId3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93" name="Picture 6" descr="Шёнберг"/>
          <p:cNvPicPr/>
          <p:nvPr/>
        </p:nvPicPr>
        <p:blipFill>
          <a:blip r:embed="rId4"/>
          <a:stretch/>
        </p:blipFill>
        <p:spPr>
          <a:xfrm>
            <a:off x="5724360" y="1628640"/>
            <a:ext cx="2170440" cy="3019680"/>
          </a:xfrm>
          <a:prstGeom prst="rect">
            <a:avLst/>
          </a:prstGeom>
          <a:ln w="0">
            <a:noFill/>
          </a:ln>
        </p:spPr>
      </p:pic>
      <p:sp>
        <p:nvSpPr>
          <p:cNvPr id="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WordArt 4" descr=""/>
          <p:cNvPicPr/>
          <p:nvPr/>
        </p:nvPicPr>
        <p:blipFill>
          <a:blip r:embed="rId1"/>
          <a:stretch/>
        </p:blipFill>
        <p:spPr>
          <a:xfrm>
            <a:off x="1609560" y="1689120"/>
            <a:ext cx="6102360" cy="2724120"/>
          </a:xfrm>
          <a:prstGeom prst="rect">
            <a:avLst/>
          </a:prstGeom>
          <a:ln w="0">
            <a:noFill/>
          </a:ln>
        </p:spPr>
      </p:pic>
      <p:sp>
        <p:nvSpPr>
          <p:cNvPr id="8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5003280" y="2492280"/>
            <a:ext cx="34052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крябин был русским композитором, педагогом, пианистом. Один из крупнейших мастеров музыкальной культуры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толетия, яркий и своеобразный мыслитель. Скрябин направил все свои помыслы на переустройства искусства и миропорядка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5" descr="скр1"/>
          <p:cNvPicPr/>
          <p:nvPr/>
        </p:nvPicPr>
        <p:blipFill>
          <a:blip r:embed="rId2"/>
          <a:stretch/>
        </p:blipFill>
        <p:spPr>
          <a:xfrm>
            <a:off x="900000" y="2421000"/>
            <a:ext cx="3175200" cy="3759120"/>
          </a:xfrm>
          <a:prstGeom prst="rect">
            <a:avLst/>
          </a:prstGeom>
          <a:ln w="0">
            <a:noFill/>
          </a:ln>
        </p:spPr>
      </p:pic>
      <p:pic>
        <p:nvPicPr>
          <p:cNvPr id="897" name="WordArt 6" descr=""/>
          <p:cNvPicPr/>
          <p:nvPr/>
        </p:nvPicPr>
        <p:blipFill>
          <a:blip r:embed="rId3"/>
          <a:stretch/>
        </p:blipFill>
        <p:spPr>
          <a:xfrm>
            <a:off x="2481120" y="476280"/>
            <a:ext cx="4803840" cy="1303200"/>
          </a:xfrm>
          <a:prstGeom prst="rect">
            <a:avLst/>
          </a:prstGeom>
          <a:ln w="0">
            <a:noFill/>
          </a:ln>
        </p:spPr>
      </p:pic>
      <p:sp>
        <p:nvSpPr>
          <p:cNvPr id="8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432108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крябинское творчество представляет собой оригинальную художественную систему, в которой волевые порывы, героическая устремлённость в неведомые миры сочетаются с изысканной, хрупкой одухотворенностью – все средства в его музыке всходят к неповторимо индивидуальной организации. Автор 3 симфоний, оркестровых поэм «Мечты», «Поэма экстаза», «Прометей», фортепианного концерта и других произвед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4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01" name="AutoShape 5">
            <a:hlinkClick r:id="rId3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02" name="Picture 6" descr="Скрябин"/>
          <p:cNvPicPr/>
          <p:nvPr/>
        </p:nvPicPr>
        <p:blipFill>
          <a:blip r:embed="rId4"/>
          <a:stretch/>
        </p:blipFill>
        <p:spPr>
          <a:xfrm>
            <a:off x="5580000" y="1341360"/>
            <a:ext cx="2706840" cy="3519720"/>
          </a:xfrm>
          <a:prstGeom prst="rect">
            <a:avLst/>
          </a:prstGeom>
          <a:ln w="0">
            <a:noFill/>
          </a:ln>
        </p:spPr>
      </p:pic>
      <p:sp>
        <p:nvSpPr>
          <p:cNvPr id="9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dc78"/>
              </a:buClr>
              <a:buSzPct val="90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dc78"/>
                </a:solidFill>
                <a:latin typeface="Arial"/>
              </a:rPr>
              <a:t>Определение на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dc78"/>
              </a:buClr>
              <a:buSzPct val="90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dc78"/>
                </a:solidFill>
                <a:latin typeface="Arial"/>
              </a:rPr>
              <a:t>Советский дж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dc78"/>
              </a:buClr>
              <a:buSzPct val="90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dc78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AutoShape 4">
            <a:hlinkClick r:id="rId1"/>
          </p:cNvPr>
          <p:cNvSpPr/>
          <p:nvPr/>
        </p:nvSpPr>
        <p:spPr>
          <a:xfrm>
            <a:off x="900000" y="1989000"/>
            <a:ext cx="6121440" cy="576360"/>
          </a:xfrm>
          <a:custGeom>
            <a:avLst/>
            <a:gdLst>
              <a:gd name="textAreaLeft" fmla="*/ 37080 w 6121440"/>
              <a:gd name="textAreaRight" fmla="*/ 6084360 w 6121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29281" h="21600">
                <a:moveTo>
                  <a:pt x="0" y="0"/>
                </a:moveTo>
                <a:lnTo>
                  <a:pt x="229281" y="0"/>
                </a:lnTo>
                <a:lnTo>
                  <a:pt x="229281" y="21600"/>
                </a:lnTo>
                <a:lnTo>
                  <a:pt x="0" y="21600"/>
                </a:lnTo>
                <a:close/>
              </a:path>
              <a:path fill="lightenLess" w="229281" h="21600">
                <a:moveTo>
                  <a:pt x="0" y="0"/>
                </a:moveTo>
                <a:lnTo>
                  <a:pt x="229281" y="0"/>
                </a:lnTo>
                <a:lnTo>
                  <a:pt x="227881" y="1400"/>
                </a:lnTo>
                <a:lnTo>
                  <a:pt x="1400" y="1400"/>
                </a:lnTo>
                <a:close/>
              </a:path>
              <a:path fill="darken" w="229281" h="21600">
                <a:moveTo>
                  <a:pt x="229281" y="0"/>
                </a:moveTo>
                <a:lnTo>
                  <a:pt x="229281" y="21600"/>
                </a:lnTo>
                <a:lnTo>
                  <a:pt x="227881" y="20200"/>
                </a:lnTo>
                <a:lnTo>
                  <a:pt x="227881" y="1400"/>
                </a:lnTo>
                <a:close/>
              </a:path>
              <a:path fill="darkenLess" w="229281" h="21600">
                <a:moveTo>
                  <a:pt x="229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1" y="20200"/>
                </a:lnTo>
                <a:close/>
              </a:path>
              <a:path fill="lighten" w="229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281" h="21600">
                <a:moveTo>
                  <a:pt x="107634" y="3794"/>
                </a:moveTo>
                <a:lnTo>
                  <a:pt x="121647" y="10800"/>
                </a:lnTo>
                <a:lnTo>
                  <a:pt x="10763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06" name="AutoShape 5">
            <a:hlinkClick r:id="rId2"/>
          </p:cNvPr>
          <p:cNvSpPr/>
          <p:nvPr/>
        </p:nvSpPr>
        <p:spPr>
          <a:xfrm>
            <a:off x="900000" y="256536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7542" h="21600">
                <a:moveTo>
                  <a:pt x="61764" y="3794"/>
                </a:moveTo>
                <a:lnTo>
                  <a:pt x="75777" y="10800"/>
                </a:lnTo>
                <a:lnTo>
                  <a:pt x="6176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07" name="AutoShape 6">
            <a:hlinkClick r:id="rId3"/>
          </p:cNvPr>
          <p:cNvSpPr/>
          <p:nvPr/>
        </p:nvSpPr>
        <p:spPr>
          <a:xfrm>
            <a:off x="900000" y="3213000"/>
            <a:ext cx="5472360" cy="503280"/>
          </a:xfrm>
          <a:custGeom>
            <a:avLst/>
            <a:gdLst>
              <a:gd name="textAreaLeft" fmla="*/ 32400 w 5472360"/>
              <a:gd name="textAreaRight" fmla="*/ 5439960 w 547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34713" h="21600">
                <a:moveTo>
                  <a:pt x="0" y="0"/>
                </a:moveTo>
                <a:lnTo>
                  <a:pt x="234713" y="0"/>
                </a:lnTo>
                <a:lnTo>
                  <a:pt x="234713" y="21600"/>
                </a:lnTo>
                <a:lnTo>
                  <a:pt x="0" y="21600"/>
                </a:lnTo>
                <a:close/>
              </a:path>
              <a:path fill="lightenLess" w="234713" h="21600">
                <a:moveTo>
                  <a:pt x="0" y="0"/>
                </a:moveTo>
                <a:lnTo>
                  <a:pt x="234713" y="0"/>
                </a:lnTo>
                <a:lnTo>
                  <a:pt x="233313" y="1400"/>
                </a:lnTo>
                <a:lnTo>
                  <a:pt x="1400" y="1400"/>
                </a:lnTo>
                <a:close/>
              </a:path>
              <a:path fill="darken" w="234713" h="21600">
                <a:moveTo>
                  <a:pt x="234713" y="0"/>
                </a:moveTo>
                <a:lnTo>
                  <a:pt x="234713" y="21600"/>
                </a:lnTo>
                <a:lnTo>
                  <a:pt x="233313" y="20200"/>
                </a:lnTo>
                <a:lnTo>
                  <a:pt x="233313" y="1400"/>
                </a:lnTo>
                <a:close/>
              </a:path>
              <a:path fill="darkenLess" w="234713" h="21600">
                <a:moveTo>
                  <a:pt x="2347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13" y="20200"/>
                </a:lnTo>
                <a:close/>
              </a:path>
              <a:path fill="lighten" w="2347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713" h="21600">
                <a:moveTo>
                  <a:pt x="110350" y="3794"/>
                </a:moveTo>
                <a:lnTo>
                  <a:pt x="124363" y="10800"/>
                </a:lnTo>
                <a:lnTo>
                  <a:pt x="11035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08" name="Picture 8" descr="джаз 1"/>
          <p:cNvPicPr/>
          <p:nvPr/>
        </p:nvPicPr>
        <p:blipFill>
          <a:blip r:embed="rId4"/>
          <a:stretch/>
        </p:blipFill>
        <p:spPr>
          <a:xfrm>
            <a:off x="5435640" y="4221000"/>
            <a:ext cx="2936880" cy="2138400"/>
          </a:xfrm>
          <a:prstGeom prst="rect">
            <a:avLst/>
          </a:prstGeom>
          <a:ln w="0">
            <a:noFill/>
          </a:ln>
        </p:spPr>
      </p:pic>
      <p:pic>
        <p:nvPicPr>
          <p:cNvPr id="909" name="WordArt 9" descr=""/>
          <p:cNvPicPr/>
          <p:nvPr/>
        </p:nvPicPr>
        <p:blipFill>
          <a:blip r:embed="rId5"/>
          <a:stretch/>
        </p:blipFill>
        <p:spPr>
          <a:xfrm>
            <a:off x="3376440" y="579600"/>
            <a:ext cx="2706840" cy="1163520"/>
          </a:xfrm>
          <a:prstGeom prst="rect">
            <a:avLst/>
          </a:prstGeom>
          <a:ln w="0">
            <a:noFill/>
          </a:ln>
        </p:spPr>
      </p:pic>
      <p:sp>
        <p:nvSpPr>
          <p:cNvPr id="9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9e6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1402920" y="2349000"/>
            <a:ext cx="6048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жаз – род современного искусства, возникший на рубеж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– X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еков в Южных штатах США в среде американских негров – потомков африканских рабов. Джаз – искусство, основанное на импровизации в сочетании с заранее продуманной, но не обязательно записанной в нотах формой композиции. Значительное место в репертуаре традиционного джаза занял блюз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2" name="WordArt 5" descr=""/>
          <p:cNvPicPr/>
          <p:nvPr/>
        </p:nvPicPr>
        <p:blipFill>
          <a:blip r:embed="rId1"/>
          <a:stretch/>
        </p:blipFill>
        <p:spPr>
          <a:xfrm>
            <a:off x="858960" y="1011240"/>
            <a:ext cx="7437240" cy="725400"/>
          </a:xfrm>
          <a:prstGeom prst="rect">
            <a:avLst/>
          </a:prstGeom>
          <a:ln w="0">
            <a:noFill/>
          </a:ln>
        </p:spPr>
      </p:pic>
      <p:sp>
        <p:nvSpPr>
          <p:cNvPr id="9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540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жнейшие характеристики джаза – наличие в ритмике, во-первых, регулярной пульсации, так называемого «бита», а во-вторых, отклонений от этой пульсации – «свинга»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свинга характерно, во-первых,  появление нового типа оркестра – биг-бэнда, который состоит из трёх групп инструментов – секций, каждая может звучать как один многоголосный инструмент: секции саксофонов (позднее с кларнетами), «медной» секции (трубы и тромбоны), ритмической секции (фортепиано, гитара, контрабас, ударны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AutoShape 3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16" name="Picture 4" descr="Джаз 2"/>
          <p:cNvPicPr/>
          <p:nvPr/>
        </p:nvPicPr>
        <p:blipFill>
          <a:blip r:embed="rId2"/>
          <a:stretch/>
        </p:blipFill>
        <p:spPr>
          <a:xfrm>
            <a:off x="6084720" y="1700280"/>
            <a:ext cx="2551320" cy="3117960"/>
          </a:xfrm>
          <a:prstGeom prst="rect">
            <a:avLst/>
          </a:prstGeom>
          <a:ln w="0">
            <a:noFill/>
          </a:ln>
        </p:spPr>
      </p:pic>
      <p:sp>
        <p:nvSpPr>
          <p:cNvPr id="9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/>
          </p:nvPr>
        </p:nvSpPr>
        <p:spPr>
          <a:xfrm>
            <a:off x="250920" y="1989000"/>
            <a:ext cx="54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чительными успехами отмечено развитие советского джаза, начало которому было положено В.Парнахом в 1922 году. В довоенный период джаз в нашей стране развивался внутри эстрадных оркестров. Благодаря сотрудничеству Л.Утёсова с И.Дунаевским возник также песенный джаз. Импровизационный джаз стилей «диксиленд» и «свинг» практиковался в оркестрах А.Варламова, Н.Минха, А.Цфасмана и друг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9" name="Picture 4" descr="Утёсов"/>
          <p:cNvPicPr/>
          <p:nvPr/>
        </p:nvPicPr>
        <p:blipFill>
          <a:blip r:embed="rId1"/>
          <a:stretch/>
        </p:blipFill>
        <p:spPr>
          <a:xfrm>
            <a:off x="6372360" y="1989000"/>
            <a:ext cx="1914480" cy="289728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5"/>
          <p:cNvSpPr/>
          <p:nvPr/>
        </p:nvSpPr>
        <p:spPr>
          <a:xfrm>
            <a:off x="6376320" y="49410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 Дунаевский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21" name="AutoShape 6">
            <a:hlinkClick r:id="rId2"/>
          </p:cNvPr>
          <p:cNvSpPr/>
          <p:nvPr/>
        </p:nvSpPr>
        <p:spPr>
          <a:xfrm>
            <a:off x="7596360" y="5661000"/>
            <a:ext cx="1547640" cy="1197000"/>
          </a:xfrm>
          <a:custGeom>
            <a:avLst/>
            <a:gdLst>
              <a:gd name="textAreaLeft" fmla="*/ 77400 w 1547640"/>
              <a:gd name="textAreaRight" fmla="*/ 1470240 w 154764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7925" h="21600">
                <a:moveTo>
                  <a:pt x="0" y="0"/>
                </a:moveTo>
                <a:lnTo>
                  <a:pt x="27925" y="0"/>
                </a:lnTo>
                <a:lnTo>
                  <a:pt x="27925" y="21600"/>
                </a:lnTo>
                <a:lnTo>
                  <a:pt x="0" y="21600"/>
                </a:lnTo>
                <a:close/>
              </a:path>
              <a:path fill="lightenLess" w="27925" h="21600">
                <a:moveTo>
                  <a:pt x="0" y="0"/>
                </a:moveTo>
                <a:lnTo>
                  <a:pt x="27925" y="0"/>
                </a:lnTo>
                <a:lnTo>
                  <a:pt x="26525" y="1400"/>
                </a:lnTo>
                <a:lnTo>
                  <a:pt x="1400" y="1400"/>
                </a:lnTo>
                <a:close/>
              </a:path>
              <a:path fill="darken" w="27925" h="21600">
                <a:moveTo>
                  <a:pt x="27925" y="0"/>
                </a:moveTo>
                <a:lnTo>
                  <a:pt x="27925" y="21600"/>
                </a:lnTo>
                <a:lnTo>
                  <a:pt x="26525" y="20200"/>
                </a:lnTo>
                <a:lnTo>
                  <a:pt x="26525" y="1400"/>
                </a:lnTo>
                <a:close/>
              </a:path>
              <a:path fill="darkenLess" w="27925" h="21600">
                <a:moveTo>
                  <a:pt x="27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5" y="20200"/>
                </a:lnTo>
                <a:close/>
              </a:path>
              <a:path fill="lighten" w="27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5" h="21600">
                <a:moveTo>
                  <a:pt x="13963" y="3837"/>
                </a:moveTo>
                <a:lnTo>
                  <a:pt x="16539" y="6448"/>
                </a:lnTo>
                <a:lnTo>
                  <a:pt x="16539" y="4707"/>
                </a:lnTo>
                <a:lnTo>
                  <a:pt x="18315" y="4707"/>
                </a:lnTo>
                <a:lnTo>
                  <a:pt x="18315" y="8224"/>
                </a:lnTo>
                <a:lnTo>
                  <a:pt x="20926" y="10800"/>
                </a:lnTo>
                <a:lnTo>
                  <a:pt x="19272" y="10800"/>
                </a:lnTo>
                <a:lnTo>
                  <a:pt x="19272" y="17989"/>
                </a:lnTo>
                <a:lnTo>
                  <a:pt x="8653" y="17989"/>
                </a:lnTo>
                <a:lnTo>
                  <a:pt x="8653" y="10800"/>
                </a:lnTo>
                <a:lnTo>
                  <a:pt x="7000" y="10800"/>
                </a:lnTo>
                <a:close/>
              </a:path>
              <a:path fill="darkenLess" w="27925" h="21600">
                <a:moveTo>
                  <a:pt x="16539" y="6448"/>
                </a:moveTo>
                <a:lnTo>
                  <a:pt x="16539" y="4707"/>
                </a:lnTo>
                <a:lnTo>
                  <a:pt x="18315" y="4707"/>
                </a:lnTo>
                <a:lnTo>
                  <a:pt x="18315" y="8224"/>
                </a:lnTo>
                <a:close/>
              </a:path>
              <a:path fill="darkenLess" w="27925" h="21600">
                <a:moveTo>
                  <a:pt x="13040" y="14299"/>
                </a:moveTo>
                <a:lnTo>
                  <a:pt x="14885" y="14299"/>
                </a:lnTo>
                <a:lnTo>
                  <a:pt x="14885" y="17989"/>
                </a:lnTo>
                <a:lnTo>
                  <a:pt x="19272" y="17989"/>
                </a:lnTo>
                <a:lnTo>
                  <a:pt x="19272" y="10800"/>
                </a:lnTo>
                <a:lnTo>
                  <a:pt x="8653" y="10800"/>
                </a:lnTo>
                <a:lnTo>
                  <a:pt x="8653" y="17989"/>
                </a:lnTo>
                <a:lnTo>
                  <a:pt x="13040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22" name="WordArt 7" descr=""/>
          <p:cNvPicPr/>
          <p:nvPr/>
        </p:nvPicPr>
        <p:blipFill>
          <a:blip r:embed="rId3"/>
          <a:stretch/>
        </p:blipFill>
        <p:spPr>
          <a:xfrm>
            <a:off x="2548080" y="542880"/>
            <a:ext cx="4389120" cy="1266840"/>
          </a:xfrm>
          <a:prstGeom prst="rect">
            <a:avLst/>
          </a:prstGeom>
          <a:ln w="0">
            <a:noFill/>
          </a:ln>
        </p:spPr>
      </p:pic>
      <p:sp>
        <p:nvSpPr>
          <p:cNvPr id="9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ipe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3779640" y="2681280"/>
            <a:ext cx="5003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жордж Гершвин (1898-1937) – американский композитор и пианист. Систематического музыкального образования он не получил. С 15 лет начал сочинять эстрадные лирические песни, джазовую танцевальную музыку и т.п. Наряду с этим Гершвин создавал популярные произведения, в которых удачно сочетаются принципы симфонической и джазовой музы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Picture 9" descr="Гершвин"/>
          <p:cNvPicPr/>
          <p:nvPr/>
        </p:nvPicPr>
        <p:blipFill>
          <a:blip r:embed="rId1"/>
          <a:stretch/>
        </p:blipFill>
        <p:spPr>
          <a:xfrm>
            <a:off x="755640" y="2349360"/>
            <a:ext cx="2624040" cy="3888000"/>
          </a:xfrm>
          <a:prstGeom prst="rect">
            <a:avLst/>
          </a:prstGeom>
          <a:ln w="0">
            <a:noFill/>
          </a:ln>
        </p:spPr>
      </p:pic>
      <p:pic>
        <p:nvPicPr>
          <p:cNvPr id="926" name="WordArt 10" descr=""/>
          <p:cNvPicPr/>
          <p:nvPr/>
        </p:nvPicPr>
        <p:blipFill>
          <a:blip r:embed="rId2"/>
          <a:stretch/>
        </p:blipFill>
        <p:spPr>
          <a:xfrm>
            <a:off x="1474920" y="762120"/>
            <a:ext cx="6821280" cy="987480"/>
          </a:xfrm>
          <a:prstGeom prst="rect">
            <a:avLst/>
          </a:prstGeom>
          <a:ln w="0">
            <a:noFill/>
          </a:ln>
        </p:spPr>
      </p:pic>
      <p:sp>
        <p:nvSpPr>
          <p:cNvPr id="9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250560" y="809280"/>
            <a:ext cx="4825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0 сентября 1935 года – день рождения американской национальной оперы «Порги и Бесс», рисующей жизнь негритянской бедноты. Она пронизана негритянским фольклором - мелодиями блюзов и спиричуэлс, народными песнями, хорами, танцами. Творчество Гершвина – одна из вершин американской национальной классики. Мировую известность получили «Рапсодия в блюзовых тонах» и симфоническая поэма «Американец в Париже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AutoShape 3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30" name="Picture 4" descr="PH10710"/>
          <p:cNvPicPr/>
          <p:nvPr/>
        </p:nvPicPr>
        <p:blipFill>
          <a:blip r:embed="rId2"/>
          <a:stretch/>
        </p:blipFill>
        <p:spPr>
          <a:xfrm>
            <a:off x="5292720" y="1125360"/>
            <a:ext cx="3465360" cy="4146840"/>
          </a:xfrm>
          <a:prstGeom prst="rect">
            <a:avLst/>
          </a:prstGeom>
          <a:ln w="0">
            <a:noFill/>
          </a:ln>
        </p:spPr>
      </p:pic>
      <p:sp>
        <p:nvSpPr>
          <p:cNvPr id="9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1692000" y="2133360"/>
            <a:ext cx="70102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cc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Описание на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cc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Музыкальные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AutoShape 4">
            <a:hlinkClick r:id="rId1"/>
          </p:cNvPr>
          <p:cNvSpPr/>
          <p:nvPr/>
        </p:nvSpPr>
        <p:spPr>
          <a:xfrm>
            <a:off x="2195640" y="2060640"/>
            <a:ext cx="5040360" cy="504720"/>
          </a:xfrm>
          <a:custGeom>
            <a:avLst/>
            <a:gdLst>
              <a:gd name="textAreaLeft" fmla="*/ 32400 w 5040360"/>
              <a:gd name="textAreaRight" fmla="*/ 5007960 w 5040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5569" h="21600">
                <a:moveTo>
                  <a:pt x="0" y="0"/>
                </a:moveTo>
                <a:lnTo>
                  <a:pt x="215569" y="0"/>
                </a:lnTo>
                <a:lnTo>
                  <a:pt x="215569" y="21600"/>
                </a:lnTo>
                <a:lnTo>
                  <a:pt x="0" y="21600"/>
                </a:lnTo>
                <a:close/>
              </a:path>
              <a:path fill="lightenLess" w="215569" h="21600">
                <a:moveTo>
                  <a:pt x="0" y="0"/>
                </a:moveTo>
                <a:lnTo>
                  <a:pt x="215569" y="0"/>
                </a:lnTo>
                <a:lnTo>
                  <a:pt x="214169" y="1400"/>
                </a:lnTo>
                <a:lnTo>
                  <a:pt x="1400" y="1400"/>
                </a:lnTo>
                <a:close/>
              </a:path>
              <a:path fill="darken" w="215569" h="21600">
                <a:moveTo>
                  <a:pt x="215569" y="0"/>
                </a:moveTo>
                <a:lnTo>
                  <a:pt x="215569" y="21600"/>
                </a:lnTo>
                <a:lnTo>
                  <a:pt x="214169" y="20200"/>
                </a:lnTo>
                <a:lnTo>
                  <a:pt x="214169" y="1400"/>
                </a:lnTo>
                <a:close/>
              </a:path>
              <a:path fill="darkenLess" w="215569" h="21600">
                <a:moveTo>
                  <a:pt x="215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69" y="20200"/>
                </a:lnTo>
                <a:close/>
              </a:path>
              <a:path fill="lighten" w="215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5569" h="21600">
                <a:moveTo>
                  <a:pt x="100778" y="3794"/>
                </a:moveTo>
                <a:lnTo>
                  <a:pt x="114791" y="10800"/>
                </a:lnTo>
                <a:lnTo>
                  <a:pt x="10077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34" name="AutoShape 5">
            <a:hlinkClick r:id="rId2"/>
          </p:cNvPr>
          <p:cNvSpPr/>
          <p:nvPr/>
        </p:nvSpPr>
        <p:spPr>
          <a:xfrm>
            <a:off x="2195640" y="2781360"/>
            <a:ext cx="5040360" cy="504720"/>
          </a:xfrm>
          <a:custGeom>
            <a:avLst/>
            <a:gdLst>
              <a:gd name="textAreaLeft" fmla="*/ 32400 w 5040360"/>
              <a:gd name="textAreaRight" fmla="*/ 5007960 w 5040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5569" h="21600">
                <a:moveTo>
                  <a:pt x="0" y="0"/>
                </a:moveTo>
                <a:lnTo>
                  <a:pt x="215569" y="0"/>
                </a:lnTo>
                <a:lnTo>
                  <a:pt x="215569" y="21600"/>
                </a:lnTo>
                <a:lnTo>
                  <a:pt x="0" y="21600"/>
                </a:lnTo>
                <a:close/>
              </a:path>
              <a:path fill="lightenLess" w="215569" h="21600">
                <a:moveTo>
                  <a:pt x="0" y="0"/>
                </a:moveTo>
                <a:lnTo>
                  <a:pt x="215569" y="0"/>
                </a:lnTo>
                <a:lnTo>
                  <a:pt x="214169" y="1400"/>
                </a:lnTo>
                <a:lnTo>
                  <a:pt x="1400" y="1400"/>
                </a:lnTo>
                <a:close/>
              </a:path>
              <a:path fill="darken" w="215569" h="21600">
                <a:moveTo>
                  <a:pt x="215569" y="0"/>
                </a:moveTo>
                <a:lnTo>
                  <a:pt x="215569" y="21600"/>
                </a:lnTo>
                <a:lnTo>
                  <a:pt x="214169" y="20200"/>
                </a:lnTo>
                <a:lnTo>
                  <a:pt x="214169" y="1400"/>
                </a:lnTo>
                <a:close/>
              </a:path>
              <a:path fill="darkenLess" w="215569" h="21600">
                <a:moveTo>
                  <a:pt x="215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69" y="20200"/>
                </a:lnTo>
                <a:close/>
              </a:path>
              <a:path fill="lighten" w="215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5569" h="21600">
                <a:moveTo>
                  <a:pt x="100778" y="3794"/>
                </a:moveTo>
                <a:lnTo>
                  <a:pt x="114791" y="10800"/>
                </a:lnTo>
                <a:lnTo>
                  <a:pt x="10077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35" name="Picture 6" descr="Авангард"/>
          <p:cNvPicPr/>
          <p:nvPr/>
        </p:nvPicPr>
        <p:blipFill>
          <a:blip r:embed="rId3"/>
          <a:stretch/>
        </p:blipFill>
        <p:spPr>
          <a:xfrm>
            <a:off x="4932360" y="3716280"/>
            <a:ext cx="3436920" cy="2197080"/>
          </a:xfrm>
          <a:prstGeom prst="rect">
            <a:avLst/>
          </a:prstGeom>
          <a:ln w="0">
            <a:noFill/>
          </a:ln>
        </p:spPr>
      </p:pic>
      <p:pic>
        <p:nvPicPr>
          <p:cNvPr id="936" name="WordArt 7" descr=""/>
          <p:cNvPicPr/>
          <p:nvPr/>
        </p:nvPicPr>
        <p:blipFill>
          <a:blip r:embed="rId4"/>
          <a:stretch/>
        </p:blipFill>
        <p:spPr>
          <a:xfrm>
            <a:off x="3267000" y="828720"/>
            <a:ext cx="4432320" cy="866880"/>
          </a:xfrm>
          <a:prstGeom prst="rect">
            <a:avLst/>
          </a:prstGeom>
          <a:ln w="0">
            <a:noFill/>
          </a:ln>
        </p:spPr>
      </p:pic>
      <p:sp>
        <p:nvSpPr>
          <p:cNvPr id="9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4427280" y="1700280"/>
            <a:ext cx="4259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В авангардистских течениях особенно остро проявились элитарные тенденции, отрыв от задач искусства в обществе, неспособность художников создать общественно значимые концепции, яркое, воздействующее на массы искусство. Среди композиторов, в той или иной степени примыкавших к авангардизму, можно назвать А. Шнитке и П. Шефф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Picture 4" descr="Авангард 2"/>
          <p:cNvPicPr/>
          <p:nvPr/>
        </p:nvPicPr>
        <p:blipFill>
          <a:blip r:embed="rId1"/>
          <a:stretch/>
        </p:blipFill>
        <p:spPr>
          <a:xfrm>
            <a:off x="1403280" y="2276640"/>
            <a:ext cx="2656080" cy="3186000"/>
          </a:xfrm>
          <a:prstGeom prst="rect">
            <a:avLst/>
          </a:prstGeom>
          <a:ln w="0">
            <a:noFill/>
          </a:ln>
        </p:spPr>
      </p:pic>
      <p:pic>
        <p:nvPicPr>
          <p:cNvPr id="940" name="WordArt 5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6491160" cy="701640"/>
          </a:xfrm>
          <a:prstGeom prst="rect">
            <a:avLst/>
          </a:prstGeom>
          <a:ln w="0">
            <a:noFill/>
          </a:ln>
        </p:spPr>
      </p:pic>
      <p:sp>
        <p:nvSpPr>
          <p:cNvPr id="9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вед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сновные направления в музыке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XX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ека. Музыкальные лич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2" name="Picture 21" descr="the_first_piano_lesson"/>
          <p:cNvPicPr/>
          <p:nvPr/>
        </p:nvPicPr>
        <p:blipFill>
          <a:blip r:embed="rId1"/>
          <a:stretch/>
        </p:blipFill>
        <p:spPr>
          <a:xfrm>
            <a:off x="5292720" y="2205000"/>
            <a:ext cx="2987640" cy="3992760"/>
          </a:xfrm>
          <a:prstGeom prst="rect">
            <a:avLst/>
          </a:prstGeom>
          <a:ln w="0">
            <a:noFill/>
          </a:ln>
        </p:spPr>
      </p:pic>
      <p:sp>
        <p:nvSpPr>
          <p:cNvPr id="803" name="AutoShape 22">
            <a:hlinkClick r:id="rId2"/>
          </p:cNvPr>
          <p:cNvSpPr/>
          <p:nvPr/>
        </p:nvSpPr>
        <p:spPr>
          <a:xfrm>
            <a:off x="1476360" y="1916280"/>
            <a:ext cx="1727280" cy="577800"/>
          </a:xfrm>
          <a:custGeom>
            <a:avLst/>
            <a:gdLst>
              <a:gd name="textAreaLeft" fmla="*/ 37440 w 1727280"/>
              <a:gd name="textAreaRight" fmla="*/ 1689840 w 1727280"/>
              <a:gd name="textAreaTop" fmla="*/ 37440 h 577800"/>
              <a:gd name="textAreaBottom" fmla="*/ 540360 h 577800"/>
            </a:gdLst>
            <a:ahLst/>
            <a:rect l="textAreaLeft" t="textAreaTop" r="textAreaRight" b="textAreaBottom"/>
            <a:pathLst>
              <a:path w="64544" h="21600">
                <a:moveTo>
                  <a:pt x="0" y="0"/>
                </a:moveTo>
                <a:lnTo>
                  <a:pt x="64544" y="0"/>
                </a:lnTo>
                <a:lnTo>
                  <a:pt x="64544" y="21600"/>
                </a:lnTo>
                <a:lnTo>
                  <a:pt x="0" y="21600"/>
                </a:lnTo>
                <a:close/>
              </a:path>
              <a:path fill="lightenLess" w="64544" h="21600">
                <a:moveTo>
                  <a:pt x="0" y="0"/>
                </a:moveTo>
                <a:lnTo>
                  <a:pt x="64544" y="0"/>
                </a:lnTo>
                <a:lnTo>
                  <a:pt x="63144" y="1400"/>
                </a:lnTo>
                <a:lnTo>
                  <a:pt x="1400" y="1400"/>
                </a:lnTo>
                <a:close/>
              </a:path>
              <a:path fill="darken" w="64544" h="21600">
                <a:moveTo>
                  <a:pt x="64544" y="0"/>
                </a:moveTo>
                <a:lnTo>
                  <a:pt x="64544" y="21600"/>
                </a:lnTo>
                <a:lnTo>
                  <a:pt x="63144" y="20200"/>
                </a:lnTo>
                <a:lnTo>
                  <a:pt x="63144" y="1400"/>
                </a:lnTo>
                <a:close/>
              </a:path>
              <a:path fill="darkenLess" w="64544" h="21600">
                <a:moveTo>
                  <a:pt x="645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44" y="20200"/>
                </a:lnTo>
                <a:close/>
              </a:path>
              <a:path fill="lighten" w="645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44" h="21600">
                <a:moveTo>
                  <a:pt x="25266" y="3794"/>
                </a:moveTo>
                <a:lnTo>
                  <a:pt x="39279" y="10800"/>
                </a:lnTo>
                <a:lnTo>
                  <a:pt x="2526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04" name="AutoShape 23">
            <a:hlinkClick r:id="rId3"/>
          </p:cNvPr>
          <p:cNvSpPr/>
          <p:nvPr/>
        </p:nvSpPr>
        <p:spPr>
          <a:xfrm>
            <a:off x="1403280" y="2637000"/>
            <a:ext cx="2881440" cy="2376360"/>
          </a:xfrm>
          <a:custGeom>
            <a:avLst/>
            <a:gdLst>
              <a:gd name="textAreaLeft" fmla="*/ 153720 w 2881440"/>
              <a:gd name="textAreaRight" fmla="*/ 2727720 w 2881440"/>
              <a:gd name="textAreaTop" fmla="*/ 153720 h 2376360"/>
              <a:gd name="textAreaBottom" fmla="*/ 2222640 h 2376360"/>
            </a:gdLst>
            <a:ahLst/>
            <a:rect l="textAreaLeft" t="textAreaTop" r="textAreaRight" b="textAreaBottom"/>
            <a:pathLst>
              <a:path w="26190" h="21600">
                <a:moveTo>
                  <a:pt x="0" y="0"/>
                </a:moveTo>
                <a:lnTo>
                  <a:pt x="26190" y="0"/>
                </a:lnTo>
                <a:lnTo>
                  <a:pt x="26190" y="21600"/>
                </a:lnTo>
                <a:lnTo>
                  <a:pt x="0" y="21600"/>
                </a:lnTo>
                <a:close/>
              </a:path>
              <a:path fill="lightenLess" w="26190" h="21600">
                <a:moveTo>
                  <a:pt x="0" y="0"/>
                </a:moveTo>
                <a:lnTo>
                  <a:pt x="26190" y="0"/>
                </a:lnTo>
                <a:lnTo>
                  <a:pt x="24790" y="1400"/>
                </a:lnTo>
                <a:lnTo>
                  <a:pt x="1400" y="1400"/>
                </a:lnTo>
                <a:close/>
              </a:path>
              <a:path fill="darken" w="26190" h="21600">
                <a:moveTo>
                  <a:pt x="26190" y="0"/>
                </a:moveTo>
                <a:lnTo>
                  <a:pt x="26190" y="21600"/>
                </a:lnTo>
                <a:lnTo>
                  <a:pt x="24790" y="20200"/>
                </a:lnTo>
                <a:lnTo>
                  <a:pt x="24790" y="1400"/>
                </a:lnTo>
                <a:close/>
              </a:path>
              <a:path fill="darkenLess" w="26190" h="21600">
                <a:moveTo>
                  <a:pt x="26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90" y="20200"/>
                </a:lnTo>
                <a:close/>
              </a:path>
              <a:path fill="lighten" w="26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90" h="21600">
                <a:moveTo>
                  <a:pt x="6089" y="3794"/>
                </a:moveTo>
                <a:lnTo>
                  <a:pt x="20102" y="10800"/>
                </a:lnTo>
                <a:lnTo>
                  <a:pt x="60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05" name="WordArt 24" descr=""/>
          <p:cNvPicPr/>
          <p:nvPr/>
        </p:nvPicPr>
        <p:blipFill>
          <a:blip r:embed="rId4"/>
          <a:stretch/>
        </p:blipFill>
        <p:spPr>
          <a:xfrm>
            <a:off x="1401840" y="901800"/>
            <a:ext cx="3346200" cy="664920"/>
          </a:xfrm>
          <a:prstGeom prst="rect">
            <a:avLst/>
          </a:prstGeom>
          <a:ln w="0">
            <a:noFill/>
          </a:ln>
        </p:spPr>
      </p:pic>
      <p:sp>
        <p:nvSpPr>
          <p:cNvPr id="80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/>
          </p:nvPr>
        </p:nvSpPr>
        <p:spPr>
          <a:xfrm>
            <a:off x="4859280" y="1483920"/>
            <a:ext cx="4043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Многие авангардисты, движимые ложным представлением, что могут выразить новое содержание только с помощью неизвестных средств, а также стремлением к сенсационности, шли на эксперименты, приводившие к разрушению эстетических и даже технологических основ искус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AutoShape 4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44" name="Picture 5" descr="Шнитке 1"/>
          <p:cNvPicPr/>
          <p:nvPr/>
        </p:nvPicPr>
        <p:blipFill>
          <a:blip r:embed="rId2"/>
          <a:stretch/>
        </p:blipFill>
        <p:spPr>
          <a:xfrm>
            <a:off x="1979640" y="1773360"/>
            <a:ext cx="2335320" cy="2693880"/>
          </a:xfrm>
          <a:prstGeom prst="rect">
            <a:avLst/>
          </a:prstGeom>
          <a:ln w="0">
            <a:noFill/>
          </a:ln>
        </p:spPr>
      </p:pic>
      <p:sp>
        <p:nvSpPr>
          <p:cNvPr id="945" name="Rectangle 6"/>
          <p:cNvSpPr/>
          <p:nvPr/>
        </p:nvSpPr>
        <p:spPr>
          <a:xfrm>
            <a:off x="2054160" y="458064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ьфред Шнитке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/>
          </p:nvPr>
        </p:nvSpPr>
        <p:spPr>
          <a:xfrm>
            <a:off x="1547640" y="1916280"/>
            <a:ext cx="318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ьфред Шни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арлхайнц Штокхауз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8" name="Picture 4" descr="b_4407"/>
          <p:cNvPicPr/>
          <p:nvPr/>
        </p:nvPicPr>
        <p:blipFill>
          <a:blip r:embed="rId1"/>
          <a:stretch/>
        </p:blipFill>
        <p:spPr>
          <a:xfrm>
            <a:off x="5003640" y="1989000"/>
            <a:ext cx="2278080" cy="17082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5" descr="stockhausen"/>
          <p:cNvPicPr/>
          <p:nvPr/>
        </p:nvPicPr>
        <p:blipFill>
          <a:blip r:embed="rId2"/>
          <a:stretch/>
        </p:blipFill>
        <p:spPr>
          <a:xfrm>
            <a:off x="5003640" y="3933720"/>
            <a:ext cx="2428920" cy="1846440"/>
          </a:xfrm>
          <a:prstGeom prst="rect">
            <a:avLst/>
          </a:prstGeom>
          <a:ln w="0">
            <a:noFill/>
          </a:ln>
        </p:spPr>
      </p:pic>
      <p:sp>
        <p:nvSpPr>
          <p:cNvPr id="950" name="AutoShape 6">
            <a:hlinkClick r:id="rId3"/>
          </p:cNvPr>
          <p:cNvSpPr/>
          <p:nvPr/>
        </p:nvSpPr>
        <p:spPr>
          <a:xfrm>
            <a:off x="2268360" y="1916280"/>
            <a:ext cx="1582920" cy="1042920"/>
          </a:xfrm>
          <a:custGeom>
            <a:avLst/>
            <a:gdLst>
              <a:gd name="textAreaLeft" fmla="*/ 67320 w 1582920"/>
              <a:gd name="textAreaRight" fmla="*/ 1515600 w 158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2780" h="21600">
                <a:moveTo>
                  <a:pt x="0" y="0"/>
                </a:moveTo>
                <a:lnTo>
                  <a:pt x="32780" y="0"/>
                </a:lnTo>
                <a:lnTo>
                  <a:pt x="32780" y="21600"/>
                </a:lnTo>
                <a:lnTo>
                  <a:pt x="0" y="21600"/>
                </a:lnTo>
                <a:close/>
              </a:path>
              <a:path fill="lightenLess" w="32780" h="21600">
                <a:moveTo>
                  <a:pt x="0" y="0"/>
                </a:moveTo>
                <a:lnTo>
                  <a:pt x="32780" y="0"/>
                </a:lnTo>
                <a:lnTo>
                  <a:pt x="31380" y="1400"/>
                </a:lnTo>
                <a:lnTo>
                  <a:pt x="1400" y="1400"/>
                </a:lnTo>
                <a:close/>
              </a:path>
              <a:path fill="darken" w="32780" h="21600">
                <a:moveTo>
                  <a:pt x="32780" y="0"/>
                </a:moveTo>
                <a:lnTo>
                  <a:pt x="32780" y="21600"/>
                </a:lnTo>
                <a:lnTo>
                  <a:pt x="31380" y="20200"/>
                </a:lnTo>
                <a:lnTo>
                  <a:pt x="31380" y="1400"/>
                </a:lnTo>
                <a:close/>
              </a:path>
              <a:path fill="darkenLess" w="32780" h="21600">
                <a:moveTo>
                  <a:pt x="32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0" y="20200"/>
                </a:lnTo>
                <a:close/>
              </a:path>
              <a:path fill="lighten" w="32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0" h="21600">
                <a:moveTo>
                  <a:pt x="9384" y="3794"/>
                </a:moveTo>
                <a:lnTo>
                  <a:pt x="23397" y="10800"/>
                </a:lnTo>
                <a:lnTo>
                  <a:pt x="93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51" name="AutoShape 7">
            <a:hlinkClick r:id="rId4"/>
          </p:cNvPr>
          <p:cNvSpPr/>
          <p:nvPr/>
        </p:nvSpPr>
        <p:spPr>
          <a:xfrm>
            <a:off x="2340000" y="4437000"/>
            <a:ext cx="1944720" cy="1224000"/>
          </a:xfrm>
          <a:custGeom>
            <a:avLst/>
            <a:gdLst>
              <a:gd name="textAreaLeft" fmla="*/ 79200 w 1944720"/>
              <a:gd name="textAreaRight" fmla="*/ 1865520 w 194472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34315" h="21600">
                <a:moveTo>
                  <a:pt x="0" y="0"/>
                </a:moveTo>
                <a:lnTo>
                  <a:pt x="34315" y="0"/>
                </a:lnTo>
                <a:lnTo>
                  <a:pt x="34315" y="21600"/>
                </a:lnTo>
                <a:lnTo>
                  <a:pt x="0" y="21600"/>
                </a:lnTo>
                <a:close/>
              </a:path>
              <a:path fill="lightenLess" w="34315" h="21600">
                <a:moveTo>
                  <a:pt x="0" y="0"/>
                </a:moveTo>
                <a:lnTo>
                  <a:pt x="34315" y="0"/>
                </a:lnTo>
                <a:lnTo>
                  <a:pt x="32915" y="1400"/>
                </a:lnTo>
                <a:lnTo>
                  <a:pt x="1400" y="1400"/>
                </a:lnTo>
                <a:close/>
              </a:path>
              <a:path fill="darken" w="34315" h="21600">
                <a:moveTo>
                  <a:pt x="34315" y="0"/>
                </a:moveTo>
                <a:lnTo>
                  <a:pt x="34315" y="21600"/>
                </a:lnTo>
                <a:lnTo>
                  <a:pt x="32915" y="20200"/>
                </a:lnTo>
                <a:lnTo>
                  <a:pt x="32915" y="1400"/>
                </a:lnTo>
                <a:close/>
              </a:path>
              <a:path fill="darkenLess" w="34315" h="21600">
                <a:moveTo>
                  <a:pt x="34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15" y="20200"/>
                </a:lnTo>
                <a:close/>
              </a:path>
              <a:path fill="lighten" w="34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315" h="21600">
                <a:moveTo>
                  <a:pt x="10151" y="3794"/>
                </a:moveTo>
                <a:lnTo>
                  <a:pt x="24164" y="10800"/>
                </a:lnTo>
                <a:lnTo>
                  <a:pt x="1015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52" name="WordArt 8" descr=""/>
          <p:cNvPicPr/>
          <p:nvPr/>
        </p:nvPicPr>
        <p:blipFill>
          <a:blip r:embed="rId5"/>
          <a:stretch/>
        </p:blipFill>
        <p:spPr>
          <a:xfrm>
            <a:off x="1908000" y="835200"/>
            <a:ext cx="6602760" cy="695160"/>
          </a:xfrm>
          <a:prstGeom prst="rect">
            <a:avLst/>
          </a:prstGeom>
          <a:ln w="0">
            <a:noFill/>
          </a:ln>
        </p:spPr>
      </p:pic>
      <p:sp>
        <p:nvSpPr>
          <p:cNvPr id="9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4932360" y="2205000"/>
            <a:ext cx="36734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Альфред Шнитке – русский композитор. Является одним из ведущих мастеров современной музыки, синтезирующей в творчестве классические тенденции и разнообразные элементы современной композиторской тех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5" name="Picture 4" descr="b_4407"/>
          <p:cNvPicPr/>
          <p:nvPr/>
        </p:nvPicPr>
        <p:blipFill>
          <a:blip r:embed="rId1"/>
          <a:stretch/>
        </p:blipFill>
        <p:spPr>
          <a:xfrm>
            <a:off x="468360" y="2349360"/>
            <a:ext cx="4246560" cy="3184560"/>
          </a:xfrm>
          <a:prstGeom prst="rect">
            <a:avLst/>
          </a:prstGeom>
          <a:ln w="0">
            <a:noFill/>
          </a:ln>
        </p:spPr>
      </p:pic>
      <p:pic>
        <p:nvPicPr>
          <p:cNvPr id="956" name="WordArt 5" descr=""/>
          <p:cNvPicPr/>
          <p:nvPr/>
        </p:nvPicPr>
        <p:blipFill>
          <a:blip r:embed="rId2"/>
          <a:stretch/>
        </p:blipFill>
        <p:spPr>
          <a:xfrm>
            <a:off x="2554200" y="689040"/>
            <a:ext cx="4254480" cy="1311120"/>
          </a:xfrm>
          <a:prstGeom prst="rect">
            <a:avLst/>
          </a:prstGeom>
          <a:ln w="0">
            <a:noFill/>
          </a:ln>
        </p:spPr>
      </p:pic>
      <p:sp>
        <p:nvSpPr>
          <p:cNvPr id="9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2f"/>
            </a:gs>
            <a:gs pos="50000">
              <a:srgbClr val="ffcc66"/>
            </a:gs>
            <a:gs pos="100000">
              <a:srgbClr val="765e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/>
          </p:nvPr>
        </p:nvSpPr>
        <p:spPr>
          <a:xfrm>
            <a:off x="4427280" y="1125360"/>
            <a:ext cx="4043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Среди сочинений: оперы «Жизнь с идиотом», «Одиннадцатая заповедь»; балеты «Пер Гюнт»; Реквием, 12 инструментальных концертов, музыка к драматическим спектаклям и кинофильмам: «Рикки-Тики-Тави» и «Мертвые души». После смерти композитора в его честь названо музыкальное учебное за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AutoShape 5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60" name="Picture 6" descr="Шнитке"/>
          <p:cNvPicPr/>
          <p:nvPr/>
        </p:nvPicPr>
        <p:blipFill>
          <a:blip r:embed="rId2"/>
          <a:stretch/>
        </p:blipFill>
        <p:spPr>
          <a:xfrm>
            <a:off x="1332000" y="2276640"/>
            <a:ext cx="2666880" cy="3022560"/>
          </a:xfrm>
          <a:prstGeom prst="rect">
            <a:avLst/>
          </a:prstGeom>
          <a:ln w="0">
            <a:noFill/>
          </a:ln>
        </p:spPr>
      </p:pic>
      <p:sp>
        <p:nvSpPr>
          <p:cNvPr id="9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/>
          </p:nvPr>
        </p:nvSpPr>
        <p:spPr>
          <a:xfrm>
            <a:off x="5219280" y="2349360"/>
            <a:ext cx="37450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162"/>
                </a:solidFill>
                <a:latin typeface="Arial"/>
              </a:rPr>
              <a:t>Штокхаузен родился в Мёдрате близ Кёльна 22 августа 1928. В 1947 поступил в кельтскую Высшую музыкальную школу, позже учился в Париже у Оливье Мессина и работал в студии конкретной музыки Пьера Шефф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3" name="Picture 5" descr="Карлхайнц Штокхаузен (Stockhausen)"/>
          <p:cNvPicPr/>
          <p:nvPr/>
        </p:nvPicPr>
        <p:blipFill>
          <a:blip r:embed="rId1"/>
          <a:stretch/>
        </p:blipFill>
        <p:spPr>
          <a:xfrm>
            <a:off x="900000" y="2565360"/>
            <a:ext cx="3990960" cy="3033720"/>
          </a:xfrm>
          <a:prstGeom prst="rect">
            <a:avLst/>
          </a:prstGeom>
          <a:ln w="0">
            <a:noFill/>
          </a:ln>
        </p:spPr>
      </p:pic>
      <p:pic>
        <p:nvPicPr>
          <p:cNvPr id="964" name="WordArt 6" descr=""/>
          <p:cNvPicPr/>
          <p:nvPr/>
        </p:nvPicPr>
        <p:blipFill>
          <a:blip r:embed="rId2"/>
          <a:stretch/>
        </p:blipFill>
        <p:spPr>
          <a:xfrm>
            <a:off x="2266920" y="835200"/>
            <a:ext cx="5737320" cy="1304640"/>
          </a:xfrm>
          <a:prstGeom prst="rect">
            <a:avLst/>
          </a:prstGeom>
          <a:ln w="0">
            <a:noFill/>
          </a:ln>
        </p:spPr>
      </p:pic>
      <p:sp>
        <p:nvSpPr>
          <p:cNvPr id="9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04162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4211280" y="1052280"/>
            <a:ext cx="45370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162"/>
                </a:solidFill>
                <a:latin typeface="Arial"/>
              </a:rPr>
              <a:t>В 1960-х годах Штокхаузен стал одним из лидеров в области сериальной музыки и одним из первых европейских композиторов. Во многих сочинениях композитора 1960-х годов предусматривается живая интерпретация Во многих сочинениях композитора 1960-х годов предусматривается живая интерпретация электронных звучаний. В числе самых значительных опусов Штокхаузена: «Мера времени», «Песнь юношей», «Групп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AutoShape 8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68" name="Picture 9" descr="штокх"/>
          <p:cNvPicPr/>
          <p:nvPr/>
        </p:nvPicPr>
        <p:blipFill>
          <a:blip r:embed="rId1"/>
          <a:stretch/>
        </p:blipFill>
        <p:spPr>
          <a:xfrm>
            <a:off x="1547640" y="2205000"/>
            <a:ext cx="2011680" cy="2816280"/>
          </a:xfrm>
          <a:prstGeom prst="rect">
            <a:avLst/>
          </a:prstGeom>
          <a:ln w="0">
            <a:noFill/>
          </a:ln>
        </p:spPr>
      </p:pic>
      <p:sp>
        <p:nvSpPr>
          <p:cNvPr id="9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04162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/>
          </p:nvPr>
        </p:nvSpPr>
        <p:spPr>
          <a:xfrm>
            <a:off x="682560" y="1980720"/>
            <a:ext cx="7772400" cy="130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94881"/>
              </a:buClr>
              <a:buSzPct val="7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4881"/>
                </a:solidFill>
                <a:latin typeface="Times New Roman"/>
              </a:rPr>
              <a:t>Описание на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94881"/>
              </a:buClr>
              <a:buSzPct val="7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4881"/>
                </a:solidFill>
                <a:latin typeface="Times New Roman"/>
              </a:rPr>
              <a:t>Музыкальные лич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AutoShape 4"/>
          <p:cNvSpPr/>
          <p:nvPr/>
        </p:nvSpPr>
        <p:spPr>
          <a:xfrm>
            <a:off x="1187280" y="1916280"/>
            <a:ext cx="4537080" cy="504720"/>
          </a:xfrm>
          <a:custGeom>
            <a:avLst/>
            <a:gdLst>
              <a:gd name="textAreaLeft" fmla="*/ 32400 w 4537080"/>
              <a:gd name="textAreaRight" fmla="*/ 4504680 w 4537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94046" h="21600">
                <a:moveTo>
                  <a:pt x="0" y="0"/>
                </a:moveTo>
                <a:lnTo>
                  <a:pt x="194046" y="0"/>
                </a:lnTo>
                <a:lnTo>
                  <a:pt x="194046" y="21600"/>
                </a:lnTo>
                <a:lnTo>
                  <a:pt x="0" y="21600"/>
                </a:lnTo>
                <a:close/>
              </a:path>
              <a:path fill="lightenLess" w="194046" h="21600">
                <a:moveTo>
                  <a:pt x="0" y="0"/>
                </a:moveTo>
                <a:lnTo>
                  <a:pt x="194046" y="0"/>
                </a:lnTo>
                <a:lnTo>
                  <a:pt x="192646" y="1400"/>
                </a:lnTo>
                <a:lnTo>
                  <a:pt x="1400" y="1400"/>
                </a:lnTo>
                <a:close/>
              </a:path>
              <a:path fill="darken" w="194046" h="21600">
                <a:moveTo>
                  <a:pt x="194046" y="0"/>
                </a:moveTo>
                <a:lnTo>
                  <a:pt x="194046" y="21600"/>
                </a:lnTo>
                <a:lnTo>
                  <a:pt x="192646" y="20200"/>
                </a:lnTo>
                <a:lnTo>
                  <a:pt x="192646" y="1400"/>
                </a:lnTo>
                <a:close/>
              </a:path>
              <a:path fill="darkenLess" w="194046" h="21600">
                <a:moveTo>
                  <a:pt x="194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2646" y="20200"/>
                </a:lnTo>
                <a:close/>
              </a:path>
              <a:path fill="lighten" w="194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94046" h="21600">
                <a:moveTo>
                  <a:pt x="90016" y="3794"/>
                </a:moveTo>
                <a:lnTo>
                  <a:pt x="104029" y="10800"/>
                </a:lnTo>
                <a:lnTo>
                  <a:pt x="9001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72" name="AutoShape 5"/>
          <p:cNvSpPr/>
          <p:nvPr/>
        </p:nvSpPr>
        <p:spPr>
          <a:xfrm>
            <a:off x="1187280" y="2637000"/>
            <a:ext cx="4680000" cy="431640"/>
          </a:xfrm>
          <a:custGeom>
            <a:avLst/>
            <a:gdLst>
              <a:gd name="textAreaLeft" fmla="*/ 27720 w 4680000"/>
              <a:gd name="textAreaRight" fmla="*/ 4652280 w 468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018" h="21600">
                <a:moveTo>
                  <a:pt x="0" y="0"/>
                </a:moveTo>
                <a:lnTo>
                  <a:pt x="234018" y="0"/>
                </a:lnTo>
                <a:lnTo>
                  <a:pt x="234018" y="21600"/>
                </a:lnTo>
                <a:lnTo>
                  <a:pt x="0" y="21600"/>
                </a:lnTo>
                <a:close/>
              </a:path>
              <a:path fill="lightenLess" w="234018" h="21600">
                <a:moveTo>
                  <a:pt x="0" y="0"/>
                </a:moveTo>
                <a:lnTo>
                  <a:pt x="234018" y="0"/>
                </a:lnTo>
                <a:lnTo>
                  <a:pt x="232618" y="1400"/>
                </a:lnTo>
                <a:lnTo>
                  <a:pt x="1400" y="1400"/>
                </a:lnTo>
                <a:close/>
              </a:path>
              <a:path fill="darken" w="234018" h="21600">
                <a:moveTo>
                  <a:pt x="234018" y="0"/>
                </a:moveTo>
                <a:lnTo>
                  <a:pt x="234018" y="21600"/>
                </a:lnTo>
                <a:lnTo>
                  <a:pt x="232618" y="20200"/>
                </a:lnTo>
                <a:lnTo>
                  <a:pt x="232618" y="1400"/>
                </a:lnTo>
                <a:close/>
              </a:path>
              <a:path fill="darkenLess" w="234018" h="21600">
                <a:moveTo>
                  <a:pt x="234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18" y="20200"/>
                </a:lnTo>
                <a:close/>
              </a:path>
              <a:path fill="lighten" w="234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18" h="21600">
                <a:moveTo>
                  <a:pt x="110003" y="3794"/>
                </a:moveTo>
                <a:lnTo>
                  <a:pt x="124015" y="10800"/>
                </a:lnTo>
                <a:lnTo>
                  <a:pt x="11000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73" name="Picture 10" descr="импр"/>
          <p:cNvPicPr/>
          <p:nvPr/>
        </p:nvPicPr>
        <p:blipFill>
          <a:blip r:embed="rId1"/>
          <a:stretch/>
        </p:blipFill>
        <p:spPr>
          <a:xfrm>
            <a:off x="3492360" y="3860640"/>
            <a:ext cx="3459240" cy="2252880"/>
          </a:xfrm>
          <a:prstGeom prst="rect">
            <a:avLst/>
          </a:prstGeom>
          <a:ln w="0">
            <a:noFill/>
          </a:ln>
        </p:spPr>
      </p:pic>
      <p:pic>
        <p:nvPicPr>
          <p:cNvPr id="974" name="WordArt 11" descr=""/>
          <p:cNvPicPr/>
          <p:nvPr/>
        </p:nvPicPr>
        <p:blipFill>
          <a:blip r:embed="rId2"/>
          <a:stretch/>
        </p:blipFill>
        <p:spPr>
          <a:xfrm>
            <a:off x="2541600" y="463680"/>
            <a:ext cx="4432320" cy="987120"/>
          </a:xfrm>
          <a:prstGeom prst="rect">
            <a:avLst/>
          </a:prstGeom>
          <a:ln w="0">
            <a:noFill/>
          </a:ln>
        </p:spPr>
      </p:pic>
      <p:sp>
        <p:nvSpPr>
          <p:cNvPr id="97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Основным в импрессионизме была задача передать непосредственное впечатление, отразить тонкие психологические состояния, оттенки субъективных ощущений, вызванных созерцанием внешнего мира. Основоположниками этого направления стали К. Дебюсси, М. Равель, О. Мессиане, М. де Фаль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7" name="Picture 6" descr="Мессиане"/>
          <p:cNvPicPr/>
          <p:nvPr/>
        </p:nvPicPr>
        <p:blipFill>
          <a:blip r:embed="rId1"/>
          <a:stretch/>
        </p:blipFill>
        <p:spPr>
          <a:xfrm>
            <a:off x="5724360" y="2276640"/>
            <a:ext cx="2256120" cy="3219120"/>
          </a:xfrm>
          <a:prstGeom prst="rect">
            <a:avLst/>
          </a:prstGeom>
          <a:ln w="0">
            <a:noFill/>
          </a:ln>
        </p:spPr>
      </p:pic>
      <p:sp>
        <p:nvSpPr>
          <p:cNvPr id="978" name="Rectangle 7"/>
          <p:cNvSpPr/>
          <p:nvPr/>
        </p:nvSpPr>
        <p:spPr>
          <a:xfrm>
            <a:off x="6087240" y="55890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. Мессиане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79" name="WordArt 9" descr=""/>
          <p:cNvPicPr/>
          <p:nvPr/>
        </p:nvPicPr>
        <p:blipFill>
          <a:blip r:embed="rId2"/>
          <a:stretch/>
        </p:blipFill>
        <p:spPr>
          <a:xfrm>
            <a:off x="1828800" y="609480"/>
            <a:ext cx="5657760" cy="1047960"/>
          </a:xfrm>
          <a:prstGeom prst="rect">
            <a:avLst/>
          </a:prstGeom>
          <a:ln w="0">
            <a:noFill/>
          </a:ln>
        </p:spPr>
      </p:pic>
      <p:sp>
        <p:nvSpPr>
          <p:cNvPr id="98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3887640" cy="5475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Эти композиторы утверждали, что именно красота природы способна возбудить художественную фантазию композитора. Потребность передать в звуках состояние природы, её образы вызывает новые краски, новые выразительные средства. Кроме природы, импрессионисты вдохновлялись античной мифологией, сказочностью. В музыке господствовали мягкие переливы красок, гармоний, «мерцание» ритмов, сложная полифония тембр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2" name="Picture 3" descr="BOB0274"/>
          <p:cNvPicPr/>
          <p:nvPr/>
        </p:nvPicPr>
        <p:blipFill>
          <a:blip r:embed="rId1"/>
          <a:stretch/>
        </p:blipFill>
        <p:spPr>
          <a:xfrm>
            <a:off x="4716360" y="476280"/>
            <a:ext cx="3076560" cy="21430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4" descr="BOB0216"/>
          <p:cNvPicPr/>
          <p:nvPr/>
        </p:nvPicPr>
        <p:blipFill>
          <a:blip r:embed="rId2"/>
          <a:stretch/>
        </p:blipFill>
        <p:spPr>
          <a:xfrm>
            <a:off x="5580000" y="3716280"/>
            <a:ext cx="3102120" cy="2252880"/>
          </a:xfrm>
          <a:prstGeom prst="rect">
            <a:avLst/>
          </a:prstGeom>
          <a:ln w="0">
            <a:noFill/>
          </a:ln>
        </p:spPr>
      </p:pic>
      <p:sp>
        <p:nvSpPr>
          <p:cNvPr id="984" name="AutoShape 5"/>
          <p:cNvSpPr/>
          <p:nvPr/>
        </p:nvSpPr>
        <p:spPr>
          <a:xfrm>
            <a:off x="7596360" y="6021360"/>
            <a:ext cx="1547640" cy="836640"/>
          </a:xfrm>
          <a:custGeom>
            <a:avLst/>
            <a:gdLst>
              <a:gd name="textAreaLeft" fmla="*/ 54000 w 1547640"/>
              <a:gd name="textAreaRight" fmla="*/ 1493640 w 1547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9948" h="21600">
                <a:moveTo>
                  <a:pt x="0" y="0"/>
                </a:moveTo>
                <a:lnTo>
                  <a:pt x="39948" y="0"/>
                </a:lnTo>
                <a:lnTo>
                  <a:pt x="39948" y="21600"/>
                </a:lnTo>
                <a:lnTo>
                  <a:pt x="0" y="21600"/>
                </a:lnTo>
                <a:close/>
              </a:path>
              <a:path fill="lightenLess" w="39948" h="21600">
                <a:moveTo>
                  <a:pt x="0" y="0"/>
                </a:moveTo>
                <a:lnTo>
                  <a:pt x="39948" y="0"/>
                </a:lnTo>
                <a:lnTo>
                  <a:pt x="38548" y="1400"/>
                </a:lnTo>
                <a:lnTo>
                  <a:pt x="1400" y="1400"/>
                </a:lnTo>
                <a:close/>
              </a:path>
              <a:path fill="darken" w="39948" h="21600">
                <a:moveTo>
                  <a:pt x="39948" y="0"/>
                </a:moveTo>
                <a:lnTo>
                  <a:pt x="39948" y="21600"/>
                </a:lnTo>
                <a:lnTo>
                  <a:pt x="38548" y="20200"/>
                </a:lnTo>
                <a:lnTo>
                  <a:pt x="38548" y="1400"/>
                </a:lnTo>
                <a:close/>
              </a:path>
              <a:path fill="darkenLess" w="39948" h="21600">
                <a:moveTo>
                  <a:pt x="39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48" y="20200"/>
                </a:lnTo>
                <a:close/>
              </a:path>
              <a:path fill="lighten" w="39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948" h="21600">
                <a:moveTo>
                  <a:pt x="19974" y="3837"/>
                </a:moveTo>
                <a:lnTo>
                  <a:pt x="22550" y="6448"/>
                </a:lnTo>
                <a:lnTo>
                  <a:pt x="22550" y="4707"/>
                </a:lnTo>
                <a:lnTo>
                  <a:pt x="24326" y="4707"/>
                </a:lnTo>
                <a:lnTo>
                  <a:pt x="24326" y="8224"/>
                </a:lnTo>
                <a:lnTo>
                  <a:pt x="26937" y="10800"/>
                </a:lnTo>
                <a:lnTo>
                  <a:pt x="25283" y="10800"/>
                </a:lnTo>
                <a:lnTo>
                  <a:pt x="25283" y="17989"/>
                </a:lnTo>
                <a:lnTo>
                  <a:pt x="14665" y="17989"/>
                </a:lnTo>
                <a:lnTo>
                  <a:pt x="14665" y="10800"/>
                </a:lnTo>
                <a:lnTo>
                  <a:pt x="13011" y="10800"/>
                </a:lnTo>
                <a:close/>
              </a:path>
              <a:path fill="darkenLess" w="39948" h="21600">
                <a:moveTo>
                  <a:pt x="22550" y="6448"/>
                </a:moveTo>
                <a:lnTo>
                  <a:pt x="22550" y="4707"/>
                </a:lnTo>
                <a:lnTo>
                  <a:pt x="24326" y="4707"/>
                </a:lnTo>
                <a:lnTo>
                  <a:pt x="24326" y="8224"/>
                </a:lnTo>
                <a:close/>
              </a:path>
              <a:path fill="darkenLess" w="39948" h="21600">
                <a:moveTo>
                  <a:pt x="19052" y="14299"/>
                </a:moveTo>
                <a:lnTo>
                  <a:pt x="20897" y="14299"/>
                </a:lnTo>
                <a:lnTo>
                  <a:pt x="20897" y="17989"/>
                </a:lnTo>
                <a:lnTo>
                  <a:pt x="25283" y="17989"/>
                </a:lnTo>
                <a:lnTo>
                  <a:pt x="25283" y="10800"/>
                </a:lnTo>
                <a:lnTo>
                  <a:pt x="14665" y="10800"/>
                </a:lnTo>
                <a:lnTo>
                  <a:pt x="14665" y="17989"/>
                </a:lnTo>
                <a:lnTo>
                  <a:pt x="19052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/>
          </p:nvPr>
        </p:nvSpPr>
        <p:spPr>
          <a:xfrm>
            <a:off x="682200" y="1981080"/>
            <a:ext cx="3457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лод Дебюсс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Морис Рав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7" name="Picture 5" descr="Клод Дебюсси (Debussy)"/>
          <p:cNvPicPr/>
          <p:nvPr/>
        </p:nvPicPr>
        <p:blipFill>
          <a:blip r:embed="rId1"/>
          <a:stretch/>
        </p:blipFill>
        <p:spPr>
          <a:xfrm>
            <a:off x="5219640" y="1773360"/>
            <a:ext cx="1656000" cy="216828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6" descr="ravel"/>
          <p:cNvPicPr/>
          <p:nvPr/>
        </p:nvPicPr>
        <p:blipFill>
          <a:blip r:embed="rId2"/>
          <a:stretch/>
        </p:blipFill>
        <p:spPr>
          <a:xfrm>
            <a:off x="4788000" y="4365720"/>
            <a:ext cx="2576520" cy="2001600"/>
          </a:xfrm>
          <a:prstGeom prst="rect">
            <a:avLst/>
          </a:prstGeom>
          <a:ln w="0">
            <a:noFill/>
          </a:ln>
        </p:spPr>
      </p:pic>
      <p:sp>
        <p:nvSpPr>
          <p:cNvPr id="989" name="AutoShape 7"/>
          <p:cNvSpPr/>
          <p:nvPr/>
        </p:nvSpPr>
        <p:spPr>
          <a:xfrm>
            <a:off x="971640" y="1773360"/>
            <a:ext cx="3095640" cy="1042920"/>
          </a:xfrm>
          <a:custGeom>
            <a:avLst/>
            <a:gdLst>
              <a:gd name="textAreaLeft" fmla="*/ 67320 w 3095640"/>
              <a:gd name="textAreaRight" fmla="*/ 3028320 w 309564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4099" h="21600">
                <a:moveTo>
                  <a:pt x="0" y="0"/>
                </a:moveTo>
                <a:lnTo>
                  <a:pt x="64099" y="0"/>
                </a:lnTo>
                <a:lnTo>
                  <a:pt x="64099" y="21600"/>
                </a:lnTo>
                <a:lnTo>
                  <a:pt x="0" y="21600"/>
                </a:lnTo>
                <a:close/>
              </a:path>
              <a:path fill="lightenLess" w="64099" h="21600">
                <a:moveTo>
                  <a:pt x="0" y="0"/>
                </a:moveTo>
                <a:lnTo>
                  <a:pt x="64099" y="0"/>
                </a:lnTo>
                <a:lnTo>
                  <a:pt x="62699" y="1400"/>
                </a:lnTo>
                <a:lnTo>
                  <a:pt x="1400" y="1400"/>
                </a:lnTo>
                <a:close/>
              </a:path>
              <a:path fill="darken" w="64099" h="21600">
                <a:moveTo>
                  <a:pt x="64099" y="0"/>
                </a:moveTo>
                <a:lnTo>
                  <a:pt x="64099" y="21600"/>
                </a:lnTo>
                <a:lnTo>
                  <a:pt x="62699" y="20200"/>
                </a:lnTo>
                <a:lnTo>
                  <a:pt x="62699" y="1400"/>
                </a:lnTo>
                <a:close/>
              </a:path>
              <a:path fill="darkenLess" w="64099" h="21600">
                <a:moveTo>
                  <a:pt x="64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699" y="20200"/>
                </a:lnTo>
                <a:close/>
              </a:path>
              <a:path fill="lighten" w="64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099" h="21600">
                <a:moveTo>
                  <a:pt x="25043" y="3794"/>
                </a:moveTo>
                <a:lnTo>
                  <a:pt x="39056" y="10800"/>
                </a:lnTo>
                <a:lnTo>
                  <a:pt x="2504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90" name="AutoShape 8"/>
          <p:cNvSpPr/>
          <p:nvPr/>
        </p:nvSpPr>
        <p:spPr>
          <a:xfrm>
            <a:off x="755640" y="3789360"/>
            <a:ext cx="3240000" cy="1042920"/>
          </a:xfrm>
          <a:custGeom>
            <a:avLst/>
            <a:gdLst>
              <a:gd name="textAreaLeft" fmla="*/ 67320 w 3240000"/>
              <a:gd name="textAreaRight" fmla="*/ 3172680 w 3240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7088" h="21600">
                <a:moveTo>
                  <a:pt x="0" y="0"/>
                </a:moveTo>
                <a:lnTo>
                  <a:pt x="67088" y="0"/>
                </a:lnTo>
                <a:lnTo>
                  <a:pt x="67088" y="21600"/>
                </a:lnTo>
                <a:lnTo>
                  <a:pt x="0" y="21600"/>
                </a:lnTo>
                <a:close/>
              </a:path>
              <a:path fill="lightenLess" w="67088" h="21600">
                <a:moveTo>
                  <a:pt x="0" y="0"/>
                </a:moveTo>
                <a:lnTo>
                  <a:pt x="67088" y="0"/>
                </a:lnTo>
                <a:lnTo>
                  <a:pt x="65688" y="1400"/>
                </a:lnTo>
                <a:lnTo>
                  <a:pt x="1400" y="1400"/>
                </a:lnTo>
                <a:close/>
              </a:path>
              <a:path fill="darken" w="67088" h="21600">
                <a:moveTo>
                  <a:pt x="67088" y="0"/>
                </a:moveTo>
                <a:lnTo>
                  <a:pt x="67088" y="21600"/>
                </a:lnTo>
                <a:lnTo>
                  <a:pt x="65688" y="20200"/>
                </a:lnTo>
                <a:lnTo>
                  <a:pt x="65688" y="1400"/>
                </a:lnTo>
                <a:close/>
              </a:path>
              <a:path fill="darkenLess" w="67088" h="21600">
                <a:moveTo>
                  <a:pt x="6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88" y="20200"/>
                </a:lnTo>
                <a:close/>
              </a:path>
              <a:path fill="lighten" w="6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088" h="21600">
                <a:moveTo>
                  <a:pt x="26538" y="3794"/>
                </a:moveTo>
                <a:lnTo>
                  <a:pt x="40551" y="10800"/>
                </a:lnTo>
                <a:lnTo>
                  <a:pt x="2653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91" name="WordArt 9" descr=""/>
          <p:cNvPicPr/>
          <p:nvPr/>
        </p:nvPicPr>
        <p:blipFill>
          <a:blip r:embed="rId3"/>
          <a:stretch/>
        </p:blipFill>
        <p:spPr>
          <a:xfrm>
            <a:off x="1182600" y="476280"/>
            <a:ext cx="6954840" cy="931680"/>
          </a:xfrm>
          <a:prstGeom prst="rect">
            <a:avLst/>
          </a:prstGeom>
          <a:ln w="0">
            <a:noFill/>
          </a:ln>
        </p:spPr>
      </p:pic>
      <p:sp>
        <p:nvSpPr>
          <p:cNvPr id="99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610920" y="2133720"/>
            <a:ext cx="747396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век – это время кардинальных социальных перемен, революций, открывших новую эру в жизни человечества. Это время и тяжелых испытаний – двух мировых войн. 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век – это и взлет культуры и искусства, в том числе и музыкального, пришедший к великим художественным достижениям, расцвету многих национальных школ, формированию советской музыкальн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4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09" name="Picture 5" descr="J0153516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780000" y="4797360"/>
            <a:ext cx="1819080" cy="824040"/>
          </a:xfrm>
          <a:prstGeom prst="rect">
            <a:avLst/>
          </a:prstGeom>
          <a:ln w="0">
            <a:noFill/>
          </a:ln>
        </p:spPr>
      </p:pic>
      <p:pic>
        <p:nvPicPr>
          <p:cNvPr id="810" name="WordArt 6" descr=""/>
          <p:cNvPicPr/>
          <p:nvPr/>
        </p:nvPicPr>
        <p:blipFill>
          <a:blip r:embed="rId4"/>
          <a:stretch/>
        </p:blipFill>
        <p:spPr>
          <a:xfrm>
            <a:off x="3054240" y="549360"/>
            <a:ext cx="3144960" cy="1170000"/>
          </a:xfrm>
          <a:prstGeom prst="rect">
            <a:avLst/>
          </a:prstGeom>
          <a:ln w="0">
            <a:noFill/>
          </a:ln>
        </p:spPr>
      </p:pic>
      <p:sp>
        <p:nvSpPr>
          <p:cNvPr id="8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468000" y="2060280"/>
            <a:ext cx="4895640" cy="4327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Клод Дебюсси – один из величайших мастеров французской и мировой музыки в </a:t>
            </a:r>
            <a:r>
              <a:rPr b="0" lang="en-US" sz="20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веке. Он выявил в музыке новые возможности для передачи предельно утонченных оттенков многообразной палитры настроений человека и воспринимаемой им окружающей природы, создал особую импрессионистическую сферу музыкального ритма. Значение музыки Дебюсси </a:t>
            </a:r>
            <a:r>
              <a:rPr b="0" lang="en-US" sz="20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века часто сравнивают со значением музыки Шопена для музыкального искусства </a:t>
            </a:r>
            <a:r>
              <a:rPr b="0" lang="en-US" sz="2000" spc="-1" strike="noStrike">
                <a:solidFill>
                  <a:srgbClr val="7b1f2e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века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4" name="Picture 5" descr="Клод Дебюсси (Debussy)"/>
          <p:cNvPicPr/>
          <p:nvPr/>
        </p:nvPicPr>
        <p:blipFill>
          <a:blip r:embed="rId1"/>
          <a:stretch/>
        </p:blipFill>
        <p:spPr>
          <a:xfrm>
            <a:off x="6084720" y="2421000"/>
            <a:ext cx="2590920" cy="3394080"/>
          </a:xfrm>
          <a:prstGeom prst="rect">
            <a:avLst/>
          </a:prstGeom>
          <a:ln w="0">
            <a:noFill/>
          </a:ln>
        </p:spPr>
      </p:pic>
      <p:pic>
        <p:nvPicPr>
          <p:cNvPr id="995" name="WordArt 6" descr=""/>
          <p:cNvPicPr/>
          <p:nvPr/>
        </p:nvPicPr>
        <p:blipFill>
          <a:blip r:embed="rId2"/>
          <a:stretch/>
        </p:blipFill>
        <p:spPr>
          <a:xfrm>
            <a:off x="2914560" y="401760"/>
            <a:ext cx="3529080" cy="1304640"/>
          </a:xfrm>
          <a:prstGeom prst="rect">
            <a:avLst/>
          </a:prstGeom>
          <a:ln w="0">
            <a:noFill/>
          </a:ln>
        </p:spPr>
      </p:pic>
      <p:sp>
        <p:nvSpPr>
          <p:cNvPr id="99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684000" y="836280"/>
            <a:ext cx="4537080" cy="5475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Среди сочинений: оперы «Родриго и Химена», «Пеллеас и Мелизанда», балеты «Игры», Камма», симфонические циклы, фортепианные циклы и сюиты: «Детский уголок», 3 кантаты, песни и романсы, музыка к театральным спектаклям: Мученичество святого Себастьяна», 12 этюдов, 24 прелюдии, очень много ноктюрнов, камерно-инструментальные ансамбли и др. Клод Дебюсси оказал большое влияние на композиторов других стран мир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8" name="Picture 4" descr="Клод Дебюсси"/>
          <p:cNvPicPr/>
          <p:nvPr/>
        </p:nvPicPr>
        <p:blipFill>
          <a:blip r:embed="rId1"/>
          <a:stretch/>
        </p:blipFill>
        <p:spPr>
          <a:xfrm>
            <a:off x="6012000" y="1341360"/>
            <a:ext cx="2173320" cy="3797280"/>
          </a:xfrm>
          <a:prstGeom prst="rect">
            <a:avLst/>
          </a:prstGeom>
          <a:ln w="0">
            <a:noFill/>
          </a:ln>
        </p:spPr>
      </p:pic>
      <p:sp>
        <p:nvSpPr>
          <p:cNvPr id="999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0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4537080" cy="4691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Морис Равель был французским композитором. В музыкальном стиле Равеля получили дальнейшее развитие также новые импрессионистические музыкальные средства, найденные Дебюсси, несмотря на все различие их почерков. Самая характерная и наиболее яркая черта творчества композитора – удивительное сочетание логики. Стройности, интеллекта – и сердечности, вдохновения – черта, близкая духу французского классицизма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2" name="Picture 6" descr="21"/>
          <p:cNvPicPr/>
          <p:nvPr/>
        </p:nvPicPr>
        <p:blipFill>
          <a:blip r:embed="rId1"/>
          <a:stretch/>
        </p:blipFill>
        <p:spPr>
          <a:xfrm>
            <a:off x="5724360" y="2349360"/>
            <a:ext cx="2454480" cy="3629160"/>
          </a:xfrm>
          <a:prstGeom prst="rect">
            <a:avLst/>
          </a:prstGeom>
          <a:ln w="0">
            <a:noFill/>
          </a:ln>
        </p:spPr>
      </p:pic>
      <p:pic>
        <p:nvPicPr>
          <p:cNvPr id="1003" name="WordArt 7" descr=""/>
          <p:cNvPicPr/>
          <p:nvPr/>
        </p:nvPicPr>
        <p:blipFill>
          <a:blip r:embed="rId2"/>
          <a:stretch/>
        </p:blipFill>
        <p:spPr>
          <a:xfrm>
            <a:off x="2987640" y="401760"/>
            <a:ext cx="3400560" cy="1304640"/>
          </a:xfrm>
          <a:prstGeom prst="rect">
            <a:avLst/>
          </a:prstGeom>
          <a:ln w="0">
            <a:noFill/>
          </a:ln>
        </p:spPr>
      </p:pic>
      <p:sp>
        <p:nvSpPr>
          <p:cNvPr id="100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4249800" cy="597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Балет «Дафнис и Хлоя» - первое и самое значительное произведение новой балетной французской музыки. Всемирную известность получило «Болеро» Равеля – симфоническое произведение, созданное в духе популярного испанского танца. Автор опер «Испанский час», «Дитя и волшебство», фортепианных пьес – циклов «Отражение», «Ночной Гаспар», «Павана умерших инфанте», фантазии для скрипки, сочинений для оркестра «Испанская рапсодия», «Вальс» и других произведени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6" name="Picture 4" descr="t_ravel"/>
          <p:cNvPicPr/>
          <p:nvPr/>
        </p:nvPicPr>
        <p:blipFill>
          <a:blip r:embed="rId1"/>
          <a:stretch/>
        </p:blipFill>
        <p:spPr>
          <a:xfrm>
            <a:off x="4859280" y="1700280"/>
            <a:ext cx="3960720" cy="2838240"/>
          </a:xfrm>
          <a:prstGeom prst="rect">
            <a:avLst/>
          </a:prstGeom>
          <a:ln w="0">
            <a:noFill/>
          </a:ln>
        </p:spPr>
      </p:pic>
      <p:sp>
        <p:nvSpPr>
          <p:cNvPr id="1007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0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/>
          </p:nvPr>
        </p:nvSpPr>
        <p:spPr>
          <a:xfrm>
            <a:off x="611280" y="242064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исание направления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10" name="WordArt 7" descr=""/>
          <p:cNvPicPr/>
          <p:nvPr/>
        </p:nvPicPr>
        <p:blipFill>
          <a:blip r:embed="rId1"/>
          <a:stretch/>
        </p:blipFill>
        <p:spPr>
          <a:xfrm>
            <a:off x="3481560" y="835200"/>
            <a:ext cx="2035080" cy="11160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9" descr="Безымянный"/>
          <p:cNvPicPr/>
          <p:nvPr/>
        </p:nvPicPr>
        <p:blipFill>
          <a:blip r:embed="rId2"/>
          <a:stretch/>
        </p:blipFill>
        <p:spPr>
          <a:xfrm>
            <a:off x="6372360" y="3429000"/>
            <a:ext cx="1903320" cy="2805120"/>
          </a:xfrm>
          <a:prstGeom prst="rect">
            <a:avLst/>
          </a:prstGeom>
          <a:ln w="0">
            <a:noFill/>
          </a:ln>
        </p:spPr>
      </p:pic>
      <p:sp>
        <p:nvSpPr>
          <p:cNvPr id="1012" name="AutoShape 10"/>
          <p:cNvSpPr/>
          <p:nvPr/>
        </p:nvSpPr>
        <p:spPr>
          <a:xfrm>
            <a:off x="1042920" y="2421000"/>
            <a:ext cx="4969080" cy="574560"/>
          </a:xfrm>
          <a:custGeom>
            <a:avLst/>
            <a:gdLst>
              <a:gd name="textAreaLeft" fmla="*/ 37080 w 4969080"/>
              <a:gd name="textAreaRight" fmla="*/ 4932000 w 4969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86704" h="21600">
                <a:moveTo>
                  <a:pt x="0" y="0"/>
                </a:moveTo>
                <a:lnTo>
                  <a:pt x="186704" y="0"/>
                </a:lnTo>
                <a:lnTo>
                  <a:pt x="186704" y="21600"/>
                </a:lnTo>
                <a:lnTo>
                  <a:pt x="0" y="21600"/>
                </a:lnTo>
                <a:close/>
              </a:path>
              <a:path fill="lightenLess" w="186704" h="21600">
                <a:moveTo>
                  <a:pt x="0" y="0"/>
                </a:moveTo>
                <a:lnTo>
                  <a:pt x="186704" y="0"/>
                </a:lnTo>
                <a:lnTo>
                  <a:pt x="185304" y="1400"/>
                </a:lnTo>
                <a:lnTo>
                  <a:pt x="1400" y="1400"/>
                </a:lnTo>
                <a:close/>
              </a:path>
              <a:path fill="darken" w="186704" h="21600">
                <a:moveTo>
                  <a:pt x="186704" y="0"/>
                </a:moveTo>
                <a:lnTo>
                  <a:pt x="186704" y="21600"/>
                </a:lnTo>
                <a:lnTo>
                  <a:pt x="185304" y="20200"/>
                </a:lnTo>
                <a:lnTo>
                  <a:pt x="185304" y="1400"/>
                </a:lnTo>
                <a:close/>
              </a:path>
              <a:path fill="darkenLess" w="186704" h="21600">
                <a:moveTo>
                  <a:pt x="18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5304" y="20200"/>
                </a:lnTo>
                <a:close/>
              </a:path>
              <a:path fill="lighten" w="18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6704" h="21600">
                <a:moveTo>
                  <a:pt x="86346" y="3794"/>
                </a:moveTo>
                <a:lnTo>
                  <a:pt x="100359" y="10800"/>
                </a:lnTo>
                <a:lnTo>
                  <a:pt x="8634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13" name="AutoShape 11"/>
          <p:cNvSpPr/>
          <p:nvPr/>
        </p:nvSpPr>
        <p:spPr>
          <a:xfrm>
            <a:off x="900000" y="3068640"/>
            <a:ext cx="5112000" cy="504720"/>
          </a:xfrm>
          <a:custGeom>
            <a:avLst/>
            <a:gdLst>
              <a:gd name="textAreaLeft" fmla="*/ 32400 w 5112000"/>
              <a:gd name="textAreaRight" fmla="*/ 5079600 w 511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8633" h="21600">
                <a:moveTo>
                  <a:pt x="0" y="0"/>
                </a:moveTo>
                <a:lnTo>
                  <a:pt x="218633" y="0"/>
                </a:lnTo>
                <a:lnTo>
                  <a:pt x="218633" y="21600"/>
                </a:lnTo>
                <a:lnTo>
                  <a:pt x="0" y="21600"/>
                </a:lnTo>
                <a:close/>
              </a:path>
              <a:path fill="lightenLess" w="218633" h="21600">
                <a:moveTo>
                  <a:pt x="0" y="0"/>
                </a:moveTo>
                <a:lnTo>
                  <a:pt x="218633" y="0"/>
                </a:lnTo>
                <a:lnTo>
                  <a:pt x="217233" y="1400"/>
                </a:lnTo>
                <a:lnTo>
                  <a:pt x="1400" y="1400"/>
                </a:lnTo>
                <a:close/>
              </a:path>
              <a:path fill="darken" w="218633" h="21600">
                <a:moveTo>
                  <a:pt x="218633" y="0"/>
                </a:moveTo>
                <a:lnTo>
                  <a:pt x="218633" y="21600"/>
                </a:lnTo>
                <a:lnTo>
                  <a:pt x="217233" y="20200"/>
                </a:lnTo>
                <a:lnTo>
                  <a:pt x="217233" y="1400"/>
                </a:lnTo>
                <a:close/>
              </a:path>
              <a:path fill="darkenLess" w="218633" h="21600">
                <a:moveTo>
                  <a:pt x="218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233" y="20200"/>
                </a:lnTo>
                <a:close/>
              </a:path>
              <a:path fill="lighten" w="218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633" h="21600">
                <a:moveTo>
                  <a:pt x="102310" y="3794"/>
                </a:moveTo>
                <a:lnTo>
                  <a:pt x="116323" y="10800"/>
                </a:lnTo>
                <a:lnTo>
                  <a:pt x="10231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14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755280" y="1628640"/>
            <a:ext cx="504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музыкальной культуре Западной Европы и США – это течение, очень пестрое по идейно-художественному уровню и эстетическим принципам. Оно представлено как произведениями, выражающими протест против социальной несправедливости, милитаризма, войны, так и сочинениями, проповедующими анархизм, аморальность, насилие.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К концу шестого десятилетия рок превратился в мощную политическую и культурную силу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16" name="Picture 8" descr="Nirvana "/>
          <p:cNvPicPr/>
          <p:nvPr/>
        </p:nvPicPr>
        <p:blipFill>
          <a:blip r:embed="rId1"/>
          <a:stretch/>
        </p:blipFill>
        <p:spPr>
          <a:xfrm>
            <a:off x="6084720" y="2060640"/>
            <a:ext cx="2306880" cy="3601800"/>
          </a:xfrm>
          <a:prstGeom prst="rect">
            <a:avLst/>
          </a:prstGeom>
          <a:ln w="0">
            <a:noFill/>
          </a:ln>
        </p:spPr>
      </p:pic>
      <p:pic>
        <p:nvPicPr>
          <p:cNvPr id="1017" name="WordArt 9" descr=""/>
          <p:cNvPicPr/>
          <p:nvPr/>
        </p:nvPicPr>
        <p:blipFill>
          <a:blip r:embed="rId2"/>
          <a:stretch/>
        </p:blipFill>
        <p:spPr>
          <a:xfrm>
            <a:off x="1755720" y="609480"/>
            <a:ext cx="5730840" cy="706680"/>
          </a:xfrm>
          <a:prstGeom prst="rect">
            <a:avLst/>
          </a:prstGeom>
          <a:ln w="0">
            <a:noFill/>
          </a:ln>
        </p:spPr>
      </p:pic>
      <p:sp>
        <p:nvSpPr>
          <p:cNvPr id="1018" name="AutoShape 11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610920" y="2420640"/>
            <a:ext cx="36716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Beatl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x Pistol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eep Purpl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21" name="WordArt 7" descr=""/>
          <p:cNvPicPr/>
          <p:nvPr/>
        </p:nvPicPr>
        <p:blipFill>
          <a:blip r:embed="rId1"/>
          <a:stretch/>
        </p:blipFill>
        <p:spPr>
          <a:xfrm>
            <a:off x="1689120" y="689040"/>
            <a:ext cx="6192720" cy="9810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Beatles 2"/>
          <p:cNvPicPr/>
          <p:nvPr/>
        </p:nvPicPr>
        <p:blipFill>
          <a:blip r:embed="rId2"/>
          <a:stretch/>
        </p:blipFill>
        <p:spPr>
          <a:xfrm>
            <a:off x="4140360" y="2276640"/>
            <a:ext cx="3670200" cy="3301920"/>
          </a:xfrm>
          <a:prstGeom prst="rect">
            <a:avLst/>
          </a:prstGeom>
          <a:ln w="0">
            <a:noFill/>
          </a:ln>
        </p:spPr>
      </p:pic>
      <p:sp>
        <p:nvSpPr>
          <p:cNvPr id="1023" name="AutoShape 10"/>
          <p:cNvSpPr/>
          <p:nvPr/>
        </p:nvSpPr>
        <p:spPr>
          <a:xfrm>
            <a:off x="1258920" y="2276640"/>
            <a:ext cx="2160720" cy="649080"/>
          </a:xfrm>
          <a:custGeom>
            <a:avLst/>
            <a:gdLst>
              <a:gd name="textAreaLeft" fmla="*/ 41760 w 2160720"/>
              <a:gd name="textAreaRight" fmla="*/ 2118960 w 216072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71876" h="21600">
                <a:moveTo>
                  <a:pt x="0" y="0"/>
                </a:moveTo>
                <a:lnTo>
                  <a:pt x="71876" y="0"/>
                </a:lnTo>
                <a:lnTo>
                  <a:pt x="71876" y="21600"/>
                </a:lnTo>
                <a:lnTo>
                  <a:pt x="0" y="21600"/>
                </a:lnTo>
                <a:close/>
              </a:path>
              <a:path fill="lightenLess" w="71876" h="21600">
                <a:moveTo>
                  <a:pt x="0" y="0"/>
                </a:moveTo>
                <a:lnTo>
                  <a:pt x="71876" y="0"/>
                </a:lnTo>
                <a:lnTo>
                  <a:pt x="70476" y="1400"/>
                </a:lnTo>
                <a:lnTo>
                  <a:pt x="1400" y="1400"/>
                </a:lnTo>
                <a:close/>
              </a:path>
              <a:path fill="darken" w="71876" h="21600">
                <a:moveTo>
                  <a:pt x="71876" y="0"/>
                </a:moveTo>
                <a:lnTo>
                  <a:pt x="71876" y="21600"/>
                </a:lnTo>
                <a:lnTo>
                  <a:pt x="70476" y="20200"/>
                </a:lnTo>
                <a:lnTo>
                  <a:pt x="70476" y="1400"/>
                </a:lnTo>
                <a:close/>
              </a:path>
              <a:path fill="darkenLess" w="71876" h="21600">
                <a:moveTo>
                  <a:pt x="71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76" y="20200"/>
                </a:lnTo>
                <a:close/>
              </a:path>
              <a:path fill="lighten" w="71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876" h="21600">
                <a:moveTo>
                  <a:pt x="28932" y="3794"/>
                </a:moveTo>
                <a:lnTo>
                  <a:pt x="42945" y="10800"/>
                </a:lnTo>
                <a:lnTo>
                  <a:pt x="2893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24" name="AutoShape 11"/>
          <p:cNvSpPr/>
          <p:nvPr/>
        </p:nvSpPr>
        <p:spPr>
          <a:xfrm>
            <a:off x="1258920" y="3284640"/>
            <a:ext cx="2160720" cy="720720"/>
          </a:xfrm>
          <a:custGeom>
            <a:avLst/>
            <a:gdLst>
              <a:gd name="textAreaLeft" fmla="*/ 46440 w 2160720"/>
              <a:gd name="textAreaRight" fmla="*/ 2114280 w 216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64735" h="21600">
                <a:moveTo>
                  <a:pt x="0" y="0"/>
                </a:moveTo>
                <a:lnTo>
                  <a:pt x="64735" y="0"/>
                </a:lnTo>
                <a:lnTo>
                  <a:pt x="64735" y="21600"/>
                </a:lnTo>
                <a:lnTo>
                  <a:pt x="0" y="21600"/>
                </a:lnTo>
                <a:close/>
              </a:path>
              <a:path fill="lightenLess" w="64735" h="21600">
                <a:moveTo>
                  <a:pt x="0" y="0"/>
                </a:moveTo>
                <a:lnTo>
                  <a:pt x="64735" y="0"/>
                </a:lnTo>
                <a:lnTo>
                  <a:pt x="63335" y="1400"/>
                </a:lnTo>
                <a:lnTo>
                  <a:pt x="1400" y="1400"/>
                </a:lnTo>
                <a:close/>
              </a:path>
              <a:path fill="darken" w="64735" h="21600">
                <a:moveTo>
                  <a:pt x="64735" y="0"/>
                </a:moveTo>
                <a:lnTo>
                  <a:pt x="64735" y="21600"/>
                </a:lnTo>
                <a:lnTo>
                  <a:pt x="63335" y="20200"/>
                </a:lnTo>
                <a:lnTo>
                  <a:pt x="63335" y="1400"/>
                </a:lnTo>
                <a:close/>
              </a:path>
              <a:path fill="darkenLess" w="64735" h="21600">
                <a:moveTo>
                  <a:pt x="64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5" y="20200"/>
                </a:lnTo>
                <a:close/>
              </a:path>
              <a:path fill="lighten" w="64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5" h="21600">
                <a:moveTo>
                  <a:pt x="25361" y="3794"/>
                </a:moveTo>
                <a:lnTo>
                  <a:pt x="39374" y="10800"/>
                </a:lnTo>
                <a:lnTo>
                  <a:pt x="2536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25" name="AutoShape 12"/>
          <p:cNvSpPr/>
          <p:nvPr/>
        </p:nvSpPr>
        <p:spPr>
          <a:xfrm>
            <a:off x="1258920" y="4437000"/>
            <a:ext cx="2233440" cy="504720"/>
          </a:xfrm>
          <a:custGeom>
            <a:avLst/>
            <a:gdLst>
              <a:gd name="textAreaLeft" fmla="*/ 32400 w 2233440"/>
              <a:gd name="textAreaRight" fmla="*/ 2201040 w 22334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5530" h="21600">
                <a:moveTo>
                  <a:pt x="0" y="0"/>
                </a:moveTo>
                <a:lnTo>
                  <a:pt x="95530" y="0"/>
                </a:lnTo>
                <a:lnTo>
                  <a:pt x="95530" y="21600"/>
                </a:lnTo>
                <a:lnTo>
                  <a:pt x="0" y="21600"/>
                </a:lnTo>
                <a:close/>
              </a:path>
              <a:path fill="lightenLess" w="95530" h="21600">
                <a:moveTo>
                  <a:pt x="0" y="0"/>
                </a:moveTo>
                <a:lnTo>
                  <a:pt x="95530" y="0"/>
                </a:lnTo>
                <a:lnTo>
                  <a:pt x="94130" y="1400"/>
                </a:lnTo>
                <a:lnTo>
                  <a:pt x="1400" y="1400"/>
                </a:lnTo>
                <a:close/>
              </a:path>
              <a:path fill="darken" w="95530" h="21600">
                <a:moveTo>
                  <a:pt x="95530" y="0"/>
                </a:moveTo>
                <a:lnTo>
                  <a:pt x="95530" y="21600"/>
                </a:lnTo>
                <a:lnTo>
                  <a:pt x="94130" y="20200"/>
                </a:lnTo>
                <a:lnTo>
                  <a:pt x="94130" y="1400"/>
                </a:lnTo>
                <a:close/>
              </a:path>
              <a:path fill="darkenLess" w="95530" h="21600">
                <a:moveTo>
                  <a:pt x="95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30" y="20200"/>
                </a:lnTo>
                <a:close/>
              </a:path>
              <a:path fill="lighten" w="95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5530" h="21600">
                <a:moveTo>
                  <a:pt x="40758" y="3794"/>
                </a:moveTo>
                <a:lnTo>
                  <a:pt x="54771" y="10800"/>
                </a:lnTo>
                <a:lnTo>
                  <a:pt x="4075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26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3816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Наверное, группа «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he Beatles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» самая известная из всех на нашей планете. Сначала она играла в стиле скиффл, а затем в рок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н-ролл. Название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«The Beatles»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они приобрели намного позднее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Состав знаменитой группы менялся не очень часто. Первое серьёзное выступление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- в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апреле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1960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года в Шотландии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28" name="WordArt 6" descr=""/>
          <p:cNvPicPr/>
          <p:nvPr/>
        </p:nvPicPr>
        <p:blipFill>
          <a:blip r:embed="rId1"/>
          <a:stretch/>
        </p:blipFill>
        <p:spPr>
          <a:xfrm>
            <a:off x="3121200" y="609480"/>
            <a:ext cx="3047760" cy="676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7" descr="81"/>
          <p:cNvPicPr/>
          <p:nvPr/>
        </p:nvPicPr>
        <p:blipFill>
          <a:blip r:embed="rId2"/>
          <a:stretch/>
        </p:blipFill>
        <p:spPr>
          <a:xfrm>
            <a:off x="4788000" y="1989000"/>
            <a:ext cx="3817800" cy="3262320"/>
          </a:xfrm>
          <a:prstGeom prst="rect">
            <a:avLst/>
          </a:prstGeom>
          <a:ln w="0">
            <a:noFill/>
          </a:ln>
        </p:spPr>
      </p:pic>
      <p:sp>
        <p:nvSpPr>
          <p:cNvPr id="1030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/>
          </p:nvPr>
        </p:nvSpPr>
        <p:spPr>
          <a:xfrm>
            <a:off x="539280" y="907920"/>
            <a:ext cx="3745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“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ove me do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” была первой настоящей пластинкой “ Биттлз”. Их покорение мира началось со Швеции. Последнее выступление стало “The Beatles” состоялось 29 августа 1966 года. В середине 1967 года они закончили работу над пластинкой “ Сержант Пеппер”, следующей и последней их работой была пластинка “Let it be”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В 1970 году группа распалась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2" name="Picture 4" descr="Рисунок1"/>
          <p:cNvPicPr/>
          <p:nvPr/>
        </p:nvPicPr>
        <p:blipFill>
          <a:blip r:embed="rId1"/>
          <a:stretch/>
        </p:blipFill>
        <p:spPr>
          <a:xfrm>
            <a:off x="4500720" y="1413000"/>
            <a:ext cx="3752640" cy="3638520"/>
          </a:xfrm>
          <a:prstGeom prst="rect">
            <a:avLst/>
          </a:prstGeom>
          <a:ln w="0">
            <a:noFill/>
          </a:ln>
        </p:spPr>
      </p:pic>
      <p:sp>
        <p:nvSpPr>
          <p:cNvPr id="1033" name="AutoShape 5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34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920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 выступление этой группы состоялось в ноябре 1975-го в одном из колледжей Лондона. После британского тура, группа участвовала на панк -фестивале 1976 года, В мае "Se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stols" подписались к "Virgin" и наконец-то выпустили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 Save The Que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. К концу года отношения в группе разладились. В 1996-м Роттен, Джонс, Кук и Матлок возродили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x Pistol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6" name="WordArt 4" descr=""/>
          <p:cNvPicPr/>
          <p:nvPr/>
        </p:nvPicPr>
        <p:blipFill>
          <a:blip r:embed="rId1"/>
          <a:stretch/>
        </p:blipFill>
        <p:spPr>
          <a:xfrm>
            <a:off x="3340080" y="426960"/>
            <a:ext cx="2895480" cy="7686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8" descr="sex-pistols-050523"/>
          <p:cNvPicPr/>
          <p:nvPr/>
        </p:nvPicPr>
        <p:blipFill>
          <a:blip r:embed="rId2"/>
          <a:stretch/>
        </p:blipFill>
        <p:spPr>
          <a:xfrm>
            <a:off x="2411280" y="3860640"/>
            <a:ext cx="4394160" cy="2592720"/>
          </a:xfrm>
          <a:prstGeom prst="rect">
            <a:avLst/>
          </a:prstGeom>
          <a:ln w="0">
            <a:noFill/>
          </a:ln>
        </p:spPr>
      </p:pic>
      <p:sp>
        <p:nvSpPr>
          <p:cNvPr id="1038" name="AutoShape 10"/>
          <p:cNvSpPr/>
          <p:nvPr/>
        </p:nvSpPr>
        <p:spPr>
          <a:xfrm>
            <a:off x="81010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39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39592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Романт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Экспрессио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Джа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Авангард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Импрессио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3" name="Picture 7" descr="119"/>
          <p:cNvPicPr/>
          <p:nvPr/>
        </p:nvPicPr>
        <p:blipFill>
          <a:blip r:embed="rId1"/>
          <a:stretch/>
        </p:blipFill>
        <p:spPr>
          <a:xfrm>
            <a:off x="4648320" y="2585880"/>
            <a:ext cx="4038480" cy="2903760"/>
          </a:xfrm>
          <a:prstGeom prst="rect">
            <a:avLst/>
          </a:prstGeom>
          <a:ln w="0">
            <a:noFill/>
          </a:ln>
        </p:spPr>
      </p:pic>
      <p:sp>
        <p:nvSpPr>
          <p:cNvPr id="814" name="AutoShape 11">
            <a:hlinkClick r:id="rId2"/>
          </p:cNvPr>
          <p:cNvSpPr/>
          <p:nvPr/>
        </p:nvSpPr>
        <p:spPr>
          <a:xfrm>
            <a:off x="826920" y="2133720"/>
            <a:ext cx="2089440" cy="649080"/>
          </a:xfrm>
          <a:custGeom>
            <a:avLst/>
            <a:gdLst>
              <a:gd name="textAreaLeft" fmla="*/ 41760 w 2089440"/>
              <a:gd name="textAreaRight" fmla="*/ 2047680 w 20894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69506" h="21600">
                <a:moveTo>
                  <a:pt x="0" y="0"/>
                </a:moveTo>
                <a:lnTo>
                  <a:pt x="69506" y="0"/>
                </a:lnTo>
                <a:lnTo>
                  <a:pt x="69506" y="21600"/>
                </a:lnTo>
                <a:lnTo>
                  <a:pt x="0" y="21600"/>
                </a:lnTo>
                <a:close/>
              </a:path>
              <a:path fill="lightenLess" w="69506" h="21600">
                <a:moveTo>
                  <a:pt x="0" y="0"/>
                </a:moveTo>
                <a:lnTo>
                  <a:pt x="69506" y="0"/>
                </a:lnTo>
                <a:lnTo>
                  <a:pt x="68106" y="1400"/>
                </a:lnTo>
                <a:lnTo>
                  <a:pt x="1400" y="1400"/>
                </a:lnTo>
                <a:close/>
              </a:path>
              <a:path fill="darken" w="69506" h="21600">
                <a:moveTo>
                  <a:pt x="69506" y="0"/>
                </a:moveTo>
                <a:lnTo>
                  <a:pt x="69506" y="21600"/>
                </a:lnTo>
                <a:lnTo>
                  <a:pt x="68106" y="20200"/>
                </a:lnTo>
                <a:lnTo>
                  <a:pt x="68106" y="1400"/>
                </a:lnTo>
                <a:close/>
              </a:path>
              <a:path fill="darkenLess" w="69506" h="21600">
                <a:moveTo>
                  <a:pt x="69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106" y="20200"/>
                </a:lnTo>
                <a:close/>
              </a:path>
              <a:path fill="lighten" w="69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506" h="21600">
                <a:moveTo>
                  <a:pt x="27746" y="3794"/>
                </a:moveTo>
                <a:lnTo>
                  <a:pt x="41759" y="10800"/>
                </a:lnTo>
                <a:lnTo>
                  <a:pt x="2774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5" name="AutoShape 12">
            <a:hlinkClick r:id="rId3"/>
          </p:cNvPr>
          <p:cNvSpPr/>
          <p:nvPr/>
        </p:nvSpPr>
        <p:spPr>
          <a:xfrm>
            <a:off x="826920" y="3357720"/>
            <a:ext cx="1332000" cy="502920"/>
          </a:xfrm>
          <a:custGeom>
            <a:avLst/>
            <a:gdLst>
              <a:gd name="textAreaLeft" fmla="*/ 32400 w 1332000"/>
              <a:gd name="textAreaRight" fmla="*/ 1299600 w 1332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57183" h="21600">
                <a:moveTo>
                  <a:pt x="0" y="0"/>
                </a:moveTo>
                <a:lnTo>
                  <a:pt x="57183" y="0"/>
                </a:lnTo>
                <a:lnTo>
                  <a:pt x="57183" y="21600"/>
                </a:lnTo>
                <a:lnTo>
                  <a:pt x="0" y="21600"/>
                </a:lnTo>
                <a:close/>
              </a:path>
              <a:path fill="lightenLess" w="57183" h="21600">
                <a:moveTo>
                  <a:pt x="0" y="0"/>
                </a:moveTo>
                <a:lnTo>
                  <a:pt x="57183" y="0"/>
                </a:lnTo>
                <a:lnTo>
                  <a:pt x="55783" y="1400"/>
                </a:lnTo>
                <a:lnTo>
                  <a:pt x="1400" y="1400"/>
                </a:lnTo>
                <a:close/>
              </a:path>
              <a:path fill="darken" w="57183" h="21600">
                <a:moveTo>
                  <a:pt x="57183" y="0"/>
                </a:moveTo>
                <a:lnTo>
                  <a:pt x="57183" y="21600"/>
                </a:lnTo>
                <a:lnTo>
                  <a:pt x="55783" y="20200"/>
                </a:lnTo>
                <a:lnTo>
                  <a:pt x="55783" y="1400"/>
                </a:lnTo>
                <a:close/>
              </a:path>
              <a:path fill="darkenLess" w="57183" h="21600">
                <a:moveTo>
                  <a:pt x="57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783" y="20200"/>
                </a:lnTo>
                <a:close/>
              </a:path>
              <a:path fill="lighten" w="57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183" h="21600">
                <a:moveTo>
                  <a:pt x="21585" y="3794"/>
                </a:moveTo>
                <a:lnTo>
                  <a:pt x="35598" y="10800"/>
                </a:lnTo>
                <a:lnTo>
                  <a:pt x="2158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6" name="AutoShape 13">
            <a:hlinkClick r:id="rId4"/>
          </p:cNvPr>
          <p:cNvSpPr/>
          <p:nvPr/>
        </p:nvSpPr>
        <p:spPr>
          <a:xfrm>
            <a:off x="900000" y="3933720"/>
            <a:ext cx="2519640" cy="505080"/>
          </a:xfrm>
          <a:custGeom>
            <a:avLst/>
            <a:gdLst>
              <a:gd name="textAreaLeft" fmla="*/ 32400 w 2519640"/>
              <a:gd name="textAreaRight" fmla="*/ 2486880 w 2519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107692" h="21600">
                <a:moveTo>
                  <a:pt x="0" y="0"/>
                </a:moveTo>
                <a:lnTo>
                  <a:pt x="107692" y="0"/>
                </a:lnTo>
                <a:lnTo>
                  <a:pt x="107692" y="21600"/>
                </a:lnTo>
                <a:lnTo>
                  <a:pt x="0" y="21600"/>
                </a:lnTo>
                <a:close/>
              </a:path>
              <a:path fill="lightenLess" w="107692" h="21600">
                <a:moveTo>
                  <a:pt x="0" y="0"/>
                </a:moveTo>
                <a:lnTo>
                  <a:pt x="107692" y="0"/>
                </a:lnTo>
                <a:lnTo>
                  <a:pt x="106292" y="1400"/>
                </a:lnTo>
                <a:lnTo>
                  <a:pt x="1400" y="1400"/>
                </a:lnTo>
                <a:close/>
              </a:path>
              <a:path fill="darken" w="107692" h="21600">
                <a:moveTo>
                  <a:pt x="107692" y="0"/>
                </a:moveTo>
                <a:lnTo>
                  <a:pt x="107692" y="21600"/>
                </a:lnTo>
                <a:lnTo>
                  <a:pt x="106292" y="20200"/>
                </a:lnTo>
                <a:lnTo>
                  <a:pt x="106292" y="1400"/>
                </a:lnTo>
                <a:close/>
              </a:path>
              <a:path fill="darkenLess" w="107692" h="21600">
                <a:moveTo>
                  <a:pt x="10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292" y="20200"/>
                </a:lnTo>
                <a:close/>
              </a:path>
              <a:path fill="lighten" w="10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692" h="21600">
                <a:moveTo>
                  <a:pt x="46840" y="3794"/>
                </a:moveTo>
                <a:lnTo>
                  <a:pt x="60853" y="10800"/>
                </a:lnTo>
                <a:lnTo>
                  <a:pt x="4684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7" name="AutoShape 14">
            <a:hlinkClick r:id="rId5"/>
          </p:cNvPr>
          <p:cNvSpPr/>
          <p:nvPr/>
        </p:nvSpPr>
        <p:spPr>
          <a:xfrm>
            <a:off x="755640" y="4508640"/>
            <a:ext cx="3024360" cy="576000"/>
          </a:xfrm>
          <a:custGeom>
            <a:avLst/>
            <a:gdLst>
              <a:gd name="textAreaLeft" fmla="*/ 37080 w 3024360"/>
              <a:gd name="textAreaRight" fmla="*/ 2987280 w 302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13356" h="21600">
                <a:moveTo>
                  <a:pt x="0" y="0"/>
                </a:moveTo>
                <a:lnTo>
                  <a:pt x="113356" y="0"/>
                </a:lnTo>
                <a:lnTo>
                  <a:pt x="113356" y="21600"/>
                </a:lnTo>
                <a:lnTo>
                  <a:pt x="0" y="21600"/>
                </a:lnTo>
                <a:close/>
              </a:path>
              <a:path fill="lightenLess" w="113356" h="21600">
                <a:moveTo>
                  <a:pt x="0" y="0"/>
                </a:moveTo>
                <a:lnTo>
                  <a:pt x="113356" y="0"/>
                </a:lnTo>
                <a:lnTo>
                  <a:pt x="111956" y="1400"/>
                </a:lnTo>
                <a:lnTo>
                  <a:pt x="1400" y="1400"/>
                </a:lnTo>
                <a:close/>
              </a:path>
              <a:path fill="darken" w="113356" h="21600">
                <a:moveTo>
                  <a:pt x="113356" y="0"/>
                </a:moveTo>
                <a:lnTo>
                  <a:pt x="113356" y="21600"/>
                </a:lnTo>
                <a:lnTo>
                  <a:pt x="111956" y="20200"/>
                </a:lnTo>
                <a:lnTo>
                  <a:pt x="111956" y="1400"/>
                </a:lnTo>
                <a:close/>
              </a:path>
              <a:path fill="darkenLess" w="113356" h="21600">
                <a:moveTo>
                  <a:pt x="113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56" y="20200"/>
                </a:lnTo>
                <a:close/>
              </a:path>
              <a:path fill="lighten" w="113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3356" h="21600">
                <a:moveTo>
                  <a:pt x="49672" y="3794"/>
                </a:moveTo>
                <a:lnTo>
                  <a:pt x="63685" y="10800"/>
                </a:lnTo>
                <a:lnTo>
                  <a:pt x="4967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8" name="AutoShape 15">
            <a:hlinkClick r:id="rId6"/>
          </p:cNvPr>
          <p:cNvSpPr/>
          <p:nvPr/>
        </p:nvSpPr>
        <p:spPr>
          <a:xfrm>
            <a:off x="826920" y="2781360"/>
            <a:ext cx="3097440" cy="503280"/>
          </a:xfrm>
          <a:custGeom>
            <a:avLst/>
            <a:gdLst>
              <a:gd name="textAreaLeft" fmla="*/ 32400 w 3097440"/>
              <a:gd name="textAreaRight" fmla="*/ 3065040 w 3097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32858" h="21600">
                <a:moveTo>
                  <a:pt x="0" y="0"/>
                </a:moveTo>
                <a:lnTo>
                  <a:pt x="132858" y="0"/>
                </a:lnTo>
                <a:lnTo>
                  <a:pt x="132858" y="21600"/>
                </a:lnTo>
                <a:lnTo>
                  <a:pt x="0" y="21600"/>
                </a:lnTo>
                <a:close/>
              </a:path>
              <a:path fill="lightenLess" w="132858" h="21600">
                <a:moveTo>
                  <a:pt x="0" y="0"/>
                </a:moveTo>
                <a:lnTo>
                  <a:pt x="132858" y="0"/>
                </a:lnTo>
                <a:lnTo>
                  <a:pt x="131458" y="1400"/>
                </a:lnTo>
                <a:lnTo>
                  <a:pt x="1400" y="1400"/>
                </a:lnTo>
                <a:close/>
              </a:path>
              <a:path fill="darken" w="132858" h="21600">
                <a:moveTo>
                  <a:pt x="132858" y="0"/>
                </a:moveTo>
                <a:lnTo>
                  <a:pt x="132858" y="21600"/>
                </a:lnTo>
                <a:lnTo>
                  <a:pt x="131458" y="20200"/>
                </a:lnTo>
                <a:lnTo>
                  <a:pt x="131458" y="1400"/>
                </a:lnTo>
                <a:close/>
              </a:path>
              <a:path fill="darkenLess" w="132858" h="21600">
                <a:moveTo>
                  <a:pt x="1328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458" y="20200"/>
                </a:lnTo>
                <a:close/>
              </a:path>
              <a:path fill="lighten" w="1328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2858" h="21600">
                <a:moveTo>
                  <a:pt x="59422" y="3794"/>
                </a:moveTo>
                <a:lnTo>
                  <a:pt x="73435" y="10800"/>
                </a:lnTo>
                <a:lnTo>
                  <a:pt x="5942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19" name="WordArt 17" descr=""/>
          <p:cNvPicPr/>
          <p:nvPr/>
        </p:nvPicPr>
        <p:blipFill>
          <a:blip r:embed="rId7"/>
          <a:stretch/>
        </p:blipFill>
        <p:spPr>
          <a:xfrm>
            <a:off x="1822320" y="603360"/>
            <a:ext cx="6486480" cy="658800"/>
          </a:xfrm>
          <a:prstGeom prst="rect">
            <a:avLst/>
          </a:prstGeom>
          <a:ln w="0">
            <a:noFill/>
          </a:ln>
        </p:spPr>
      </p:pic>
      <p:pic>
        <p:nvPicPr>
          <p:cNvPr id="820" name="WordArt 18" descr=""/>
          <p:cNvPicPr/>
          <p:nvPr/>
        </p:nvPicPr>
        <p:blipFill>
          <a:blip r:embed="rId8"/>
          <a:stretch/>
        </p:blipFill>
        <p:spPr>
          <a:xfrm>
            <a:off x="2468520" y="1328760"/>
            <a:ext cx="4633920" cy="658800"/>
          </a:xfrm>
          <a:prstGeom prst="rect">
            <a:avLst/>
          </a:prstGeom>
          <a:ln w="0">
            <a:noFill/>
          </a:ln>
        </p:spPr>
      </p:pic>
      <p:sp>
        <p:nvSpPr>
          <p:cNvPr id="821" name="AutoShape 19">
            <a:hlinkClick r:id="rId9"/>
          </p:cNvPr>
          <p:cNvSpPr/>
          <p:nvPr/>
        </p:nvSpPr>
        <p:spPr>
          <a:xfrm>
            <a:off x="611280" y="5084640"/>
            <a:ext cx="3168720" cy="574920"/>
          </a:xfrm>
          <a:custGeom>
            <a:avLst/>
            <a:gdLst>
              <a:gd name="textAreaLeft" fmla="*/ 37080 w 3168720"/>
              <a:gd name="textAreaRight" fmla="*/ 3131640 w 316872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118989" h="21600">
                <a:moveTo>
                  <a:pt x="0" y="0"/>
                </a:moveTo>
                <a:lnTo>
                  <a:pt x="118989" y="0"/>
                </a:lnTo>
                <a:lnTo>
                  <a:pt x="118989" y="21600"/>
                </a:lnTo>
                <a:lnTo>
                  <a:pt x="0" y="21600"/>
                </a:lnTo>
                <a:close/>
              </a:path>
              <a:path fill="lightenLess" w="118989" h="21600">
                <a:moveTo>
                  <a:pt x="0" y="0"/>
                </a:moveTo>
                <a:lnTo>
                  <a:pt x="118989" y="0"/>
                </a:lnTo>
                <a:lnTo>
                  <a:pt x="117589" y="1400"/>
                </a:lnTo>
                <a:lnTo>
                  <a:pt x="1400" y="1400"/>
                </a:lnTo>
                <a:close/>
              </a:path>
              <a:path fill="darken" w="118989" h="21600">
                <a:moveTo>
                  <a:pt x="118989" y="0"/>
                </a:moveTo>
                <a:lnTo>
                  <a:pt x="118989" y="21600"/>
                </a:lnTo>
                <a:lnTo>
                  <a:pt x="117589" y="20200"/>
                </a:lnTo>
                <a:lnTo>
                  <a:pt x="117589" y="1400"/>
                </a:lnTo>
                <a:close/>
              </a:path>
              <a:path fill="darkenLess" w="118989" h="21600">
                <a:moveTo>
                  <a:pt x="118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589" y="20200"/>
                </a:lnTo>
                <a:close/>
              </a:path>
              <a:path fill="lighten" w="118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989" h="21600">
                <a:moveTo>
                  <a:pt x="52488" y="3794"/>
                </a:moveTo>
                <a:lnTo>
                  <a:pt x="66501" y="10800"/>
                </a:lnTo>
                <a:lnTo>
                  <a:pt x="5248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302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Deep Purple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была создана в апреле 1968 года. Их состав менялся почти 10 раз, но первый состав группы был поначалу таким: Ричи Блэкмор - гитара, Род Эванс - вокал, Джон Лорд - клавишные и бэк-вокал, Иэн Пейс - ударные, Ник Симпер - бас-гитара и бэк-вокал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1" name="WordArt 4" descr="Зеленый мрамор"/>
          <p:cNvPicPr/>
          <p:nvPr/>
        </p:nvPicPr>
        <p:blipFill>
          <a:blip r:embed="rId1"/>
          <a:stretch/>
        </p:blipFill>
        <p:spPr>
          <a:xfrm>
            <a:off x="2468520" y="676440"/>
            <a:ext cx="4292640" cy="8776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5" descr="dp"/>
          <p:cNvPicPr/>
          <p:nvPr/>
        </p:nvPicPr>
        <p:blipFill>
          <a:blip r:embed="rId2"/>
          <a:stretch/>
        </p:blipFill>
        <p:spPr>
          <a:xfrm>
            <a:off x="3924360" y="2133720"/>
            <a:ext cx="4692600" cy="3519360"/>
          </a:xfrm>
          <a:prstGeom prst="rect">
            <a:avLst/>
          </a:prstGeom>
          <a:ln w="0">
            <a:noFill/>
          </a:ln>
        </p:spPr>
      </p:pic>
      <p:sp>
        <p:nvSpPr>
          <p:cNvPr id="1043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40305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Первым альбомом группы стал 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“Shades of Deep Purple”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, выглядя экспериментальным и шероховатым. Но последующие альбомы стали лучше, что привело их к известности после двух лет в Европе. Они сделали попытку соединить рок и классику, что вызвало противоречия, но обеспечило группе столь большое внимание. В 1971 году у группы начинаются серьезные выступления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5" name="Picture 5" descr="composer607"/>
          <p:cNvPicPr/>
          <p:nvPr/>
        </p:nvPicPr>
        <p:blipFill>
          <a:blip r:embed="rId1"/>
          <a:stretch/>
        </p:blipFill>
        <p:spPr>
          <a:xfrm>
            <a:off x="5364000" y="1700280"/>
            <a:ext cx="2667240" cy="3284640"/>
          </a:xfrm>
          <a:prstGeom prst="rect">
            <a:avLst/>
          </a:prstGeom>
          <a:ln w="0">
            <a:noFill/>
          </a:ln>
        </p:spPr>
      </p:pic>
      <p:sp>
        <p:nvSpPr>
          <p:cNvPr id="1046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73864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Описание на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7" descr="J0309705"/>
          <p:cNvPicPr/>
          <p:nvPr/>
        </p:nvPicPr>
        <p:blipFill>
          <a:blip r:embed="rId1"/>
          <a:stretch/>
        </p:blipFill>
        <p:spPr>
          <a:xfrm>
            <a:off x="1692360" y="3573360"/>
            <a:ext cx="5832360" cy="2808360"/>
          </a:xfrm>
          <a:prstGeom prst="rect">
            <a:avLst/>
          </a:prstGeom>
          <a:ln w="0">
            <a:noFill/>
          </a:ln>
        </p:spPr>
      </p:pic>
      <p:sp>
        <p:nvSpPr>
          <p:cNvPr id="825" name="AutoShape 8">
            <a:hlinkClick r:id="rId2"/>
          </p:cNvPr>
          <p:cNvSpPr/>
          <p:nvPr/>
        </p:nvSpPr>
        <p:spPr>
          <a:xfrm>
            <a:off x="611280" y="1916280"/>
            <a:ext cx="4968720" cy="576000"/>
          </a:xfrm>
          <a:custGeom>
            <a:avLst/>
            <a:gdLst>
              <a:gd name="textAreaLeft" fmla="*/ 37080 w 4968720"/>
              <a:gd name="textAreaRight" fmla="*/ 4931640 w 4968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86224" h="21600">
                <a:moveTo>
                  <a:pt x="0" y="0"/>
                </a:moveTo>
                <a:lnTo>
                  <a:pt x="186224" y="0"/>
                </a:lnTo>
                <a:lnTo>
                  <a:pt x="186224" y="21600"/>
                </a:lnTo>
                <a:lnTo>
                  <a:pt x="0" y="21600"/>
                </a:lnTo>
                <a:close/>
              </a:path>
              <a:path fill="lightenLess" w="186224" h="21600">
                <a:moveTo>
                  <a:pt x="0" y="0"/>
                </a:moveTo>
                <a:lnTo>
                  <a:pt x="186224" y="0"/>
                </a:lnTo>
                <a:lnTo>
                  <a:pt x="184824" y="1400"/>
                </a:lnTo>
                <a:lnTo>
                  <a:pt x="1400" y="1400"/>
                </a:lnTo>
                <a:close/>
              </a:path>
              <a:path fill="darken" w="186224" h="21600">
                <a:moveTo>
                  <a:pt x="186224" y="0"/>
                </a:moveTo>
                <a:lnTo>
                  <a:pt x="186224" y="21600"/>
                </a:lnTo>
                <a:lnTo>
                  <a:pt x="184824" y="20200"/>
                </a:lnTo>
                <a:lnTo>
                  <a:pt x="184824" y="1400"/>
                </a:lnTo>
                <a:close/>
              </a:path>
              <a:path fill="darkenLess" w="186224" h="21600">
                <a:moveTo>
                  <a:pt x="186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4824" y="20200"/>
                </a:lnTo>
                <a:close/>
              </a:path>
              <a:path fill="lighten" w="186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6224" h="21600">
                <a:moveTo>
                  <a:pt x="86106" y="3794"/>
                </a:moveTo>
                <a:lnTo>
                  <a:pt x="100119" y="10800"/>
                </a:lnTo>
                <a:lnTo>
                  <a:pt x="861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26" name="AutoShape 9">
            <a:hlinkClick r:id="rId3"/>
          </p:cNvPr>
          <p:cNvSpPr/>
          <p:nvPr/>
        </p:nvSpPr>
        <p:spPr>
          <a:xfrm>
            <a:off x="684360" y="2565360"/>
            <a:ext cx="5040000" cy="504720"/>
          </a:xfrm>
          <a:custGeom>
            <a:avLst/>
            <a:gdLst>
              <a:gd name="textAreaLeft" fmla="*/ 32400 w 5040000"/>
              <a:gd name="textAreaRight" fmla="*/ 5007600 w 50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5554" h="21600">
                <a:moveTo>
                  <a:pt x="0" y="0"/>
                </a:moveTo>
                <a:lnTo>
                  <a:pt x="215554" y="0"/>
                </a:lnTo>
                <a:lnTo>
                  <a:pt x="215554" y="21600"/>
                </a:lnTo>
                <a:lnTo>
                  <a:pt x="0" y="21600"/>
                </a:lnTo>
                <a:close/>
              </a:path>
              <a:path fill="lightenLess" w="215554" h="21600">
                <a:moveTo>
                  <a:pt x="0" y="0"/>
                </a:moveTo>
                <a:lnTo>
                  <a:pt x="215554" y="0"/>
                </a:lnTo>
                <a:lnTo>
                  <a:pt x="214154" y="1400"/>
                </a:lnTo>
                <a:lnTo>
                  <a:pt x="1400" y="1400"/>
                </a:lnTo>
                <a:close/>
              </a:path>
              <a:path fill="darken" w="215554" h="21600">
                <a:moveTo>
                  <a:pt x="215554" y="0"/>
                </a:moveTo>
                <a:lnTo>
                  <a:pt x="215554" y="21600"/>
                </a:lnTo>
                <a:lnTo>
                  <a:pt x="214154" y="20200"/>
                </a:lnTo>
                <a:lnTo>
                  <a:pt x="214154" y="1400"/>
                </a:lnTo>
                <a:close/>
              </a:path>
              <a:path fill="darkenLess" w="215554" h="21600">
                <a:moveTo>
                  <a:pt x="215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54" y="20200"/>
                </a:lnTo>
                <a:close/>
              </a:path>
              <a:path fill="lighten" w="215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5554" h="21600">
                <a:moveTo>
                  <a:pt x="100770" y="3794"/>
                </a:moveTo>
                <a:lnTo>
                  <a:pt x="114783" y="10800"/>
                </a:lnTo>
                <a:lnTo>
                  <a:pt x="10077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27" name="WordArt 11" descr=""/>
          <p:cNvPicPr/>
          <p:nvPr/>
        </p:nvPicPr>
        <p:blipFill>
          <a:blip r:embed="rId4"/>
          <a:stretch/>
        </p:blipFill>
        <p:spPr>
          <a:xfrm>
            <a:off x="2914560" y="476280"/>
            <a:ext cx="3784680" cy="1176480"/>
          </a:xfrm>
          <a:prstGeom prst="rect">
            <a:avLst/>
          </a:prstGeom>
          <a:ln w="0">
            <a:noFill/>
          </a:ln>
        </p:spPr>
      </p:pic>
      <p:sp>
        <p:nvSpPr>
          <p:cNvPr id="8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50000">
              <a:srgbClr val="bbe0e3"/>
            </a:gs>
            <a:gs pos="100000">
              <a:srgbClr val="3399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3851280" y="1773360"/>
            <a:ext cx="430848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е продолжал развиваться и романтизм. Его наиболее сильная сторона – сопротивление антигуманистическим тенденциям буржуазного общества, утверждения духовной силы и красоты человеческой личности, призыв к духовному обновлению – трансформировалась, стали преобладать субъективистское начало, пассивность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4" descr="Бриттен"/>
          <p:cNvPicPr/>
          <p:nvPr/>
        </p:nvPicPr>
        <p:blipFill>
          <a:blip r:embed="rId1"/>
          <a:stretch/>
        </p:blipFill>
        <p:spPr>
          <a:xfrm>
            <a:off x="755640" y="1916280"/>
            <a:ext cx="2451240" cy="3301920"/>
          </a:xfrm>
          <a:prstGeom prst="rect">
            <a:avLst/>
          </a:prstGeom>
          <a:ln w="0">
            <a:noFill/>
          </a:ln>
        </p:spPr>
      </p:pic>
      <p:sp>
        <p:nvSpPr>
          <p:cNvPr id="831" name="Rectangle 5"/>
          <p:cNvSpPr/>
          <p:nvPr/>
        </p:nvSpPr>
        <p:spPr>
          <a:xfrm>
            <a:off x="760320" y="537300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Бенджамин Бриттен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32" name="WordArt 6" descr=""/>
          <p:cNvPicPr/>
          <p:nvPr/>
        </p:nvPicPr>
        <p:blipFill>
          <a:blip r:embed="rId2"/>
          <a:stretch/>
        </p:blipFill>
        <p:spPr>
          <a:xfrm>
            <a:off x="1542960" y="615960"/>
            <a:ext cx="6229440" cy="663480"/>
          </a:xfrm>
          <a:prstGeom prst="rect">
            <a:avLst/>
          </a:prstGeom>
          <a:ln w="0">
            <a:noFill/>
          </a:ln>
        </p:spPr>
      </p:pic>
      <p:sp>
        <p:nvSpPr>
          <p:cNvPr id="8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50000">
              <a:srgbClr val="bbe0e3"/>
            </a:gs>
            <a:gs pos="100000">
              <a:srgbClr val="33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4321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мантические тенденции во многом помогали противостоять модернистическим тенденциям, стремящимся деформировать содержание искусства. В отдельные периоды творчества Б. Бартока, Б. Бриттена и других западных композиторов, а также С. Прокофьева и Д. Шостаковича способствовали обогащению образных решений ярким, романтизированных выра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6" descr="Сергей Прокофьев"/>
          <p:cNvPicPr/>
          <p:nvPr/>
        </p:nvPicPr>
        <p:blipFill>
          <a:blip r:embed="rId1"/>
          <a:stretch/>
        </p:blipFill>
        <p:spPr>
          <a:xfrm>
            <a:off x="5292720" y="1484280"/>
            <a:ext cx="2814480" cy="323712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7"/>
          <p:cNvSpPr/>
          <p:nvPr/>
        </p:nvSpPr>
        <p:spPr>
          <a:xfrm>
            <a:off x="5512680" y="486828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Сергей Прокофьев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37" name="AutoShape 8">
            <a:hlinkClick r:id="rId2"/>
          </p:cNvPr>
          <p:cNvSpPr/>
          <p:nvPr/>
        </p:nvSpPr>
        <p:spPr>
          <a:xfrm>
            <a:off x="7885080" y="581508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3837"/>
                </a:moveTo>
                <a:lnTo>
                  <a:pt x="15612" y="6448"/>
                </a:ln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lnTo>
                  <a:pt x="19999" y="10800"/>
                </a:lnTo>
                <a:lnTo>
                  <a:pt x="18345" y="10800"/>
                </a:lnTo>
                <a:lnTo>
                  <a:pt x="18345" y="17989"/>
                </a:lnTo>
                <a:lnTo>
                  <a:pt x="7727" y="17989"/>
                </a:lnTo>
                <a:lnTo>
                  <a:pt x="7727" y="10800"/>
                </a:lnTo>
                <a:lnTo>
                  <a:pt x="6073" y="10800"/>
                </a:lnTo>
                <a:close/>
              </a:path>
              <a:path fill="darkenLess" w="26072" h="21600">
                <a:moveTo>
                  <a:pt x="15612" y="6448"/>
                </a:move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close/>
              </a:path>
              <a:path fill="darkenLess" w="26072" h="21600">
                <a:moveTo>
                  <a:pt x="12113" y="14299"/>
                </a:moveTo>
                <a:lnTo>
                  <a:pt x="13959" y="14299"/>
                </a:lnTo>
                <a:lnTo>
                  <a:pt x="13959" y="17989"/>
                </a:lnTo>
                <a:lnTo>
                  <a:pt x="18345" y="17989"/>
                </a:lnTo>
                <a:lnTo>
                  <a:pt x="18345" y="10800"/>
                </a:lnTo>
                <a:lnTo>
                  <a:pt x="7727" y="10800"/>
                </a:lnTo>
                <a:lnTo>
                  <a:pt x="7727" y="17989"/>
                </a:lnTo>
                <a:lnTo>
                  <a:pt x="12113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446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Бенджамин Брит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Дмитрий Шостак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7" descr="Бенджамин Бриттен"/>
          <p:cNvPicPr/>
          <p:nvPr/>
        </p:nvPicPr>
        <p:blipFill>
          <a:blip r:embed="rId1"/>
          <a:stretch/>
        </p:blipFill>
        <p:spPr>
          <a:xfrm>
            <a:off x="5364000" y="1628640"/>
            <a:ext cx="1511640" cy="2016360"/>
          </a:xfrm>
          <a:prstGeom prst="rect">
            <a:avLst/>
          </a:prstGeom>
          <a:ln w="0">
            <a:noFill/>
          </a:ln>
        </p:spPr>
      </p:pic>
      <p:sp>
        <p:nvSpPr>
          <p:cNvPr id="841" name="AutoShape 13">
            <a:hlinkClick r:id="rId2"/>
          </p:cNvPr>
          <p:cNvSpPr/>
          <p:nvPr/>
        </p:nvSpPr>
        <p:spPr>
          <a:xfrm>
            <a:off x="1042920" y="1844640"/>
            <a:ext cx="3457800" cy="827280"/>
          </a:xfrm>
          <a:custGeom>
            <a:avLst/>
            <a:gdLst>
              <a:gd name="textAreaLeft" fmla="*/ 53640 w 3457800"/>
              <a:gd name="textAreaRight" fmla="*/ 3404160 w 345780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90252" h="21600">
                <a:moveTo>
                  <a:pt x="0" y="0"/>
                </a:moveTo>
                <a:lnTo>
                  <a:pt x="90252" y="0"/>
                </a:lnTo>
                <a:lnTo>
                  <a:pt x="90252" y="21600"/>
                </a:lnTo>
                <a:lnTo>
                  <a:pt x="0" y="21600"/>
                </a:lnTo>
                <a:close/>
              </a:path>
              <a:path fill="lightenLess" w="90252" h="21600">
                <a:moveTo>
                  <a:pt x="0" y="0"/>
                </a:moveTo>
                <a:lnTo>
                  <a:pt x="90252" y="0"/>
                </a:lnTo>
                <a:lnTo>
                  <a:pt x="88852" y="1400"/>
                </a:lnTo>
                <a:lnTo>
                  <a:pt x="1400" y="1400"/>
                </a:lnTo>
                <a:close/>
              </a:path>
              <a:path fill="darken" w="90252" h="21600">
                <a:moveTo>
                  <a:pt x="90252" y="0"/>
                </a:moveTo>
                <a:lnTo>
                  <a:pt x="90252" y="21600"/>
                </a:lnTo>
                <a:lnTo>
                  <a:pt x="88852" y="20200"/>
                </a:lnTo>
                <a:lnTo>
                  <a:pt x="88852" y="1400"/>
                </a:lnTo>
                <a:close/>
              </a:path>
              <a:path fill="darkenLess" w="90252" h="21600">
                <a:moveTo>
                  <a:pt x="9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52" y="20200"/>
                </a:lnTo>
                <a:close/>
              </a:path>
              <a:path fill="lighten" w="9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252" h="21600">
                <a:moveTo>
                  <a:pt x="38120" y="3794"/>
                </a:moveTo>
                <a:lnTo>
                  <a:pt x="52133" y="10800"/>
                </a:lnTo>
                <a:lnTo>
                  <a:pt x="3812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42" name="AutoShape 14">
            <a:hlinkClick r:id="rId3"/>
          </p:cNvPr>
          <p:cNvSpPr/>
          <p:nvPr/>
        </p:nvSpPr>
        <p:spPr>
          <a:xfrm>
            <a:off x="1116000" y="4365720"/>
            <a:ext cx="3600360" cy="826920"/>
          </a:xfrm>
          <a:custGeom>
            <a:avLst/>
            <a:gdLst>
              <a:gd name="textAreaLeft" fmla="*/ 53280 w 3600360"/>
              <a:gd name="textAreaRight" fmla="*/ 3547080 w 360036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94014" h="21600">
                <a:moveTo>
                  <a:pt x="0" y="0"/>
                </a:moveTo>
                <a:lnTo>
                  <a:pt x="94014" y="0"/>
                </a:lnTo>
                <a:lnTo>
                  <a:pt x="94014" y="21600"/>
                </a:lnTo>
                <a:lnTo>
                  <a:pt x="0" y="21600"/>
                </a:lnTo>
                <a:close/>
              </a:path>
              <a:path fill="lightenLess" w="94014" h="21600">
                <a:moveTo>
                  <a:pt x="0" y="0"/>
                </a:moveTo>
                <a:lnTo>
                  <a:pt x="94014" y="0"/>
                </a:lnTo>
                <a:lnTo>
                  <a:pt x="92614" y="1400"/>
                </a:lnTo>
                <a:lnTo>
                  <a:pt x="1400" y="1400"/>
                </a:lnTo>
                <a:close/>
              </a:path>
              <a:path fill="darken" w="94014" h="21600">
                <a:moveTo>
                  <a:pt x="94014" y="0"/>
                </a:moveTo>
                <a:lnTo>
                  <a:pt x="94014" y="21600"/>
                </a:lnTo>
                <a:lnTo>
                  <a:pt x="92614" y="20200"/>
                </a:lnTo>
                <a:lnTo>
                  <a:pt x="92614" y="1400"/>
                </a:lnTo>
                <a:close/>
              </a:path>
              <a:path fill="darkenLess" w="94014" h="21600">
                <a:moveTo>
                  <a:pt x="9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614" y="20200"/>
                </a:lnTo>
                <a:close/>
              </a:path>
              <a:path fill="lighten" w="9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4014" h="21600">
                <a:moveTo>
                  <a:pt x="40000" y="3794"/>
                </a:moveTo>
                <a:lnTo>
                  <a:pt x="54013" y="10800"/>
                </a:lnTo>
                <a:lnTo>
                  <a:pt x="400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43" name="Picture 15" descr="Шостакович 1"/>
          <p:cNvPicPr/>
          <p:nvPr/>
        </p:nvPicPr>
        <p:blipFill>
          <a:blip r:embed="rId4"/>
          <a:stretch/>
        </p:blipFill>
        <p:spPr>
          <a:xfrm>
            <a:off x="5364000" y="4005360"/>
            <a:ext cx="1565280" cy="1854000"/>
          </a:xfrm>
          <a:prstGeom prst="rect">
            <a:avLst/>
          </a:prstGeom>
          <a:ln w="0">
            <a:noFill/>
          </a:ln>
        </p:spPr>
      </p:pic>
      <p:pic>
        <p:nvPicPr>
          <p:cNvPr id="844" name="WordArt 20" descr=""/>
          <p:cNvPicPr/>
          <p:nvPr/>
        </p:nvPicPr>
        <p:blipFill>
          <a:blip r:embed="rId5"/>
          <a:stretch/>
        </p:blipFill>
        <p:spPr>
          <a:xfrm>
            <a:off x="1042920" y="476280"/>
            <a:ext cx="6881760" cy="882720"/>
          </a:xfrm>
          <a:prstGeom prst="rect">
            <a:avLst/>
          </a:prstGeom>
          <a:ln w="0">
            <a:noFill/>
          </a:ln>
        </p:spPr>
      </p:pic>
      <p:sp>
        <p:nvSpPr>
          <p:cNvPr id="8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9:37:33Z</dcterms:created>
  <dc:creator>Bulat</dc:creator>
  <dc:description/>
  <dc:language>en-US</dc:language>
  <cp:lastModifiedBy>LEGION</cp:lastModifiedBy>
  <dcterms:modified xsi:type="dcterms:W3CDTF">2015-04-02T06:56:17Z</dcterms:modified>
  <cp:revision>73</cp:revision>
  <dc:subject/>
  <dc:title>Слайд 1</dc:title>
</cp:coreProperties>
</file>