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9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73.png" ContentType="image/png"/>
  <Override PartName="/ppt/media/image57.png" ContentType="image/png"/>
  <Override PartName="/ppt/media/image56.png" ContentType="image/png"/>
  <Override PartName="/ppt/media/image55.png" ContentType="image/png"/>
  <Override PartName="/ppt/media/image20.jpeg" ContentType="image/jpeg"/>
  <Override PartName="/ppt/media/image53.jpeg" ContentType="image/jpeg"/>
  <Override PartName="/ppt/media/image23.png" ContentType="image/png"/>
  <Override PartName="/ppt/media/image50.png" ContentType="image/png"/>
  <Override PartName="/ppt/media/image49.jpeg" ContentType="image/jpeg"/>
  <Override PartName="/ppt/media/image48.png" ContentType="image/png"/>
  <Override PartName="/ppt/media/image47.jpeg" ContentType="image/jpeg"/>
  <Override PartName="/ppt/media/image68.png" ContentType="image/png"/>
  <Override PartName="/ppt/media/image46.jpeg" ContentType="image/jpeg"/>
  <Override PartName="/ppt/media/image45.png" ContentType="image/png"/>
  <Override PartName="/ppt/media/image44.jpeg" ContentType="image/jpeg"/>
  <Override PartName="/ppt/media/image43.png" ContentType="image/png"/>
  <Override PartName="/ppt/media/image40.png" ContentType="image/png"/>
  <Override PartName="/ppt/media/image38.jpeg" ContentType="image/jpeg"/>
  <Override PartName="/ppt/media/image37.jpeg" ContentType="image/jpeg"/>
  <Override PartName="/ppt/media/image36.png" ContentType="image/png"/>
  <Override PartName="/ppt/media/image31.png" ContentType="image/png"/>
  <Override PartName="/ppt/media/image30.jpeg" ContentType="image/jpeg"/>
  <Override PartName="/ppt/media/image39.png" ContentType="image/png"/>
  <Override PartName="/ppt/media/image64.jpeg" ContentType="image/jpeg"/>
  <Override PartName="/ppt/media/image29.jpeg" ContentType="image/jpeg"/>
  <Override PartName="/ppt/media/image18.jpeg" ContentType="image/jpeg"/>
  <Override PartName="/ppt/media/image22.png" ContentType="image/png"/>
  <Override PartName="/ppt/media/image24.jpeg" ContentType="image/jpeg"/>
  <Override PartName="/ppt/media/image83.jpeg" ContentType="image/jpeg"/>
  <Override PartName="/ppt/media/image16.jpeg" ContentType="image/jpeg"/>
  <Override PartName="/ppt/media/image51.jpeg" ContentType="image/jpeg"/>
  <Override PartName="/ppt/media/image62.png" ContentType="image/png"/>
  <Override PartName="/ppt/media/image60.png" ContentType="image/png"/>
  <Override PartName="/ppt/media/image63.jpeg" ContentType="image/jpeg"/>
  <Override PartName="/ppt/media/image74.png" ContentType="image/png"/>
  <Override PartName="/ppt/media/image78.jpeg" ContentType="image/jpeg"/>
  <Override PartName="/ppt/media/image61.jpeg" ContentType="image/jpeg"/>
  <Override PartName="/ppt/media/image77.png" ContentType="image/png"/>
  <Override PartName="/ppt/media/image86.jpeg" ContentType="image/jpeg"/>
  <Override PartName="/ppt/media/image75.jpeg" ContentType="image/jpeg"/>
  <Override PartName="/ppt/media/image81.jpeg" ContentType="image/jpeg"/>
  <Override PartName="/ppt/media/image85.jpeg" ContentType="image/jpeg"/>
  <Override PartName="/ppt/media/image26.jpeg" ContentType="image/jpeg"/>
  <Override PartName="/ppt/media/image79.png" ContentType="image/png"/>
  <Override PartName="/ppt/media/image70.jpeg" ContentType="image/jpeg"/>
  <Override PartName="/ppt/media/image17.png" ContentType="image/png"/>
  <Override PartName="/ppt/media/image82.png" ContentType="image/png"/>
  <Override PartName="/ppt/media/image5.png" ContentType="image/png"/>
  <Override PartName="/ppt/media/image65.jpeg" ContentType="image/jpeg"/>
  <Override PartName="/ppt/media/image8.png" ContentType="image/png"/>
  <Override PartName="/ppt/media/image80.jpeg" ContentType="image/jpeg"/>
  <Override PartName="/ppt/media/image52.jpeg" ContentType="image/jpeg"/>
  <Override PartName="/ppt/media/image13.png" ContentType="image/png"/>
  <Override PartName="/ppt/media/image67.png" ContentType="image/png"/>
  <Override PartName="/ppt/media/image69.jpeg" ContentType="image/jpeg"/>
  <Override PartName="/ppt/media/image76.png" ContentType="image/png"/>
  <Override PartName="/ppt/media/image66.jpeg" ContentType="image/jpeg"/>
  <Override PartName="/ppt/media/image25.png" ContentType="image/png"/>
  <Override PartName="/ppt/media/image72.jpeg" ContentType="image/jpeg"/>
  <Override PartName="/ppt/media/image2.png" ContentType="image/png"/>
  <Override PartName="/ppt/media/image32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10.png" ContentType="image/png"/>
  <Override PartName="/ppt/media/image35.jpeg" ContentType="image/jpeg"/>
  <Override PartName="/ppt/media/image1.jpeg" ContentType="image/jpeg"/>
  <Override PartName="/ppt/media/image21.png" ContentType="image/png"/>
  <Override PartName="/ppt/media/image6.jpeg" ContentType="image/jpeg"/>
  <Override PartName="/ppt/media/image71.png" ContentType="image/png"/>
  <Override PartName="/ppt/media/image14.jpeg" ContentType="image/jpeg"/>
  <Override PartName="/ppt/media/image41.jpeg" ContentType="image/jpeg"/>
  <Override PartName="/ppt/media/image54.png" ContentType="image/png"/>
  <Override PartName="/ppt/media/image28.jpeg" ContentType="image/jpeg"/>
  <Override PartName="/ppt/media/image11.jpeg" ContentType="image/jpeg"/>
  <Override PartName="/ppt/media/image84.png" ContentType="image/png"/>
  <Override PartName="/ppt/media/image19.png" ContentType="image/png"/>
  <Override PartName="/ppt/media/image7.png" ContentType="image/png"/>
  <Override PartName="/ppt/media/image34.jpeg" ContentType="image/jpeg"/>
  <Override PartName="/ppt/media/image12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  <p:sldId id="274" r:id="rId35"/>
    <p:sldId id="275" r:id="rId36"/>
    <p:sldId id="276" r:id="rId37"/>
    <p:sldId id="277" r:id="rId38"/>
    <p:sldId id="278" r:id="rId39"/>
    <p:sldId id="279" r:id="rId40"/>
    <p:sldId id="280" r:id="rId41"/>
    <p:sldId id="281" r:id="rId42"/>
    <p:sldId id="282" r:id="rId43"/>
    <p:sldId id="283" r:id="rId44"/>
    <p:sldId id="284" r:id="rId45"/>
    <p:sldId id="285" r:id="rId46"/>
    <p:sldId id="286" r:id="rId47"/>
    <p:sldId id="287" r:id="rId48"/>
    <p:sldId id="288" r:id="rId49"/>
    <p:sldId id="289" r:id="rId50"/>
    <p:sldId id="290" r:id="rId51"/>
    <p:sldId id="291" r:id="rId52"/>
    <p:sldId id="292" r:id="rId53"/>
    <p:sldId id="293" r:id="rId54"/>
    <p:sldId id="294" r:id="rId55"/>
    <p:sldId id="295" r:id="rId56"/>
    <p:sldId id="296" r:id="rId57"/>
    <p:sldId id="297" r:id="rId58"/>
    <p:sldId id="298" r:id="rId59"/>
    <p:sldId id="299" r:id="rId60"/>
    <p:sldId id="300" r:id="rId61"/>
    <p:sldId id="301" r:id="rId62"/>
    <p:sldId id="302" r:id="rId63"/>
    <p:sldId id="303" r:id="rId64"/>
    <p:sldId id="304" r:id="rId65"/>
    <p:sldId id="305" r:id="rId66"/>
    <p:sldId id="306" r:id="rId6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slide" Target="slides/slide19.xml"/><Relationship Id="rId36" Type="http://schemas.openxmlformats.org/officeDocument/2006/relationships/slide" Target="slides/slide20.xml"/><Relationship Id="rId37" Type="http://schemas.openxmlformats.org/officeDocument/2006/relationships/slide" Target="slides/slide21.xml"/><Relationship Id="rId38" Type="http://schemas.openxmlformats.org/officeDocument/2006/relationships/slide" Target="slides/slide22.xml"/><Relationship Id="rId39" Type="http://schemas.openxmlformats.org/officeDocument/2006/relationships/slide" Target="slides/slide23.xml"/><Relationship Id="rId40" Type="http://schemas.openxmlformats.org/officeDocument/2006/relationships/slide" Target="slides/slide24.xml"/><Relationship Id="rId41" Type="http://schemas.openxmlformats.org/officeDocument/2006/relationships/slide" Target="slides/slide25.xml"/><Relationship Id="rId42" Type="http://schemas.openxmlformats.org/officeDocument/2006/relationships/slide" Target="slides/slide26.xml"/><Relationship Id="rId43" Type="http://schemas.openxmlformats.org/officeDocument/2006/relationships/slide" Target="slides/slide27.xml"/><Relationship Id="rId44" Type="http://schemas.openxmlformats.org/officeDocument/2006/relationships/slide" Target="slides/slide28.xml"/><Relationship Id="rId45" Type="http://schemas.openxmlformats.org/officeDocument/2006/relationships/slide" Target="slides/slide29.xml"/><Relationship Id="rId46" Type="http://schemas.openxmlformats.org/officeDocument/2006/relationships/slide" Target="slides/slide30.xml"/><Relationship Id="rId47" Type="http://schemas.openxmlformats.org/officeDocument/2006/relationships/slide" Target="slides/slide31.xml"/><Relationship Id="rId48" Type="http://schemas.openxmlformats.org/officeDocument/2006/relationships/slide" Target="slides/slide32.xml"/><Relationship Id="rId49" Type="http://schemas.openxmlformats.org/officeDocument/2006/relationships/slide" Target="slides/slide33.xml"/><Relationship Id="rId50" Type="http://schemas.openxmlformats.org/officeDocument/2006/relationships/slide" Target="slides/slide34.xml"/><Relationship Id="rId51" Type="http://schemas.openxmlformats.org/officeDocument/2006/relationships/slide" Target="slides/slide35.xml"/><Relationship Id="rId52" Type="http://schemas.openxmlformats.org/officeDocument/2006/relationships/slide" Target="slides/slide36.xml"/><Relationship Id="rId53" Type="http://schemas.openxmlformats.org/officeDocument/2006/relationships/slide" Target="slides/slide37.xml"/><Relationship Id="rId54" Type="http://schemas.openxmlformats.org/officeDocument/2006/relationships/slide" Target="slides/slide38.xml"/><Relationship Id="rId55" Type="http://schemas.openxmlformats.org/officeDocument/2006/relationships/slide" Target="slides/slide39.xml"/><Relationship Id="rId56" Type="http://schemas.openxmlformats.org/officeDocument/2006/relationships/slide" Target="slides/slide40.xml"/><Relationship Id="rId57" Type="http://schemas.openxmlformats.org/officeDocument/2006/relationships/slide" Target="slides/slide41.xml"/><Relationship Id="rId58" Type="http://schemas.openxmlformats.org/officeDocument/2006/relationships/slide" Target="slides/slide42.xml"/><Relationship Id="rId59" Type="http://schemas.openxmlformats.org/officeDocument/2006/relationships/slide" Target="slides/slide43.xml"/><Relationship Id="rId60" Type="http://schemas.openxmlformats.org/officeDocument/2006/relationships/slide" Target="slides/slide44.xml"/><Relationship Id="rId61" Type="http://schemas.openxmlformats.org/officeDocument/2006/relationships/slide" Target="slides/slide45.xml"/><Relationship Id="rId62" Type="http://schemas.openxmlformats.org/officeDocument/2006/relationships/slide" Target="slides/slide46.xml"/><Relationship Id="rId63" Type="http://schemas.openxmlformats.org/officeDocument/2006/relationships/slide" Target="slides/slide47.xml"/><Relationship Id="rId64" Type="http://schemas.openxmlformats.org/officeDocument/2006/relationships/slide" Target="slides/slide48.xml"/><Relationship Id="rId65" Type="http://schemas.openxmlformats.org/officeDocument/2006/relationships/slide" Target="slides/slide49.xml"/><Relationship Id="rId66" Type="http://schemas.openxmlformats.org/officeDocument/2006/relationships/slide" Target="slides/slide50.xml"/><Relationship Id="rId67" Type="http://schemas.openxmlformats.org/officeDocument/2006/relationships/slide" Target="slides/slide51.xml"/><Relationship Id="rId6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sp>
        <p:nvSpPr>
          <p:cNvPr id="7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 type="dt" idx="4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5"/>
          <p:cNvSpPr>
            <a:spLocks noGrp="1"/>
          </p:cNvSpPr>
          <p:nvPr>
            <p:ph type="ftr" idx="4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PlaceHolder 6"/>
          <p:cNvSpPr>
            <a:spLocks noGrp="1"/>
          </p:cNvSpPr>
          <p:nvPr>
            <p:ph type="sldNum" idx="4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687AC-621F-4C08-865D-F9D6495B392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аадаева Ирина Анатольев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униципальное общеобразовательное учреждение «Средняя общеобразовательная школа №2 г. Лениногорска» Лениногорского муниципального района Республики Татарста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читель музыки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квалификационная категор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рок музыки «Новые краски в музыке композиторов 20 века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7 клас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ели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учить разграничивать понятия «классическая и современная музыка», «традиции и новаторство» в музыке композиторов 20 век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меть находить общее в музыкальном языке разных композиторов и в воздействии их музыки на чувства люд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C1B94-6AA9-4FDC-97D9-AF9D217C848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нджамин Бритте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913-197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66"/>
                </a:solidFill>
                <a:latin typeface="Arial"/>
              </a:rPr>
              <a:t>Бенджамин Бриттен – это английский композитор, оперы которого стали известны всему миру. Его перу принадлежат такие произведения, как оперы «Питер Граймс», «Поругание Лукреции», «Сон в летнюю ночь», «Поворот винта», «Глориана», а также детские спектакли, хоры, написал много песен, балет «Принц Пагод»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122F8-52B4-4DF3-8803-FAA1A7E02C7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66"/>
                </a:solidFill>
                <a:latin typeface="Arial"/>
              </a:rPr>
              <a:t>Одно из лучших Бриттена, которое стало очень знаменито в Европе и Америке, - «Военный реквием». «Военный реквием» написан в форме заупокойной мессы. Бенджамин Бриттен был не только композитором, но и пианистом, дирижером, он писал книги о музыке. Личность композитора многогранна: он не только создатель оперных произведений, - трудно найти такой жанр, в котором бы не творил Бриттен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2A6AC-5496-48EF-B08A-354D706BEBD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Дмитрий Шостакови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(1906-197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Дмитрий Шостакович родился в Петербурге 25 ноября 1906 года. Детство Шостаковича связано с крупнейшими историческими событиями века – первой империалистической войной  и Великой социалистической революцией. Многоплановое, разнообразное по жанрам творчество Шостаковича признано классикой отечественной и мировой музыкальной культуры </a:t>
            </a: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XX </a:t>
            </a: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века.</a:t>
            </a:r>
            <a:r>
              <a:rPr b="0" lang="ru-RU" sz="1100" spc="-1" strike="noStrike">
                <a:solidFill>
                  <a:srgbClr val="0033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4FA4B-2A17-4FE8-87E7-2AEA4406E58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К его перу принадлежит множество произведений, в том числе – оперы «Нос», «Катерина Измайлова», балет «Золотой век», 15 симфоний, увертюры, музыка к спектаклям и кинофильмам («Овод», «Гамлет») и очень много других произведений. Самым знаменитым произведением стала симфония №7, которая называется «Ленинградская»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61146-F47C-48D4-9567-E64BDD239BE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"/>
              </a:rPr>
              <a:t>Экспрессиониз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194881"/>
              </a:buClr>
              <a:buFont typeface="Garamond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33661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133661"/>
                </a:solidFill>
                <a:latin typeface="Arial"/>
              </a:rPr>
              <a:t>Описание направ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194881"/>
              </a:buClr>
              <a:buFont typeface="Garamond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33661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133661"/>
                </a:solidFill>
                <a:latin typeface="Arial"/>
              </a:rPr>
              <a:t>Музыкальные лич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32F84-BAE9-428B-B535-336F38EA9CC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99"/>
                </a:solidFill>
                <a:latin typeface="Times New Roman"/>
                <a:ea typeface="Times New Roman"/>
              </a:rPr>
              <a:t>Описание направл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спрессионизм – это направление во многом контрастный и по содержанию и по средствам выразительности остальным направлениям. Почти все музыкальные направления появились из искусства. По своему содержанию это своеобразный художественный протест против подавления человека буржуазным обществам, против милитаризма, мещан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E8244-A5A3-49E5-B33A-E5BF56CB3B0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иболее яркое воплощение экспрессионизма у таких композиторов, как А. Шёнберг, А. Веберн, А. Скрябина. Эти и другие композиторы пытались ярко и правдиво отразить сложнейшие социально-эстетические, идейно-эстетические и психологические конфликты эпохи, остроту противоречивого мышления художника в буржуазном обществе, его смятенность. Экспрессионисты отстаивали право художника на свою действительность, так как считали художнический мир реальным и правдивым, чем мир, окружающий челове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7D3B4-2F67-4F65-8652-8B8725498CB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Музыкальные лич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66"/>
                </a:solidFill>
                <a:latin typeface="Arial"/>
              </a:rPr>
              <a:t>Арнольд Шенбер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66"/>
                </a:solidFill>
                <a:latin typeface="Arial"/>
              </a:rPr>
              <a:t>Александр Скряби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64965-9459-4671-AE4A-191EF2F3A6A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Арнольд Шёнбер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(1854-1951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66"/>
                </a:solidFill>
                <a:latin typeface="Arial"/>
              </a:rPr>
              <a:t>Арнольд Шёнберг был австрийским композитором, педагогом, дирижер, художник. Творчество одного из крупнейших композиторов современности, главы «Новой венской школы». Все это сформировалось под воздействием эстетики символизма, австро-немецкого экспрессионизм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F6958-E59E-4670-8254-D2DFD98BE30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66"/>
                </a:solidFill>
                <a:latin typeface="Arial"/>
              </a:rPr>
              <a:t>Поиски в области музыкально-выразительных средств привели Шёнберга к созданию метода додекафонии, оказавшего значительное воздействие на музыкальное искусство </a:t>
            </a:r>
            <a:r>
              <a:rPr b="0" lang="en-US" sz="1200" spc="-1" strike="noStrike">
                <a:solidFill>
                  <a:srgbClr val="ffff66"/>
                </a:solidFill>
                <a:latin typeface="Arial"/>
              </a:rPr>
              <a:t>XX </a:t>
            </a:r>
            <a:r>
              <a:rPr b="0" lang="ru-RU" sz="1200" spc="-1" strike="noStrike">
                <a:solidFill>
                  <a:srgbClr val="ffff66"/>
                </a:solidFill>
                <a:latin typeface="Arial"/>
              </a:rPr>
              <a:t>века. Среди произведений: оперы «Счастливая рука», «Ожидание», С сегодня на завтра», 2 камерные симфонии, а также множество других произведений. При всей сложности и противоречности творческих устремлений Шёнберга его музыка – одно из творческих устремлений явлений в искусстве </a:t>
            </a:r>
            <a:r>
              <a:rPr b="0" lang="en-US" sz="1200" spc="-1" strike="noStrike">
                <a:solidFill>
                  <a:srgbClr val="ffff66"/>
                </a:solidFill>
                <a:latin typeface="Arial"/>
              </a:rPr>
              <a:t>XX </a:t>
            </a:r>
            <a:r>
              <a:rPr b="0" lang="ru-RU" sz="1200" spc="-1" strike="noStrike">
                <a:solidFill>
                  <a:srgbClr val="ffff66"/>
                </a:solidFill>
                <a:latin typeface="Arial"/>
              </a:rPr>
              <a:t>века, отразившего дух и веяния своего времен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B0393-095C-4B4C-9634-56D105164B9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Музыка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XX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ве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2D7E4-B57B-4CA2-90D8-496E878B223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Александр Скряб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(1871-191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33"/>
                </a:solidFill>
                <a:latin typeface="Arial"/>
              </a:rPr>
              <a:t>Скрябин был русским композитором, педагогом, пианистом. Один из крупнейших мастеров музыкальной культуры </a:t>
            </a:r>
            <a:r>
              <a:rPr b="0" lang="en-US" sz="1200" spc="-1" strike="noStrike">
                <a:solidFill>
                  <a:srgbClr val="660033"/>
                </a:solidFill>
                <a:latin typeface="Arial"/>
              </a:rPr>
              <a:t>XX </a:t>
            </a:r>
            <a:r>
              <a:rPr b="0" lang="ru-RU" sz="1200" spc="-1" strike="noStrike">
                <a:solidFill>
                  <a:srgbClr val="660033"/>
                </a:solidFill>
                <a:latin typeface="Arial"/>
              </a:rPr>
              <a:t>столетия, яркий и своеобразный мыслитель. Скрябин направил все свои помыслы на переустройства искусства и миропорядка в цел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E0195-0554-4F64-8E83-1D88A18DE9C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"/>
              </a:rPr>
              <a:t>Определение направл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жаз – род современного искусства, возникший на рубеже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IX – XX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веков в Южных штатах США в среде американских негров – потомков африканских рабов. Джаз – искусство, основанное на импровизации в сочетании с заранее продуманной, но не обязательно записанной в нотах формой композиции. Значительное место в репертуаре традиционного джаза занял блюз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4DD22-E937-4FA6-AA0F-EE5A244F48A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жнейшие характеристики джаза – наличие в ритмике, во-первых, регулярной пульсации, так называемого «бита», а во-вторых, отклонений от этой пульсации – «свинга»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свинга характерно, во-первых,  появление нового типа оркестра – биг-бэнда, который состоит из трёх групп инструментов – секций, каждая может звучать как один многоголосный инструмент: секции саксофонов (позднее с кларнетами), «медной» секции (трубы и тромбоны), ритмической секции (фортепиано, гитара, контрабас, ударные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416DF-7D88-4E06-A4F8-86032469843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"/>
              </a:rPr>
              <a:t>Советский джа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начительными успехами отмечено развитие советского джаза, начало которому было положено В.Парнахом в 1922 году. В довоенный период джаз в нашей стране развивался внутри эстрадных оркестров. Благодаря сотрудничеству Л.Утёсова с И.Дунаевским возник также песенный джаз. Импровизационный джаз стилей «диксиленд» и «свинг» практиковался в оркестрах А.Варламова, Н.Минха, А.Цфасмана и други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BC712-7042-47FC-8911-CB2E9827BF8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be0e3"/>
                </a:solidFill>
                <a:latin typeface="Times New Roman"/>
                <a:ea typeface="Times New Roman"/>
              </a:rPr>
              <a:t>Музыкальные лич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жордж Гершвин (1898-1937) – американский композитор и пианист. Систематического музыкального образования он не получил. С 15 лет начал сочинять эстрадные лирические песни, джазовую танцевальную музыку и т.п. Наряду с этим Гершвин создавал популярные произведения, в которых удачно сочетаются принципы симфонической и джазовой музык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18DD6-1831-4A4A-9D87-77F95437768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0 сентября 1935 года – день рождения американской национальной оперы «Порги и Бесс», рисующей жизнь негритянской бедноты. Она пронизана негритянским фольклором - мелодиями блюзов и спиричуэлс, народными песнями, хорами, танцами. Творчество Гершвина – одна из вершин американской национальной классики. Мировую известность получили «Рапсодия в блюзовых тонах» и симфоническая поэма «Американец в Париже»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55043-F6E4-429E-ABD7-48741C03B63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"/>
              </a:rPr>
              <a:t>Авангардиз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cccc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cccc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cccc"/>
                </a:solidFill>
                <a:latin typeface="Arial"/>
              </a:rPr>
              <a:t>Описание направ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cccc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cccc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cccc"/>
                </a:solidFill>
                <a:latin typeface="Arial"/>
              </a:rPr>
              <a:t>Музыкальные лич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86B34-F6A6-406C-99B5-99B9265E48D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Описание направ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99"/>
                </a:solidFill>
                <a:latin typeface="Arial"/>
              </a:rPr>
              <a:t>В авангардистских течениях особенно остро проявились элитарные тенденции, отрыв от задач искусства в обществе, неспособность художников создать общественно значимые концепции, яркое, воздействующее на массы искусство. Среди композиторов, в той или иной степени примыкавших к авангардизму, можно назвать А. Шнитке и П. Шеффер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B3FC2-A20C-4F4B-B518-373425D3ACC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7BDE8-96B8-4D4E-9503-E2A614BFD19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sp>
        <p:nvSpPr>
          <p:cNvPr id="10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вед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направления в музыке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X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ка. Музыкальные лич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99"/>
                </a:solidFill>
                <a:latin typeface="Arial"/>
              </a:rPr>
              <a:t>Многие авангардисты, движимые ложным представлением, что могут выразить новое содержание только с помощью неизвестных средств, а также стремлением к сенсационности, шли на эксперименты, приводившие к разрушению эстетических и даже технологических основ искусст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5A5FD-3CFB-458B-B823-E4D49F5C2DC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зыкальные лич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cc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cc00"/>
                </a:solidFill>
                <a:latin typeface="Arial"/>
              </a:rPr>
              <a:t>Альфред Шнитк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cc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cc00"/>
                </a:solidFill>
                <a:latin typeface="Arial"/>
              </a:rPr>
              <a:t>Карлхайнц Штокхаузе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1E83E-8156-4856-AC98-EB6571ED03A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cc00"/>
                </a:solidFill>
                <a:latin typeface="Times New Roman"/>
                <a:ea typeface="Times New Roman"/>
              </a:rPr>
              <a:t>Альфред Шнит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cc00"/>
                </a:solidFill>
                <a:latin typeface="Times New Roman"/>
                <a:ea typeface="Times New Roman"/>
              </a:rPr>
              <a:t>(1934-199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cc00"/>
                </a:solidFill>
                <a:latin typeface="Arial"/>
              </a:rPr>
              <a:t>Альфред Шнитке – русский композитор. Является одним из ведущих мастеров современной музыки, синтезирующей в творчестве классические тенденции и разнообразные элементы современной композиторской техни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A0435-9714-4700-BACB-83D53515A9C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cc00"/>
                </a:solidFill>
                <a:latin typeface="Arial"/>
              </a:rPr>
              <a:t>Среди сочинений: оперы «Жизнь с идиотом», «Одиннадцатая заповедь»; балеты «Пер Гюнт»; Реквием, 12 инструментальных концертов, музыка к драматическим спектаклям и кинофильмам: «Рикки-Тики-Тави» и «Мертвые души». После смерти композитора в его честь названо музыкальное учебное заведе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9C8DA-76DF-47E9-89B1-BC0D6BB25CA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лхайнц Штокхаузе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92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токхаузен родился в Мёдрате близ Кёльна 22 августа 1928. В 1947 поступил в кельтскую Высшую музыкальную школу, позже учился в Париже у Оливье Мессина и работал в студии конкретной музыки Пьера Шеффер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0CD3E-88F7-4059-BCDE-23890631C68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1960-х годах Штокхаузен стал одним из лидеров в области сериальной музыки и одним из первых европейских композиторов. Во многих сочинениях композитора 1960-х годов предусматривается живая интерпретация Во многих сочинениях композитора 1960-х годов предусматривается живая интерпретация электронных звучаний. В числе самых значительных опусов Штокхаузена: «Мера времени», «Песнь юношей», «Группы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A710B-C0CF-473D-9D1C-1533884D01C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"/>
              </a:rPr>
              <a:t>Импрессиониз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194881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94881"/>
                </a:solidFill>
                <a:latin typeface="Arial"/>
              </a:rPr>
              <a:t>Описание направ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194881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94881"/>
                </a:solidFill>
                <a:latin typeface="Arial"/>
              </a:rPr>
              <a:t>Музыкальные лич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ED960-EC37-42D1-9501-971FA64F80B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"/>
              </a:rPr>
              <a:t>Описание направл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м в импрессионизме была задача передать непосредственное впечатление, отразить тонкие психологические состояния, оттенки субъективных ощущений, вызванных созерцанием внешнего мира. Основоположниками этого направления стали К. Дебюсси, М. Равель, О. Мессиане, М. де Фаль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86FB0-E831-4177-935F-DD9C7E8DD96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и композиторы утверждали, что именно красота природы способна возбудить художественную фантазию композитора. Потребность передать в звуках состояние природы, её образы вызывает новые краски, новые выразительные средства. Кроме природы, импрессионисты вдохновлялись античной мифологией, сказочностью. В музыке господствовали мягкие переливы красок, гармоний, «мерцание» ритмов, сложная полифония тембр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77C2C-FCB2-4818-BFD8-C05AA3A3951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зыкальные лич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од Дебюсс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рис Раве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732BC-358C-4EA0-B83B-C3ADFC6F7CD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вед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4800"/>
                </a:solidFill>
                <a:latin typeface="Arial"/>
              </a:rPr>
              <a:t>XX </a:t>
            </a:r>
            <a:r>
              <a:rPr b="0" lang="ru-RU" sz="1200" spc="-1" strike="noStrike">
                <a:solidFill>
                  <a:srgbClr val="004800"/>
                </a:solidFill>
                <a:latin typeface="Arial"/>
              </a:rPr>
              <a:t>век – это время кардинальных социальных перемен, революций, открывших новую эру в жизни человечества. Это время и тяжелых испытаний – двух мировых войн. </a:t>
            </a:r>
            <a:r>
              <a:rPr b="0" lang="en-US" sz="1200" spc="-1" strike="noStrike">
                <a:solidFill>
                  <a:srgbClr val="004800"/>
                </a:solidFill>
                <a:latin typeface="Arial"/>
              </a:rPr>
              <a:t>XX </a:t>
            </a:r>
            <a:r>
              <a:rPr b="0" lang="ru-RU" sz="1200" spc="-1" strike="noStrike">
                <a:solidFill>
                  <a:srgbClr val="004800"/>
                </a:solidFill>
                <a:latin typeface="Arial"/>
              </a:rPr>
              <a:t>век – это и взлет культуры и искусства, в том числе и музыкального, пришедший к великим художественным достижениям, расцвету многих национальных школ, формированию советской музыкальной культур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75B00-A4BE-4F98-AAAA-79DD468AAD1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Клод Дебюсс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(1862-1918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b1f2e"/>
                </a:solidFill>
                <a:latin typeface="Arial"/>
              </a:rPr>
              <a:t>Клод Дебюсси – один из величайших мастеров французской и мировой музыки в </a:t>
            </a:r>
            <a:r>
              <a:rPr b="0" lang="en-US" sz="1200" spc="-1" strike="noStrike">
                <a:solidFill>
                  <a:srgbClr val="7b1f2e"/>
                </a:solidFill>
                <a:latin typeface="Arial"/>
              </a:rPr>
              <a:t>XX </a:t>
            </a:r>
            <a:r>
              <a:rPr b="0" lang="ru-RU" sz="1200" spc="-1" strike="noStrike">
                <a:solidFill>
                  <a:srgbClr val="7b1f2e"/>
                </a:solidFill>
                <a:latin typeface="Arial"/>
              </a:rPr>
              <a:t>веке. Он выявил в музыке новые возможности для передачи предельно утонченных оттенков многообразной палитры настроений человека и воспринимаемой им окружающей природы, создал особую импрессионистическую сферу музыкального ритма. Значение музыки Дебюсси </a:t>
            </a:r>
            <a:r>
              <a:rPr b="0" lang="en-US" sz="1200" spc="-1" strike="noStrike">
                <a:solidFill>
                  <a:srgbClr val="7b1f2e"/>
                </a:solidFill>
                <a:latin typeface="Arial"/>
              </a:rPr>
              <a:t>XX </a:t>
            </a:r>
            <a:r>
              <a:rPr b="0" lang="ru-RU" sz="1200" spc="-1" strike="noStrike">
                <a:solidFill>
                  <a:srgbClr val="7b1f2e"/>
                </a:solidFill>
                <a:latin typeface="Arial"/>
              </a:rPr>
              <a:t>века часто сравнивают со значением музыки Шопена для музыкального искусства </a:t>
            </a:r>
            <a:r>
              <a:rPr b="0" lang="en-US" sz="1200" spc="-1" strike="noStrike">
                <a:solidFill>
                  <a:srgbClr val="7b1f2e"/>
                </a:solidFill>
                <a:latin typeface="Arial"/>
              </a:rPr>
              <a:t>XIX </a:t>
            </a:r>
            <a:r>
              <a:rPr b="0" lang="ru-RU" sz="1200" spc="-1" strike="noStrike">
                <a:solidFill>
                  <a:srgbClr val="7b1f2e"/>
                </a:solidFill>
                <a:latin typeface="Arial"/>
              </a:rPr>
              <a:t>века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7272A-945E-4021-A26A-924EE532C6E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b1f2e"/>
                </a:solidFill>
                <a:latin typeface="Arial"/>
              </a:rPr>
              <a:t>Среди сочинений: оперы «Родриго и Химена», «Пеллеас и Мелизанда», балеты «Игры», Камма», симфонические циклы, фортепианные циклы и сюиты: «Детский уголок», 3 кантаты, песни и романсы, музыка к театральным спектаклям: Мученичество святого Себастьяна», 12 этюдов, 24 прелюдии, очень много ноктюрнов, камерно-инструментальные ансамбли и др. Клод Дебюсси оказал большое влияние на композиторов других стран мир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37871-F679-49FF-A0EA-A2978E5CC74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Морис Раве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(1875-1937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рис Равель был французским композитором. В музыкальном стиле Равеля получили дальнейшее развитие также новые импрессионистические музыкальные средства, найденные Дебюсси, несмотря на все различие их почерков. Самая характерная и наиболее яркая черта творчества композитора – удивительное сочетание логики. Стройности, интеллекта – и сердечности, вдохновения – черта, близкая духу французского классицизма.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F823D-7A56-4E23-8940-5AF4308D9BF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алет «Дафнис и Хлоя» - первое и самое значительное произведение новой балетной французской музыки. Всемирную известность получило «Болеро» Равеля – симфоническое произведение, созданное в духе популярного испанского танца. Автор опер «Испанский час», «Дитя и волшебство», фортепианных пьес – циклов «Отражение», «Ночной Гаспар», «Павана умерших инфанте», фантазии для скрипки, сочинений для оркестра «Испанская рапсодия», «Вальс» и других произведени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E8988-9A66-4C2D-8C33-58547879475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51EC3-B9AA-481E-A8CA-5D84BE1BD19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sp>
        <p:nvSpPr>
          <p:cNvPr id="1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entury"/>
              </a:rPr>
              <a:t>Ро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писание направ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узыкальные лич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1B6A7-0198-41F1-8B54-AE6D1DCDD86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sp>
        <p:nvSpPr>
          <p:cNvPr id="1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entury"/>
              </a:rPr>
              <a:t>Описание направ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глухо з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музыкальной культуре Западной Европы и США – это течение, очень пестрое по идейно-художественному уровню и эстетическим принципам. Оно представлено как произведениями, выражающими протест против социальной несправедливости, милитаризма, войны, так и сочинениями, проповедующими анархизм, аморальность, насилие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 концу шестого десятилетия рок превратился в мощную политическую и культурную сил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BEEC9-7A0D-4FB3-987B-A545A05D426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sp>
        <p:nvSpPr>
          <p:cNvPr id="1177" name="PlaceHolder 1"/>
          <p:cNvSpPr>
            <a:spLocks noGrp="1"/>
          </p:cNvSpPr>
          <p:nvPr>
            <p:ph type="sldImg"/>
          </p:nvPr>
        </p:nvSpPr>
        <p:spPr>
          <a:xfrm>
            <a:off x="1106640" y="666720"/>
            <a:ext cx="4644720" cy="3484440"/>
          </a:xfrm>
          <a:prstGeom prst="rect">
            <a:avLst/>
          </a:prstGeom>
          <a:ln w="0">
            <a:noFill/>
          </a:ln>
        </p:spPr>
      </p:sp>
      <p:sp>
        <p:nvSpPr>
          <p:cNvPr id="1178" name="PlaceHolder 2"/>
          <p:cNvSpPr>
            <a:spLocks noGrp="1"/>
          </p:cNvSpPr>
          <p:nvPr>
            <p:ph type="body"/>
          </p:nvPr>
        </p:nvSpPr>
        <p:spPr>
          <a:xfrm>
            <a:off x="905040" y="4373640"/>
            <a:ext cx="5047920" cy="407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зыкальные лично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eat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x Pisto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ep Pur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cc"/>
                </a:solidFill>
                <a:latin typeface="Arial"/>
                <a:ea typeface="Arial"/>
              </a:rPr>
              <a:t>The Beat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верное, группа «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eatles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» самая известная из всех на нашей планете. Сначала она играла в стиле скиффл, а затем в рок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-ролл. Название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«The Beatles»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ни приобрели намного позднее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став знаменитой группы менялся не очень часто. Первое серьёзное выступление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в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преле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60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года в Шотланд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B8C3C-4D43-4F67-864D-E556204AEEF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ve me do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” была первой настоящей пластинкой “ Биттлз”. Их покорение мира началось со Швеции. Последнее выступление стало “The Beatles” состоялось 29 августа 1966 года. В середине 1967 года они закончили работу над пластинкой “ Сержант Пеппер”, следующей и последней их работой была пластинка “Let it be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1970 году группа распалас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E182F-2DB7-4457-B264-E2B2E2EFEF8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ex Pisto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вое выступление этой группы состоялось в ноябре 1975-го в одном из колледжей Лондона. После британского тура, группа участвовала на панк -фестивале 1976 года, В мае "Sex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istols" подписались к "Virgin" и наконец-то выпустили «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d Save The Queen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». К концу года отношения в группе разладились. В 1996-м Роттен, Джонс, Кук и Матлок возродили «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x Pistols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E2BB2-7D8A-46F0-99E4-D577205AB3F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Основные направления в музыке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X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ве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мантиз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спрессиониз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жаз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вангардиз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мпрессиониз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5F893-6138-45C2-B2ED-102130C199E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ep Pur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4800"/>
                </a:solidFill>
                <a:latin typeface="Arial"/>
              </a:rPr>
              <a:t>«</a:t>
            </a:r>
            <a:r>
              <a:rPr b="0" lang="en-US" sz="1200" spc="-1" strike="noStrike">
                <a:solidFill>
                  <a:srgbClr val="004800"/>
                </a:solidFill>
                <a:latin typeface="Arial"/>
              </a:rPr>
              <a:t>Deep Purple</a:t>
            </a:r>
            <a:r>
              <a:rPr b="0" lang="ru-RU" sz="1200" spc="-1" strike="noStrike">
                <a:solidFill>
                  <a:srgbClr val="004800"/>
                </a:solidFill>
                <a:latin typeface="Arial"/>
              </a:rPr>
              <a:t>»</a:t>
            </a:r>
            <a:r>
              <a:rPr b="0" lang="en-US" sz="1200" spc="-1" strike="noStrike">
                <a:solidFill>
                  <a:srgbClr val="0048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4800"/>
                </a:solidFill>
                <a:latin typeface="Arial"/>
              </a:rPr>
              <a:t>была создана в апреле 1968 года. Их состав менялся почти 10 раз, но первый состав группы был поначалу таким: Ричи Блэкмор - гитара, Род Эванс - вокал, Джон Лорд - клавишные и бэк-вокал, Иэн Пейс - ударные, Ник Симпер - бас-гитара и бэк-вока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5E5FB-AF68-4C39-BA4C-ACA1960EFF7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4800"/>
                </a:solidFill>
                <a:latin typeface="Arial"/>
              </a:rPr>
              <a:t>Первым альбомом группы стал </a:t>
            </a:r>
            <a:r>
              <a:rPr b="0" lang="en-US" sz="1200" spc="-1" strike="noStrike">
                <a:solidFill>
                  <a:srgbClr val="004800"/>
                </a:solidFill>
                <a:latin typeface="Arial"/>
              </a:rPr>
              <a:t>“Shades of Deep Purple”</a:t>
            </a:r>
            <a:r>
              <a:rPr b="0" lang="ru-RU" sz="1200" spc="-1" strike="noStrike">
                <a:solidFill>
                  <a:srgbClr val="004800"/>
                </a:solidFill>
                <a:latin typeface="Arial"/>
              </a:rPr>
              <a:t>, выглядя экспериментальным и шероховатым. Но последующие альбомы стали лучше, что привело их к известности после двух лет в Европе. Они сделали попытку соединить рок и классику, что вызвало противоречия, но обеспечило группе столь большое внимание. В 1971 году у группы начинаются серьезные выступ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33262-D47D-4FA8-97B2-F359CCA8556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мантиз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990033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990033"/>
                </a:solidFill>
                <a:latin typeface="Arial"/>
              </a:rPr>
              <a:t>Описание направ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990033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990033"/>
                </a:solidFill>
                <a:latin typeface="Arial"/>
              </a:rPr>
              <a:t>Музыкальные лич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4E608-E491-4700-8AF1-9C1A4104869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4e4c"/>
                </a:solidFill>
                <a:latin typeface="Times New Roman"/>
                <a:ea typeface="Times New Roman"/>
              </a:rPr>
              <a:t>Описание направл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X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ке продолжал развиваться и романтизм. Его наиболее сильная сторона – сопротивление антигуманистическим тенденциям буржуазного общества, утверждения духовной силы и красоты человеческой личности, призыв к духовному обновлению – трансформировалась, стали преобладать субъективистское начало, пассивность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FFE36-470E-4992-ADBA-24AF8938454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мантические тенденции во многом помогали противостоять модернистическим тенденциям, стремящимся деформировать содержание искусства. В отдельные периоды творчества Б. Бартока, Б. Бриттена и других западных композиторов, а также С. Прокофьева и Д. Шостаковича способствовали обогащению образных решений ярким, романтизированных выражение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E9187-CE95-4E23-AAB0-A9CD7818D2B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зыкальные лич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6600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660033"/>
                </a:solidFill>
                <a:latin typeface="Arial"/>
              </a:rPr>
              <a:t>Бенджамин Бритте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6600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660033"/>
                </a:solidFill>
                <a:latin typeface="Arial"/>
              </a:rPr>
              <a:t>Дмитрий Шостакови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C80F6-44B9-4D3B-8C36-627457040AD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0E4693-9158-4740-8C65-88EA58111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7D90DD-36C2-4027-90CE-F58A44E06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E4D39F-758B-4D64-8294-C31CB0FA9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CB9FF1-DC02-408D-AB2F-963E228B5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471C28-DE68-4B08-9236-3AA84F53F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0ED515-D743-4798-B8E7-87429C210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9720F5-0623-4461-85CA-0371C472A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18487C-909F-4191-8974-D05B02DAB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C5F16D-5493-49DE-B648-9829E090B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580CEC-92B1-49DE-8442-EB425F9F7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99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2643ED-4112-4B50-9E2E-3CC50B7B7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6DF206-A82A-4BA4-8848-DC1A25B45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4CE797-8B25-49F9-B63C-E310DC3BA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1F3719-6569-4D64-A4A5-A27955D51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C1B02C-308D-4BF2-9107-A517F8C08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C9ED4E-666D-424F-879B-068FBC704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32D280-4EB6-4BC9-8EF9-695C7C8BA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19440D-172E-49FF-928F-447F19119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402F64-6FC6-4322-8EE5-CF482BB43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7A6765-C061-4064-9170-42AE77868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DFB732-C274-4375-A959-79F4D3323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79A6DB-BACF-4BE0-A3A5-D442143CF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55F377-82F9-4FE4-B81E-5283A0A76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358839-FB14-4FF2-808D-CD787A012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53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54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262C99-E114-4CD5-917E-B46F46EB7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69CD5E-CFFB-4833-A5CC-B28430852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7F8DD3-485F-4D19-BFA9-3E3876BB9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8E530D-466F-4967-9896-50378AA14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A73A1B-74D9-44FD-8B85-2DB705748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FC577D-5D37-4584-B859-B6C23EE3F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6D2ABD-8049-4B71-861B-FC469EA17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B515D2-A889-4412-8110-5618D8AD9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862F0C-D7F2-4830-AC68-58EB92AE9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ACD44F-62FF-45D6-B8BC-56A966D1D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7FF28-0DC6-45D6-859B-188F32976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5CB3B9-D3CE-483B-8976-431B64EC4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0BEC53-685F-4AF5-B672-8D7465A32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10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11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755451-FE52-4197-88C8-311EDCA2F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774322-3340-4BEB-AC0E-02FC87A80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E843CD-798E-4141-89FD-EBC430A76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D22B7A-61DC-4D84-AE09-FBC5A408E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EBBF74-7C7F-4CF3-AFA1-0F0FEA928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21A6A0-D0EC-4C6E-ADE7-3E787E60F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063277-C8D2-4A06-976C-A9042DBDD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48E05E-5622-45F8-88F4-AED6A7201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BF8C0-7760-49BB-872D-F6B6DB4CA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DDDB4D-F5B5-446F-A1B6-F8AF86E65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BD0BA5-485D-4103-B392-6289C17D3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26642E-D7AE-4911-A288-CCB832372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85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9CC650-0ADF-4432-8342-E8E0795A9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90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91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92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89FA25-51C7-4891-AE62-E4E787FF6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9831FC6-9B98-4E58-B959-3A40E5977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1E589C5-5402-4040-A732-BCB940538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B41ABBF-F7BE-42F3-B326-F0C0269A6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1FF7828-64F1-4309-B238-78DC23D40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5AA6BCE-54AA-413F-8FF8-7D61BD041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38BF7-E671-4BE9-A99E-162941A90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FCE540A-51C3-4A8C-BFF1-7C04DDFED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23C4197-D93F-4796-91A8-6395618C9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65B86BB-E6CA-4F7F-8223-D2866BE5F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1025D8E-C6DD-42A7-9DDE-4533B9FA3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4E5C8EB-6366-4185-8E22-A654CCB17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7E6165C-1D82-4372-BA57-BD063FE68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34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35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36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927892E-B458-4408-BC88-7E23DB8A9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E6BF050-6477-4278-851A-1E7E72AE9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B501F87-DD18-49F8-A484-6D42F093F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A12C418-04D4-483B-AC6C-AFB129BF6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22A98-7E41-4A45-A8D3-42ED27013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8F9CAC4-598A-4D1E-B3D1-4F3E293D3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B51D77A-AA6F-43B4-8A2D-55B835D60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CF0B017-74A1-41F1-B9F8-400A88D04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F94A720-68F3-4539-BE3E-BB08483A1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56E406C-9E54-4D0D-A110-28A18BE6B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A93251A-AC65-494D-8568-00B602CF2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4324427-C466-4A54-AE37-D32D1051F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1C28FDA-0852-4904-BB3C-9B560E5E2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87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88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89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863A662-2EB5-4BD9-B6F1-D8ECD4FE5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35224-E894-4E6C-AF29-7EB75133C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4ADD5-F711-485A-81DC-184FC44AA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77212-69E1-4643-B6B6-710C1E579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488C89-D4DA-446F-852E-B8E90CE12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9776D-B7A1-4A57-B7E7-5171E95D2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7A352-6FFF-4745-8BA0-4473DD63B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A576B-38E5-48EF-81B7-C07D5F903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7AD60-864B-4E61-B09E-66DD20FC8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F3DED-62C0-4BD3-8DAC-8AEA272D4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D93057-D3CF-49D9-9555-CE358F4D9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993335-302B-4F11-8BB5-393D00B12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15CA26-8D12-435B-9FAB-D71B284E5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F0F782-D2AF-4EB7-907A-2529FA4CF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B2EF40-1DCE-4F2C-9260-2B91B3E42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525E39-F669-4B1F-AC70-C39932B1F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040D51-CA24-4527-B247-D5E89C35F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4BF658-A6E5-44C4-AB61-8123B0E5D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EF7148-7089-479B-A4E9-D01FECA6E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9E58DF-10AE-427D-9266-97A4E9E59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43643C-16C0-4A77-BDAE-0D3F8AA52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3EC0DE-9670-42F9-881E-18D012F78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BDF58B-BAB8-4313-8F82-A685D57B2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03BD32F-45BC-4B2A-BEA0-136D1EF40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165F512-24B5-4259-BD2C-5FE0856E7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C2FB0BC-2E14-4744-A530-93E2B131D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0F8FFC-B797-4B68-A5D9-68AC9A4EA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092E3E3-3DF3-452F-9713-C3E506230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1339E9A-A1A6-4409-AF4E-A401EB710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E815847-089A-4E42-99B6-1F5A2CCA9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2C48CC0-9401-47B6-A977-AB545E676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BFEC501-CCCE-40C0-998B-37B52ACD5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040CA8B-E12A-4647-ADD1-8544195A1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FDA84A9-31EB-44C1-A144-5D925139E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356B9A5-541D-4ADD-9A6F-270299C3F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1C9F4A3-B632-40E7-B5A6-854E3F62B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7EDC53-8A6B-42E0-9C0C-68E3DB36A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18514E-3BE2-48B4-8335-8F124BCA3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88F18E-69CB-4A1A-9E83-E9B8F2E62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935880-E53C-450A-8A12-9E086EE29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48F4B5-3604-4988-AB5C-5A5755A17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ADB4BD-2FA8-4043-9F8E-9D6244DEB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9D2D9F-CA2D-454D-8B0A-E528394A5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0F358F-9F3C-4EA7-841D-21FFC242E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333BCE-8DC6-4086-898B-AA7BB3756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89D1B2-6ED3-4B0F-973E-9E37A5C9E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BB666F-BBC3-4D22-8E22-D07154987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425206-F9CA-4BC9-B063-C6FE81F88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398911-A511-4038-8522-0AFCD6229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9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E0CE72-6708-4C40-A9B2-B4CE3BCF0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B56E75-0477-4216-8AAF-ECA8B3683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D50B7E-3097-461F-987F-EB41FBF5A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779E3C-FA5F-4B63-9433-F23DF6351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D98B39-8E8F-4F8C-AD4C-D8935371E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277913-6375-43A2-816B-0204CC59E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C2DF99-6292-4802-BEAC-D5A30FF3C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B1F53B-C165-4D0B-999B-04D671D07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AF7864-780C-4C6E-AC6F-0918409F6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7A1D46-4EFD-4B81-9FEB-2D0F8D66D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992739-E872-4C9A-8629-545EA73EF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98D9F1-416E-429D-BEF8-963213315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C050E9-ECC2-41B7-BDBF-3EE3849FF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38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39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9104D5-AD79-404A-973B-5017A6535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255409-DDB7-4360-AE1B-5EA0A2226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0BEC67-D40D-48C6-B032-FF460FA0F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DFCA56-B0B8-4D16-A19D-61A48BB2B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FA0F54-8ED4-40E4-BD6C-B2500D8B1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0350BB-1832-413F-B1AE-F0C62C169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E4479C-C6D1-4D64-B088-D98BED2EC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60AB53-8288-4732-8669-06326C5AC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4C3CE6-5730-4ABC-A0F3-E06695C92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DD3D3F-DF84-469B-A891-1C9B88C55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BCAB66-9EDE-4CE8-93F0-901F2AF0F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B6DDB7-83E7-4D34-92D7-BDDA58BFF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CFFE0F-6AF5-4817-AFCB-17D57717F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9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005E6D-FEAF-40FF-AD34-BC240E0B7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0F1801-A26E-40F3-9F57-284AC184A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DCF41C-84A3-4F43-B00B-5CDE783EB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6834A0-3DFB-4C5A-90E3-2BEC8924C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B3AA55-B4FD-462E-A844-806EAE110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F148D7-2B0F-467A-8680-9789F91BE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A29FE2-985F-400B-85C5-8F3A2FE01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07C3B2-1648-4808-A707-0148CDDC6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4E2FC0-DB5C-4A55-8970-284009323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17AEF8-3E0E-4AAA-96F4-475C77EE8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C37D19-9346-4F08-860F-3F68F28E1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6FEBEC-6D14-491C-A554-D934ECF31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D5003B-93FA-4B57-886B-1C9E2223A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35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36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F35A8F-3803-4961-8A3D-ED0F17A97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CBB9F1-88EB-4DCA-AEEA-1659944EF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18E2A9-719D-48EE-9628-F6AA1A9F9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CFA4C5-7D43-46B8-8D75-2FF065A53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33.xml"/><Relationship Id="rId8" Type="http://schemas.openxmlformats.org/officeDocument/2006/relationships/slideLayout" Target="../slideLayouts/slideLayout134.xml"/><Relationship Id="rId9" Type="http://schemas.openxmlformats.org/officeDocument/2006/relationships/slideLayout" Target="../slideLayouts/slideLayout135.xml"/><Relationship Id="rId10" Type="http://schemas.openxmlformats.org/officeDocument/2006/relationships/slideLayout" Target="../slideLayouts/slideLayout136.xml"/><Relationship Id="rId11" Type="http://schemas.openxmlformats.org/officeDocument/2006/relationships/slideLayout" Target="../slideLayouts/slideLayout137.xml"/><Relationship Id="rId12" Type="http://schemas.openxmlformats.org/officeDocument/2006/relationships/slideLayout" Target="../slideLayouts/slideLayout138.xml"/><Relationship Id="rId13" Type="http://schemas.openxmlformats.org/officeDocument/2006/relationships/slideLayout" Target="../slideLayouts/slideLayout139.xml"/><Relationship Id="rId14" Type="http://schemas.openxmlformats.org/officeDocument/2006/relationships/slideLayout" Target="../slideLayouts/slideLayout140.xml"/><Relationship Id="rId15" Type="http://schemas.openxmlformats.org/officeDocument/2006/relationships/slideLayout" Target="../slideLayouts/slideLayout141.xml"/><Relationship Id="rId16" Type="http://schemas.openxmlformats.org/officeDocument/2006/relationships/slideLayout" Target="../slideLayouts/slideLayout142.xml"/><Relationship Id="rId17" Type="http://schemas.openxmlformats.org/officeDocument/2006/relationships/slideLayout" Target="../slideLayouts/slideLayout143.xml"/><Relationship Id="rId18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B2FE6-3EEB-49F7-967A-9B8CE9118EAE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01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02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 u="sng">
                  <a:solidFill>
                    <a:srgbClr val="ffffcc"/>
                  </a:solidFill>
                  <a:uFillTx/>
                  <a:latin typeface="Tahoma"/>
                </a:endParaRPr>
              </a:p>
            </p:txBody>
          </p:sp>
          <p:sp>
            <p:nvSpPr>
              <p:cNvPr id="503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 u="sng">
                  <a:solidFill>
                    <a:srgbClr val="ffffcc"/>
                  </a:solidFill>
                  <a:uFillTx/>
                  <a:latin typeface="Tahoma"/>
                </a:endParaRPr>
              </a:p>
            </p:txBody>
          </p:sp>
        </p:grpSp>
        <p:sp>
          <p:nvSpPr>
            <p:cNvPr id="504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505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506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grpSp>
          <p:nvGrpSpPr>
            <p:cNvPr id="507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508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 u="sng">
                  <a:solidFill>
                    <a:srgbClr val="ffffcc"/>
                  </a:solidFill>
                  <a:uFillTx/>
                  <a:latin typeface="Tahoma"/>
                </a:endParaRPr>
              </a:p>
            </p:txBody>
          </p:sp>
          <p:sp>
            <p:nvSpPr>
              <p:cNvPr id="509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 u="sng">
                  <a:solidFill>
                    <a:srgbClr val="ffffcc"/>
                  </a:solidFill>
                  <a:uFillTx/>
                  <a:latin typeface="Tahoma"/>
                </a:endParaRPr>
              </a:p>
            </p:txBody>
          </p:sp>
          <p:sp>
            <p:nvSpPr>
              <p:cNvPr id="510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 u="sng">
                  <a:solidFill>
                    <a:srgbClr val="ffffcc"/>
                  </a:solidFill>
                  <a:uFillTx/>
                  <a:latin typeface="Tahoma"/>
                </a:endParaRPr>
              </a:p>
            </p:txBody>
          </p:sp>
          <p:sp>
            <p:nvSpPr>
              <p:cNvPr id="511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 u="sng">
                  <a:solidFill>
                    <a:srgbClr val="ffffcc"/>
                  </a:solidFill>
                  <a:uFillTx/>
                  <a:latin typeface="Tahoma"/>
                </a:endParaRPr>
              </a:p>
            </p:txBody>
          </p:sp>
          <p:sp>
            <p:nvSpPr>
              <p:cNvPr id="512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 u="sng">
                  <a:solidFill>
                    <a:srgbClr val="ffffcc"/>
                  </a:solidFill>
                  <a:uFillTx/>
                  <a:latin typeface="Tahoma"/>
                </a:endParaRPr>
              </a:p>
            </p:txBody>
          </p:sp>
          <p:sp>
            <p:nvSpPr>
              <p:cNvPr id="513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 u="sng">
                  <a:solidFill>
                    <a:srgbClr val="ffffcc"/>
                  </a:solidFill>
                  <a:uFillTx/>
                  <a:latin typeface="Tahoma"/>
                </a:endParaRPr>
              </a:p>
            </p:txBody>
          </p:sp>
        </p:grpSp>
      </p:grpSp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 type="dt" idx="28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 type="ftr" idx="29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 type="sldNum" idx="30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AC343-AC86-429E-A1AE-BD4A8922F37D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8b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Line 7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grpSp>
        <p:nvGrpSpPr>
          <p:cNvPr id="556" name="Group 8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557" name="Rectangle 9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558" name="Rectangle 10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559" name="Rectangle 11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560" name="Rectangle 12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561" name="Rectangle 13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562" name="Rectangle 14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563" name="Rectangle 15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564" name="Rectangle 16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565" name="Rectangle 17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566" name="Rectangle 18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567" name="Rectangle 19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568" name="Rectangle 20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569" name="Rectangle 21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</p:grpSp>
      <p:sp>
        <p:nvSpPr>
          <p:cNvPr id="570" name="Line 22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66ff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66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66ff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66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66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03E53-F908-4916-8BDA-BAFCF7A3E56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56312"/>
            </a:gs>
            <a:gs pos="100000">
              <a:srgbClr val="5cac2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2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613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5100"/>
                </a:gs>
                <a:gs pos="100000">
                  <a:srgbClr val="008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614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386913"/>
                </a:gs>
                <a:gs pos="100000">
                  <a:srgbClr val="5cac2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615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6100"/>
                </a:gs>
                <a:gs pos="100000">
                  <a:srgbClr val="008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616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5cac2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617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4b8d1a"/>
                </a:gs>
                <a:gs pos="100000">
                  <a:srgbClr val="5cac2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618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5cac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619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5cac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620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437d17"/>
                </a:gs>
                <a:gs pos="100000">
                  <a:srgbClr val="5cac2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621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5cac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622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5cac20"/>
                </a:gs>
                <a:gs pos="100000">
                  <a:srgbClr val="61af2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623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5cac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624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325e11"/>
                </a:gs>
                <a:gs pos="100000">
                  <a:srgbClr val="5cac2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625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5cac2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626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5500"/>
                </a:gs>
                <a:gs pos="100000">
                  <a:srgbClr val="008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627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07816"/>
                </a:gs>
                <a:gs pos="100000">
                  <a:srgbClr val="5cac2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628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5cac20"/>
                </a:gs>
                <a:gs pos="100000">
                  <a:srgbClr val="66b1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629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5cac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630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b500f"/>
                </a:gs>
                <a:gs pos="100000">
                  <a:srgbClr val="5cac2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631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632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f5810"/>
                </a:gs>
                <a:gs pos="100000">
                  <a:srgbClr val="5cac2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633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500"/>
                </a:gs>
                <a:gs pos="100000">
                  <a:srgbClr val="008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634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5cac20"/>
                </a:gs>
                <a:gs pos="100000">
                  <a:srgbClr val="6bb33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635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636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500"/>
                </a:gs>
                <a:gs pos="100000">
                  <a:srgbClr val="008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637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900"/>
                </a:gs>
                <a:gs pos="100000">
                  <a:srgbClr val="008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638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639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3a6d14"/>
                </a:gs>
                <a:gs pos="100000">
                  <a:srgbClr val="5cac2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640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641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386913"/>
                </a:gs>
                <a:gs pos="100000">
                  <a:srgbClr val="5cac2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642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4e921b"/>
                </a:gs>
                <a:gs pos="100000">
                  <a:srgbClr val="5cac2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643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d5410"/>
                </a:gs>
                <a:gs pos="100000">
                  <a:srgbClr val="5cac2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644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e921b"/>
                </a:gs>
                <a:gs pos="100000">
                  <a:srgbClr val="5cac2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645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500"/>
                </a:gs>
                <a:gs pos="100000">
                  <a:srgbClr val="008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646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56312"/>
                </a:gs>
                <a:gs pos="100000">
                  <a:srgbClr val="5cac2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647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37d17"/>
                </a:gs>
                <a:gs pos="100000">
                  <a:srgbClr val="5cac2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648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498819"/>
                </a:gs>
                <a:gs pos="100000">
                  <a:srgbClr val="5cac2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grpSp>
          <p:nvGrpSpPr>
            <p:cNvPr id="649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650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37d17"/>
                  </a:gs>
                  <a:gs pos="100000">
                    <a:srgbClr val="5cac2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 u="sng">
                  <a:solidFill>
                    <a:srgbClr val="ffffcc"/>
                  </a:solidFill>
                  <a:uFillTx/>
                  <a:latin typeface="Tahoma"/>
                </a:endParaRPr>
              </a:p>
            </p:txBody>
          </p:sp>
          <p:sp>
            <p:nvSpPr>
              <p:cNvPr id="651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cac20"/>
                  </a:gs>
                  <a:gs pos="100000">
                    <a:srgbClr val="6bb33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 u="sng">
                  <a:solidFill>
                    <a:srgbClr val="ffffcc"/>
                  </a:solidFill>
                  <a:uFillTx/>
                  <a:latin typeface="Tahoma"/>
                </a:endParaRPr>
              </a:p>
            </p:txBody>
          </p:sp>
        </p:grpSp>
      </p:grpSp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ebd4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647C5-14AF-4490-9B37-8177680F5BA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7"/>
    <p:sldLayoutId id="2147483793" r:id="rId8"/>
    <p:sldLayoutId id="2147483794" r:id="rId9"/>
    <p:sldLayoutId id="2147483795" r:id="rId10"/>
    <p:sldLayoutId id="2147483796" r:id="rId11"/>
    <p:sldLayoutId id="2147483797" r:id="rId12"/>
    <p:sldLayoutId id="2147483798" r:id="rId13"/>
    <p:sldLayoutId id="2147483799" r:id="rId14"/>
    <p:sldLayoutId id="2147483800" r:id="rId15"/>
    <p:sldLayoutId id="2147483801" r:id="rId16"/>
    <p:sldLayoutId id="2147483802" r:id="rId17"/>
    <p:sldLayoutId id="2147483803" r:id="rId18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3" name="Group 2"/>
          <p:cNvGrpSpPr/>
          <p:nvPr/>
        </p:nvGrpSpPr>
        <p:grpSpPr>
          <a:xfrm>
            <a:off x="-7758000" y="1463760"/>
            <a:ext cx="16902000" cy="10794960"/>
            <a:chOff x="-7758000" y="1463760"/>
            <a:chExt cx="16902000" cy="10794960"/>
          </a:xfrm>
        </p:grpSpPr>
        <p:sp>
          <p:nvSpPr>
            <p:cNvPr id="694" name="Freeform 3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765e2f"/>
                </a:gs>
                <a:gs pos="100000">
                  <a:srgbClr val="ffcc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695" name="Arc 4"/>
            <p:cNvSpPr/>
            <p:nvPr/>
          </p:nvSpPr>
          <p:spPr>
            <a:xfrm>
              <a:off x="-7758000" y="1463760"/>
              <a:ext cx="13452480" cy="1079496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22731" y="-1"/>
                    <a:pt x="23861" y="88"/>
                    <a:pt x="24979" y="265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22731" y="-1"/>
                    <a:pt x="23861" y="88"/>
                    <a:pt x="24979" y="265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</p:grpSp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 type="dt" idx="37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 type="ftr" idx="38"/>
          </p:nvPr>
        </p:nvSpPr>
        <p:spPr>
          <a:xfrm>
            <a:off x="129528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PlaceHolder 5"/>
          <p:cNvSpPr>
            <a:spLocks noGrp="1"/>
          </p:cNvSpPr>
          <p:nvPr>
            <p:ph type="sldNum" idx="39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C8F16-3201-434C-AB5B-8D3E7A42B9CD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7" name="Group 4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738" name="Rectangle 5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739" name="Rectangle 6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ff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</p:grpSp>
      <p:grpSp>
        <p:nvGrpSpPr>
          <p:cNvPr id="740" name="Group 7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741" name="Rectangle 8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100000">
                  <a:srgbClr val="ffff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742" name="Rectangle 9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ff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</p:grpSp>
      <p:grpSp>
        <p:nvGrpSpPr>
          <p:cNvPr id="743" name="Group 10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744" name="Rectangle 11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0099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745" name="Rectangle 12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ff99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</p:grpSp>
      <p:grpSp>
        <p:nvGrpSpPr>
          <p:cNvPr id="746" name="Group 13"/>
          <p:cNvGrpSpPr/>
          <p:nvPr/>
        </p:nvGrpSpPr>
        <p:grpSpPr>
          <a:xfrm>
            <a:off x="76320" y="176040"/>
            <a:ext cx="8745120" cy="161640"/>
            <a:chOff x="76320" y="176040"/>
            <a:chExt cx="8745120" cy="161640"/>
          </a:xfrm>
        </p:grpSpPr>
        <p:sp>
          <p:nvSpPr>
            <p:cNvPr id="747" name="Rectangle 14"/>
            <p:cNvSpPr/>
            <p:nvPr/>
          </p:nvSpPr>
          <p:spPr>
            <a:xfrm flipV="1" rot="5400000">
              <a:off x="4529520" y="-3954240"/>
              <a:ext cx="59040" cy="8524800"/>
            </a:xfrm>
            <a:prstGeom prst="rect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ffff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748" name="Rectangle 15"/>
            <p:cNvSpPr/>
            <p:nvPr/>
          </p:nvSpPr>
          <p:spPr>
            <a:xfrm flipV="1" rot="5400000">
              <a:off x="4417920" y="-4165560"/>
              <a:ext cx="60480" cy="874368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100000">
                  <a:srgbClr val="ffff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</p:grpSp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cc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99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66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66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 type="dt" idx="40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 type="ftr" idx="41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3399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33993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PlaceHolder 5"/>
          <p:cNvSpPr>
            <a:spLocks noGrp="1"/>
          </p:cNvSpPr>
          <p:nvPr>
            <p:ph type="sldNum" idx="42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399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A2BA1-B90E-4AA6-8814-0C7AE131FD27}" type="slidenum">
              <a:rPr b="0" lang="ru-RU" sz="1400" spc="-1" strike="noStrike">
                <a:solidFill>
                  <a:srgbClr val="3399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64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65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grpSp>
          <p:nvGrpSpPr>
            <p:cNvPr id="66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67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 u="sng">
                  <a:solidFill>
                    <a:srgbClr val="ffffcc"/>
                  </a:solidFill>
                  <a:uFillTx/>
                  <a:latin typeface="Tahoma"/>
                </a:endParaRPr>
              </a:p>
            </p:txBody>
          </p:sp>
          <p:sp>
            <p:nvSpPr>
              <p:cNvPr id="68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 u="sng">
                  <a:solidFill>
                    <a:srgbClr val="ffffcc"/>
                  </a:solidFill>
                  <a:uFillTx/>
                  <a:latin typeface="Tahoma"/>
                </a:endParaRPr>
              </a:p>
            </p:txBody>
          </p:sp>
          <p:sp>
            <p:nvSpPr>
              <p:cNvPr id="69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 u="sng">
                  <a:solidFill>
                    <a:srgbClr val="ffffcc"/>
                  </a:solidFill>
                  <a:uFillTx/>
                  <a:latin typeface="Tahoma"/>
                </a:endParaRPr>
              </a:p>
            </p:txBody>
          </p:sp>
          <p:sp>
            <p:nvSpPr>
              <p:cNvPr id="70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 u="sng">
                  <a:solidFill>
                    <a:srgbClr val="ffffcc"/>
                  </a:solidFill>
                  <a:uFillTx/>
                  <a:latin typeface="Tahoma"/>
                </a:endParaRPr>
              </a:p>
            </p:txBody>
          </p:sp>
          <p:sp>
            <p:nvSpPr>
              <p:cNvPr id="71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 u="sng">
                  <a:solidFill>
                    <a:srgbClr val="ffffcc"/>
                  </a:solidFill>
                  <a:uFillTx/>
                  <a:latin typeface="Tahoma"/>
                </a:endParaRPr>
              </a:p>
            </p:txBody>
          </p:sp>
          <p:sp>
            <p:nvSpPr>
              <p:cNvPr id="72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 u="sng">
                  <a:solidFill>
                    <a:srgbClr val="ffffcc"/>
                  </a:solidFill>
                  <a:uFillTx/>
                  <a:latin typeface="Tahoma"/>
                </a:endParaRPr>
              </a:p>
            </p:txBody>
          </p:sp>
          <p:sp>
            <p:nvSpPr>
              <p:cNvPr id="73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 u="sng">
                  <a:solidFill>
                    <a:srgbClr val="ffffcc"/>
                  </a:solidFill>
                  <a:uFillTx/>
                  <a:latin typeface="Tahoma"/>
                </a:endParaRPr>
              </a:p>
            </p:txBody>
          </p:sp>
          <p:sp>
            <p:nvSpPr>
              <p:cNvPr id="74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 u="sng">
                  <a:solidFill>
                    <a:srgbClr val="ffffcc"/>
                  </a:solidFill>
                  <a:uFillTx/>
                  <a:latin typeface="Tahoma"/>
                </a:endParaRPr>
              </a:p>
            </p:txBody>
          </p:sp>
          <p:sp>
            <p:nvSpPr>
              <p:cNvPr id="75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 u="sng">
                  <a:solidFill>
                    <a:srgbClr val="ffffcc"/>
                  </a:solidFill>
                  <a:uFillTx/>
                  <a:latin typeface="Tahoma"/>
                </a:endParaRPr>
              </a:p>
            </p:txBody>
          </p:sp>
        </p:grpSp>
      </p:grp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311E5-CF9C-4A9E-AA7D-A2EE0826CC39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72119-50CE-4A50-8D27-B54C239A1BA6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8b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66ff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66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66ff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66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66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 type="ftr" idx="1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BBFCE-A75B-4134-9AB5-976A47EBDDA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Line 6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sp>
        <p:nvSpPr>
          <p:cNvPr id="163" name="Line 7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grpSp>
        <p:nvGrpSpPr>
          <p:cNvPr id="164" name="Group 8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165" name="Rectangle 9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166" name="Rectangle 10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167" name="Rectangle 11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168" name="Rectangle 12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169" name="Rectangle 13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170" name="Rectangle 14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171" name="Rectangle 15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172" name="Rectangle 16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173" name="Rectangle 17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174" name="Rectangle 18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175" name="Rectangle 19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176" name="Rectangle 20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177" name="Rectangle 21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</p:grpSp>
      <p:sp>
        <p:nvSpPr>
          <p:cNvPr id="178" name="PlaceHolder 5"/>
          <p:cNvSpPr>
            <a:spLocks noGrp="1"/>
          </p:cNvSpPr>
          <p:nvPr>
            <p:ph type="dt" idx="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56312"/>
            </a:gs>
            <a:gs pos="100000">
              <a:srgbClr val="5cac2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5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216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5100"/>
                </a:gs>
                <a:gs pos="100000">
                  <a:srgbClr val="008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217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386913"/>
                </a:gs>
                <a:gs pos="100000">
                  <a:srgbClr val="5cac2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218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6100"/>
                </a:gs>
                <a:gs pos="100000">
                  <a:srgbClr val="008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219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5cac2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220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4b8d1a"/>
                </a:gs>
                <a:gs pos="100000">
                  <a:srgbClr val="5cac2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221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5cac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222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5cac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223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437d17"/>
                </a:gs>
                <a:gs pos="100000">
                  <a:srgbClr val="5cac2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224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5cac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225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5cac20"/>
                </a:gs>
                <a:gs pos="100000">
                  <a:srgbClr val="61af2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226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5cac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227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325e11"/>
                </a:gs>
                <a:gs pos="100000">
                  <a:srgbClr val="5cac2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228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5cac2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229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5500"/>
                </a:gs>
                <a:gs pos="100000">
                  <a:srgbClr val="008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230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07816"/>
                </a:gs>
                <a:gs pos="100000">
                  <a:srgbClr val="5cac2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231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5cac20"/>
                </a:gs>
                <a:gs pos="100000">
                  <a:srgbClr val="66b1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232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5cac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233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b500f"/>
                </a:gs>
                <a:gs pos="100000">
                  <a:srgbClr val="5cac2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234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235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f5810"/>
                </a:gs>
                <a:gs pos="100000">
                  <a:srgbClr val="5cac2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236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500"/>
                </a:gs>
                <a:gs pos="100000">
                  <a:srgbClr val="008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237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5cac20"/>
                </a:gs>
                <a:gs pos="100000">
                  <a:srgbClr val="6bb33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238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239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500"/>
                </a:gs>
                <a:gs pos="100000">
                  <a:srgbClr val="008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240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900"/>
                </a:gs>
                <a:gs pos="100000">
                  <a:srgbClr val="008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241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242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3a6d14"/>
                </a:gs>
                <a:gs pos="100000">
                  <a:srgbClr val="5cac2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243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244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386913"/>
                </a:gs>
                <a:gs pos="100000">
                  <a:srgbClr val="5cac2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245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4e921b"/>
                </a:gs>
                <a:gs pos="100000">
                  <a:srgbClr val="5cac2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246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d5410"/>
                </a:gs>
                <a:gs pos="100000">
                  <a:srgbClr val="5cac2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247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e921b"/>
                </a:gs>
                <a:gs pos="100000">
                  <a:srgbClr val="5cac2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248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500"/>
                </a:gs>
                <a:gs pos="100000">
                  <a:srgbClr val="008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249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56312"/>
                </a:gs>
                <a:gs pos="100000">
                  <a:srgbClr val="5cac2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250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37d17"/>
                </a:gs>
                <a:gs pos="100000">
                  <a:srgbClr val="5cac2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251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498819"/>
                </a:gs>
                <a:gs pos="100000">
                  <a:srgbClr val="5cac2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grpSp>
          <p:nvGrpSpPr>
            <p:cNvPr id="252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253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37d17"/>
                  </a:gs>
                  <a:gs pos="100000">
                    <a:srgbClr val="5cac2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 u="sng">
                  <a:solidFill>
                    <a:srgbClr val="ffffcc"/>
                  </a:solidFill>
                  <a:uFillTx/>
                  <a:latin typeface="Tahoma"/>
                </a:endParaRPr>
              </a:p>
            </p:txBody>
          </p:sp>
          <p:sp>
            <p:nvSpPr>
              <p:cNvPr id="254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cac20"/>
                  </a:gs>
                  <a:gs pos="100000">
                    <a:srgbClr val="6bb33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 u="sng">
                  <a:solidFill>
                    <a:srgbClr val="ffffcc"/>
                  </a:solidFill>
                  <a:uFillTx/>
                  <a:latin typeface="Tahoma"/>
                </a:endParaRPr>
              </a:p>
            </p:txBody>
          </p:sp>
        </p:grpSp>
      </p:grp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ebd4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0B1FF-CD8F-4DF7-B991-531565EF1D8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6" name="Group 2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297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765e2f"/>
                </a:gs>
                <a:gs pos="100000">
                  <a:srgbClr val="ffcc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298" name="Arc 4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</p:grpSp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 type="dt" idx="16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 type="ftr" idx="17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 type="sldNum" idx="18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81B8A-B1C6-475B-9F30-33C7C82A90BB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cc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99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66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66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dt" idx="19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 type="ftr" idx="20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3399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33993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 type="sldNum" idx="21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399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344D7-B2DC-4119-AAFE-278124F150D5}" type="slidenum">
              <a:rPr b="0" lang="ru-RU" sz="1400" spc="-1" strike="noStrike">
                <a:solidFill>
                  <a:srgbClr val="3399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5" name="Group 7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346" name="Rectangle 8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347" name="Rectangle 9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ff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</p:grpSp>
      <p:grpSp>
        <p:nvGrpSpPr>
          <p:cNvPr id="348" name="Group 10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349" name="Rectangle 11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100000">
                  <a:srgbClr val="ffff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350" name="Rectangle 12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ff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</p:grpSp>
      <p:grpSp>
        <p:nvGrpSpPr>
          <p:cNvPr id="351" name="Group 13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352" name="Rectangle 14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0099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353" name="Rectangle 15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ff99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</p:grpSp>
      <p:grpSp>
        <p:nvGrpSpPr>
          <p:cNvPr id="354" name="Group 16"/>
          <p:cNvGrpSpPr/>
          <p:nvPr/>
        </p:nvGrpSpPr>
        <p:grpSpPr>
          <a:xfrm>
            <a:off x="76320" y="176040"/>
            <a:ext cx="8745120" cy="161640"/>
            <a:chOff x="76320" y="176040"/>
            <a:chExt cx="8745120" cy="161640"/>
          </a:xfrm>
        </p:grpSpPr>
        <p:sp>
          <p:nvSpPr>
            <p:cNvPr id="355" name="Rectangle 17"/>
            <p:cNvSpPr/>
            <p:nvPr/>
          </p:nvSpPr>
          <p:spPr>
            <a:xfrm flipV="1" rot="5400000">
              <a:off x="4529520" y="-3954240"/>
              <a:ext cx="59040" cy="8524800"/>
            </a:xfrm>
            <a:prstGeom prst="rect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ffff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356" name="Rectangle 18"/>
            <p:cNvSpPr/>
            <p:nvPr/>
          </p:nvSpPr>
          <p:spPr>
            <a:xfrm flipV="1" rot="5400000">
              <a:off x="4417920" y="-4165560"/>
              <a:ext cx="60480" cy="874368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100000">
                  <a:srgbClr val="ffff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</p:grpSp>
      <p:grpSp>
        <p:nvGrpSpPr>
          <p:cNvPr id="357" name="Group 19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358" name="Rectangle 20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ffff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359" name="Rectangle 21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100000">
                  <a:srgbClr val="ffff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DB959-DA78-45B0-9B65-37C081789D5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7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38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439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440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441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442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443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444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445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446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447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448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449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450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451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452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453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454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455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456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457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458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</p:grpSp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dt" idx="25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FADA4-5BC8-4BC9-82B1-BFE5D602460B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file:///&#1052;&#1091;&#1079;&#1099;&#1082;&#1072;%20&#1074;%20XX%20&#1074;&#1077;&#1082;&#1077;.ppt" TargetMode="External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file:///&#1052;&#1091;&#1079;&#1099;&#1082;&#1072;%20&#1074;%20XX%20&#1074;&#1077;&#1082;&#1077;.ppt" TargetMode="External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file:///&#1052;&#1091;&#1079;&#1099;&#1082;&#1072;%20&#1074;%20XX%20&#1074;&#1077;&#1082;&#1077;.ppt" TargetMode="External"/><Relationship Id="rId2" Type="http://schemas.openxmlformats.org/officeDocument/2006/relationships/hyperlink" Target="file:///&#1052;&#1091;&#1079;&#1099;&#1082;&#1072;%20&#1074;%20XX%20&#1074;&#1077;&#1082;&#1077;.ppt" TargetMode="External"/><Relationship Id="rId3" Type="http://schemas.openxmlformats.org/officeDocument/2006/relationships/image" Target="../media/image25.pn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85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hyperlink" Target="file:///&#1052;&#1091;&#1079;&#1099;&#1082;&#1072;%20&#1074;%20XX%20&#1074;&#1077;&#1082;&#1077;.ppt" TargetMode="External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hyperlink" Target="file:///&#1052;&#1091;&#1079;&#1099;&#1082;&#1072;%20&#1074;%20XX%20&#1074;&#1077;&#1082;&#1077;.ppt" TargetMode="External"/><Relationship Id="rId3" Type="http://schemas.openxmlformats.org/officeDocument/2006/relationships/hyperlink" Target="file:///&#1052;&#1091;&#1079;&#1099;&#1082;&#1072;%20&#1074;%20XX%20&#1074;&#1077;&#1082;&#1077;.ppt" TargetMode="External"/><Relationship Id="rId4" Type="http://schemas.openxmlformats.org/officeDocument/2006/relationships/image" Target="../media/image31.png"/><Relationship Id="rId5" Type="http://schemas.openxmlformats.org/officeDocument/2006/relationships/hyperlink" Target="file:///&#1052;&#1091;&#1079;&#1099;&#1082;&#1072;%20&#1074;%20XX%20&#1074;&#1077;&#1082;&#1077;.ppt" TargetMode="External"/><Relationship Id="rId6" Type="http://schemas.openxmlformats.org/officeDocument/2006/relationships/hyperlink" Target="file:///&#1052;&#1091;&#1079;&#1099;&#1082;&#1072;%20&#1074;%20XX%20&#1074;&#1077;&#1082;&#1077;.ppt" TargetMode="External"/><Relationship Id="rId7" Type="http://schemas.openxmlformats.org/officeDocument/2006/relationships/image" Target="../media/image32.png"/><Relationship Id="rId8" Type="http://schemas.openxmlformats.org/officeDocument/2006/relationships/slideLayout" Target="../slideLayouts/slideLayout85.xml"/><Relationship Id="rId9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0.jpe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hyperlink" Target="file:///&#1052;&#1091;&#1079;&#1099;&#1082;&#1072;%20&#1074;%20XX%20&#1074;&#1077;&#1082;&#1077;.ppt" TargetMode="External"/><Relationship Id="rId3" Type="http://schemas.openxmlformats.org/officeDocument/2006/relationships/hyperlink" Target="file:///&#1052;&#1091;&#1079;&#1099;&#1082;&#1072;%20&#1074;%20XX%20&#1074;&#1077;&#1082;&#1077;.ppt" TargetMode="External"/><Relationship Id="rId4" Type="http://schemas.openxmlformats.org/officeDocument/2006/relationships/image" Target="../media/image34.jpeg"/><Relationship Id="rId5" Type="http://schemas.openxmlformats.org/officeDocument/2006/relationships/slideLayout" Target="../slideLayouts/slideLayout85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5.jpe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hyperlink" Target="file:///&#1052;&#1091;&#1079;&#1099;&#1082;&#1072;%20&#1074;%20XX%20&#1074;&#1077;&#1082;&#1077;.ppt" TargetMode="External"/><Relationship Id="rId3" Type="http://schemas.openxmlformats.org/officeDocument/2006/relationships/hyperlink" Target="file:///&#1052;&#1091;&#1079;&#1099;&#1082;&#1072;%20&#1074;%20XX%20&#1074;&#1077;&#1082;&#1077;.ppt" TargetMode="External"/><Relationship Id="rId4" Type="http://schemas.openxmlformats.org/officeDocument/2006/relationships/image" Target="../media/image37.jpeg"/><Relationship Id="rId5" Type="http://schemas.openxmlformats.org/officeDocument/2006/relationships/slideLayout" Target="../slideLayouts/slideLayout8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file:///&#1052;&#1091;&#1079;&#1099;&#1082;&#1072;%20&#1074;%20XX%20&#1074;&#1077;&#1082;&#1077;.ppt" TargetMode="External"/><Relationship Id="rId2" Type="http://schemas.openxmlformats.org/officeDocument/2006/relationships/hyperlink" Target="file:///&#1052;&#1091;&#1079;&#1099;&#1082;&#1072;%20&#1074;%20XX%20&#1074;&#1077;&#1082;&#1077;.ppt" TargetMode="External"/><Relationship Id="rId3" Type="http://schemas.openxmlformats.org/officeDocument/2006/relationships/hyperlink" Target="file:///&#1052;&#1091;&#1079;&#1099;&#1082;&#1072;%20&#1074;%20XX%20&#1074;&#1077;&#1082;&#1077;.ppt" TargetMode="External"/><Relationship Id="rId4" Type="http://schemas.openxmlformats.org/officeDocument/2006/relationships/image" Target="../media/image38.jpeg"/><Relationship Id="rId5" Type="http://schemas.openxmlformats.org/officeDocument/2006/relationships/image" Target="../media/image39.png"/><Relationship Id="rId6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file:///&#1052;&#1091;&#1079;&#1099;&#1082;&#1072;%20&#1074;%20XX%20&#1074;&#1077;&#1082;&#1077;.ppt" TargetMode="External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hyperlink" Target="file:///&#1052;&#1091;&#1079;&#1099;&#1082;&#1072;%20&#1074;%20XX%20&#1074;&#1077;&#1082;&#1077;.ppt" TargetMode="External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49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file:///&#1052;&#1091;&#1079;&#1099;&#1082;&#1072;%20&#1074;%20XX%20&#1074;&#1077;&#1082;&#1077;.ppt" TargetMode="External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file:///&#1052;&#1091;&#1079;&#1099;&#1082;&#1072;%20&#1074;%20XX%20&#1074;&#1077;&#1082;&#1077;.ppt" TargetMode="External"/><Relationship Id="rId2" Type="http://schemas.openxmlformats.org/officeDocument/2006/relationships/hyperlink" Target="file:///&#1052;&#1091;&#1079;&#1099;&#1082;&#1072;%20&#1074;%20XX%20&#1074;&#1077;&#1082;&#1077;.ppt" TargetMode="External"/><Relationship Id="rId3" Type="http://schemas.openxmlformats.org/officeDocument/2006/relationships/image" Target="../media/image47.jpeg"/><Relationship Id="rId4" Type="http://schemas.openxmlformats.org/officeDocument/2006/relationships/image" Target="../media/image48.pn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file:///&#1052;&#1091;&#1079;&#1099;&#1082;&#1072;%20&#1074;%20XX%20&#1074;&#1077;&#1082;&#1077;.ppt" TargetMode="External"/><Relationship Id="rId3" Type="http://schemas.openxmlformats.org/officeDocument/2006/relationships/hyperlink" Target="file:///&#1052;&#1091;&#1079;&#1099;&#1082;&#1072;%20&#1074;%20XX%20&#1074;&#1077;&#1082;&#1077;.ppt" TargetMode="External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file:///&#1052;&#1091;&#1079;&#1099;&#1082;&#1072;%20&#1074;%20XX%20&#1074;&#1077;&#1082;&#1077;.ppt" TargetMode="External"/><Relationship Id="rId2" Type="http://schemas.openxmlformats.org/officeDocument/2006/relationships/image" Target="../media/image51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3.jpeg"/><Relationship Id="rId3" Type="http://schemas.openxmlformats.org/officeDocument/2006/relationships/hyperlink" Target="file:///&#1052;&#1091;&#1079;&#1099;&#1082;&#1072;%20&#1074;%20XX%20&#1074;&#1077;&#1082;&#1077;.ppt" TargetMode="External"/><Relationship Id="rId4" Type="http://schemas.openxmlformats.org/officeDocument/2006/relationships/hyperlink" Target="file:///&#1052;&#1091;&#1079;&#1099;&#1082;&#1072;%20&#1074;%20XX%20&#1074;&#1077;&#1082;&#1077;.ppt" TargetMode="External"/><Relationship Id="rId5" Type="http://schemas.openxmlformats.org/officeDocument/2006/relationships/image" Target="../media/image54.png"/><Relationship Id="rId6" Type="http://schemas.openxmlformats.org/officeDocument/2006/relationships/slideLayout" Target="../slideLayouts/slideLayout37.xml"/><Relationship Id="rId7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5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file:///&#1052;&#1091;&#1079;&#1099;&#1082;&#1072;%20&#1074;%20XX%20&#1074;&#1077;&#1082;&#1077;.ppt" TargetMode="External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image" Target="../media/image60.pn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image" Target="../media/image62.pn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image" Target="../media/image64.jpe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65.jpeg"/><Relationship Id="rId2" Type="http://schemas.openxmlformats.org/officeDocument/2006/relationships/image" Target="../media/image66.jpeg"/><Relationship Id="rId3" Type="http://schemas.openxmlformats.org/officeDocument/2006/relationships/image" Target="../media/image67.png"/><Relationship Id="rId4" Type="http://schemas.openxmlformats.org/officeDocument/2006/relationships/slideLayout" Target="../slideLayouts/slideLayout61.xml"/><Relationship Id="rId5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hyperlink" Target="file:///&#1052;&#1091;&#1079;&#1099;&#1082;&#1072;%20&#1074;%20XX%20&#1074;&#1077;&#1082;&#1077;.ppt" TargetMode="External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85.xml"/><Relationship Id="rId6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5.jpeg"/><Relationship Id="rId2" Type="http://schemas.openxmlformats.org/officeDocument/2006/relationships/image" Target="../media/image68.pn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70.jpeg"/><Relationship Id="rId2" Type="http://schemas.openxmlformats.org/officeDocument/2006/relationships/image" Target="../media/image71.pn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72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73.png"/><Relationship Id="rId2" Type="http://schemas.openxmlformats.org/officeDocument/2006/relationships/image" Target="../media/image74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75.jpeg"/><Relationship Id="rId2" Type="http://schemas.openxmlformats.org/officeDocument/2006/relationships/image" Target="../media/image76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77.png"/><Relationship Id="rId2" Type="http://schemas.openxmlformats.org/officeDocument/2006/relationships/image" Target="../media/image78.jpe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80.jpe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1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82.png"/><Relationship Id="rId2" Type="http://schemas.openxmlformats.org/officeDocument/2006/relationships/image" Target="../media/image83.jpe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file:///&#1052;&#1091;&#1079;&#1099;&#1082;&#1072;%20&#1074;%20XX%20&#1074;&#1077;&#1082;&#1077;.ppt" TargetMode="External"/><Relationship Id="rId3" Type="http://schemas.openxmlformats.org/officeDocument/2006/relationships/hyperlink" Target="file:///&#1052;&#1091;&#1079;&#1099;&#1082;&#1072;%20&#1074;%20XX%20&#1074;&#1077;&#1082;&#1077;.ppt" TargetMode="External"/><Relationship Id="rId4" Type="http://schemas.openxmlformats.org/officeDocument/2006/relationships/hyperlink" Target="file:///&#1052;&#1091;&#1079;&#1099;&#1082;&#1072;%20&#1074;%20XX%20&#1074;&#1077;&#1082;&#1077;.ppt" TargetMode="External"/><Relationship Id="rId5" Type="http://schemas.openxmlformats.org/officeDocument/2006/relationships/hyperlink" Target="file:///&#1052;&#1091;&#1079;&#1099;&#1082;&#1072;%20&#1074;%20XX%20&#1074;&#1077;&#1082;&#1077;.ppt" TargetMode="External"/><Relationship Id="rId6" Type="http://schemas.openxmlformats.org/officeDocument/2006/relationships/hyperlink" Target="file:///&#1052;&#1091;&#1079;&#1099;&#1082;&#1072;%20&#1074;%20XX%20&#1074;&#1077;&#1082;&#1077;.ppt" TargetMode="External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hyperlink" Target="file:///&#1052;&#1091;&#1079;&#1099;&#1082;&#1072;%20&#1074;%20XX%20&#1074;&#1077;&#1082;&#1077;.ppt" TargetMode="External"/><Relationship Id="rId10" Type="http://schemas.openxmlformats.org/officeDocument/2006/relationships/slideLayout" Target="../slideLayouts/slideLayout25.xml"/><Relationship Id="rId11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84.png"/><Relationship Id="rId2" Type="http://schemas.openxmlformats.org/officeDocument/2006/relationships/image" Target="../media/image85.jpe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86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5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hyperlink" Target="file:///&#1052;&#1091;&#1079;&#1099;&#1082;&#1072;%20&#1074;%20XX%20&#1074;&#1077;&#1082;&#1077;.ppt" TargetMode="External"/><Relationship Id="rId3" Type="http://schemas.openxmlformats.org/officeDocument/2006/relationships/hyperlink" Target="file:///&#1052;&#1091;&#1079;&#1099;&#1082;&#1072;%20&#1074;%20XX%20&#1074;&#1077;&#1082;&#1077;.ppt" TargetMode="External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85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hyperlink" Target="file:///&#1052;&#1091;&#1079;&#1099;&#1082;&#1072;%20&#1074;%20XX%20&#1074;&#1077;&#1082;&#1077;.ppt" TargetMode="External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hyperlink" Target="file:///&#1052;&#1091;&#1079;&#1099;&#1082;&#1072;%20&#1074;%20XX%20&#1074;&#1077;&#1082;&#1077;.ppt" TargetMode="External"/><Relationship Id="rId3" Type="http://schemas.openxmlformats.org/officeDocument/2006/relationships/hyperlink" Target="file:///&#1052;&#1091;&#1079;&#1099;&#1082;&#1072;%20&#1074;%20XX%20&#1074;&#1077;&#1082;&#1077;.ppt" TargetMode="External"/><Relationship Id="rId4" Type="http://schemas.openxmlformats.org/officeDocument/2006/relationships/image" Target="../media/image20.jpe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85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Text Box 5"/>
          <p:cNvSpPr/>
          <p:nvPr/>
        </p:nvSpPr>
        <p:spPr>
          <a:xfrm>
            <a:off x="468360" y="476280"/>
            <a:ext cx="7632720" cy="54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Чаадаева Ирина Анатольевна</a:t>
            </a:r>
            <a:endParaRPr b="1" lang="en-US" sz="2000" spc="-1" strike="noStrike" u="sng">
              <a:solidFill>
                <a:srgbClr val="ffffcc"/>
              </a:solidFill>
              <a:uFillTx/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Муниципальное общеобразовательное учреждение «Средняя общеобразовательная школа №2 г. Лениногорска» Лениногорского муниципального района Республики Татарстан</a:t>
            </a:r>
            <a:endParaRPr b="1" lang="en-US" sz="2000" spc="-1" strike="noStrike" u="sng">
              <a:solidFill>
                <a:srgbClr val="ffffcc"/>
              </a:solidFill>
              <a:uFillTx/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Учитель музыки,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квалификационная категория</a:t>
            </a:r>
            <a:endParaRPr b="1" lang="en-US" sz="2000" spc="-1" strike="noStrike" u="sng">
              <a:solidFill>
                <a:srgbClr val="ffffcc"/>
              </a:solidFill>
              <a:uFillTx/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Урок музыки «Новые краски в музыке композиторов 20 века»</a:t>
            </a:r>
            <a:endParaRPr b="1" lang="en-US" sz="2000" spc="-1" strike="noStrike" u="sng">
              <a:solidFill>
                <a:srgbClr val="ffffcc"/>
              </a:solidFill>
              <a:uFillTx/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7 класс</a:t>
            </a:r>
            <a:endParaRPr b="1" lang="en-US" sz="2000" spc="-1" strike="noStrike" u="sng">
              <a:solidFill>
                <a:srgbClr val="ffffcc"/>
              </a:solidFill>
              <a:uFillTx/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Times New Roman"/>
              </a:rPr>
              <a:t>Цели: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2000" spc="-1" strike="noStrike" u="sng">
              <a:solidFill>
                <a:srgbClr val="ffffcc"/>
              </a:solidFill>
              <a:uFillTx/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научить разграничивать понятия «классическая и современная музыка», «традиции и новаторство» в музыке композиторов 20 века;</a:t>
            </a:r>
            <a:endParaRPr b="1" lang="en-US" sz="2000" spc="-1" strike="noStrike" u="sng">
              <a:solidFill>
                <a:srgbClr val="ffffcc"/>
              </a:solidFill>
              <a:uFillTx/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Уметь находить общее в музыкальном языке разных композиторов и в воздействии их музыки на чувства людей</a:t>
            </a:r>
            <a:endParaRPr b="1" lang="en-US" sz="20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sp>
        <p:nvSpPr>
          <p:cNvPr id="7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1" lang="en-US" sz="10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20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/>
          </p:nvPr>
        </p:nvSpPr>
        <p:spPr>
          <a:xfrm>
            <a:off x="4140360" y="2204640"/>
            <a:ext cx="417672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Бенджамин Бриттен – это английский композитор, оперы которого стали известны всему миру. Его перу принадлежат такие произведения, как оперы «Питер Граймс», «Поругание Лукреции», «Сон в летнюю ночь», «Поворот винта», «Глориана», а также детские спектакли, хоры, написал много песен, балет «Принц Пагод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7" name="Picture 7" descr="Бенджамин Бриттен"/>
          <p:cNvPicPr/>
          <p:nvPr/>
        </p:nvPicPr>
        <p:blipFill>
          <a:blip r:embed="rId1"/>
          <a:stretch/>
        </p:blipFill>
        <p:spPr>
          <a:xfrm>
            <a:off x="1258920" y="2205000"/>
            <a:ext cx="2346120" cy="3510000"/>
          </a:xfrm>
          <a:prstGeom prst="rect">
            <a:avLst/>
          </a:prstGeom>
          <a:ln w="0">
            <a:noFill/>
          </a:ln>
        </p:spPr>
      </p:pic>
      <p:pic>
        <p:nvPicPr>
          <p:cNvPr id="848" name="WordArt 8" descr=""/>
          <p:cNvPicPr/>
          <p:nvPr/>
        </p:nvPicPr>
        <p:blipFill>
          <a:blip r:embed="rId2"/>
          <a:stretch/>
        </p:blipFill>
        <p:spPr>
          <a:xfrm>
            <a:off x="2335320" y="476280"/>
            <a:ext cx="4913280" cy="1303200"/>
          </a:xfrm>
          <a:prstGeom prst="rect">
            <a:avLst/>
          </a:prstGeom>
          <a:ln w="0">
            <a:noFill/>
          </a:ln>
        </p:spPr>
      </p:pic>
      <p:sp>
        <p:nvSpPr>
          <p:cNvPr id="84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8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5e9e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/>
          </p:nvPr>
        </p:nvSpPr>
        <p:spPr>
          <a:xfrm>
            <a:off x="684360" y="1052640"/>
            <a:ext cx="4249440" cy="561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Одно из лучших Бриттена, которое стало очень знаменито в Европе и Америке, - «Военный реквием». «Военный реквием» написан в форме заупокойной мессы. Бенджамин Бриттен был не только композитором, но и пианистом, дирижером, он писал книги о музыке. Личность композитора многогранна: он не только создатель оперных произведений, - трудно найти такой жанр, в котором бы не творил Бриттен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AutoShape 5">
            <a:hlinkClick r:id="rId1"/>
          </p:cNvPr>
          <p:cNvSpPr/>
          <p:nvPr/>
        </p:nvSpPr>
        <p:spPr>
          <a:xfrm>
            <a:off x="7885080" y="5815080"/>
            <a:ext cx="1258920" cy="1042920"/>
          </a:xfrm>
          <a:custGeom>
            <a:avLst/>
            <a:gdLst>
              <a:gd name="textAreaLeft" fmla="*/ 67320 w 1258920"/>
              <a:gd name="textAreaRight" fmla="*/ 1191600 w 1258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6072" h="21600">
                <a:moveTo>
                  <a:pt x="0" y="0"/>
                </a:moveTo>
                <a:lnTo>
                  <a:pt x="26072" y="0"/>
                </a:lnTo>
                <a:lnTo>
                  <a:pt x="26072" y="21600"/>
                </a:lnTo>
                <a:lnTo>
                  <a:pt x="0" y="21600"/>
                </a:lnTo>
                <a:close/>
              </a:path>
              <a:path fill="lightenLess" w="26072" h="21600">
                <a:moveTo>
                  <a:pt x="0" y="0"/>
                </a:moveTo>
                <a:lnTo>
                  <a:pt x="26072" y="0"/>
                </a:lnTo>
                <a:lnTo>
                  <a:pt x="24672" y="1400"/>
                </a:lnTo>
                <a:lnTo>
                  <a:pt x="1400" y="1400"/>
                </a:lnTo>
                <a:close/>
              </a:path>
              <a:path fill="darken" w="26072" h="21600">
                <a:moveTo>
                  <a:pt x="26072" y="0"/>
                </a:moveTo>
                <a:lnTo>
                  <a:pt x="26072" y="21600"/>
                </a:lnTo>
                <a:lnTo>
                  <a:pt x="24672" y="20200"/>
                </a:lnTo>
                <a:lnTo>
                  <a:pt x="24672" y="1400"/>
                </a:lnTo>
                <a:close/>
              </a:path>
              <a:path fill="darkenLess" w="26072" h="21600">
                <a:moveTo>
                  <a:pt x="260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72" y="20200"/>
                </a:lnTo>
                <a:close/>
              </a:path>
              <a:path fill="lighten" w="260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072" h="21600">
                <a:moveTo>
                  <a:pt x="13036" y="3837"/>
                </a:moveTo>
                <a:lnTo>
                  <a:pt x="15612" y="6448"/>
                </a:lnTo>
                <a:lnTo>
                  <a:pt x="15612" y="4707"/>
                </a:lnTo>
                <a:lnTo>
                  <a:pt x="17388" y="4707"/>
                </a:lnTo>
                <a:lnTo>
                  <a:pt x="17388" y="8224"/>
                </a:lnTo>
                <a:lnTo>
                  <a:pt x="19999" y="10800"/>
                </a:lnTo>
                <a:lnTo>
                  <a:pt x="18345" y="10800"/>
                </a:lnTo>
                <a:lnTo>
                  <a:pt x="18345" y="17989"/>
                </a:lnTo>
                <a:lnTo>
                  <a:pt x="7727" y="17989"/>
                </a:lnTo>
                <a:lnTo>
                  <a:pt x="7727" y="10800"/>
                </a:lnTo>
                <a:lnTo>
                  <a:pt x="6073" y="10800"/>
                </a:lnTo>
                <a:close/>
              </a:path>
              <a:path fill="darkenLess" w="26072" h="21600">
                <a:moveTo>
                  <a:pt x="15612" y="6448"/>
                </a:moveTo>
                <a:lnTo>
                  <a:pt x="15612" y="4707"/>
                </a:lnTo>
                <a:lnTo>
                  <a:pt x="17388" y="4707"/>
                </a:lnTo>
                <a:lnTo>
                  <a:pt x="17388" y="8224"/>
                </a:lnTo>
                <a:close/>
              </a:path>
              <a:path fill="darkenLess" w="26072" h="21600">
                <a:moveTo>
                  <a:pt x="12113" y="14299"/>
                </a:moveTo>
                <a:lnTo>
                  <a:pt x="13959" y="14299"/>
                </a:lnTo>
                <a:lnTo>
                  <a:pt x="13959" y="17989"/>
                </a:lnTo>
                <a:lnTo>
                  <a:pt x="18345" y="17989"/>
                </a:lnTo>
                <a:lnTo>
                  <a:pt x="18345" y="10800"/>
                </a:lnTo>
                <a:lnTo>
                  <a:pt x="7727" y="10800"/>
                </a:lnTo>
                <a:lnTo>
                  <a:pt x="7727" y="17989"/>
                </a:lnTo>
                <a:lnTo>
                  <a:pt x="12113" y="1798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pic>
        <p:nvPicPr>
          <p:cNvPr id="852" name="Picture 6" descr="Бриттен"/>
          <p:cNvPicPr/>
          <p:nvPr/>
        </p:nvPicPr>
        <p:blipFill>
          <a:blip r:embed="rId2"/>
          <a:stretch/>
        </p:blipFill>
        <p:spPr>
          <a:xfrm>
            <a:off x="5796000" y="1557360"/>
            <a:ext cx="2425680" cy="3267000"/>
          </a:xfrm>
          <a:prstGeom prst="rect">
            <a:avLst/>
          </a:prstGeom>
          <a:ln w="0">
            <a:noFill/>
          </a:ln>
        </p:spPr>
      </p:pic>
      <p:sp>
        <p:nvSpPr>
          <p:cNvPr id="8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0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56b13"/>
            </a:gs>
            <a:gs pos="100000">
              <a:srgbClr val="156b13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/>
          </p:nvPr>
        </p:nvSpPr>
        <p:spPr>
          <a:xfrm>
            <a:off x="4140000" y="2276280"/>
            <a:ext cx="439236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Arial"/>
              </a:rPr>
              <a:t>Дмитрий Шостакович родился в Петербурге 25 ноября 1906 года. Детство Шостаковича связано с крупнейшими историческими событиями века – первой империалистической войной  и Великой социалистической революцией. Многоплановое, разнообразное по жанрам творчество Шостаковича признано классикой отечественной и мировой музыкальной культуры </a:t>
            </a: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XX </a:t>
            </a:r>
            <a:r>
              <a:rPr b="0" lang="ru-RU" sz="2000" spc="-1" strike="noStrike">
                <a:solidFill>
                  <a:srgbClr val="003300"/>
                </a:solidFill>
                <a:latin typeface="Arial"/>
              </a:rPr>
              <a:t>века.</a:t>
            </a:r>
            <a:r>
              <a:rPr b="0" lang="ru-RU" sz="1800" spc="-1" strike="noStrike">
                <a:solidFill>
                  <a:srgbClr val="00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5" name="Picture 5" descr="Шостакович 1"/>
          <p:cNvPicPr/>
          <p:nvPr/>
        </p:nvPicPr>
        <p:blipFill>
          <a:blip r:embed="rId1"/>
          <a:stretch/>
        </p:blipFill>
        <p:spPr>
          <a:xfrm>
            <a:off x="826920" y="2492280"/>
            <a:ext cx="2900520" cy="3435480"/>
          </a:xfrm>
          <a:prstGeom prst="rect">
            <a:avLst/>
          </a:prstGeom>
          <a:ln w="0">
            <a:noFill/>
          </a:ln>
        </p:spPr>
      </p:pic>
      <p:pic>
        <p:nvPicPr>
          <p:cNvPr id="856" name="WordArt 6" descr=""/>
          <p:cNvPicPr/>
          <p:nvPr/>
        </p:nvPicPr>
        <p:blipFill>
          <a:blip r:embed="rId2"/>
          <a:stretch/>
        </p:blipFill>
        <p:spPr>
          <a:xfrm>
            <a:off x="2120760" y="615960"/>
            <a:ext cx="5370480" cy="1309680"/>
          </a:xfrm>
          <a:prstGeom prst="rect">
            <a:avLst/>
          </a:prstGeom>
          <a:ln w="0">
            <a:noFill/>
          </a:ln>
        </p:spPr>
      </p:pic>
      <p:sp>
        <p:nvSpPr>
          <p:cNvPr id="8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8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56b13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/>
          </p:nvPr>
        </p:nvSpPr>
        <p:spPr>
          <a:xfrm>
            <a:off x="1115640" y="765000"/>
            <a:ext cx="6767640" cy="26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Arial"/>
              </a:rPr>
              <a:t>К его перу принадлежит множество произведений, в том числе – оперы «Нос», «Катерина Измайлова», балет «Золотой век», 15 симфоний, увертюры, музыка к спектаклям и кинофильмам («Овод», «Гамлет») и очень много других произведений. Самым знаменитым произведением стала симфония №7, которая называется «Ленинградская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AutoShape 4">
            <a:hlinkClick r:id="rId1"/>
          </p:cNvPr>
          <p:cNvSpPr/>
          <p:nvPr/>
        </p:nvSpPr>
        <p:spPr>
          <a:xfrm>
            <a:off x="7812000" y="5815080"/>
            <a:ext cx="1332000" cy="1042920"/>
          </a:xfrm>
          <a:custGeom>
            <a:avLst/>
            <a:gdLst>
              <a:gd name="textAreaLeft" fmla="*/ 67320 w 1332000"/>
              <a:gd name="textAreaRight" fmla="*/ 1264680 w 133200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7585" h="21600">
                <a:moveTo>
                  <a:pt x="0" y="0"/>
                </a:moveTo>
                <a:lnTo>
                  <a:pt x="27585" y="0"/>
                </a:lnTo>
                <a:lnTo>
                  <a:pt x="27585" y="21600"/>
                </a:lnTo>
                <a:lnTo>
                  <a:pt x="0" y="21600"/>
                </a:lnTo>
                <a:close/>
              </a:path>
              <a:path fill="lightenLess" w="27585" h="21600">
                <a:moveTo>
                  <a:pt x="0" y="0"/>
                </a:moveTo>
                <a:lnTo>
                  <a:pt x="27585" y="0"/>
                </a:lnTo>
                <a:lnTo>
                  <a:pt x="26185" y="1400"/>
                </a:lnTo>
                <a:lnTo>
                  <a:pt x="1400" y="1400"/>
                </a:lnTo>
                <a:close/>
              </a:path>
              <a:path fill="darken" w="27585" h="21600">
                <a:moveTo>
                  <a:pt x="27585" y="0"/>
                </a:moveTo>
                <a:lnTo>
                  <a:pt x="27585" y="21600"/>
                </a:lnTo>
                <a:lnTo>
                  <a:pt x="26185" y="20200"/>
                </a:lnTo>
                <a:lnTo>
                  <a:pt x="26185" y="1400"/>
                </a:lnTo>
                <a:close/>
              </a:path>
              <a:path fill="darkenLess" w="27585" h="21600">
                <a:moveTo>
                  <a:pt x="275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185" y="20200"/>
                </a:lnTo>
                <a:close/>
              </a:path>
              <a:path fill="lighten" w="275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585" h="21600">
                <a:moveTo>
                  <a:pt x="13793" y="3837"/>
                </a:moveTo>
                <a:lnTo>
                  <a:pt x="16369" y="6448"/>
                </a:lnTo>
                <a:lnTo>
                  <a:pt x="16369" y="4707"/>
                </a:lnTo>
                <a:lnTo>
                  <a:pt x="18144" y="4707"/>
                </a:lnTo>
                <a:lnTo>
                  <a:pt x="18144" y="8224"/>
                </a:lnTo>
                <a:lnTo>
                  <a:pt x="20756" y="10800"/>
                </a:lnTo>
                <a:lnTo>
                  <a:pt x="19102" y="10800"/>
                </a:lnTo>
                <a:lnTo>
                  <a:pt x="19102" y="17989"/>
                </a:lnTo>
                <a:lnTo>
                  <a:pt x="8483" y="17989"/>
                </a:lnTo>
                <a:lnTo>
                  <a:pt x="8483" y="10800"/>
                </a:lnTo>
                <a:lnTo>
                  <a:pt x="6830" y="10800"/>
                </a:lnTo>
                <a:close/>
              </a:path>
              <a:path fill="darkenLess" w="27585" h="21600">
                <a:moveTo>
                  <a:pt x="16369" y="6448"/>
                </a:moveTo>
                <a:lnTo>
                  <a:pt x="16369" y="4707"/>
                </a:lnTo>
                <a:lnTo>
                  <a:pt x="18144" y="4707"/>
                </a:lnTo>
                <a:lnTo>
                  <a:pt x="18144" y="8224"/>
                </a:lnTo>
                <a:close/>
              </a:path>
              <a:path fill="darkenLess" w="27585" h="21600">
                <a:moveTo>
                  <a:pt x="12870" y="14299"/>
                </a:moveTo>
                <a:lnTo>
                  <a:pt x="14715" y="14299"/>
                </a:lnTo>
                <a:lnTo>
                  <a:pt x="14715" y="17989"/>
                </a:lnTo>
                <a:lnTo>
                  <a:pt x="19102" y="17989"/>
                </a:lnTo>
                <a:lnTo>
                  <a:pt x="19102" y="10800"/>
                </a:lnTo>
                <a:lnTo>
                  <a:pt x="8483" y="10800"/>
                </a:lnTo>
                <a:lnTo>
                  <a:pt x="8483" y="17989"/>
                </a:lnTo>
                <a:lnTo>
                  <a:pt x="12870" y="1798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pic>
        <p:nvPicPr>
          <p:cNvPr id="860" name="Picture 6" descr="Шостакович"/>
          <p:cNvPicPr/>
          <p:nvPr/>
        </p:nvPicPr>
        <p:blipFill>
          <a:blip r:embed="rId2"/>
          <a:stretch/>
        </p:blipFill>
        <p:spPr>
          <a:xfrm>
            <a:off x="2484360" y="3573360"/>
            <a:ext cx="3984840" cy="2781360"/>
          </a:xfrm>
          <a:prstGeom prst="rect">
            <a:avLst/>
          </a:prstGeom>
          <a:ln w="0">
            <a:noFill/>
          </a:ln>
        </p:spPr>
      </p:pic>
      <p:sp>
        <p:nvSpPr>
          <p:cNvPr id="8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0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ccffff"/>
            </a:gs>
            <a:gs pos="100000">
              <a:srgbClr val="3333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/>
          </p:nvPr>
        </p:nvSpPr>
        <p:spPr>
          <a:xfrm>
            <a:off x="468000" y="1915920"/>
            <a:ext cx="611964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94881"/>
              </a:buClr>
              <a:buFont typeface="Garamond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33661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133661"/>
                </a:solidFill>
                <a:latin typeface="Arial"/>
              </a:rPr>
              <a:t>Описание направл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94881"/>
              </a:buClr>
              <a:buFont typeface="Garamond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33661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133661"/>
                </a:solidFill>
                <a:latin typeface="Arial"/>
              </a:rPr>
              <a:t>Музыкальные лич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AutoShape 7">
            <a:hlinkClick r:id="rId1"/>
          </p:cNvPr>
          <p:cNvSpPr/>
          <p:nvPr/>
        </p:nvSpPr>
        <p:spPr>
          <a:xfrm>
            <a:off x="611280" y="1916280"/>
            <a:ext cx="5257800" cy="576000"/>
          </a:xfrm>
          <a:custGeom>
            <a:avLst/>
            <a:gdLst>
              <a:gd name="textAreaLeft" fmla="*/ 37080 w 5257800"/>
              <a:gd name="textAreaRight" fmla="*/ 5220720 w 525780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197058" h="21600">
                <a:moveTo>
                  <a:pt x="0" y="0"/>
                </a:moveTo>
                <a:lnTo>
                  <a:pt x="197058" y="0"/>
                </a:lnTo>
                <a:lnTo>
                  <a:pt x="197058" y="21600"/>
                </a:lnTo>
                <a:lnTo>
                  <a:pt x="0" y="21600"/>
                </a:lnTo>
                <a:close/>
              </a:path>
              <a:path fill="lightenLess" w="197058" h="21600">
                <a:moveTo>
                  <a:pt x="0" y="0"/>
                </a:moveTo>
                <a:lnTo>
                  <a:pt x="197058" y="0"/>
                </a:lnTo>
                <a:lnTo>
                  <a:pt x="195658" y="1400"/>
                </a:lnTo>
                <a:lnTo>
                  <a:pt x="1400" y="1400"/>
                </a:lnTo>
                <a:close/>
              </a:path>
              <a:path fill="darken" w="197058" h="21600">
                <a:moveTo>
                  <a:pt x="197058" y="0"/>
                </a:moveTo>
                <a:lnTo>
                  <a:pt x="197058" y="21600"/>
                </a:lnTo>
                <a:lnTo>
                  <a:pt x="195658" y="20200"/>
                </a:lnTo>
                <a:lnTo>
                  <a:pt x="195658" y="1400"/>
                </a:lnTo>
                <a:close/>
              </a:path>
              <a:path fill="darkenLess" w="197058" h="21600">
                <a:moveTo>
                  <a:pt x="1970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95658" y="20200"/>
                </a:lnTo>
                <a:close/>
              </a:path>
              <a:path fill="lighten" w="1970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97058" h="21600">
                <a:moveTo>
                  <a:pt x="91522" y="3794"/>
                </a:moveTo>
                <a:lnTo>
                  <a:pt x="105535" y="10800"/>
                </a:lnTo>
                <a:lnTo>
                  <a:pt x="91522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sp>
        <p:nvSpPr>
          <p:cNvPr id="864" name="AutoShape 8">
            <a:hlinkClick r:id="rId2"/>
          </p:cNvPr>
          <p:cNvSpPr/>
          <p:nvPr/>
        </p:nvSpPr>
        <p:spPr>
          <a:xfrm>
            <a:off x="539640" y="2492280"/>
            <a:ext cx="5473800" cy="576360"/>
          </a:xfrm>
          <a:custGeom>
            <a:avLst/>
            <a:gdLst>
              <a:gd name="textAreaLeft" fmla="*/ 37080 w 5473800"/>
              <a:gd name="textAreaRight" fmla="*/ 5436720 w 547380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05025" h="21600">
                <a:moveTo>
                  <a:pt x="0" y="0"/>
                </a:moveTo>
                <a:lnTo>
                  <a:pt x="205025" y="0"/>
                </a:lnTo>
                <a:lnTo>
                  <a:pt x="205025" y="21600"/>
                </a:lnTo>
                <a:lnTo>
                  <a:pt x="0" y="21600"/>
                </a:lnTo>
                <a:close/>
              </a:path>
              <a:path fill="lightenLess" w="205025" h="21600">
                <a:moveTo>
                  <a:pt x="0" y="0"/>
                </a:moveTo>
                <a:lnTo>
                  <a:pt x="205025" y="0"/>
                </a:lnTo>
                <a:lnTo>
                  <a:pt x="203625" y="1400"/>
                </a:lnTo>
                <a:lnTo>
                  <a:pt x="1400" y="1400"/>
                </a:lnTo>
                <a:close/>
              </a:path>
              <a:path fill="darken" w="205025" h="21600">
                <a:moveTo>
                  <a:pt x="205025" y="0"/>
                </a:moveTo>
                <a:lnTo>
                  <a:pt x="205025" y="21600"/>
                </a:lnTo>
                <a:lnTo>
                  <a:pt x="203625" y="20200"/>
                </a:lnTo>
                <a:lnTo>
                  <a:pt x="203625" y="1400"/>
                </a:lnTo>
                <a:close/>
              </a:path>
              <a:path fill="darkenLess" w="205025" h="21600">
                <a:moveTo>
                  <a:pt x="20502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625" y="20200"/>
                </a:lnTo>
                <a:close/>
              </a:path>
              <a:path fill="lighten" w="20502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05025" h="21600">
                <a:moveTo>
                  <a:pt x="95506" y="3794"/>
                </a:moveTo>
                <a:lnTo>
                  <a:pt x="109519" y="10800"/>
                </a:lnTo>
                <a:lnTo>
                  <a:pt x="95506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pic>
        <p:nvPicPr>
          <p:cNvPr id="865" name="WordArt 10" descr=""/>
          <p:cNvPicPr/>
          <p:nvPr/>
        </p:nvPicPr>
        <p:blipFill>
          <a:blip r:embed="rId3"/>
          <a:stretch/>
        </p:blipFill>
        <p:spPr>
          <a:xfrm>
            <a:off x="1755720" y="469800"/>
            <a:ext cx="5529240" cy="1157400"/>
          </a:xfrm>
          <a:prstGeom prst="rect">
            <a:avLst/>
          </a:prstGeom>
          <a:ln w="0">
            <a:noFill/>
          </a:ln>
        </p:spPr>
      </p:pic>
      <p:pic>
        <p:nvPicPr>
          <p:cNvPr id="866" name="Picture 13" descr="импр 1"/>
          <p:cNvPicPr/>
          <p:nvPr/>
        </p:nvPicPr>
        <p:blipFill>
          <a:blip r:embed="rId4"/>
          <a:stretch/>
        </p:blipFill>
        <p:spPr>
          <a:xfrm>
            <a:off x="4427640" y="3573360"/>
            <a:ext cx="3541680" cy="2855880"/>
          </a:xfrm>
          <a:prstGeom prst="rect">
            <a:avLst/>
          </a:prstGeom>
          <a:ln w="0">
            <a:noFill/>
          </a:ln>
        </p:spPr>
      </p:pic>
      <p:sp>
        <p:nvSpPr>
          <p:cNvPr id="8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  <p:transition>
    <p:wedge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8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8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8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8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8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8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8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/>
          </p:nvPr>
        </p:nvSpPr>
        <p:spPr>
          <a:xfrm>
            <a:off x="610920" y="1700280"/>
            <a:ext cx="7848360" cy="27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кспрессионизм – это направление во многом контрастный и по содержанию и по средствам выразительности остальным направлениям. Почти все музыкальные направления появились из искусства. По своему содержанию это своеобразный художественный протест против подавления человека буржуазным обществам, против милитаризма, мещан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9" name="WordArt 5" descr=""/>
          <p:cNvPicPr/>
          <p:nvPr/>
        </p:nvPicPr>
        <p:blipFill>
          <a:blip r:embed="rId1"/>
          <a:stretch/>
        </p:blipFill>
        <p:spPr>
          <a:xfrm>
            <a:off x="1474920" y="549360"/>
            <a:ext cx="6492600" cy="693720"/>
          </a:xfrm>
          <a:prstGeom prst="rect">
            <a:avLst/>
          </a:prstGeom>
          <a:ln w="0">
            <a:noFill/>
          </a:ln>
        </p:spPr>
      </p:pic>
      <p:pic>
        <p:nvPicPr>
          <p:cNvPr id="870" name="Picture 7" descr="picture"/>
          <p:cNvPicPr/>
          <p:nvPr/>
        </p:nvPicPr>
        <p:blipFill>
          <a:blip r:embed="rId2"/>
          <a:stretch/>
        </p:blipFill>
        <p:spPr>
          <a:xfrm>
            <a:off x="2843280" y="4149720"/>
            <a:ext cx="3822480" cy="2314440"/>
          </a:xfrm>
          <a:prstGeom prst="rect">
            <a:avLst/>
          </a:prstGeom>
          <a:ln w="0">
            <a:noFill/>
          </a:ln>
        </p:spPr>
      </p:pic>
      <p:sp>
        <p:nvSpPr>
          <p:cNvPr id="8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8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8000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/>
          </p:nvPr>
        </p:nvSpPr>
        <p:spPr>
          <a:xfrm>
            <a:off x="250920" y="764640"/>
            <a:ext cx="4968720" cy="530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иболее яркое воплощение экспрессионизма у таких композиторов, как А. Шёнберг, А. Веберн, А. Скрябина. Эти и другие композиторы пытались ярко и правдиво отразить сложнейшие социально-эстетические, идейно-эстетические и психологические конфликты эпохи, остроту противоречивого мышления художника в буржуазном обществе, его смятенность. Экспрессионисты отстаивали право художника на свою действительность, так как считали художнический мир реальным и правдивым, чем мир, окружающий челове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3" name="Picture 4" descr="Антон Веберн"/>
          <p:cNvPicPr/>
          <p:nvPr/>
        </p:nvPicPr>
        <p:blipFill>
          <a:blip r:embed="rId1"/>
          <a:stretch/>
        </p:blipFill>
        <p:spPr>
          <a:xfrm>
            <a:off x="5867280" y="1341360"/>
            <a:ext cx="2522520" cy="3230640"/>
          </a:xfrm>
          <a:prstGeom prst="rect">
            <a:avLst/>
          </a:prstGeom>
          <a:ln w="0">
            <a:noFill/>
          </a:ln>
        </p:spPr>
      </p:pic>
      <p:sp>
        <p:nvSpPr>
          <p:cNvPr id="874" name="Rectangle 5"/>
          <p:cNvSpPr/>
          <p:nvPr/>
        </p:nvSpPr>
        <p:spPr>
          <a:xfrm>
            <a:off x="6229440" y="4580640"/>
            <a:ext cx="177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cc"/>
                </a:solidFill>
                <a:latin typeface="Arial"/>
              </a:rPr>
              <a:t>Антон Веберн</a:t>
            </a:r>
            <a:endParaRPr b="1" lang="en-US" sz="18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sp>
        <p:nvSpPr>
          <p:cNvPr id="875" name="AutoShape 7">
            <a:hlinkClick r:id="rId2"/>
          </p:cNvPr>
          <p:cNvSpPr/>
          <p:nvPr/>
        </p:nvSpPr>
        <p:spPr>
          <a:xfrm>
            <a:off x="8101080" y="580536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" w="21600" h="21607">
                <a:moveTo>
                  <a:pt x="10800" y="3841"/>
                </a:moveTo>
                <a:lnTo>
                  <a:pt x="13376" y="6452"/>
                </a:lnTo>
                <a:lnTo>
                  <a:pt x="13376" y="4711"/>
                </a:lnTo>
                <a:lnTo>
                  <a:pt x="15152" y="4711"/>
                </a:lnTo>
                <a:lnTo>
                  <a:pt x="15152" y="8227"/>
                </a:lnTo>
                <a:lnTo>
                  <a:pt x="17763" y="10804"/>
                </a:lnTo>
                <a:lnTo>
                  <a:pt x="16109" y="10804"/>
                </a:lnTo>
                <a:lnTo>
                  <a:pt x="16109" y="17993"/>
                </a:lnTo>
                <a:lnTo>
                  <a:pt x="5491" y="17993"/>
                </a:lnTo>
                <a:lnTo>
                  <a:pt x="5491" y="10804"/>
                </a:lnTo>
                <a:lnTo>
                  <a:pt x="3837" y="10804"/>
                </a:lnTo>
                <a:close/>
              </a:path>
              <a:path fill="darkenLess" w="21600" h="21607">
                <a:moveTo>
                  <a:pt x="13376" y="6452"/>
                </a:moveTo>
                <a:lnTo>
                  <a:pt x="13376" y="4711"/>
                </a:lnTo>
                <a:lnTo>
                  <a:pt x="15152" y="4711"/>
                </a:lnTo>
                <a:lnTo>
                  <a:pt x="15152" y="8227"/>
                </a:lnTo>
                <a:close/>
              </a:path>
              <a:path fill="darkenLess" w="21600" h="21607">
                <a:moveTo>
                  <a:pt x="9877" y="14303"/>
                </a:moveTo>
                <a:lnTo>
                  <a:pt x="11723" y="14303"/>
                </a:lnTo>
                <a:lnTo>
                  <a:pt x="11723" y="17993"/>
                </a:lnTo>
                <a:lnTo>
                  <a:pt x="16109" y="17993"/>
                </a:lnTo>
                <a:lnTo>
                  <a:pt x="16109" y="10804"/>
                </a:lnTo>
                <a:lnTo>
                  <a:pt x="5491" y="10804"/>
                </a:lnTo>
                <a:lnTo>
                  <a:pt x="5491" y="17993"/>
                </a:lnTo>
                <a:lnTo>
                  <a:pt x="9877" y="1799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sp>
        <p:nvSpPr>
          <p:cNvPr id="8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8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100000">
              <a:srgbClr val="8488c4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/>
          </p:nvPr>
        </p:nvSpPr>
        <p:spPr>
          <a:xfrm>
            <a:off x="468360" y="1773360"/>
            <a:ext cx="4619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66"/>
                </a:solidFill>
                <a:latin typeface="Arial"/>
              </a:rPr>
              <a:t>Арнольд Шенбер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66"/>
                </a:solidFill>
                <a:latin typeface="Arial"/>
              </a:rPr>
              <a:t>Александр Скряби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Picture 4" descr="Арнольд Шёнберг"/>
          <p:cNvPicPr/>
          <p:nvPr/>
        </p:nvPicPr>
        <p:blipFill>
          <a:blip r:embed="rId1"/>
          <a:stretch/>
        </p:blipFill>
        <p:spPr>
          <a:xfrm>
            <a:off x="5508720" y="1557360"/>
            <a:ext cx="1854000" cy="2131920"/>
          </a:xfrm>
          <a:prstGeom prst="rect">
            <a:avLst/>
          </a:prstGeom>
          <a:ln w="0">
            <a:noFill/>
          </a:ln>
        </p:spPr>
      </p:pic>
      <p:sp>
        <p:nvSpPr>
          <p:cNvPr id="879" name="AutoShape 6">
            <a:hlinkClick r:id="rId2"/>
          </p:cNvPr>
          <p:cNvSpPr/>
          <p:nvPr/>
        </p:nvSpPr>
        <p:spPr>
          <a:xfrm>
            <a:off x="2050920" y="1484280"/>
            <a:ext cx="2376720" cy="1079640"/>
          </a:xfrm>
          <a:custGeom>
            <a:avLst/>
            <a:gdLst>
              <a:gd name="textAreaLeft" fmla="*/ 69840 w 2376720"/>
              <a:gd name="textAreaRight" fmla="*/ 2306880 w 2376720"/>
              <a:gd name="textAreaTop" fmla="*/ 69840 h 1079640"/>
              <a:gd name="textAreaBottom" fmla="*/ 1009800 h 1079640"/>
            </a:gdLst>
            <a:ahLst/>
            <a:rect l="textAreaLeft" t="textAreaTop" r="textAreaRight" b="textAreaBottom"/>
            <a:pathLst>
              <a:path w="47542" h="21600">
                <a:moveTo>
                  <a:pt x="0" y="0"/>
                </a:moveTo>
                <a:lnTo>
                  <a:pt x="47542" y="0"/>
                </a:lnTo>
                <a:lnTo>
                  <a:pt x="47542" y="21600"/>
                </a:lnTo>
                <a:lnTo>
                  <a:pt x="0" y="21600"/>
                </a:lnTo>
                <a:close/>
              </a:path>
              <a:path fill="lightenLess" w="47542" h="21600">
                <a:moveTo>
                  <a:pt x="0" y="0"/>
                </a:moveTo>
                <a:lnTo>
                  <a:pt x="47542" y="0"/>
                </a:lnTo>
                <a:lnTo>
                  <a:pt x="46142" y="1400"/>
                </a:lnTo>
                <a:lnTo>
                  <a:pt x="1400" y="1400"/>
                </a:lnTo>
                <a:close/>
              </a:path>
              <a:path fill="darken" w="47542" h="21600">
                <a:moveTo>
                  <a:pt x="47542" y="0"/>
                </a:moveTo>
                <a:lnTo>
                  <a:pt x="47542" y="21600"/>
                </a:lnTo>
                <a:lnTo>
                  <a:pt x="46142" y="20200"/>
                </a:lnTo>
                <a:lnTo>
                  <a:pt x="46142" y="1400"/>
                </a:lnTo>
                <a:close/>
              </a:path>
              <a:path fill="darkenLess" w="47542" h="21600">
                <a:moveTo>
                  <a:pt x="475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142" y="20200"/>
                </a:lnTo>
                <a:close/>
              </a:path>
              <a:path fill="lighten" w="475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7542" h="21600">
                <a:moveTo>
                  <a:pt x="16764" y="3794"/>
                </a:moveTo>
                <a:lnTo>
                  <a:pt x="30777" y="10800"/>
                </a:lnTo>
                <a:lnTo>
                  <a:pt x="1676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sp>
        <p:nvSpPr>
          <p:cNvPr id="880" name="AutoShape 7">
            <a:hlinkClick r:id="rId3"/>
          </p:cNvPr>
          <p:cNvSpPr/>
          <p:nvPr/>
        </p:nvSpPr>
        <p:spPr>
          <a:xfrm>
            <a:off x="2124000" y="4005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pic>
        <p:nvPicPr>
          <p:cNvPr id="881" name="Picture 9" descr="scriabin"/>
          <p:cNvPicPr/>
          <p:nvPr/>
        </p:nvPicPr>
        <p:blipFill>
          <a:blip r:embed="rId4"/>
          <a:stretch/>
        </p:blipFill>
        <p:spPr>
          <a:xfrm>
            <a:off x="5292720" y="3933720"/>
            <a:ext cx="2227320" cy="2470320"/>
          </a:xfrm>
          <a:prstGeom prst="rect">
            <a:avLst/>
          </a:prstGeom>
          <a:ln w="0">
            <a:noFill/>
          </a:ln>
        </p:spPr>
      </p:pic>
      <p:sp>
        <p:nvSpPr>
          <p:cNvPr id="882" name="AutoShape 10">
            <a:hlinkClick r:id="rId5"/>
          </p:cNvPr>
          <p:cNvSpPr/>
          <p:nvPr/>
        </p:nvSpPr>
        <p:spPr>
          <a:xfrm>
            <a:off x="826920" y="1700280"/>
            <a:ext cx="3745080" cy="755640"/>
          </a:xfrm>
          <a:custGeom>
            <a:avLst/>
            <a:gdLst>
              <a:gd name="textAreaLeft" fmla="*/ 48960 w 3745080"/>
              <a:gd name="textAreaRight" fmla="*/ 3696120 w 3745080"/>
              <a:gd name="textAreaTop" fmla="*/ 48960 h 755640"/>
              <a:gd name="textAreaBottom" fmla="*/ 706680 h 755640"/>
            </a:gdLst>
            <a:ahLst/>
            <a:rect l="textAreaLeft" t="textAreaTop" r="textAreaRight" b="textAreaBottom"/>
            <a:pathLst>
              <a:path w="107013" h="21600">
                <a:moveTo>
                  <a:pt x="0" y="0"/>
                </a:moveTo>
                <a:lnTo>
                  <a:pt x="107013" y="0"/>
                </a:lnTo>
                <a:lnTo>
                  <a:pt x="107013" y="21600"/>
                </a:lnTo>
                <a:lnTo>
                  <a:pt x="0" y="21600"/>
                </a:lnTo>
                <a:close/>
              </a:path>
              <a:path fill="lightenLess" w="107013" h="21600">
                <a:moveTo>
                  <a:pt x="0" y="0"/>
                </a:moveTo>
                <a:lnTo>
                  <a:pt x="107013" y="0"/>
                </a:lnTo>
                <a:lnTo>
                  <a:pt x="105613" y="1400"/>
                </a:lnTo>
                <a:lnTo>
                  <a:pt x="1400" y="1400"/>
                </a:lnTo>
                <a:close/>
              </a:path>
              <a:path fill="darken" w="107013" h="21600">
                <a:moveTo>
                  <a:pt x="107013" y="0"/>
                </a:moveTo>
                <a:lnTo>
                  <a:pt x="107013" y="21600"/>
                </a:lnTo>
                <a:lnTo>
                  <a:pt x="105613" y="20200"/>
                </a:lnTo>
                <a:lnTo>
                  <a:pt x="105613" y="1400"/>
                </a:lnTo>
                <a:close/>
              </a:path>
              <a:path fill="darkenLess" w="107013" h="21600">
                <a:moveTo>
                  <a:pt x="1070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5613" y="20200"/>
                </a:lnTo>
                <a:close/>
              </a:path>
              <a:path fill="lighten" w="1070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07013" h="21600">
                <a:moveTo>
                  <a:pt x="46500" y="3794"/>
                </a:moveTo>
                <a:lnTo>
                  <a:pt x="60513" y="10800"/>
                </a:lnTo>
                <a:lnTo>
                  <a:pt x="46500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sp>
        <p:nvSpPr>
          <p:cNvPr id="883" name="AutoShape 11">
            <a:hlinkClick r:id="rId6"/>
          </p:cNvPr>
          <p:cNvSpPr/>
          <p:nvPr/>
        </p:nvSpPr>
        <p:spPr>
          <a:xfrm>
            <a:off x="900000" y="4437000"/>
            <a:ext cx="3888000" cy="682560"/>
          </a:xfrm>
          <a:custGeom>
            <a:avLst/>
            <a:gdLst>
              <a:gd name="textAreaLeft" fmla="*/ 43920 w 3888000"/>
              <a:gd name="textAreaRight" fmla="*/ 3844080 w 3888000"/>
              <a:gd name="textAreaTop" fmla="*/ 43920 h 682560"/>
              <a:gd name="textAreaBottom" fmla="*/ 638640 h 682560"/>
            </a:gdLst>
            <a:ahLst/>
            <a:rect l="textAreaLeft" t="textAreaTop" r="textAreaRight" b="textAreaBottom"/>
            <a:pathLst>
              <a:path w="122985" h="21600">
                <a:moveTo>
                  <a:pt x="0" y="0"/>
                </a:moveTo>
                <a:lnTo>
                  <a:pt x="122985" y="0"/>
                </a:lnTo>
                <a:lnTo>
                  <a:pt x="122985" y="21600"/>
                </a:lnTo>
                <a:lnTo>
                  <a:pt x="0" y="21600"/>
                </a:lnTo>
                <a:close/>
              </a:path>
              <a:path fill="lightenLess" w="122985" h="21600">
                <a:moveTo>
                  <a:pt x="0" y="0"/>
                </a:moveTo>
                <a:lnTo>
                  <a:pt x="122985" y="0"/>
                </a:lnTo>
                <a:lnTo>
                  <a:pt x="121585" y="1400"/>
                </a:lnTo>
                <a:lnTo>
                  <a:pt x="1400" y="1400"/>
                </a:lnTo>
                <a:close/>
              </a:path>
              <a:path fill="darken" w="122985" h="21600">
                <a:moveTo>
                  <a:pt x="122985" y="0"/>
                </a:moveTo>
                <a:lnTo>
                  <a:pt x="122985" y="21600"/>
                </a:lnTo>
                <a:lnTo>
                  <a:pt x="121585" y="20200"/>
                </a:lnTo>
                <a:lnTo>
                  <a:pt x="121585" y="1400"/>
                </a:lnTo>
                <a:close/>
              </a:path>
              <a:path fill="darkenLess" w="122985" h="21600">
                <a:moveTo>
                  <a:pt x="1229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1585" y="20200"/>
                </a:lnTo>
                <a:close/>
              </a:path>
              <a:path fill="lighten" w="1229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22985" h="21600">
                <a:moveTo>
                  <a:pt x="54486" y="3794"/>
                </a:moveTo>
                <a:lnTo>
                  <a:pt x="68499" y="10800"/>
                </a:lnTo>
                <a:lnTo>
                  <a:pt x="54486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pic>
        <p:nvPicPr>
          <p:cNvPr id="884" name="WordArt 14" descr=""/>
          <p:cNvPicPr/>
          <p:nvPr/>
        </p:nvPicPr>
        <p:blipFill>
          <a:blip r:embed="rId7"/>
          <a:stretch/>
        </p:blipFill>
        <p:spPr>
          <a:xfrm>
            <a:off x="1042920" y="549360"/>
            <a:ext cx="7021440" cy="798480"/>
          </a:xfrm>
          <a:prstGeom prst="rect">
            <a:avLst/>
          </a:prstGeom>
          <a:ln w="0">
            <a:noFill/>
          </a:ln>
        </p:spPr>
      </p:pic>
      <p:sp>
        <p:nvSpPr>
          <p:cNvPr id="8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  <p:transition>
    <p:wedge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8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8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8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8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8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8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/>
          </p:nvPr>
        </p:nvSpPr>
        <p:spPr>
          <a:xfrm>
            <a:off x="4642920" y="2420640"/>
            <a:ext cx="396108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66"/>
                </a:solidFill>
                <a:latin typeface="Arial"/>
              </a:rPr>
              <a:t>Арнольд Шёнберг был австрийским композитором, педагогом, дирижер, художник. Творчество одного из крупнейших композиторов современности, главы «Новой венской школы». Все это сформировалось под воздействием эстетики символизма, австро-немецкого экспрессионизм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7" name="Picture 4" descr="Арнольд Шёнберг"/>
          <p:cNvPicPr/>
          <p:nvPr/>
        </p:nvPicPr>
        <p:blipFill>
          <a:blip r:embed="rId2"/>
          <a:stretch/>
        </p:blipFill>
        <p:spPr>
          <a:xfrm>
            <a:off x="971640" y="2276640"/>
            <a:ext cx="3476520" cy="4000320"/>
          </a:xfrm>
          <a:prstGeom prst="rect">
            <a:avLst/>
          </a:prstGeom>
          <a:ln w="0">
            <a:noFill/>
          </a:ln>
        </p:spPr>
      </p:pic>
      <p:pic>
        <p:nvPicPr>
          <p:cNvPr id="888" name="WordArt 5" descr=""/>
          <p:cNvPicPr/>
          <p:nvPr/>
        </p:nvPicPr>
        <p:blipFill>
          <a:blip r:embed="rId3"/>
          <a:stretch/>
        </p:blipFill>
        <p:spPr>
          <a:xfrm>
            <a:off x="2620800" y="476280"/>
            <a:ext cx="4449960" cy="1303200"/>
          </a:xfrm>
          <a:prstGeom prst="rect">
            <a:avLst/>
          </a:prstGeom>
          <a:ln w="0">
            <a:noFill/>
          </a:ln>
        </p:spPr>
      </p:pic>
      <p:sp>
        <p:nvSpPr>
          <p:cNvPr id="88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2000"/>
                                        <p:tgtEl>
                                          <p:spTgt spid="8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/>
          </p:nvPr>
        </p:nvSpPr>
        <p:spPr>
          <a:xfrm>
            <a:off x="250560" y="691920"/>
            <a:ext cx="5003640" cy="594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66"/>
                </a:solidFill>
                <a:latin typeface="Arial"/>
              </a:rPr>
              <a:t>Поиски в области музыкально-выразительных средств привели Шёнберга к созданию метода додекафонии, оказавшего значительное воздействие на музыкальное искусство </a:t>
            </a: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XX </a:t>
            </a:r>
            <a:r>
              <a:rPr b="0" lang="ru-RU" sz="2000" spc="-1" strike="noStrike">
                <a:solidFill>
                  <a:srgbClr val="ffff66"/>
                </a:solidFill>
                <a:latin typeface="Arial"/>
              </a:rPr>
              <a:t>века. Среди произведений: оперы «Счастливая рука», «Ожидание», С сегодня на завтра», 2 камерные симфонии, а также множество других произведений. При всей сложности и противоречности творческих устремлений Шёнберга его музыка – одно из творческих устремлений явлений в искусстве </a:t>
            </a: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XX </a:t>
            </a:r>
            <a:r>
              <a:rPr b="0" lang="ru-RU" sz="2000" spc="-1" strike="noStrike">
                <a:solidFill>
                  <a:srgbClr val="ffff66"/>
                </a:solidFill>
                <a:latin typeface="Arial"/>
              </a:rPr>
              <a:t>века, отразившего дух и веяния своего време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AutoShape 4">
            <a:hlinkClick r:id="rId2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sp>
        <p:nvSpPr>
          <p:cNvPr id="892" name="AutoShape 5">
            <a:hlinkClick r:id="rId3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pic>
        <p:nvPicPr>
          <p:cNvPr id="893" name="Picture 6" descr="Шёнберг"/>
          <p:cNvPicPr/>
          <p:nvPr/>
        </p:nvPicPr>
        <p:blipFill>
          <a:blip r:embed="rId4"/>
          <a:stretch/>
        </p:blipFill>
        <p:spPr>
          <a:xfrm>
            <a:off x="5724360" y="1628640"/>
            <a:ext cx="2170440" cy="3019680"/>
          </a:xfrm>
          <a:prstGeom prst="rect">
            <a:avLst/>
          </a:prstGeom>
          <a:ln w="0">
            <a:noFill/>
          </a:ln>
        </p:spPr>
      </p:pic>
      <p:sp>
        <p:nvSpPr>
          <p:cNvPr id="8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0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2000"/>
                                        <p:tgtEl>
                                          <p:spTgt spid="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9" name="WordArt 4" descr=""/>
          <p:cNvPicPr/>
          <p:nvPr/>
        </p:nvPicPr>
        <p:blipFill>
          <a:blip r:embed="rId1"/>
          <a:stretch/>
        </p:blipFill>
        <p:spPr>
          <a:xfrm>
            <a:off x="1609560" y="1689120"/>
            <a:ext cx="6102360" cy="2724120"/>
          </a:xfrm>
          <a:prstGeom prst="rect">
            <a:avLst/>
          </a:prstGeom>
          <a:ln w="0">
            <a:noFill/>
          </a:ln>
        </p:spPr>
      </p:pic>
      <p:sp>
        <p:nvSpPr>
          <p:cNvPr id="80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1" lang="en-US" sz="10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/>
          </p:nvPr>
        </p:nvSpPr>
        <p:spPr>
          <a:xfrm>
            <a:off x="5003280" y="2492280"/>
            <a:ext cx="340524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33"/>
                </a:solidFill>
                <a:latin typeface="Arial"/>
              </a:rPr>
              <a:t>Скрябин был русским композитором, педагогом, пианистом. Один из крупнейших мастеров музыкальной культуры </a:t>
            </a:r>
            <a:r>
              <a:rPr b="0" lang="en-US" sz="2000" spc="-1" strike="noStrike">
                <a:solidFill>
                  <a:srgbClr val="660033"/>
                </a:solidFill>
                <a:latin typeface="Arial"/>
              </a:rPr>
              <a:t>XX </a:t>
            </a:r>
            <a:r>
              <a:rPr b="0" lang="ru-RU" sz="2000" spc="-1" strike="noStrike">
                <a:solidFill>
                  <a:srgbClr val="660033"/>
                </a:solidFill>
                <a:latin typeface="Arial"/>
              </a:rPr>
              <a:t>столетия, яркий и своеобразный мыслитель. Скрябин направил все свои помыслы на переустройства искусства и миропорядка в цел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6" name="Picture 5" descr="скр1"/>
          <p:cNvPicPr/>
          <p:nvPr/>
        </p:nvPicPr>
        <p:blipFill>
          <a:blip r:embed="rId2"/>
          <a:stretch/>
        </p:blipFill>
        <p:spPr>
          <a:xfrm>
            <a:off x="900000" y="2421000"/>
            <a:ext cx="3175200" cy="3759120"/>
          </a:xfrm>
          <a:prstGeom prst="rect">
            <a:avLst/>
          </a:prstGeom>
          <a:ln w="0">
            <a:noFill/>
          </a:ln>
        </p:spPr>
      </p:pic>
      <p:pic>
        <p:nvPicPr>
          <p:cNvPr id="897" name="WordArt 6" descr=""/>
          <p:cNvPicPr/>
          <p:nvPr/>
        </p:nvPicPr>
        <p:blipFill>
          <a:blip r:embed="rId3"/>
          <a:stretch/>
        </p:blipFill>
        <p:spPr>
          <a:xfrm>
            <a:off x="2481120" y="476280"/>
            <a:ext cx="4803840" cy="1303200"/>
          </a:xfrm>
          <a:prstGeom prst="rect">
            <a:avLst/>
          </a:prstGeom>
          <a:ln w="0">
            <a:noFill/>
          </a:ln>
        </p:spPr>
      </p:pic>
      <p:sp>
        <p:nvSpPr>
          <p:cNvPr id="8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8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/>
          </p:nvPr>
        </p:nvSpPr>
        <p:spPr>
          <a:xfrm>
            <a:off x="610920" y="907920"/>
            <a:ext cx="4321080" cy="571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33"/>
                </a:solidFill>
                <a:latin typeface="Arial"/>
              </a:rPr>
              <a:t>Скрябинское творчество представляет собой оригинальную художественную систему, в которой волевые порывы, героическая устремлённость в неведомые миры сочетаются с изысканной, хрупкой одухотворенностью – все средства в его музыке всходят к неповторимо индивидуальной организации. Автор 3 симфоний, оркестровых поэм «Мечты», «Поэма экстаза», «Прометей», фортепианного концерта и других произведени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AutoShape 4">
            <a:hlinkClick r:id="rId2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sp>
        <p:nvSpPr>
          <p:cNvPr id="901" name="AutoShape 5">
            <a:hlinkClick r:id="rId3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pic>
        <p:nvPicPr>
          <p:cNvPr id="902" name="Picture 6" descr="Скрябин"/>
          <p:cNvPicPr/>
          <p:nvPr/>
        </p:nvPicPr>
        <p:blipFill>
          <a:blip r:embed="rId4"/>
          <a:stretch/>
        </p:blipFill>
        <p:spPr>
          <a:xfrm>
            <a:off x="5580000" y="1341360"/>
            <a:ext cx="2706840" cy="3519720"/>
          </a:xfrm>
          <a:prstGeom prst="rect">
            <a:avLst/>
          </a:prstGeom>
          <a:ln w="0">
            <a:noFill/>
          </a:ln>
        </p:spPr>
      </p:pic>
      <p:sp>
        <p:nvSpPr>
          <p:cNvPr id="9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0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20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/>
          </p:nvPr>
        </p:nvSpPr>
        <p:spPr>
          <a:xfrm>
            <a:off x="539640" y="19890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adc78"/>
              </a:buClr>
              <a:buSzPct val="90000"/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dc78"/>
                </a:solidFill>
                <a:latin typeface="Arial"/>
              </a:rPr>
              <a:t>Определение направл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adc78"/>
              </a:buClr>
              <a:buSzPct val="90000"/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dc78"/>
                </a:solidFill>
                <a:latin typeface="Arial"/>
              </a:rPr>
              <a:t>Советский джаз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adc78"/>
              </a:buClr>
              <a:buSzPct val="90000"/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dc78"/>
                </a:solidFill>
                <a:latin typeface="Arial"/>
              </a:rPr>
              <a:t>Музыкальные личност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5" name="AutoShape 4">
            <a:hlinkClick r:id="rId1"/>
          </p:cNvPr>
          <p:cNvSpPr/>
          <p:nvPr/>
        </p:nvSpPr>
        <p:spPr>
          <a:xfrm>
            <a:off x="900000" y="1989000"/>
            <a:ext cx="6121440" cy="576360"/>
          </a:xfrm>
          <a:custGeom>
            <a:avLst/>
            <a:gdLst>
              <a:gd name="textAreaLeft" fmla="*/ 37080 w 6121440"/>
              <a:gd name="textAreaRight" fmla="*/ 6084360 w 612144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29281" h="21600">
                <a:moveTo>
                  <a:pt x="0" y="0"/>
                </a:moveTo>
                <a:lnTo>
                  <a:pt x="229281" y="0"/>
                </a:lnTo>
                <a:lnTo>
                  <a:pt x="229281" y="21600"/>
                </a:lnTo>
                <a:lnTo>
                  <a:pt x="0" y="21600"/>
                </a:lnTo>
                <a:close/>
              </a:path>
              <a:path fill="lightenLess" w="229281" h="21600">
                <a:moveTo>
                  <a:pt x="0" y="0"/>
                </a:moveTo>
                <a:lnTo>
                  <a:pt x="229281" y="0"/>
                </a:lnTo>
                <a:lnTo>
                  <a:pt x="227881" y="1400"/>
                </a:lnTo>
                <a:lnTo>
                  <a:pt x="1400" y="1400"/>
                </a:lnTo>
                <a:close/>
              </a:path>
              <a:path fill="darken" w="229281" h="21600">
                <a:moveTo>
                  <a:pt x="229281" y="0"/>
                </a:moveTo>
                <a:lnTo>
                  <a:pt x="229281" y="21600"/>
                </a:lnTo>
                <a:lnTo>
                  <a:pt x="227881" y="20200"/>
                </a:lnTo>
                <a:lnTo>
                  <a:pt x="227881" y="1400"/>
                </a:lnTo>
                <a:close/>
              </a:path>
              <a:path fill="darkenLess" w="229281" h="21600">
                <a:moveTo>
                  <a:pt x="2292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881" y="20200"/>
                </a:lnTo>
                <a:close/>
              </a:path>
              <a:path fill="lighten" w="2292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281" h="21600">
                <a:moveTo>
                  <a:pt x="107634" y="3794"/>
                </a:moveTo>
                <a:lnTo>
                  <a:pt x="121647" y="10800"/>
                </a:lnTo>
                <a:lnTo>
                  <a:pt x="10763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sp>
        <p:nvSpPr>
          <p:cNvPr id="906" name="AutoShape 5">
            <a:hlinkClick r:id="rId2"/>
          </p:cNvPr>
          <p:cNvSpPr/>
          <p:nvPr/>
        </p:nvSpPr>
        <p:spPr>
          <a:xfrm>
            <a:off x="900000" y="2565360"/>
            <a:ext cx="3672000" cy="576360"/>
          </a:xfrm>
          <a:custGeom>
            <a:avLst/>
            <a:gdLst>
              <a:gd name="textAreaLeft" fmla="*/ 37080 w 3672000"/>
              <a:gd name="textAreaRight" fmla="*/ 3634920 w 367200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137542" h="21600">
                <a:moveTo>
                  <a:pt x="0" y="0"/>
                </a:moveTo>
                <a:lnTo>
                  <a:pt x="137542" y="0"/>
                </a:lnTo>
                <a:lnTo>
                  <a:pt x="137542" y="21600"/>
                </a:lnTo>
                <a:lnTo>
                  <a:pt x="0" y="21600"/>
                </a:lnTo>
                <a:close/>
              </a:path>
              <a:path fill="lightenLess" w="137542" h="21600">
                <a:moveTo>
                  <a:pt x="0" y="0"/>
                </a:moveTo>
                <a:lnTo>
                  <a:pt x="137542" y="0"/>
                </a:lnTo>
                <a:lnTo>
                  <a:pt x="136142" y="1400"/>
                </a:lnTo>
                <a:lnTo>
                  <a:pt x="1400" y="1400"/>
                </a:lnTo>
                <a:close/>
              </a:path>
              <a:path fill="darken" w="137542" h="21600">
                <a:moveTo>
                  <a:pt x="137542" y="0"/>
                </a:moveTo>
                <a:lnTo>
                  <a:pt x="137542" y="21600"/>
                </a:lnTo>
                <a:lnTo>
                  <a:pt x="136142" y="20200"/>
                </a:lnTo>
                <a:lnTo>
                  <a:pt x="136142" y="1400"/>
                </a:lnTo>
                <a:close/>
              </a:path>
              <a:path fill="darkenLess" w="137542" h="21600">
                <a:moveTo>
                  <a:pt x="1375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6142" y="20200"/>
                </a:lnTo>
                <a:close/>
              </a:path>
              <a:path fill="lighten" w="1375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37542" h="21600">
                <a:moveTo>
                  <a:pt x="61764" y="3794"/>
                </a:moveTo>
                <a:lnTo>
                  <a:pt x="75777" y="10800"/>
                </a:lnTo>
                <a:lnTo>
                  <a:pt x="6176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sp>
        <p:nvSpPr>
          <p:cNvPr id="907" name="AutoShape 6">
            <a:hlinkClick r:id="rId3"/>
          </p:cNvPr>
          <p:cNvSpPr/>
          <p:nvPr/>
        </p:nvSpPr>
        <p:spPr>
          <a:xfrm>
            <a:off x="900000" y="3213000"/>
            <a:ext cx="5472360" cy="503280"/>
          </a:xfrm>
          <a:custGeom>
            <a:avLst/>
            <a:gdLst>
              <a:gd name="textAreaLeft" fmla="*/ 32400 w 5472360"/>
              <a:gd name="textAreaRight" fmla="*/ 5439960 w 5472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34713" h="21600">
                <a:moveTo>
                  <a:pt x="0" y="0"/>
                </a:moveTo>
                <a:lnTo>
                  <a:pt x="234713" y="0"/>
                </a:lnTo>
                <a:lnTo>
                  <a:pt x="234713" y="21600"/>
                </a:lnTo>
                <a:lnTo>
                  <a:pt x="0" y="21600"/>
                </a:lnTo>
                <a:close/>
              </a:path>
              <a:path fill="lightenLess" w="234713" h="21600">
                <a:moveTo>
                  <a:pt x="0" y="0"/>
                </a:moveTo>
                <a:lnTo>
                  <a:pt x="234713" y="0"/>
                </a:lnTo>
                <a:lnTo>
                  <a:pt x="233313" y="1400"/>
                </a:lnTo>
                <a:lnTo>
                  <a:pt x="1400" y="1400"/>
                </a:lnTo>
                <a:close/>
              </a:path>
              <a:path fill="darken" w="234713" h="21600">
                <a:moveTo>
                  <a:pt x="234713" y="0"/>
                </a:moveTo>
                <a:lnTo>
                  <a:pt x="234713" y="21600"/>
                </a:lnTo>
                <a:lnTo>
                  <a:pt x="233313" y="20200"/>
                </a:lnTo>
                <a:lnTo>
                  <a:pt x="233313" y="1400"/>
                </a:lnTo>
                <a:close/>
              </a:path>
              <a:path fill="darkenLess" w="234713" h="21600">
                <a:moveTo>
                  <a:pt x="2347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13" y="20200"/>
                </a:lnTo>
                <a:close/>
              </a:path>
              <a:path fill="lighten" w="2347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713" h="21600">
                <a:moveTo>
                  <a:pt x="110350" y="3794"/>
                </a:moveTo>
                <a:lnTo>
                  <a:pt x="124363" y="10800"/>
                </a:lnTo>
                <a:lnTo>
                  <a:pt x="110350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pic>
        <p:nvPicPr>
          <p:cNvPr id="908" name="Picture 8" descr="джаз 1"/>
          <p:cNvPicPr/>
          <p:nvPr/>
        </p:nvPicPr>
        <p:blipFill>
          <a:blip r:embed="rId4"/>
          <a:stretch/>
        </p:blipFill>
        <p:spPr>
          <a:xfrm>
            <a:off x="5435640" y="4221000"/>
            <a:ext cx="2936880" cy="2138400"/>
          </a:xfrm>
          <a:prstGeom prst="rect">
            <a:avLst/>
          </a:prstGeom>
          <a:ln w="0">
            <a:noFill/>
          </a:ln>
        </p:spPr>
      </p:pic>
      <p:pic>
        <p:nvPicPr>
          <p:cNvPr id="909" name="WordArt 9" descr=""/>
          <p:cNvPicPr/>
          <p:nvPr/>
        </p:nvPicPr>
        <p:blipFill>
          <a:blip r:embed="rId5"/>
          <a:stretch/>
        </p:blipFill>
        <p:spPr>
          <a:xfrm>
            <a:off x="3376440" y="579600"/>
            <a:ext cx="2706840" cy="1163520"/>
          </a:xfrm>
          <a:prstGeom prst="rect">
            <a:avLst/>
          </a:prstGeom>
          <a:ln w="0">
            <a:noFill/>
          </a:ln>
        </p:spPr>
      </p:pic>
      <p:sp>
        <p:nvSpPr>
          <p:cNvPr id="9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af9e6"/>
                </a:solidFill>
                <a:latin typeface="Arial"/>
              </a:rPr>
              <a:t>www.sliderpoint.org</a:t>
            </a:r>
            <a:endParaRPr b="1" lang="en-US" sz="12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  <p:transition>
    <p:wedge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9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9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9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9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9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9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9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9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9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/>
          </p:nvPr>
        </p:nvSpPr>
        <p:spPr>
          <a:xfrm>
            <a:off x="1402920" y="2349000"/>
            <a:ext cx="6048360" cy="39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жаз – род современного искусства, возникший на рубеже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IX – XX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веков в Южных штатах США в среде американских негров – потомков африканских рабов. Джаз – искусство, основанное на импровизации в сочетании с заранее продуманной, но не обязательно записанной в нотах формой композиции. Значительное место в репертуаре традиционного джаза занял блюз.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2" name="WordArt 5" descr=""/>
          <p:cNvPicPr/>
          <p:nvPr/>
        </p:nvPicPr>
        <p:blipFill>
          <a:blip r:embed="rId1"/>
          <a:stretch/>
        </p:blipFill>
        <p:spPr>
          <a:xfrm>
            <a:off x="858960" y="1011240"/>
            <a:ext cx="7437240" cy="725400"/>
          </a:xfrm>
          <a:prstGeom prst="rect">
            <a:avLst/>
          </a:prstGeom>
          <a:ln w="0">
            <a:noFill/>
          </a:ln>
        </p:spPr>
      </p:pic>
      <p:sp>
        <p:nvSpPr>
          <p:cNvPr id="9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2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  <p:transition>
    <p:split dir="in" orient="vert"/>
  </p:transition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9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9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9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/>
          </p:nvPr>
        </p:nvSpPr>
        <p:spPr>
          <a:xfrm>
            <a:off x="250920" y="1052640"/>
            <a:ext cx="5400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ажнейшие характеристики джаза – наличие в ритмике, во-первых, регулярной пульсации, так называемого «бита», а во-вторых, отклонений от этой пульсации – «свинга».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ля свинга характерно, во-первых,  появление нового типа оркестра – биг-бэнда, который состоит из трёх групп инструментов – секций, каждая может звучать как один многоголосный инструмент: секции саксофонов (позднее с кларнетами), «медной» секции (трубы и тромбоны), ритмической секции (фортепиано, гитара, контрабас, ударные)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5" name="AutoShape 3">
            <a:hlinkClick r:id="rId1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pic>
        <p:nvPicPr>
          <p:cNvPr id="916" name="Picture 4" descr="Джаз 2"/>
          <p:cNvPicPr/>
          <p:nvPr/>
        </p:nvPicPr>
        <p:blipFill>
          <a:blip r:embed="rId2"/>
          <a:stretch/>
        </p:blipFill>
        <p:spPr>
          <a:xfrm>
            <a:off x="6084720" y="1700280"/>
            <a:ext cx="2551320" cy="3117960"/>
          </a:xfrm>
          <a:prstGeom prst="rect">
            <a:avLst/>
          </a:prstGeom>
          <a:ln w="0">
            <a:noFill/>
          </a:ln>
        </p:spPr>
      </p:pic>
      <p:sp>
        <p:nvSpPr>
          <p:cNvPr id="9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2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  <p:transition>
    <p:split dir="in" orient="vert"/>
  </p:transition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9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9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9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/>
          </p:nvPr>
        </p:nvSpPr>
        <p:spPr>
          <a:xfrm>
            <a:off x="250920" y="1989000"/>
            <a:ext cx="5472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Значительными успехами отмечено развитие советского джаза, начало которому было положено В.Парнахом в 1922 году. В довоенный период джаз в нашей стране развивался внутри эстрадных оркестров. Благодаря сотрудничеству Л.Утёсова с И.Дунаевским возник также песенный джаз. Импровизационный джаз стилей «диксиленд» и «свинг» практиковался в оркестрах А.Варламова, Н.Минха, А.Цфасмана и других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9" name="Picture 4" descr="Утёсов"/>
          <p:cNvPicPr/>
          <p:nvPr/>
        </p:nvPicPr>
        <p:blipFill>
          <a:blip r:embed="rId1"/>
          <a:stretch/>
        </p:blipFill>
        <p:spPr>
          <a:xfrm>
            <a:off x="6372360" y="1989000"/>
            <a:ext cx="1914480" cy="2897280"/>
          </a:xfrm>
          <a:prstGeom prst="rect">
            <a:avLst/>
          </a:prstGeom>
          <a:ln w="0">
            <a:noFill/>
          </a:ln>
        </p:spPr>
      </p:pic>
      <p:sp>
        <p:nvSpPr>
          <p:cNvPr id="920" name="Rectangle 5"/>
          <p:cNvSpPr/>
          <p:nvPr/>
        </p:nvSpPr>
        <p:spPr>
          <a:xfrm>
            <a:off x="6376320" y="4941000"/>
            <a:ext cx="181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. Дунаевский</a:t>
            </a:r>
            <a:endParaRPr b="1" lang="en-US" sz="18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sp>
        <p:nvSpPr>
          <p:cNvPr id="921" name="AutoShape 6">
            <a:hlinkClick r:id="rId2"/>
          </p:cNvPr>
          <p:cNvSpPr/>
          <p:nvPr/>
        </p:nvSpPr>
        <p:spPr>
          <a:xfrm>
            <a:off x="7596360" y="5661000"/>
            <a:ext cx="1547640" cy="1197000"/>
          </a:xfrm>
          <a:custGeom>
            <a:avLst/>
            <a:gdLst>
              <a:gd name="textAreaLeft" fmla="*/ 77400 w 1547640"/>
              <a:gd name="textAreaRight" fmla="*/ 1470240 w 1547640"/>
              <a:gd name="textAreaTop" fmla="*/ 77400 h 1197000"/>
              <a:gd name="textAreaBottom" fmla="*/ 1119600 h 1197000"/>
            </a:gdLst>
            <a:ahLst/>
            <a:rect l="textAreaLeft" t="textAreaTop" r="textAreaRight" b="textAreaBottom"/>
            <a:pathLst>
              <a:path w="27925" h="21600">
                <a:moveTo>
                  <a:pt x="0" y="0"/>
                </a:moveTo>
                <a:lnTo>
                  <a:pt x="27925" y="0"/>
                </a:lnTo>
                <a:lnTo>
                  <a:pt x="27925" y="21600"/>
                </a:lnTo>
                <a:lnTo>
                  <a:pt x="0" y="21600"/>
                </a:lnTo>
                <a:close/>
              </a:path>
              <a:path fill="lightenLess" w="27925" h="21600">
                <a:moveTo>
                  <a:pt x="0" y="0"/>
                </a:moveTo>
                <a:lnTo>
                  <a:pt x="27925" y="0"/>
                </a:lnTo>
                <a:lnTo>
                  <a:pt x="26525" y="1400"/>
                </a:lnTo>
                <a:lnTo>
                  <a:pt x="1400" y="1400"/>
                </a:lnTo>
                <a:close/>
              </a:path>
              <a:path fill="darken" w="27925" h="21600">
                <a:moveTo>
                  <a:pt x="27925" y="0"/>
                </a:moveTo>
                <a:lnTo>
                  <a:pt x="27925" y="21600"/>
                </a:lnTo>
                <a:lnTo>
                  <a:pt x="26525" y="20200"/>
                </a:lnTo>
                <a:lnTo>
                  <a:pt x="26525" y="1400"/>
                </a:lnTo>
                <a:close/>
              </a:path>
              <a:path fill="darkenLess" w="27925" h="21600">
                <a:moveTo>
                  <a:pt x="2792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525" y="20200"/>
                </a:lnTo>
                <a:close/>
              </a:path>
              <a:path fill="lighten" w="2792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925" h="21600">
                <a:moveTo>
                  <a:pt x="13963" y="3837"/>
                </a:moveTo>
                <a:lnTo>
                  <a:pt x="16539" y="6448"/>
                </a:lnTo>
                <a:lnTo>
                  <a:pt x="16539" y="4707"/>
                </a:lnTo>
                <a:lnTo>
                  <a:pt x="18315" y="4707"/>
                </a:lnTo>
                <a:lnTo>
                  <a:pt x="18315" y="8224"/>
                </a:lnTo>
                <a:lnTo>
                  <a:pt x="20926" y="10800"/>
                </a:lnTo>
                <a:lnTo>
                  <a:pt x="19272" y="10800"/>
                </a:lnTo>
                <a:lnTo>
                  <a:pt x="19272" y="17989"/>
                </a:lnTo>
                <a:lnTo>
                  <a:pt x="8653" y="17989"/>
                </a:lnTo>
                <a:lnTo>
                  <a:pt x="8653" y="10800"/>
                </a:lnTo>
                <a:lnTo>
                  <a:pt x="7000" y="10800"/>
                </a:lnTo>
                <a:close/>
              </a:path>
              <a:path fill="darkenLess" w="27925" h="21600">
                <a:moveTo>
                  <a:pt x="16539" y="6448"/>
                </a:moveTo>
                <a:lnTo>
                  <a:pt x="16539" y="4707"/>
                </a:lnTo>
                <a:lnTo>
                  <a:pt x="18315" y="4707"/>
                </a:lnTo>
                <a:lnTo>
                  <a:pt x="18315" y="8224"/>
                </a:lnTo>
                <a:close/>
              </a:path>
              <a:path fill="darkenLess" w="27925" h="21600">
                <a:moveTo>
                  <a:pt x="13040" y="14299"/>
                </a:moveTo>
                <a:lnTo>
                  <a:pt x="14885" y="14299"/>
                </a:lnTo>
                <a:lnTo>
                  <a:pt x="14885" y="17989"/>
                </a:lnTo>
                <a:lnTo>
                  <a:pt x="19272" y="17989"/>
                </a:lnTo>
                <a:lnTo>
                  <a:pt x="19272" y="10800"/>
                </a:lnTo>
                <a:lnTo>
                  <a:pt x="8653" y="10800"/>
                </a:lnTo>
                <a:lnTo>
                  <a:pt x="8653" y="17989"/>
                </a:lnTo>
                <a:lnTo>
                  <a:pt x="13040" y="1798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pic>
        <p:nvPicPr>
          <p:cNvPr id="922" name="WordArt 7" descr=""/>
          <p:cNvPicPr/>
          <p:nvPr/>
        </p:nvPicPr>
        <p:blipFill>
          <a:blip r:embed="rId3"/>
          <a:stretch/>
        </p:blipFill>
        <p:spPr>
          <a:xfrm>
            <a:off x="2548080" y="542880"/>
            <a:ext cx="4389120" cy="1266840"/>
          </a:xfrm>
          <a:prstGeom prst="rect">
            <a:avLst/>
          </a:prstGeom>
          <a:ln w="0">
            <a:noFill/>
          </a:ln>
        </p:spPr>
      </p:pic>
      <p:sp>
        <p:nvSpPr>
          <p:cNvPr id="9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2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  <p:transition>
    <p:wipe dir="d"/>
  </p:transition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9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9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898" fill="hold"/>
                                        <p:tgtEl>
                                          <p:spTgt spid="9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/>
          </p:nvPr>
        </p:nvSpPr>
        <p:spPr>
          <a:xfrm>
            <a:off x="3779640" y="2681280"/>
            <a:ext cx="500364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жордж Гершвин (1898-1937) – американский композитор и пианист. Систематического музыкального образования он не получил. С 15 лет начал сочинять эстрадные лирические песни, джазовую танцевальную музыку и т.п. Наряду с этим Гершвин создавал популярные произведения, в которых удачно сочетаются принципы симфонической и джазовой музыки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5" name="Picture 9" descr="Гершвин"/>
          <p:cNvPicPr/>
          <p:nvPr/>
        </p:nvPicPr>
        <p:blipFill>
          <a:blip r:embed="rId1"/>
          <a:stretch/>
        </p:blipFill>
        <p:spPr>
          <a:xfrm>
            <a:off x="755640" y="2349360"/>
            <a:ext cx="2624040" cy="3888000"/>
          </a:xfrm>
          <a:prstGeom prst="rect">
            <a:avLst/>
          </a:prstGeom>
          <a:ln w="0">
            <a:noFill/>
          </a:ln>
        </p:spPr>
      </p:pic>
      <p:pic>
        <p:nvPicPr>
          <p:cNvPr id="926" name="WordArt 10" descr=""/>
          <p:cNvPicPr/>
          <p:nvPr/>
        </p:nvPicPr>
        <p:blipFill>
          <a:blip r:embed="rId2"/>
          <a:stretch/>
        </p:blipFill>
        <p:spPr>
          <a:xfrm>
            <a:off x="1474920" y="762120"/>
            <a:ext cx="6821280" cy="987480"/>
          </a:xfrm>
          <a:prstGeom prst="rect">
            <a:avLst/>
          </a:prstGeom>
          <a:ln w="0">
            <a:noFill/>
          </a:ln>
        </p:spPr>
      </p:pic>
      <p:sp>
        <p:nvSpPr>
          <p:cNvPr id="9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2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2000"/>
                                        <p:tgtEl>
                                          <p:spTgt spid="9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/>
          </p:nvPr>
        </p:nvSpPr>
        <p:spPr>
          <a:xfrm>
            <a:off x="250560" y="809280"/>
            <a:ext cx="482580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30 сентября 1935 года – день рождения американской национальной оперы «Порги и Бесс», рисующей жизнь негритянской бедноты. Она пронизана негритянским фольклором - мелодиями блюзов и спиричуэлс, народными песнями, хорами, танцами. Творчество Гершвина – одна из вершин американской национальной классики. Мировую известность получили «Рапсодия в блюзовых тонах» и симфоническая поэма «Американец в Париже»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9" name="AutoShape 3">
            <a:hlinkClick r:id="rId1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pic>
        <p:nvPicPr>
          <p:cNvPr id="930" name="Picture 4" descr="PH10710"/>
          <p:cNvPicPr/>
          <p:nvPr/>
        </p:nvPicPr>
        <p:blipFill>
          <a:blip r:embed="rId2"/>
          <a:stretch/>
        </p:blipFill>
        <p:spPr>
          <a:xfrm>
            <a:off x="5292720" y="1125360"/>
            <a:ext cx="3465360" cy="4146840"/>
          </a:xfrm>
          <a:prstGeom prst="rect">
            <a:avLst/>
          </a:prstGeom>
          <a:ln w="0">
            <a:noFill/>
          </a:ln>
        </p:spPr>
      </p:pic>
      <p:sp>
        <p:nvSpPr>
          <p:cNvPr id="9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2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2000"/>
                                        <p:tgtEl>
                                          <p:spTgt spid="9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2000"/>
                                        <p:tgtEl>
                                          <p:spTgt spid="9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/>
          </p:nvPr>
        </p:nvSpPr>
        <p:spPr>
          <a:xfrm>
            <a:off x="1692000" y="2133360"/>
            <a:ext cx="701028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cc"/>
              </a:buClr>
              <a:buSzPct val="85000"/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cc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cccc"/>
                </a:solidFill>
                <a:latin typeface="Arial"/>
              </a:rPr>
              <a:t>Описание направле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cc"/>
              </a:buClr>
              <a:buSzPct val="85000"/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cc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cccc"/>
                </a:solidFill>
                <a:latin typeface="Arial"/>
              </a:rPr>
              <a:t>Музыкальные личност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3" name="AutoShape 4">
            <a:hlinkClick r:id="rId1"/>
          </p:cNvPr>
          <p:cNvSpPr/>
          <p:nvPr/>
        </p:nvSpPr>
        <p:spPr>
          <a:xfrm>
            <a:off x="2195640" y="2060640"/>
            <a:ext cx="5040360" cy="504720"/>
          </a:xfrm>
          <a:custGeom>
            <a:avLst/>
            <a:gdLst>
              <a:gd name="textAreaLeft" fmla="*/ 32400 w 5040360"/>
              <a:gd name="textAreaRight" fmla="*/ 5007960 w 504036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5569" h="21600">
                <a:moveTo>
                  <a:pt x="0" y="0"/>
                </a:moveTo>
                <a:lnTo>
                  <a:pt x="215569" y="0"/>
                </a:lnTo>
                <a:lnTo>
                  <a:pt x="215569" y="21600"/>
                </a:lnTo>
                <a:lnTo>
                  <a:pt x="0" y="21600"/>
                </a:lnTo>
                <a:close/>
              </a:path>
              <a:path fill="lightenLess" w="215569" h="21600">
                <a:moveTo>
                  <a:pt x="0" y="0"/>
                </a:moveTo>
                <a:lnTo>
                  <a:pt x="215569" y="0"/>
                </a:lnTo>
                <a:lnTo>
                  <a:pt x="214169" y="1400"/>
                </a:lnTo>
                <a:lnTo>
                  <a:pt x="1400" y="1400"/>
                </a:lnTo>
                <a:close/>
              </a:path>
              <a:path fill="darken" w="215569" h="21600">
                <a:moveTo>
                  <a:pt x="215569" y="0"/>
                </a:moveTo>
                <a:lnTo>
                  <a:pt x="215569" y="21600"/>
                </a:lnTo>
                <a:lnTo>
                  <a:pt x="214169" y="20200"/>
                </a:lnTo>
                <a:lnTo>
                  <a:pt x="214169" y="1400"/>
                </a:lnTo>
                <a:close/>
              </a:path>
              <a:path fill="darkenLess" w="215569" h="21600">
                <a:moveTo>
                  <a:pt x="2155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4169" y="20200"/>
                </a:lnTo>
                <a:close/>
              </a:path>
              <a:path fill="lighten" w="2155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5569" h="21600">
                <a:moveTo>
                  <a:pt x="100778" y="3794"/>
                </a:moveTo>
                <a:lnTo>
                  <a:pt x="114791" y="10800"/>
                </a:lnTo>
                <a:lnTo>
                  <a:pt x="100778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sp>
        <p:nvSpPr>
          <p:cNvPr id="934" name="AutoShape 5">
            <a:hlinkClick r:id="rId2"/>
          </p:cNvPr>
          <p:cNvSpPr/>
          <p:nvPr/>
        </p:nvSpPr>
        <p:spPr>
          <a:xfrm>
            <a:off x="2195640" y="2781360"/>
            <a:ext cx="5040360" cy="504720"/>
          </a:xfrm>
          <a:custGeom>
            <a:avLst/>
            <a:gdLst>
              <a:gd name="textAreaLeft" fmla="*/ 32400 w 5040360"/>
              <a:gd name="textAreaRight" fmla="*/ 5007960 w 504036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5569" h="21600">
                <a:moveTo>
                  <a:pt x="0" y="0"/>
                </a:moveTo>
                <a:lnTo>
                  <a:pt x="215569" y="0"/>
                </a:lnTo>
                <a:lnTo>
                  <a:pt x="215569" y="21600"/>
                </a:lnTo>
                <a:lnTo>
                  <a:pt x="0" y="21600"/>
                </a:lnTo>
                <a:close/>
              </a:path>
              <a:path fill="lightenLess" w="215569" h="21600">
                <a:moveTo>
                  <a:pt x="0" y="0"/>
                </a:moveTo>
                <a:lnTo>
                  <a:pt x="215569" y="0"/>
                </a:lnTo>
                <a:lnTo>
                  <a:pt x="214169" y="1400"/>
                </a:lnTo>
                <a:lnTo>
                  <a:pt x="1400" y="1400"/>
                </a:lnTo>
                <a:close/>
              </a:path>
              <a:path fill="darken" w="215569" h="21600">
                <a:moveTo>
                  <a:pt x="215569" y="0"/>
                </a:moveTo>
                <a:lnTo>
                  <a:pt x="215569" y="21600"/>
                </a:lnTo>
                <a:lnTo>
                  <a:pt x="214169" y="20200"/>
                </a:lnTo>
                <a:lnTo>
                  <a:pt x="214169" y="1400"/>
                </a:lnTo>
                <a:close/>
              </a:path>
              <a:path fill="darkenLess" w="215569" h="21600">
                <a:moveTo>
                  <a:pt x="2155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4169" y="20200"/>
                </a:lnTo>
                <a:close/>
              </a:path>
              <a:path fill="lighten" w="2155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5569" h="21600">
                <a:moveTo>
                  <a:pt x="100778" y="3794"/>
                </a:moveTo>
                <a:lnTo>
                  <a:pt x="114791" y="10800"/>
                </a:lnTo>
                <a:lnTo>
                  <a:pt x="100778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pic>
        <p:nvPicPr>
          <p:cNvPr id="935" name="Picture 6" descr="Авангард"/>
          <p:cNvPicPr/>
          <p:nvPr/>
        </p:nvPicPr>
        <p:blipFill>
          <a:blip r:embed="rId3"/>
          <a:stretch/>
        </p:blipFill>
        <p:spPr>
          <a:xfrm>
            <a:off x="4932360" y="3716280"/>
            <a:ext cx="3436920" cy="2197080"/>
          </a:xfrm>
          <a:prstGeom prst="rect">
            <a:avLst/>
          </a:prstGeom>
          <a:ln w="0">
            <a:noFill/>
          </a:ln>
        </p:spPr>
      </p:pic>
      <p:pic>
        <p:nvPicPr>
          <p:cNvPr id="936" name="WordArt 7" descr=""/>
          <p:cNvPicPr/>
          <p:nvPr/>
        </p:nvPicPr>
        <p:blipFill>
          <a:blip r:embed="rId4"/>
          <a:stretch/>
        </p:blipFill>
        <p:spPr>
          <a:xfrm>
            <a:off x="3267000" y="828720"/>
            <a:ext cx="4432320" cy="866880"/>
          </a:xfrm>
          <a:prstGeom prst="rect">
            <a:avLst/>
          </a:prstGeom>
          <a:ln w="0">
            <a:noFill/>
          </a:ln>
        </p:spPr>
      </p:pic>
      <p:sp>
        <p:nvSpPr>
          <p:cNvPr id="9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1" lang="en-US" sz="12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  <p:transition>
    <p:wedge/>
  </p:transition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9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9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500"/>
                                        <p:tgtEl>
                                          <p:spTgt spid="9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9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9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500"/>
                                        <p:tgtEl>
                                          <p:spTgt spid="9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/>
          </p:nvPr>
        </p:nvSpPr>
        <p:spPr>
          <a:xfrm>
            <a:off x="4427280" y="1700280"/>
            <a:ext cx="4259160" cy="439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В авангардистских течениях особенно остро проявились элитарные тенденции, отрыв от задач искусства в обществе, неспособность художников создать общественно значимые концепции, яркое, воздействующее на массы искусство. Среди композиторов, в той или иной степени примыкавших к авангардизму, можно назвать А. Шнитке и П. Шеффер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9" name="Picture 4" descr="Авангард 2"/>
          <p:cNvPicPr/>
          <p:nvPr/>
        </p:nvPicPr>
        <p:blipFill>
          <a:blip r:embed="rId1"/>
          <a:stretch/>
        </p:blipFill>
        <p:spPr>
          <a:xfrm>
            <a:off x="1403280" y="2276640"/>
            <a:ext cx="2656080" cy="3186000"/>
          </a:xfrm>
          <a:prstGeom prst="rect">
            <a:avLst/>
          </a:prstGeom>
          <a:ln w="0">
            <a:noFill/>
          </a:ln>
        </p:spPr>
      </p:pic>
      <p:pic>
        <p:nvPicPr>
          <p:cNvPr id="940" name="WordArt 5" descr=""/>
          <p:cNvPicPr/>
          <p:nvPr/>
        </p:nvPicPr>
        <p:blipFill>
          <a:blip r:embed="rId2"/>
          <a:stretch/>
        </p:blipFill>
        <p:spPr>
          <a:xfrm>
            <a:off x="1835280" y="762120"/>
            <a:ext cx="6491160" cy="701640"/>
          </a:xfrm>
          <a:prstGeom prst="rect">
            <a:avLst/>
          </a:prstGeom>
          <a:ln w="0">
            <a:noFill/>
          </a:ln>
        </p:spPr>
      </p:pic>
      <p:sp>
        <p:nvSpPr>
          <p:cNvPr id="94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1" lang="en-US" sz="12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7" dur="500"/>
                                        <p:tgtEl>
                                          <p:spTgt spid="9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/>
          </p:nvPr>
        </p:nvSpPr>
        <p:spPr>
          <a:xfrm>
            <a:off x="1066680" y="198108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7cc2f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Tahoma"/>
              </a:rPr>
              <a:t>Введени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7cc2f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Tahoma"/>
              </a:rPr>
              <a:t>Основные направления в музыке 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XX </a:t>
            </a:r>
            <a:r>
              <a:rPr b="0" lang="ru-RU" sz="3200" spc="-1" strike="noStrike">
                <a:solidFill>
                  <a:srgbClr val="ffcc00"/>
                </a:solidFill>
                <a:latin typeface="Tahoma"/>
              </a:rPr>
              <a:t>века. Музыкальные личност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02" name="Picture 21" descr="the_first_piano_lesson"/>
          <p:cNvPicPr/>
          <p:nvPr/>
        </p:nvPicPr>
        <p:blipFill>
          <a:blip r:embed="rId1"/>
          <a:stretch/>
        </p:blipFill>
        <p:spPr>
          <a:xfrm>
            <a:off x="5292720" y="2205000"/>
            <a:ext cx="2987640" cy="3992760"/>
          </a:xfrm>
          <a:prstGeom prst="rect">
            <a:avLst/>
          </a:prstGeom>
          <a:ln w="0">
            <a:noFill/>
          </a:ln>
        </p:spPr>
      </p:pic>
      <p:sp>
        <p:nvSpPr>
          <p:cNvPr id="803" name="AutoShape 22">
            <a:hlinkClick r:id="rId2"/>
          </p:cNvPr>
          <p:cNvSpPr/>
          <p:nvPr/>
        </p:nvSpPr>
        <p:spPr>
          <a:xfrm>
            <a:off x="1476360" y="1916280"/>
            <a:ext cx="1727280" cy="577800"/>
          </a:xfrm>
          <a:custGeom>
            <a:avLst/>
            <a:gdLst>
              <a:gd name="textAreaLeft" fmla="*/ 37440 w 1727280"/>
              <a:gd name="textAreaRight" fmla="*/ 1689840 w 1727280"/>
              <a:gd name="textAreaTop" fmla="*/ 37440 h 577800"/>
              <a:gd name="textAreaBottom" fmla="*/ 540360 h 577800"/>
            </a:gdLst>
            <a:ahLst/>
            <a:rect l="textAreaLeft" t="textAreaTop" r="textAreaRight" b="textAreaBottom"/>
            <a:pathLst>
              <a:path w="64544" h="21600">
                <a:moveTo>
                  <a:pt x="0" y="0"/>
                </a:moveTo>
                <a:lnTo>
                  <a:pt x="64544" y="0"/>
                </a:lnTo>
                <a:lnTo>
                  <a:pt x="64544" y="21600"/>
                </a:lnTo>
                <a:lnTo>
                  <a:pt x="0" y="21600"/>
                </a:lnTo>
                <a:close/>
              </a:path>
              <a:path fill="lightenLess" w="64544" h="21600">
                <a:moveTo>
                  <a:pt x="0" y="0"/>
                </a:moveTo>
                <a:lnTo>
                  <a:pt x="64544" y="0"/>
                </a:lnTo>
                <a:lnTo>
                  <a:pt x="63144" y="1400"/>
                </a:lnTo>
                <a:lnTo>
                  <a:pt x="1400" y="1400"/>
                </a:lnTo>
                <a:close/>
              </a:path>
              <a:path fill="darken" w="64544" h="21600">
                <a:moveTo>
                  <a:pt x="64544" y="0"/>
                </a:moveTo>
                <a:lnTo>
                  <a:pt x="64544" y="21600"/>
                </a:lnTo>
                <a:lnTo>
                  <a:pt x="63144" y="20200"/>
                </a:lnTo>
                <a:lnTo>
                  <a:pt x="63144" y="1400"/>
                </a:lnTo>
                <a:close/>
              </a:path>
              <a:path fill="darkenLess" w="64544" h="21600">
                <a:moveTo>
                  <a:pt x="645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144" y="20200"/>
                </a:lnTo>
                <a:close/>
              </a:path>
              <a:path fill="lighten" w="645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544" h="21600">
                <a:moveTo>
                  <a:pt x="25266" y="3794"/>
                </a:moveTo>
                <a:lnTo>
                  <a:pt x="39279" y="10800"/>
                </a:lnTo>
                <a:lnTo>
                  <a:pt x="25266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sp>
        <p:nvSpPr>
          <p:cNvPr id="804" name="AutoShape 23">
            <a:hlinkClick r:id="rId3"/>
          </p:cNvPr>
          <p:cNvSpPr/>
          <p:nvPr/>
        </p:nvSpPr>
        <p:spPr>
          <a:xfrm>
            <a:off x="1403280" y="2637000"/>
            <a:ext cx="2881440" cy="2376360"/>
          </a:xfrm>
          <a:custGeom>
            <a:avLst/>
            <a:gdLst>
              <a:gd name="textAreaLeft" fmla="*/ 153720 w 2881440"/>
              <a:gd name="textAreaRight" fmla="*/ 2727720 w 2881440"/>
              <a:gd name="textAreaTop" fmla="*/ 153720 h 2376360"/>
              <a:gd name="textAreaBottom" fmla="*/ 2222640 h 2376360"/>
            </a:gdLst>
            <a:ahLst/>
            <a:rect l="textAreaLeft" t="textAreaTop" r="textAreaRight" b="textAreaBottom"/>
            <a:pathLst>
              <a:path w="26190" h="21600">
                <a:moveTo>
                  <a:pt x="0" y="0"/>
                </a:moveTo>
                <a:lnTo>
                  <a:pt x="26190" y="0"/>
                </a:lnTo>
                <a:lnTo>
                  <a:pt x="26190" y="21600"/>
                </a:lnTo>
                <a:lnTo>
                  <a:pt x="0" y="21600"/>
                </a:lnTo>
                <a:close/>
              </a:path>
              <a:path fill="lightenLess" w="26190" h="21600">
                <a:moveTo>
                  <a:pt x="0" y="0"/>
                </a:moveTo>
                <a:lnTo>
                  <a:pt x="26190" y="0"/>
                </a:lnTo>
                <a:lnTo>
                  <a:pt x="24790" y="1400"/>
                </a:lnTo>
                <a:lnTo>
                  <a:pt x="1400" y="1400"/>
                </a:lnTo>
                <a:close/>
              </a:path>
              <a:path fill="darken" w="26190" h="21600">
                <a:moveTo>
                  <a:pt x="26190" y="0"/>
                </a:moveTo>
                <a:lnTo>
                  <a:pt x="26190" y="21600"/>
                </a:lnTo>
                <a:lnTo>
                  <a:pt x="24790" y="20200"/>
                </a:lnTo>
                <a:lnTo>
                  <a:pt x="24790" y="1400"/>
                </a:lnTo>
                <a:close/>
              </a:path>
              <a:path fill="darkenLess" w="26190" h="21600">
                <a:moveTo>
                  <a:pt x="261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90" y="20200"/>
                </a:lnTo>
                <a:close/>
              </a:path>
              <a:path fill="lighten" w="261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90" h="21600">
                <a:moveTo>
                  <a:pt x="6089" y="3794"/>
                </a:moveTo>
                <a:lnTo>
                  <a:pt x="20102" y="10800"/>
                </a:lnTo>
                <a:lnTo>
                  <a:pt x="6089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pic>
        <p:nvPicPr>
          <p:cNvPr id="805" name="WordArt 24" descr=""/>
          <p:cNvPicPr/>
          <p:nvPr/>
        </p:nvPicPr>
        <p:blipFill>
          <a:blip r:embed="rId4"/>
          <a:stretch/>
        </p:blipFill>
        <p:spPr>
          <a:xfrm>
            <a:off x="1401840" y="901800"/>
            <a:ext cx="3346200" cy="664920"/>
          </a:xfrm>
          <a:prstGeom prst="rect">
            <a:avLst/>
          </a:prstGeom>
          <a:ln w="0">
            <a:noFill/>
          </a:ln>
        </p:spPr>
      </p:pic>
      <p:sp>
        <p:nvSpPr>
          <p:cNvPr id="806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1" lang="en-US" sz="10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  <p:transition>
    <p:wedg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8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8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8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8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8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8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/>
          </p:nvPr>
        </p:nvSpPr>
        <p:spPr>
          <a:xfrm>
            <a:off x="4859280" y="1483920"/>
            <a:ext cx="404352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Многие авангардисты, движимые ложным представлением, что могут выразить новое содержание только с помощью неизвестных средств, а также стремлением к сенсационности, шли на эксперименты, приводившие к разрушению эстетических и даже технологических основ искусст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AutoShape 4">
            <a:hlinkClick r:id="rId1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pic>
        <p:nvPicPr>
          <p:cNvPr id="944" name="Picture 5" descr="Шнитке 1"/>
          <p:cNvPicPr/>
          <p:nvPr/>
        </p:nvPicPr>
        <p:blipFill>
          <a:blip r:embed="rId2"/>
          <a:stretch/>
        </p:blipFill>
        <p:spPr>
          <a:xfrm>
            <a:off x="1979640" y="1773360"/>
            <a:ext cx="2335320" cy="2693880"/>
          </a:xfrm>
          <a:prstGeom prst="rect">
            <a:avLst/>
          </a:prstGeom>
          <a:ln w="0">
            <a:noFill/>
          </a:ln>
        </p:spPr>
      </p:pic>
      <p:sp>
        <p:nvSpPr>
          <p:cNvPr id="945" name="Rectangle 6"/>
          <p:cNvSpPr/>
          <p:nvPr/>
        </p:nvSpPr>
        <p:spPr>
          <a:xfrm>
            <a:off x="2054160" y="4580640"/>
            <a:ext cx="216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льфред Шнитке</a:t>
            </a:r>
            <a:endParaRPr b="1" lang="en-US" sz="18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sp>
        <p:nvSpPr>
          <p:cNvPr id="94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1" lang="en-US" sz="12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4" dur="500"/>
                                        <p:tgtEl>
                                          <p:spTgt spid="9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/>
          </p:nvPr>
        </p:nvSpPr>
        <p:spPr>
          <a:xfrm>
            <a:off x="1547640" y="1916280"/>
            <a:ext cx="3183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ffcc00"/>
              </a:buClr>
              <a:buSzPct val="85000"/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"/>
              </a:rPr>
              <a:t>Альфред Шнитк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cc00"/>
              </a:buClr>
              <a:buSzPct val="85000"/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"/>
              </a:rPr>
              <a:t>Карлхайнц Штокхаузе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8" name="Picture 4" descr="b_4407"/>
          <p:cNvPicPr/>
          <p:nvPr/>
        </p:nvPicPr>
        <p:blipFill>
          <a:blip r:embed="rId1"/>
          <a:stretch/>
        </p:blipFill>
        <p:spPr>
          <a:xfrm>
            <a:off x="5003640" y="1989000"/>
            <a:ext cx="2278080" cy="1708200"/>
          </a:xfrm>
          <a:prstGeom prst="rect">
            <a:avLst/>
          </a:prstGeom>
          <a:ln w="0">
            <a:noFill/>
          </a:ln>
        </p:spPr>
      </p:pic>
      <p:pic>
        <p:nvPicPr>
          <p:cNvPr id="949" name="Picture 5" descr="stockhausen"/>
          <p:cNvPicPr/>
          <p:nvPr/>
        </p:nvPicPr>
        <p:blipFill>
          <a:blip r:embed="rId2"/>
          <a:stretch/>
        </p:blipFill>
        <p:spPr>
          <a:xfrm>
            <a:off x="5003640" y="3933720"/>
            <a:ext cx="2428920" cy="1846440"/>
          </a:xfrm>
          <a:prstGeom prst="rect">
            <a:avLst/>
          </a:prstGeom>
          <a:ln w="0">
            <a:noFill/>
          </a:ln>
        </p:spPr>
      </p:pic>
      <p:sp>
        <p:nvSpPr>
          <p:cNvPr id="950" name="AutoShape 6">
            <a:hlinkClick r:id="rId3"/>
          </p:cNvPr>
          <p:cNvSpPr/>
          <p:nvPr/>
        </p:nvSpPr>
        <p:spPr>
          <a:xfrm>
            <a:off x="2268360" y="1916280"/>
            <a:ext cx="1582920" cy="1042920"/>
          </a:xfrm>
          <a:custGeom>
            <a:avLst/>
            <a:gdLst>
              <a:gd name="textAreaLeft" fmla="*/ 67320 w 1582920"/>
              <a:gd name="textAreaRight" fmla="*/ 1515600 w 158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32780" h="21600">
                <a:moveTo>
                  <a:pt x="0" y="0"/>
                </a:moveTo>
                <a:lnTo>
                  <a:pt x="32780" y="0"/>
                </a:lnTo>
                <a:lnTo>
                  <a:pt x="32780" y="21600"/>
                </a:lnTo>
                <a:lnTo>
                  <a:pt x="0" y="21600"/>
                </a:lnTo>
                <a:close/>
              </a:path>
              <a:path fill="lightenLess" w="32780" h="21600">
                <a:moveTo>
                  <a:pt x="0" y="0"/>
                </a:moveTo>
                <a:lnTo>
                  <a:pt x="32780" y="0"/>
                </a:lnTo>
                <a:lnTo>
                  <a:pt x="31380" y="1400"/>
                </a:lnTo>
                <a:lnTo>
                  <a:pt x="1400" y="1400"/>
                </a:lnTo>
                <a:close/>
              </a:path>
              <a:path fill="darken" w="32780" h="21600">
                <a:moveTo>
                  <a:pt x="32780" y="0"/>
                </a:moveTo>
                <a:lnTo>
                  <a:pt x="32780" y="21600"/>
                </a:lnTo>
                <a:lnTo>
                  <a:pt x="31380" y="20200"/>
                </a:lnTo>
                <a:lnTo>
                  <a:pt x="31380" y="1400"/>
                </a:lnTo>
                <a:close/>
              </a:path>
              <a:path fill="darkenLess" w="32780" h="21600">
                <a:moveTo>
                  <a:pt x="327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380" y="20200"/>
                </a:lnTo>
                <a:close/>
              </a:path>
              <a:path fill="lighten" w="327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780" h="21600">
                <a:moveTo>
                  <a:pt x="9384" y="3794"/>
                </a:moveTo>
                <a:lnTo>
                  <a:pt x="23397" y="10800"/>
                </a:lnTo>
                <a:lnTo>
                  <a:pt x="938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sp>
        <p:nvSpPr>
          <p:cNvPr id="951" name="AutoShape 7">
            <a:hlinkClick r:id="rId4"/>
          </p:cNvPr>
          <p:cNvSpPr/>
          <p:nvPr/>
        </p:nvSpPr>
        <p:spPr>
          <a:xfrm>
            <a:off x="2340000" y="4437000"/>
            <a:ext cx="1944720" cy="1224000"/>
          </a:xfrm>
          <a:custGeom>
            <a:avLst/>
            <a:gdLst>
              <a:gd name="textAreaLeft" fmla="*/ 79200 w 1944720"/>
              <a:gd name="textAreaRight" fmla="*/ 1865520 w 1944720"/>
              <a:gd name="textAreaTop" fmla="*/ 79200 h 1224000"/>
              <a:gd name="textAreaBottom" fmla="*/ 1144800 h 1224000"/>
            </a:gdLst>
            <a:ahLst/>
            <a:rect l="textAreaLeft" t="textAreaTop" r="textAreaRight" b="textAreaBottom"/>
            <a:pathLst>
              <a:path w="34315" h="21600">
                <a:moveTo>
                  <a:pt x="0" y="0"/>
                </a:moveTo>
                <a:lnTo>
                  <a:pt x="34315" y="0"/>
                </a:lnTo>
                <a:lnTo>
                  <a:pt x="34315" y="21600"/>
                </a:lnTo>
                <a:lnTo>
                  <a:pt x="0" y="21600"/>
                </a:lnTo>
                <a:close/>
              </a:path>
              <a:path fill="lightenLess" w="34315" h="21600">
                <a:moveTo>
                  <a:pt x="0" y="0"/>
                </a:moveTo>
                <a:lnTo>
                  <a:pt x="34315" y="0"/>
                </a:lnTo>
                <a:lnTo>
                  <a:pt x="32915" y="1400"/>
                </a:lnTo>
                <a:lnTo>
                  <a:pt x="1400" y="1400"/>
                </a:lnTo>
                <a:close/>
              </a:path>
              <a:path fill="darken" w="34315" h="21600">
                <a:moveTo>
                  <a:pt x="34315" y="0"/>
                </a:moveTo>
                <a:lnTo>
                  <a:pt x="34315" y="21600"/>
                </a:lnTo>
                <a:lnTo>
                  <a:pt x="32915" y="20200"/>
                </a:lnTo>
                <a:lnTo>
                  <a:pt x="32915" y="1400"/>
                </a:lnTo>
                <a:close/>
              </a:path>
              <a:path fill="darkenLess" w="34315" h="21600">
                <a:moveTo>
                  <a:pt x="34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915" y="20200"/>
                </a:lnTo>
                <a:close/>
              </a:path>
              <a:path fill="lighten" w="34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315" h="21600">
                <a:moveTo>
                  <a:pt x="10151" y="3794"/>
                </a:moveTo>
                <a:lnTo>
                  <a:pt x="24164" y="10800"/>
                </a:lnTo>
                <a:lnTo>
                  <a:pt x="10151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pic>
        <p:nvPicPr>
          <p:cNvPr id="952" name="WordArt 8" descr=""/>
          <p:cNvPicPr/>
          <p:nvPr/>
        </p:nvPicPr>
        <p:blipFill>
          <a:blip r:embed="rId5"/>
          <a:stretch/>
        </p:blipFill>
        <p:spPr>
          <a:xfrm>
            <a:off x="1908000" y="835200"/>
            <a:ext cx="6602760" cy="695160"/>
          </a:xfrm>
          <a:prstGeom prst="rect">
            <a:avLst/>
          </a:prstGeom>
          <a:ln w="0">
            <a:noFill/>
          </a:ln>
        </p:spPr>
      </p:pic>
      <p:sp>
        <p:nvSpPr>
          <p:cNvPr id="9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1" lang="en-US" sz="12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  <p:transition>
    <p:wedge/>
  </p:transition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9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9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500"/>
                                        <p:tgtEl>
                                          <p:spTgt spid="9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9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9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500"/>
                                        <p:tgtEl>
                                          <p:spTgt spid="9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765e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/>
          </p:nvPr>
        </p:nvSpPr>
        <p:spPr>
          <a:xfrm>
            <a:off x="4932360" y="2205000"/>
            <a:ext cx="3673440" cy="432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99"/>
                </a:solidFill>
                <a:latin typeface="Arial"/>
              </a:rPr>
              <a:t>Альфред Шнитке – русский композитор. Является одним из ведущих мастеров современной музыки, синтезирующей в творчестве классические тенденции и разнообразные элементы современной композиторской техник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5" name="Picture 4" descr="b_4407"/>
          <p:cNvPicPr/>
          <p:nvPr/>
        </p:nvPicPr>
        <p:blipFill>
          <a:blip r:embed="rId1"/>
          <a:stretch/>
        </p:blipFill>
        <p:spPr>
          <a:xfrm>
            <a:off x="468360" y="2349360"/>
            <a:ext cx="4246560" cy="3184560"/>
          </a:xfrm>
          <a:prstGeom prst="rect">
            <a:avLst/>
          </a:prstGeom>
          <a:ln w="0">
            <a:noFill/>
          </a:ln>
        </p:spPr>
      </p:pic>
      <p:pic>
        <p:nvPicPr>
          <p:cNvPr id="956" name="WordArt 5" descr=""/>
          <p:cNvPicPr/>
          <p:nvPr/>
        </p:nvPicPr>
        <p:blipFill>
          <a:blip r:embed="rId2"/>
          <a:stretch/>
        </p:blipFill>
        <p:spPr>
          <a:xfrm>
            <a:off x="2554200" y="689040"/>
            <a:ext cx="4254480" cy="1311120"/>
          </a:xfrm>
          <a:prstGeom prst="rect">
            <a:avLst/>
          </a:prstGeom>
          <a:ln w="0">
            <a:noFill/>
          </a:ln>
        </p:spPr>
      </p:pic>
      <p:sp>
        <p:nvSpPr>
          <p:cNvPr id="9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1" lang="en-US" sz="12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2000"/>
                                        <p:tgtEl>
                                          <p:spTgt spid="9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5e2f"/>
            </a:gs>
            <a:gs pos="50000">
              <a:srgbClr val="ffcc66"/>
            </a:gs>
            <a:gs pos="100000">
              <a:srgbClr val="765e2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/>
          </p:nvPr>
        </p:nvSpPr>
        <p:spPr>
          <a:xfrm>
            <a:off x="4427280" y="1125360"/>
            <a:ext cx="404316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99"/>
                </a:solidFill>
                <a:latin typeface="Arial"/>
              </a:rPr>
              <a:t>Среди сочинений: оперы «Жизнь с идиотом», «Одиннадцатая заповедь»; балеты «Пер Гюнт»; Реквием, 12 инструментальных концертов, музыка к драматическим спектаклям и кинофильмам: «Рикки-Тики-Тави» и «Мертвые души». После смерти композитора в его честь названо музыкальное учебное заведени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9" name="AutoShape 5">
            <a:hlinkClick r:id="rId1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pic>
        <p:nvPicPr>
          <p:cNvPr id="960" name="Picture 6" descr="Шнитке"/>
          <p:cNvPicPr/>
          <p:nvPr/>
        </p:nvPicPr>
        <p:blipFill>
          <a:blip r:embed="rId2"/>
          <a:stretch/>
        </p:blipFill>
        <p:spPr>
          <a:xfrm>
            <a:off x="1332000" y="2276640"/>
            <a:ext cx="2666880" cy="3022560"/>
          </a:xfrm>
          <a:prstGeom prst="rect">
            <a:avLst/>
          </a:prstGeom>
          <a:ln w="0">
            <a:noFill/>
          </a:ln>
        </p:spPr>
      </p:pic>
      <p:sp>
        <p:nvSpPr>
          <p:cNvPr id="9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1" lang="en-US" sz="12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nodeType="clickEffect" fill="hold">
                      <p:stCondLst>
                        <p:cond delay="0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20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/>
          </p:nvPr>
        </p:nvSpPr>
        <p:spPr>
          <a:xfrm>
            <a:off x="5219280" y="2349360"/>
            <a:ext cx="3745080" cy="41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04162"/>
                </a:solidFill>
                <a:latin typeface="Arial"/>
              </a:rPr>
              <a:t>Штокхаузен родился в Мёдрате близ Кёльна 22 августа 1928. В 1947 поступил в кельтскую Высшую музыкальную школу, позже учился в Париже у Оливье Мессина и работал в студии конкретной музыки Пьера Шеффер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3" name="Picture 5" descr="Карлхайнц Штокхаузен (Stockhausen)"/>
          <p:cNvPicPr/>
          <p:nvPr/>
        </p:nvPicPr>
        <p:blipFill>
          <a:blip r:embed="rId1"/>
          <a:stretch/>
        </p:blipFill>
        <p:spPr>
          <a:xfrm>
            <a:off x="900000" y="2565360"/>
            <a:ext cx="3990960" cy="3033720"/>
          </a:xfrm>
          <a:prstGeom prst="rect">
            <a:avLst/>
          </a:prstGeom>
          <a:ln w="0">
            <a:noFill/>
          </a:ln>
        </p:spPr>
      </p:pic>
      <p:pic>
        <p:nvPicPr>
          <p:cNvPr id="964" name="WordArt 6" descr=""/>
          <p:cNvPicPr/>
          <p:nvPr/>
        </p:nvPicPr>
        <p:blipFill>
          <a:blip r:embed="rId2"/>
          <a:stretch/>
        </p:blipFill>
        <p:spPr>
          <a:xfrm>
            <a:off x="2266920" y="835200"/>
            <a:ext cx="5737320" cy="1304640"/>
          </a:xfrm>
          <a:prstGeom prst="rect">
            <a:avLst/>
          </a:prstGeom>
          <a:ln w="0">
            <a:noFill/>
          </a:ln>
        </p:spPr>
      </p:pic>
      <p:sp>
        <p:nvSpPr>
          <p:cNvPr id="9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204162"/>
                </a:solidFill>
                <a:latin typeface="Arial"/>
              </a:rPr>
              <a:t>www.sliderpoint.org</a:t>
            </a:r>
            <a:endParaRPr b="1" lang="en-US" sz="12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2000"/>
                                        <p:tgtEl>
                                          <p:spTgt spid="9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/>
          </p:nvPr>
        </p:nvSpPr>
        <p:spPr>
          <a:xfrm>
            <a:off x="4211280" y="1052280"/>
            <a:ext cx="453708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04162"/>
                </a:solidFill>
                <a:latin typeface="Arial"/>
              </a:rPr>
              <a:t>В 1960-х годах Штокхаузен стал одним из лидеров в области сериальной музыки и одним из первых европейских композиторов. Во многих сочинениях композитора 1960-х годов предусматривается живая интерпретация Во многих сочинениях композитора 1960-х годов предусматривается живая интерпретация электронных звучаний. В числе самых значительных опусов Штокхаузена: «Мера времени», «Песнь юношей», «Группы»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7" name="AutoShape 8"/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pic>
        <p:nvPicPr>
          <p:cNvPr id="968" name="Picture 9" descr="штокх"/>
          <p:cNvPicPr/>
          <p:nvPr/>
        </p:nvPicPr>
        <p:blipFill>
          <a:blip r:embed="rId1"/>
          <a:stretch/>
        </p:blipFill>
        <p:spPr>
          <a:xfrm>
            <a:off x="1547640" y="2205000"/>
            <a:ext cx="2011680" cy="2816280"/>
          </a:xfrm>
          <a:prstGeom prst="rect">
            <a:avLst/>
          </a:prstGeom>
          <a:ln w="0">
            <a:noFill/>
          </a:ln>
        </p:spPr>
      </p:pic>
      <p:sp>
        <p:nvSpPr>
          <p:cNvPr id="9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204162"/>
                </a:solidFill>
                <a:latin typeface="Arial"/>
              </a:rPr>
              <a:t>www.sliderpoint.org</a:t>
            </a:r>
            <a:endParaRPr b="1" lang="en-US" sz="12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nodeType="clickEffect" fill="hold">
                      <p:stCondLst>
                        <p:cond delay="0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20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/>
          </p:nvPr>
        </p:nvSpPr>
        <p:spPr>
          <a:xfrm>
            <a:off x="682560" y="1980720"/>
            <a:ext cx="7772400" cy="13035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94881"/>
              </a:buClr>
              <a:buSzPct val="75000"/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94881"/>
                </a:solidFill>
                <a:latin typeface="Times New Roman"/>
              </a:rPr>
              <a:t>Описание направлени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94881"/>
              </a:buClr>
              <a:buSzPct val="75000"/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94881"/>
                </a:solidFill>
                <a:latin typeface="Times New Roman"/>
              </a:rPr>
              <a:t>Музыкальные личност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1" name="AutoShape 4"/>
          <p:cNvSpPr/>
          <p:nvPr/>
        </p:nvSpPr>
        <p:spPr>
          <a:xfrm>
            <a:off x="1187280" y="1916280"/>
            <a:ext cx="4537080" cy="504720"/>
          </a:xfrm>
          <a:custGeom>
            <a:avLst/>
            <a:gdLst>
              <a:gd name="textAreaLeft" fmla="*/ 32400 w 4537080"/>
              <a:gd name="textAreaRight" fmla="*/ 4504680 w 45370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194046" h="21600">
                <a:moveTo>
                  <a:pt x="0" y="0"/>
                </a:moveTo>
                <a:lnTo>
                  <a:pt x="194046" y="0"/>
                </a:lnTo>
                <a:lnTo>
                  <a:pt x="194046" y="21600"/>
                </a:lnTo>
                <a:lnTo>
                  <a:pt x="0" y="21600"/>
                </a:lnTo>
                <a:close/>
              </a:path>
              <a:path fill="lightenLess" w="194046" h="21600">
                <a:moveTo>
                  <a:pt x="0" y="0"/>
                </a:moveTo>
                <a:lnTo>
                  <a:pt x="194046" y="0"/>
                </a:lnTo>
                <a:lnTo>
                  <a:pt x="192646" y="1400"/>
                </a:lnTo>
                <a:lnTo>
                  <a:pt x="1400" y="1400"/>
                </a:lnTo>
                <a:close/>
              </a:path>
              <a:path fill="darken" w="194046" h="21600">
                <a:moveTo>
                  <a:pt x="194046" y="0"/>
                </a:moveTo>
                <a:lnTo>
                  <a:pt x="194046" y="21600"/>
                </a:lnTo>
                <a:lnTo>
                  <a:pt x="192646" y="20200"/>
                </a:lnTo>
                <a:lnTo>
                  <a:pt x="192646" y="1400"/>
                </a:lnTo>
                <a:close/>
              </a:path>
              <a:path fill="darkenLess" w="194046" h="21600">
                <a:moveTo>
                  <a:pt x="1940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92646" y="20200"/>
                </a:lnTo>
                <a:close/>
              </a:path>
              <a:path fill="lighten" w="1940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94046" h="21600">
                <a:moveTo>
                  <a:pt x="90016" y="3794"/>
                </a:moveTo>
                <a:lnTo>
                  <a:pt x="104029" y="10800"/>
                </a:lnTo>
                <a:lnTo>
                  <a:pt x="90016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sp>
        <p:nvSpPr>
          <p:cNvPr id="972" name="AutoShape 5"/>
          <p:cNvSpPr/>
          <p:nvPr/>
        </p:nvSpPr>
        <p:spPr>
          <a:xfrm>
            <a:off x="1187280" y="2637000"/>
            <a:ext cx="4680000" cy="431640"/>
          </a:xfrm>
          <a:custGeom>
            <a:avLst/>
            <a:gdLst>
              <a:gd name="textAreaLeft" fmla="*/ 27720 w 4680000"/>
              <a:gd name="textAreaRight" fmla="*/ 4652280 w 4680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34018" h="21600">
                <a:moveTo>
                  <a:pt x="0" y="0"/>
                </a:moveTo>
                <a:lnTo>
                  <a:pt x="234018" y="0"/>
                </a:lnTo>
                <a:lnTo>
                  <a:pt x="234018" y="21600"/>
                </a:lnTo>
                <a:lnTo>
                  <a:pt x="0" y="21600"/>
                </a:lnTo>
                <a:close/>
              </a:path>
              <a:path fill="lightenLess" w="234018" h="21600">
                <a:moveTo>
                  <a:pt x="0" y="0"/>
                </a:moveTo>
                <a:lnTo>
                  <a:pt x="234018" y="0"/>
                </a:lnTo>
                <a:lnTo>
                  <a:pt x="232618" y="1400"/>
                </a:lnTo>
                <a:lnTo>
                  <a:pt x="1400" y="1400"/>
                </a:lnTo>
                <a:close/>
              </a:path>
              <a:path fill="darken" w="234018" h="21600">
                <a:moveTo>
                  <a:pt x="234018" y="0"/>
                </a:moveTo>
                <a:lnTo>
                  <a:pt x="234018" y="21600"/>
                </a:lnTo>
                <a:lnTo>
                  <a:pt x="232618" y="20200"/>
                </a:lnTo>
                <a:lnTo>
                  <a:pt x="232618" y="1400"/>
                </a:lnTo>
                <a:close/>
              </a:path>
              <a:path fill="darkenLess" w="234018" h="21600">
                <a:moveTo>
                  <a:pt x="2340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618" y="20200"/>
                </a:lnTo>
                <a:close/>
              </a:path>
              <a:path fill="lighten" w="2340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018" h="21600">
                <a:moveTo>
                  <a:pt x="110003" y="3794"/>
                </a:moveTo>
                <a:lnTo>
                  <a:pt x="124015" y="10800"/>
                </a:lnTo>
                <a:lnTo>
                  <a:pt x="110003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pic>
        <p:nvPicPr>
          <p:cNvPr id="973" name="Picture 10" descr="импр"/>
          <p:cNvPicPr/>
          <p:nvPr/>
        </p:nvPicPr>
        <p:blipFill>
          <a:blip r:embed="rId1"/>
          <a:stretch/>
        </p:blipFill>
        <p:spPr>
          <a:xfrm>
            <a:off x="3492360" y="3860640"/>
            <a:ext cx="3459240" cy="2252880"/>
          </a:xfrm>
          <a:prstGeom prst="rect">
            <a:avLst/>
          </a:prstGeom>
          <a:ln w="0">
            <a:noFill/>
          </a:ln>
        </p:spPr>
      </p:pic>
      <p:pic>
        <p:nvPicPr>
          <p:cNvPr id="974" name="WordArt 11" descr=""/>
          <p:cNvPicPr/>
          <p:nvPr/>
        </p:nvPicPr>
        <p:blipFill>
          <a:blip r:embed="rId2"/>
          <a:stretch/>
        </p:blipFill>
        <p:spPr>
          <a:xfrm>
            <a:off x="2541600" y="463680"/>
            <a:ext cx="4432320" cy="987120"/>
          </a:xfrm>
          <a:prstGeom prst="rect">
            <a:avLst/>
          </a:prstGeom>
          <a:ln w="0">
            <a:noFill/>
          </a:ln>
        </p:spPr>
      </p:pic>
      <p:sp>
        <p:nvSpPr>
          <p:cNvPr id="975" name="Місце для нижнього колонтитула 1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  <p:transition>
    <p:wedge/>
  </p:transition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9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9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7" dur="500"/>
                                        <p:tgtEl>
                                          <p:spTgt spid="9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9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9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4" dur="500"/>
                                        <p:tgtEl>
                                          <p:spTgt spid="9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/>
          </p:nvPr>
        </p:nvSpPr>
        <p:spPr>
          <a:xfrm>
            <a:off x="682560" y="1981080"/>
            <a:ext cx="410544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66"/>
                </a:solidFill>
                <a:latin typeface="Arial"/>
              </a:rPr>
              <a:t>Основным в импрессионизме была задача передать непосредственное впечатление, отразить тонкие психологические состояния, оттенки субъективных ощущений, вызванных созерцанием внешнего мира. Основоположниками этого направления стали К. Дебюсси, М. Равель, О. Мессиане, М. де Фалья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77" name="Picture 6" descr="Мессиане"/>
          <p:cNvPicPr/>
          <p:nvPr/>
        </p:nvPicPr>
        <p:blipFill>
          <a:blip r:embed="rId1"/>
          <a:stretch/>
        </p:blipFill>
        <p:spPr>
          <a:xfrm>
            <a:off x="5724360" y="2276640"/>
            <a:ext cx="2256120" cy="3219120"/>
          </a:xfrm>
          <a:prstGeom prst="rect">
            <a:avLst/>
          </a:prstGeom>
          <a:ln w="0">
            <a:noFill/>
          </a:ln>
        </p:spPr>
      </p:pic>
      <p:sp>
        <p:nvSpPr>
          <p:cNvPr id="978" name="Rectangle 7"/>
          <p:cNvSpPr/>
          <p:nvPr/>
        </p:nvSpPr>
        <p:spPr>
          <a:xfrm>
            <a:off x="6087240" y="5589000"/>
            <a:ext cx="15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cc"/>
                </a:solidFill>
                <a:latin typeface="Arial"/>
              </a:rPr>
              <a:t>О. Мессиане</a:t>
            </a:r>
            <a:endParaRPr b="1" lang="en-US" sz="18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pic>
        <p:nvPicPr>
          <p:cNvPr id="979" name="WordArt 9" descr=""/>
          <p:cNvPicPr/>
          <p:nvPr/>
        </p:nvPicPr>
        <p:blipFill>
          <a:blip r:embed="rId2"/>
          <a:stretch/>
        </p:blipFill>
        <p:spPr>
          <a:xfrm>
            <a:off x="1828800" y="609480"/>
            <a:ext cx="5657760" cy="1047960"/>
          </a:xfrm>
          <a:prstGeom prst="rect">
            <a:avLst/>
          </a:prstGeom>
          <a:ln w="0">
            <a:noFill/>
          </a:ln>
        </p:spPr>
      </p:pic>
      <p:sp>
        <p:nvSpPr>
          <p:cNvPr id="980" name="Місце для нижнього колонтитула 1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/>
          </p:nvPr>
        </p:nvSpPr>
        <p:spPr>
          <a:xfrm>
            <a:off x="323640" y="620280"/>
            <a:ext cx="3887640" cy="54752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66"/>
                </a:solidFill>
                <a:latin typeface="Arial"/>
              </a:rPr>
              <a:t>Эти композиторы утверждали, что именно красота природы способна возбудить художественную фантазию композитора. Потребность передать в звуках состояние природы, её образы вызывает новые краски, новые выразительные средства. Кроме природы, импрессионисты вдохновлялись античной мифологией, сказочностью. В музыке господствовали мягкие переливы красок, гармоний, «мерцание» ритмов, сложная полифония тембров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82" name="Picture 3" descr="BOB0274"/>
          <p:cNvPicPr/>
          <p:nvPr/>
        </p:nvPicPr>
        <p:blipFill>
          <a:blip r:embed="rId1"/>
          <a:stretch/>
        </p:blipFill>
        <p:spPr>
          <a:xfrm>
            <a:off x="4716360" y="476280"/>
            <a:ext cx="3076560" cy="2143080"/>
          </a:xfrm>
          <a:prstGeom prst="rect">
            <a:avLst/>
          </a:prstGeom>
          <a:ln w="0">
            <a:noFill/>
          </a:ln>
        </p:spPr>
      </p:pic>
      <p:pic>
        <p:nvPicPr>
          <p:cNvPr id="983" name="Picture 4" descr="BOB0216"/>
          <p:cNvPicPr/>
          <p:nvPr/>
        </p:nvPicPr>
        <p:blipFill>
          <a:blip r:embed="rId2"/>
          <a:stretch/>
        </p:blipFill>
        <p:spPr>
          <a:xfrm>
            <a:off x="5580000" y="3716280"/>
            <a:ext cx="3102120" cy="2252880"/>
          </a:xfrm>
          <a:prstGeom prst="rect">
            <a:avLst/>
          </a:prstGeom>
          <a:ln w="0">
            <a:noFill/>
          </a:ln>
        </p:spPr>
      </p:pic>
      <p:sp>
        <p:nvSpPr>
          <p:cNvPr id="984" name="AutoShape 5"/>
          <p:cNvSpPr/>
          <p:nvPr/>
        </p:nvSpPr>
        <p:spPr>
          <a:xfrm>
            <a:off x="7596360" y="6021360"/>
            <a:ext cx="1547640" cy="836640"/>
          </a:xfrm>
          <a:custGeom>
            <a:avLst/>
            <a:gdLst>
              <a:gd name="textAreaLeft" fmla="*/ 54000 w 1547640"/>
              <a:gd name="textAreaRight" fmla="*/ 1493640 w 1547640"/>
              <a:gd name="textAreaTop" fmla="*/ 54000 h 836640"/>
              <a:gd name="textAreaBottom" fmla="*/ 782640 h 836640"/>
            </a:gdLst>
            <a:ahLst/>
            <a:rect l="textAreaLeft" t="textAreaTop" r="textAreaRight" b="textAreaBottom"/>
            <a:pathLst>
              <a:path w="39948" h="21600">
                <a:moveTo>
                  <a:pt x="0" y="0"/>
                </a:moveTo>
                <a:lnTo>
                  <a:pt x="39948" y="0"/>
                </a:lnTo>
                <a:lnTo>
                  <a:pt x="39948" y="21600"/>
                </a:lnTo>
                <a:lnTo>
                  <a:pt x="0" y="21600"/>
                </a:lnTo>
                <a:close/>
              </a:path>
              <a:path fill="lightenLess" w="39948" h="21600">
                <a:moveTo>
                  <a:pt x="0" y="0"/>
                </a:moveTo>
                <a:lnTo>
                  <a:pt x="39948" y="0"/>
                </a:lnTo>
                <a:lnTo>
                  <a:pt x="38548" y="1400"/>
                </a:lnTo>
                <a:lnTo>
                  <a:pt x="1400" y="1400"/>
                </a:lnTo>
                <a:close/>
              </a:path>
              <a:path fill="darken" w="39948" h="21600">
                <a:moveTo>
                  <a:pt x="39948" y="0"/>
                </a:moveTo>
                <a:lnTo>
                  <a:pt x="39948" y="21600"/>
                </a:lnTo>
                <a:lnTo>
                  <a:pt x="38548" y="20200"/>
                </a:lnTo>
                <a:lnTo>
                  <a:pt x="38548" y="1400"/>
                </a:lnTo>
                <a:close/>
              </a:path>
              <a:path fill="darkenLess" w="39948" h="21600">
                <a:moveTo>
                  <a:pt x="399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548" y="20200"/>
                </a:lnTo>
                <a:close/>
              </a:path>
              <a:path fill="lighten" w="399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948" h="21600">
                <a:moveTo>
                  <a:pt x="19974" y="3837"/>
                </a:moveTo>
                <a:lnTo>
                  <a:pt x="22550" y="6448"/>
                </a:lnTo>
                <a:lnTo>
                  <a:pt x="22550" y="4707"/>
                </a:lnTo>
                <a:lnTo>
                  <a:pt x="24326" y="4707"/>
                </a:lnTo>
                <a:lnTo>
                  <a:pt x="24326" y="8224"/>
                </a:lnTo>
                <a:lnTo>
                  <a:pt x="26937" y="10800"/>
                </a:lnTo>
                <a:lnTo>
                  <a:pt x="25283" y="10800"/>
                </a:lnTo>
                <a:lnTo>
                  <a:pt x="25283" y="17989"/>
                </a:lnTo>
                <a:lnTo>
                  <a:pt x="14665" y="17989"/>
                </a:lnTo>
                <a:lnTo>
                  <a:pt x="14665" y="10800"/>
                </a:lnTo>
                <a:lnTo>
                  <a:pt x="13011" y="10800"/>
                </a:lnTo>
                <a:close/>
              </a:path>
              <a:path fill="darkenLess" w="39948" h="21600">
                <a:moveTo>
                  <a:pt x="22550" y="6448"/>
                </a:moveTo>
                <a:lnTo>
                  <a:pt x="22550" y="4707"/>
                </a:lnTo>
                <a:lnTo>
                  <a:pt x="24326" y="4707"/>
                </a:lnTo>
                <a:lnTo>
                  <a:pt x="24326" y="8224"/>
                </a:lnTo>
                <a:close/>
              </a:path>
              <a:path fill="darkenLess" w="39948" h="21600">
                <a:moveTo>
                  <a:pt x="19052" y="14299"/>
                </a:moveTo>
                <a:lnTo>
                  <a:pt x="20897" y="14299"/>
                </a:lnTo>
                <a:lnTo>
                  <a:pt x="20897" y="17989"/>
                </a:lnTo>
                <a:lnTo>
                  <a:pt x="25283" y="17989"/>
                </a:lnTo>
                <a:lnTo>
                  <a:pt x="25283" y="10800"/>
                </a:lnTo>
                <a:lnTo>
                  <a:pt x="14665" y="10800"/>
                </a:lnTo>
                <a:lnTo>
                  <a:pt x="14665" y="17989"/>
                </a:lnTo>
                <a:lnTo>
                  <a:pt x="19052" y="1798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sp>
        <p:nvSpPr>
          <p:cNvPr id="985" name="Місце для нижнього колонтитула 1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/>
          </p:nvPr>
        </p:nvSpPr>
        <p:spPr>
          <a:xfrm>
            <a:off x="682200" y="1981080"/>
            <a:ext cx="34578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66"/>
                </a:solidFill>
                <a:latin typeface="Arial"/>
              </a:rPr>
              <a:t>Клод Дебюсс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66"/>
                </a:solidFill>
                <a:latin typeface="Arial"/>
              </a:rPr>
              <a:t>Морис Равель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87" name="Picture 5" descr="Клод Дебюсси (Debussy)"/>
          <p:cNvPicPr/>
          <p:nvPr/>
        </p:nvPicPr>
        <p:blipFill>
          <a:blip r:embed="rId1"/>
          <a:stretch/>
        </p:blipFill>
        <p:spPr>
          <a:xfrm>
            <a:off x="5219640" y="1773360"/>
            <a:ext cx="1656000" cy="2168280"/>
          </a:xfrm>
          <a:prstGeom prst="rect">
            <a:avLst/>
          </a:prstGeom>
          <a:ln w="0">
            <a:noFill/>
          </a:ln>
        </p:spPr>
      </p:pic>
      <p:pic>
        <p:nvPicPr>
          <p:cNvPr id="988" name="Picture 6" descr="ravel"/>
          <p:cNvPicPr/>
          <p:nvPr/>
        </p:nvPicPr>
        <p:blipFill>
          <a:blip r:embed="rId2"/>
          <a:stretch/>
        </p:blipFill>
        <p:spPr>
          <a:xfrm>
            <a:off x="4788000" y="4365720"/>
            <a:ext cx="2576520" cy="2001600"/>
          </a:xfrm>
          <a:prstGeom prst="rect">
            <a:avLst/>
          </a:prstGeom>
          <a:ln w="0">
            <a:noFill/>
          </a:ln>
        </p:spPr>
      </p:pic>
      <p:sp>
        <p:nvSpPr>
          <p:cNvPr id="989" name="AutoShape 7"/>
          <p:cNvSpPr/>
          <p:nvPr/>
        </p:nvSpPr>
        <p:spPr>
          <a:xfrm>
            <a:off x="971640" y="1773360"/>
            <a:ext cx="3095640" cy="1042920"/>
          </a:xfrm>
          <a:custGeom>
            <a:avLst/>
            <a:gdLst>
              <a:gd name="textAreaLeft" fmla="*/ 67320 w 3095640"/>
              <a:gd name="textAreaRight" fmla="*/ 3028320 w 309564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64099" h="21600">
                <a:moveTo>
                  <a:pt x="0" y="0"/>
                </a:moveTo>
                <a:lnTo>
                  <a:pt x="64099" y="0"/>
                </a:lnTo>
                <a:lnTo>
                  <a:pt x="64099" y="21600"/>
                </a:lnTo>
                <a:lnTo>
                  <a:pt x="0" y="21600"/>
                </a:lnTo>
                <a:close/>
              </a:path>
              <a:path fill="lightenLess" w="64099" h="21600">
                <a:moveTo>
                  <a:pt x="0" y="0"/>
                </a:moveTo>
                <a:lnTo>
                  <a:pt x="64099" y="0"/>
                </a:lnTo>
                <a:lnTo>
                  <a:pt x="62699" y="1400"/>
                </a:lnTo>
                <a:lnTo>
                  <a:pt x="1400" y="1400"/>
                </a:lnTo>
                <a:close/>
              </a:path>
              <a:path fill="darken" w="64099" h="21600">
                <a:moveTo>
                  <a:pt x="64099" y="0"/>
                </a:moveTo>
                <a:lnTo>
                  <a:pt x="64099" y="21600"/>
                </a:lnTo>
                <a:lnTo>
                  <a:pt x="62699" y="20200"/>
                </a:lnTo>
                <a:lnTo>
                  <a:pt x="62699" y="1400"/>
                </a:lnTo>
                <a:close/>
              </a:path>
              <a:path fill="darkenLess" w="64099" h="21600">
                <a:moveTo>
                  <a:pt x="640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2699" y="20200"/>
                </a:lnTo>
                <a:close/>
              </a:path>
              <a:path fill="lighten" w="640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099" h="21600">
                <a:moveTo>
                  <a:pt x="25043" y="3794"/>
                </a:moveTo>
                <a:lnTo>
                  <a:pt x="39056" y="10800"/>
                </a:lnTo>
                <a:lnTo>
                  <a:pt x="25043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sp>
        <p:nvSpPr>
          <p:cNvPr id="990" name="AutoShape 8"/>
          <p:cNvSpPr/>
          <p:nvPr/>
        </p:nvSpPr>
        <p:spPr>
          <a:xfrm>
            <a:off x="755640" y="3789360"/>
            <a:ext cx="3240000" cy="1042920"/>
          </a:xfrm>
          <a:custGeom>
            <a:avLst/>
            <a:gdLst>
              <a:gd name="textAreaLeft" fmla="*/ 67320 w 3240000"/>
              <a:gd name="textAreaRight" fmla="*/ 3172680 w 324000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67088" h="21600">
                <a:moveTo>
                  <a:pt x="0" y="0"/>
                </a:moveTo>
                <a:lnTo>
                  <a:pt x="67088" y="0"/>
                </a:lnTo>
                <a:lnTo>
                  <a:pt x="67088" y="21600"/>
                </a:lnTo>
                <a:lnTo>
                  <a:pt x="0" y="21600"/>
                </a:lnTo>
                <a:close/>
              </a:path>
              <a:path fill="lightenLess" w="67088" h="21600">
                <a:moveTo>
                  <a:pt x="0" y="0"/>
                </a:moveTo>
                <a:lnTo>
                  <a:pt x="67088" y="0"/>
                </a:lnTo>
                <a:lnTo>
                  <a:pt x="65688" y="1400"/>
                </a:lnTo>
                <a:lnTo>
                  <a:pt x="1400" y="1400"/>
                </a:lnTo>
                <a:close/>
              </a:path>
              <a:path fill="darken" w="67088" h="21600">
                <a:moveTo>
                  <a:pt x="67088" y="0"/>
                </a:moveTo>
                <a:lnTo>
                  <a:pt x="67088" y="21600"/>
                </a:lnTo>
                <a:lnTo>
                  <a:pt x="65688" y="20200"/>
                </a:lnTo>
                <a:lnTo>
                  <a:pt x="65688" y="1400"/>
                </a:lnTo>
                <a:close/>
              </a:path>
              <a:path fill="darkenLess" w="67088" h="21600">
                <a:moveTo>
                  <a:pt x="6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5688" y="20200"/>
                </a:lnTo>
                <a:close/>
              </a:path>
              <a:path fill="lighten" w="6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7088" h="21600">
                <a:moveTo>
                  <a:pt x="26538" y="3794"/>
                </a:moveTo>
                <a:lnTo>
                  <a:pt x="40551" y="10800"/>
                </a:lnTo>
                <a:lnTo>
                  <a:pt x="26538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pic>
        <p:nvPicPr>
          <p:cNvPr id="991" name="WordArt 9" descr=""/>
          <p:cNvPicPr/>
          <p:nvPr/>
        </p:nvPicPr>
        <p:blipFill>
          <a:blip r:embed="rId3"/>
          <a:stretch/>
        </p:blipFill>
        <p:spPr>
          <a:xfrm>
            <a:off x="1182600" y="476280"/>
            <a:ext cx="6954840" cy="931680"/>
          </a:xfrm>
          <a:prstGeom prst="rect">
            <a:avLst/>
          </a:prstGeom>
          <a:ln w="0">
            <a:noFill/>
          </a:ln>
        </p:spPr>
      </p:pic>
      <p:sp>
        <p:nvSpPr>
          <p:cNvPr id="992" name="Місце для нижнього колонтитула 1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  <p:transition>
    <p:wedge/>
  </p:transition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9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9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3" dur="500"/>
                                        <p:tgtEl>
                                          <p:spTgt spid="9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9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9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0" dur="500"/>
                                        <p:tgtEl>
                                          <p:spTgt spid="9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/>
          </p:nvPr>
        </p:nvSpPr>
        <p:spPr>
          <a:xfrm>
            <a:off x="610920" y="2133720"/>
            <a:ext cx="7473960" cy="295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800"/>
                </a:solidFill>
                <a:latin typeface="Arial"/>
              </a:rPr>
              <a:t>XX </a:t>
            </a:r>
            <a:r>
              <a:rPr b="0" lang="ru-RU" sz="2000" spc="-1" strike="noStrike">
                <a:solidFill>
                  <a:srgbClr val="004800"/>
                </a:solidFill>
                <a:latin typeface="Arial"/>
              </a:rPr>
              <a:t>век – это время кардинальных социальных перемен, революций, открывших новую эру в жизни человечества. Это время и тяжелых испытаний – двух мировых войн. </a:t>
            </a:r>
            <a:r>
              <a:rPr b="0" lang="en-US" sz="2000" spc="-1" strike="noStrike">
                <a:solidFill>
                  <a:srgbClr val="004800"/>
                </a:solidFill>
                <a:latin typeface="Arial"/>
              </a:rPr>
              <a:t>XX </a:t>
            </a:r>
            <a:r>
              <a:rPr b="0" lang="ru-RU" sz="2000" spc="-1" strike="noStrike">
                <a:solidFill>
                  <a:srgbClr val="004800"/>
                </a:solidFill>
                <a:latin typeface="Arial"/>
              </a:rPr>
              <a:t>век – это и взлет культуры и искусства, в том числе и музыкального, пришедший к великим художественным достижениям, расцвету многих национальных школ, формированию советской музыкальной культур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AutoShape 4">
            <a:hlinkClick r:id="rId2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pic>
        <p:nvPicPr>
          <p:cNvPr id="809" name="Picture 5" descr="J0153516"/>
          <p:cNvPicPr/>
          <p:nvPr/>
        </p:nvPicPr>
        <p:blipFill>
          <a:blip r:embed="rId3">
            <a:alphaModFix amt="0"/>
          </a:blip>
          <a:stretch/>
        </p:blipFill>
        <p:spPr>
          <a:xfrm>
            <a:off x="3780000" y="4797360"/>
            <a:ext cx="1819080" cy="824040"/>
          </a:xfrm>
          <a:prstGeom prst="rect">
            <a:avLst/>
          </a:prstGeom>
          <a:ln w="0">
            <a:noFill/>
          </a:ln>
        </p:spPr>
      </p:pic>
      <p:pic>
        <p:nvPicPr>
          <p:cNvPr id="810" name="WordArt 6" descr=""/>
          <p:cNvPicPr/>
          <p:nvPr/>
        </p:nvPicPr>
        <p:blipFill>
          <a:blip r:embed="rId4"/>
          <a:stretch/>
        </p:blipFill>
        <p:spPr>
          <a:xfrm>
            <a:off x="3054240" y="549360"/>
            <a:ext cx="3144960" cy="1170000"/>
          </a:xfrm>
          <a:prstGeom prst="rect">
            <a:avLst/>
          </a:prstGeom>
          <a:ln w="0">
            <a:noFill/>
          </a:ln>
        </p:spPr>
      </p:pic>
      <p:sp>
        <p:nvSpPr>
          <p:cNvPr id="81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  <p:transition>
    <p:wedge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8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8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8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/>
          </p:nvPr>
        </p:nvSpPr>
        <p:spPr>
          <a:xfrm>
            <a:off x="468000" y="2060280"/>
            <a:ext cx="4895640" cy="43275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b1f2e"/>
                </a:solidFill>
                <a:latin typeface="Arial"/>
              </a:rPr>
              <a:t>Клод Дебюсси – один из величайших мастеров французской и мировой музыки в </a:t>
            </a:r>
            <a:r>
              <a:rPr b="0" lang="en-US" sz="2000" spc="-1" strike="noStrike">
                <a:solidFill>
                  <a:srgbClr val="7b1f2e"/>
                </a:solidFill>
                <a:latin typeface="Arial"/>
              </a:rPr>
              <a:t>XX </a:t>
            </a:r>
            <a:r>
              <a:rPr b="0" lang="ru-RU" sz="2000" spc="-1" strike="noStrike">
                <a:solidFill>
                  <a:srgbClr val="7b1f2e"/>
                </a:solidFill>
                <a:latin typeface="Arial"/>
              </a:rPr>
              <a:t>веке. Он выявил в музыке новые возможности для передачи предельно утонченных оттенков многообразной палитры настроений человека и воспринимаемой им окружающей природы, создал особую импрессионистическую сферу музыкального ритма. Значение музыки Дебюсси </a:t>
            </a:r>
            <a:r>
              <a:rPr b="0" lang="en-US" sz="2000" spc="-1" strike="noStrike">
                <a:solidFill>
                  <a:srgbClr val="7b1f2e"/>
                </a:solidFill>
                <a:latin typeface="Arial"/>
              </a:rPr>
              <a:t>XX </a:t>
            </a:r>
            <a:r>
              <a:rPr b="0" lang="ru-RU" sz="2000" spc="-1" strike="noStrike">
                <a:solidFill>
                  <a:srgbClr val="7b1f2e"/>
                </a:solidFill>
                <a:latin typeface="Arial"/>
              </a:rPr>
              <a:t>века часто сравнивают со значением музыки Шопена для музыкального искусства </a:t>
            </a:r>
            <a:r>
              <a:rPr b="0" lang="en-US" sz="2000" spc="-1" strike="noStrike">
                <a:solidFill>
                  <a:srgbClr val="7b1f2e"/>
                </a:solidFill>
                <a:latin typeface="Arial"/>
              </a:rPr>
              <a:t>XIX </a:t>
            </a:r>
            <a:r>
              <a:rPr b="0" lang="ru-RU" sz="2000" spc="-1" strike="noStrike">
                <a:solidFill>
                  <a:srgbClr val="7b1f2e"/>
                </a:solidFill>
                <a:latin typeface="Arial"/>
              </a:rPr>
              <a:t>века.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94" name="Picture 5" descr="Клод Дебюсси (Debussy)"/>
          <p:cNvPicPr/>
          <p:nvPr/>
        </p:nvPicPr>
        <p:blipFill>
          <a:blip r:embed="rId1"/>
          <a:stretch/>
        </p:blipFill>
        <p:spPr>
          <a:xfrm>
            <a:off x="6084720" y="2421000"/>
            <a:ext cx="2590920" cy="3394080"/>
          </a:xfrm>
          <a:prstGeom prst="rect">
            <a:avLst/>
          </a:prstGeom>
          <a:ln w="0">
            <a:noFill/>
          </a:ln>
        </p:spPr>
      </p:pic>
      <p:pic>
        <p:nvPicPr>
          <p:cNvPr id="995" name="WordArt 6" descr=""/>
          <p:cNvPicPr/>
          <p:nvPr/>
        </p:nvPicPr>
        <p:blipFill>
          <a:blip r:embed="rId2"/>
          <a:stretch/>
        </p:blipFill>
        <p:spPr>
          <a:xfrm>
            <a:off x="2914560" y="401760"/>
            <a:ext cx="3529080" cy="1304640"/>
          </a:xfrm>
          <a:prstGeom prst="rect">
            <a:avLst/>
          </a:prstGeom>
          <a:ln w="0">
            <a:noFill/>
          </a:ln>
        </p:spPr>
      </p:pic>
      <p:sp>
        <p:nvSpPr>
          <p:cNvPr id="996" name="Місце для нижнього колонтитула 1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/>
          </p:nvPr>
        </p:nvSpPr>
        <p:spPr>
          <a:xfrm>
            <a:off x="684000" y="836280"/>
            <a:ext cx="4537080" cy="54752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b1f2e"/>
                </a:solidFill>
                <a:latin typeface="Arial"/>
              </a:rPr>
              <a:t>Среди сочинений: оперы «Родриго и Химена», «Пеллеас и Мелизанда», балеты «Игры», Камма», симфонические циклы, фортепианные циклы и сюиты: «Детский уголок», 3 кантаты, песни и романсы, музыка к театральным спектаклям: Мученичество святого Себастьяна», 12 этюдов, 24 прелюдии, очень много ноктюрнов, камерно-инструментальные ансамбли и др. Клод Дебюсси оказал большое влияние на композиторов других стран мира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98" name="Picture 4" descr="Клод Дебюсси"/>
          <p:cNvPicPr/>
          <p:nvPr/>
        </p:nvPicPr>
        <p:blipFill>
          <a:blip r:embed="rId1"/>
          <a:stretch/>
        </p:blipFill>
        <p:spPr>
          <a:xfrm>
            <a:off x="6012000" y="1341360"/>
            <a:ext cx="2173320" cy="3797280"/>
          </a:xfrm>
          <a:prstGeom prst="rect">
            <a:avLst/>
          </a:prstGeom>
          <a:ln w="0">
            <a:noFill/>
          </a:ln>
        </p:spPr>
      </p:pic>
      <p:sp>
        <p:nvSpPr>
          <p:cNvPr id="999" name="AutoShape 5"/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sp>
        <p:nvSpPr>
          <p:cNvPr id="1000" name="Місце для нижнього колонтитула 1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/>
          </p:nvPr>
        </p:nvSpPr>
        <p:spPr>
          <a:xfrm>
            <a:off x="394920" y="1988640"/>
            <a:ext cx="4537080" cy="46911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66"/>
                </a:solidFill>
                <a:latin typeface="Arial"/>
              </a:rPr>
              <a:t>Морис Равель был французским композитором. В музыкальном стиле Равеля получили дальнейшее развитие также новые импрессионистические музыкальные средства, найденные Дебюсси, несмотря на все различие их почерков. Самая характерная и наиболее яркая черта творчества композитора – удивительное сочетание логики. Стройности, интеллекта – и сердечности, вдохновения – черта, близкая духу французского классицизма.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02" name="Picture 6" descr="21"/>
          <p:cNvPicPr/>
          <p:nvPr/>
        </p:nvPicPr>
        <p:blipFill>
          <a:blip r:embed="rId1"/>
          <a:stretch/>
        </p:blipFill>
        <p:spPr>
          <a:xfrm>
            <a:off x="5724360" y="2349360"/>
            <a:ext cx="2454480" cy="3629160"/>
          </a:xfrm>
          <a:prstGeom prst="rect">
            <a:avLst/>
          </a:prstGeom>
          <a:ln w="0">
            <a:noFill/>
          </a:ln>
        </p:spPr>
      </p:pic>
      <p:pic>
        <p:nvPicPr>
          <p:cNvPr id="1003" name="WordArt 7" descr=""/>
          <p:cNvPicPr/>
          <p:nvPr/>
        </p:nvPicPr>
        <p:blipFill>
          <a:blip r:embed="rId2"/>
          <a:stretch/>
        </p:blipFill>
        <p:spPr>
          <a:xfrm>
            <a:off x="2987640" y="401760"/>
            <a:ext cx="3400560" cy="1304640"/>
          </a:xfrm>
          <a:prstGeom prst="rect">
            <a:avLst/>
          </a:prstGeom>
          <a:ln w="0">
            <a:noFill/>
          </a:ln>
        </p:spPr>
      </p:pic>
      <p:sp>
        <p:nvSpPr>
          <p:cNvPr id="1004" name="Місце для нижнього колонтитула 1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/>
          </p:nvPr>
        </p:nvSpPr>
        <p:spPr>
          <a:xfrm>
            <a:off x="394920" y="475920"/>
            <a:ext cx="4249800" cy="59770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66"/>
                </a:solidFill>
                <a:latin typeface="Arial"/>
              </a:rPr>
              <a:t>Балет «Дафнис и Хлоя» - первое и самое значительное произведение новой балетной французской музыки. Всемирную известность получило «Болеро» Равеля – симфоническое произведение, созданное в духе популярного испанского танца. Автор опер «Испанский час», «Дитя и волшебство», фортепианных пьес – циклов «Отражение», «Ночной Гаспар», «Павана умерших инфанте», фантазии для скрипки, сочинений для оркестра «Испанская рапсодия», «Вальс» и других произведений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06" name="Picture 4" descr="t_ravel"/>
          <p:cNvPicPr/>
          <p:nvPr/>
        </p:nvPicPr>
        <p:blipFill>
          <a:blip r:embed="rId1"/>
          <a:stretch/>
        </p:blipFill>
        <p:spPr>
          <a:xfrm>
            <a:off x="4859280" y="1700280"/>
            <a:ext cx="3960720" cy="2838240"/>
          </a:xfrm>
          <a:prstGeom prst="rect">
            <a:avLst/>
          </a:prstGeom>
          <a:ln w="0">
            <a:noFill/>
          </a:ln>
        </p:spPr>
      </p:pic>
      <p:sp>
        <p:nvSpPr>
          <p:cNvPr id="1007" name="AutoShape 5"/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sp>
        <p:nvSpPr>
          <p:cNvPr id="1008" name="Місце для нижнього колонтитула 1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/>
          </p:nvPr>
        </p:nvSpPr>
        <p:spPr>
          <a:xfrm>
            <a:off x="611280" y="2420640"/>
            <a:ext cx="7772400" cy="145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писание направления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Музыкальные личности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1010" name="WordArt 7" descr=""/>
          <p:cNvPicPr/>
          <p:nvPr/>
        </p:nvPicPr>
        <p:blipFill>
          <a:blip r:embed="rId1"/>
          <a:stretch/>
        </p:blipFill>
        <p:spPr>
          <a:xfrm>
            <a:off x="3481560" y="835200"/>
            <a:ext cx="2035080" cy="1116000"/>
          </a:xfrm>
          <a:prstGeom prst="rect">
            <a:avLst/>
          </a:prstGeom>
          <a:ln w="0">
            <a:noFill/>
          </a:ln>
        </p:spPr>
      </p:pic>
      <p:pic>
        <p:nvPicPr>
          <p:cNvPr id="1011" name="Picture 9" descr="Безымянный"/>
          <p:cNvPicPr/>
          <p:nvPr/>
        </p:nvPicPr>
        <p:blipFill>
          <a:blip r:embed="rId2"/>
          <a:stretch/>
        </p:blipFill>
        <p:spPr>
          <a:xfrm>
            <a:off x="6372360" y="3429000"/>
            <a:ext cx="1903320" cy="2805120"/>
          </a:xfrm>
          <a:prstGeom prst="rect">
            <a:avLst/>
          </a:prstGeom>
          <a:ln w="0">
            <a:noFill/>
          </a:ln>
        </p:spPr>
      </p:pic>
      <p:sp>
        <p:nvSpPr>
          <p:cNvPr id="1012" name="AutoShape 10"/>
          <p:cNvSpPr/>
          <p:nvPr/>
        </p:nvSpPr>
        <p:spPr>
          <a:xfrm>
            <a:off x="1042920" y="2421000"/>
            <a:ext cx="4969080" cy="574560"/>
          </a:xfrm>
          <a:custGeom>
            <a:avLst/>
            <a:gdLst>
              <a:gd name="textAreaLeft" fmla="*/ 37080 w 4969080"/>
              <a:gd name="textAreaRight" fmla="*/ 4932000 w 4969080"/>
              <a:gd name="textAreaTop" fmla="*/ 37080 h 574560"/>
              <a:gd name="textAreaBottom" fmla="*/ 537480 h 574560"/>
            </a:gdLst>
            <a:ahLst/>
            <a:rect l="textAreaLeft" t="textAreaTop" r="textAreaRight" b="textAreaBottom"/>
            <a:pathLst>
              <a:path w="186704" h="21600">
                <a:moveTo>
                  <a:pt x="0" y="0"/>
                </a:moveTo>
                <a:lnTo>
                  <a:pt x="186704" y="0"/>
                </a:lnTo>
                <a:lnTo>
                  <a:pt x="186704" y="21600"/>
                </a:lnTo>
                <a:lnTo>
                  <a:pt x="0" y="21600"/>
                </a:lnTo>
                <a:close/>
              </a:path>
              <a:path fill="lightenLess" w="186704" h="21600">
                <a:moveTo>
                  <a:pt x="0" y="0"/>
                </a:moveTo>
                <a:lnTo>
                  <a:pt x="186704" y="0"/>
                </a:lnTo>
                <a:lnTo>
                  <a:pt x="185304" y="1400"/>
                </a:lnTo>
                <a:lnTo>
                  <a:pt x="1400" y="1400"/>
                </a:lnTo>
                <a:close/>
              </a:path>
              <a:path fill="darken" w="186704" h="21600">
                <a:moveTo>
                  <a:pt x="186704" y="0"/>
                </a:moveTo>
                <a:lnTo>
                  <a:pt x="186704" y="21600"/>
                </a:lnTo>
                <a:lnTo>
                  <a:pt x="185304" y="20200"/>
                </a:lnTo>
                <a:lnTo>
                  <a:pt x="185304" y="1400"/>
                </a:lnTo>
                <a:close/>
              </a:path>
              <a:path fill="darkenLess" w="186704" h="21600">
                <a:moveTo>
                  <a:pt x="1867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85304" y="20200"/>
                </a:lnTo>
                <a:close/>
              </a:path>
              <a:path fill="lighten" w="1867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86704" h="21600">
                <a:moveTo>
                  <a:pt x="86346" y="3794"/>
                </a:moveTo>
                <a:lnTo>
                  <a:pt x="100359" y="10800"/>
                </a:lnTo>
                <a:lnTo>
                  <a:pt x="86346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sp>
        <p:nvSpPr>
          <p:cNvPr id="1013" name="AutoShape 11"/>
          <p:cNvSpPr/>
          <p:nvPr/>
        </p:nvSpPr>
        <p:spPr>
          <a:xfrm>
            <a:off x="900000" y="3068640"/>
            <a:ext cx="5112000" cy="504720"/>
          </a:xfrm>
          <a:custGeom>
            <a:avLst/>
            <a:gdLst>
              <a:gd name="textAreaLeft" fmla="*/ 32400 w 5112000"/>
              <a:gd name="textAreaRight" fmla="*/ 5079600 w 5112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8633" h="21600">
                <a:moveTo>
                  <a:pt x="0" y="0"/>
                </a:moveTo>
                <a:lnTo>
                  <a:pt x="218633" y="0"/>
                </a:lnTo>
                <a:lnTo>
                  <a:pt x="218633" y="21600"/>
                </a:lnTo>
                <a:lnTo>
                  <a:pt x="0" y="21600"/>
                </a:lnTo>
                <a:close/>
              </a:path>
              <a:path fill="lightenLess" w="218633" h="21600">
                <a:moveTo>
                  <a:pt x="0" y="0"/>
                </a:moveTo>
                <a:lnTo>
                  <a:pt x="218633" y="0"/>
                </a:lnTo>
                <a:lnTo>
                  <a:pt x="217233" y="1400"/>
                </a:lnTo>
                <a:lnTo>
                  <a:pt x="1400" y="1400"/>
                </a:lnTo>
                <a:close/>
              </a:path>
              <a:path fill="darken" w="218633" h="21600">
                <a:moveTo>
                  <a:pt x="218633" y="0"/>
                </a:moveTo>
                <a:lnTo>
                  <a:pt x="218633" y="21600"/>
                </a:lnTo>
                <a:lnTo>
                  <a:pt x="217233" y="20200"/>
                </a:lnTo>
                <a:lnTo>
                  <a:pt x="217233" y="1400"/>
                </a:lnTo>
                <a:close/>
              </a:path>
              <a:path fill="darkenLess" w="218633" h="21600">
                <a:moveTo>
                  <a:pt x="2186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7233" y="20200"/>
                </a:lnTo>
                <a:close/>
              </a:path>
              <a:path fill="lighten" w="2186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8633" h="21600">
                <a:moveTo>
                  <a:pt x="102310" y="3794"/>
                </a:moveTo>
                <a:lnTo>
                  <a:pt x="116323" y="10800"/>
                </a:lnTo>
                <a:lnTo>
                  <a:pt x="102310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sp>
        <p:nvSpPr>
          <p:cNvPr id="1014" name="Місце для нижнього колонтитула 1"/>
          <p:cNvSpPr/>
          <p:nvPr/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808080"/>
                </a:solidFill>
                <a:latin typeface="Tahoma"/>
              </a:rPr>
              <a:t>www.sliderpoint.org</a:t>
            </a:r>
            <a:endParaRPr b="1" lang="en-US" sz="1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/>
          </p:nvPr>
        </p:nvSpPr>
        <p:spPr>
          <a:xfrm>
            <a:off x="755280" y="1628640"/>
            <a:ext cx="504036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музыкальной культуре Западной Европы и США – это течение, очень пестрое по идейно-художественному уровню и эстетическим принципам. Оно представлено как произведениями, выражающими протест против социальной несправедливости, милитаризма, войны, так и сочинениями, проповедующими анархизм, аморальность, насилие. </a:t>
            </a:r>
            <a:r>
              <a:rPr b="0" lang="ru-RU" sz="2000" spc="-1" strike="noStrike">
                <a:solidFill>
                  <a:srgbClr val="f8f8f8"/>
                </a:solidFill>
                <a:latin typeface="Arial"/>
              </a:rPr>
              <a:t>К концу шестого десятилетия рок превратился в мощную политическую и культурную силу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1016" name="Picture 8" descr="Nirvana "/>
          <p:cNvPicPr/>
          <p:nvPr/>
        </p:nvPicPr>
        <p:blipFill>
          <a:blip r:embed="rId1"/>
          <a:stretch/>
        </p:blipFill>
        <p:spPr>
          <a:xfrm>
            <a:off x="6084720" y="2060640"/>
            <a:ext cx="2306880" cy="3601800"/>
          </a:xfrm>
          <a:prstGeom prst="rect">
            <a:avLst/>
          </a:prstGeom>
          <a:ln w="0">
            <a:noFill/>
          </a:ln>
        </p:spPr>
      </p:pic>
      <p:pic>
        <p:nvPicPr>
          <p:cNvPr id="1017" name="WordArt 9" descr=""/>
          <p:cNvPicPr/>
          <p:nvPr/>
        </p:nvPicPr>
        <p:blipFill>
          <a:blip r:embed="rId2"/>
          <a:stretch/>
        </p:blipFill>
        <p:spPr>
          <a:xfrm>
            <a:off x="1755720" y="609480"/>
            <a:ext cx="5730840" cy="706680"/>
          </a:xfrm>
          <a:prstGeom prst="rect">
            <a:avLst/>
          </a:prstGeom>
          <a:ln w="0">
            <a:noFill/>
          </a:ln>
        </p:spPr>
      </p:pic>
      <p:sp>
        <p:nvSpPr>
          <p:cNvPr id="1018" name="AutoShape 11"/>
          <p:cNvSpPr/>
          <p:nvPr/>
        </p:nvSpPr>
        <p:spPr>
          <a:xfrm>
            <a:off x="7740720" y="5589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sp>
        <p:nvSpPr>
          <p:cNvPr id="1019" name="Місце для нижнього колонтитула 1"/>
          <p:cNvSpPr/>
          <p:nvPr/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808080"/>
                </a:solidFill>
                <a:latin typeface="Tahoma"/>
              </a:rPr>
              <a:t>www.sliderpoint.org</a:t>
            </a:r>
            <a:endParaRPr b="1" lang="en-US" sz="1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/>
          </p:nvPr>
        </p:nvSpPr>
        <p:spPr>
          <a:xfrm>
            <a:off x="610920" y="2420640"/>
            <a:ext cx="367164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The Beatles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Sex Pistols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Deep Purple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1021" name="WordArt 7" descr=""/>
          <p:cNvPicPr/>
          <p:nvPr/>
        </p:nvPicPr>
        <p:blipFill>
          <a:blip r:embed="rId1"/>
          <a:stretch/>
        </p:blipFill>
        <p:spPr>
          <a:xfrm>
            <a:off x="1689120" y="689040"/>
            <a:ext cx="6192720" cy="98100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9" descr="Beatles 2"/>
          <p:cNvPicPr/>
          <p:nvPr/>
        </p:nvPicPr>
        <p:blipFill>
          <a:blip r:embed="rId2"/>
          <a:stretch/>
        </p:blipFill>
        <p:spPr>
          <a:xfrm>
            <a:off x="4140360" y="2276640"/>
            <a:ext cx="3670200" cy="3301920"/>
          </a:xfrm>
          <a:prstGeom prst="rect">
            <a:avLst/>
          </a:prstGeom>
          <a:ln w="0">
            <a:noFill/>
          </a:ln>
        </p:spPr>
      </p:pic>
      <p:sp>
        <p:nvSpPr>
          <p:cNvPr id="1023" name="AutoShape 10"/>
          <p:cNvSpPr/>
          <p:nvPr/>
        </p:nvSpPr>
        <p:spPr>
          <a:xfrm>
            <a:off x="1258920" y="2276640"/>
            <a:ext cx="2160720" cy="649080"/>
          </a:xfrm>
          <a:custGeom>
            <a:avLst/>
            <a:gdLst>
              <a:gd name="textAreaLeft" fmla="*/ 41760 w 2160720"/>
              <a:gd name="textAreaRight" fmla="*/ 2118960 w 2160720"/>
              <a:gd name="textAreaTop" fmla="*/ 41760 h 649080"/>
              <a:gd name="textAreaBottom" fmla="*/ 607320 h 649080"/>
            </a:gdLst>
            <a:ahLst/>
            <a:rect l="textAreaLeft" t="textAreaTop" r="textAreaRight" b="textAreaBottom"/>
            <a:pathLst>
              <a:path w="71876" h="21600">
                <a:moveTo>
                  <a:pt x="0" y="0"/>
                </a:moveTo>
                <a:lnTo>
                  <a:pt x="71876" y="0"/>
                </a:lnTo>
                <a:lnTo>
                  <a:pt x="71876" y="21600"/>
                </a:lnTo>
                <a:lnTo>
                  <a:pt x="0" y="21600"/>
                </a:lnTo>
                <a:close/>
              </a:path>
              <a:path fill="lightenLess" w="71876" h="21600">
                <a:moveTo>
                  <a:pt x="0" y="0"/>
                </a:moveTo>
                <a:lnTo>
                  <a:pt x="71876" y="0"/>
                </a:lnTo>
                <a:lnTo>
                  <a:pt x="70476" y="1400"/>
                </a:lnTo>
                <a:lnTo>
                  <a:pt x="1400" y="1400"/>
                </a:lnTo>
                <a:close/>
              </a:path>
              <a:path fill="darken" w="71876" h="21600">
                <a:moveTo>
                  <a:pt x="71876" y="0"/>
                </a:moveTo>
                <a:lnTo>
                  <a:pt x="71876" y="21600"/>
                </a:lnTo>
                <a:lnTo>
                  <a:pt x="70476" y="20200"/>
                </a:lnTo>
                <a:lnTo>
                  <a:pt x="70476" y="1400"/>
                </a:lnTo>
                <a:close/>
              </a:path>
              <a:path fill="darkenLess" w="71876" h="21600">
                <a:moveTo>
                  <a:pt x="71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0476" y="20200"/>
                </a:lnTo>
                <a:close/>
              </a:path>
              <a:path fill="lighten" w="71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1876" h="21600">
                <a:moveTo>
                  <a:pt x="28932" y="3794"/>
                </a:moveTo>
                <a:lnTo>
                  <a:pt x="42945" y="10800"/>
                </a:lnTo>
                <a:lnTo>
                  <a:pt x="28932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sp>
        <p:nvSpPr>
          <p:cNvPr id="1024" name="AutoShape 11"/>
          <p:cNvSpPr/>
          <p:nvPr/>
        </p:nvSpPr>
        <p:spPr>
          <a:xfrm>
            <a:off x="1258920" y="3284640"/>
            <a:ext cx="2160720" cy="720720"/>
          </a:xfrm>
          <a:custGeom>
            <a:avLst/>
            <a:gdLst>
              <a:gd name="textAreaLeft" fmla="*/ 46440 w 2160720"/>
              <a:gd name="textAreaRight" fmla="*/ 2114280 w 216072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64735" h="21600">
                <a:moveTo>
                  <a:pt x="0" y="0"/>
                </a:moveTo>
                <a:lnTo>
                  <a:pt x="64735" y="0"/>
                </a:lnTo>
                <a:lnTo>
                  <a:pt x="64735" y="21600"/>
                </a:lnTo>
                <a:lnTo>
                  <a:pt x="0" y="21600"/>
                </a:lnTo>
                <a:close/>
              </a:path>
              <a:path fill="lightenLess" w="64735" h="21600">
                <a:moveTo>
                  <a:pt x="0" y="0"/>
                </a:moveTo>
                <a:lnTo>
                  <a:pt x="64735" y="0"/>
                </a:lnTo>
                <a:lnTo>
                  <a:pt x="63335" y="1400"/>
                </a:lnTo>
                <a:lnTo>
                  <a:pt x="1400" y="1400"/>
                </a:lnTo>
                <a:close/>
              </a:path>
              <a:path fill="darken" w="64735" h="21600">
                <a:moveTo>
                  <a:pt x="64735" y="0"/>
                </a:moveTo>
                <a:lnTo>
                  <a:pt x="64735" y="21600"/>
                </a:lnTo>
                <a:lnTo>
                  <a:pt x="63335" y="20200"/>
                </a:lnTo>
                <a:lnTo>
                  <a:pt x="63335" y="1400"/>
                </a:lnTo>
                <a:close/>
              </a:path>
              <a:path fill="darkenLess" w="64735" h="21600">
                <a:moveTo>
                  <a:pt x="647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35" y="20200"/>
                </a:lnTo>
                <a:close/>
              </a:path>
              <a:path fill="lighten" w="647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35" h="21600">
                <a:moveTo>
                  <a:pt x="25361" y="3794"/>
                </a:moveTo>
                <a:lnTo>
                  <a:pt x="39374" y="10800"/>
                </a:lnTo>
                <a:lnTo>
                  <a:pt x="25361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sp>
        <p:nvSpPr>
          <p:cNvPr id="1025" name="AutoShape 12"/>
          <p:cNvSpPr/>
          <p:nvPr/>
        </p:nvSpPr>
        <p:spPr>
          <a:xfrm>
            <a:off x="1258920" y="4437000"/>
            <a:ext cx="2233440" cy="504720"/>
          </a:xfrm>
          <a:custGeom>
            <a:avLst/>
            <a:gdLst>
              <a:gd name="textAreaLeft" fmla="*/ 32400 w 2233440"/>
              <a:gd name="textAreaRight" fmla="*/ 2201040 w 223344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95530" h="21600">
                <a:moveTo>
                  <a:pt x="0" y="0"/>
                </a:moveTo>
                <a:lnTo>
                  <a:pt x="95530" y="0"/>
                </a:lnTo>
                <a:lnTo>
                  <a:pt x="95530" y="21600"/>
                </a:lnTo>
                <a:lnTo>
                  <a:pt x="0" y="21600"/>
                </a:lnTo>
                <a:close/>
              </a:path>
              <a:path fill="lightenLess" w="95530" h="21600">
                <a:moveTo>
                  <a:pt x="0" y="0"/>
                </a:moveTo>
                <a:lnTo>
                  <a:pt x="95530" y="0"/>
                </a:lnTo>
                <a:lnTo>
                  <a:pt x="94130" y="1400"/>
                </a:lnTo>
                <a:lnTo>
                  <a:pt x="1400" y="1400"/>
                </a:lnTo>
                <a:close/>
              </a:path>
              <a:path fill="darken" w="95530" h="21600">
                <a:moveTo>
                  <a:pt x="95530" y="0"/>
                </a:moveTo>
                <a:lnTo>
                  <a:pt x="95530" y="21600"/>
                </a:lnTo>
                <a:lnTo>
                  <a:pt x="94130" y="20200"/>
                </a:lnTo>
                <a:lnTo>
                  <a:pt x="94130" y="1400"/>
                </a:lnTo>
                <a:close/>
              </a:path>
              <a:path fill="darkenLess" w="95530" h="21600">
                <a:moveTo>
                  <a:pt x="955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4130" y="20200"/>
                </a:lnTo>
                <a:close/>
              </a:path>
              <a:path fill="lighten" w="955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95530" h="21600">
                <a:moveTo>
                  <a:pt x="40758" y="3794"/>
                </a:moveTo>
                <a:lnTo>
                  <a:pt x="54771" y="10800"/>
                </a:lnTo>
                <a:lnTo>
                  <a:pt x="40758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sp>
        <p:nvSpPr>
          <p:cNvPr id="1026" name="Місце для нижнього колонтитула 1"/>
          <p:cNvSpPr/>
          <p:nvPr/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808080"/>
                </a:solidFill>
                <a:latin typeface="Tahoma"/>
              </a:rPr>
              <a:t>www.sliderpoint.org</a:t>
            </a:r>
            <a:endParaRPr b="1" lang="en-US" sz="1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  <p:transition>
    <p:wedge/>
  </p:transition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0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0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9" dur="500"/>
                                        <p:tgtEl>
                                          <p:spTgt spid="10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0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0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4" dur="500"/>
                                        <p:tgtEl>
                                          <p:spTgt spid="10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0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10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9" dur="500"/>
                                        <p:tgtEl>
                                          <p:spTgt spid="10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/>
          </p:nvPr>
        </p:nvSpPr>
        <p:spPr>
          <a:xfrm>
            <a:off x="539280" y="1628640"/>
            <a:ext cx="381636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8f8f8"/>
                </a:solidFill>
                <a:latin typeface="Arial"/>
              </a:rPr>
              <a:t>Наверное, группа «</a:t>
            </a: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The Beatles</a:t>
            </a:r>
            <a:r>
              <a:rPr b="0" lang="ru-RU" sz="2000" spc="-1" strike="noStrike">
                <a:solidFill>
                  <a:srgbClr val="f8f8f8"/>
                </a:solidFill>
                <a:latin typeface="Arial"/>
              </a:rPr>
              <a:t>» самая известная из всех на нашей планете. Сначала она играла в стиле скиффл, а затем в рок</a:t>
            </a: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ru-RU" sz="2000" spc="-1" strike="noStrike">
                <a:solidFill>
                  <a:srgbClr val="f8f8f8"/>
                </a:solidFill>
                <a:latin typeface="Arial"/>
              </a:rPr>
              <a:t>н-ролл. Название</a:t>
            </a: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 «The Beatles» </a:t>
            </a:r>
            <a:r>
              <a:rPr b="0" lang="ru-RU" sz="2000" spc="-1" strike="noStrike">
                <a:solidFill>
                  <a:srgbClr val="f8f8f8"/>
                </a:solidFill>
                <a:latin typeface="Arial"/>
              </a:rPr>
              <a:t>они приобрели намного позднее</a:t>
            </a: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. </a:t>
            </a:r>
            <a:r>
              <a:rPr b="0" lang="ru-RU" sz="2000" spc="-1" strike="noStrike">
                <a:solidFill>
                  <a:srgbClr val="f8f8f8"/>
                </a:solidFill>
                <a:latin typeface="Arial"/>
              </a:rPr>
              <a:t>Состав знаменитой группы менялся не очень часто. Первое серьёзное выступление </a:t>
            </a: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- в </a:t>
            </a:r>
            <a:r>
              <a:rPr b="0" lang="ru-RU" sz="2000" spc="-1" strike="noStrike">
                <a:solidFill>
                  <a:srgbClr val="f8f8f8"/>
                </a:solidFill>
                <a:latin typeface="Arial"/>
              </a:rPr>
              <a:t>апреле </a:t>
            </a: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1960</a:t>
            </a:r>
            <a:r>
              <a:rPr b="0" lang="ru-RU" sz="2000" spc="-1" strike="noStrike">
                <a:solidFill>
                  <a:srgbClr val="f8f8f8"/>
                </a:solidFill>
                <a:latin typeface="Arial"/>
              </a:rPr>
              <a:t> года в Шотландии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1028" name="WordArt 6" descr=""/>
          <p:cNvPicPr/>
          <p:nvPr/>
        </p:nvPicPr>
        <p:blipFill>
          <a:blip r:embed="rId1"/>
          <a:stretch/>
        </p:blipFill>
        <p:spPr>
          <a:xfrm>
            <a:off x="3121200" y="609480"/>
            <a:ext cx="3047760" cy="67644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7" descr="81"/>
          <p:cNvPicPr/>
          <p:nvPr/>
        </p:nvPicPr>
        <p:blipFill>
          <a:blip r:embed="rId2"/>
          <a:stretch/>
        </p:blipFill>
        <p:spPr>
          <a:xfrm>
            <a:off x="4788000" y="1989000"/>
            <a:ext cx="3817800" cy="3262320"/>
          </a:xfrm>
          <a:prstGeom prst="rect">
            <a:avLst/>
          </a:prstGeom>
          <a:ln w="0">
            <a:noFill/>
          </a:ln>
        </p:spPr>
      </p:pic>
      <p:sp>
        <p:nvSpPr>
          <p:cNvPr id="1030" name="Місце для нижнього колонтитула 1"/>
          <p:cNvSpPr/>
          <p:nvPr/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808080"/>
                </a:solidFill>
                <a:latin typeface="Tahoma"/>
              </a:rPr>
              <a:t>www.sliderpoint.org</a:t>
            </a:r>
            <a:endParaRPr b="1" lang="en-US" sz="1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/>
          </p:nvPr>
        </p:nvSpPr>
        <p:spPr>
          <a:xfrm>
            <a:off x="539280" y="907920"/>
            <a:ext cx="374508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8f8f8"/>
                </a:solidFill>
                <a:latin typeface="Arial"/>
              </a:rPr>
              <a:t>“ </a:t>
            </a: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Love me do</a:t>
            </a:r>
            <a:r>
              <a:rPr b="0" lang="ru-RU" sz="2000" spc="-1" strike="noStrike">
                <a:solidFill>
                  <a:srgbClr val="f8f8f8"/>
                </a:solidFill>
                <a:latin typeface="Arial"/>
              </a:rPr>
              <a:t>” была первой настоящей пластинкой “ Биттлз”. Их покорение мира началось со Швеции. Последнее выступление стало “The Beatles” состоялось 29 августа 1966 года. В середине 1967 года они закончили работу над пластинкой “ Сержант Пеппер”, следующей и последней их работой была пластинка “Let it be”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8f8f8"/>
                </a:solidFill>
                <a:latin typeface="Arial"/>
              </a:rPr>
              <a:t>В 1970 году группа распалась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1032" name="Picture 4" descr="Рисунок1"/>
          <p:cNvPicPr/>
          <p:nvPr/>
        </p:nvPicPr>
        <p:blipFill>
          <a:blip r:embed="rId1"/>
          <a:stretch/>
        </p:blipFill>
        <p:spPr>
          <a:xfrm>
            <a:off x="4500720" y="1413000"/>
            <a:ext cx="3752640" cy="3638520"/>
          </a:xfrm>
          <a:prstGeom prst="rect">
            <a:avLst/>
          </a:prstGeom>
          <a:ln w="0">
            <a:noFill/>
          </a:ln>
        </p:spPr>
      </p:pic>
      <p:sp>
        <p:nvSpPr>
          <p:cNvPr id="1033" name="AutoShape 5"/>
          <p:cNvSpPr/>
          <p:nvPr/>
        </p:nvSpPr>
        <p:spPr>
          <a:xfrm>
            <a:off x="7740720" y="5589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sp>
        <p:nvSpPr>
          <p:cNvPr id="1034" name="Місце для нижнього колонтитула 1"/>
          <p:cNvSpPr/>
          <p:nvPr/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808080"/>
                </a:solidFill>
                <a:latin typeface="Tahoma"/>
              </a:rPr>
              <a:t>www.sliderpoint.org</a:t>
            </a:r>
            <a:endParaRPr b="1" lang="en-US" sz="1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/>
          </p:nvPr>
        </p:nvSpPr>
        <p:spPr>
          <a:xfrm>
            <a:off x="684360" y="1483920"/>
            <a:ext cx="7920000" cy="23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рвое выступление этой группы состоялось в ноябре 1975-го в одном из колледжей Лондона. После британского тура, группа участвовала на панк -фестивале 1976 года, В мае "Sex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istols" подписались к "Virgin" и наконец-то выпустили «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d Save The Queen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». К концу года отношения в группе разладились. В 1996-м Роттен, Джонс, Кук и Матлок возродили «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x Pistols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»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1036" name="WordArt 4" descr=""/>
          <p:cNvPicPr/>
          <p:nvPr/>
        </p:nvPicPr>
        <p:blipFill>
          <a:blip r:embed="rId1"/>
          <a:stretch/>
        </p:blipFill>
        <p:spPr>
          <a:xfrm>
            <a:off x="3340080" y="426960"/>
            <a:ext cx="2895480" cy="768600"/>
          </a:xfrm>
          <a:prstGeom prst="rect">
            <a:avLst/>
          </a:prstGeom>
          <a:ln w="0">
            <a:noFill/>
          </a:ln>
        </p:spPr>
      </p:pic>
      <p:pic>
        <p:nvPicPr>
          <p:cNvPr id="1037" name="Picture 8" descr="sex-pistols-050523"/>
          <p:cNvPicPr/>
          <p:nvPr/>
        </p:nvPicPr>
        <p:blipFill>
          <a:blip r:embed="rId2"/>
          <a:stretch/>
        </p:blipFill>
        <p:spPr>
          <a:xfrm>
            <a:off x="2411280" y="3860640"/>
            <a:ext cx="4394160" cy="2592720"/>
          </a:xfrm>
          <a:prstGeom prst="rect">
            <a:avLst/>
          </a:prstGeom>
          <a:ln w="0">
            <a:noFill/>
          </a:ln>
        </p:spPr>
      </p:pic>
      <p:sp>
        <p:nvSpPr>
          <p:cNvPr id="1038" name="AutoShape 10"/>
          <p:cNvSpPr/>
          <p:nvPr/>
        </p:nvSpPr>
        <p:spPr>
          <a:xfrm>
            <a:off x="8101080" y="544500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" w="21600" h="21607">
                <a:moveTo>
                  <a:pt x="10800" y="3841"/>
                </a:moveTo>
                <a:lnTo>
                  <a:pt x="13376" y="6452"/>
                </a:lnTo>
                <a:lnTo>
                  <a:pt x="13376" y="4711"/>
                </a:lnTo>
                <a:lnTo>
                  <a:pt x="15152" y="4711"/>
                </a:lnTo>
                <a:lnTo>
                  <a:pt x="15152" y="8227"/>
                </a:lnTo>
                <a:lnTo>
                  <a:pt x="17763" y="10804"/>
                </a:lnTo>
                <a:lnTo>
                  <a:pt x="16109" y="10804"/>
                </a:lnTo>
                <a:lnTo>
                  <a:pt x="16109" y="17993"/>
                </a:lnTo>
                <a:lnTo>
                  <a:pt x="5491" y="17993"/>
                </a:lnTo>
                <a:lnTo>
                  <a:pt x="5491" y="10804"/>
                </a:lnTo>
                <a:lnTo>
                  <a:pt x="3837" y="10804"/>
                </a:lnTo>
                <a:close/>
              </a:path>
              <a:path fill="darkenLess" w="21600" h="21607">
                <a:moveTo>
                  <a:pt x="13376" y="6452"/>
                </a:moveTo>
                <a:lnTo>
                  <a:pt x="13376" y="4711"/>
                </a:lnTo>
                <a:lnTo>
                  <a:pt x="15152" y="4711"/>
                </a:lnTo>
                <a:lnTo>
                  <a:pt x="15152" y="8227"/>
                </a:lnTo>
                <a:close/>
              </a:path>
              <a:path fill="darkenLess" w="21600" h="21607">
                <a:moveTo>
                  <a:pt x="9877" y="14303"/>
                </a:moveTo>
                <a:lnTo>
                  <a:pt x="11723" y="14303"/>
                </a:lnTo>
                <a:lnTo>
                  <a:pt x="11723" y="17993"/>
                </a:lnTo>
                <a:lnTo>
                  <a:pt x="16109" y="17993"/>
                </a:lnTo>
                <a:lnTo>
                  <a:pt x="16109" y="10804"/>
                </a:lnTo>
                <a:lnTo>
                  <a:pt x="5491" y="10804"/>
                </a:lnTo>
                <a:lnTo>
                  <a:pt x="5491" y="17993"/>
                </a:lnTo>
                <a:lnTo>
                  <a:pt x="9877" y="1799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sp>
        <p:nvSpPr>
          <p:cNvPr id="1039" name="Місце для нижнього колонтитула 1"/>
          <p:cNvSpPr/>
          <p:nvPr/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808080"/>
                </a:solidFill>
                <a:latin typeface="Tahoma"/>
              </a:rPr>
              <a:t>www.sliderpoint.org</a:t>
            </a:r>
            <a:endParaRPr b="1" lang="en-US" sz="1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/>
          </p:nvPr>
        </p:nvSpPr>
        <p:spPr>
          <a:xfrm>
            <a:off x="468360" y="2133360"/>
            <a:ext cx="3959280" cy="41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5ffff"/>
              </a:buClr>
              <a:buSzPct val="6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5ffff"/>
                </a:solidFill>
                <a:latin typeface="Tahoma"/>
              </a:rPr>
              <a:t>Романтиз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5ffff"/>
              </a:buClr>
              <a:buSzPct val="6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5ffff"/>
                </a:solidFill>
                <a:latin typeface="Tahoma"/>
              </a:rPr>
              <a:t>Экспрессиониз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5ffff"/>
              </a:buClr>
              <a:buSzPct val="6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5ffff"/>
                </a:solidFill>
                <a:latin typeface="Tahoma"/>
              </a:rPr>
              <a:t>Джаз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5ffff"/>
              </a:buClr>
              <a:buSzPct val="6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5ffff"/>
                </a:solidFill>
                <a:latin typeface="Tahoma"/>
              </a:rPr>
              <a:t>Авангардиз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5ffff"/>
              </a:buClr>
              <a:buSzPct val="6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5ffff"/>
                </a:solidFill>
                <a:latin typeface="Tahoma"/>
              </a:rPr>
              <a:t>Импрессиониз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5ffff"/>
              </a:buClr>
              <a:buSzPct val="6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5ffff"/>
                </a:solidFill>
                <a:latin typeface="Tahoma"/>
              </a:rPr>
              <a:t>Рок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13" name="Picture 7" descr="119"/>
          <p:cNvPicPr/>
          <p:nvPr/>
        </p:nvPicPr>
        <p:blipFill>
          <a:blip r:embed="rId1"/>
          <a:stretch/>
        </p:blipFill>
        <p:spPr>
          <a:xfrm>
            <a:off x="4648320" y="2585880"/>
            <a:ext cx="4038480" cy="2903760"/>
          </a:xfrm>
          <a:prstGeom prst="rect">
            <a:avLst/>
          </a:prstGeom>
          <a:ln w="0">
            <a:noFill/>
          </a:ln>
        </p:spPr>
      </p:pic>
      <p:sp>
        <p:nvSpPr>
          <p:cNvPr id="814" name="AutoShape 11">
            <a:hlinkClick r:id="rId2"/>
          </p:cNvPr>
          <p:cNvSpPr/>
          <p:nvPr/>
        </p:nvSpPr>
        <p:spPr>
          <a:xfrm>
            <a:off x="826920" y="2133720"/>
            <a:ext cx="2089440" cy="649080"/>
          </a:xfrm>
          <a:custGeom>
            <a:avLst/>
            <a:gdLst>
              <a:gd name="textAreaLeft" fmla="*/ 41760 w 2089440"/>
              <a:gd name="textAreaRight" fmla="*/ 2047680 w 2089440"/>
              <a:gd name="textAreaTop" fmla="*/ 41760 h 649080"/>
              <a:gd name="textAreaBottom" fmla="*/ 607320 h 649080"/>
            </a:gdLst>
            <a:ahLst/>
            <a:rect l="textAreaLeft" t="textAreaTop" r="textAreaRight" b="textAreaBottom"/>
            <a:pathLst>
              <a:path w="69506" h="21600">
                <a:moveTo>
                  <a:pt x="0" y="0"/>
                </a:moveTo>
                <a:lnTo>
                  <a:pt x="69506" y="0"/>
                </a:lnTo>
                <a:lnTo>
                  <a:pt x="69506" y="21600"/>
                </a:lnTo>
                <a:lnTo>
                  <a:pt x="0" y="21600"/>
                </a:lnTo>
                <a:close/>
              </a:path>
              <a:path fill="lightenLess" w="69506" h="21600">
                <a:moveTo>
                  <a:pt x="0" y="0"/>
                </a:moveTo>
                <a:lnTo>
                  <a:pt x="69506" y="0"/>
                </a:lnTo>
                <a:lnTo>
                  <a:pt x="68106" y="1400"/>
                </a:lnTo>
                <a:lnTo>
                  <a:pt x="1400" y="1400"/>
                </a:lnTo>
                <a:close/>
              </a:path>
              <a:path fill="darken" w="69506" h="21600">
                <a:moveTo>
                  <a:pt x="69506" y="0"/>
                </a:moveTo>
                <a:lnTo>
                  <a:pt x="69506" y="21600"/>
                </a:lnTo>
                <a:lnTo>
                  <a:pt x="68106" y="20200"/>
                </a:lnTo>
                <a:lnTo>
                  <a:pt x="68106" y="1400"/>
                </a:lnTo>
                <a:close/>
              </a:path>
              <a:path fill="darkenLess" w="69506" h="21600">
                <a:moveTo>
                  <a:pt x="69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106" y="20200"/>
                </a:lnTo>
                <a:close/>
              </a:path>
              <a:path fill="lighten" w="69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9506" h="21600">
                <a:moveTo>
                  <a:pt x="27746" y="3794"/>
                </a:moveTo>
                <a:lnTo>
                  <a:pt x="41759" y="10800"/>
                </a:lnTo>
                <a:lnTo>
                  <a:pt x="27746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sp>
        <p:nvSpPr>
          <p:cNvPr id="815" name="AutoShape 12">
            <a:hlinkClick r:id="rId3"/>
          </p:cNvPr>
          <p:cNvSpPr/>
          <p:nvPr/>
        </p:nvSpPr>
        <p:spPr>
          <a:xfrm>
            <a:off x="826920" y="3357720"/>
            <a:ext cx="1332000" cy="502920"/>
          </a:xfrm>
          <a:custGeom>
            <a:avLst/>
            <a:gdLst>
              <a:gd name="textAreaLeft" fmla="*/ 32400 w 1332000"/>
              <a:gd name="textAreaRight" fmla="*/ 1299600 w 1332000"/>
              <a:gd name="textAreaTop" fmla="*/ 32400 h 502920"/>
              <a:gd name="textAreaBottom" fmla="*/ 470520 h 502920"/>
            </a:gdLst>
            <a:ahLst/>
            <a:rect l="textAreaLeft" t="textAreaTop" r="textAreaRight" b="textAreaBottom"/>
            <a:pathLst>
              <a:path w="57183" h="21600">
                <a:moveTo>
                  <a:pt x="0" y="0"/>
                </a:moveTo>
                <a:lnTo>
                  <a:pt x="57183" y="0"/>
                </a:lnTo>
                <a:lnTo>
                  <a:pt x="57183" y="21600"/>
                </a:lnTo>
                <a:lnTo>
                  <a:pt x="0" y="21600"/>
                </a:lnTo>
                <a:close/>
              </a:path>
              <a:path fill="lightenLess" w="57183" h="21600">
                <a:moveTo>
                  <a:pt x="0" y="0"/>
                </a:moveTo>
                <a:lnTo>
                  <a:pt x="57183" y="0"/>
                </a:lnTo>
                <a:lnTo>
                  <a:pt x="55783" y="1400"/>
                </a:lnTo>
                <a:lnTo>
                  <a:pt x="1400" y="1400"/>
                </a:lnTo>
                <a:close/>
              </a:path>
              <a:path fill="darken" w="57183" h="21600">
                <a:moveTo>
                  <a:pt x="57183" y="0"/>
                </a:moveTo>
                <a:lnTo>
                  <a:pt x="57183" y="21600"/>
                </a:lnTo>
                <a:lnTo>
                  <a:pt x="55783" y="20200"/>
                </a:lnTo>
                <a:lnTo>
                  <a:pt x="55783" y="1400"/>
                </a:lnTo>
                <a:close/>
              </a:path>
              <a:path fill="darkenLess" w="57183" h="21600">
                <a:moveTo>
                  <a:pt x="571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783" y="20200"/>
                </a:lnTo>
                <a:close/>
              </a:path>
              <a:path fill="lighten" w="571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183" h="21600">
                <a:moveTo>
                  <a:pt x="21585" y="3794"/>
                </a:moveTo>
                <a:lnTo>
                  <a:pt x="35598" y="10800"/>
                </a:lnTo>
                <a:lnTo>
                  <a:pt x="21585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sp>
        <p:nvSpPr>
          <p:cNvPr id="816" name="AutoShape 13">
            <a:hlinkClick r:id="rId4"/>
          </p:cNvPr>
          <p:cNvSpPr/>
          <p:nvPr/>
        </p:nvSpPr>
        <p:spPr>
          <a:xfrm>
            <a:off x="900000" y="3933720"/>
            <a:ext cx="2519640" cy="505080"/>
          </a:xfrm>
          <a:custGeom>
            <a:avLst/>
            <a:gdLst>
              <a:gd name="textAreaLeft" fmla="*/ 32400 w 2519640"/>
              <a:gd name="textAreaRight" fmla="*/ 2486880 w 2519640"/>
              <a:gd name="textAreaTop" fmla="*/ 32760 h 505080"/>
              <a:gd name="textAreaBottom" fmla="*/ 472680 h 505080"/>
            </a:gdLst>
            <a:ahLst/>
            <a:rect l="textAreaLeft" t="textAreaTop" r="textAreaRight" b="textAreaBottom"/>
            <a:pathLst>
              <a:path w="107692" h="21600">
                <a:moveTo>
                  <a:pt x="0" y="0"/>
                </a:moveTo>
                <a:lnTo>
                  <a:pt x="107692" y="0"/>
                </a:lnTo>
                <a:lnTo>
                  <a:pt x="107692" y="21600"/>
                </a:lnTo>
                <a:lnTo>
                  <a:pt x="0" y="21600"/>
                </a:lnTo>
                <a:close/>
              </a:path>
              <a:path fill="lightenLess" w="107692" h="21600">
                <a:moveTo>
                  <a:pt x="0" y="0"/>
                </a:moveTo>
                <a:lnTo>
                  <a:pt x="107692" y="0"/>
                </a:lnTo>
                <a:lnTo>
                  <a:pt x="106292" y="1400"/>
                </a:lnTo>
                <a:lnTo>
                  <a:pt x="1400" y="1400"/>
                </a:lnTo>
                <a:close/>
              </a:path>
              <a:path fill="darken" w="107692" h="21600">
                <a:moveTo>
                  <a:pt x="107692" y="0"/>
                </a:moveTo>
                <a:lnTo>
                  <a:pt x="107692" y="21600"/>
                </a:lnTo>
                <a:lnTo>
                  <a:pt x="106292" y="20200"/>
                </a:lnTo>
                <a:lnTo>
                  <a:pt x="106292" y="1400"/>
                </a:lnTo>
                <a:close/>
              </a:path>
              <a:path fill="darkenLess" w="107692" h="21600">
                <a:moveTo>
                  <a:pt x="1076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292" y="20200"/>
                </a:lnTo>
                <a:close/>
              </a:path>
              <a:path fill="lighten" w="1076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07692" h="21600">
                <a:moveTo>
                  <a:pt x="46840" y="3794"/>
                </a:moveTo>
                <a:lnTo>
                  <a:pt x="60853" y="10800"/>
                </a:lnTo>
                <a:lnTo>
                  <a:pt x="46840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sp>
        <p:nvSpPr>
          <p:cNvPr id="817" name="AutoShape 14">
            <a:hlinkClick r:id="rId5"/>
          </p:cNvPr>
          <p:cNvSpPr/>
          <p:nvPr/>
        </p:nvSpPr>
        <p:spPr>
          <a:xfrm>
            <a:off x="755640" y="4508640"/>
            <a:ext cx="3024360" cy="576000"/>
          </a:xfrm>
          <a:custGeom>
            <a:avLst/>
            <a:gdLst>
              <a:gd name="textAreaLeft" fmla="*/ 37080 w 3024360"/>
              <a:gd name="textAreaRight" fmla="*/ 2987280 w 302436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113356" h="21600">
                <a:moveTo>
                  <a:pt x="0" y="0"/>
                </a:moveTo>
                <a:lnTo>
                  <a:pt x="113356" y="0"/>
                </a:lnTo>
                <a:lnTo>
                  <a:pt x="113356" y="21600"/>
                </a:lnTo>
                <a:lnTo>
                  <a:pt x="0" y="21600"/>
                </a:lnTo>
                <a:close/>
              </a:path>
              <a:path fill="lightenLess" w="113356" h="21600">
                <a:moveTo>
                  <a:pt x="0" y="0"/>
                </a:moveTo>
                <a:lnTo>
                  <a:pt x="113356" y="0"/>
                </a:lnTo>
                <a:lnTo>
                  <a:pt x="111956" y="1400"/>
                </a:lnTo>
                <a:lnTo>
                  <a:pt x="1400" y="1400"/>
                </a:lnTo>
                <a:close/>
              </a:path>
              <a:path fill="darken" w="113356" h="21600">
                <a:moveTo>
                  <a:pt x="113356" y="0"/>
                </a:moveTo>
                <a:lnTo>
                  <a:pt x="113356" y="21600"/>
                </a:lnTo>
                <a:lnTo>
                  <a:pt x="111956" y="20200"/>
                </a:lnTo>
                <a:lnTo>
                  <a:pt x="111956" y="1400"/>
                </a:lnTo>
                <a:close/>
              </a:path>
              <a:path fill="darkenLess" w="113356" h="21600">
                <a:moveTo>
                  <a:pt x="1133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1956" y="20200"/>
                </a:lnTo>
                <a:close/>
              </a:path>
              <a:path fill="lighten" w="1133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13356" h="21600">
                <a:moveTo>
                  <a:pt x="49672" y="3794"/>
                </a:moveTo>
                <a:lnTo>
                  <a:pt x="63685" y="10800"/>
                </a:lnTo>
                <a:lnTo>
                  <a:pt x="49672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sp>
        <p:nvSpPr>
          <p:cNvPr id="818" name="AutoShape 15">
            <a:hlinkClick r:id="rId6"/>
          </p:cNvPr>
          <p:cNvSpPr/>
          <p:nvPr/>
        </p:nvSpPr>
        <p:spPr>
          <a:xfrm>
            <a:off x="826920" y="2781360"/>
            <a:ext cx="3097440" cy="503280"/>
          </a:xfrm>
          <a:custGeom>
            <a:avLst/>
            <a:gdLst>
              <a:gd name="textAreaLeft" fmla="*/ 32400 w 3097440"/>
              <a:gd name="textAreaRight" fmla="*/ 3065040 w 309744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132858" h="21600">
                <a:moveTo>
                  <a:pt x="0" y="0"/>
                </a:moveTo>
                <a:lnTo>
                  <a:pt x="132858" y="0"/>
                </a:lnTo>
                <a:lnTo>
                  <a:pt x="132858" y="21600"/>
                </a:lnTo>
                <a:lnTo>
                  <a:pt x="0" y="21600"/>
                </a:lnTo>
                <a:close/>
              </a:path>
              <a:path fill="lightenLess" w="132858" h="21600">
                <a:moveTo>
                  <a:pt x="0" y="0"/>
                </a:moveTo>
                <a:lnTo>
                  <a:pt x="132858" y="0"/>
                </a:lnTo>
                <a:lnTo>
                  <a:pt x="131458" y="1400"/>
                </a:lnTo>
                <a:lnTo>
                  <a:pt x="1400" y="1400"/>
                </a:lnTo>
                <a:close/>
              </a:path>
              <a:path fill="darken" w="132858" h="21600">
                <a:moveTo>
                  <a:pt x="132858" y="0"/>
                </a:moveTo>
                <a:lnTo>
                  <a:pt x="132858" y="21600"/>
                </a:lnTo>
                <a:lnTo>
                  <a:pt x="131458" y="20200"/>
                </a:lnTo>
                <a:lnTo>
                  <a:pt x="131458" y="1400"/>
                </a:lnTo>
                <a:close/>
              </a:path>
              <a:path fill="darkenLess" w="132858" h="21600">
                <a:moveTo>
                  <a:pt x="1328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1458" y="20200"/>
                </a:lnTo>
                <a:close/>
              </a:path>
              <a:path fill="lighten" w="1328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32858" h="21600">
                <a:moveTo>
                  <a:pt x="59422" y="3794"/>
                </a:moveTo>
                <a:lnTo>
                  <a:pt x="73435" y="10800"/>
                </a:lnTo>
                <a:lnTo>
                  <a:pt x="59422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pic>
        <p:nvPicPr>
          <p:cNvPr id="819" name="WordArt 17" descr=""/>
          <p:cNvPicPr/>
          <p:nvPr/>
        </p:nvPicPr>
        <p:blipFill>
          <a:blip r:embed="rId7"/>
          <a:stretch/>
        </p:blipFill>
        <p:spPr>
          <a:xfrm>
            <a:off x="1822320" y="603360"/>
            <a:ext cx="6486480" cy="658800"/>
          </a:xfrm>
          <a:prstGeom prst="rect">
            <a:avLst/>
          </a:prstGeom>
          <a:ln w="0">
            <a:noFill/>
          </a:ln>
        </p:spPr>
      </p:pic>
      <p:pic>
        <p:nvPicPr>
          <p:cNvPr id="820" name="WordArt 18" descr=""/>
          <p:cNvPicPr/>
          <p:nvPr/>
        </p:nvPicPr>
        <p:blipFill>
          <a:blip r:embed="rId8"/>
          <a:stretch/>
        </p:blipFill>
        <p:spPr>
          <a:xfrm>
            <a:off x="2468520" y="1328760"/>
            <a:ext cx="4633920" cy="658800"/>
          </a:xfrm>
          <a:prstGeom prst="rect">
            <a:avLst/>
          </a:prstGeom>
          <a:ln w="0">
            <a:noFill/>
          </a:ln>
        </p:spPr>
      </p:pic>
      <p:sp>
        <p:nvSpPr>
          <p:cNvPr id="821" name="AutoShape 19">
            <a:hlinkClick r:id="rId9"/>
          </p:cNvPr>
          <p:cNvSpPr/>
          <p:nvPr/>
        </p:nvSpPr>
        <p:spPr>
          <a:xfrm>
            <a:off x="611280" y="5084640"/>
            <a:ext cx="3168720" cy="574920"/>
          </a:xfrm>
          <a:custGeom>
            <a:avLst/>
            <a:gdLst>
              <a:gd name="textAreaLeft" fmla="*/ 37080 w 3168720"/>
              <a:gd name="textAreaRight" fmla="*/ 3131640 w 3168720"/>
              <a:gd name="textAreaTop" fmla="*/ 37080 h 574920"/>
              <a:gd name="textAreaBottom" fmla="*/ 537840 h 574920"/>
            </a:gdLst>
            <a:ahLst/>
            <a:rect l="textAreaLeft" t="textAreaTop" r="textAreaRight" b="textAreaBottom"/>
            <a:pathLst>
              <a:path w="118989" h="21600">
                <a:moveTo>
                  <a:pt x="0" y="0"/>
                </a:moveTo>
                <a:lnTo>
                  <a:pt x="118989" y="0"/>
                </a:lnTo>
                <a:lnTo>
                  <a:pt x="118989" y="21600"/>
                </a:lnTo>
                <a:lnTo>
                  <a:pt x="0" y="21600"/>
                </a:lnTo>
                <a:close/>
              </a:path>
              <a:path fill="lightenLess" w="118989" h="21600">
                <a:moveTo>
                  <a:pt x="0" y="0"/>
                </a:moveTo>
                <a:lnTo>
                  <a:pt x="118989" y="0"/>
                </a:lnTo>
                <a:lnTo>
                  <a:pt x="117589" y="1400"/>
                </a:lnTo>
                <a:lnTo>
                  <a:pt x="1400" y="1400"/>
                </a:lnTo>
                <a:close/>
              </a:path>
              <a:path fill="darken" w="118989" h="21600">
                <a:moveTo>
                  <a:pt x="118989" y="0"/>
                </a:moveTo>
                <a:lnTo>
                  <a:pt x="118989" y="21600"/>
                </a:lnTo>
                <a:lnTo>
                  <a:pt x="117589" y="20200"/>
                </a:lnTo>
                <a:lnTo>
                  <a:pt x="117589" y="1400"/>
                </a:lnTo>
                <a:close/>
              </a:path>
              <a:path fill="darkenLess" w="118989" h="21600">
                <a:moveTo>
                  <a:pt x="118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7589" y="20200"/>
                </a:lnTo>
                <a:close/>
              </a:path>
              <a:path fill="lighten" w="118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18989" h="21600">
                <a:moveTo>
                  <a:pt x="52488" y="3794"/>
                </a:moveTo>
                <a:lnTo>
                  <a:pt x="66501" y="10800"/>
                </a:lnTo>
                <a:lnTo>
                  <a:pt x="52488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sp>
        <p:nvSpPr>
          <p:cNvPr id="82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  <p:transition>
    <p:wedge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8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8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8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8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8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8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8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8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8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8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8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8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8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8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8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8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8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8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/>
          </p:nvPr>
        </p:nvSpPr>
        <p:spPr>
          <a:xfrm>
            <a:off x="539280" y="1988640"/>
            <a:ext cx="3024360" cy="468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4800"/>
                </a:solidFill>
                <a:latin typeface="Arial"/>
              </a:rPr>
              <a:t>«</a:t>
            </a:r>
            <a:r>
              <a:rPr b="0" lang="en-US" sz="2000" spc="-1" strike="noStrike">
                <a:solidFill>
                  <a:srgbClr val="004800"/>
                </a:solidFill>
                <a:latin typeface="Arial"/>
              </a:rPr>
              <a:t>Deep Purple</a:t>
            </a:r>
            <a:r>
              <a:rPr b="0" lang="ru-RU" sz="2000" spc="-1" strike="noStrike">
                <a:solidFill>
                  <a:srgbClr val="004800"/>
                </a:solidFill>
                <a:latin typeface="Arial"/>
              </a:rPr>
              <a:t>»</a:t>
            </a:r>
            <a:r>
              <a:rPr b="0" lang="en-US" sz="2000" spc="-1" strike="noStrike">
                <a:solidFill>
                  <a:srgbClr val="0048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4800"/>
                </a:solidFill>
                <a:latin typeface="Arial"/>
              </a:rPr>
              <a:t>была создана в апреле 1968 года. Их состав менялся почти 10 раз, но первый состав группы был поначалу таким: Ричи Блэкмор - гитара, Род Эванс - вокал, Джон Лорд - клавишные и бэк-вокал, Иэн Пейс - ударные, Ник Симпер - бас-гитара и бэк-вокал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1041" name="WordArt 4" descr="Зеленый мрамор"/>
          <p:cNvPicPr/>
          <p:nvPr/>
        </p:nvPicPr>
        <p:blipFill>
          <a:blip r:embed="rId1"/>
          <a:stretch/>
        </p:blipFill>
        <p:spPr>
          <a:xfrm>
            <a:off x="2468520" y="676440"/>
            <a:ext cx="4292640" cy="877680"/>
          </a:xfrm>
          <a:prstGeom prst="rect">
            <a:avLst/>
          </a:prstGeom>
          <a:ln w="0">
            <a:noFill/>
          </a:ln>
        </p:spPr>
      </p:pic>
      <p:pic>
        <p:nvPicPr>
          <p:cNvPr id="1042" name="Picture 5" descr="dp"/>
          <p:cNvPicPr/>
          <p:nvPr/>
        </p:nvPicPr>
        <p:blipFill>
          <a:blip r:embed="rId2"/>
          <a:stretch/>
        </p:blipFill>
        <p:spPr>
          <a:xfrm>
            <a:off x="3924360" y="2133720"/>
            <a:ext cx="4692600" cy="3519360"/>
          </a:xfrm>
          <a:prstGeom prst="rect">
            <a:avLst/>
          </a:prstGeom>
          <a:ln w="0">
            <a:noFill/>
          </a:ln>
        </p:spPr>
      </p:pic>
      <p:sp>
        <p:nvSpPr>
          <p:cNvPr id="1043" name="Місце для нижнього колонтитула 1"/>
          <p:cNvSpPr/>
          <p:nvPr/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339933"/>
                </a:solidFill>
                <a:latin typeface="Tahoma"/>
              </a:rPr>
              <a:t>www.sliderpoint.org</a:t>
            </a:r>
            <a:endParaRPr b="1" lang="en-US" sz="1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/>
          </p:nvPr>
        </p:nvSpPr>
        <p:spPr>
          <a:xfrm>
            <a:off x="755640" y="1267920"/>
            <a:ext cx="403056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4800"/>
                </a:solidFill>
                <a:latin typeface="Arial"/>
              </a:rPr>
              <a:t>Первым альбомом группы стал </a:t>
            </a:r>
            <a:r>
              <a:rPr b="0" lang="en-US" sz="2000" spc="-1" strike="noStrike">
                <a:solidFill>
                  <a:srgbClr val="004800"/>
                </a:solidFill>
                <a:latin typeface="Arial"/>
              </a:rPr>
              <a:t>“Shades of Deep Purple”</a:t>
            </a:r>
            <a:r>
              <a:rPr b="0" lang="ru-RU" sz="2000" spc="-1" strike="noStrike">
                <a:solidFill>
                  <a:srgbClr val="004800"/>
                </a:solidFill>
                <a:latin typeface="Arial"/>
              </a:rPr>
              <a:t>, выглядя экспериментальным и шероховатым. Но последующие альбомы стали лучше, что привело их к известности после двух лет в Европе. Они сделали попытку соединить рок и классику, что вызвало противоречия, но обеспечило группе столь большое внимание. В 1971 году у группы начинаются серьезные выступления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1045" name="Picture 5" descr="composer607"/>
          <p:cNvPicPr/>
          <p:nvPr/>
        </p:nvPicPr>
        <p:blipFill>
          <a:blip r:embed="rId1"/>
          <a:stretch/>
        </p:blipFill>
        <p:spPr>
          <a:xfrm>
            <a:off x="5364000" y="1700280"/>
            <a:ext cx="2667240" cy="3284640"/>
          </a:xfrm>
          <a:prstGeom prst="rect">
            <a:avLst/>
          </a:prstGeom>
          <a:ln w="0">
            <a:noFill/>
          </a:ln>
        </p:spPr>
      </p:pic>
      <p:sp>
        <p:nvSpPr>
          <p:cNvPr id="1046" name="Місце для нижнього колонтитула 1"/>
          <p:cNvSpPr/>
          <p:nvPr/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339933"/>
                </a:solidFill>
                <a:latin typeface="Tahoma"/>
              </a:rPr>
              <a:t>www.sliderpoint.org</a:t>
            </a:r>
            <a:endParaRPr b="1" lang="en-US" sz="1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100000">
              <a:srgbClr val="fee7f2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/>
          </p:nvPr>
        </p:nvSpPr>
        <p:spPr>
          <a:xfrm>
            <a:off x="250920" y="1915920"/>
            <a:ext cx="73864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33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990033"/>
                </a:solidFill>
                <a:latin typeface="Arial"/>
              </a:rPr>
              <a:t>Описание направл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0033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990033"/>
                </a:solidFill>
                <a:latin typeface="Arial"/>
              </a:rPr>
              <a:t>Музыкальные лич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4" name="Picture 7" descr="J0309705"/>
          <p:cNvPicPr/>
          <p:nvPr/>
        </p:nvPicPr>
        <p:blipFill>
          <a:blip r:embed="rId1"/>
          <a:stretch/>
        </p:blipFill>
        <p:spPr>
          <a:xfrm>
            <a:off x="1692360" y="3573360"/>
            <a:ext cx="5832360" cy="2808360"/>
          </a:xfrm>
          <a:prstGeom prst="rect">
            <a:avLst/>
          </a:prstGeom>
          <a:ln w="0">
            <a:noFill/>
          </a:ln>
        </p:spPr>
      </p:pic>
      <p:sp>
        <p:nvSpPr>
          <p:cNvPr id="825" name="AutoShape 8">
            <a:hlinkClick r:id="rId2"/>
          </p:cNvPr>
          <p:cNvSpPr/>
          <p:nvPr/>
        </p:nvSpPr>
        <p:spPr>
          <a:xfrm>
            <a:off x="611280" y="1916280"/>
            <a:ext cx="4968720" cy="576000"/>
          </a:xfrm>
          <a:custGeom>
            <a:avLst/>
            <a:gdLst>
              <a:gd name="textAreaLeft" fmla="*/ 37080 w 4968720"/>
              <a:gd name="textAreaRight" fmla="*/ 4931640 w 496872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186224" h="21600">
                <a:moveTo>
                  <a:pt x="0" y="0"/>
                </a:moveTo>
                <a:lnTo>
                  <a:pt x="186224" y="0"/>
                </a:lnTo>
                <a:lnTo>
                  <a:pt x="186224" y="21600"/>
                </a:lnTo>
                <a:lnTo>
                  <a:pt x="0" y="21600"/>
                </a:lnTo>
                <a:close/>
              </a:path>
              <a:path fill="lightenLess" w="186224" h="21600">
                <a:moveTo>
                  <a:pt x="0" y="0"/>
                </a:moveTo>
                <a:lnTo>
                  <a:pt x="186224" y="0"/>
                </a:lnTo>
                <a:lnTo>
                  <a:pt x="184824" y="1400"/>
                </a:lnTo>
                <a:lnTo>
                  <a:pt x="1400" y="1400"/>
                </a:lnTo>
                <a:close/>
              </a:path>
              <a:path fill="darken" w="186224" h="21600">
                <a:moveTo>
                  <a:pt x="186224" y="0"/>
                </a:moveTo>
                <a:lnTo>
                  <a:pt x="186224" y="21600"/>
                </a:lnTo>
                <a:lnTo>
                  <a:pt x="184824" y="20200"/>
                </a:lnTo>
                <a:lnTo>
                  <a:pt x="184824" y="1400"/>
                </a:lnTo>
                <a:close/>
              </a:path>
              <a:path fill="darkenLess" w="186224" h="21600">
                <a:moveTo>
                  <a:pt x="1862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84824" y="20200"/>
                </a:lnTo>
                <a:close/>
              </a:path>
              <a:path fill="lighten" w="1862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86224" h="21600">
                <a:moveTo>
                  <a:pt x="86106" y="3794"/>
                </a:moveTo>
                <a:lnTo>
                  <a:pt x="100119" y="10800"/>
                </a:lnTo>
                <a:lnTo>
                  <a:pt x="86106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sp>
        <p:nvSpPr>
          <p:cNvPr id="826" name="AutoShape 9">
            <a:hlinkClick r:id="rId3"/>
          </p:cNvPr>
          <p:cNvSpPr/>
          <p:nvPr/>
        </p:nvSpPr>
        <p:spPr>
          <a:xfrm>
            <a:off x="684360" y="2565360"/>
            <a:ext cx="5040000" cy="504720"/>
          </a:xfrm>
          <a:custGeom>
            <a:avLst/>
            <a:gdLst>
              <a:gd name="textAreaLeft" fmla="*/ 32400 w 5040000"/>
              <a:gd name="textAreaRight" fmla="*/ 5007600 w 5040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5554" h="21600">
                <a:moveTo>
                  <a:pt x="0" y="0"/>
                </a:moveTo>
                <a:lnTo>
                  <a:pt x="215554" y="0"/>
                </a:lnTo>
                <a:lnTo>
                  <a:pt x="215554" y="21600"/>
                </a:lnTo>
                <a:lnTo>
                  <a:pt x="0" y="21600"/>
                </a:lnTo>
                <a:close/>
              </a:path>
              <a:path fill="lightenLess" w="215554" h="21600">
                <a:moveTo>
                  <a:pt x="0" y="0"/>
                </a:moveTo>
                <a:lnTo>
                  <a:pt x="215554" y="0"/>
                </a:lnTo>
                <a:lnTo>
                  <a:pt x="214154" y="1400"/>
                </a:lnTo>
                <a:lnTo>
                  <a:pt x="1400" y="1400"/>
                </a:lnTo>
                <a:close/>
              </a:path>
              <a:path fill="darken" w="215554" h="21600">
                <a:moveTo>
                  <a:pt x="215554" y="0"/>
                </a:moveTo>
                <a:lnTo>
                  <a:pt x="215554" y="21600"/>
                </a:lnTo>
                <a:lnTo>
                  <a:pt x="214154" y="20200"/>
                </a:lnTo>
                <a:lnTo>
                  <a:pt x="214154" y="1400"/>
                </a:lnTo>
                <a:close/>
              </a:path>
              <a:path fill="darkenLess" w="215554" h="21600">
                <a:moveTo>
                  <a:pt x="2155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4154" y="20200"/>
                </a:lnTo>
                <a:close/>
              </a:path>
              <a:path fill="lighten" w="2155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5554" h="21600">
                <a:moveTo>
                  <a:pt x="100770" y="3794"/>
                </a:moveTo>
                <a:lnTo>
                  <a:pt x="114783" y="10800"/>
                </a:lnTo>
                <a:lnTo>
                  <a:pt x="100770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pic>
        <p:nvPicPr>
          <p:cNvPr id="827" name="WordArt 11" descr=""/>
          <p:cNvPicPr/>
          <p:nvPr/>
        </p:nvPicPr>
        <p:blipFill>
          <a:blip r:embed="rId4"/>
          <a:stretch/>
        </p:blipFill>
        <p:spPr>
          <a:xfrm>
            <a:off x="2914560" y="476280"/>
            <a:ext cx="3784680" cy="1176480"/>
          </a:xfrm>
          <a:prstGeom prst="rect">
            <a:avLst/>
          </a:prstGeom>
          <a:ln w="0">
            <a:noFill/>
          </a:ln>
        </p:spPr>
      </p:pic>
      <p:sp>
        <p:nvSpPr>
          <p:cNvPr id="82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  <p:transition>
    <p:wedge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8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8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8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8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8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8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66"/>
            </a:gs>
            <a:gs pos="50000">
              <a:srgbClr val="bbe0e3"/>
            </a:gs>
            <a:gs pos="100000">
              <a:srgbClr val="339966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/>
          </p:nvPr>
        </p:nvSpPr>
        <p:spPr>
          <a:xfrm>
            <a:off x="3851280" y="1773360"/>
            <a:ext cx="4308480" cy="478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X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еке продолжал развиваться и романтизм. Его наиболее сильная сторона – сопротивление антигуманистическим тенденциям буржуазного общества, утверждения духовной силы и красоты человеческой личности, призыв к духовному обновлению – трансформировалась, стали преобладать субъективистское начало, пассивность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0" name="Picture 4" descr="Бриттен"/>
          <p:cNvPicPr/>
          <p:nvPr/>
        </p:nvPicPr>
        <p:blipFill>
          <a:blip r:embed="rId1"/>
          <a:stretch/>
        </p:blipFill>
        <p:spPr>
          <a:xfrm>
            <a:off x="755640" y="1916280"/>
            <a:ext cx="2451240" cy="3301920"/>
          </a:xfrm>
          <a:prstGeom prst="rect">
            <a:avLst/>
          </a:prstGeom>
          <a:ln w="0">
            <a:noFill/>
          </a:ln>
        </p:spPr>
      </p:pic>
      <p:sp>
        <p:nvSpPr>
          <p:cNvPr id="831" name="Rectangle 5"/>
          <p:cNvSpPr/>
          <p:nvPr/>
        </p:nvSpPr>
        <p:spPr>
          <a:xfrm>
            <a:off x="760320" y="5373000"/>
            <a:ext cx="248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cc"/>
                </a:solidFill>
                <a:latin typeface="Arial"/>
              </a:rPr>
              <a:t>Бенджамин Бриттен</a:t>
            </a:r>
            <a:endParaRPr b="1" lang="en-US" sz="18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pic>
        <p:nvPicPr>
          <p:cNvPr id="832" name="WordArt 6" descr=""/>
          <p:cNvPicPr/>
          <p:nvPr/>
        </p:nvPicPr>
        <p:blipFill>
          <a:blip r:embed="rId2"/>
          <a:stretch/>
        </p:blipFill>
        <p:spPr>
          <a:xfrm>
            <a:off x="1542960" y="615960"/>
            <a:ext cx="6229440" cy="663480"/>
          </a:xfrm>
          <a:prstGeom prst="rect">
            <a:avLst/>
          </a:prstGeom>
          <a:ln w="0">
            <a:noFill/>
          </a:ln>
        </p:spPr>
      </p:pic>
      <p:sp>
        <p:nvSpPr>
          <p:cNvPr id="83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0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66"/>
            </a:gs>
            <a:gs pos="50000">
              <a:srgbClr val="bbe0e3"/>
            </a:gs>
            <a:gs pos="100000">
              <a:srgbClr val="33996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/>
          </p:nvPr>
        </p:nvSpPr>
        <p:spPr>
          <a:xfrm>
            <a:off x="394920" y="981000"/>
            <a:ext cx="432108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омантические тенденции во многом помогали противостоять модернистическим тенденциям, стремящимся деформировать содержание искусства. В отдельные периоды творчества Б. Бартока, Б. Бриттена и других западных композиторов, а также С. Прокофьева и Д. Шостаковича способствовали обогащению образных решений ярким, романтизированных выражение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5" name="Picture 6" descr="Сергей Прокофьев"/>
          <p:cNvPicPr/>
          <p:nvPr/>
        </p:nvPicPr>
        <p:blipFill>
          <a:blip r:embed="rId1"/>
          <a:stretch/>
        </p:blipFill>
        <p:spPr>
          <a:xfrm>
            <a:off x="5292720" y="1484280"/>
            <a:ext cx="2814480" cy="3237120"/>
          </a:xfrm>
          <a:prstGeom prst="rect">
            <a:avLst/>
          </a:prstGeom>
          <a:ln w="0">
            <a:noFill/>
          </a:ln>
        </p:spPr>
      </p:pic>
      <p:sp>
        <p:nvSpPr>
          <p:cNvPr id="836" name="Rectangle 7"/>
          <p:cNvSpPr/>
          <p:nvPr/>
        </p:nvSpPr>
        <p:spPr>
          <a:xfrm>
            <a:off x="5512680" y="4868280"/>
            <a:ext cx="234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cc"/>
                </a:solidFill>
                <a:latin typeface="Arial"/>
              </a:rPr>
              <a:t>Сергей Прокофьев</a:t>
            </a:r>
            <a:endParaRPr b="1" lang="en-US" sz="18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sp>
        <p:nvSpPr>
          <p:cNvPr id="837" name="AutoShape 8">
            <a:hlinkClick r:id="rId2"/>
          </p:cNvPr>
          <p:cNvSpPr/>
          <p:nvPr/>
        </p:nvSpPr>
        <p:spPr>
          <a:xfrm>
            <a:off x="7885080" y="5815080"/>
            <a:ext cx="1258920" cy="1042920"/>
          </a:xfrm>
          <a:custGeom>
            <a:avLst/>
            <a:gdLst>
              <a:gd name="textAreaLeft" fmla="*/ 67320 w 1258920"/>
              <a:gd name="textAreaRight" fmla="*/ 1191600 w 1258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6072" h="21600">
                <a:moveTo>
                  <a:pt x="0" y="0"/>
                </a:moveTo>
                <a:lnTo>
                  <a:pt x="26072" y="0"/>
                </a:lnTo>
                <a:lnTo>
                  <a:pt x="26072" y="21600"/>
                </a:lnTo>
                <a:lnTo>
                  <a:pt x="0" y="21600"/>
                </a:lnTo>
                <a:close/>
              </a:path>
              <a:path fill="lightenLess" w="26072" h="21600">
                <a:moveTo>
                  <a:pt x="0" y="0"/>
                </a:moveTo>
                <a:lnTo>
                  <a:pt x="26072" y="0"/>
                </a:lnTo>
                <a:lnTo>
                  <a:pt x="24672" y="1400"/>
                </a:lnTo>
                <a:lnTo>
                  <a:pt x="1400" y="1400"/>
                </a:lnTo>
                <a:close/>
              </a:path>
              <a:path fill="darken" w="26072" h="21600">
                <a:moveTo>
                  <a:pt x="26072" y="0"/>
                </a:moveTo>
                <a:lnTo>
                  <a:pt x="26072" y="21600"/>
                </a:lnTo>
                <a:lnTo>
                  <a:pt x="24672" y="20200"/>
                </a:lnTo>
                <a:lnTo>
                  <a:pt x="24672" y="1400"/>
                </a:lnTo>
                <a:close/>
              </a:path>
              <a:path fill="darkenLess" w="26072" h="21600">
                <a:moveTo>
                  <a:pt x="260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72" y="20200"/>
                </a:lnTo>
                <a:close/>
              </a:path>
              <a:path fill="lighten" w="260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072" h="21600">
                <a:moveTo>
                  <a:pt x="13036" y="3837"/>
                </a:moveTo>
                <a:lnTo>
                  <a:pt x="15612" y="6448"/>
                </a:lnTo>
                <a:lnTo>
                  <a:pt x="15612" y="4707"/>
                </a:lnTo>
                <a:lnTo>
                  <a:pt x="17388" y="4707"/>
                </a:lnTo>
                <a:lnTo>
                  <a:pt x="17388" y="8224"/>
                </a:lnTo>
                <a:lnTo>
                  <a:pt x="19999" y="10800"/>
                </a:lnTo>
                <a:lnTo>
                  <a:pt x="18345" y="10800"/>
                </a:lnTo>
                <a:lnTo>
                  <a:pt x="18345" y="17989"/>
                </a:lnTo>
                <a:lnTo>
                  <a:pt x="7727" y="17989"/>
                </a:lnTo>
                <a:lnTo>
                  <a:pt x="7727" y="10800"/>
                </a:lnTo>
                <a:lnTo>
                  <a:pt x="6073" y="10800"/>
                </a:lnTo>
                <a:close/>
              </a:path>
              <a:path fill="darkenLess" w="26072" h="21600">
                <a:moveTo>
                  <a:pt x="15612" y="6448"/>
                </a:moveTo>
                <a:lnTo>
                  <a:pt x="15612" y="4707"/>
                </a:lnTo>
                <a:lnTo>
                  <a:pt x="17388" y="4707"/>
                </a:lnTo>
                <a:lnTo>
                  <a:pt x="17388" y="8224"/>
                </a:lnTo>
                <a:close/>
              </a:path>
              <a:path fill="darkenLess" w="26072" h="21600">
                <a:moveTo>
                  <a:pt x="12113" y="14299"/>
                </a:moveTo>
                <a:lnTo>
                  <a:pt x="13959" y="14299"/>
                </a:lnTo>
                <a:lnTo>
                  <a:pt x="13959" y="17989"/>
                </a:lnTo>
                <a:lnTo>
                  <a:pt x="18345" y="17989"/>
                </a:lnTo>
                <a:lnTo>
                  <a:pt x="18345" y="10800"/>
                </a:lnTo>
                <a:lnTo>
                  <a:pt x="7727" y="10800"/>
                </a:lnTo>
                <a:lnTo>
                  <a:pt x="7727" y="17989"/>
                </a:lnTo>
                <a:lnTo>
                  <a:pt x="12113" y="1798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sp>
        <p:nvSpPr>
          <p:cNvPr id="83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0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7c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/>
          </p:nvPr>
        </p:nvSpPr>
        <p:spPr>
          <a:xfrm>
            <a:off x="539640" y="1988640"/>
            <a:ext cx="446400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00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660033"/>
                </a:solidFill>
                <a:latin typeface="Arial"/>
              </a:rPr>
              <a:t>Бенджамин Бритте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00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660033"/>
                </a:solidFill>
                <a:latin typeface="Arial"/>
              </a:rPr>
              <a:t>Дмитрий Шостакови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0" name="Picture 7" descr="Бенджамин Бриттен"/>
          <p:cNvPicPr/>
          <p:nvPr/>
        </p:nvPicPr>
        <p:blipFill>
          <a:blip r:embed="rId1"/>
          <a:stretch/>
        </p:blipFill>
        <p:spPr>
          <a:xfrm>
            <a:off x="5364000" y="1628640"/>
            <a:ext cx="1511640" cy="2016360"/>
          </a:xfrm>
          <a:prstGeom prst="rect">
            <a:avLst/>
          </a:prstGeom>
          <a:ln w="0">
            <a:noFill/>
          </a:ln>
        </p:spPr>
      </p:pic>
      <p:sp>
        <p:nvSpPr>
          <p:cNvPr id="841" name="AutoShape 13">
            <a:hlinkClick r:id="rId2"/>
          </p:cNvPr>
          <p:cNvSpPr/>
          <p:nvPr/>
        </p:nvSpPr>
        <p:spPr>
          <a:xfrm>
            <a:off x="1042920" y="1844640"/>
            <a:ext cx="3457800" cy="827280"/>
          </a:xfrm>
          <a:custGeom>
            <a:avLst/>
            <a:gdLst>
              <a:gd name="textAreaLeft" fmla="*/ 53640 w 3457800"/>
              <a:gd name="textAreaRight" fmla="*/ 3404160 w 3457800"/>
              <a:gd name="textAreaTop" fmla="*/ 53640 h 827280"/>
              <a:gd name="textAreaBottom" fmla="*/ 773640 h 827280"/>
            </a:gdLst>
            <a:ahLst/>
            <a:rect l="textAreaLeft" t="textAreaTop" r="textAreaRight" b="textAreaBottom"/>
            <a:pathLst>
              <a:path w="90252" h="21600">
                <a:moveTo>
                  <a:pt x="0" y="0"/>
                </a:moveTo>
                <a:lnTo>
                  <a:pt x="90252" y="0"/>
                </a:lnTo>
                <a:lnTo>
                  <a:pt x="90252" y="21600"/>
                </a:lnTo>
                <a:lnTo>
                  <a:pt x="0" y="21600"/>
                </a:lnTo>
                <a:close/>
              </a:path>
              <a:path fill="lightenLess" w="90252" h="21600">
                <a:moveTo>
                  <a:pt x="0" y="0"/>
                </a:moveTo>
                <a:lnTo>
                  <a:pt x="90252" y="0"/>
                </a:lnTo>
                <a:lnTo>
                  <a:pt x="88852" y="1400"/>
                </a:lnTo>
                <a:lnTo>
                  <a:pt x="1400" y="1400"/>
                </a:lnTo>
                <a:close/>
              </a:path>
              <a:path fill="darken" w="90252" h="21600">
                <a:moveTo>
                  <a:pt x="90252" y="0"/>
                </a:moveTo>
                <a:lnTo>
                  <a:pt x="90252" y="21600"/>
                </a:lnTo>
                <a:lnTo>
                  <a:pt x="88852" y="20200"/>
                </a:lnTo>
                <a:lnTo>
                  <a:pt x="88852" y="1400"/>
                </a:lnTo>
                <a:close/>
              </a:path>
              <a:path fill="darkenLess" w="90252" h="21600">
                <a:moveTo>
                  <a:pt x="902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8852" y="20200"/>
                </a:lnTo>
                <a:close/>
              </a:path>
              <a:path fill="lighten" w="902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90252" h="21600">
                <a:moveTo>
                  <a:pt x="38120" y="3794"/>
                </a:moveTo>
                <a:lnTo>
                  <a:pt x="52133" y="10800"/>
                </a:lnTo>
                <a:lnTo>
                  <a:pt x="38120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sp>
        <p:nvSpPr>
          <p:cNvPr id="842" name="AutoShape 14">
            <a:hlinkClick r:id="rId3"/>
          </p:cNvPr>
          <p:cNvSpPr/>
          <p:nvPr/>
        </p:nvSpPr>
        <p:spPr>
          <a:xfrm>
            <a:off x="1116000" y="4365720"/>
            <a:ext cx="3600360" cy="826920"/>
          </a:xfrm>
          <a:custGeom>
            <a:avLst/>
            <a:gdLst>
              <a:gd name="textAreaLeft" fmla="*/ 53280 w 3600360"/>
              <a:gd name="textAreaRight" fmla="*/ 3547080 w 3600360"/>
              <a:gd name="textAreaTop" fmla="*/ 53280 h 826920"/>
              <a:gd name="textAreaBottom" fmla="*/ 773640 h 826920"/>
            </a:gdLst>
            <a:ahLst/>
            <a:rect l="textAreaLeft" t="textAreaTop" r="textAreaRight" b="textAreaBottom"/>
            <a:pathLst>
              <a:path w="94014" h="21600">
                <a:moveTo>
                  <a:pt x="0" y="0"/>
                </a:moveTo>
                <a:lnTo>
                  <a:pt x="94014" y="0"/>
                </a:lnTo>
                <a:lnTo>
                  <a:pt x="94014" y="21600"/>
                </a:lnTo>
                <a:lnTo>
                  <a:pt x="0" y="21600"/>
                </a:lnTo>
                <a:close/>
              </a:path>
              <a:path fill="lightenLess" w="94014" h="21600">
                <a:moveTo>
                  <a:pt x="0" y="0"/>
                </a:moveTo>
                <a:lnTo>
                  <a:pt x="94014" y="0"/>
                </a:lnTo>
                <a:lnTo>
                  <a:pt x="92614" y="1400"/>
                </a:lnTo>
                <a:lnTo>
                  <a:pt x="1400" y="1400"/>
                </a:lnTo>
                <a:close/>
              </a:path>
              <a:path fill="darken" w="94014" h="21600">
                <a:moveTo>
                  <a:pt x="94014" y="0"/>
                </a:moveTo>
                <a:lnTo>
                  <a:pt x="94014" y="21600"/>
                </a:lnTo>
                <a:lnTo>
                  <a:pt x="92614" y="20200"/>
                </a:lnTo>
                <a:lnTo>
                  <a:pt x="92614" y="1400"/>
                </a:lnTo>
                <a:close/>
              </a:path>
              <a:path fill="darkenLess" w="94014" h="21600">
                <a:moveTo>
                  <a:pt x="940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614" y="20200"/>
                </a:lnTo>
                <a:close/>
              </a:path>
              <a:path fill="lighten" w="940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94014" h="21600">
                <a:moveTo>
                  <a:pt x="40000" y="3794"/>
                </a:moveTo>
                <a:lnTo>
                  <a:pt x="54013" y="10800"/>
                </a:lnTo>
                <a:lnTo>
                  <a:pt x="40000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pic>
        <p:nvPicPr>
          <p:cNvPr id="843" name="Picture 15" descr="Шостакович 1"/>
          <p:cNvPicPr/>
          <p:nvPr/>
        </p:nvPicPr>
        <p:blipFill>
          <a:blip r:embed="rId4"/>
          <a:stretch/>
        </p:blipFill>
        <p:spPr>
          <a:xfrm>
            <a:off x="5364000" y="4005360"/>
            <a:ext cx="1565280" cy="1854000"/>
          </a:xfrm>
          <a:prstGeom prst="rect">
            <a:avLst/>
          </a:prstGeom>
          <a:ln w="0">
            <a:noFill/>
          </a:ln>
        </p:spPr>
      </p:pic>
      <p:pic>
        <p:nvPicPr>
          <p:cNvPr id="844" name="WordArt 20" descr=""/>
          <p:cNvPicPr/>
          <p:nvPr/>
        </p:nvPicPr>
        <p:blipFill>
          <a:blip r:embed="rId5"/>
          <a:stretch/>
        </p:blipFill>
        <p:spPr>
          <a:xfrm>
            <a:off x="1042920" y="476280"/>
            <a:ext cx="6881760" cy="882720"/>
          </a:xfrm>
          <a:prstGeom prst="rect">
            <a:avLst/>
          </a:prstGeom>
          <a:ln w="0">
            <a:noFill/>
          </a:ln>
        </p:spPr>
      </p:pic>
      <p:sp>
        <p:nvSpPr>
          <p:cNvPr id="84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  <p:transition>
    <p:wedge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8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8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8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8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8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8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8T09:37:33Z</dcterms:created>
  <dc:creator>Bulat</dc:creator>
  <dc:description/>
  <dc:language>en-US</dc:language>
  <cp:lastModifiedBy>LEGION</cp:lastModifiedBy>
  <dcterms:modified xsi:type="dcterms:W3CDTF">2015-04-02T06:56:17Z</dcterms:modified>
  <cp:revision>73</cp:revision>
  <dc:subject/>
  <dc:title>Слайд 1</dc:title>
</cp:coreProperties>
</file>