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6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5A58-E4F0-415D-95C7-16F884BF79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Calibri"/>
              </a:rPr>
              <a:t>Влияние музыки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: Татьяна Иванова, 11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арабельской СОШ имени Н.А. Образ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уководитель: Владислав Николаевич Гали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55F4-CB46-4FF1-B4F7-856872728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491D-A8FA-468E-83B1-ECDEFB1AB6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зыка Моц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8451-5135-4ED5-BF5F-DE0CEC43EC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 Моц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FF22-0324-41B4-A340-936C1BF4E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лияние музыки на развитие пл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C5EB-5F8A-4B2D-89EE-10B3063BE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рицательное значение музы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AE00-290D-4F62-8911-F236D15238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F915-4C4B-42D2-A15A-9080C9B58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200"/>
            </a:b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CA8D-291A-414C-A5DF-40614C839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A94-75DC-4A80-838C-AE788C0F3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стал черным и сгнил. Они сказали, что его запах был крайне отврати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микробы, должно быть, сгруппировались в полезные и вредные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ACE4-6320-4B37-AF8F-8508E9C35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1600" spc="-1" strike="noStrike">
                <a:solidFill>
                  <a:srgbClr val="002060"/>
                </a:solidFill>
                <a:latin typeface="Calibri"/>
              </a:rPr>
              <a:t>'Ты надоела мне. Я убью тебя‘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отчете говорится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Ты надоела мне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Я убью тебя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1918-09EA-4A06-99A8-AC93CF720D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 те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33E8-7F9B-463A-AF4C-7270BCFF2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истиллированная вода, получающая электромагнитные волны '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'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 говорит в своем отчете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F1E3-4AA0-4A30-B460-B699CD29E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62BA-E492-4C1A-A4B7-754F33E99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и задачи рефе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выявление позитивных и негативных сторон влияния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дачи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проанализировать получен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AFFA-5050-4724-A794-B335F442B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4187-0BF8-49CE-B8D6-D2267F3CB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C069-BDDB-4CA5-972E-E5B9BFFCD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1889-46ED-4A89-A830-81D9A5415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98D4-25A2-4D2D-AF26-CCD30A928B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существует в двух основных формах: активной и рецепти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EA9D-B1C4-4117-8CCA-56F8A5166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78BA-C51A-448A-AFF9-02B3C86D3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BC3-7F8D-42DA-B3BF-E28FB253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BB4-DE2C-4779-8FF3-50A31F86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628-335B-469C-BFB6-BCC2E152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14F-9EF4-4B9E-A43B-C584AAAA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93E9-C4FA-4478-B896-CFCB9DB7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ED24-3806-44CE-8CB2-12F09AE9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4253-5A31-46DA-871A-8BE46937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6104-F340-47AA-8FB0-BB9B56F0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33F4-4F51-411B-A2E1-8DE5A7B6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F4C3-660C-4B1F-A35F-B3CD1FA8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9C0A-8FCF-42B3-ACC6-DC6DD32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E4B-9D4F-4AF5-9764-5CE2C08E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D352-62E5-47A1-8303-40A64DC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76BD-C3B2-4267-9AD3-6EA58AC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6253-CC00-4364-B1B3-1F6CB654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2871-A502-40E0-A340-9830074B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9915-058C-42BA-A1C3-00A9A66E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F2C9-54A7-40D8-8E4F-0333EC2F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BE4E-C4F1-4697-B372-AA322C9D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1968-786F-4C21-B0AF-045EF4F1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C0B2D-A3F8-480A-914F-64ADD28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0CBD-C8F4-415C-A628-D9C06751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FD8-AD26-427E-8A08-D2D1141F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27B7-971E-4387-8C6B-FE3496CD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DFE4-1DA1-462A-BE62-CE1A5748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548C-2CA1-4C19-A68A-FAA31573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86DF-6561-4C21-865F-A327AE9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1A3F-9B0E-4D87-8C54-62BF7921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D7BF9-F387-4F7E-825D-A81D339C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EB729-70A5-4D36-8666-9E1EBD1B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F08D0-CBF8-4F68-8135-D8C2DAC0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01011-9AFE-40CC-877B-AE43039E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48905-D749-460B-B0F6-98603F53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72D-6BA7-4382-A998-D9210D07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71B6-2C0C-4F0F-91BD-F5714233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27FD-9B12-48BA-8A1B-18D76826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F7A6-DB63-4927-984A-30F2FBD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9889-30F5-45E2-B1AA-91001677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682E-E41B-4FAF-9D30-9D2E240E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E79B4-3BAA-4435-AA44-14C11FD3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AA54D-B735-44FC-9E6B-8F598889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847F9-574D-4646-8C1B-391C5E8A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B7F9-02B5-4171-8BBC-59086C5E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FF0C4-3AD3-4FFC-BA7A-DFD89896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2E3-97C2-4196-8EE6-9AB88F6B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8BFE9-B49C-4C6E-BF71-63F2F236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8E0A1-8108-43E4-A430-53592C1D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61CFF-B185-4105-808D-432E8779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89D1B-9421-409B-8CE7-4AC2D03A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B646A-72D5-4CA3-B9A0-0ED26808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94F99-7777-453B-9B89-473DA6D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C6086-D8C6-4C41-90C6-2C461511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B099-EE47-4922-8D63-8EB8117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7F979-DF54-4AB2-AB83-F5588AA4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DBFBA-7F36-4DD9-B3D4-24E77F80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AD6-5571-462F-BEC1-7DB8407C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760CD-BBEA-4CA1-A690-2E015203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7B982-4147-4AFD-9CD3-F5065A5E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0B5C1-8773-4F04-B231-C44BB63A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4495-DCB8-408C-8CE2-ABDB5FB4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63DFE-384C-4813-BE46-58A14F44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03F30-091F-4033-A9BA-428929AC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D848-D18A-41EC-B3D4-4ED9A71B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13B3E-FE25-4B98-95BB-CCDD8185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368D-5D16-4381-A3B0-8D6750A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96261-4AEE-498A-8030-1F7E42A4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424-16EC-400C-9C47-E9F60B5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36D17-4922-446B-B8F6-5052C82D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67660-8582-4D75-BAA9-BB030CBD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81EC-BACF-4F3C-A41A-8551014D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2E9-B2C2-4A9D-9886-F7773DB3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C82-9CB5-433D-9CE8-0CD8C58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B2F5-B927-483E-A254-4884CDA3023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FE06-BAE9-4C36-8C90-3238F996B20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46B5-A94B-4C28-84FD-A3949F0364E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51A3-0D66-4E67-A980-76A1AD1478B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BE13-E412-462A-B674-1FBD75FB8F1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C81D-A0F4-4BCD-9A5D-AB87FDB4CD1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8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521560" cy="28717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Автор: Татьяна Иванова, 11 класс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арабельской СОШ имени Н.А. Образцо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уководитель: Владислав Николаевич Галимов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011 ВИВАЛЬДИ - ВРЕМЕНА ГОДА (ЛЕТО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011 ВИВАЛЬДИ - ВРЕМЕНА ГОДА (ЛЕТО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59745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173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86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928960" y="1500120"/>
            <a:ext cx="4929120" cy="25005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15" descr="Rose069"/>
          <p:cNvPicPr/>
          <p:nvPr/>
        </p:nvPicPr>
        <p:blipFill>
          <a:blip r:embed="rId2"/>
          <a:stretch/>
        </p:blipFill>
        <p:spPr>
          <a:xfrm>
            <a:off x="500040" y="1500120"/>
            <a:ext cx="2057400" cy="2543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173"/>
          <p:cNvPicPr/>
          <p:nvPr/>
        </p:nvPicPr>
        <p:blipFill>
          <a:blip r:embed="rId3"/>
          <a:stretch/>
        </p:blipFill>
        <p:spPr>
          <a:xfrm>
            <a:off x="3071880" y="3571920"/>
            <a:ext cx="3071880" cy="220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"/>
          <p:cNvPicPr/>
          <p:nvPr/>
        </p:nvPicPr>
        <p:blipFill>
          <a:blip r:embed="rId4"/>
          <a:stretch/>
        </p:blipFill>
        <p:spPr>
          <a:xfrm>
            <a:off x="6715080" y="4214880"/>
            <a:ext cx="1962360" cy="218592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743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а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3786120" cy="35719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2" descr="mozart"/>
          <p:cNvPicPr/>
          <p:nvPr/>
        </p:nvPicPr>
        <p:blipFill>
          <a:blip r:embed="rId2"/>
          <a:stretch/>
        </p:blipFill>
        <p:spPr>
          <a:xfrm>
            <a:off x="5000760" y="1571760"/>
            <a:ext cx="2886120" cy="36082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100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Эффект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71520" y="1356840"/>
            <a:ext cx="3243240" cy="4467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3" descr="0320076235243"/>
          <p:cNvPicPr/>
          <p:nvPr/>
        </p:nvPicPr>
        <p:blipFill>
          <a:blip r:embed="rId2"/>
          <a:stretch/>
        </p:blipFill>
        <p:spPr>
          <a:xfrm>
            <a:off x="928800" y="2071800"/>
            <a:ext cx="2000160" cy="216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1"/>
          <p:cNvPicPr/>
          <p:nvPr/>
        </p:nvPicPr>
        <p:blipFill>
          <a:blip r:embed="rId3"/>
          <a:stretch/>
        </p:blipFill>
        <p:spPr>
          <a:xfrm>
            <a:off x="6500880" y="207180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774396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лияние музыки на развитие пло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4143240" cy="2071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6" name="Picture 8" descr="Музыка и беременность"/>
          <p:cNvPicPr/>
          <p:nvPr/>
        </p:nvPicPr>
        <p:blipFill>
          <a:blip r:embed="rId2"/>
          <a:stretch/>
        </p:blipFill>
        <p:spPr>
          <a:xfrm>
            <a:off x="428760" y="1285920"/>
            <a:ext cx="3071520" cy="205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14240" y="3643200"/>
            <a:ext cx="47865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9000"/>
          </a:bodyPr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564372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трицательное значение музы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0040" y="1357200"/>
            <a:ext cx="511488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1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2357640" cy="2209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2643120" cy="220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endorfmusic02-1212876829"/>
          <p:cNvPicPr/>
          <p:nvPr/>
        </p:nvPicPr>
        <p:blipFill>
          <a:blip r:embed="rId4"/>
          <a:stretch/>
        </p:blipFill>
        <p:spPr>
          <a:xfrm>
            <a:off x="6215040" y="1214280"/>
            <a:ext cx="1643040" cy="247968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Интересные фа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9" name="Picture 15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500120"/>
            <a:ext cx="3686040" cy="26431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7"/>
          <p:cNvSpPr/>
          <p:nvPr/>
        </p:nvSpPr>
        <p:spPr>
          <a:xfrm>
            <a:off x="4500720" y="1428840"/>
            <a:ext cx="3929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3763"/>
                </a:solidFill>
                <a:latin typeface="Arial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Прикрепленное изображение"/>
          <p:cNvPicPr/>
          <p:nvPr/>
        </p:nvPicPr>
        <p:blipFill>
          <a:blip r:embed="rId3"/>
          <a:stretch/>
        </p:blipFill>
        <p:spPr>
          <a:xfrm>
            <a:off x="4786200" y="3703680"/>
            <a:ext cx="3129120" cy="26542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599840"/>
            <a:ext cx="38289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800"/>
            </a:b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12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4929120" y="1857240"/>
            <a:ext cx="3344760" cy="27576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4429080"/>
            <a:ext cx="8286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1" name="Picture 13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2071800" y="1500120"/>
            <a:ext cx="4628880" cy="25005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856800"/>
            <a:ext cx="83296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стал черным и сгнил. Они сказали, что его запах был крайне отвратительны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микробы, должно быть, сгруппировались в полезные и вредные бактер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173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3938400"/>
            <a:ext cx="79725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отчете говорится: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Ты надоела мн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 и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Я убью теб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9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000080"/>
            <a:ext cx="3246480" cy="2786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929040" y="1213920"/>
            <a:ext cx="45720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'Ты надоела мне. Я убью тебя‘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т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3575160" y="2019240"/>
            <a:ext cx="511164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3938760"/>
            <a:ext cx="818676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Автор говорит в своем отчете: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6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10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1071720" y="1071720"/>
            <a:ext cx="3071520" cy="2655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648320" y="1600200"/>
            <a:ext cx="42098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Дистиллированная вода, получающая электромагнитные волны '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'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664344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ывод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14360" y="1571400"/>
            <a:ext cx="48862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7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83763"/>
                </a:solidFill>
                <a:latin typeface="Constantia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1" name="Picture 12" descr=""/>
          <p:cNvPicPr/>
          <p:nvPr/>
        </p:nvPicPr>
        <p:blipFill>
          <a:blip r:embed="rId2"/>
          <a:stretch/>
        </p:blipFill>
        <p:spPr>
          <a:xfrm>
            <a:off x="7143840" y="3929040"/>
            <a:ext cx="1714320" cy="2511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 Мистицизм звука. Неслышимая жизнь."/>
          <p:cNvPicPr/>
          <p:nvPr/>
        </p:nvPicPr>
        <p:blipFill>
          <a:blip r:embed="rId3"/>
          <a:stretch/>
        </p:blipFill>
        <p:spPr>
          <a:xfrm>
            <a:off x="357120" y="1357200"/>
            <a:ext cx="1643040" cy="2438640"/>
          </a:xfrm>
          <a:prstGeom prst="rect">
            <a:avLst/>
          </a:prstGeom>
          <a:ln w="0">
            <a:noFill/>
          </a:ln>
        </p:spPr>
      </p:pic>
      <p:pic>
        <p:nvPicPr>
          <p:cNvPr id="423" name="035 БЕТХОВЕН - К ЭЛИЗЕ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035 БЕТХОВЕН - К ЭЛИЗЕ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173067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 задачи рефера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выявление позитивных и негативных сторон влияния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Задачи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проанализировать полученную информац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3864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57160" y="1928880"/>
            <a:ext cx="3314880" cy="39290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0520063101356"/>
          <p:cNvPicPr/>
          <p:nvPr/>
        </p:nvPicPr>
        <p:blipFill>
          <a:blip r:embed="rId2"/>
          <a:stretch/>
        </p:blipFill>
        <p:spPr>
          <a:xfrm>
            <a:off x="4214880" y="1785960"/>
            <a:ext cx="1785960" cy="2089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3"/>
          <a:stretch/>
        </p:blipFill>
        <p:spPr>
          <a:xfrm>
            <a:off x="6000840" y="2714760"/>
            <a:ext cx="2762280" cy="3543120"/>
          </a:xfrm>
          <a:prstGeom prst="rect">
            <a:avLst/>
          </a:prstGeom>
          <a:ln w="0">
            <a:noFill/>
          </a:ln>
        </p:spPr>
      </p:pic>
      <p:sp>
        <p:nvSpPr>
          <p:cNvPr id="3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173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4" name="Picture 7" descr="Музыка влияет на духовную сущность личности."/>
          <p:cNvPicPr/>
          <p:nvPr/>
        </p:nvPicPr>
        <p:blipFill>
          <a:blip r:embed="rId2"/>
          <a:stretch/>
        </p:blipFill>
        <p:spPr>
          <a:xfrm>
            <a:off x="6357960" y="1571760"/>
            <a:ext cx="2173320" cy="2757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Влияние музыки на психику человека"/>
          <p:cNvPicPr/>
          <p:nvPr/>
        </p:nvPicPr>
        <p:blipFill>
          <a:blip r:embed="rId3"/>
          <a:stretch/>
        </p:blipFill>
        <p:spPr>
          <a:xfrm>
            <a:off x="357120" y="1571760"/>
            <a:ext cx="1928880" cy="275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 Творчество &lt;i&gt;хиндустани&lt;/i&gt;."/>
          <p:cNvPicPr/>
          <p:nvPr/>
        </p:nvPicPr>
        <p:blipFill>
          <a:blip r:embed="rId4"/>
          <a:stretch/>
        </p:blipFill>
        <p:spPr>
          <a:xfrm>
            <a:off x="2928960" y="4286160"/>
            <a:ext cx="3071880" cy="2370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571840" y="1571400"/>
            <a:ext cx="35719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4457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28861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2"/>
          <a:stretch/>
        </p:blipFill>
        <p:spPr>
          <a:xfrm>
            <a:off x="4214880" y="1428840"/>
            <a:ext cx="3929040" cy="3859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Занятия музыкой влияют на физиологию мозга"/>
          <p:cNvPicPr/>
          <p:nvPr/>
        </p:nvPicPr>
        <p:blipFill>
          <a:blip r:embed="rId3"/>
          <a:stretch/>
        </p:blipFill>
        <p:spPr>
          <a:xfrm>
            <a:off x="1143000" y="3571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02920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2681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11" descr=" Музыкальная терапия для детей"/>
          <p:cNvPicPr/>
          <p:nvPr/>
        </p:nvPicPr>
        <p:blipFill>
          <a:blip r:embed="rId2"/>
          <a:stretch/>
        </p:blipFill>
        <p:spPr>
          <a:xfrm>
            <a:off x="1714680" y="4071960"/>
            <a:ext cx="1714320" cy="2343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Sound Therapy"/>
          <p:cNvPicPr/>
          <p:nvPr/>
        </p:nvPicPr>
        <p:blipFill>
          <a:blip r:embed="rId3"/>
          <a:stretch/>
        </p:blipFill>
        <p:spPr>
          <a:xfrm>
            <a:off x="4214880" y="1571760"/>
            <a:ext cx="3784680" cy="4140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3863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1003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Музыкотерапия существует в двух основных формах: активной и рецептивной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10" descr="8-3"/>
          <p:cNvPicPr/>
          <p:nvPr/>
        </p:nvPicPr>
        <p:blipFill>
          <a:blip r:embed="rId2"/>
          <a:stretch/>
        </p:blipFill>
        <p:spPr>
          <a:xfrm>
            <a:off x="4786200" y="38577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8-1"/>
          <p:cNvPicPr/>
          <p:nvPr/>
        </p:nvPicPr>
        <p:blipFill>
          <a:blip r:embed="rId3"/>
          <a:stretch/>
        </p:blipFill>
        <p:spPr>
          <a:xfrm>
            <a:off x="4000680" y="1428840"/>
            <a:ext cx="2643120" cy="2077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9-1"/>
          <p:cNvPicPr/>
          <p:nvPr/>
        </p:nvPicPr>
        <p:blipFill>
          <a:blip r:embed="rId4"/>
          <a:stretch/>
        </p:blipFill>
        <p:spPr>
          <a:xfrm>
            <a:off x="6786720" y="2357280"/>
            <a:ext cx="2095200" cy="218628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599840"/>
            <a:ext cx="3614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9" descr="Listen"/>
          <p:cNvPicPr/>
          <p:nvPr/>
        </p:nvPicPr>
        <p:blipFill>
          <a:blip r:embed="rId2"/>
          <a:stretch/>
        </p:blipFill>
        <p:spPr>
          <a:xfrm>
            <a:off x="4068720" y="1643040"/>
            <a:ext cx="1720800" cy="1143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1020061785141"/>
          <p:cNvPicPr/>
          <p:nvPr/>
        </p:nvPicPr>
        <p:blipFill>
          <a:blip r:embed="rId3"/>
          <a:stretch/>
        </p:blipFill>
        <p:spPr>
          <a:xfrm>
            <a:off x="6572160" y="4929120"/>
            <a:ext cx="1857600" cy="1333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 Духовное значение звука"/>
          <p:cNvPicPr/>
          <p:nvPr/>
        </p:nvPicPr>
        <p:blipFill>
          <a:blip r:embed="rId4"/>
          <a:stretch/>
        </p:blipFill>
        <p:spPr>
          <a:xfrm>
            <a:off x="5072040" y="2857680"/>
            <a:ext cx="2095560" cy="200952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53:49Z</dcterms:created>
  <dc:creator>Домашний</dc:creator>
  <dc:description/>
  <dc:language>en-US</dc:language>
  <cp:lastModifiedBy>LEGION</cp:lastModifiedBy>
  <dcterms:modified xsi:type="dcterms:W3CDTF">2015-04-02T07:00:02Z</dcterms:modified>
  <cp:revision>55</cp:revision>
  <dc:subject/>
  <dc:title>Введение Общее представление о звуке. Слуховой путь человека Применение свойств музыки в древние времена музыкотерапия: что это? Для чего используется? Направления? Формы? Музыка Моцарта Музыка - это оружие! влияние музыки на развитие плода Отрицательное значение музыки Заключение Приложение 1   Интересные факты</dc:title>
</cp:coreProperties>
</file>