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43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6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11.png" ContentType="image/png"/>
  <Override PartName="/ppt/media/image19.jpeg" ContentType="image/jpeg"/>
  <Override PartName="/ppt/media/image42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9B34-5EF4-40D8-904D-B2B6FD60CC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76092"/>
                </a:solidFill>
                <a:latin typeface="Calibri"/>
              </a:rPr>
              <a:t>Влияние музыки на организм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Автор: Татьяна Иванова, 11 клас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Парабельской СОШ имени Н.А. Образ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Руководитель: Владислав Николаевич Галим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3369-4114-4AA5-8BD8-1FFF22EA8B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Духовная, религиозная музыка восстанавливает душевное равновесие, дарит чувство покоя. Если сравнивать музыку с лекарствами, то религиозная музыка – анальгетик в мире звуков, то есть она облегчает бо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E4DB-EE2B-4F75-A6A7-3435B0AE31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узыка Моца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Вольфганг Амадей Моцарт родился 27 января 1756 года в австрийском городе Зальцбург. Музыкальный гений Моцарта проявился уже в раннем детстве. Он написал свою первую симфонию, когда ему еще не было 10 лет, а первую успешную оперу - к 12 год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D76C-ED89-46C2-9042-718B534586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ффект Моц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Произведения Моцарта универсальны: они рекомендуются для снятия стресса, эффективного усвоения учебного материала, от головной боли, а также во время восстановительного периода, например, после экстремальных ситуаций. Причем лечебным эффектом обладают все произведения Моцарта. Это явление получило название: эффект Моца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CE9F-4B7D-4EAF-A662-4D6CF544A3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лияние музыки на развитие пл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Дети матерей, которые на двадцать восьмой - тридцать шестой неделях беременности слушали музыку, быстрее других начинают реагировать на звуки, узнавать мелодии. У них лучше развита памя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Также доказано, что малыши узнают, активнее реагируют и предпочитают ту музыку, которую они "слышали" до рождения, будучи в утробе мате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Исследования врачей доказали, что уже на пятом месяце беременности ребенок слышит и различает звуки. Он может реагировать на громкость и ритм мелодии. Она может ему нравиться или 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8B88-AE99-4FB2-927B-A365641CA7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рицательное значение музы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В нашем сложном земном мире любое явление можно направить и в положительную и в отрицательную стороны. Музыка - не исключение. Может быть, она служит началом многих духовных язв, но вопрос о гармонии необычно сложен. В последние десятилетия ХХ века появилось множество музыкальных направлений и большинство из них, отмечают исследователи, действуют разрушительно на живые орган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DC15-1D39-4179-9E70-8701FB995B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На фотографии показан опыт где воде дают слушать музыку, снизу фотография - кристаллы, замороженные после прослушивания 'Пасторали' Бетховена, одной из его самых известных симфоний. Это яркая, радостная музыкальная история. И этот красивый кристалл доказывает тот факт, что хорошая музыка позитивно влияет на во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6718-8324-4BF1-83CE-1EA7C4B640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Фотография справа - кристаллы, замороженные после прослушивания 'Прощальной Песни' Шопена. </a:t>
            </a:r>
            <a:br>
              <a:rPr sz="1200"/>
            </a:b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Он приобрел такую форму, потому что на него повлияла 'Прощальная Песня'? Основная форма кристалла почти идеально разделена на маленькие частицы, которые 'отделились' друг от друга. И это, несмотря на тот факт, что увеличительная сила микроскопа оставалась такой же, как и на других фотограф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9D99-0642-4765-8DD0-3B43A7AA6C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Интересный эксперимент проводился с человеком, который каждый день говорил две фразы: '</a:t>
            </a:r>
            <a:r>
              <a:rPr b="1" i="1" lang="ru-RU" sz="1200" spc="-1" strike="noStrike">
                <a:solidFill>
                  <a:srgbClr val="254061"/>
                </a:solidFill>
                <a:latin typeface="Calibri"/>
              </a:rPr>
              <a:t>Спасибо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' и '</a:t>
            </a:r>
            <a:r>
              <a:rPr b="1" i="1" lang="ru-RU" sz="1200" spc="-1" strike="noStrike">
                <a:solidFill>
                  <a:srgbClr val="254061"/>
                </a:solidFill>
                <a:latin typeface="Calibri"/>
              </a:rPr>
              <a:t>Ты - дурак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' некоторому количеству риса. В этом эксперименте в два одинаковых контейнера поместили вареный ри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00BA-24ED-4781-BF47-FD80B42335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Два ученика начальной школы говорили рису слова каждый день, на протяжении месяца, как только они возвращались домой после школы. В результате, рис, которому дети говорили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спасибо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, хорошо бродил, и имел приятный аромат бродившего риса. Другой контейнер с рисом, которому дети говорили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ты - дурак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, стал черным и сгнил. Они сказали, что его запах был крайне отвратите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Здесь не только вода, но также и микробы вовлечены в результат. Микробы так же как и мы, они работают хорошо, если их хвалят, и становятся бездеятельными, если их оскорбляют. Кажется, что слышал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спасибо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 и '</a:t>
            </a: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ты - дурак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', микробы, должно быть, сгруппировались в полезные и вредные бакт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BA1E-09AB-4BA5-86D2-7D7E1F4A0C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В следующем эксперименте приняла участие вода. Слова, сказанные воде, были следующими: </a:t>
            </a:r>
            <a:r>
              <a:rPr b="0" i="1" lang="ru-RU" sz="1600" spc="-1" strike="noStrike">
                <a:solidFill>
                  <a:srgbClr val="002060"/>
                </a:solidFill>
                <a:latin typeface="Calibri"/>
              </a:rPr>
              <a:t>'Ты надоела мне. Я убью тебя‘</a:t>
            </a: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отчете говорится: 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"Это слова, которые молодые люди часто используют в повседневной жизни. Постепенно форма воды стала настолько уродливой, как мы и ожидали. Кристаллы были искаженными и рассеянными. Это действительно было видимым образом слов: '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Ты надоела мне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' и '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Я убью тебя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'. То, что мы живем в мире, в котором подобные слова часто используются, действительно пугает. Мы должны сделать что-то с самими собой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DB87-52ED-4327-AAE1-D384571A1C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ктуальность тем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овременные звуки музыки уже не те, что были раньше. И в большей степени их прослушивание  отрицательно сказывается на нашем поведении, восприятии мира и самом главном – здоровье нашего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о, конечно же, существует и такая музыка, которая благотворно воздействует на орг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И поэтому я решила подробнее узнать об этих негативных сторонах и раскрыть эту, столь важную т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9B21-91D3-419C-9EC9-47D2C3CF72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ные экспери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Дистиллированная вода, получающая электромагнитные волны '</a:t>
            </a:r>
            <a:r>
              <a:rPr b="0" i="1" lang="ru-RU" sz="1800" spc="-1" strike="noStrike">
                <a:solidFill>
                  <a:srgbClr val="002060"/>
                </a:solidFill>
                <a:latin typeface="Calibri"/>
              </a:rPr>
              <a:t>Любовь, Благодарность</a:t>
            </a: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'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Автор говорит в своем отчете: 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"Мы делали этот эксперимент, основываясь на идее, что даже когда стоит один и тот же телевизор, различные программы изменяют результат. Делая так, даже дистиллированная вода без этикетки  '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Любовь, Благодарность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' на ней, показала нам красивый кристалл. После просмотра всех этих фотографий, для нас не трудно сделать следующий вывод: вне зависимости от того, было ли показано письмо, музыка или телевизионная программа, вода показывает невероятную способность улавливать определенные послания, спрятанные за поверхностными формами или даже отличать их моральный уровен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7611-1885-400A-9478-794912E725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54061"/>
                </a:solidFill>
                <a:latin typeface="Calibri"/>
              </a:rPr>
              <a:t>В итоге своего мини-исследования  я получила очень много полезной и новой  для меня информации, которой хотелось бы поделиться со всеми людьми и развеять многие мнения о том, что музыка может быть только губительной и неприятной для прослушивания. Думаю, если бы музыкотерапии уделялось больше внимания в различных источниках СМИ, то современное человечество куда серьезнее воспринимало бы это восхитительное, замечательное искус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54061"/>
                </a:solidFill>
                <a:latin typeface="Calibri"/>
              </a:rPr>
              <a:t>Напоследок хочется сказать, главное слушайте музыку правильно и она никогда не принесет вам вреда, а только наоборо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3216-1C50-4E16-AAC1-0DC6B1C06B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и задачи рефер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выявление позитивных и негативных сторон влияния музыки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Задачи: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- изучить информационные источники – книги, энциклопедии, справочники, Интернет-ресурсы по данной темати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- проанализировать полученную информ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- сделать собственные выводы на основе полученной информации о влиянии музыки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920C-D49F-4B3B-AF79-7A55E5840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е представление о звуке. Слуховой путь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С помощью звука такие физиологические функции, как пульс, сердечный ритм, дыхание, пищеварение, могут быть скоординированы. Особое влияние оказывает звук и на психическое состояни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6CAF-4E12-44B6-8A90-7516B09733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нение  целебных свойств музыки в древние врем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Многие древнейшие учения содержат в себе различные утверждения и опыт, накопленный тысячелетиями, воздействия музыки на животных, растения и человека. Мудрые всегда признавали особую силу зву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4C56-39A0-4837-992C-A6EC44928C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Музыкотерапия - одно из наиболее интересных и пока мало исследованных направлений традиционной медици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449C-819B-4490-9E5E-2D2666C619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Терапевтический эффект этой методики базируется на частотном колебании музыкальных звуков, резонирующих с отдельными органами, системами или всем организмом человек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716B-DB64-464A-8647-12CE29EEC1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Музыкотерапия существует в двух основных формах: активной и рецептив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Активная музыкотерапия представляет собой терапевтически направленную, активную музыкальную деятельность: воспроизведение, фантазирование, импровизацию с помощью человеческого голоса и выбранных музыкальных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2439-EAC3-443B-9E56-F059FEE825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узыкотерап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254061"/>
                </a:solidFill>
                <a:latin typeface="Calibri"/>
              </a:rPr>
              <a:t>Рецептивная музыкотерапия предполагает процесс восприятия музыки с терапевтической целью. Участникам группы предлагают прослушать специально подобранные музыкальные произведения, а затем обсудить их собственные переживания, воспоминания, мысли, ассоциации, фантазии, возникающие у них в ходе прослуш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FACD-43F0-48A2-94B1-B67ADC273A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F033-BA14-420E-A99A-14BF83F0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967-F245-4409-8870-B9F723E8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EA4-AE42-4117-8274-F62988E2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AD7-13DA-4B69-989E-B2428A7A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7C4D-1CF8-4B3D-BBDA-0405F8BB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D888-929A-42A3-8FEA-4FB1206B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2F41-475F-4DFD-BA18-D3E1554A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4C13-4133-4E59-A513-58A1E200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B74B-923B-4318-9875-1C8DC283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2981-0ABF-444D-886F-7622BF74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7292-4BFD-4CDD-A201-83E5C1BC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D2B-53C6-41A4-B236-809554BF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424D-06D6-4EF0-9983-198E158F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B2F7-EF01-40E6-9798-AFDFF8A9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FF44-46E5-44C4-BA12-2F5FD1FD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DD42-D5D4-4A3D-AD01-346A5371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7339-2783-48FB-B7BF-C91B363C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B5354-332C-4AD0-8CA8-B2857132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1ED83-2D8A-4933-B2B4-BF35B257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A66AF-2F52-48BD-A611-E78958E8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7F6F7-DBC1-4969-81D6-A8E9410C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63E47-0A33-4936-B6F0-73EBE3A0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694-B9B3-48D3-AD67-A47EEF1D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5F814-AC56-4E48-891F-CB9B4E52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A526E-D788-4B8B-B667-5C61A495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67AEF-3AAA-47B8-AF42-5795C7C5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B5F7B-E7BF-477A-85E1-8ED274E9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57883-3D52-4D24-AC11-FCA3929F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B6C19-E654-4404-825D-40E02C8B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07C75-4EFA-48AD-BC8E-81A2E747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32814-D789-4E1A-8705-DBF8F22E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9CF6D-5DCF-4B3C-9DBA-4EBE862A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8101D-7273-4CC7-B1A1-E1B7B774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3DA-C8CB-4E3C-B804-3AF77D66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7076F-FA18-491C-9BD1-6F5A9C81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65703-B6BF-46BA-84A3-A8688A37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7A1AE-1361-42FE-B614-68EB5846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C991F-EA85-4A51-AC0C-75B88B5B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0B762-251A-4A45-B595-6A4C3641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65F8C-FDB2-4A1B-946E-5B199626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17BD9-43EF-4E64-8DA4-F76FA735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BA2ED-BC63-4A7D-A2D5-B0DFB475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75EA8-111E-4596-A569-59CF03F7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35284-F023-426E-A43F-7E5643BD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04F3-BFCD-4E11-BDB3-3B592398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A34F6-649E-492F-B8B4-1C8A5D0A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EBF5F-D13C-4F4E-8D2B-7F0849B8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AD85A-73FE-42DB-8B9A-FE2BA317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FFA65-51A6-4AF5-BCAC-077FF28E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AE3A4-46B6-4D7B-BDC2-CE082093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C41E4-F844-40F8-BB1C-FCA29E39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9E363-09FE-41F8-A4B1-E5FBF72E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E91A3-9994-4B67-B1CF-FB8B5161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9011E-AA93-4345-A8E6-500E98EC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2E2E2-ECD9-4C30-BD23-11E1CEE0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7583-DFE9-45A0-B5B8-52330C50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00EDD-49E9-45A8-8D45-B3DDD981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C16DC-C192-43D1-9631-7D6E42F3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969B4-1200-4A44-87F5-17B35BFC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98AAB-803A-451A-9C5E-E37AC0A7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E1704-D19F-472F-ABFF-CA74055D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0132D-8A75-46DC-BD60-C2A1429D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915A1-0CBD-4619-944B-203A7705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895C3-0DFC-4782-A891-B4D05678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62437-AD05-4109-986B-F0DBA125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6BCE2-EE68-4CF0-9E0F-38CBA7AF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8A1-EFFD-4B59-8AFA-CD103A68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88C72-AB2D-4DD7-AFA9-A4DFFFC4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5F1DF-6D91-4F47-BF20-1BB26C06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286FF-B418-4661-A857-4DE1669E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7FE-7D4B-4CCB-B62F-7ADB2E25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0A87-EC76-40DB-AABD-6C6A27B6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8D3B-D1D8-4A97-9138-9B2FA815F2E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33F5-2400-4AEC-8292-130439EBFFC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DF2E-4997-4AFD-9AB3-02117236D6D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279A-B6C6-4043-9078-7ED47549F15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7B4C-B09B-4D1A-A3BC-21AAB0E9071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5CAD-41A7-45AB-A58F-CDA2EDE1CC2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8" descr=""/>
          <p:cNvPicPr/>
          <p:nvPr/>
        </p:nvPicPr>
        <p:blipFill>
          <a:blip r:embed="rId1"/>
          <a:stretch/>
        </p:blipFill>
        <p:spPr>
          <a:xfrm>
            <a:off x="281160" y="914400"/>
            <a:ext cx="8521560" cy="28717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Автор: Татьяна Иванова, 11 класс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арабельской СОШ имени Н.А. Образцов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Руководитель: Владислав Николаевич Галимов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учитель биологи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4" name="011 ВИВАЛЬДИ - ВРЕМЕНА ГОДА (ЛЕТО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5" name="011 ВИВАЛЬДИ - ВРЕМЕНА ГОДА (ЛЕТО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1eaee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59745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6" descr="173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68864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928960" y="1500120"/>
            <a:ext cx="4929120" cy="25005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83763"/>
                </a:solidFill>
                <a:latin typeface="Constantia"/>
              </a:rPr>
              <a:t>Духовная, религиозная музыка восстанавливает душевное равновесие, дарит чувство покоя. Если сравнивать музыку с лекарствами, то религиозная музыка – анальгетик в мире звуков, то есть она облегчает боль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8" name="Picture 15" descr="Rose069"/>
          <p:cNvPicPr/>
          <p:nvPr/>
        </p:nvPicPr>
        <p:blipFill>
          <a:blip r:embed="rId2"/>
          <a:stretch/>
        </p:blipFill>
        <p:spPr>
          <a:xfrm>
            <a:off x="500040" y="1500120"/>
            <a:ext cx="2057400" cy="2543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173"/>
          <p:cNvPicPr/>
          <p:nvPr/>
        </p:nvPicPr>
        <p:blipFill>
          <a:blip r:embed="rId3"/>
          <a:stretch/>
        </p:blipFill>
        <p:spPr>
          <a:xfrm>
            <a:off x="3071880" y="3571920"/>
            <a:ext cx="3071880" cy="2206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"/>
          <p:cNvPicPr/>
          <p:nvPr/>
        </p:nvPicPr>
        <p:blipFill>
          <a:blip r:embed="rId4"/>
          <a:stretch/>
        </p:blipFill>
        <p:spPr>
          <a:xfrm>
            <a:off x="6715080" y="4214880"/>
            <a:ext cx="1962360" cy="218592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67438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Музыка Моцарт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42600" y="1643040"/>
            <a:ext cx="3786120" cy="35719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Вольфганг Амадей Моцарт родился 27 января 1756 года в австрийском городе Зальцбург. Музыкальный гений Моцарта проявился уже в раннем детстве. Он написал свою первую симфонию, когда ему еще не было 10 лет, а первую успешную оперу - к 12 года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2" descr="mozart"/>
          <p:cNvPicPr/>
          <p:nvPr/>
        </p:nvPicPr>
        <p:blipFill>
          <a:blip r:embed="rId2"/>
          <a:stretch/>
        </p:blipFill>
        <p:spPr>
          <a:xfrm>
            <a:off x="5000760" y="1571760"/>
            <a:ext cx="2886120" cy="3608280"/>
          </a:xfrm>
          <a:prstGeom prst="rect">
            <a:avLst/>
          </a:prstGeom>
          <a:ln w="0">
            <a:noFill/>
          </a:ln>
        </p:spPr>
      </p:pic>
      <p:sp>
        <p:nvSpPr>
          <p:cNvPr id="36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610092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Эффект Моцарт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71520" y="1356840"/>
            <a:ext cx="3243240" cy="44672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0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Constantia"/>
              </a:rPr>
              <a:t>Произведения Моцарта универсальны: они рекомендуются для снятия стресса, эффективного усвоения учебного материала, от головной боли, а также во время восстановительного периода, например, после экстремальных ситуаций. Причем лечебным эффектом обладают все произведения Моцарта. Это явление получило название: эффект Моцарт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0" name="Picture 3" descr="0320076235243"/>
          <p:cNvPicPr/>
          <p:nvPr/>
        </p:nvPicPr>
        <p:blipFill>
          <a:blip r:embed="rId2"/>
          <a:stretch/>
        </p:blipFill>
        <p:spPr>
          <a:xfrm>
            <a:off x="928800" y="2071800"/>
            <a:ext cx="2000160" cy="2160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1"/>
          <p:cNvPicPr/>
          <p:nvPr/>
        </p:nvPicPr>
        <p:blipFill>
          <a:blip r:embed="rId3"/>
          <a:stretch/>
        </p:blipFill>
        <p:spPr>
          <a:xfrm>
            <a:off x="6500880" y="2071800"/>
            <a:ext cx="2000160" cy="21430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6" descr="173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514440"/>
            <a:ext cx="774396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Влияние музыки на развитие плод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571560" y="1285560"/>
            <a:ext cx="4143240" cy="20718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Исследования врачей доказали, что уже на пятом месяце беременности ребенок слышит и различает звуки. Он может реагировать на громкость и ритм мелодии. Она может ему нравиться или нет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6" name="Picture 8" descr="Музыка и беременность"/>
          <p:cNvPicPr/>
          <p:nvPr/>
        </p:nvPicPr>
        <p:blipFill>
          <a:blip r:embed="rId2"/>
          <a:stretch/>
        </p:blipFill>
        <p:spPr>
          <a:xfrm>
            <a:off x="428760" y="1285920"/>
            <a:ext cx="3071520" cy="2052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714240" y="3643200"/>
            <a:ext cx="478656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89000"/>
          </a:bodyPr>
          <a:p>
            <a:pPr marL="242640" indent="-242640" algn="ctr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Дети матерей, которые на двадцать восьмой - тридцать шестой неделях беременности слушали музыку, быстрее других начинают реагировать на звуки, узнавать мелодии. У них лучше развита память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 algn="ctr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Также доказано, что малыши узнают, активнее реагируют и предпочитают ту музыку, которую они "слышали" до рождения, будучи в утробе матер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8" name="Picture 9" descr=""/>
          <p:cNvPicPr/>
          <p:nvPr/>
        </p:nvPicPr>
        <p:blipFill>
          <a:blip r:embed="rId3"/>
          <a:stretch/>
        </p:blipFill>
        <p:spPr>
          <a:xfrm>
            <a:off x="5643720" y="35002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37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4384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Отрицательное значение музыки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00040" y="1357200"/>
            <a:ext cx="5114880" cy="26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В нашем сложном земном мире любое явление можно направить и в положительную и в отрицательную стороны. Музыка - не исключение. Может быть, она служит началом многих духовных язв, но вопрос о гармонии необычно сложен. В последние десятилетия ХХ века появилось множество музыкальных направлений и большинство из них, отмечают исследователи, действуют разрушительно на живые организмы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3" name="Picture 21" descr=""/>
          <p:cNvPicPr/>
          <p:nvPr/>
        </p:nvPicPr>
        <p:blipFill>
          <a:blip r:embed="rId2"/>
          <a:stretch/>
        </p:blipFill>
        <p:spPr>
          <a:xfrm>
            <a:off x="1500120" y="3929040"/>
            <a:ext cx="2357640" cy="2209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3"/>
          <a:stretch/>
        </p:blipFill>
        <p:spPr>
          <a:xfrm>
            <a:off x="5214960" y="3929040"/>
            <a:ext cx="2643120" cy="22035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endorfmusic02-1212876829"/>
          <p:cNvPicPr/>
          <p:nvPr/>
        </p:nvPicPr>
        <p:blipFill>
          <a:blip r:embed="rId4"/>
          <a:stretch/>
        </p:blipFill>
        <p:spPr>
          <a:xfrm>
            <a:off x="6215040" y="1214280"/>
            <a:ext cx="1643040" cy="2479680"/>
          </a:xfrm>
          <a:prstGeom prst="rect">
            <a:avLst/>
          </a:prstGeom>
          <a:ln w="0">
            <a:noFill/>
          </a:ln>
        </p:spPr>
      </p:pic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72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Интересные факты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9" name="Picture 15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642960" y="1500120"/>
            <a:ext cx="3686040" cy="2643120"/>
          </a:xfrm>
          <a:prstGeom prst="rect">
            <a:avLst/>
          </a:prstGeom>
          <a:ln w="0">
            <a:noFill/>
          </a:ln>
        </p:spPr>
      </p:pic>
      <p:sp>
        <p:nvSpPr>
          <p:cNvPr id="390" name="Прямоугольник 7"/>
          <p:cNvSpPr/>
          <p:nvPr/>
        </p:nvSpPr>
        <p:spPr>
          <a:xfrm>
            <a:off x="4500720" y="1428840"/>
            <a:ext cx="39290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3763"/>
                </a:solidFill>
                <a:latin typeface="Arial"/>
              </a:rPr>
              <a:t>На фотографии показан опыт где воде дают слушать музыку, снизу фотография - кристаллы, замороженные после прослушивания 'Пасторали' Бетховена, одной из его самых известных симфоний. Это яркая, радостная музыкальная история. И этот красивый кристалл доказывает тот факт, что хорошая музыка позитивно влияет на во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Прикрепленное изображение"/>
          <p:cNvPicPr/>
          <p:nvPr/>
        </p:nvPicPr>
        <p:blipFill>
          <a:blip r:embed="rId3"/>
          <a:stretch/>
        </p:blipFill>
        <p:spPr>
          <a:xfrm>
            <a:off x="4786200" y="3703680"/>
            <a:ext cx="3129120" cy="265428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6" descr="173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599840"/>
            <a:ext cx="382896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Фотография справа - кристаллы, замороженные после прослушивания 'Прощальной Песни' Шопена. </a:t>
            </a:r>
            <a:br>
              <a:rPr sz="1800"/>
            </a:b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Он приобрел такую форму, потому что на него повлияла 'Прощальная Песня'? Основная форма кристалла почти идеально разделена на маленькие частицы, которые 'отделились' друг от друга. И это, несмотря на тот факт, что увеличительная сила микроскопа оставалась такой же, как и на других фотография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12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4929120" y="1857240"/>
            <a:ext cx="3344760" cy="27576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173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643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28760" y="4429080"/>
            <a:ext cx="82864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Интересный эксперимент проводился с человеком, который каждый день говорил две фразы: '</a:t>
            </a: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Спасибо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' и '</a:t>
            </a: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Ты - дурак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' некоторому количеству риса. В этом эксперименте в два одинаковых контейнера поместили вареный рис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1" name="Picture 13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2071800" y="1500120"/>
            <a:ext cx="4628880" cy="250056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856800"/>
            <a:ext cx="832968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Два ученика начальной школы говорили рису слова каждый день, на протяжении месяца, как только они возвращались домой после школы. В результате, рис, которому дети говорили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спасибо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, хорошо бродил, и имел приятный аромат бродившего риса. Другой контейнер с рисом, которому дети говорили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ты - дурак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, стал черным и сгнил. Они сказали, что его запах был крайне отвратительны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Здесь не только вода, но также и микробы вовлечены в результат. Микробы так же как и мы, они работают хорошо, если их хвалят, и становятся бездеятельными, если их оскорбляют. Кажется, что слышал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спасибо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 и '</a:t>
            </a:r>
            <a:r>
              <a:rPr b="0" i="1" lang="ru-RU" sz="2400" spc="-1" strike="noStrike">
                <a:solidFill>
                  <a:srgbClr val="083763"/>
                </a:solidFill>
                <a:latin typeface="Constantia"/>
              </a:rPr>
              <a:t>ты - дурак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', микробы, должно быть, сгруппировались в полезные и вредные бактери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6" descr="173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3938400"/>
            <a:ext cx="797256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В отчете говорится: 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"Это слова, которые молодые люди часто используют в повседневной жизни. Постепенно форма воды стала настолько уродливой, как мы и ожидали. Кристаллы были искаженными и рассеянными. Это действительно было видимым образом слов: '</a:t>
            </a:r>
            <a:r>
              <a:rPr b="0" i="1" lang="ru-RU" sz="1800" spc="-1" strike="noStrike">
                <a:solidFill>
                  <a:srgbClr val="002060"/>
                </a:solidFill>
                <a:latin typeface="Constantia"/>
              </a:rPr>
              <a:t>Ты надоела мне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' и '</a:t>
            </a:r>
            <a:r>
              <a:rPr b="0" i="1" lang="ru-RU" sz="1800" spc="-1" strike="noStrike">
                <a:solidFill>
                  <a:srgbClr val="002060"/>
                </a:solidFill>
                <a:latin typeface="Constantia"/>
              </a:rPr>
              <a:t>Я убью тебя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'. То, что мы живем в мире, в котором подобные слова часто используются, действительно пугает. Мы должны сделать что-то с самими собой"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09" name="Picture 9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642960" y="1000080"/>
            <a:ext cx="3246480" cy="27860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929040" y="1213920"/>
            <a:ext cx="45720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В следующем эксперименте приняла участие вода. Слова, сказанные воде, были следующими: </a:t>
            </a:r>
            <a:r>
              <a:rPr b="0" i="1" lang="ru-RU" sz="2400" spc="-1" strike="noStrike">
                <a:solidFill>
                  <a:srgbClr val="002060"/>
                </a:solidFill>
                <a:latin typeface="Constantia"/>
              </a:rPr>
              <a:t>'Ты надоела мне. Я убью тебя‘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88688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Актуальность те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6000"/>
          </a:bodyPr>
          <a:p>
            <a:pPr marL="2617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Современные звуки музыки уже не те, что были раньше. И в большей степени их прослушивание  отрицательно сказывается на нашем поведении, восприятии мира и самом главном – здоровье нашего организма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Но, конечно же, существует и такая музыка, которая благотворно воздействует на организм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1400" spc="-1" strike="noStrike">
                <a:solidFill>
                  <a:srgbClr val="002060"/>
                </a:solidFill>
                <a:latin typeface="Constantia"/>
              </a:rPr>
              <a:t>И поэтому я решила подробнее узнать об этих негативных сторонах и раскрыть эту, столь важную тему.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2"/>
          <a:stretch/>
        </p:blipFill>
        <p:spPr>
          <a:xfrm>
            <a:off x="3575160" y="2019240"/>
            <a:ext cx="5111640" cy="38862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е эксперимен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3938760"/>
            <a:ext cx="818676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Автор говорит в своем отчете: 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"Мы делали этот эксперимент, основываясь на идее, что даже когда стоит один и тот же телевизор, различные программы изменяют результат. Делая так, даже дистиллированная вода без этикетки  '</a:t>
            </a:r>
            <a:r>
              <a:rPr b="0" i="1" lang="ru-RU" sz="1600" spc="-1" strike="noStrike">
                <a:solidFill>
                  <a:srgbClr val="002060"/>
                </a:solidFill>
                <a:latin typeface="Constantia"/>
              </a:rPr>
              <a:t>Любовь, Благодарность</a:t>
            </a:r>
            <a:r>
              <a:rPr b="0" lang="ru-RU" sz="1600" spc="-1" strike="noStrike">
                <a:solidFill>
                  <a:srgbClr val="002060"/>
                </a:solidFill>
                <a:latin typeface="Constantia"/>
              </a:rPr>
              <a:t>' на ней, показала нам красивый кристалл. После просмотра всех этих фотографий, для нас не трудно сделать следующий вывод: вне зависимости от того, было ли показано письмо, музыка или телевизионная программа, вода показывает невероятную способность улавливать определенные послания, спрятанные за поверхностными формами или даже отличать их моральный уровень"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5" name="Picture 10" descr="Прикрепленное изображение"/>
          <p:cNvPicPr/>
          <p:nvPr/>
        </p:nvPicPr>
        <p:blipFill>
          <a:blip r:embed="rId2"/>
          <a:stretch/>
        </p:blipFill>
        <p:spPr>
          <a:xfrm>
            <a:off x="1071720" y="1071720"/>
            <a:ext cx="3071520" cy="2655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648320" y="1600200"/>
            <a:ext cx="420984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Дистиллированная вода, получающая электромагнитные волны '</a:t>
            </a:r>
            <a:r>
              <a:rPr b="0" i="1" lang="ru-RU" sz="2400" spc="-1" strike="noStrike">
                <a:solidFill>
                  <a:srgbClr val="002060"/>
                </a:solidFill>
                <a:latin typeface="Constantia"/>
              </a:rPr>
              <a:t>Любовь, Благодарность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'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664344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onstantia"/>
              </a:rPr>
              <a:t>Вывод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14360" y="1571400"/>
            <a:ext cx="4886280" cy="35002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7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83763"/>
                </a:solidFill>
                <a:latin typeface="Constantia"/>
              </a:rPr>
              <a:t>В итоге своего мини-исследования  я получила очень много полезной и новой  для меня информации, которой хотелось бы поделиться со всеми людьми и развеять многие мнения о том, что музыка может быть только губительной и неприятной для прослушивания. Думаю, если бы музыкотерапии уделялось больше внимания в различных источниках СМИ, то современное человечество куда серьезнее воспринимало бы это восхитительное, замечательное искусство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3763"/>
                </a:solidFill>
                <a:latin typeface="Constantia"/>
              </a:rPr>
              <a:t>Напоследок хочется сказать, главное слушайте музыку правильно и она никогда не принесет вам вреда, а только наоборот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1" name="Picture 12" descr=""/>
          <p:cNvPicPr/>
          <p:nvPr/>
        </p:nvPicPr>
        <p:blipFill>
          <a:blip r:embed="rId2"/>
          <a:stretch/>
        </p:blipFill>
        <p:spPr>
          <a:xfrm>
            <a:off x="7143840" y="3929040"/>
            <a:ext cx="1714320" cy="2511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 Мистицизм звука. Неслышимая жизнь."/>
          <p:cNvPicPr/>
          <p:nvPr/>
        </p:nvPicPr>
        <p:blipFill>
          <a:blip r:embed="rId3"/>
          <a:stretch/>
        </p:blipFill>
        <p:spPr>
          <a:xfrm>
            <a:off x="357120" y="1357200"/>
            <a:ext cx="1643040" cy="2438640"/>
          </a:xfrm>
          <a:prstGeom prst="rect">
            <a:avLst/>
          </a:prstGeom>
          <a:ln w="0">
            <a:noFill/>
          </a:ln>
        </p:spPr>
      </p:pic>
      <p:pic>
        <p:nvPicPr>
          <p:cNvPr id="423" name="035 БЕТХОВЕН - К ЭЛИЗЕ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4" name="035 БЕТХОВЕН - К ЭЛИЗЕ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6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" dur="173067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Цель и задачи рефера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Цель: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выявление позитивных и негативных сторон влияния музыки на организм челове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Задачи: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- изучить информационные источники – книги, энциклопедии, справочники, Интернет-ресурсы по данной тематик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- проанализировать полученную информаци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- сделать собственные выводы на основе полученной информации о влиянии музыки на организм челове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6" descr="173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38648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Общее представление о звуке. Слуховой путь человека.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57160" y="1928880"/>
            <a:ext cx="3314880" cy="39290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8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Constantia"/>
              </a:rPr>
              <a:t>С помощью звука такие физиологические функции, как пульс, сердечный ритм, дыхание, пищеварение, могут быть скоординированы. Особое влияние оказывает звук и на психическое состояние человек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Picture 7" descr="0520063101356"/>
          <p:cNvPicPr/>
          <p:nvPr/>
        </p:nvPicPr>
        <p:blipFill>
          <a:blip r:embed="rId2"/>
          <a:stretch/>
        </p:blipFill>
        <p:spPr>
          <a:xfrm>
            <a:off x="4214880" y="1785960"/>
            <a:ext cx="1785960" cy="2089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3"/>
          <a:stretch/>
        </p:blipFill>
        <p:spPr>
          <a:xfrm>
            <a:off x="6000840" y="2714760"/>
            <a:ext cx="2762280" cy="3543120"/>
          </a:xfrm>
          <a:prstGeom prst="rect">
            <a:avLst/>
          </a:prstGeom>
          <a:ln w="0">
            <a:noFill/>
          </a:ln>
        </p:spPr>
      </p:pic>
      <p:sp>
        <p:nvSpPr>
          <p:cNvPr id="32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173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рименение  целебных свойств музыки в древние време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4" name="Picture 7" descr="Музыка влияет на духовную сущность личности."/>
          <p:cNvPicPr/>
          <p:nvPr/>
        </p:nvPicPr>
        <p:blipFill>
          <a:blip r:embed="rId2"/>
          <a:stretch/>
        </p:blipFill>
        <p:spPr>
          <a:xfrm>
            <a:off x="6357960" y="1571760"/>
            <a:ext cx="2173320" cy="27572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8" descr="Влияние музыки на психику человека"/>
          <p:cNvPicPr/>
          <p:nvPr/>
        </p:nvPicPr>
        <p:blipFill>
          <a:blip r:embed="rId3"/>
          <a:stretch/>
        </p:blipFill>
        <p:spPr>
          <a:xfrm>
            <a:off x="357120" y="1571760"/>
            <a:ext cx="1928880" cy="2755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 Творчество &lt;i&gt;хиндустани&lt;/i&gt;."/>
          <p:cNvPicPr/>
          <p:nvPr/>
        </p:nvPicPr>
        <p:blipFill>
          <a:blip r:embed="rId4"/>
          <a:stretch/>
        </p:blipFill>
        <p:spPr>
          <a:xfrm>
            <a:off x="2928960" y="4286160"/>
            <a:ext cx="3071880" cy="23702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2571840" y="1571400"/>
            <a:ext cx="35719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Многие древнейшие учения содержат в себе различные утверждения и опыт, накопленный тысячелетиями, воздействия музыки на животных, растения и человека. Мудрые всегда признавали особую силу звук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514080"/>
            <a:ext cx="445788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42600" y="1643040"/>
            <a:ext cx="2886120" cy="3967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Музыкотерапия - одно из наиболее интересных и пока мало исследованных направлений традиционной медицин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2"/>
          <a:stretch/>
        </p:blipFill>
        <p:spPr>
          <a:xfrm>
            <a:off x="4214880" y="1428840"/>
            <a:ext cx="3929040" cy="3859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Занятия музыкой влияют на физиологию мозга"/>
          <p:cNvPicPr/>
          <p:nvPr/>
        </p:nvPicPr>
        <p:blipFill>
          <a:blip r:embed="rId3"/>
          <a:stretch/>
        </p:blipFill>
        <p:spPr>
          <a:xfrm>
            <a:off x="1143000" y="35719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502920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268128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Терапевтический эффект этой методики базируется на частотном колебании музыкальных звуков, резонирующих с отдельными органами, системами или всем организмом человека в цело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8" name="Picture 11" descr=" Музыкальная терапия для детей"/>
          <p:cNvPicPr/>
          <p:nvPr/>
        </p:nvPicPr>
        <p:blipFill>
          <a:blip r:embed="rId2"/>
          <a:stretch/>
        </p:blipFill>
        <p:spPr>
          <a:xfrm>
            <a:off x="1714680" y="4071960"/>
            <a:ext cx="1714320" cy="23432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Sound Therapy"/>
          <p:cNvPicPr/>
          <p:nvPr/>
        </p:nvPicPr>
        <p:blipFill>
          <a:blip r:embed="rId3"/>
          <a:stretch/>
        </p:blipFill>
        <p:spPr>
          <a:xfrm>
            <a:off x="4214880" y="1571760"/>
            <a:ext cx="3784680" cy="414000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6" descr="173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5386320" cy="842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100320" cy="39672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3000"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Музыкотерапия существует в двух основных формах: активной и рецептивной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83763"/>
                </a:solidFill>
                <a:latin typeface="Constantia"/>
              </a:rPr>
              <a:t>Активная музыкотерапия представляет собой терапевтически направленную, активную музыкальную деятельность: воспроизведение, фантазирование, импровизацию с помощью человеческого голоса и выбранных музыкальных инструментов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10" descr="8-3"/>
          <p:cNvPicPr/>
          <p:nvPr/>
        </p:nvPicPr>
        <p:blipFill>
          <a:blip r:embed="rId2"/>
          <a:stretch/>
        </p:blipFill>
        <p:spPr>
          <a:xfrm>
            <a:off x="4786200" y="3857760"/>
            <a:ext cx="1643040" cy="2428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8-1"/>
          <p:cNvPicPr/>
          <p:nvPr/>
        </p:nvPicPr>
        <p:blipFill>
          <a:blip r:embed="rId3"/>
          <a:stretch/>
        </p:blipFill>
        <p:spPr>
          <a:xfrm>
            <a:off x="4000680" y="1428840"/>
            <a:ext cx="2643120" cy="2077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9-1"/>
          <p:cNvPicPr/>
          <p:nvPr/>
        </p:nvPicPr>
        <p:blipFill>
          <a:blip r:embed="rId4"/>
          <a:stretch/>
        </p:blipFill>
        <p:spPr>
          <a:xfrm>
            <a:off x="6786720" y="2357280"/>
            <a:ext cx="2095200" cy="218628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6" descr="173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Музыкотерапия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1599840"/>
            <a:ext cx="361476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83763"/>
                </a:solidFill>
                <a:latin typeface="Constantia"/>
              </a:rPr>
              <a:t>	</a:t>
            </a:r>
            <a:r>
              <a:rPr b="1" lang="ru-RU" sz="1800" spc="-1" strike="noStrike">
                <a:solidFill>
                  <a:srgbClr val="083763"/>
                </a:solidFill>
                <a:latin typeface="Constantia"/>
              </a:rPr>
              <a:t>Рецептивная музыкотерапия предполагает процесс восприятия музыки с терапевтической целью. Участникам группы предлагают прослушать специально подобранные музыкальные произведения, а затем обсудить их собственные переживания, воспоминания, мысли, ассоциации, фантазии, возникающие у них в ходе прослушива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1" name="Picture 9" descr="Listen"/>
          <p:cNvPicPr/>
          <p:nvPr/>
        </p:nvPicPr>
        <p:blipFill>
          <a:blip r:embed="rId2"/>
          <a:stretch/>
        </p:blipFill>
        <p:spPr>
          <a:xfrm>
            <a:off x="4068720" y="1643040"/>
            <a:ext cx="1720800" cy="1143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8" descr="1020061785141"/>
          <p:cNvPicPr/>
          <p:nvPr/>
        </p:nvPicPr>
        <p:blipFill>
          <a:blip r:embed="rId3"/>
          <a:stretch/>
        </p:blipFill>
        <p:spPr>
          <a:xfrm>
            <a:off x="6572160" y="4929120"/>
            <a:ext cx="1857600" cy="1333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 Духовное значение звука"/>
          <p:cNvPicPr/>
          <p:nvPr/>
        </p:nvPicPr>
        <p:blipFill>
          <a:blip r:embed="rId4"/>
          <a:stretch/>
        </p:blipFill>
        <p:spPr>
          <a:xfrm>
            <a:off x="5072040" y="2857680"/>
            <a:ext cx="2095560" cy="200952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45c75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8:53:49Z</dcterms:created>
  <dc:creator>Домашний</dc:creator>
  <dc:description/>
  <dc:language>en-US</dc:language>
  <cp:lastModifiedBy>LEGION</cp:lastModifiedBy>
  <dcterms:modified xsi:type="dcterms:W3CDTF">2015-04-02T07:00:02Z</dcterms:modified>
  <cp:revision>55</cp:revision>
  <dc:subject/>
  <dc:title>Введение Общее представление о звуке. Слуховой путь человека Применение свойств музыки в древние времена музыкотерапия: что это? Для чего используется? Направления? Формы? Музыка Моцарта Музыка - это оружие! влияние музыки на развитие плода Отрицательное значение музыки Заключение Приложение 1   Интересные факты</dc:title>
</cp:coreProperties>
</file>