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5595-3868-4C29-A638-EE8B26224F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вязь универсальных учебных действий</a:t>
            </a:r>
            <a:br>
              <a:rPr sz="1200"/>
            </a:b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с содержанием учебных предме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7665-DAA7-48F2-A64A-F8A72FF265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 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м действиям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alibri"/>
              </a:rPr>
              <a:t>изучени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узыки будет способствовать формированию действи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а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и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1F61-DD62-41B1-93CA-1134E5116B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держание кур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 в жизни человека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омерности музыкального искусств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узыкальная картина мира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198D-70D6-4280-B326-1D2109F57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виды учебн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ш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альное музиц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о-пластическое дви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музыкальны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7833-9D6B-426D-A7FD-28138083B7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и изучения музык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 музыкаль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рез эмоциональное восприятие музы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воспит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цен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кусству, художественного вку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я музыки, интереса к музыке, образного и ассоциатив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9999"/>
                </a:solidFill>
                <a:latin typeface="Calibri"/>
              </a:rPr>
              <a:t>обогаще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 о музыкальном искусст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1881-AD5E-4DCF-AF85-2771909FDC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Результаты изучения предме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Личностн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креп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ной, этнической, гражданск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дент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чностн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мысл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жения искусства, расширение ценностной 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иобрет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альных навыков социокультурной адаптации  и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зитив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самооц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х музыкально-творческих возмож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2484-83A7-4D40-ABEE-4A218089D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 моти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ально-учебной деятельности и</a:t>
            </a:r>
            <a:br>
              <a:rPr sz="1200"/>
            </a:b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еал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ворческого потенц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дук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труднич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уховно-нравственных и этических чувств, эмоциональной отзывчивости, уважитель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к традициям друг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B769-4361-4EF7-B7DB-FDFE5224A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апредметные результа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наблю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 явлениями жизни и искусства, понимание их многообраз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риентирова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ультурном многообразии, участие в жизни социу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овладение способ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реализации твор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лов через понимание целей, выбор способов решения  проблем поискового характе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риме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логическим действ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план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нтроль и оценка учебных действий, умение корректировать свои 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вместной деятельности на основе сотрудни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Calibri"/>
              </a:rPr>
              <a:t>ум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спринимать окружающий мир во всём его многооб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BBC9-C494-4A00-AD49-72B7319342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метные результат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г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вк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устойчивого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нтере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видам музыкально-творческ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развит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удожественное восприят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оня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 ро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зыки в жизни человек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-нравственном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едставл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художественной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ртине ми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исполь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ементарных </a:t>
            </a: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мений и навы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воплощении содержания музыкальных произведений в различных видах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готов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менять полученные знания при организации культурного дос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здании композ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DD1F-605A-4F95-9E71-AC4D623AB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Универсальные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Calibri"/>
              </a:rPr>
              <a:t> учебные дейст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пособность субъекта к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развити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и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самосовершенствовани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путем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сознательного 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и </a:t>
            </a:r>
            <a:r>
              <a:rPr b="1" lang="en-GB" sz="1200" spc="-1" strike="noStrike">
                <a:solidFill>
                  <a:srgbClr val="ff00ff"/>
                </a:solidFill>
                <a:latin typeface="Calibri"/>
              </a:rPr>
              <a:t>активного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исвоения нового социального опы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200" spc="-1" strike="noStrike" u="sng">
                <a:solidFill>
                  <a:srgbClr val="ff00ff"/>
                </a:solidFill>
                <a:uFillTx/>
                <a:latin typeface="Calibri"/>
              </a:rPr>
              <a:t> </a:t>
            </a:r>
            <a:r>
              <a:rPr b="1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вокупность действий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учащегося, обеспечивающих его       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культурную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дентичность,                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оциальную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компетентность,                   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толерантность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способность к</a:t>
            </a:r>
            <a:r>
              <a:rPr b="0" lang="en-GB" sz="12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Calibri"/>
              </a:rPr>
              <a:t>самостоятельно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своению новых знаний и умений, включая организацию эт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Calibri"/>
              </a:rPr>
              <a:t>ВИДЫ 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Личност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Регуля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действия саморег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Познаватель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включая общеучебные, логические и знаково-симво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00ff"/>
                </a:solidFill>
                <a:latin typeface="Calibri"/>
              </a:rPr>
              <a:t>Коммуникативны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1031400" y="4626000"/>
            <a:ext cx="4605480" cy="373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Calibri"/>
              </a:rPr>
              <a:t>Функции универсальных учебных действ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возмож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учащегос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амостоятель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осуществлять деятельность учения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ставить учебные задач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нтролировать и оценивать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процесс и результат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создание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услов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для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развития личности и ее самореализаци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на основе компетентности 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«умени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читься</a:t>
            </a:r>
            <a:r>
              <a:rPr b="0" i="1" lang="en-GB" sz="1200" spc="-1" strike="noStrike">
                <a:solidFill>
                  <a:srgbClr val="0000ff"/>
                </a:solidFill>
                <a:latin typeface="Calibri"/>
              </a:rPr>
              <a:t>»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толера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</a:rPr>
              <a:t>обеспечени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успешного усвоения знани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и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формирование картины ми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и  </a:t>
            </a:r>
            <a:r>
              <a:rPr b="0" lang="en-GB" sz="1200" spc="-1" strike="noStrike">
                <a:solidFill>
                  <a:srgbClr val="0000ff"/>
                </a:solidFill>
                <a:latin typeface="Calibri"/>
              </a:rPr>
              <a:t>компетентностей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в любой предметной области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B68C-E3D9-4497-925B-2F997CEEB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ff"/>
                </a:solidFill>
                <a:latin typeface="Calibri"/>
              </a:rPr>
              <a:t>«Музыка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егулятивны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ознав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235E-BCE5-4905-B90E-A706663468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балансирова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обучающихся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огическ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наглядно-образного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знаково-символ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ыш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ающее риск развития формализма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4CCD-7E8C-4601-BF24-83534B2212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Личностные 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стетических и ценностных ориентаций учащих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итивной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оцен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ув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зненного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оптим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требности в творческом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самовыраж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риобщ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сийской гражданской идентичности и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59A4-3035-4D7E-A30E-EED6A2711B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оммуникативные</a:t>
            </a:r>
            <a:br>
              <a:rPr sz="1200"/>
            </a:b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эмпа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ум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ять выраженные в музыке настроения и чув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переда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и чувства и эмоции на основе творческого само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37BF-8882-48B8-8E8E-C646CF25AB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C3EC-19BE-47BF-B8C0-5E451748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C6C-7372-4121-B741-DBA4374B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393-3BF1-4417-96E1-561486C2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D8A-9CA1-4ACF-98BC-25C699BE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6CE1-1AE9-48A9-AF2F-F8ABEF08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75EE-8F7B-49E5-9096-E1DD77B4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5360-0C20-406D-A18C-AC14298F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1FB5-7996-451D-866F-ED61B9D1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1198-174B-4271-9087-7B13B09C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81C3-F56A-493C-86B0-370CCDD1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C789-123B-4B9B-8B1A-D3A8A17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401-B747-49C1-8E2F-B7CCF321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FDB6-3861-4CA9-877D-26CDAD30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9CCB-42BF-47AD-916C-90234016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2104-CBDD-4447-83E5-8C983F49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D119-8B00-4E60-834B-F145C678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43B6-85C4-4852-8A48-96683B62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152-BE1B-4401-B122-A44B6699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B0E-36FB-48CD-BADD-DDAEC236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047-61A0-4E55-BB87-63C5EDF2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BEF-64D9-4695-A453-E207090A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4E3-AFBC-4DA7-B2AE-5259E134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E70-364E-48EE-ACC6-945E9CBD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99C-DC9C-422A-8024-F7CE2889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59C4-6DBF-4557-B34A-E5B822CC46EA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2D9E-48D9-47E0-BDD8-5544C825093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9537-F2AC-4043-862E-407C27BCD33E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FF24-CC31-4494-9F15-F9AFD4B042A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400" cy="28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вязь универсальных учебных действий</a:t>
            </a:r>
            <a:br>
              <a:rPr sz="4000"/>
            </a:b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с содержанием учебных предметов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Познаватель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903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готовность к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им действиям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изуч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узыки будет способствовать формированию действий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 модел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одержание курс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 в жизни человека»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Закономерности музыкального искусства»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Музыкальная картина мира»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сновные виды учебной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деятельност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ушани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узы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струментальное музиц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зыкально-пластическое движ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раматизация музыкальных произвед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и изучения музыки: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 музыкальн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ультур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через эмоциональное восприятие музык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воспита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моционально-цен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отнош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 искусству, художественного вкус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риятия музыки, интереса к музыке, образного и ассоциативного мышл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обогащ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ний о музыкальном искусств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f01"/>
                </a:solidFill>
                <a:latin typeface="Tahoma"/>
              </a:rPr>
              <a:t>Результаты изучения предмет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228600" y="456840"/>
            <a:ext cx="918360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3300"/>
                </a:solidFill>
                <a:uFillTx/>
                <a:latin typeface="Tahoma"/>
              </a:rPr>
              <a:t>Личностные результат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Укреп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ультурной, этнической, гражданско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дентич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формирова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ичностног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мыс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ижения искусства, расширение ценностной сфер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чальных навыков социокультурной адаптации  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зитив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амооцен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х музыкально-творческих возможност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426920" y="1880280"/>
            <a:ext cx="29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-1358640"/>
            <a:ext cx="77932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574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 мотив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узыкально-учебной деятельности 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еализац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ворческого потенциал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одуктивно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отрудничество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уховно-нравственных и этических чувств, эмоциональной отзывчивости, уважительн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ношение к традициям других народ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-30528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етапредметные результаты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блюд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 явлениями жизни и искусства, понимание их многообраз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риент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культурном многообразии, участие в жизни социум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владение способность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реализации творческ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мыслов через понимание целей, выбор способов решения  проблем поискового характер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наково-символических и речевых средств для решения коммуникативных и познавательных зада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логическим действ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нтроль и оценка учебных действий, умение корректировать свои 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овместной деятельности на основе сотрудниче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спринимать окружающий мир во всём его многообраз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едметные результат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г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вку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устойчивого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нтере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ным видам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звит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художественное восприяти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рол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и в жизни человека и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уховно-нравственном развит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едставле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 художественной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артине ми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использ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элементарны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мений и навык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 воплощении содержания музыкальных произведений в различных видах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отовнос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именять полученные знания при организации культурного дос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час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создании компози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Музыка в жизни человек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ускник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у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осприним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музыку различных жанров, размышлять о музыкальных произведениях как способе выражения чувств и мыслей челове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эмоциональн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эстетически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кликать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кусство, выражая своё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к нему в различных видах музыкально-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ориентировать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музыкально-поэтическом творчеств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ногообразии музыкального фольклора России, родного кра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сопоставля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личные образцы народной и профессиональной музы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цен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ечественные народные музыкальные тради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621560" cy="533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Универсальные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ahoma"/>
              </a:rPr>
              <a:t> учебные действ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296280" cy="5759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0000"/>
          </a:bodyPr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пособность субъекта к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развити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и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самосовершенствовани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путем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сознательного 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и </a:t>
            </a:r>
            <a:r>
              <a:rPr b="1" lang="en-GB" sz="3200" spc="-1" strike="noStrike">
                <a:solidFill>
                  <a:srgbClr val="ff00ff"/>
                </a:solidFill>
                <a:latin typeface="Tahoma"/>
              </a:rPr>
              <a:t>активного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исвоения нового социального опы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5560" indent="-291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Tahoma"/>
              </a:rPr>
              <a:t> </a:t>
            </a:r>
            <a:r>
              <a:rPr b="1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вокупность действий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учащегося, обеспечивающих его       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культурную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дентичность,                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оциальную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компетентность,                   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толерантность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способность к</a:t>
            </a:r>
            <a:r>
              <a:rPr b="0" lang="en-GB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GB" sz="3600" spc="-1" strike="noStrike" u="sng">
                <a:solidFill>
                  <a:srgbClr val="ff00ff"/>
                </a:solidFill>
                <a:uFillTx/>
                <a:latin typeface="Tahoma"/>
              </a:rPr>
              <a:t>самостоятельному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своению новых знаний и умений, включая организацию этого процесс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-119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ahoma"/>
              </a:rPr>
              <a:t>воплощать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художественно-образное содержание и интонационно-мелодические особенности профессионального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родного творчества (в пении, слове, движении, играх, действах и др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ff"/>
                </a:solidFill>
                <a:latin typeface="Tahoma"/>
              </a:rPr>
              <a:t>получит возможность научиться</a:t>
            </a: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реал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творческий  потенциал, осуществляя собственные замысл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организовы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досуг, самостоятельную музыкально-творческую деятельность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Tahoma"/>
              </a:rPr>
              <a:t>музицироват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и использовать ИКТ в музыкальных игра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матическое планирование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9000" y="762120"/>
          <a:ext cx="8955000" cy="6433920"/>
        </p:xfrm>
        <a:graphic>
          <a:graphicData uri="http://schemas.openxmlformats.org/drawingml/2006/table">
            <a:tbl>
              <a:tblPr/>
              <a:tblGrid>
                <a:gridCol w="2630520"/>
                <a:gridCol w="2286000"/>
                <a:gridCol w="4038480"/>
              </a:tblGrid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одержание кур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Тематическое планир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Характеристика деятельности уча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узыка в жизни человека(30ч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бщённое представление об основных образно-эмоциональных сферах музыки и многообразии музыкальных жанров и стилей. Песня, танец, марш и их разновидности. Песенность, танцевальность, маршевость. Опера, балет, симфония, концерт, сюита, кантата, мюзик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0 ч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ые образно-эмоциональные сферы музыки. Общие представления о многообразии музыкальных жанров и стилей. Модификация жанров в современной музыке. Песня, танец, марш и их разновидности. Опера, балет, симфония, концерт, сюита, кантата, мюзикл. Песенность, танцевальность, маршевость, их значение в музы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зыкальные произведения разных жанров и стилей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мыш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 модификации жанров в современной музыке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злич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енность, танцевальность и маршевость в музыке.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равни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ие особенности произведений разных жанр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сполн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личные по характеру музыкальные произведения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нсценирова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сни, танцы, фрагменты опер, мюзиклов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мпровизиров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вокальная, инструментальная, танцевальная импровизации) с учётом характера основных жанров музыки.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существля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бственный музыкально-исполнительский замысел в пении и импровизац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ahoma"/>
              </a:rPr>
              <a:t>ВИДЫ 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413000"/>
            <a:ext cx="8856720" cy="51861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Личностны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Регуля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действия саморегу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Познаватель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включая общеучебные, логические и знаково-символ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00ff"/>
                </a:solidFill>
                <a:latin typeface="Tahoma"/>
              </a:rPr>
              <a:t>Коммуникативны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7480" y="-228960"/>
            <a:ext cx="8713800" cy="12193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ahoma"/>
              </a:rPr>
              <a:t>Функции универсальных учебных действий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640" y="1142640"/>
            <a:ext cx="8893080" cy="5599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4000"/>
          </a:bodyPr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возмож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учащегос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амостоятельно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осуществлять деятельность учения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ставить учебные задач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нтролировать и оценивать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процесс и результаты деятель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создание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услов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для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развития личности и ее самореализации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на основе компетентности 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«умени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читься</a:t>
            </a:r>
            <a:r>
              <a:rPr b="0" i="1" lang="en-GB" sz="3200" spc="-1" strike="noStrike">
                <a:solidFill>
                  <a:srgbClr val="0000ff"/>
                </a:solidFill>
                <a:latin typeface="Tahoma"/>
              </a:rPr>
              <a:t>»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толера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0">
              <a:lnSpc>
                <a:spcPct val="76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2840" indent="-304560">
              <a:lnSpc>
                <a:spcPct val="76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 u="sng">
                <a:solidFill>
                  <a:srgbClr val="0000ff"/>
                </a:solidFill>
                <a:uFillTx/>
                <a:latin typeface="Tahoma"/>
              </a:rPr>
              <a:t>обеспечение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успешного усвоения знани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и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формирование картины мира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и  </a:t>
            </a:r>
            <a:r>
              <a:rPr b="0" lang="en-GB" sz="3200" spc="-1" strike="noStrike">
                <a:solidFill>
                  <a:srgbClr val="0000ff"/>
                </a:solidFill>
                <a:latin typeface="Tahoma"/>
              </a:rPr>
              <a:t>компетентностей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в любой предметной области позн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CA23-A084-4E1A-A3D6-402BC1ADE295}" type="slidenum">
              <a:rPr b="0" lang="ru-RU" sz="1200" spc="-1" strike="noStrike">
                <a:solidFill>
                  <a:srgbClr val="00c993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179280" y="-100080"/>
            <a:ext cx="86425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9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Требования к результатам осво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ой образовательной 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Tahoma"/>
              </a:rPr>
              <a:t>«Музыка»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ир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ичност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коммуникативных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егулятивны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ознавательн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ейств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ение сбалансированного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развит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 обучающихся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логического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наглядно-образного 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знаково-символическог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ышл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ключающее риск развития формализма мыш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Личностные 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эстетических и ценностных ориентаций учащихс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озитивной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оцен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уваж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жизненного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оптимизм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потребности в творческом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амовыражен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Приобщ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 достижениям национальной, и мировой музыкальной культуры, образцам народной и профессиональной музыки обеспеч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Форм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оссийской гражданской идентичности и толерант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Коммуникативные</a:t>
            </a:r>
            <a:br>
              <a:rPr sz="4400"/>
            </a:br>
            <a:r>
              <a:rPr b="0" lang="ru-RU" sz="4400" spc="-1" strike="noStrike">
                <a:solidFill>
                  <a:srgbClr val="3333ff"/>
                </a:solidFill>
                <a:latin typeface="Tahoma"/>
              </a:rPr>
              <a:t>УУ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50164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эмпат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тие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ум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являть выраженные в музыке настроения и чув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Tahoma"/>
              </a:rPr>
              <a:t>передав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ои чувства и эмоции на основе творческого самовыраж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0:42:19Z</dcterms:created>
  <dc:creator>ИДК</dc:creator>
  <dc:description/>
  <dc:language>en-US</dc:language>
  <cp:lastModifiedBy>LEGION</cp:lastModifiedBy>
  <dcterms:modified xsi:type="dcterms:W3CDTF">2015-04-02T07:00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