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31A42-1074-42FE-8A81-AAC90ECDF8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37374-A331-4BFD-AA10-A71ED32DC3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21716-B427-427F-8E99-B508810229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3E84B-DD3C-4D28-83F6-56C337C096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E9718-C094-4A5F-9F3D-239EEE1057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C05F5-F20D-4F97-8BEE-C4217D940E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3CCEB-40C1-4EEC-8FDE-D15ED97765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E3EFC-F975-40AF-9B98-41476B01AD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09AC0-27F2-49EF-BD3E-D55755B233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E65B1-7081-4450-9A73-53A42BAA8B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00C41-568F-402A-BD07-6E0E14E49F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8C4F5-F997-45A2-B236-08048EBA48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D0102-042A-49D3-BE9F-0D9CB61E3E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E5E67-0432-418C-88EF-8BBB21EF5F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823E5-0578-41C0-A1DA-8EFB8FFB50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E42-6FA9-414B-8DDF-BB42EA56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BFE-CD5C-4570-B9E6-29DC8368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809-0F3A-49ED-B1A4-889C462D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2F1-8C0C-46B5-8083-4DA95D60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CC26-8D79-4A60-A35D-8CB4E865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796E-6CD0-4579-BBBB-9C29F448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5112-16E5-4124-8B9F-1CDE8A00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7F7B-F48B-4942-A71E-2EAB9429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8D8A-86AC-4000-8B8D-40E31C02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A3BB-DF39-4C10-9FA6-443FF24E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9361-EBD6-4EB0-8CD6-12910A09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43A-5949-4139-AC1E-56273127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6953-B000-4FA0-ADF8-08866254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C5E3-BEE8-45B0-B520-01C2FD94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A86C-FF6E-4CB8-9B59-F2B5E801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B4AF-4E28-434C-A6B2-5F35A733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276E-1C37-4722-991A-CBC22EB3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614-D36E-4F0C-8D0B-18AAAF61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909-3498-400C-B485-21C48262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BEC-E913-4278-B945-22A6EDF2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69D-A9DD-4EAD-8C47-89F4EEAD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5B0-0DB1-4D7F-A0E0-2250ADE4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C00-EE34-4ADA-88FE-BCAFC9BC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307-D944-4EB1-9B01-069330A9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56A9EFA-6FB9-404B-80FF-41F01B681988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B3B8660A-1F24-4F12-8C0C-81BCECA9840A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зец подза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5C6620F-3783-4122-8438-605F1A8C87D4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82EEF64E-394D-4F16-9247-8134001389C3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2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 rot="720000">
            <a:off x="409680" y="2384280"/>
            <a:ext cx="82612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611280" y="981000"/>
            <a:ext cx="81360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755640" y="1557360"/>
            <a:ext cx="7559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11280" y="620640"/>
            <a:ext cx="784836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2735280" cy="244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116000" y="3265560"/>
            <a:ext cx="734364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2124000" y="2637000"/>
            <a:ext cx="5472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2734920" cy="2016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900000" y="476280"/>
            <a:ext cx="770436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60720" y="3860640"/>
            <a:ext cx="3240000" cy="25196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395280" y="981000"/>
            <a:ext cx="799308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684360" y="630360"/>
            <a:ext cx="7775280" cy="67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755640" y="907920"/>
            <a:ext cx="77040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900000" y="3573360"/>
            <a:ext cx="7488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095640" cy="2879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971640" y="1844640"/>
            <a:ext cx="7272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2266920" y="2852640"/>
            <a:ext cx="4572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132000" y="393228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684360" y="512640"/>
            <a:ext cx="741672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735280" cy="36007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1:36Z</dcterms:modified>
  <cp:revision>3</cp:revision>
  <dc:subject/>
  <dc:title>Слайд 1</dc:title>
</cp:coreProperties>
</file>