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309F-0055-4901-819F-B63AF03E3F6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кита в музы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да ведут нас три кит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5254-3908-439D-9518-0607DA3DFAE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ес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сня приведёт нас в оп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 – музыкальный спектакль, где артисты пою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уют  в опере: солисты, хор, оркестр, управляет дирижё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DC98-B9E3-4D0C-A3A8-ACD648C5715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Та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нец приведёт нас в ба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ет – это музыкальный спектакль, где артисты танцу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алете участвуют танцоры, оркестр, управляет дирижё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7B6BA-2822-4939-B202-AB992284D23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Та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нец приведёт нас в оп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 – это музыкальный спектакль, где артисты по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пере участвуют солисты, хор, оркестр. Управляет дирижё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92A4-1922-477E-8FE5-134B9CF1869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Мар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ш приведёт нас в симфо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мфония – это крупное музыкальное произведение в 4-х частях для симфонического оркест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D121-1EF4-4F14-922E-35544918D86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Мар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ш приведёт нас в ба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ет – это музыкальный спектакль, где артисты танцу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алете участвуют танцоры, оркестр, управляет дирижё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5119-2C55-4DEC-A2BC-D1F9910F3AEC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Три кита встречаются в симфонии, опере и бале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имфонии песни, которые никто не поёт, танцы, которые никто не танцует, марши, которые никто не марширу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алете танцы танцуют, под марши маршируют, песни почти никогда не пою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пере песни всегда поют, танцы танцуют, под марши марширу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FB8B-A4FA-45C7-8A6D-4900AEA0B97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433E-AAEE-4A84-9EC7-437EBCE33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DBBA-1158-4376-B01D-C2C1876B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0B88-A98D-42B6-951A-6B5606FF0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D32F-C2CE-4C23-8ABB-ED79A8F6F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E9D6-2346-4A02-94E5-BF47AEFDB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ECDF-54DB-45E6-BA61-C81117FE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3773-714F-430E-8C69-51DE9369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6481-1606-4B46-BD11-60D8BF1B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31C0-8C74-409A-BA0E-E22D68B4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CCF1-1F29-4E63-906B-131363A2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881F-4CE4-46BB-8A1F-204BD2AF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6D53-CF2B-4FD9-A419-6ED110FB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B6E6-197F-4711-AA89-5569A774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FB01-7D02-4C69-9969-E46EB629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DDC1-9CB6-4FFB-AE1D-E9998980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17BB-55C9-4A8C-BE40-8AB2539D3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890C3-DA5F-449E-9EA7-6596DCC5F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30F9-C7E5-437D-9284-0D82BBBD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E926-FC20-499B-AD23-DE4469AC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B599-D0AB-40B5-98EC-56BFECE6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F2F7-C567-40A9-B41E-C38235DB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CF90-82F2-4DCC-880E-8A8D49E7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6CB6-83D7-438E-A916-861E8CFB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DCAB-27DB-44D8-9719-9FECA243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8351-9754-4233-BC84-1FAF5689494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A67C-6D85-4682-9084-8B7E49D016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Три кита в музык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уда ведут нас три кита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5" descr="image13931[1]"/>
          <p:cNvPicPr/>
          <p:nvPr/>
        </p:nvPicPr>
        <p:blipFill>
          <a:blip r:embed="rId1"/>
          <a:stretch/>
        </p:blipFill>
        <p:spPr>
          <a:xfrm>
            <a:off x="324000" y="4797360"/>
            <a:ext cx="2958840" cy="1727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HK4O4CAJA90U3CA7ORIBUCAJEC4MACATJYVERCACG9JZACAFX88KOCABAHM4BCA454TE8CAT9R9NUCAELL8BWCAC6NMQZCA4LL6BLCAYNCAGNCA1XDXYBCAVSOCQOCASC4IV5CAFXC7TACAQ9O1D9CA6O9BHU"/>
          <p:cNvPicPr/>
          <p:nvPr/>
        </p:nvPicPr>
        <p:blipFill>
          <a:blip r:embed="rId2"/>
          <a:stretch/>
        </p:blipFill>
        <p:spPr>
          <a:xfrm>
            <a:off x="7236000" y="189000"/>
            <a:ext cx="1625400" cy="13334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есн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есня приведёт нас в опер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пера – музыкальный спектакль, где артисты поют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частвуют  в опере: солисты, хор, оркестр, управляет дирижё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4" descr="O8IA7CAKY0U00CAEB6JVUCAVDUIZVCAW44JAQCAP06QA3CAXCRHRMCATPFEA7CAKVT987CAJ8EXTQCAGU9AP0CAPLCW11CAQRXLSVCA2OFITBCAKAQ2NKCAVC1Y0MCA0H3SISCAHBOA3GCA7L2FUTCA3XPR15"/>
          <p:cNvPicPr/>
          <p:nvPr/>
        </p:nvPicPr>
        <p:blipFill>
          <a:blip r:embed="rId1"/>
          <a:stretch/>
        </p:blipFill>
        <p:spPr>
          <a:xfrm>
            <a:off x="5651640" y="4508640"/>
            <a:ext cx="2449440" cy="108252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Танец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анец приведёт нас в бале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алет – это музыкальный спектакль, где артисты танцую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балете участвуют танцоры, оркестр, управляет дирижё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5" descr="is"/>
          <p:cNvPicPr/>
          <p:nvPr/>
        </p:nvPicPr>
        <p:blipFill>
          <a:blip r:embed="rId1"/>
          <a:stretch/>
        </p:blipFill>
        <p:spPr>
          <a:xfrm>
            <a:off x="6156360" y="4724280"/>
            <a:ext cx="1871640" cy="13687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Танец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анец приведёт нас в опер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пера – это музыкальный спектакль, где артисты пою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опере участвуют солисты, хор, оркестр. Управляет дирижё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Марш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арш приведёт нас в симфонию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имфония – это крупное музыкальное произведение в 4-х частях для симфонического оркестр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Марш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арш приведёт нас в бале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алет – это музыкальный спектакль, где артисты танцую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балете участвуют танцоры, оркестр, управляет дирижёр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4" descr="W2P2GCAS6F0URCA7MR1A7CAZRBEEBCADE8MN6CAKBF2TICASO0QQHCA9JO6XLCAH0J64KCA2FIG7QCATWWAJOCAZ6XXQRCAHH0AHCCAERI183CA283P3OCAFVTQSJCA94YC3TCAXTE3JQCAM8G71UCARZU2RN"/>
          <p:cNvPicPr/>
          <p:nvPr/>
        </p:nvPicPr>
        <p:blipFill>
          <a:blip r:embed="rId1"/>
          <a:stretch/>
        </p:blipFill>
        <p:spPr>
          <a:xfrm>
            <a:off x="5724360" y="4869000"/>
            <a:ext cx="1170000" cy="117000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508880" cy="138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Три кита встречаются в симфонии, опере и балет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симфонии песни, которые никто не поёт, танцы, которые никто не танцует, марши, которые никто не марширует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балете танцы танцуют, под марши маршируют, песни почти никогда не поют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опере песни всегда поют, танцы танцуют, под марши марширую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4" descr="i[3]"/>
          <p:cNvPicPr/>
          <p:nvPr/>
        </p:nvPicPr>
        <p:blipFill>
          <a:blip r:embed="rId1"/>
          <a:stretch/>
        </p:blipFill>
        <p:spPr>
          <a:xfrm>
            <a:off x="6732720" y="5013360"/>
            <a:ext cx="1655640" cy="129528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15:46:44Z</dcterms:created>
  <dc:creator>11</dc:creator>
  <dc:description/>
  <dc:language>en-US</dc:language>
  <cp:lastModifiedBy>LEGION</cp:lastModifiedBy>
  <dcterms:modified xsi:type="dcterms:W3CDTF">2015-04-02T07:02:41Z</dcterms:modified>
  <cp:revision>6</cp:revision>
  <dc:subject/>
  <dc:title>Три кита в музыке</dc:title>
</cp:coreProperties>
</file>