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A909-DA12-48CA-8279-40A0782FE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247-3828-4645-A336-7D669AD0680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B36-5CA0-4799-B0AF-6DF84DCF6BA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Хэви - ме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9FB3-CD28-41DA-875E-B3BD20F0C3D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C79F-D03F-48FD-863C-2F91F1BC365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475D-6551-4BE6-9EBF-5EC4B8B7383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3AFE-C968-483A-AF64-AC22EF32239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97E7-3C23-4B56-8B26-AE36AD40344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а и алеато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A4BB-56F0-45E4-92EE-40CA964039D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56C9-6910-44F5-9993-335C0FC94EB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881F-623F-4023-903D-6ECC1A4563A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jaz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04DD-AB25-4DDF-A45C-3A493E2260E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rock`n`roll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99D0-865D-41FC-A7BE-584B4B35C93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 музыкальная 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 и фолк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country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folk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1F62-23A1-4C27-AE99-5C04BF9A24E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ок-оп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rock opera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68EB-2DB3-40D6-8A1E-79EED7F1729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music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A0D0-E0B3-4D55-BB07-049F871B180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lam rock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DA1F-0984-46BB-AB57-F99A768CAEC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861D-B55E-4167-AA4A-20A2EA50794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 вол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391-F7BA-43B0-B1AE-25CBDEB8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DCF-12AE-4610-A7FF-9C803A6F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EE2-A90E-484C-9C61-74FD6579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76D-71A3-4E23-A9E5-480C5D7B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0E0A-C2B4-4C71-82BD-59FF111F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6982-BBE5-4CB4-B3AD-BB03404C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34F0-C56F-47FC-9CF8-07210C6C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6E64-7054-4405-BEF6-63D3484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F120-E9F3-495F-8458-02E0CB37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58E3-BDFD-4B21-ABBF-DE35AA66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3701-81B3-4493-887C-9716AD2F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D64-8669-4DDA-8F01-ABC83096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A078-C099-4382-AC28-915FAF9B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968D-EDF7-4819-8D34-180EFC0E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B396-ED35-4664-941A-4D4BD43F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DD60-0F8D-485F-B311-AEF98D65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F2B3-F59C-47B1-AAAF-7635294C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436-6E89-4128-B4FD-BAAA3EDE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32A-23F8-4EB7-90C9-DD0D8DBB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EC5-E2D8-4F08-B7B5-1AB3B514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808-CFEA-4651-888F-A3914163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6C0-4654-48CF-BF6D-6A02F82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14F-52AF-4CB0-998C-A0DC8BEF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491-E847-4D36-B1BB-38E8ECB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B759-F074-497E-AB8C-2AA5078629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751D-218D-4FC6-9F0D-725A6A0D8B6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215640"/>
            <a:ext cx="723888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5280" y="1736280"/>
            <a:ext cx="7308720" cy="18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МОЛОДЁЖНАЯ МУЗЫКАЛЬНАЯ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УЛЬТУР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63640" y="0"/>
            <a:ext cx="6046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униципальное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реднего общего образования  «Москаленский лицей»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оскаленского муниципального района Омской област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40360" y="4686480"/>
            <a:ext cx="4103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вторы работы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робьёв Н., Тебенко О., Коротина О., Баранов Е. (учащиеся 8 класса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уководитель: Баранова т.А.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читель музы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524720" y="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Приложение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987640" y="5997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Хэви - мета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heavy met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728720" y="508464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5" descr="IMG_0013"/>
          <p:cNvPicPr/>
          <p:nvPr/>
        </p:nvPicPr>
        <p:blipFill>
          <a:blip r:embed="rId1"/>
          <a:stretch/>
        </p:blipFill>
        <p:spPr>
          <a:xfrm>
            <a:off x="3851280" y="1989000"/>
            <a:ext cx="3456000" cy="28242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Поп-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pop music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5661000"/>
            <a:ext cx="73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5" descr="IMG_0014"/>
          <p:cNvPicPr/>
          <p:nvPr/>
        </p:nvPicPr>
        <p:blipFill>
          <a:blip r:embed="rId1"/>
          <a:stretch/>
        </p:blipFill>
        <p:spPr>
          <a:xfrm>
            <a:off x="5508720" y="2349360"/>
            <a:ext cx="3240000" cy="24973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2" name="Picture 6" descr="IMG_0015"/>
          <p:cNvPicPr/>
          <p:nvPr/>
        </p:nvPicPr>
        <p:blipFill>
          <a:blip r:embed="rId2"/>
          <a:stretch/>
        </p:blipFill>
        <p:spPr>
          <a:xfrm>
            <a:off x="2050920" y="1844640"/>
            <a:ext cx="2421000" cy="26654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эп </a:t>
            </a: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0360" y="551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5" descr="Копия IMG_0017"/>
          <p:cNvPicPr/>
          <p:nvPr/>
        </p:nvPicPr>
        <p:blipFill>
          <a:blip r:embed="rId1"/>
          <a:stretch/>
        </p:blipFill>
        <p:spPr>
          <a:xfrm>
            <a:off x="6443640" y="1773360"/>
            <a:ext cx="2241720" cy="3024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8" name="Picture 6" descr="IMG_0017"/>
          <p:cNvPicPr/>
          <p:nvPr/>
        </p:nvPicPr>
        <p:blipFill>
          <a:blip r:embed="rId2"/>
          <a:stretch/>
        </p:blipFill>
        <p:spPr>
          <a:xfrm>
            <a:off x="2195640" y="1484280"/>
            <a:ext cx="2952720" cy="2855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280" y="549360"/>
            <a:ext cx="7380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ейв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ra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Picture 5" descr="IMG_0018"/>
          <p:cNvPicPr/>
          <p:nvPr/>
        </p:nvPicPr>
        <p:blipFill>
          <a:blip r:embed="rId1"/>
          <a:stretch/>
        </p:blipFill>
        <p:spPr>
          <a:xfrm>
            <a:off x="2050920" y="1916280"/>
            <a:ext cx="3121200" cy="21747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84" name="Picture 6" descr="Копия IMG_0018"/>
          <p:cNvPicPr/>
          <p:nvPr/>
        </p:nvPicPr>
        <p:blipFill>
          <a:blip r:embed="rId2"/>
          <a:stretch/>
        </p:blipFill>
        <p:spPr>
          <a:xfrm>
            <a:off x="5724360" y="2565360"/>
            <a:ext cx="3022920" cy="2171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Альтернативн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lternati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70200" y="537372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5" descr="IMG_0019"/>
          <p:cNvPicPr/>
          <p:nvPr/>
        </p:nvPicPr>
        <p:blipFill>
          <a:blip r:embed="rId1"/>
          <a:stretch/>
        </p:blipFill>
        <p:spPr>
          <a:xfrm>
            <a:off x="6732720" y="2060640"/>
            <a:ext cx="1581120" cy="2808360"/>
          </a:xfrm>
          <a:prstGeom prst="rect">
            <a:avLst/>
          </a:prstGeom>
          <a:ln w="572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0" name="Picture 6" descr="Копия IMG_0019"/>
          <p:cNvPicPr/>
          <p:nvPr/>
        </p:nvPicPr>
        <p:blipFill>
          <a:blip r:embed="rId2"/>
          <a:stretch/>
        </p:blipFill>
        <p:spPr>
          <a:xfrm>
            <a:off x="2195640" y="1844640"/>
            <a:ext cx="1868400" cy="2879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35280" y="475920"/>
            <a:ext cx="73087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Сонорика и алеатор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195640" y="1413000"/>
            <a:ext cx="633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404280"/>
            <a:ext cx="738036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узыкальный авангар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vant-gard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835280" y="5300640"/>
            <a:ext cx="730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5" descr="IMG_0020"/>
          <p:cNvPicPr/>
          <p:nvPr/>
        </p:nvPicPr>
        <p:blipFill>
          <a:blip r:embed="rId1"/>
          <a:stretch/>
        </p:blipFill>
        <p:spPr>
          <a:xfrm>
            <a:off x="4211640" y="2492280"/>
            <a:ext cx="2536920" cy="24307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25120" y="333000"/>
            <a:ext cx="74185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 в Росс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63640" y="1557360"/>
            <a:ext cx="406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408720" y="1700280"/>
            <a:ext cx="2735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6" descr="Копия IMG_0021"/>
          <p:cNvPicPr/>
          <p:nvPr/>
        </p:nvPicPr>
        <p:blipFill>
          <a:blip r:embed="rId1"/>
          <a:stretch/>
        </p:blipFill>
        <p:spPr>
          <a:xfrm>
            <a:off x="2484360" y="4581360"/>
            <a:ext cx="2567160" cy="2040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2411280" y="0"/>
            <a:ext cx="64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771640" y="692280"/>
            <a:ext cx="5640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Джаз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jaz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12" descr="IMG_0002"/>
          <p:cNvPicPr/>
          <p:nvPr/>
        </p:nvPicPr>
        <p:blipFill>
          <a:blip r:embed="rId1"/>
          <a:stretch/>
        </p:blipFill>
        <p:spPr>
          <a:xfrm>
            <a:off x="2124000" y="1628640"/>
            <a:ext cx="2881440" cy="223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18" name="Picture 13" descr="IMG_0004"/>
          <p:cNvPicPr/>
          <p:nvPr/>
        </p:nvPicPr>
        <p:blipFill>
          <a:blip r:embed="rId2"/>
          <a:stretch/>
        </p:blipFill>
        <p:spPr>
          <a:xfrm>
            <a:off x="5508720" y="2133720"/>
            <a:ext cx="3241440" cy="22190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19" name="Text Box 14"/>
          <p:cNvSpPr/>
          <p:nvPr/>
        </p:nvSpPr>
        <p:spPr>
          <a:xfrm>
            <a:off x="2556000" y="4941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7520" y="47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Рок-н-рол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rock`n`roll</a:t>
            </a: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4" descr="IMG_0006"/>
          <p:cNvPicPr/>
          <p:nvPr/>
        </p:nvPicPr>
        <p:blipFill>
          <a:blip r:embed="rId1"/>
          <a:stretch/>
        </p:blipFill>
        <p:spPr>
          <a:xfrm>
            <a:off x="5796000" y="2492280"/>
            <a:ext cx="3024000" cy="2259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24" name="Picture 5" descr="IMG_0005"/>
          <p:cNvPicPr/>
          <p:nvPr/>
        </p:nvPicPr>
        <p:blipFill>
          <a:blip r:embed="rId2"/>
          <a:stretch/>
        </p:blipFill>
        <p:spPr>
          <a:xfrm>
            <a:off x="2050920" y="2060640"/>
            <a:ext cx="3384720" cy="21700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2050920" y="508464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7520" y="620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антри-рок и фолк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ountry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folk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IMG_0007"/>
          <p:cNvPicPr/>
          <p:nvPr/>
        </p:nvPicPr>
        <p:blipFill>
          <a:blip r:embed="rId1"/>
          <a:stretch/>
        </p:blipFill>
        <p:spPr>
          <a:xfrm>
            <a:off x="2340000" y="2060640"/>
            <a:ext cx="2808360" cy="1950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0" name="Picture 5" descr="Копия IMG_0007"/>
          <p:cNvPicPr/>
          <p:nvPr/>
        </p:nvPicPr>
        <p:blipFill>
          <a:blip r:embed="rId2"/>
          <a:stretch/>
        </p:blipFill>
        <p:spPr>
          <a:xfrm>
            <a:off x="5796000" y="2565360"/>
            <a:ext cx="2879640" cy="1905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2411280" y="4724280"/>
            <a:ext cx="61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5640" y="549000"/>
            <a:ext cx="5297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ок-опер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rock opera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340000" y="4581360"/>
            <a:ext cx="597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Рисунок 4" descr="лицей032.jpg"/>
          <p:cNvPicPr/>
          <p:nvPr/>
        </p:nvPicPr>
        <p:blipFill>
          <a:blip r:embed="rId1"/>
          <a:stretch/>
        </p:blipFill>
        <p:spPr>
          <a:xfrm>
            <a:off x="2124000" y="1916280"/>
            <a:ext cx="2592360" cy="21081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7" name="Рисунок 5" descr="лицей030.jpg"/>
          <p:cNvPicPr/>
          <p:nvPr/>
        </p:nvPicPr>
        <p:blipFill>
          <a:blip r:embed="rId2"/>
          <a:stretch/>
        </p:blipFill>
        <p:spPr>
          <a:xfrm>
            <a:off x="5724360" y="2421000"/>
            <a:ext cx="2592720" cy="2112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7520" y="549360"/>
            <a:ext cx="738648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юзик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music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54200" y="544500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5" descr="IMG_0009"/>
          <p:cNvPicPr/>
          <p:nvPr/>
        </p:nvPicPr>
        <p:blipFill>
          <a:blip r:embed="rId1"/>
          <a:stretch/>
        </p:blipFill>
        <p:spPr>
          <a:xfrm>
            <a:off x="2627280" y="1989000"/>
            <a:ext cx="1565280" cy="3240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3" name="Picture 6" descr="Копия IMG_0009"/>
          <p:cNvPicPr/>
          <p:nvPr/>
        </p:nvPicPr>
        <p:blipFill>
          <a:blip r:embed="rId2"/>
          <a:stretch/>
        </p:blipFill>
        <p:spPr>
          <a:xfrm>
            <a:off x="6372360" y="1989000"/>
            <a:ext cx="2320920" cy="3314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7520" y="333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Глэм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lam rock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27280" y="52293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MG_0010"/>
          <p:cNvPicPr/>
          <p:nvPr/>
        </p:nvPicPr>
        <p:blipFill>
          <a:blip r:embed="rId1"/>
          <a:stretch/>
        </p:blipFill>
        <p:spPr>
          <a:xfrm>
            <a:off x="5580000" y="2276640"/>
            <a:ext cx="3024360" cy="286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9" name="Picture 6" descr="Копия IMG_0010"/>
          <p:cNvPicPr/>
          <p:nvPr/>
        </p:nvPicPr>
        <p:blipFill>
          <a:blip r:embed="rId2"/>
          <a:stretch/>
        </p:blipFill>
        <p:spPr>
          <a:xfrm>
            <a:off x="2340000" y="1773360"/>
            <a:ext cx="214956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63280" y="549000"/>
            <a:ext cx="7380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Этническ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5" descr="IMG_0011"/>
          <p:cNvPicPr/>
          <p:nvPr/>
        </p:nvPicPr>
        <p:blipFill>
          <a:blip r:embed="rId1"/>
          <a:stretch/>
        </p:blipFill>
        <p:spPr>
          <a:xfrm>
            <a:off x="6300720" y="2276640"/>
            <a:ext cx="1995480" cy="25192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55" name="Picture 6" descr="Копия IMG_0011"/>
          <p:cNvPicPr/>
          <p:nvPr/>
        </p:nvPicPr>
        <p:blipFill>
          <a:blip r:embed="rId2"/>
          <a:stretch/>
        </p:blipFill>
        <p:spPr>
          <a:xfrm>
            <a:off x="2124000" y="1557360"/>
            <a:ext cx="3529080" cy="25668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7520" y="404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«Новая волна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new wave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35280" y="551664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5" descr="IMG_0012"/>
          <p:cNvPicPr/>
          <p:nvPr/>
        </p:nvPicPr>
        <p:blipFill>
          <a:blip r:embed="rId1"/>
          <a:stretch/>
        </p:blipFill>
        <p:spPr>
          <a:xfrm>
            <a:off x="6516720" y="2060640"/>
            <a:ext cx="234792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61" name="Picture 6" descr="Копия IMG_0012"/>
          <p:cNvPicPr/>
          <p:nvPr/>
        </p:nvPicPr>
        <p:blipFill>
          <a:blip r:embed="rId2"/>
          <a:stretch/>
        </p:blipFill>
        <p:spPr>
          <a:xfrm>
            <a:off x="2484360" y="1773360"/>
            <a:ext cx="1881360" cy="3384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51:35Z</dcterms:created>
  <dc:creator>Юлия</dc:creator>
  <dc:description/>
  <dc:language>en-US</dc:language>
  <cp:lastModifiedBy>LEGION</cp:lastModifiedBy>
  <dcterms:modified xsi:type="dcterms:W3CDTF">2015-04-02T07:04:46Z</dcterms:modified>
  <cp:revision>18</cp:revision>
  <dc:subject/>
  <dc:title>Семь рекреационных мест Омской области</dc:title>
</cp:coreProperties>
</file>