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F396-0FB5-48FF-B47D-2EA8B66A0B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РЕССИОНИЗМ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ретдинова Айсылу Р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узыки и МХ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"Гимназия №1", с. Верхнеярке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7D16-7749-41C6-9510-D1945BD8EA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Домашнее зада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7477-8B3C-4330-BA45-8640C2F9438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A4B2-B767-4918-B58C-D2CC69F0B7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мпрессион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французского сло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essio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печатление) -направление в искусстве, возникшее во Франции во второй половине 19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E984-C743-4F0A-91E5-027C6D31AA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 художники – импрессионис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 М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иль Писсар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уард М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юст Ренуа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гар Де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91E0-32D7-48CE-8505-F39F2935B8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здн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98BC-C4FD-4C62-9B8A-CCF9414AAE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бан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95C7-5BEF-4F0E-BE56-B9D34AB862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рдина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способление, служащее для  изменения тембра музыкального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28B3-7874-4199-AD2F-804D41ACF3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Песня о картинках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зыка Григория Гладков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ова Александра Кушн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на р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ль и белый ин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ад и облака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нежная равн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оле и шалаш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ЕЙЗ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шку кофе на ст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морс в большом графин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розу в хруста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ронзовую в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грушу, или тор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се предметы ср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й, что это НАТЮРМ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, что с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ит кто-нибудь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ц в плаще старин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 робе верхол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тчик, или балер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олька, твой сос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ОРТ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3B70-070F-4B6C-8638-9175D9F23D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3BF-E039-43DE-AC65-76CAFE60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95E-1E3A-4ED2-8F6A-FFEE282B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5AE-F49E-4C66-B0D5-6651C35F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583-FBE9-4286-82F3-BDC37B08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68F1F-F767-4A60-899D-57AC3FFD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79B15-152E-4C0B-8879-300835D0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806CB-0E5A-4BF9-BC50-5BE51CC3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17F09-DBB4-4316-9423-4CF39844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79448-9550-4EB7-9893-AB8E1416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E31D6-359D-4313-86B3-37F1C472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E541C-3D98-420B-861E-1D288C99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FA2-F716-415C-81C9-EFEE7148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CCED7-4BB6-43C7-A3A4-CC1002A7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5D501-7335-414C-9B6D-67AB8076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49314-B5BD-4203-82E9-21ACA504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B15AE-5976-4E93-9247-84E87A4E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E4027-4062-48EC-BEF5-2B905C42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049-CE63-46D3-A934-CB7A456A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D6F-7DF7-4151-A3FA-B311899C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0CB-C393-4976-B6D4-23EE4295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9E9-5140-438F-9BF8-55ADF639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436-8316-4999-AA59-99D976DC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BCE-3393-4F7F-8688-6D1EC245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EC0-5751-47C4-950F-370519FC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AF69-05BA-422C-913F-B9E86191A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A9DF-284F-41C5-B824-18E6AC3E33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МПРЕССИОНИЗМ 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ретдинова Айсылу Рим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узыки и МХ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БУ "Гимназия №1", с. Верхнеяркее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10199"/>
                </a:solidFill>
                <a:latin typeface="Tahoma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333360"/>
            <a:ext cx="6400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Камиль Писсарро Бульвар Монтмартр в Париже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0" descr=""/>
          <p:cNvPicPr/>
          <p:nvPr/>
        </p:nvPicPr>
        <p:blipFill>
          <a:blip r:embed="rId3"/>
          <a:stretch/>
        </p:blipFill>
        <p:spPr>
          <a:xfrm>
            <a:off x="0" y="3387600"/>
            <a:ext cx="4572000" cy="347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1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83664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Импрессиониз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т французского слов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essio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впечатление)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направление в искусстве, возникшее во Франции во второй половине 19 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ранцузские художники – импрессионист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од  Мон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миль Писсарр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уард Ма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гюст Ренуа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гар Де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179280" y="282600"/>
            <a:ext cx="5524560" cy="6575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805360"/>
            <a:ext cx="4546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лод Дебюс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80000" y="5660640"/>
            <a:ext cx="35640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здне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67040" cy="6669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950080"/>
            <a:ext cx="3610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орис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в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96000" y="5660640"/>
            <a:ext cx="289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бан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586400" cy="354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356000" y="3216240"/>
            <a:ext cx="4788000" cy="3641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464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43560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урдина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способление, служащее для  изменения тембра музыкального инструмен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Песня о картинках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зыка Григория Гладков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а Александра Кушн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ад и облака,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ЕЙЗАЖ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0720" y="1905120"/>
            <a:ext cx="418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й, что это НАТЮРМОР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, что с карти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ётчик, или балер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Колька, твой сосед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ОРТР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5:39:09Z</dcterms:created>
  <dc:creator>Пользватель</dc:creator>
  <dc:description/>
  <dc:language>en-US</dc:language>
  <cp:lastModifiedBy>LEGION</cp:lastModifiedBy>
  <dcterms:modified xsi:type="dcterms:W3CDTF">2015-04-02T07:05:07Z</dcterms:modified>
  <cp:revision>9</cp:revision>
  <dc:subject/>
  <dc:title>ИМПРЕССИОНИЗМ    В МУЗЫКЕ</dc:title>
</cp:coreProperties>
</file>