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961C3-4826-4F49-B07B-E2FE4ECF50BE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МПРЕССИОНИЗМ  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сретдинова Айсылу Римов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итель музыки и МХ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БУ "Гимназия №1", с. Верхнеяркее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EACB6-B328-4365-81E6-ED662C147D3D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eece1"/>
                </a:solidFill>
                <a:latin typeface="Calibri"/>
              </a:rPr>
              <a:t>Домашнее задание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рисовать иллюстрацию к музыкальному произведению («Празднества», «Хабанера» - на выбор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FC447-EA21-41C7-B5DC-EF2A1E253470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Цель урока: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ознакомить учащихся с новым направлением в искусстве – импрессионизмом, рассмотреть особенности проявления импрессионизма в музыке и живопис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D6C33-75E8-4225-9D1D-ED3FE61EF298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Импрессионизм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от французского слова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pression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впечатление) -направление в искусстве, возникшее во Франции во второй половине 19 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B8ECC-0F0A-416F-B476-D574CEA0A3CC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ранцузские художники – импрессионисты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од  Мон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миль Писсарр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дуард Ман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гюст Ренуар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дгар Дег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FDE32-31D3-4E7A-9A8B-15654E62EC63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од Дебюсс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разднеств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DEF20-6254-4F20-B2BF-6982E81B9416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рис Раве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бане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420F0-06D6-468F-A690-B261455877A9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урдина –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риспособление, служащее для  изменения тембра музыкального инструмент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8EF3D-270E-4691-A03A-2EAFCA64369D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eece1"/>
                </a:solidFill>
                <a:latin typeface="Calibri"/>
              </a:rPr>
              <a:t>Песня о картинках</a:t>
            </a:r>
            <a:br>
              <a:rPr sz="18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Музыка Григория Гладкова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Слова Александра Кушнер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eece1"/>
                </a:solidFill>
                <a:latin typeface="Calibri"/>
              </a:rPr>
              <a:t>1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Если видишь на картин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рисована рек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ли ель и белый иней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ли сад и облака,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ли снежная равнин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ли поле и шалаш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язательно карти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зывается ПЕЙЗАЖ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eece1"/>
                </a:solidFill>
                <a:latin typeface="Calibri"/>
              </a:rPr>
              <a:t>2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Если видишь на картин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ашку кофе на столе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ли морс в большом графине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ли розу в хрустале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ли бронзовую вазу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ли грушу, или торт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ли все предметы сразу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най, что это НАТЮРМОР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eece1"/>
                </a:solidFill>
                <a:latin typeface="Calibri"/>
              </a:rPr>
              <a:t>3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Если видишь, что с карти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мотрит кто-нибудь на нас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ли принц в плаще старинном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ли в робе верхолаз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ётчик, или балерин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ли Колька, твой сосед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язательно карти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зывается ПОРТР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08710-E884-4D60-BA6A-5CDCC4EEE656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13D87-8535-4C0B-BE7D-F1468E000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DC10E-7A24-4E85-89E4-E8960BB6E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32AD7-1A3E-4F6C-8228-4E4E41B6C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F5177-5440-4FA4-8F5B-83FC03050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E68FDD-3630-45BC-93EC-A8A2CDD31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836728-F631-48AD-8BFA-FACA73DFD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776405-1536-4E35-B268-166D60F99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52DC34-8A67-4444-94EC-9C7A15078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226918-5493-4F77-97A5-3EF94C81F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6DC7E1-E3FE-4098-8A1E-D715E972C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A6F435-4181-4CD0-AB5A-1C6C4BA94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E4F7B-A7CC-4CF7-B49D-07126A58D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0AF615-DA18-4374-B84E-5DD0C7115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C9BE63-C35D-4FA8-923A-FF279D8A8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C4C1F4-6187-4CDC-9C1B-9E843AB77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7C5024-9F26-463F-B393-2F464529D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E68DAF-1736-401A-9A3F-86C77F513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FD522-99F3-48E0-AC5A-22ACC85A1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C1637-D11E-471D-BB7F-7F54038DA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EB08F-06C9-4367-9E46-83FDB8A48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81AA5-5D40-47AC-8E8C-66F54046A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5E44F-E902-4223-906E-BFE8F8F75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8278F-8F2F-452D-8432-481B49C48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0BC17-BAB9-4401-B97A-C8BBC7177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82264-9FB0-4A71-9C69-4CC72B839EA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F9FA3-A95C-47B8-AB41-9D7373092B25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ИМПРЕССИОНИЗМ   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39280" y="3645000"/>
            <a:ext cx="799308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сретдинова Айсылу Римовн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читель музыки и МХК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ОБУ "Гимназия №1", с. Верхнеяркеево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10199"/>
                </a:solidFill>
                <a:latin typeface="Tahoma"/>
              </a:rPr>
              <a:t>Домашнее задание: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Нарисовать иллюстрацию к музыкальному произведению («Празднества», «Хабанера» - на выбор)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403280" y="333360"/>
            <a:ext cx="6400800" cy="59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Цель урока: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Познакомить учащихся с новым направлением в искусстве – импрессионизмом, рассмотреть особенности проявления импрессионизма в музыке и живописи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15" descr=""/>
          <p:cNvPicPr/>
          <p:nvPr/>
        </p:nvPicPr>
        <p:blipFill>
          <a:blip r:embed="rId1"/>
          <a:stretch/>
        </p:blipFill>
        <p:spPr>
          <a:xfrm>
            <a:off x="0" y="0"/>
            <a:ext cx="4572000" cy="34383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3" descr="Камиль Писсарро Бульвар Монтмартр в Париже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30" descr=""/>
          <p:cNvPicPr/>
          <p:nvPr/>
        </p:nvPicPr>
        <p:blipFill>
          <a:blip r:embed="rId3"/>
          <a:stretch/>
        </p:blipFill>
        <p:spPr>
          <a:xfrm>
            <a:off x="0" y="3387600"/>
            <a:ext cx="4572000" cy="34704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31" descr=""/>
          <p:cNvPicPr/>
          <p:nvPr/>
        </p:nvPicPr>
        <p:blipFill>
          <a:blip r:embed="rId4"/>
          <a:stretch/>
        </p:blipFill>
        <p:spPr>
          <a:xfrm>
            <a:off x="4572000" y="3429000"/>
            <a:ext cx="4572000" cy="3429000"/>
          </a:xfrm>
          <a:prstGeom prst="rect">
            <a:avLst/>
          </a:prstGeom>
          <a:ln w="0">
            <a:noFill/>
          </a:ln>
        </p:spPr>
      </p:pic>
      <p:sp>
        <p:nvSpPr>
          <p:cNvPr id="1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836640"/>
            <a:ext cx="64008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«Импрессионизм»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(от французского слова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mpression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– впечатление)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-направление в искусстве, возникшее во Франции во второй половине 19 век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0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Французские художники – импрессионисты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Клод  Моне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Камиль Писсарро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Эдуард Мане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Огюст Ренуар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Эдгар Дег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16" descr=""/>
          <p:cNvPicPr/>
          <p:nvPr/>
        </p:nvPicPr>
        <p:blipFill>
          <a:blip r:embed="rId1"/>
          <a:stretch/>
        </p:blipFill>
        <p:spPr>
          <a:xfrm>
            <a:off x="179280" y="282600"/>
            <a:ext cx="5524560" cy="657540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5805360"/>
            <a:ext cx="454644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Клод Дебюсс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580000" y="5660640"/>
            <a:ext cx="3564000" cy="94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Празднеств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0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6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4667040" cy="666900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5950080"/>
            <a:ext cx="361008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Морис 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Равель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796000" y="5660640"/>
            <a:ext cx="289080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Хабанер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0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4" descr=""/>
          <p:cNvPicPr/>
          <p:nvPr/>
        </p:nvPicPr>
        <p:blipFill>
          <a:blip r:embed="rId1"/>
          <a:stretch/>
        </p:blipFill>
        <p:spPr>
          <a:xfrm>
            <a:off x="0" y="189000"/>
            <a:ext cx="4586400" cy="35463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5" descr=""/>
          <p:cNvPicPr/>
          <p:nvPr/>
        </p:nvPicPr>
        <p:blipFill>
          <a:blip r:embed="rId2"/>
          <a:stretch/>
        </p:blipFill>
        <p:spPr>
          <a:xfrm>
            <a:off x="4356000" y="3216240"/>
            <a:ext cx="4788000" cy="364176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4643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0" y="3886200"/>
            <a:ext cx="4356000" cy="278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Сурдина –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испособление, служащее для  изменения тембра музыкального инструмента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10199"/>
                </a:solidFill>
                <a:latin typeface="Tahoma"/>
              </a:rPr>
              <a:t>Песня о картинках</a:t>
            </a:r>
            <a:br>
              <a:rPr sz="28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Музыка Григория Гладкова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лова Александра Кушнер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1.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Если видишь на картин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арисована река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Или ель и белый иней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Или сад и облака,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Или снежная равнина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Или поле и шалаш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бязательно картин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азывается ПЕЙЗАЖ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2.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Если видишь на картин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Чашку кофе на столе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Или морс в большом графине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Или розу в хрустале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00720" y="1905120"/>
            <a:ext cx="4186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Или бронзовую вазу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Или грушу, или торт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Или все предметы сразу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Знай, что это НАТЮРМОРТ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3.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Если видишь, что с картины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мотрит кто-нибудь на нас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Или принц в плаще старинном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Или в робе верхолаз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Лётчик, или балерина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Или Колька, твой сосед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бязательно картин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азывается ПОРТРЕТ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6T15:39:09Z</dcterms:created>
  <dc:creator>Пользватель</dc:creator>
  <dc:description/>
  <dc:language>en-US</dc:language>
  <cp:lastModifiedBy>LEGION</cp:lastModifiedBy>
  <dcterms:modified xsi:type="dcterms:W3CDTF">2015-04-02T07:05:07Z</dcterms:modified>
  <cp:revision>9</cp:revision>
  <dc:subject/>
  <dc:title>ИМПРЕССИОНИЗМ    В МУЗЫКЕ</dc:title>
</cp:coreProperties>
</file>