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2ADA-EA9B-4B78-BD7D-293ADB71FC0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РЕССИОНИЗМ 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ретдинова Айсылу Рим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узыки и МХ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У "Гимназия №1", с. Верхнеярке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E6AD-E984-4C0D-BB0D-F06A8E65BBA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Calibri"/>
              </a:rPr>
              <a:t>Домашнее зада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исовать иллюстрацию к музыкальному произведению («Празднества», «Хабанера» - на выбо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131A-2C89-4625-8CD3-CAE5B9EB2FF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накомить учащихся с новым направлением в искусстве – импрессионизмом, рассмотреть особенности проявления импрессионизма в музыке и живо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7745-7A2F-4498-A0BB-A86C6C7CECA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мпрессиониз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 французского сло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essio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печатление) -направление в искусстве, возникшее во Франции во второй половине 19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2DDF-109A-4478-BC15-4FE1F208251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узские художники – импрессионист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од  Мо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иль Писсар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дуард М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юст Ренуа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дгар Де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FF03-476F-4F34-ACA8-91598A70814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од Дебюс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здне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6FCA-62A8-4A92-A6A0-C66F994D8A9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ис Рав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бан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C3F8-A25A-4CB5-B948-79C2A65AB79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рдина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способление, служащее для  изменения тембра музыкального инстру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BF93-7197-4858-9382-708C0159833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ece1"/>
                </a:solidFill>
                <a:latin typeface="Calibri"/>
              </a:rPr>
              <a:t>Песня о картинках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зыка Григория Гладков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лова Александра Кушн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ли видишь на карт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исована ре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ель и белый ин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сад и облака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снежная равн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поле и шалаш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 карт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ется ПЕЙЗА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ли видишь на карт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шку кофе на стол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морс в большом графин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розу в хрустал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бронзовую ваз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грушу, или тор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все предметы сраз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й, что это НАТЮРМО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ли видишь, что с карт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отрит кто-нибудь на на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принц в плаще старинн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в робе верхолаз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ётчик, или балер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Колька, твой сосе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 карт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ется ПОРТР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C4DE-6442-482C-9B79-AECAA2C473F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D8A7-2E35-480D-99E9-B0590F7F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7F82-66F7-45D4-A83F-5F55135D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0042-C6D7-4029-9DD9-96BB46AB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D38D-50ED-4DB5-882F-611DD3C0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76DEC-584D-4355-9959-2613A5AB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F1FFB-82E4-452C-849E-96C2E5EC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89A18-D4D4-4916-ACD7-69ACD189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B9B03-48C1-4F84-A449-0D6FCE2C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50ABD-A6C2-4E26-8807-C09AA9FD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9BD86-7900-47F2-9FDE-911A1CEB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E7CBF-B6D6-47B7-B8F9-46ECE151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BFB2-5DB4-445C-AFE4-2CC85A81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AD878-6B7D-4160-8234-E7C11607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757E9-7620-4D26-B81F-462D5C29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6DEB6-CB1D-4085-A436-05759BB8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3ABC8-DC7B-4E2B-A226-70EC51C2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D59E8-0C09-4761-8E12-48E91551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EEB5-E77C-4F8B-AEE3-795B00A2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2136-071F-43D1-8D1E-75EEC506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4540-1958-4FD9-B4ED-E64D0731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3EBE-B898-411E-931B-55C6AF8D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7C27-845E-4631-A196-028C5E9F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B3D4-7E79-4D76-849D-2291BB4F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96F6-C573-4A91-A85F-4A260620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2BEA-7CE0-4A39-8504-A5EFEEF2F1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281F-2113-4C80-83EC-83C108267F1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МПРЕССИОНИЗМ 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280" y="3645000"/>
            <a:ext cx="7993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ретдинова Айсылу Рим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музыки и МХ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БУ "Гимназия №1", с. Верхнеяркее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10199"/>
                </a:solidFill>
                <a:latin typeface="Tahoma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рисовать иллюстрацию к музыкальному произведению («Празднества», «Хабанера» - на выбор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333360"/>
            <a:ext cx="64008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Познакомить учащихся с новым направлением в искусстве – импрессионизмом, рассмотреть особенности проявления импрессионизма в музыке и живопис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3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3" descr="Камиль Писсарро Бульвар Монтмартр в Париже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0" descr=""/>
          <p:cNvPicPr/>
          <p:nvPr/>
        </p:nvPicPr>
        <p:blipFill>
          <a:blip r:embed="rId3"/>
          <a:stretch/>
        </p:blipFill>
        <p:spPr>
          <a:xfrm>
            <a:off x="0" y="3387600"/>
            <a:ext cx="4572000" cy="3470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1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836640"/>
            <a:ext cx="6400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«Импрессионизм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от французского слов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essio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впечатление)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-направление в искусстве, возникшее во Франции во второй половине 19 ве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Французские художники – импрессионисты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лод  Мон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миль Писсарр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дуард Ман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гюст Ренуар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дгар Дег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6" descr=""/>
          <p:cNvPicPr/>
          <p:nvPr/>
        </p:nvPicPr>
        <p:blipFill>
          <a:blip r:embed="rId1"/>
          <a:stretch/>
        </p:blipFill>
        <p:spPr>
          <a:xfrm>
            <a:off x="179280" y="282600"/>
            <a:ext cx="5524560" cy="65754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5805360"/>
            <a:ext cx="45464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лод Дебюсс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80000" y="5660640"/>
            <a:ext cx="35640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зднест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667040" cy="6669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950080"/>
            <a:ext cx="36100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орис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ве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96000" y="5660640"/>
            <a:ext cx="289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Хабане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586400" cy="354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4356000" y="3216240"/>
            <a:ext cx="4788000" cy="36417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4643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4356000" cy="27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урдина 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способление, служащее для  изменения тембра музыкального инструмент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Песня о картинках</a:t>
            </a:r>
            <a:br>
              <a:rPr sz="28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узыка Григория Гладков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ова Александра Кушне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1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Если видишь на карти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рисована рек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ель и белый ине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сад и облака,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снежная равни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поле и шалаш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ывается ПЕЙЗАЖ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2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Если видишь на карти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шку кофе на стол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морс в большом графин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розу в хрустал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00720" y="1905120"/>
            <a:ext cx="418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бронзовую ваз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грушу, или торт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все предметы сраз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най, что это НАТЮРМОР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3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Если видишь, что с карти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мотрит кто-нибудь на нас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принц в плаще старинн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в робе верхолаз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ётчик, или балери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Колька, твой сосед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ывается ПОРТР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15:39:09Z</dcterms:created>
  <dc:creator>Пользватель</dc:creator>
  <dc:description/>
  <dc:language>en-US</dc:language>
  <cp:lastModifiedBy>LEGION</cp:lastModifiedBy>
  <dcterms:modified xsi:type="dcterms:W3CDTF">2015-04-02T07:05:07Z</dcterms:modified>
  <cp:revision>9</cp:revision>
  <dc:subject/>
  <dc:title>ИМПРЕССИОНИЗМ    В МУЗЫКЕ</dc:title>
</cp:coreProperties>
</file>