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4CB3-0817-4FFE-8787-D6D651AC79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ий и неклассический идеалы рацион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3E4-C38F-4CDD-A189-31EC314A5D2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современных научных дисциплин особую роль игр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ые картины ми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системн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мой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478D-D09E-44AF-856D-02F08AACFAB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исследуемой реа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ным ее образцом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ина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E15-B430-4D7A-B758-5D8EAE501CE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имер, представл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состоит из неделимых корпуску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заимодействие осуществляется как мгновенная передача сил по прям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писание картины физического мира, сложившейся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 и получившей впоследствии назв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ческой картины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627-F796-4058-976F-847D3FAF695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от механической к электродинамической (последняя четвер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в.) сопровождал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нением физических представлени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A357-9741-4CD7-B2A8-6F47C9AA75D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а реальности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т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ний в рамках соответствующей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она функционирует в качеств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ой программы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985-1BAC-4F0E-8F2F-BB43C587FD2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ифик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ражающих основные этапы развития науч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ем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витии того или иного типа картины реальности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E870-6E0B-490E-A87D-886480270046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ирующие и альтерн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F057-97CA-4CCA-99DC-00E387DDAF4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особой формой теорет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научная картина мира выступ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ой систематизации знаний, интегра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 к специальным картинам реальности (дисциплинарным онтолог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446B-CC69-482A-AC31-9C19EF653B29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ся в общую научную картину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8BD2-76FE-4BA1-9F85-0CBCB30104C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 детерминиз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е понятие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87E-7B3B-4BF6-9960-B4A68AC1749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роение завершенной научн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ческая, неклассическая и постнеклассическая картин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EAE-26B5-4DDF-88AD-376C53761C4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ределять, отделять, отграничи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терминиз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учение о всеобщей обусловленности объективных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D15-62D5-4882-AFE1-EF2D36610E6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революция И. Нью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ческое ест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X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иде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ереход от геоцентрической модели мира к гелиоцентричес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Н. Коперника, Г. Галилея, И. Кеплера, Р. Дека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EF24-9CDC-4475-BAB1-B95221F84FC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2D39-4EE0-4C51-9745-6266680DBFCA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знь зарождается в первозданном океане случай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– «не имеет знач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49A-1B15-4859-B76C-B18E8F51AAC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экспериментального исслед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: механика, детерми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DAC6-601F-4825-A394-F7428503A8D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йнштейновс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: рубеж XIX - XX ве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структура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е радиоа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сть характера электромагнитн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5CCE-1863-40AA-9CFE-AEAF6A65C60D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зме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483C-4A94-4D02-9BF7-94E94D7B58F8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гораздо разнообразнее и сложне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ем это представлялось механистической нау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F975-3B72-412E-AA87-053905E11E1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то объективное» описание картины мира 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кционистский подход  смен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ванто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познания важное место заним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25CD-0B58-4B35-9AB6-E0610D90ECB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еклассическ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сист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ется структурам, возникающим в процессе само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знание включены ценностные асп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CCD-1CF3-4682-88B2-993FBB8DAA12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научное знание в философии познания принято употреблять поня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эпистемолог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0F16-D877-4B7A-A9D7-2E390F3FEC1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уче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рм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к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одился в 1927 г.) -  немецкий физик-теоре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л теорию самоорганиза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нергетик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орией совместного действ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C5F-6F64-4DE1-AD9C-1A9403C2767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огичные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лья́ Романович Пригож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1917 -2003 гг.) -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ьгийский и американский физик и химик российского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уреат Нобелевской премии по химии 197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и диссипатив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FC9B-0456-4DF4-81D0-FD5C6C2D3A5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й Пригожиным новый принцип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через флукту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любое колебание или любое периодическое изменени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08C-D456-48B6-920C-FD30098E401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косм и макрокосм являются аспектами единой э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человека является значимой составной частью вселенской э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BE6E-B645-4C36-8411-663241D2EEA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для самостоятель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еловек, вооруженный только наукой, подобен ребенку, играющему с коробкой спи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кот Холд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уче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023F-F04A-4E2D-B09F-7D61393AE325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философском языке «Вселенная» может обозначать бытие или Мироз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е в философии поня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ина ми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видимый портрет мироздания, образно-понятийное описание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B662-CCB0-424F-A5EE-2CDEF1940274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ле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буквально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динство, общность всех вещей, рассматриваемых как цел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ем 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1187-DC06-410F-85C9-225382D4D81F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внимания физики космологии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ленная в цел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едоступен для наблюдения. Космологи прибегают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траполя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D84-7813-4BD6-AA32-B120CBB0B111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я законы физики к Вселенной в целом, мы соверша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ий скач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моделей подтверждается неоднократными (повторяемыми) экспери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8517-D6DD-4713-9B4B-8249784BE38B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дуктивным воображен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дуктивное воображение» - И. Кант - конструктивная деятельность созн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ивное воображение может запускаться внешними впечатлениями, наблюд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396-EF39-4199-AB28-ECF69A3633D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ю науку физик рассматривает ка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сывающую реальный мир наблю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ограничиться исключительно наблюдаемыми вел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A063-7F8C-4C2B-97AF-6AF80C533F23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BBF-CC52-49B6-93D4-44120E71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690-750A-46F1-B7B5-D846A3A3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61E-B3DB-43AF-8D8A-015D1383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E1A-6C90-4D07-9120-F43D431C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D471-7D64-41A6-AF8D-21EAE5A5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8B32-C7A5-45CC-8F4D-33B2F384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5EAD-BE5F-4F66-9814-01DE788C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D1CD-5375-4E87-AEA3-A4A2D182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E5A-4912-4333-BC44-E12A62EA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A090-B832-4DC1-B15E-B92D193C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22B-EB3E-4D96-A76A-06B62AF5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E68-0265-4048-ACA7-7A5B0C6A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21D6-D4C2-4733-9BAF-787982C9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ECD8-14C2-4A0F-8175-4C00F721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956D-B179-4A8F-92DF-68194920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09B-9AF6-4FC8-9ECB-DFE5DABA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3748-B694-4157-808A-0104B411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769801-0D9A-4C7D-B0D3-9BE10841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74EAF-35F4-4340-828E-FA1538DE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62B13-FF11-4D91-B99D-A7E4992A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BCC81-C6CD-4F47-89F2-8310D308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BA56F-CFF0-497C-998F-0C820DA1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4EC-38B6-46E5-A58C-655ED6BF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6346A-5EDC-4F1F-9FB2-3370FCDE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1750E-BFED-4FD6-95C2-7302DFFF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3BFDA-A8BB-4EBC-B179-A345D4CA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C2505-5801-4A30-8B82-5718A05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10253-418B-4AFF-AC90-DE2A84E1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B9D33-9587-45D9-AF7C-278C7246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170E1-23D0-4B13-AA5E-C13E763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35B2-9400-4B75-A494-2C636346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D7DB-343B-48FC-8225-AD39A0AA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4F65-A88F-4B62-B77C-3B6CBF25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B0A-B71D-4D28-AAEE-EC835D04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7A37-BFD3-4612-B249-6A385239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50AD-C02D-4FC0-AF38-B0A0D6BB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341A-5AB0-42F2-87DB-2E1239D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9816-7716-4053-87AC-760BDB5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03126-67D1-4522-A2BB-7300544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45AA-7C23-4785-A1FE-BB98E20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F915-2CB2-4924-8431-C1C2BE8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BEFA-96DD-48A0-B03D-07AF8435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9DBD-FF8F-4421-8752-F37AFFA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BFE-61B6-4D4C-A2B0-94BD1296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E7D-5662-4E57-823C-8CE4CE19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140-AC0C-44D8-94A6-93001FA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9D9-7164-45DE-A18F-A30C7FB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D4C-333D-4486-B9EA-0F6EF488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1AE-93F4-4F0F-837A-E8D046728A3D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C2A8-6085-4EDF-994B-9145B836C4B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29F-5522-4A41-8FA7-5022394EDDE7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9EA8-C712-49CF-AF0D-B9B25A40C6F4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6AD8-CC30-42C2-BC4F-588D539AA507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9D97-0346-4384-90C4-348741DE2123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861B-09E5-42F1-82A4-002EB70D15D6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558C-9B53-479B-9E08-44C2AF64388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1640" y="1988640"/>
            <a:ext cx="3475080" cy="20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1640" y="4421160"/>
            <a:ext cx="360036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242"/>
                </a:solidFill>
                <a:latin typeface="Century Gothic"/>
              </a:rPr>
              <a:t>Классический и неклассический идеалы рациональности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59924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остроение завершенной научной теори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развитии современных научных дисциплин особую роль игр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пециальные картины мира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ыми картинами мира называют обобщенные схемы – образы предмета исследования, посредством которых фиксируют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основные системные характеристик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изучаемой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692280"/>
            <a:ext cx="820728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мир» применяется здесь в специфическом смысле – как обозначение некоторой сферы действительности, изучаемой в данной науке («мир физики», «мир биологии» и т.п.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Чтобы избежать терминологических сложностей, имеет смысл пользоваться иным названием 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исследуемой реальности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иболее изученным ее образцом являе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ая картина мира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611280" y="836280"/>
            <a:ext cx="79214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Например, представления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р состоит из неделимых корпускул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х взаимодействие осуществляется как мгновенная передача сил по прямой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орпускулы и образованные из них тела перемещаются в абсолютном пространстве с течением абсолютного времени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о описание картины физического мира, сложившейся во второй половине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VI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 и получившей впоследствии названи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еханической картины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907560"/>
            <a:ext cx="77752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еход от механической к электродинамической (последняя четверть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, а затем к квантово-релятивистской картине физической реальности (первая половина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X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в.) сопровождался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нением физических представлений.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 аналогии с физической картиной мира можно выделить картины реальности в других науках (химии, биологии, астрономии и т.д.) Среди них также существуют исторически сменяющие друг друга типы картин мира, что обнаруживается при анализе истории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1280" y="836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а реальности обеспечив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стематиз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знаний в рамках соответствующей наук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ней связаны различные типы теорий научной дисциплины (фундаментальные и частные), а также опытные факты, на которые опираются и с которыми должны быть согласованы принципы картины реальност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новременно она функционирует в качеств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сследовательской программы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которая целенаправляет постановку задач как эмпирического, так и теоретического поиска и выбор средств их реше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764640"/>
            <a:ext cx="799308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из конкретно-исторических форм картины исследуемой реальности может реализовываться в ряде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ификац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выражающих основные этапы развития научных знаний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еемственност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в развитии того или иного типа картины реальности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развитие представлений Ньютона о физическом мире Эйлером, развитие электродинамической картины мира Фарадеем, Максвеллом, Герцем, Лоренцем, каждый из которых вводил в эту картину новые элементы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10920" y="907560"/>
            <a:ext cx="7848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урирующие и альтернативны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друг другу представления о физическом мире - когда одно из них в конечном итоге побеждает в качестве «истинной» физической картины мира (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,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борьба Ньютоновской и Декартовой концепции природы как альтернативных вариантов механической картины мира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Общая 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8360" y="1413000"/>
            <a:ext cx="820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особой формой теоретического зн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ртины реальности, развиваемые в отдельных научных дисциплинах, не являются изолированными друг от друга. Они взаимодействуют между соб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щая научная картина мира выступ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формой систематизации знаний, интегративн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о отношению к специальным картинам реальности (дисциплинарным онтологиям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68360" y="83664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на интегрирует наиболее важные достижения естественных, гуманитарных и технических наук – это достижения типа представлений о нестационарной Вселенной и Большом взрыве, о кварках и синергетических процессах, о генах, экосистемах и биосфере, об обществе как целостной системе, о формациях и цивилизациях и т.д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начале они развиваются как фундаментальные идеи и представления соответствующих дисциплинарных онтологий, а зат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ключаются в общую научную картину мир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02468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детерминизм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0920" y="1484280"/>
            <a:ext cx="77770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инцип детерминизм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держит ответ на вопрос, обусловлены ли явления мира в своём существовании и развитии, имеет ли эта обусловленность регулярный, упорядоченный или произвольный, неупорядоченный характе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, это вопрос о том, выступает ли мир в своём существовании и развитии как упорядоченный космос или неупорядоченный хаос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тное понятие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н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39280" y="1125000"/>
            <a:ext cx="799164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Научная картина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строение завершенной научной теор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лассическая, неклассическая и постнеклассическая картины мир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7" descr="Картинка 3 из 148424"/>
          <p:cNvPicPr/>
          <p:nvPr/>
        </p:nvPicPr>
        <p:blipFill>
          <a:blip r:embed="rId1"/>
          <a:stretch/>
        </p:blipFill>
        <p:spPr>
          <a:xfrm>
            <a:off x="1979640" y="3068640"/>
            <a:ext cx="5076720" cy="33814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95280" y="62028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ая, идеалистическая или материалистическая философская система, построенная на принципах рационального объяснения бытия, необходимо затрагивает проблему всеобщей обусловленности явлений и процессов в мире, которая и обозначается понятием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 лат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terminate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– определять, отделять, отграничивать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i="1" lang="ru-RU" sz="2400" spc="-1" strike="noStrike">
                <a:solidFill>
                  <a:srgbClr val="3e3d2d"/>
                </a:solidFill>
                <a:latin typeface="Century Gothic"/>
              </a:rPr>
              <a:t>Детерминизм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– это учение о всеобщей обусловленности объективных явлени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любое событие, любой факт, явление и т. д. имеют свою причину и могут выступать причиной другого события, факта, явле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3744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23640" y="1341000"/>
            <a:ext cx="56163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революция И. Ньют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лассическое естествознани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XV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I -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XI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X ве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новная иде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: переход от геоцентрической модели мира к гелиоцентрическ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Н. Коперника, Г. Галилея, И. Кеплера, Р. Декарт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. Ньютон подвел итог их исследованиям, сформулировал базовые принципы новой научной картины мира в общем вид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5" descr="Картинка 4 из 149110"/>
          <p:cNvPicPr/>
          <p:nvPr/>
        </p:nvPicPr>
        <p:blipFill>
          <a:blip r:embed="rId1"/>
          <a:stretch/>
        </p:blipFill>
        <p:spPr>
          <a:xfrm>
            <a:off x="5724360" y="1989000"/>
            <a:ext cx="3219480" cy="381024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68360" y="836280"/>
            <a:ext cx="820728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ленная состоит из материальных тел и пустоты, представленная в виде комплекса механических систем, развивается без участия сознания и разум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я её история, начиная от «Большого взрыва» – результат слепого и стихийного движения материальных масс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есконечное трёхмерное пространство - так называемом абсолютное пространство, время в котором может быть измерено универсальными часами (абсолютное время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836640"/>
            <a:ext cx="74246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Жизнь зарождается в первозданном океане случайно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как результат беспорядочных химических реакций, и пойди процесс чуть по-другому, сознание никогда не проявилось бы в быт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 точки зрения теории Ньютона появление жизни и сознания – не только загадка, но и явление достаточно странное, абсурдно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и: происходит четкое противопоставление субъекта и объекта исследования.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убъект – «не имеет значения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0246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000" y="1196640"/>
            <a:ext cx="849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- язык математики, выделение строго объективных количественных характеристик земных тел (форма величина, масса, движение), выражение их в строгих математических закономерностя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етоды экспериментального исследования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новной принцип: механика, детерминиз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явление механистической научной картины мира на базе экспериментально математического естествознани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76723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0920" y="1844640"/>
            <a:ext cx="4537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йнштейновская революция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риод: рубеж XIX - XX век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ия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ложная структура ат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явление радиоактив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искретность характера электромагнитного излучения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Picture 5" descr="Файл:Bundesarchiv Bild 102-10447, Albert Einstein.jpg"/>
          <p:cNvPicPr/>
          <p:nvPr/>
        </p:nvPicPr>
        <p:blipFill>
          <a:blip r:embed="rId1"/>
          <a:stretch/>
        </p:blipFill>
        <p:spPr>
          <a:xfrm>
            <a:off x="5435640" y="1125360"/>
            <a:ext cx="3243240" cy="484992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Основные измене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280" y="1341360"/>
            <a:ext cx="7280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ыла подорвана важнейшая предпосылка механистической картины мира - убежденность в том, что с помощью простых сил, действующих между неизменными объектами, можно объяснить все явления природ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пециальная теория относительности (СТО) А. Эйнштейна вступила в противоречие с теорией гравитации Ньютон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ории Эйнштейна гравитация – это не сила, а проявление искривления пространства-времен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68360" y="836280"/>
            <a:ext cx="81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соответствии с теорией относительности, пространство и время относительны - результаты измерения длины и времени зависят от того, движется наблюдатель или не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ир гораздо разнообразнее и сложне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чем это представлялось механистической наук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знание человека изначально включено в само наше восприятие действительности. Это следует понимать так: мир таков, потому что это мы глядим на него, и изменения в нас, в нашем самосознании меняют картину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39640" y="907560"/>
            <a:ext cx="7920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Чисто объективное» описание картины мира  невозможно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едукционистский подход  сменя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вантовый подход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- мир нельзя объяснить лишь как сумму его составных частей. Макромир и микромир тесно связан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роцессе познания важное место занимаю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измерительные прибор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7599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Постнеклассическ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нергетика - междисциплинарное направление научных исследований, задачей которого является изучение природных явлений и процессов на основе принципов самоорганизации систем (состоящих из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одсистем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собое внимание уделяется структурам, возникающим в процессе самоорганиза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познание включены ценностные аспект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философия наук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400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епосредственной предшественницей философии науки является гносеология XVII-XVIII вв. (эмпиризм и рационализм), в центре которой было осмысление сущности научного знания и методов его получения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Гносеологические вопросы были центральной темой классического этапа философии Нового времени - от Р. Декарта и Дж. Локка до И. Канта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Как отдельное направление философии, философия науки оформилась в XIX в. В её развитии можно выделить несколько этапов: позитивизм, постпозитивизм и концепции науки П. Фейерабенда, И. Локатоса, Т. Куна и К. Поппера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отношении научное знание в философии познания принято употреблять понятие </a:t>
            </a: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«эпистемология»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7527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инергетик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8360" y="1773000"/>
            <a:ext cx="42480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мецкий ученый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Герма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Хакен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родился в 1927 г.) -  немецкий физик-теоретик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звал теорию самоорганизации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синергетикой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теорией совместного действия)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2" descr="Картинка 2 из 278"/>
          <p:cNvPicPr/>
          <p:nvPr/>
        </p:nvPicPr>
        <p:blipFill>
          <a:blip r:embed="rId1"/>
          <a:stretch/>
        </p:blipFill>
        <p:spPr>
          <a:xfrm>
            <a:off x="5364000" y="1557360"/>
            <a:ext cx="3230640" cy="439272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Аналогичные исследования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0" name="Picture 2" descr="Картинка 10 из 636"/>
          <p:cNvPicPr/>
          <p:nvPr/>
        </p:nvPicPr>
        <p:blipFill>
          <a:blip r:embed="rId1"/>
          <a:stretch/>
        </p:blipFill>
        <p:spPr>
          <a:xfrm>
            <a:off x="971640" y="2276640"/>
            <a:ext cx="2435040" cy="350820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ик 5"/>
          <p:cNvSpPr/>
          <p:nvPr/>
        </p:nvSpPr>
        <p:spPr>
          <a:xfrm>
            <a:off x="3851280" y="2421000"/>
            <a:ext cx="464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лья́ Романович Пригожин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(1917 -2003 гг.) -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льгийский и американский физик и химик российского происхожд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ауреат Нобелевской премии по химии 1977 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втор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теории диссипативных структу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68000" y="620280"/>
            <a:ext cx="8280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й Пригожиным новый принцип -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орядок через флуктуацию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(любое колебание или любое периодическое изменение)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льнейшие исследования показали, что он представляет собой базисный механизм развертывания эволюционных процессов во всех областях - от атомов до галактик, от отдельных клеток до человеческих существ и вплоть до обществ и культур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основании этих наблюдений появилась возможность сформулировать единую точку зрения на эволюцию, объединяющим принципом которой является не стабильное состояние, а динамические состояния неуравновешенных сист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68000" y="620280"/>
            <a:ext cx="80643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ткрытые системы на всех уровнях являются носителями всеобщей эволюции, которая гарантирует, что жизнь будет продолжать свое движение во всё более новые динамические режимы слож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икрокосм и макрокосм являются аспектами единой эволюц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волюция человека является значимой составной частью вселенской эволюци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Вопрос для самостоятельной работ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комментируйте высказывание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«Человек, вооруженный только наукой, подобен ребенку, играющему с коробкой спичек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жон Скот Холдей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шотландский учены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Научная картина мир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28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в физике обозначает многообразный физический мир, начиная от элементарных частиц и кончая метагалактик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На философском языке «Вселенная» может обозначать бытие или Мироздани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ми словами «Вселенная» (Универсум – лат.) в философии имеет иное значение, чем в физик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нятое в философии понятие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картина мира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означает видимый портрет мироздания, образно-понятийное описание Вселенно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68000" y="620640"/>
            <a:ext cx="8351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лово «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селенна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» буквально означает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единство, общность всех вещей, рассматриваемых как целое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плоть до ХХ в. познание Вселенной как целого в основном оставалось прерогативой религ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лософию всегда интересовали не отдельные вещи, не каждая вещь сама по себе, в своем обособленном, отдельном существовании, а совокупность всего существующего, публичная жизнь каждой вещи, ее универсальное существование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чем под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вещами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нимались не только физические (материальные) и духовные объекты, но также все ирреальное, фантастическое и сверхъестественное, если оно существу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94920" y="549360"/>
            <a:ext cx="8280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учная космология как самостоятельная отрасль знания возникла сравнительно недавно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ъект внимания физики космологии –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Вселенная в цело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недоступен для наблюдения. Космологи прибегают 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экстраполяции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Законы физики, выведенные из наблюдений и экспериментов над отдельными частями Вселенной, применяются и ко Вселенной в цело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Например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бщая теория относительности (лучшая из существующих на сегодня теорий гравитации), проверенная экспериментально в основном в пределах Солнечной системы, применяется к расчету движения всей Вселенно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68000" y="691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яя законы физики к Вселенной в целом, мы совершаем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логический скачок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переносим умозрительные схемы (модели) определенной части физического мира на Вселенную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очность моделей подтверждается неоднократными (повторяемыми) эксперимент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спроизводимость экспериментальных проверок увеличивает доверие к модели, модель становится частью совершенного научного знания, оставаясь в этом качестве до тех пор, пока ей на смену не придет улучшенная, более точная или более глубокая модель (теория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ми рациональные законы, которые экстраполируются на всю Вселенную, создаются </a:t>
            </a: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продуктивным воображением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уче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Продуктивное воображение» - И. Кант - конструктивная деятельность сознания;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одуктивное воображение может запускаться внешними впечатлениями, наблюдения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«Теоретик сначала мысленно конструирует нечто, а затем познает то, что уже помыслено»), а также улучшаются, уточняются, углубляются с помощью экспериментов и наблюдени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68360" y="691920"/>
            <a:ext cx="8207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вою науку физик рассматривает как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модель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описывающую реальный мир наблюд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а модель может включать множество дополнительных особенностей, которые, хотя сами по себе и не отражают реального опыта, играют важную роль в теори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Физикам приходится придумывать чисто умозрительные, абстрактные понятия для моделирования реального мира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льзя ограничиться исключительно наблюдаемыми величинами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05:30:35Z</dcterms:created>
  <dc:creator>user</dc:creator>
  <dc:description/>
  <dc:language>en-US</dc:language>
  <cp:lastModifiedBy>LEGION</cp:lastModifiedBy>
  <dcterms:modified xsi:type="dcterms:W3CDTF">2014-11-11T07:54:47Z</dcterms:modified>
  <cp:revision>39</cp:revision>
  <dc:subject/>
  <dc:title>Презентация PowerPoint</dc:title>
</cp:coreProperties>
</file>