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017A-85F1-45F3-B6A8-0CE115F11A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раннего барокко (1600—16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ной точкой перехода между эпохами барокко и ренессанса можно считать создание итальянским композитором Клаудио Монтеверди (1567—1643) его речитативного стиля и последовательное развитие итальянской оперы. Начало оперных спектаклей в Риме и особенно в Венеции означало уже признание и распространение нового жанра по стра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E72D-7D4D-4D51-9F27-A4B3EC295C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онио Вивальд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1678—1741) 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льянский композитор, родился в Венеции. В 1703 году принял сан католического священ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3A5E-EBF7-4104-BC32-19428AE2EC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мым знаменитым придворным композитором стал Георг Фридрих Гендель (1685—1759). Он родился в Герм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дель смешал в своей музыке богатые традиции импровизации и контрапункта. Искусство музыкальных украшений достигло в его произведениях очень высокого уровня развития. Он путешествовал по все Европе, чтобы обучаться музыке других композиторов, в связи с чем имел очень широкий круг знакомств среди композиторов других сти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966D-BEA3-4A29-9633-D6AD91FEED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оганн Себастьян Бах родился 21 марта 1685 года в городе Эйзенах, Германия. За свою жизнь он сочинил более 1000 произведений в различных жанрах, кроме оперы. Но при жизни он не добился какого-либо значимого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 больше знали и помнили как исполнителя, педагога и отца Бахов-младших, в первую очередь Карла Филиппа Эммануила, музыка которого была извест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шь исполнение «Страстей по Матфею» Мендельсоном, через 79 лет после смерти И. С. Баха воскресило интерес к его творчеству. Сейчас И. С. Бах является одним из самых популярных композиторов всех времё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421E-EF85-4C78-82C7-A889A1C462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ой фигурой периода раннего барокко, позиция которого была на стороне Католицизма, противостоящего растущему идейному, культурному и общественному влиянию Протестантизма, был Джованни Габриэли. Его работы принадлежат стилю «Высокого возрождения» (период расцвета Ренессанса). Однако некоторые его нововведения в области инструментовки (назначение определённому инструменту собственных, специфических задач) однозначно указывают, что он был одним из композиторов, повлиявших на появление нового сти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167F-F7C0-4408-A386-0884E9DA7E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спространение новых приёмов большой вклад внёс немецкий композитор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нрих Шюц (1585—1672)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бучавшийся в Венеции. Он использовал новые техники в своих работах, когда служил хормейстером в Дрезд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2558-BA0E-4B71-8971-81131D5131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зыка зрелого барокк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654—1707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иод централизации верховной власти в Европе часто называют Абсолютизмом. Абсолютизм достиг своего апогея при французском короле Людовике XIV. Для всей Европы двор Людовика был образцом для подражания. В том числе и музыка, исполнявшаяся при дво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6648-704E-4D6C-BEE2-AB9E428F2F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ающимся представителем придворных композиторов двора Людовика XIV был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жованни Баттиста Люлли (1632—1687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в 21 год он получил звание «придворного композитора инструментальной музыки». Творческая работа Люлли с самого начала была крепко связана с теат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0163-E3AC-49E0-BA69-AA653C829C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озитор и виолинис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рканджело Корелли (1653—1713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вестен своей работой над развитием жанра кончерто гроссо. Корелли был одним из первых композиторов, чьи произведения публиковались и исполнялись по всей Евро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его последователей был Антонио Виваль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433B-06F9-4BDB-BE97-7E32505D20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нглии зрелое барокко отмечено ярким гением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нри Пёрселла (1659—1695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н умер молодым, в возрасте 36 лет, написав большое количество произведений и став широко известным ещё при жизни. Пёрселл был знаком с творчеством Корелли и других итальянских барочных композито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ёрселл стал одним из первых композиторов клавишной музыки, влияние которых распространяется и на соврем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38F6-3910-4FFE-851F-06B66D4656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тличие от вышеперечисленных композитор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трих Букстехуде (1637—1707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е был придворным композитором. Букстехуде работал органистом, сначала в Хельсингборге (1657—1658), затем в Эльсиноре (1660—1668), а затем, начиная с 1668 года, в церкви св. Марии в Люб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 творчество оказало сильное влияние на таких композиторов, как И. С. Бах и Телем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6039-F416-4273-AA52-CB89719DD2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зыка позднего барокк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1707—176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чная грань между зрелым и поздним барокко является предметом обсуждения; она лежит где-то между 1680 и 1720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талия, благодаря Арканджело Корелли и его ученикам Франческо Джеминиани и Пьетро Локателли становится первой страной, в которой барокко переходит из зрелого в поздний пер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FF91-D30A-48F6-A938-2C2411F591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0F7-BDC5-4035-9F07-7D8CE752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18A-BF7B-4C80-BE51-CB8EA47A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44B-0169-42D2-B7FA-333ACF99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1D8-7B8F-4E0A-BA97-F24ADA89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198-8A69-4910-BC2C-CDC4BEB3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E60-187D-4E66-BFDB-60A3AA91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3CB-C82E-4822-AACE-D4B4B08E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413-33BD-404D-AFE6-B81FE4C4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865-4EE7-4EFA-88C5-D7ADDBAC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DF4-B796-47D8-8B61-71798D9F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12C-962E-4D60-9189-679A01AE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E7A-1EBA-406D-9A22-71CE344A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320A-96F4-481C-BB0F-9F6FAFAB9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5280" y="181080"/>
            <a:ext cx="874872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 раннего барокко (1600—16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41400" y="800280"/>
            <a:ext cx="3727440" cy="4616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5622840"/>
            <a:ext cx="39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лаудио Монтеверди кисти Бернардо Строцци, 1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211640" y="662040"/>
            <a:ext cx="471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ной точкой перехода между эпохами барокко и ренессанса можно считать создание итальянским композитором Клаудио Монтеверди (1567—1643) его речитативного стиля и последовательное развитие итальянской оперы. Начало оперных спектаклей в Риме и особенно в Венеции означало уже признание и распространение нового жанра по стра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572000" y="985680"/>
            <a:ext cx="4119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нтонио Виваль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1678—1741) —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тальянский композитор, родился в Венеции. В 1703 году принял сан католического священ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907920"/>
            <a:ext cx="4282920" cy="511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4087800"/>
            <a:ext cx="42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ым знаменитым придворным композитором стал Георг Фридрих Гендель (1685—1759). Он родился в Герм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356000" y="237960"/>
            <a:ext cx="478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дель смешал в своей музыке богатые традиции импровизации и контрапункта. Искусство музыкальных украшений достигло в его произведениях очень высокого уровня развития. Он путешествовал по все Европе, чтобы обучаться музыке других композиторов, в связи с чем имел очень широкий круг знакомств среди композиторов других сти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341280" y="0"/>
            <a:ext cx="3367080" cy="4221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4653000"/>
            <a:ext cx="450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оганн Себастьян Бах родился 21 марта 1685 года в городе Эйзенах, Германия. За свою жизнь он сочинил более 1000 произведений в различных жанрах, кроме оперы. Но при жизни он не добился какого-либо значимого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699000" cy="4464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4284720" y="237960"/>
            <a:ext cx="4859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го больше знали и помнили как исполнителя, педагога и отца Бахов-младших, в первую очередь Карла Филиппа Эммануила, музыка которого была извест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шь исполнение «Страстей по Матфею» Мендельсоном, через 79 лет после смерти И. С. Баха воскресило интерес к его творчеству. Сейчас И. С. Бах является одним из самых популярных композиторов всех врем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ительной фигурой периода раннего барокко, позиция которого была на стороне Католицизма, противостоящего растущему идейному, культурному и общественному влиянию Протестантизма, был Джованни Габриэли. Его работы принадлежат стилю «Высокого возрождения» (период расцвета Ренессанса). Однако некоторые его нововведения в области инструментовки (назначение определённому инструменту собственных, специфических задач) однозначно указывают, что он был одним из композиторов, повлиявших на появление нового сти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330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аспространение новых приёмов большой вклад внёс немецкий композито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нрих Шюц (1585—1672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учавшийся в Венеции. Он использовал новые техники в своих работах, когда служил хормейстером в Дрезд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12840" y="503280"/>
            <a:ext cx="3840120" cy="5734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14436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зыка зрелого барок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654—1707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иод централизации верховной власти в Европе часто называют Абсолютизмом. Абсолютизм достиг своего апогея при французском короле Людовике XIV. Для всей Европы двор Людовика был образцом для подражания. В том числе и музыка, исполнявшаяся при дв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995640" y="368280"/>
            <a:ext cx="5148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дающимся представителем придворных композиторов двора Людовика XIV бы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жованни Баттиста Люлли (1632—1687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же в 21 год он получил звание «придворного композитора инструментальной музыки». Творческая работа Люлли с самого начала была крепко связана с теа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765000"/>
            <a:ext cx="3884760" cy="4608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924360" y="-27000"/>
            <a:ext cx="5219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озитор и виолинис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канджело Корелли (1653—171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звестен своей работой над развитием жанра кончерто гроссо. Корелли был одним из первых композиторов, чьи произведения публиковались и исполнялись по всей Евро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140360" y="5300640"/>
            <a:ext cx="50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и его последователей был Антонио Виваль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549360"/>
            <a:ext cx="3681360" cy="5400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708360" y="115920"/>
            <a:ext cx="543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нглии зрелое барокко отмечено ярким гение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нри Пёрселла (1659—1695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н умер молодым, в возрасте 36 лет, написав большое количество произведений и став широко известным ещё при жизни. Пёрселл был знаком с творчеством Корелли и других итальянских барочных компози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708360" y="4653000"/>
            <a:ext cx="498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ёрселл стал одним из первых композиторов клавишной музыки, влияние которых распространяется и на соврем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620640"/>
            <a:ext cx="3330720" cy="56167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7873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отличие от вышеперечисленных композиторо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итрих Букстехуде (1637—1707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не был придворным композитором. Букстехуде работал органистом, сначала в Хельсингборге (1657—1658), затем в Эльсиноре (1660—1668), а затем, начиная с 1668 года, в церкви св. Марии в Любе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724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го творчество оказало сильное влияние на таких композиторов, как И. С. Бах и Телем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40464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зыка позднего барок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707—176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очная грань между зрелым и поздним барокко является предметом обсуждения; она лежит где-то между 1680 и 1720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33544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талия, благодаря Арканджело Корелли и его ученикам Франческо Джеминиани и Пьетро Локателли становится первой страной, в которой барокко переходит из зрелого в поздний пери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8:52:36Z</dcterms:created>
  <dc:creator>Татьяна Николаевна</dc:creator>
  <dc:description/>
  <dc:language>en-US</dc:language>
  <cp:lastModifiedBy>LEGION</cp:lastModifiedBy>
  <dcterms:modified xsi:type="dcterms:W3CDTF">2015-04-02T07:07:36Z</dcterms:modified>
  <cp:revision>7</cp:revision>
  <dc:subject/>
  <dc:title>Слайд 1</dc:title>
</cp:coreProperties>
</file>