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BDF2-42EE-45F8-A87E-0F96F8ACE7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 и театр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Козлова В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FB0C-C00E-46C4-AE84-F0F48BCBFEF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EC80-C97D-4CA5-B582-39E56AE56A6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0CB6-8C7B-47C0-A371-A66E8B827F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атр Шексп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137-65E2-414A-8615-98B55C42347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ы рефера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эпохи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тво композиторов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 итальянской комедии дель ар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Ггольдони и К. Гоцци-реформаторы итальянской комедии дель ар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и итальянской комедии дель арте в режиссуре В.Э. Мейерхоль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ы Арлекина и Пьеро в произведениях живопи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E437-0811-4AA3-B83D-7BB87AC528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E491-0FA7-4E7E-9D60-537CD96DAF1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музыкальной культуры составлял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те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им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алм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84A-894B-4740-AB17-8C1DD17F383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ивысшего рассвета духовная музыка достигла в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 в Нидерланда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ифони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ногоголосое) исполнение- классический «строгий сти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мит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вторение одной и той же мелодии в разных голо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м голосом стал тен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4B06-9E00-49BB-B7A8-188F700C2C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B180-4BFD-4768-A3DB-2231D7AD78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3D68-A567-4235-A3E5-4AAB5896F6A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2DF-827A-4628-A3C3-F169AD28C3E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зыкальная культура Возр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0A57-C47A-400C-B498-35EF8EA092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льянская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начал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2C5A-E1BC-4C80-BA3E-7704DECB3C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2A9-BE9C-4846-A305-D3837474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B7BF-96C0-4565-A5B3-5A6D0425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A34-F619-4D2C-BD85-31916CD1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5F4A-5C5E-450C-B990-137592B6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D00B-F8E9-42E1-A4EB-D88781C3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2AE0-752C-43BB-BCCE-8F4B46A8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1650-852C-4692-B2A1-619E3A34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5977-0BFA-4AE2-9041-F83A8F5D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7B7C-71D5-4B29-97B1-B9D8EEA9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E9BD-62D6-4D4B-9565-07424B5B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2E46-63E8-48BA-A359-7C302D76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804D-0CAF-4D69-A1D2-DE126F5A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9919-63B1-4D50-899C-FE326B74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B532-0F5A-42BE-9286-547D83BD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FC9D-E41B-481C-8BBB-2C33B480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0701-FCC8-4626-8880-4482A12D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13EF-7E55-48F4-A87C-6EB4251E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D4D-6CEF-457D-BB9E-009C077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465-7703-4736-B6CD-1434BBB8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BB9-057D-4CDF-8B4D-180B058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794A-415A-4058-9A93-CDA2A6FC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74E-FB3B-44EC-9F82-6E83CAF9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403-B2A9-4E56-AA2F-004A794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522-B6F5-42D1-91ED-89B161A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861-323E-4655-8CED-803E1F962A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74F-E2BC-4CBF-BA6E-7421746EC70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 и театр эпохи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Козлова В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9" descr="муз 004"/>
          <p:cNvPicPr/>
          <p:nvPr/>
        </p:nvPicPr>
        <p:blipFill>
          <a:blip r:embed="rId1"/>
          <a:stretch/>
        </p:blipFill>
        <p:spPr>
          <a:xfrm>
            <a:off x="971640" y="2637000"/>
            <a:ext cx="4294080" cy="2520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Копия муз 004"/>
          <p:cNvPicPr/>
          <p:nvPr/>
        </p:nvPicPr>
        <p:blipFill>
          <a:blip r:embed="rId2"/>
          <a:stretch/>
        </p:blipFill>
        <p:spPr>
          <a:xfrm>
            <a:off x="6443640" y="1989000"/>
            <a:ext cx="121608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Picture 6" descr="Копия Копия муз 005"/>
          <p:cNvPicPr/>
          <p:nvPr/>
        </p:nvPicPr>
        <p:blipFill>
          <a:blip r:embed="rId1"/>
          <a:stretch/>
        </p:blipFill>
        <p:spPr>
          <a:xfrm>
            <a:off x="2233440" y="1981080"/>
            <a:ext cx="1362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Копия муз 005"/>
          <p:cNvPicPr/>
          <p:nvPr/>
        </p:nvPicPr>
        <p:blipFill>
          <a:blip r:embed="rId2"/>
          <a:stretch/>
        </p:blipFill>
        <p:spPr>
          <a:xfrm>
            <a:off x="5891040" y="2066760"/>
            <a:ext cx="1743120" cy="39434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атр Шекспир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6" descr="муз 005"/>
          <p:cNvPicPr/>
          <p:nvPr/>
        </p:nvPicPr>
        <p:blipFill>
          <a:blip r:embed="rId1"/>
          <a:stretch/>
        </p:blipFill>
        <p:spPr>
          <a:xfrm>
            <a:off x="3672000" y="1981080"/>
            <a:ext cx="2131920" cy="454356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Темы рефератов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узыкальная культура эпохи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ворчество композиторов Возрож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кусство итальянской комедии дель ар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. Ггольдони и К. Гоцци-реформаторы итальянской комедии дель ар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я постановки комедии К.Гоцци «Принцесса Турандот» на сцене театра им. Е.Б. Вахтангов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радиции итальянской комедии дель арте в режиссуре В.Э. Мейерхоль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зы Арлекина и Пьеро в произведениях живопис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ее положение по-прежнему занимала духовная музыка, звучащая во время церковного богослу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хранила основные темы средневековой музыки: хвалу Господу и Творцу мира, святость и чистоту религиозного чувств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у музыкальной культуры составлял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есс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мотет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гим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салм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епенно в церковные песнопения вводят темы народных песен нерелигиозного содержания. В музыке соединилось божественное и человеческ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высшего рассвета духовная музыка достигла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. в Нидерланд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олифоническ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многоголосое) исполнение- классический «строгий стил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Имитац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повторение одной и той же мелодии в разных голос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ущим голосом стал тено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мадригал"/>
          <p:cNvPicPr/>
          <p:nvPr/>
        </p:nvPicPr>
        <p:blipFill>
          <a:blip r:embed="rId1"/>
          <a:stretch/>
        </p:blipFill>
        <p:spPr>
          <a:xfrm>
            <a:off x="684360" y="3500280"/>
            <a:ext cx="5364000" cy="304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68360" y="620640"/>
            <a:ext cx="410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56360" y="1988640"/>
            <a:ext cx="26985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рландо Лассо(ок.1532-1594)-нидерландский композитор, создавший более двух тыс. произведений культового и светского характе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6" descr="грамота"/>
          <p:cNvPicPr/>
          <p:nvPr/>
        </p:nvPicPr>
        <p:blipFill>
          <a:blip r:embed="rId2"/>
          <a:stretch/>
        </p:blipFill>
        <p:spPr>
          <a:xfrm>
            <a:off x="395280" y="333360"/>
            <a:ext cx="1535040" cy="5273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Picture 5" descr="муз"/>
          <p:cNvPicPr/>
          <p:nvPr/>
        </p:nvPicPr>
        <p:blipFill>
          <a:blip r:embed="rId1"/>
          <a:stretch/>
        </p:blipFill>
        <p:spPr>
          <a:xfrm>
            <a:off x="2124000" y="1981080"/>
            <a:ext cx="5070600" cy="44276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97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7" name="Picture 7" descr="Копия муз 001"/>
          <p:cNvPicPr/>
          <p:nvPr/>
        </p:nvPicPr>
        <p:blipFill>
          <a:blip r:embed="rId1"/>
          <a:stretch/>
        </p:blipFill>
        <p:spPr>
          <a:xfrm>
            <a:off x="684360" y="2924280"/>
            <a:ext cx="3695400" cy="196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муз 001"/>
          <p:cNvPicPr/>
          <p:nvPr/>
        </p:nvPicPr>
        <p:blipFill>
          <a:blip r:embed="rId2"/>
          <a:stretch/>
        </p:blipFill>
        <p:spPr>
          <a:xfrm>
            <a:off x="4788000" y="2492280"/>
            <a:ext cx="3695760" cy="28958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Музыкальная культура Возрожден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1" name="Picture 6" descr="муз 002"/>
          <p:cNvPicPr/>
          <p:nvPr/>
        </p:nvPicPr>
        <p:blipFill>
          <a:blip r:embed="rId1"/>
          <a:stretch/>
        </p:blipFill>
        <p:spPr>
          <a:xfrm>
            <a:off x="1619280" y="1989000"/>
            <a:ext cx="6351480" cy="41148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тальянская комедия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48240" y="19890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онц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начал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в. в Италии возник театр-комедия дель арте(искусственная комедия, «комедия мастерств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5" descr="муз 003"/>
          <p:cNvPicPr/>
          <p:nvPr/>
        </p:nvPicPr>
        <p:blipFill>
          <a:blip r:embed="rId1"/>
          <a:stretch/>
        </p:blipFill>
        <p:spPr>
          <a:xfrm>
            <a:off x="1692360" y="3860640"/>
            <a:ext cx="3695760" cy="2384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опия муз 003"/>
          <p:cNvPicPr/>
          <p:nvPr/>
        </p:nvPicPr>
        <p:blipFill>
          <a:blip r:embed="rId2"/>
          <a:stretch/>
        </p:blipFill>
        <p:spPr>
          <a:xfrm>
            <a:off x="826920" y="1628640"/>
            <a:ext cx="1847880" cy="38959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5:33:32Z</dcterms:created>
  <dc:creator>Валери</dc:creator>
  <dc:description/>
  <dc:language>en-US</dc:language>
  <cp:lastModifiedBy>LEGION</cp:lastModifiedBy>
  <dcterms:modified xsi:type="dcterms:W3CDTF">2015-04-02T07:08:01Z</dcterms:modified>
  <cp:revision>5</cp:revision>
  <dc:subject/>
  <dc:title>Музыка и театр эпохи Возрождения</dc:title>
</cp:coreProperties>
</file>