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2.png" ContentType="image/png"/>
  <Override PartName="/ppt/media/image9.jpeg" ContentType="image/jpeg"/>
  <Override PartName="/ppt/media/image11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99"/>
                </a:solidFill>
                <a:latin typeface="Tahoma"/>
              </a:rPr>
              <a:t>Click to move the slide</a:t>
            </a: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8E478-4D25-460A-96BE-08489EB018D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6633"/>
                </a:solidFill>
                <a:latin typeface="Arial"/>
              </a:rPr>
              <a:t>Музыкальная культура XVII-XVIII вв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6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cc9900"/>
                </a:solidFill>
                <a:latin typeface="Mistral"/>
              </a:rPr>
              <a:t>БАРОККО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0E44C-2A0F-40E1-AD28-4ACED443EA9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мья   В. А. Моцар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3BCE5-6250-404C-B925-4ED4C0AC406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83AD5-90C4-4E08-B5BD-5FD5A67B2BF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Маленький гений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роче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177FF-9320-47DD-BAA7-26362E859B6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лонное музицир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B8AC0-41D4-465A-A17E-B2D480000E7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царт в Вен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E063F-F38A-440C-A819-9A648B2D1EA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следие, оставленное композитором, поражает многогранностью и богатством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3 произведения для музыкального театр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9 симфоний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ее 40 инструментальных сольных концертов с оркестром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наты для фортепиано, скрипки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2C4CB-7C10-48E1-A39A-E4557CF9843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следие, оставленное Моцарт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тая в различных областях музыкального искусства, Моцарт особое внимание уделял опере.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иболее известные оперы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Свадьба Фигар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» (1786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Дон Жуан»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(1787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Волшебная флейта»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(1791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58881-66B2-401E-85A2-5AF66EB9D55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царт, пишущий «Реквием» на смертном одр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леднее произведение Моцарта —  </a:t>
            </a: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«Реквием»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— осталось незаконченным. Впоследствии это произведение закончил ученик Моцарта - Зюссмайер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559B0-2A5E-40D3-BD00-0D2E1D658B4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ах Иоганн Себастьян</a:t>
            </a:r>
            <a:br>
              <a:rPr sz="24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1685 – 175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го творчество – завершающий этап музыкальной культуры барокк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арокко проникло даже в духовные, органные произведения Бах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D486B-1324-4E48-B2EE-D12A6E00D22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дин из меломанов начала 17 век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Музыкантам хочется изобретать нечто новое. И вот новое искусство докатилось до безудержной распущенности. Отклонившись от путей, намеченных нашими отцами, молодые композиторы создают искажённые произведения, в которых нет никаких достоинств, кроме новизны…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05A2B-8C19-4388-9E28-96728017D6B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еорг Фридрих Гендель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1685 – 1759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го героические оратории изобилуют яркими контрастам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музыке – разнообразие ритм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90A17-E5A0-4789-AC00-3A0161224CA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усская музыка барокк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арокко в России более жизнерадостно и декоративно, чем на Западе, в нём сильно проявляет себя украшательство, порой доходящее до пестроты. Орнаментальность достигает пределов возможного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. Владышеск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6E5CF-D469-4DED-A842-A7F99C54468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усская музыка барокк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митр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ртнянск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1751 – 1825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32BA4-0652-4EC2-A261-20E9F5833BC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classicmusicon.narod.ru/im/monteverdi.jp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starat.narod.ru/music/classic/compose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AA3A4-3288-4C55-9373-7C65981E46E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енности музыки барокк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жиданные перех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асты и противопост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ически трудные, виртуозные пассажи в пен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дновременное звучание множества инструмен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ование танцевальных ритм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DEBA6-D845-47E3-8BB7-A878271AE4B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лаудио Монтеверди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1567-1643) – первый композитор барокко (Италия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оперной музыке создал «взволнованный стиль», передающий драматизм и напряжённость действ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еры «Орфей» (1607), «Ариадна» (1608)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хранилось очень мало из его музыкального наслед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F623B-F305-4348-BF5E-E74033057ED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нтонио Вивальди (1678 – 174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втор 465 концертов и 40 опе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естящий скрипач-виртуоз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иболее известное произведение – «Времена года» (17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7DFF9-1D4F-4F09-B885-1363932E53C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льфганг Амадей Моцарт (1756-9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встрийский композитор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ладал феноменальным музыкальным слухом и памятью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ступал как клавесинист-виртуоз, скрипач, органист, дирижер, блестяще импровизирова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5-летнего возраста с триумфом гастролировал в Германии, Австрии, Франции, Великобритании, Швейцарии, Итал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616EC-3971-4412-A5E3-6C473C7DAFE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ОЛЬФГАНГ АМАДЕЙ МОЦАРТ </a:t>
            </a:r>
            <a:br>
              <a:rPr sz="14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27. I. 1756, Зальцбург - 5. XII. 1791, Вен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FE8DF-4510-4C14-A58E-1069BF79F76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Слушая его музыку, я как будто совершаю хороший поступо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По моему глубокому убеждению, Моцарт есть высшая, кульминационная точка, до которой красота достигала в сфере музыки.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П.И. Чайковск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Моцарт — это мост между космосом и нашей жизнью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Анатоль Франц</a:t>
            </a:r>
            <a:r>
              <a:rPr b="0" i="1" lang="ru-RU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Многим поколениям он дал и даст утешение и исцелени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Эдвард Гри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70818-5D5A-479A-A703-47710E8FEA7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дина В.А.Моцарта – Зальцбур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00B32-7CF8-4550-9D55-A246918F132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351337-C562-4640-8C22-FE43DE60C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93F1E9-EDA1-40E0-874D-7BF2C1D76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69674B-9344-4FE5-A428-B9BDF0013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9BD386-86FF-4888-9DD0-1D5DF64A2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82FAF-E3B8-490C-841F-614D4A00A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AD47B-4302-4EAA-B290-4718F5491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D014A-110A-4A85-86E2-6B26DFE74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96B0D-B3D3-485B-BA75-0AF354771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C9691-CAB8-41C5-A255-A5888D303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0343D-A8F0-43C4-B5C7-864BE0CE1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235EC-6C9C-4973-995A-C6CE9C5B7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66D437-5A45-4D92-AD23-0B4889A5D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1D287-D315-49B3-8F70-E2168F906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A3891-1EDF-47F1-A0F1-7BDA8C0A2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F9DEE-EA97-4502-A478-DF595E356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71859-129E-4AAC-B8A2-CDF6B1340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14EC2-AA2E-477E-9074-80B8A7433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6399A6-27BD-465B-886F-958C6467A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5C2FB7-35D1-47A1-BCF8-6B35B8206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6AEE23-23CC-46F8-9438-3CB549C90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0A06F5-9C31-4148-9FFF-E8A2642D7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D4AF7C-930E-44CE-952D-A499FF701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90666-D641-414C-8B2E-6D5D5C690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5DF3AD-849C-4A04-81DF-B7716D16A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c4c4c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bbbbbb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aeaeae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d6d6d6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d6d6d6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c0c0c0"/>
                </a:gs>
                <a:gs pos="50000">
                  <a:srgbClr val="c2c2c2"/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9900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02BE6-EC2E-46D4-B9E6-61A3EB03725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c4c4c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bbbbbb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aeaeae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d6d6d6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d6d6d6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c0c0c0"/>
                </a:gs>
                <a:gs pos="50000">
                  <a:srgbClr val="c2c2c2"/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9900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E4C88-5A4F-4521-A67E-237A7403DD4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6633"/>
                </a:solidFill>
                <a:latin typeface="Tahoma"/>
              </a:rPr>
              <a:t>Музыкальная культура XVII-XVIII вв.</a:t>
            </a:r>
            <a:r>
              <a:rPr b="0" lang="ru-RU" sz="48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380520" y="1905120"/>
            <a:ext cx="8534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3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0" spc="-1" strike="noStrike">
                <a:solidFill>
                  <a:srgbClr val="cc9900"/>
                </a:solidFill>
                <a:latin typeface="Mistral"/>
              </a:rPr>
              <a:t>БАРОККО</a:t>
            </a:r>
            <a:endParaRPr b="0" lang="en-US" sz="15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"/>
          <p:cNvPicPr/>
          <p:nvPr/>
        </p:nvPicPr>
        <p:blipFill>
          <a:blip r:embed="rId1"/>
          <a:stretch/>
        </p:blipFill>
        <p:spPr>
          <a:xfrm>
            <a:off x="539640" y="260280"/>
            <a:ext cx="8067960" cy="568980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3"/>
          <p:cNvSpPr/>
          <p:nvPr/>
        </p:nvSpPr>
        <p:spPr>
          <a:xfrm>
            <a:off x="2846160" y="6093000"/>
            <a:ext cx="34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емья   В. А. Моцарт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http://mediapolis.com.ru/alphabet/m/mozart_wolfgang_amadeus/foto/mozart_child.jpg"/>
          <p:cNvPicPr/>
          <p:nvPr/>
        </p:nvPicPr>
        <p:blipFill>
          <a:blip r:embed="rId1"/>
          <a:stretch/>
        </p:blipFill>
        <p:spPr>
          <a:xfrm>
            <a:off x="1295280" y="272880"/>
            <a:ext cx="6324840" cy="5667480"/>
          </a:xfrm>
          <a:prstGeom prst="rect">
            <a:avLst/>
          </a:prstGeom>
          <a:ln w="28440">
            <a:solidFill>
              <a:srgbClr val="dddddd"/>
            </a:solidFill>
            <a:miter/>
          </a:ln>
        </p:spPr>
      </p:pic>
      <p:sp>
        <p:nvSpPr>
          <p:cNvPr id="168" name="Text Box 3"/>
          <p:cNvSpPr/>
          <p:nvPr/>
        </p:nvSpPr>
        <p:spPr>
          <a:xfrm>
            <a:off x="2871720" y="6172200"/>
            <a:ext cx="324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«Маленький гений»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5867280" y="333360"/>
            <a:ext cx="1511280" cy="14400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"/>
          <p:cNvPicPr/>
          <p:nvPr/>
        </p:nvPicPr>
        <p:blipFill>
          <a:blip r:embed="rId1"/>
          <a:stretch/>
        </p:blipFill>
        <p:spPr>
          <a:xfrm>
            <a:off x="1619280" y="189000"/>
            <a:ext cx="5832360" cy="6480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3"/>
          <p:cNvSpPr/>
          <p:nvPr/>
        </p:nvSpPr>
        <p:spPr>
          <a:xfrm>
            <a:off x="6655680" y="6093000"/>
            <a:ext cx="22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трочество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"/>
          <p:cNvPicPr/>
          <p:nvPr/>
        </p:nvPicPr>
        <p:blipFill>
          <a:blip r:embed="rId1"/>
          <a:stretch/>
        </p:blipFill>
        <p:spPr>
          <a:xfrm>
            <a:off x="179280" y="765000"/>
            <a:ext cx="8690040" cy="502920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3"/>
          <p:cNvSpPr/>
          <p:nvPr/>
        </p:nvSpPr>
        <p:spPr>
          <a:xfrm>
            <a:off x="2147040" y="5950080"/>
            <a:ext cx="477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алонное музицировани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969160"/>
          </a:xfrm>
          <a:prstGeom prst="rect">
            <a:avLst/>
          </a:prstGeom>
          <a:ln w="28440">
            <a:solidFill>
              <a:srgbClr val="dddddd"/>
            </a:solidFill>
            <a:miter/>
          </a:ln>
        </p:spPr>
      </p:pic>
      <p:sp>
        <p:nvSpPr>
          <p:cNvPr id="178" name="Text Box 3"/>
          <p:cNvSpPr/>
          <p:nvPr/>
        </p:nvSpPr>
        <p:spPr>
          <a:xfrm>
            <a:off x="2972160" y="6093000"/>
            <a:ext cx="27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оцарт в Вен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Mozart - Symphony No40.mp3" descr=""/>
          <p:cNvPicPr/>
          <p:nvPr/>
        </p:nvPicPr>
        <p:blipFill>
          <a:blip r:embed="rId2"/>
          <a:stretch/>
        </p:blipFill>
        <p:spPr>
          <a:xfrm>
            <a:off x="228600" y="64008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Наследие, оставленное композитором, поражает многогранностью и богатством.</a:t>
            </a:r>
            <a:r>
              <a:rPr b="0" lang="ru-RU" sz="38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3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67960"/>
            <a:ext cx="8229600" cy="36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23 произведения для музыкального театра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49 симфоний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более 40 инструментальных сольных концертов с оркестром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онаты для фортепиано, скрипки.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17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99"/>
                </a:solidFill>
                <a:latin typeface="Tahoma"/>
              </a:rPr>
              <a:t>Наследие, оставленное Моцартом</a:t>
            </a: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51920" y="990360"/>
            <a:ext cx="89917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ru-RU" sz="3800" spc="-1" strike="noStrike">
                <a:solidFill>
                  <a:srgbClr val="000000"/>
                </a:solidFill>
                <a:latin typeface="Tahoma"/>
              </a:rPr>
              <a:t>Работая в различных областях музыкального искусства, Моцарт особое внимание уделял опере.   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3800" spc="-1" strike="noStrike">
                <a:solidFill>
                  <a:srgbClr val="000000"/>
                </a:solidFill>
                <a:latin typeface="Tahoma"/>
              </a:rPr>
              <a:t>Наиболее известные оперы: 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3800" spc="-1" strike="noStrike">
                <a:solidFill>
                  <a:srgbClr val="000099"/>
                </a:solidFill>
                <a:latin typeface="Tahoma"/>
              </a:rPr>
              <a:t>«Свадьба Фигаро</a:t>
            </a:r>
            <a:r>
              <a:rPr b="0" lang="ru-RU" sz="3800" spc="-1" strike="noStrike">
                <a:solidFill>
                  <a:srgbClr val="000000"/>
                </a:solidFill>
                <a:latin typeface="Tahoma"/>
              </a:rPr>
              <a:t>» (1786),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99"/>
                </a:solidFill>
                <a:latin typeface="Tahoma"/>
              </a:rPr>
              <a:t>   </a:t>
            </a:r>
            <a:r>
              <a:rPr b="0" lang="ru-RU" sz="3800" spc="-1" strike="noStrike">
                <a:solidFill>
                  <a:srgbClr val="000099"/>
                </a:solidFill>
                <a:latin typeface="Tahoma"/>
              </a:rPr>
              <a:t>«Дон Жуан»</a:t>
            </a:r>
            <a:r>
              <a:rPr b="0" lang="ru-RU" sz="3800" spc="-1" strike="noStrike">
                <a:solidFill>
                  <a:srgbClr val="000000"/>
                </a:solidFill>
                <a:latin typeface="Tahoma"/>
              </a:rPr>
              <a:t> (1787), 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3800" spc="-1" strike="noStrike">
                <a:solidFill>
                  <a:srgbClr val="000099"/>
                </a:solidFill>
                <a:latin typeface="Tahoma"/>
              </a:rPr>
              <a:t>«Волшебная флейта»</a:t>
            </a:r>
            <a:r>
              <a:rPr b="0" lang="ru-RU" sz="3800" spc="-1" strike="noStrike">
                <a:solidFill>
                  <a:srgbClr val="000000"/>
                </a:solidFill>
                <a:latin typeface="Tahoma"/>
              </a:rPr>
              <a:t> (1791).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mozart_fantasie_k_397.mp3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2" descr=""/>
          <p:cNvPicPr/>
          <p:nvPr/>
        </p:nvPicPr>
        <p:blipFill>
          <a:blip r:embed="rId2"/>
          <a:stretch/>
        </p:blipFill>
        <p:spPr>
          <a:xfrm>
            <a:off x="971640" y="549360"/>
            <a:ext cx="7559640" cy="5433840"/>
          </a:xfrm>
          <a:prstGeom prst="rect">
            <a:avLst/>
          </a:prstGeom>
          <a:ln w="28440">
            <a:solidFill>
              <a:srgbClr val="dddddd"/>
            </a:solidFill>
            <a:miter/>
          </a:ln>
        </p:spPr>
      </p:pic>
      <p:sp>
        <p:nvSpPr>
          <p:cNvPr id="189" name="Text Box 3"/>
          <p:cNvSpPr/>
          <p:nvPr/>
        </p:nvSpPr>
        <p:spPr>
          <a:xfrm>
            <a:off x="109440" y="0"/>
            <a:ext cx="866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оцарт, пишущий «Реквием» на смертном одр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0" y="601992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оследнее произведение Моцарта —  </a:t>
            </a:r>
            <a:r>
              <a:rPr b="0" lang="ru-RU" sz="1800" spc="-1" strike="noStrike">
                <a:solidFill>
                  <a:srgbClr val="6600ff"/>
                </a:solidFill>
                <a:latin typeface="Tahoma"/>
              </a:rPr>
              <a:t>«Реквием»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— осталось незаконченным. Впоследствии это произведение закончил ученик Моцарта - Зюссмайер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3" descr="Вольфганг Амадей Моцарт (Mozart)"/>
          <p:cNvPicPr/>
          <p:nvPr/>
        </p:nvPicPr>
        <p:blipFill>
          <a:blip r:embed="rId1"/>
          <a:stretch/>
        </p:blipFill>
        <p:spPr>
          <a:xfrm>
            <a:off x="1865160" y="152280"/>
            <a:ext cx="5511960" cy="6553440"/>
          </a:xfrm>
          <a:prstGeom prst="rect">
            <a:avLst/>
          </a:prstGeom>
          <a:ln w="28440">
            <a:solidFill>
              <a:srgbClr val="dddddd"/>
            </a:solidFill>
            <a:miter/>
          </a:ln>
        </p:spPr>
      </p:pic>
      <p:sp>
        <p:nvSpPr>
          <p:cNvPr id="1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5257800" cy="2743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99"/>
                </a:solidFill>
                <a:latin typeface="Tahoma"/>
              </a:rPr>
              <a:t>Бах Иоганн Себастьян</a:t>
            </a:r>
            <a:br>
              <a:rPr sz="5400"/>
            </a:br>
            <a:r>
              <a:rPr b="0" lang="ru-RU" sz="4200" spc="-1" strike="noStrike">
                <a:solidFill>
                  <a:srgbClr val="000099"/>
                </a:solidFill>
                <a:latin typeface="Tahoma"/>
              </a:rPr>
              <a:t>(1685 – 1750)</a:t>
            </a: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3200040"/>
            <a:ext cx="51055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Его творчество – завершающий этап музыкальной культуры барокко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Барокко проникло даже в духовные, органные произведения Бах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6" name="Picture 5" descr="Бах (Bach) Иоганн Себастьян  "/>
          <p:cNvPicPr/>
          <p:nvPr/>
        </p:nvPicPr>
        <p:blipFill>
          <a:blip r:embed="rId1"/>
          <a:stretch/>
        </p:blipFill>
        <p:spPr>
          <a:xfrm>
            <a:off x="5665680" y="228600"/>
            <a:ext cx="3202200" cy="4191120"/>
          </a:xfrm>
          <a:prstGeom prst="rect">
            <a:avLst/>
          </a:prstGeom>
          <a:ln w="38160">
            <a:solidFill>
              <a:srgbClr val="dddddd"/>
            </a:solidFill>
            <a:miter/>
          </a:ln>
        </p:spPr>
      </p:pic>
      <p:sp>
        <p:nvSpPr>
          <p:cNvPr id="1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99"/>
                </a:solidFill>
                <a:latin typeface="Tahoma"/>
              </a:rPr>
              <a:t>Один из меломанов начала 17 века:</a:t>
            </a:r>
            <a:endParaRPr b="0" lang="en-US" sz="3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-360" y="1066320"/>
            <a:ext cx="8915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3400" spc="-1" strike="noStrike">
                <a:solidFill>
                  <a:srgbClr val="000000"/>
                </a:solidFill>
                <a:latin typeface="Tahoma"/>
              </a:rPr>
              <a:t>«Музыкантам хочется изобретать нечто новое. И вот новое искусство докатилось до безудержной распущенности. Отклонившись от путей, намеченных нашими отцами, молодые композиторы создают искажённые произведения, в которых нет никаких достоинств, кроме новизны…»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99"/>
                </a:solidFill>
                <a:latin typeface="Tahoma"/>
              </a:rPr>
              <a:t>Георг Фридрих Гендель </a:t>
            </a:r>
            <a:br>
              <a:rPr sz="3800"/>
            </a:br>
            <a:r>
              <a:rPr b="0" lang="ru-RU" sz="3800" spc="-1" strike="noStrike">
                <a:solidFill>
                  <a:srgbClr val="000099"/>
                </a:solidFill>
                <a:latin typeface="Tahoma"/>
              </a:rPr>
              <a:t>(1685 – 1759)</a:t>
            </a:r>
            <a:endParaRPr b="0" lang="en-US" sz="3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733560" y="1752480"/>
            <a:ext cx="5257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901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Его героические оратории изобилуют яркими контрастами.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5000"/>
              </a:lnSpc>
              <a:spcBef>
                <a:spcPts val="901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В музыке – разнообразие ритмов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Picture 4" descr="гендель"/>
          <p:cNvPicPr/>
          <p:nvPr/>
        </p:nvPicPr>
        <p:blipFill>
          <a:blip r:embed="rId1"/>
          <a:stretch/>
        </p:blipFill>
        <p:spPr>
          <a:xfrm>
            <a:off x="228600" y="1676520"/>
            <a:ext cx="3067200" cy="4190760"/>
          </a:xfrm>
          <a:prstGeom prst="rect">
            <a:avLst/>
          </a:prstGeom>
          <a:ln w="38160">
            <a:solidFill>
              <a:srgbClr val="dddddd"/>
            </a:solidFill>
            <a:miter/>
          </a:ln>
        </p:spPr>
      </p:pic>
      <p:sp>
        <p:nvSpPr>
          <p:cNvPr id="2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Tahoma"/>
              </a:rPr>
              <a:t>Русская музыка барокко</a:t>
            </a: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Барокко в России более жизнерадостно и декоративно, чем на Западе, в нём сильно проявляет себя украшательство, порой доходящее до пестроты. Орнаментальность достигает пределов возможного»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Т. Владышеска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99"/>
                </a:solidFill>
                <a:latin typeface="Tahoma"/>
              </a:rPr>
              <a:t>Русская музыка барокко </a:t>
            </a: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3885840"/>
            <a:ext cx="51814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Дмитрий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Бортнянский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(1751 – 1825)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7" name="Picture 4" descr="бортнянский"/>
          <p:cNvPicPr/>
          <p:nvPr/>
        </p:nvPicPr>
        <p:blipFill>
          <a:blip r:embed="rId1"/>
          <a:stretch/>
        </p:blipFill>
        <p:spPr>
          <a:xfrm>
            <a:off x="6172200" y="3124080"/>
            <a:ext cx="2719440" cy="3548160"/>
          </a:xfrm>
          <a:prstGeom prst="rect">
            <a:avLst/>
          </a:prstGeom>
          <a:ln w="38160">
            <a:solidFill>
              <a:srgbClr val="dddddd"/>
            </a:solidFill>
            <a:miter/>
          </a:ln>
        </p:spPr>
      </p:pic>
      <p:pic>
        <p:nvPicPr>
          <p:cNvPr id="208" name="Picture 6" descr="Максим Созонтович Березовский"/>
          <p:cNvPicPr/>
          <p:nvPr/>
        </p:nvPicPr>
        <p:blipFill>
          <a:blip r:embed="rId2"/>
          <a:stretch/>
        </p:blipFill>
        <p:spPr>
          <a:xfrm>
            <a:off x="380880" y="1143000"/>
            <a:ext cx="2286000" cy="2286000"/>
          </a:xfrm>
          <a:prstGeom prst="rect">
            <a:avLst/>
          </a:prstGeom>
          <a:ln w="38160">
            <a:solidFill>
              <a:srgbClr val="dddddd"/>
            </a:solidFill>
            <a:miter/>
          </a:ln>
        </p:spPr>
      </p:pic>
      <p:sp>
        <p:nvSpPr>
          <p:cNvPr id="209" name="Rectangle 7"/>
          <p:cNvSpPr/>
          <p:nvPr/>
        </p:nvSpPr>
        <p:spPr>
          <a:xfrm>
            <a:off x="2895480" y="1295280"/>
            <a:ext cx="5518440" cy="18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Максим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Березовский (1745 – 1777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http://classicmusicon.narod.ru/im/monteverdi.jpg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http://starat.narod.ru/music/classic/composer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99"/>
                </a:solidFill>
                <a:latin typeface="Tahoma"/>
              </a:rPr>
              <a:t>Особенности музыки барокко</a:t>
            </a: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еожиданные переход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онтрасты и противопоставлен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Технически трудные, виртуозные пассажи в пени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дновременное звучание множества инструментов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спользование танцевальных ритмов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133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99"/>
                </a:solidFill>
                <a:latin typeface="Tahoma"/>
              </a:rPr>
              <a:t>Клаудио Монтеверди</a:t>
            </a:r>
            <a:br>
              <a:rPr sz="3800"/>
            </a:br>
            <a:r>
              <a:rPr b="0" lang="ru-RU" sz="3800" spc="-1" strike="noStrike">
                <a:solidFill>
                  <a:srgbClr val="000099"/>
                </a:solidFill>
                <a:latin typeface="Tahoma"/>
              </a:rPr>
              <a:t>(1567-1643) – первый композитор барокко (Италия)</a:t>
            </a:r>
            <a:endParaRPr b="0" lang="en-US" sz="38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143" name="Picture 5" descr="фото Монтеверди, Клаудио"/>
          <p:cNvPicPr/>
          <p:nvPr/>
        </p:nvPicPr>
        <p:blipFill>
          <a:blip r:embed="rId1"/>
          <a:stretch/>
        </p:blipFill>
        <p:spPr>
          <a:xfrm>
            <a:off x="5688000" y="2362320"/>
            <a:ext cx="3278160" cy="396216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28600" y="2209320"/>
            <a:ext cx="55627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 оперной музыке создал «взволнованный стиль», передающий драматизм и напряжённость действия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перы «Орфей» (1607), «Ариадна» (1608) и др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охранилось очень мало из его музыкального наслед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99"/>
                </a:solidFill>
                <a:latin typeface="Tahoma"/>
              </a:rPr>
              <a:t>Антонио Вивальди (1678 – 1741)</a:t>
            </a:r>
            <a:endParaRPr b="0" lang="en-US" sz="3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580920" y="1371600"/>
            <a:ext cx="49532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втор 465 концертов и 40 опер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Блестящий скрипач-виртуоз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аиболее известное произведение – «Времена года» (1725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8" name="Picture 4" descr="Вивальди"/>
          <p:cNvPicPr/>
          <p:nvPr/>
        </p:nvPicPr>
        <p:blipFill>
          <a:blip r:embed="rId1"/>
          <a:stretch/>
        </p:blipFill>
        <p:spPr>
          <a:xfrm>
            <a:off x="457200" y="1600200"/>
            <a:ext cx="2813040" cy="3352680"/>
          </a:xfrm>
          <a:prstGeom prst="rect">
            <a:avLst/>
          </a:prstGeom>
          <a:ln w="38160">
            <a:solidFill>
              <a:srgbClr val="dddddd"/>
            </a:solidFill>
            <a:miter/>
          </a:ln>
        </p:spPr>
      </p:pic>
      <p:sp>
        <p:nvSpPr>
          <p:cNvPr id="1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266720" y="151920"/>
            <a:ext cx="449604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99"/>
                </a:solidFill>
                <a:latin typeface="Tahoma"/>
              </a:rPr>
              <a:t>Вольфганг Амадей Моцарт (1756-91)</a:t>
            </a:r>
            <a:endParaRPr b="0" lang="en-US" sz="38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151" name="Picture 5" descr="Моцарт (Mozart) Вольфганг Амадей "/>
          <p:cNvPicPr/>
          <p:nvPr/>
        </p:nvPicPr>
        <p:blipFill>
          <a:blip r:embed="rId1"/>
          <a:stretch/>
        </p:blipFill>
        <p:spPr>
          <a:xfrm>
            <a:off x="152280" y="152280"/>
            <a:ext cx="2610000" cy="3353040"/>
          </a:xfrm>
          <a:prstGeom prst="rect">
            <a:avLst/>
          </a:prstGeom>
          <a:ln w="38160">
            <a:solidFill>
              <a:srgbClr val="dddddd"/>
            </a:solidFill>
            <a:miter/>
          </a:ln>
        </p:spPr>
      </p:pic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743200" y="1447920"/>
            <a:ext cx="6400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Австрийский композитор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бладал феноменальным музыкальным слухом и памятью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ыступал как клавесинист-виртуоз, скрипач, органист, дирижер, блестяще импровизировал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 5-летнего возраста с триумфом гастролировал в Германии, Австрии, Франции, Великобритании, Швейцарии, Италии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1371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Tahoma"/>
              </a:rPr>
              <a:t>ВОЛЬФГАНГ АМАДЕЙ МОЦАРТ </a:t>
            </a:r>
            <a:br>
              <a:rPr sz="3600"/>
            </a:b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(27. I. 1756, Зальцбург - 5. XII. 1791, Вена)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155" name="Picture 3" descr="Вольфганг Амадей Моцарт (Mozart)"/>
          <p:cNvPicPr/>
          <p:nvPr/>
        </p:nvPicPr>
        <p:blipFill>
          <a:blip r:embed="rId1"/>
          <a:stretch/>
        </p:blipFill>
        <p:spPr>
          <a:xfrm>
            <a:off x="2209680" y="1371600"/>
            <a:ext cx="4527720" cy="5334120"/>
          </a:xfrm>
          <a:prstGeom prst="rect">
            <a:avLst/>
          </a:prstGeom>
          <a:ln w="28440">
            <a:solidFill>
              <a:srgbClr val="dddddd"/>
            </a:solidFill>
            <a:miter/>
          </a:ln>
        </p:spPr>
      </p:pic>
      <p:sp>
        <p:nvSpPr>
          <p:cNvPr id="1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228240" y="228240"/>
            <a:ext cx="89154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Слушая его музыку, я как будто совершаю хороший поступок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По моему глубокому убеждению, Моцарт есть высшая, кульминационная точка, до которой красота достигала в сфере музыки.     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                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П.И. Чайковски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Моцарт — это мост между космосом и нашей жизнью.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                 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Анатоль Франц</a:t>
            </a:r>
            <a:r>
              <a:rPr b="0" i="1" lang="ru-RU" sz="36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Многим поколениям он дал и даст утешение и исцеление.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                    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Эдвард Григ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AutoShape 2"/>
          <p:cNvSpPr/>
          <p:nvPr/>
        </p:nvSpPr>
        <p:spPr>
          <a:xfrm>
            <a:off x="1714680" y="2543040"/>
            <a:ext cx="5715000" cy="17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AutoShape 3"/>
          <p:cNvSpPr/>
          <p:nvPr/>
        </p:nvSpPr>
        <p:spPr>
          <a:xfrm>
            <a:off x="1714680" y="2543040"/>
            <a:ext cx="5715000" cy="17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Picture 4" descr="bigpic1"/>
          <p:cNvPicPr/>
          <p:nvPr/>
        </p:nvPicPr>
        <p:blipFill>
          <a:blip r:embed="rId1"/>
          <a:stretch/>
        </p:blipFill>
        <p:spPr>
          <a:xfrm>
            <a:off x="0" y="1066680"/>
            <a:ext cx="9144000" cy="3462480"/>
          </a:xfrm>
          <a:prstGeom prst="rect">
            <a:avLst/>
          </a:prstGeom>
          <a:ln w="28440">
            <a:solidFill>
              <a:srgbClr val="dddddd"/>
            </a:solidFill>
            <a:miter/>
          </a:ln>
        </p:spPr>
      </p:pic>
      <p:sp>
        <p:nvSpPr>
          <p:cNvPr id="162" name="Text Box 6"/>
          <p:cNvSpPr/>
          <p:nvPr/>
        </p:nvSpPr>
        <p:spPr>
          <a:xfrm>
            <a:off x="762120" y="487692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Родина В.А.Моцарта – Зальцбург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4-02T07:09:06Z</dcterms:modified>
  <cp:revision>3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