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2.png" ContentType="image/png"/>
  <Override PartName="/ppt/media/image9.jpeg" ContentType="image/jpeg"/>
  <Override PartName="/ppt/media/image11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4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99"/>
                </a:solidFill>
                <a:latin typeface="Tahoma"/>
              </a:rPr>
              <a:t>Click to move the slide</a:t>
            </a: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DD285-59CC-4778-A71A-A66FF66C87B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6633"/>
                </a:solidFill>
                <a:latin typeface="Arial"/>
              </a:rPr>
              <a:t>Музыкальная культура XVII-XVIII вв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6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cc9900"/>
                </a:solidFill>
                <a:latin typeface="Mistral"/>
              </a:rPr>
              <a:t>БАРОККО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701CE-3A6E-4435-8CCC-182269BC98D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мья   В. А. Моцар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EBCF1-FCE9-4AA6-917D-4A05254D014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4678E-BB39-47FF-B686-4877D14E990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Маленький гений»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роче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5A64B-1203-4C6E-B827-89E4D80B1B8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алонное музициров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6D55C-5A59-4DEC-982A-C9048B0AC60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царт в Вен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A21DC-BE46-4E73-B980-E70C9A0A09D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следие, оставленное композитором, поражает многогранностью и богатством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3 произведения для музыкального театра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9 симфоний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лее 40 инструментальных сольных концертов с оркестром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наты для фортепиано, скрипки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444E8-0588-4174-8FF1-0701F58662F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следие, оставленное Моцарт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ботая в различных областях музыкального искусства, Моцарт особое внимание уделял опере.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иболее известные оперы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Свадьба Фигаро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» (1786)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Дон Жуан»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(1787)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Волшебная флейта»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(1791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5E4CD-F12A-42F3-8AAB-A5A8EA8ED60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царт, пишущий «Реквием» на смертном одр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леднее произведение Моцарта —  </a:t>
            </a:r>
            <a:r>
              <a:rPr b="0" lang="ru-RU" sz="1200" spc="-1" strike="noStrike">
                <a:solidFill>
                  <a:srgbClr val="009999"/>
                </a:solidFill>
                <a:latin typeface="Arial"/>
              </a:rPr>
              <a:t>«Реквием»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— осталось незаконченным. Впоследствии это произведение закончил ученик Моцарта - Зюссмайер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0DEFB-D3A7-451A-B968-FE6A905F66F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ах Иоганн Себастьян</a:t>
            </a:r>
            <a:br>
              <a:rPr sz="24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1685 – 175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го творчество – завершающий этап музыкальной культуры барокк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арокко проникло даже в духовные, органные произведения Бах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BBA25-2AE3-4950-A652-8C0C8E3D374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дин из меломанов начала 17 века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Музыкантам хочется изобретать нечто новое. И вот новое искусство докатилось до безудержной распущенности. Отклонившись от путей, намеченных нашими отцами, молодые композиторы создают искажённые произведения, в которых нет никаких достоинств, кроме новизны…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22E79-2AAA-42C9-9002-AF6C602287E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еорг Фридрих Гендель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(1685 – 1759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го героические оратории изобилуют яркими контрастам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музыке – разнообразие ритм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8BB16-EB50-4EB4-A929-4FA09289B8E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усская музыка барокк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арокко в России более жизнерадостно и декоративно, чем на Западе, в нём сильно проявляет себя украшательство, порой доходящее до пестроты. Орнаментальность достигает пределов возможного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. Владышеск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595D3-82C2-44CE-B701-B13DBFDE37C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усская музыка барокк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митри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ртнянски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1751 – 1825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255CA-8FE5-4263-B1E4-5C4713D49CA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http://classicmusicon.narod.ru/im/monteverdi.jp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http://starat.narod.ru/music/classic/composer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94376-194D-46AA-BA8A-E7650ED0545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обенности музыки барокк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ожиданные перехо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трасты и противопостав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хнически трудные, виртуозные пассажи в пен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дновременное звучание множества инструмент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ользование танцевальных ритм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54F65-FE09-4787-AAD8-61872C46309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лаудио Монтеверди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1567-1643) – первый композитор барокко (Италия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оперной музыке создал «взволнованный стиль», передающий драматизм и напряжённость действ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еры «Орфей» (1607), «Ариадна» (1608) и д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хранилось очень мало из его музыкального наслед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0A993-F9B9-4883-89C4-E40663299E0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нтонио Вивальди (1678 – 174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втор 465 концертов и 40 опе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лестящий скрипач-виртуоз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иболее известное произведение – «Времена года» (17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0A2BB-E872-40CB-956E-A67276287FA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льфганг Амадей Моцарт (1756-9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встрийский композитор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ладал феноменальным музыкальным слухом и памятью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ступал как клавесинист-виртуоз, скрипач, органист, дирижер, блестяще импровизировал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5-летнего возраста с триумфом гастролировал в Германии, Австрии, Франции, Великобритании, Швейцарии, Итал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86A32-2E63-412E-9025-A9B96000E79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ОЛЬФГАНГ АМАДЕЙ МОЦАРТ </a:t>
            </a:r>
            <a:br>
              <a:rPr sz="14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27. I. 1756, Зальцбург - 5. XII. 1791, Вен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7D6B2-A4E2-4ECA-94CF-C6794F8586F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 Narrow"/>
              </a:rPr>
              <a:t>Слушая его музыку, я как будто совершаю хороший поступо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 Narrow"/>
              </a:rPr>
              <a:t>По моему глубокому убеждению, Моцарт есть высшая, кульминационная точка, до которой красота достигала в сфере музыки.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Narrow"/>
              </a:rPr>
              <a:t>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 Narrow"/>
              </a:rPr>
              <a:t>П.И. Чайковск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 Narrow"/>
              </a:rPr>
              <a:t>Моцарт — это мост между космосом и нашей жизнью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Narrow"/>
              </a:rPr>
              <a:t>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 Narrow"/>
              </a:rPr>
              <a:t>Анатоль Франц</a:t>
            </a:r>
            <a:r>
              <a:rPr b="0" i="1" lang="ru-RU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 Narrow"/>
              </a:rPr>
              <a:t>Многим поколениям он дал и даст утешение и исцелени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Narrow"/>
              </a:rPr>
              <a:t> 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 Narrow"/>
              </a:rPr>
              <a:t>Эдвард Гри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C4E1F-20DE-4567-9701-41F43D01F9D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дина В.А.Моцарта – Зальцбур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6E69D-1830-4605-BC89-FEE99754205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632E47-6228-4213-A239-017E9BA5A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2A9D61-03A7-4625-A85C-0FA0CD157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95023E-38D3-497A-A486-FD988D3A0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613A06-7DC2-47BE-9370-3BD44F5BC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BD2BA-91D5-48A0-9F76-3293E97D8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571BC-F201-4024-A591-69B0BC1BE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2C6C9-3932-4E0F-84C2-AAB708510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5728B-9F4D-40FF-95D2-BC3ECF010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924B5-3628-451B-BB60-CE53BA665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ECEA6-E0BC-4466-AA45-A4B8DA8A4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C6F1A-9E29-44B5-9548-E79547C74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F90741-1B67-4626-8CA8-35637CBCD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EA312-7629-419B-B6D1-D34871022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07468-836B-41C0-B6D5-0C11DE719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F8142-A108-4A79-99D7-753C5C13B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B1E53-304A-4858-9672-9AE71F2DA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1473C-33DD-4F4F-A6B3-3324D5FAA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0918D3-F35C-4979-8E6C-3A7E3DDAD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3BA408-51B8-4D58-ADBD-63BEF09AA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A68852-717E-4ACA-B9FD-F3A17CD2A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E1FCEB-FC72-4410-8076-88ED20E62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63D059-5F4B-4D86-B5DE-B3ABB4B91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AF0EA5-B140-4071-A4D6-222C04C92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12D1BF-6162-413C-8B0E-449393966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c4c4c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bbbbbb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aeaeae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d6d6d6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c0c0c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ffffff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d6d6d6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c0c0c0"/>
                </a:gs>
                <a:gs pos="50000">
                  <a:srgbClr val="c2c2c2"/>
                </a:gs>
                <a:gs pos="100000">
                  <a:srgbClr val="c0c0c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99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9900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30653-22C5-45B2-A3B7-9C1FAE4CA88E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c4c4c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6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8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9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bbbbbb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aeaeae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2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3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4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d6d6d6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7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c0c0c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8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ffffff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9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0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d6d6d6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4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c0c0c0"/>
                </a:gs>
                <a:gs pos="50000">
                  <a:srgbClr val="c2c2c2"/>
                </a:gs>
                <a:gs pos="100000">
                  <a:srgbClr val="c0c0c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99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9900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D3F14-2536-4013-8290-76228C456655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6633"/>
                </a:solidFill>
                <a:latin typeface="Tahoma"/>
              </a:rPr>
              <a:t>Музыкальная культура XVII-XVIII вв.</a:t>
            </a:r>
            <a:r>
              <a:rPr b="0" lang="ru-RU" sz="4800" spc="-1" strike="noStrike">
                <a:solidFill>
                  <a:srgbClr val="000099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380520" y="1905120"/>
            <a:ext cx="8534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3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0" spc="-1" strike="noStrike">
                <a:solidFill>
                  <a:srgbClr val="cc9900"/>
                </a:solidFill>
                <a:latin typeface="Mistral"/>
              </a:rPr>
              <a:t>БАРОККО</a:t>
            </a:r>
            <a:endParaRPr b="0" lang="en-US" sz="15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2" descr=""/>
          <p:cNvPicPr/>
          <p:nvPr/>
        </p:nvPicPr>
        <p:blipFill>
          <a:blip r:embed="rId1"/>
          <a:stretch/>
        </p:blipFill>
        <p:spPr>
          <a:xfrm>
            <a:off x="539640" y="260280"/>
            <a:ext cx="8067960" cy="568980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3"/>
          <p:cNvSpPr/>
          <p:nvPr/>
        </p:nvSpPr>
        <p:spPr>
          <a:xfrm>
            <a:off x="2846160" y="6093000"/>
            <a:ext cx="34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емья   В. А. Моцарт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http://mediapolis.com.ru/alphabet/m/mozart_wolfgang_amadeus/foto/mozart_child.jpg"/>
          <p:cNvPicPr/>
          <p:nvPr/>
        </p:nvPicPr>
        <p:blipFill>
          <a:blip r:embed="rId1"/>
          <a:stretch/>
        </p:blipFill>
        <p:spPr>
          <a:xfrm>
            <a:off x="1295280" y="272880"/>
            <a:ext cx="6324840" cy="5667480"/>
          </a:xfrm>
          <a:prstGeom prst="rect">
            <a:avLst/>
          </a:prstGeom>
          <a:ln w="28440">
            <a:solidFill>
              <a:srgbClr val="dddddd"/>
            </a:solidFill>
            <a:miter/>
          </a:ln>
        </p:spPr>
      </p:pic>
      <p:sp>
        <p:nvSpPr>
          <p:cNvPr id="168" name="Text Box 3"/>
          <p:cNvSpPr/>
          <p:nvPr/>
        </p:nvSpPr>
        <p:spPr>
          <a:xfrm>
            <a:off x="2871720" y="6172200"/>
            <a:ext cx="324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«Маленький гений»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Rectangle 4"/>
          <p:cNvSpPr/>
          <p:nvPr/>
        </p:nvSpPr>
        <p:spPr>
          <a:xfrm>
            <a:off x="5867280" y="333360"/>
            <a:ext cx="1511280" cy="14400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"/>
          <p:cNvPicPr/>
          <p:nvPr/>
        </p:nvPicPr>
        <p:blipFill>
          <a:blip r:embed="rId1"/>
          <a:stretch/>
        </p:blipFill>
        <p:spPr>
          <a:xfrm>
            <a:off x="1619280" y="189000"/>
            <a:ext cx="5832360" cy="6480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3"/>
          <p:cNvSpPr/>
          <p:nvPr/>
        </p:nvSpPr>
        <p:spPr>
          <a:xfrm>
            <a:off x="6655680" y="6093000"/>
            <a:ext cx="22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Отрочество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2" descr=""/>
          <p:cNvPicPr/>
          <p:nvPr/>
        </p:nvPicPr>
        <p:blipFill>
          <a:blip r:embed="rId1"/>
          <a:stretch/>
        </p:blipFill>
        <p:spPr>
          <a:xfrm>
            <a:off x="179280" y="765000"/>
            <a:ext cx="8690040" cy="502920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3"/>
          <p:cNvSpPr/>
          <p:nvPr/>
        </p:nvSpPr>
        <p:spPr>
          <a:xfrm>
            <a:off x="2147040" y="5950080"/>
            <a:ext cx="477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алонное музицировани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969160"/>
          </a:xfrm>
          <a:prstGeom prst="rect">
            <a:avLst/>
          </a:prstGeom>
          <a:ln w="28440">
            <a:solidFill>
              <a:srgbClr val="dddddd"/>
            </a:solidFill>
            <a:miter/>
          </a:ln>
        </p:spPr>
      </p:pic>
      <p:sp>
        <p:nvSpPr>
          <p:cNvPr id="178" name="Text Box 3"/>
          <p:cNvSpPr/>
          <p:nvPr/>
        </p:nvSpPr>
        <p:spPr>
          <a:xfrm>
            <a:off x="2972160" y="6093000"/>
            <a:ext cx="277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Моцарт в Вен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Mozart - Symphony No40.mp3" descr=""/>
          <p:cNvPicPr/>
          <p:nvPr/>
        </p:nvPicPr>
        <p:blipFill>
          <a:blip r:embed="rId2"/>
          <a:stretch/>
        </p:blipFill>
        <p:spPr>
          <a:xfrm>
            <a:off x="228600" y="64008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ahoma"/>
              </a:rPr>
              <a:t>Наследие, оставленное композитором, поражает многогранностью и богатством.</a:t>
            </a:r>
            <a:r>
              <a:rPr b="0" lang="ru-RU" sz="3800" spc="-1" strike="noStrike">
                <a:solidFill>
                  <a:srgbClr val="000099"/>
                </a:solidFill>
                <a:latin typeface="Tahoma"/>
              </a:rPr>
              <a:t> </a:t>
            </a:r>
            <a:endParaRPr b="0" lang="en-US" sz="3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67960"/>
            <a:ext cx="8229600" cy="369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23 произведения для музыкального театра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49 симфоний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более 40 инструментальных сольных концертов с оркестром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онаты для фортепиано, скрипки.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17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0099"/>
                </a:solidFill>
                <a:latin typeface="Tahoma"/>
              </a:rPr>
              <a:t>Наследие, оставленное Моцартом</a:t>
            </a: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51920" y="990360"/>
            <a:ext cx="899172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ru-RU" sz="3800" spc="-1" strike="noStrike">
                <a:solidFill>
                  <a:srgbClr val="000000"/>
                </a:solidFill>
                <a:latin typeface="Tahoma"/>
              </a:rPr>
              <a:t>Работая в различных областях музыкального искусства, Моцарт особое внимание уделял опере.   </a:t>
            </a: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3800" spc="-1" strike="noStrike">
                <a:solidFill>
                  <a:srgbClr val="000000"/>
                </a:solidFill>
                <a:latin typeface="Tahoma"/>
              </a:rPr>
              <a:t>Наиболее известные оперы: </a:t>
            </a: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3800" spc="-1" strike="noStrike">
                <a:solidFill>
                  <a:srgbClr val="000099"/>
                </a:solidFill>
                <a:latin typeface="Tahoma"/>
              </a:rPr>
              <a:t>«Свадьба Фигаро</a:t>
            </a:r>
            <a:r>
              <a:rPr b="0" lang="ru-RU" sz="3800" spc="-1" strike="noStrike">
                <a:solidFill>
                  <a:srgbClr val="000000"/>
                </a:solidFill>
                <a:latin typeface="Tahoma"/>
              </a:rPr>
              <a:t>» (1786),</a:t>
            </a: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99"/>
                </a:solidFill>
                <a:latin typeface="Tahoma"/>
              </a:rPr>
              <a:t>   </a:t>
            </a:r>
            <a:r>
              <a:rPr b="0" lang="ru-RU" sz="3800" spc="-1" strike="noStrike">
                <a:solidFill>
                  <a:srgbClr val="000099"/>
                </a:solidFill>
                <a:latin typeface="Tahoma"/>
              </a:rPr>
              <a:t>«Дон Жуан»</a:t>
            </a:r>
            <a:r>
              <a:rPr b="0" lang="ru-RU" sz="3800" spc="-1" strike="noStrike">
                <a:solidFill>
                  <a:srgbClr val="000000"/>
                </a:solidFill>
                <a:latin typeface="Tahoma"/>
              </a:rPr>
              <a:t> (1787), </a:t>
            </a: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3800" spc="-1" strike="noStrike">
                <a:solidFill>
                  <a:srgbClr val="000099"/>
                </a:solidFill>
                <a:latin typeface="Tahoma"/>
              </a:rPr>
              <a:t>«Волшебная флейта»</a:t>
            </a:r>
            <a:r>
              <a:rPr b="0" lang="ru-RU" sz="3800" spc="-1" strike="noStrike">
                <a:solidFill>
                  <a:srgbClr val="000000"/>
                </a:solidFill>
                <a:latin typeface="Tahoma"/>
              </a:rPr>
              <a:t> (1791).</a:t>
            </a: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mozart_fantasie_k_397.mp3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2" descr=""/>
          <p:cNvPicPr/>
          <p:nvPr/>
        </p:nvPicPr>
        <p:blipFill>
          <a:blip r:embed="rId2"/>
          <a:stretch/>
        </p:blipFill>
        <p:spPr>
          <a:xfrm>
            <a:off x="971640" y="549360"/>
            <a:ext cx="7559640" cy="5433840"/>
          </a:xfrm>
          <a:prstGeom prst="rect">
            <a:avLst/>
          </a:prstGeom>
          <a:ln w="28440">
            <a:solidFill>
              <a:srgbClr val="dddddd"/>
            </a:solidFill>
            <a:miter/>
          </a:ln>
        </p:spPr>
      </p:pic>
      <p:sp>
        <p:nvSpPr>
          <p:cNvPr id="189" name="Text Box 3"/>
          <p:cNvSpPr/>
          <p:nvPr/>
        </p:nvSpPr>
        <p:spPr>
          <a:xfrm>
            <a:off x="109440" y="0"/>
            <a:ext cx="866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Моцарт, пишущий «Реквием» на смертном одр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Text Box 4"/>
          <p:cNvSpPr/>
          <p:nvPr/>
        </p:nvSpPr>
        <p:spPr>
          <a:xfrm>
            <a:off x="0" y="601992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оследнее произведение Моцарта —  </a:t>
            </a:r>
            <a:r>
              <a:rPr b="0" lang="ru-RU" sz="1800" spc="-1" strike="noStrike">
                <a:solidFill>
                  <a:srgbClr val="6600ff"/>
                </a:solidFill>
                <a:latin typeface="Tahoma"/>
              </a:rPr>
              <a:t>«Реквием»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— осталось незаконченным. Впоследствии это произведение закончил ученик Моцарта - Зюссмайер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3" descr="Вольфганг Амадей Моцарт (Mozart)"/>
          <p:cNvPicPr/>
          <p:nvPr/>
        </p:nvPicPr>
        <p:blipFill>
          <a:blip r:embed="rId1"/>
          <a:stretch/>
        </p:blipFill>
        <p:spPr>
          <a:xfrm>
            <a:off x="1865160" y="152280"/>
            <a:ext cx="5511960" cy="6553440"/>
          </a:xfrm>
          <a:prstGeom prst="rect">
            <a:avLst/>
          </a:prstGeom>
          <a:ln w="28440">
            <a:solidFill>
              <a:srgbClr val="dddddd"/>
            </a:solidFill>
            <a:miter/>
          </a:ln>
        </p:spPr>
      </p:pic>
      <p:sp>
        <p:nvSpPr>
          <p:cNvPr id="19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04560" y="304920"/>
            <a:ext cx="5257800" cy="2743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99"/>
                </a:solidFill>
                <a:latin typeface="Tahoma"/>
              </a:rPr>
              <a:t>Бах Иоганн Себастьян</a:t>
            </a:r>
            <a:br>
              <a:rPr sz="5400"/>
            </a:br>
            <a:r>
              <a:rPr b="0" lang="ru-RU" sz="4200" spc="-1" strike="noStrike">
                <a:solidFill>
                  <a:srgbClr val="000099"/>
                </a:solidFill>
                <a:latin typeface="Tahoma"/>
              </a:rPr>
              <a:t>(1685 – 1750)</a:t>
            </a: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3200040"/>
            <a:ext cx="510552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Его творчество – завершающий этап музыкальной культуры барокко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Барокко проникло даже в духовные, органные произведения Бах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6" name="Picture 5" descr="Бах (Bach) Иоганн Себастьян  "/>
          <p:cNvPicPr/>
          <p:nvPr/>
        </p:nvPicPr>
        <p:blipFill>
          <a:blip r:embed="rId1"/>
          <a:stretch/>
        </p:blipFill>
        <p:spPr>
          <a:xfrm>
            <a:off x="5665680" y="228600"/>
            <a:ext cx="3202200" cy="4191120"/>
          </a:xfrm>
          <a:prstGeom prst="rect">
            <a:avLst/>
          </a:prstGeom>
          <a:ln w="38160">
            <a:solidFill>
              <a:srgbClr val="dddddd"/>
            </a:solidFill>
            <a:miter/>
          </a:ln>
        </p:spPr>
      </p:pic>
      <p:sp>
        <p:nvSpPr>
          <p:cNvPr id="1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99"/>
                </a:solidFill>
                <a:latin typeface="Tahoma"/>
              </a:rPr>
              <a:t>Один из меломанов начала 17 века:</a:t>
            </a:r>
            <a:endParaRPr b="0" lang="en-US" sz="3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-360" y="1066320"/>
            <a:ext cx="89154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3400" spc="-1" strike="noStrike">
                <a:solidFill>
                  <a:srgbClr val="000000"/>
                </a:solidFill>
                <a:latin typeface="Tahoma"/>
              </a:rPr>
              <a:t>«Музыкантам хочется изобретать нечто новое. И вот новое искусство докатилось до безудержной распущенности. Отклонившись от путей, намеченных нашими отцами, молодые композиторы создают искажённые произведения, в которых нет никаких достоинств, кроме новизны…»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99"/>
                </a:solidFill>
                <a:latin typeface="Tahoma"/>
              </a:rPr>
              <a:t>Георг Фридрих Гендель </a:t>
            </a:r>
            <a:br>
              <a:rPr sz="3800"/>
            </a:br>
            <a:r>
              <a:rPr b="0" lang="ru-RU" sz="3800" spc="-1" strike="noStrike">
                <a:solidFill>
                  <a:srgbClr val="000099"/>
                </a:solidFill>
                <a:latin typeface="Tahoma"/>
              </a:rPr>
              <a:t>(1685 – 1759)</a:t>
            </a:r>
            <a:endParaRPr b="0" lang="en-US" sz="3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733560" y="1752480"/>
            <a:ext cx="5257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901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Его героические оратории изобилуют яркими контрастами.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5000"/>
              </a:lnSpc>
              <a:spcBef>
                <a:spcPts val="901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В музыке – разнообразие ритмов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Picture 4" descr="гендель"/>
          <p:cNvPicPr/>
          <p:nvPr/>
        </p:nvPicPr>
        <p:blipFill>
          <a:blip r:embed="rId1"/>
          <a:stretch/>
        </p:blipFill>
        <p:spPr>
          <a:xfrm>
            <a:off x="228600" y="1676520"/>
            <a:ext cx="3067200" cy="4190760"/>
          </a:xfrm>
          <a:prstGeom prst="rect">
            <a:avLst/>
          </a:prstGeom>
          <a:ln w="38160">
            <a:solidFill>
              <a:srgbClr val="dddddd"/>
            </a:solidFill>
            <a:miter/>
          </a:ln>
        </p:spPr>
      </p:pic>
      <p:sp>
        <p:nvSpPr>
          <p:cNvPr id="2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99"/>
                </a:solidFill>
                <a:latin typeface="Tahoma"/>
              </a:rPr>
              <a:t>Русская музыка барокко</a:t>
            </a:r>
            <a:endParaRPr b="0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Барокко в России более жизнерадостно и декоративно, чем на Западе, в нём сильно проявляет себя украшательство, порой доходящее до пестроты. Орнаментальность достигает пределов возможного»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Т. Владышеска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0099"/>
                </a:solidFill>
                <a:latin typeface="Tahoma"/>
              </a:rPr>
              <a:t>Русская музыка барокко </a:t>
            </a: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3885840"/>
            <a:ext cx="51814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Дмитрий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Бортнянский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(1751 – 1825)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7" name="Picture 4" descr="бортнянский"/>
          <p:cNvPicPr/>
          <p:nvPr/>
        </p:nvPicPr>
        <p:blipFill>
          <a:blip r:embed="rId1"/>
          <a:stretch/>
        </p:blipFill>
        <p:spPr>
          <a:xfrm>
            <a:off x="6172200" y="3124080"/>
            <a:ext cx="2719440" cy="3548160"/>
          </a:xfrm>
          <a:prstGeom prst="rect">
            <a:avLst/>
          </a:prstGeom>
          <a:ln w="38160">
            <a:solidFill>
              <a:srgbClr val="dddddd"/>
            </a:solidFill>
            <a:miter/>
          </a:ln>
        </p:spPr>
      </p:pic>
      <p:pic>
        <p:nvPicPr>
          <p:cNvPr id="208" name="Picture 6" descr="Максим Созонтович Березовский"/>
          <p:cNvPicPr/>
          <p:nvPr/>
        </p:nvPicPr>
        <p:blipFill>
          <a:blip r:embed="rId2"/>
          <a:stretch/>
        </p:blipFill>
        <p:spPr>
          <a:xfrm>
            <a:off x="380880" y="1143000"/>
            <a:ext cx="2286000" cy="2286000"/>
          </a:xfrm>
          <a:prstGeom prst="rect">
            <a:avLst/>
          </a:prstGeom>
          <a:ln w="38160">
            <a:solidFill>
              <a:srgbClr val="dddddd"/>
            </a:solidFill>
            <a:miter/>
          </a:ln>
        </p:spPr>
      </p:pic>
      <p:sp>
        <p:nvSpPr>
          <p:cNvPr id="209" name="Rectangle 7"/>
          <p:cNvSpPr/>
          <p:nvPr/>
        </p:nvSpPr>
        <p:spPr>
          <a:xfrm>
            <a:off x="2895480" y="1295280"/>
            <a:ext cx="5518440" cy="18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Максим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Березовский (1745 – 1777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http://classicmusicon.narod.ru/im/monteverdi.jpg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http://starat.narod.ru/music/classic/composer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0099"/>
                </a:solidFill>
                <a:latin typeface="Tahoma"/>
              </a:rPr>
              <a:t>Особенности музыки барокко</a:t>
            </a: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Неожиданные переход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Контрасты и противопоставлени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Технически трудные, виртуозные пассажи в пени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дновременное звучание множества инструментов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Использование танцевальных ритмов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133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99"/>
                </a:solidFill>
                <a:latin typeface="Tahoma"/>
              </a:rPr>
              <a:t>Клаудио Монтеверди</a:t>
            </a:r>
            <a:br>
              <a:rPr sz="3800"/>
            </a:br>
            <a:r>
              <a:rPr b="0" lang="ru-RU" sz="3800" spc="-1" strike="noStrike">
                <a:solidFill>
                  <a:srgbClr val="000099"/>
                </a:solidFill>
                <a:latin typeface="Tahoma"/>
              </a:rPr>
              <a:t>(1567-1643) – первый композитор барокко (Италия)</a:t>
            </a:r>
            <a:endParaRPr b="0" lang="en-US" sz="3800" spc="-1" strike="noStrike">
              <a:solidFill>
                <a:srgbClr val="000099"/>
              </a:solidFill>
              <a:latin typeface="Tahoma"/>
            </a:endParaRPr>
          </a:p>
        </p:txBody>
      </p:sp>
      <p:pic>
        <p:nvPicPr>
          <p:cNvPr id="143" name="Picture 5" descr="фото Монтеверди, Клаудио"/>
          <p:cNvPicPr/>
          <p:nvPr/>
        </p:nvPicPr>
        <p:blipFill>
          <a:blip r:embed="rId1"/>
          <a:stretch/>
        </p:blipFill>
        <p:spPr>
          <a:xfrm>
            <a:off x="5688000" y="2362320"/>
            <a:ext cx="3278160" cy="3962160"/>
          </a:xfrm>
          <a:prstGeom prst="rect">
            <a:avLst/>
          </a:prstGeom>
          <a:ln w="0">
            <a:noFill/>
          </a:ln>
        </p:spPr>
      </p:pic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28600" y="2209320"/>
            <a:ext cx="55627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 оперной музыке создал «взволнованный стиль», передающий драматизм и напряжённость действия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перы «Орфей» (1607), «Ариадна» (1608) и др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охранилось очень мало из его музыкального наследи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99"/>
                </a:solidFill>
                <a:latin typeface="Tahoma"/>
              </a:rPr>
              <a:t>Антонио Вивальди (1678 – 1741)</a:t>
            </a:r>
            <a:endParaRPr b="0" lang="en-US" sz="3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580920" y="1371600"/>
            <a:ext cx="495324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Автор 465 концертов и 40 опер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Блестящий скрипач-виртуоз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Наиболее известное произведение – «Времена года» (1725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8" name="Picture 4" descr="Вивальди"/>
          <p:cNvPicPr/>
          <p:nvPr/>
        </p:nvPicPr>
        <p:blipFill>
          <a:blip r:embed="rId1"/>
          <a:stretch/>
        </p:blipFill>
        <p:spPr>
          <a:xfrm>
            <a:off x="457200" y="1600200"/>
            <a:ext cx="2813040" cy="3352680"/>
          </a:xfrm>
          <a:prstGeom prst="rect">
            <a:avLst/>
          </a:prstGeom>
          <a:ln w="38160">
            <a:solidFill>
              <a:srgbClr val="dddddd"/>
            </a:solidFill>
            <a:miter/>
          </a:ln>
        </p:spPr>
      </p:pic>
      <p:sp>
        <p:nvSpPr>
          <p:cNvPr id="1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266720" y="151920"/>
            <a:ext cx="4496040" cy="114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99"/>
                </a:solidFill>
                <a:latin typeface="Tahoma"/>
              </a:rPr>
              <a:t>Вольфганг Амадей Моцарт (1756-91)</a:t>
            </a:r>
            <a:endParaRPr b="0" lang="en-US" sz="3800" spc="-1" strike="noStrike">
              <a:solidFill>
                <a:srgbClr val="000099"/>
              </a:solidFill>
              <a:latin typeface="Tahoma"/>
            </a:endParaRPr>
          </a:p>
        </p:txBody>
      </p:sp>
      <p:pic>
        <p:nvPicPr>
          <p:cNvPr id="151" name="Picture 5" descr="Моцарт (Mozart) Вольфганг Амадей "/>
          <p:cNvPicPr/>
          <p:nvPr/>
        </p:nvPicPr>
        <p:blipFill>
          <a:blip r:embed="rId1"/>
          <a:stretch/>
        </p:blipFill>
        <p:spPr>
          <a:xfrm>
            <a:off x="152280" y="152280"/>
            <a:ext cx="2610000" cy="3353040"/>
          </a:xfrm>
          <a:prstGeom prst="rect">
            <a:avLst/>
          </a:prstGeom>
          <a:ln w="38160">
            <a:solidFill>
              <a:srgbClr val="dddddd"/>
            </a:solidFill>
            <a:miter/>
          </a:ln>
        </p:spPr>
      </p:pic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743200" y="1447920"/>
            <a:ext cx="64008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Австрийский композитор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Обладал феноменальным музыкальным слухом и памятью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ыступал как клавесинист-виртуоз, скрипач, органист, дирижер, блестяще импровизировал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 5-летнего возраста с триумфом гастролировал в Германии, Австрии, Франции, Великобритании, Швейцарии, Италии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13716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Tahoma"/>
              </a:rPr>
              <a:t>ВОЛЬФГАНГ АМАДЕЙ МОЦАРТ </a:t>
            </a:r>
            <a:br>
              <a:rPr sz="3600"/>
            </a:b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(27. I. 1756, Зальцбург - 5. XII. 1791, Вена)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pic>
        <p:nvPicPr>
          <p:cNvPr id="155" name="Picture 3" descr="Вольфганг Амадей Моцарт (Mozart)"/>
          <p:cNvPicPr/>
          <p:nvPr/>
        </p:nvPicPr>
        <p:blipFill>
          <a:blip r:embed="rId1"/>
          <a:stretch/>
        </p:blipFill>
        <p:spPr>
          <a:xfrm>
            <a:off x="2209680" y="1371600"/>
            <a:ext cx="4527720" cy="5334120"/>
          </a:xfrm>
          <a:prstGeom prst="rect">
            <a:avLst/>
          </a:prstGeom>
          <a:ln w="28440">
            <a:solidFill>
              <a:srgbClr val="dddddd"/>
            </a:solidFill>
            <a:miter/>
          </a:ln>
        </p:spPr>
      </p:pic>
      <p:sp>
        <p:nvSpPr>
          <p:cNvPr id="1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228240" y="228240"/>
            <a:ext cx="891540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 Narrow"/>
              </a:rPr>
              <a:t>Слушая его музыку, я как будто совершаю хороший поступок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 Narrow"/>
              </a:rPr>
              <a:t>По моему глубокому убеждению, Моцарт есть высшая, кульминационная точка, до которой красота достигала в сфере музыки.     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Narrow"/>
              </a:rPr>
              <a:t>                       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П.И. Чайковский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 Narrow"/>
              </a:rPr>
              <a:t>Моцарт — это мост между космосом и нашей жизнью.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Narrow"/>
              </a:rPr>
              <a:t>                        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Анатоль Франц</a:t>
            </a:r>
            <a:r>
              <a:rPr b="0" i="1" lang="ru-RU" sz="36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 Narrow"/>
              </a:rPr>
              <a:t>Многим поколениям он дал и даст утешение и исцеление.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Narrow"/>
              </a:rPr>
              <a:t>                           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Эдвард Григ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AutoShape 2"/>
          <p:cNvSpPr/>
          <p:nvPr/>
        </p:nvSpPr>
        <p:spPr>
          <a:xfrm>
            <a:off x="1714680" y="2543040"/>
            <a:ext cx="5715000" cy="177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AutoShape 3"/>
          <p:cNvSpPr/>
          <p:nvPr/>
        </p:nvSpPr>
        <p:spPr>
          <a:xfrm>
            <a:off x="1714680" y="2543040"/>
            <a:ext cx="5715000" cy="177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Picture 4" descr="bigpic1"/>
          <p:cNvPicPr/>
          <p:nvPr/>
        </p:nvPicPr>
        <p:blipFill>
          <a:blip r:embed="rId1"/>
          <a:stretch/>
        </p:blipFill>
        <p:spPr>
          <a:xfrm>
            <a:off x="0" y="1066680"/>
            <a:ext cx="9144000" cy="3462480"/>
          </a:xfrm>
          <a:prstGeom prst="rect">
            <a:avLst/>
          </a:prstGeom>
          <a:ln w="28440">
            <a:solidFill>
              <a:srgbClr val="dddddd"/>
            </a:solidFill>
            <a:miter/>
          </a:ln>
        </p:spPr>
      </p:pic>
      <p:sp>
        <p:nvSpPr>
          <p:cNvPr id="162" name="Text Box 6"/>
          <p:cNvSpPr/>
          <p:nvPr/>
        </p:nvSpPr>
        <p:spPr>
          <a:xfrm>
            <a:off x="762120" y="487692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Родина В.А.Моцарта – Зальцбург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5-04-02T07:09:06Z</dcterms:modified>
  <cp:revision>3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