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9.jpeg" ContentType="image/jpeg"/>
  <Override PartName="/ppt/media/image1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BA404-87BA-4605-AEA8-4ACC1617AB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33"/>
                </a:solidFill>
                <a:latin typeface="Arial"/>
              </a:rPr>
              <a:t>Музыкальная культура XVII-XVIII вв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c9900"/>
                </a:solidFill>
                <a:latin typeface="Mistral"/>
              </a:rPr>
              <a:t>БАРОКК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66EB2-6144-4AC2-AE06-D2370DB427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ья   В. А. Моц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C66B1-A7DA-4C30-A650-5C6F197F87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F268A-7085-4679-AB2B-9ACDA6DA37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Маленький гений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оч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660A6-DD49-4ABA-B6F1-8714B99C2A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лонное музиц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72C3A-CCAA-4EAF-A3F8-056EAEDA3C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царт в Ве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50DC1-F34A-40FB-9D32-92116E7C19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ие, оставленное композитором, поражает многогранностью и богатством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3 произведения для музыкального театр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9 симфон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е 40 инструментальных сольных концертов с оркестро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наты для фортепиано, скрипки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6FE5E-3966-4B54-92B8-3DC8503AF2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ие, оставленное Моцарт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ая в различных областях музыкального искусства, Моцарт особое внимание уделял опере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более известные оперы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вадьба Фигар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 (1786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Дон Жуан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1787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Волшебная флейта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1791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9F83B-80D9-4D11-8EE3-41C2AE655B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царт, пишущий «Реквием» на смертном одр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днее произведение Моцарта —  </a:t>
            </a: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«Реквием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— осталось незаконченным. Впоследствии это произведение закончил ученик Моцарта - Зюссмайе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48330-0583-4CDA-B113-3AD19ADF0C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х Иоганн Себастьян</a:t>
            </a:r>
            <a:br>
              <a:rPr sz="24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685 – 175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го творчество – завершающий этап музыкальной культуры барокк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рокко проникло даже в духовные, органные произведения Бах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82106-2C15-4D62-92B0-EB1D4422D3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дин из меломанов начала 17 век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Музыкантам хочется изобретать нечто новое. И вот новое искусство докатилось до безудержной распущенности. Отклонившись от путей, намеченных нашими отцами, молодые композиторы создают искажённые произведения, в которых нет никаких достоинств, кроме новизны…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F36F4-B5EA-4877-BA3E-5F7191EE40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еорг Фридрих Гендель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1685 – 175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го героические оратории изобилуют яркими контраст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узыке – разнообразие ритм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0B1DA-3020-42C8-B932-1FCF90F9F1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усская музыка барокк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рокко в России более жизнерадостно и декоративно, чем на Западе, в нём сильно проявляет себя украшательство, порой доходящее до пестроты. Орнаментальность достигает пределов возможног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. Владыше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C9EE4-8574-4884-A498-B3AD7E070A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сская музыка барокк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митр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ртнян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751 – 1825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0179D-172E-44E9-8963-229A170CB2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classicmusicon.narod.ru/im/monteverdi.jp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starat.narod.ru/music/classic/compos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0AFA8-71E4-4734-ACA7-5F1487FA8B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музыки барокк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жиданные пере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асты и противопост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чески трудные, виртуозные пассажи в п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временное звучание множества инструме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танцевальных ритм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5F6E1-B0BE-4700-875E-F17E8C63CA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аудио Монтеверди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1567-1643) – первый композитор барокко (Итал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перной музыке создал «взволнованный стиль», передающий драматизм и напряжённость действ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еры «Орфей» (1607), «Ариадна» (1608)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хранилось очень мало из его музыкального наслед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0A63C-C53A-40D2-9D79-1E14468279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нтонио Вивальди (1678 – 174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 465 концертов и 40 опе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естящий скрипач-виртуоз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более известное произведение – «Времена года» (17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22AC3-D87D-48BD-96C9-D753DB36D1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льфганг Амадей Моцарт (1756-9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стрийский композито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ладал феноменальным музыкальным слухом и память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тупал как клавесинист-виртуоз, скрипач, органист, дирижер, блестяще импровизирова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5-летнего возраста с триумфом гастролировал в Германии, Австрии, Франции, Великобритании, Швейцарии, Итал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4B41F-2ED7-40C7-963A-6EE337789C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ОЛЬФГАНГ АМАДЕЙ МОЦАРТ </a:t>
            </a:r>
            <a:br>
              <a:rPr sz="14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27. I. 1756, Зальцбург - 5. XII. 1791, Вен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1E85F-DDAE-4B16-83F2-B04CCE9A32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Слушая его музыку, я как будто совершаю хороший поступ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По моему глубокому убеждению, Моцарт есть высшая, кульминационная точка, до которой красота достигала в сфере музыки.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П.И. Чайков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Моцарт — это мост между космосом и нашей жизнь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Анатоль Франц</a:t>
            </a:r>
            <a:r>
              <a:rPr b="0" i="1" lang="ru-RU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Многим поколениям он дал и даст утешение и исцеле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Эдвард Гри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7F4FD-C0FE-4583-B2B8-6EE6D6AD16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на В.А.Моцарта – Зальцбур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316CC-616C-44A9-8FF9-E41FA55CBE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D324F-6BA1-4E29-8FE5-CA53C6D12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187E2-CE24-43BB-9EEC-68EC32051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05A8E-1FF6-4608-9E99-FAC5AEFAE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F3B75-8E9C-436A-BB41-A98B43D03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C2346-1F68-48C9-BBED-078561082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A548D-94CF-4D7C-9D52-0B5388A19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1F3D5-12E0-4EF7-B2BF-4492E47BE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2A3BF-B700-42C8-AD69-A6FC8FFB0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0FCE0-D6BF-47A6-8BD7-50DCDA27E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873EC-8298-460C-A08C-5C94B1D6A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1D49A-D6F6-4295-9F13-E0787B77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55EA2-A3FC-4AA7-9467-41BC6C72D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F4ACF-6E8C-4407-B566-3EC09EB3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51DDA-5E70-4DDD-BEDB-C4F9B460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8403F-EE57-409C-8E74-9507A2D17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4FA82-9EDD-46B0-93F8-64D37E20F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DD315-DFCF-4807-812F-7F27391F3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4E143-27E9-42D5-BFF8-8700A44B8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0DA9F-8018-48F0-9FC7-14B8B21A0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2D590-69C1-4534-B9D6-B468322DD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25A96-151C-44F2-94EE-F692DCA3A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49E3B-1EE5-4E5A-82CB-5673C1C5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4AEA2-E97A-426A-814E-B4AA4B1C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68C33-19E2-4735-9498-23796084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c4c4c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bbbbbb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c2c2c2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00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7A00E-6EFD-482F-8733-78557DF7610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c4c4c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bbbbbb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c2c2c2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00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5A2DB-B98E-4A59-A562-E59A5BDB1A0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6633"/>
                </a:solidFill>
                <a:latin typeface="Tahoma"/>
              </a:rPr>
              <a:t>Музыкальная культура XVII-XVIII вв.</a:t>
            </a:r>
            <a:r>
              <a:rPr b="0" lang="ru-RU" sz="48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380520" y="1905120"/>
            <a:ext cx="8534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cc9900"/>
                </a:solidFill>
                <a:latin typeface="Mistral"/>
              </a:rPr>
              <a:t>БАРОККО</a:t>
            </a:r>
            <a:endParaRPr b="0" lang="en-US" sz="1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8067960" cy="56898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3"/>
          <p:cNvSpPr/>
          <p:nvPr/>
        </p:nvSpPr>
        <p:spPr>
          <a:xfrm>
            <a:off x="2846160" y="609300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емья   В. А. Моцар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http://mediapolis.com.ru/alphabet/m/mozart_wolfgang_amadeus/foto/mozart_child.jpg"/>
          <p:cNvPicPr/>
          <p:nvPr/>
        </p:nvPicPr>
        <p:blipFill>
          <a:blip r:embed="rId1"/>
          <a:stretch/>
        </p:blipFill>
        <p:spPr>
          <a:xfrm>
            <a:off x="1295280" y="272880"/>
            <a:ext cx="6324840" cy="5667480"/>
          </a:xfrm>
          <a:prstGeom prst="rect">
            <a:avLst/>
          </a:prstGeom>
          <a:ln w="28440">
            <a:solidFill>
              <a:srgbClr val="dddddd"/>
            </a:solidFill>
            <a:miter/>
          </a:ln>
        </p:spPr>
      </p:pic>
      <p:sp>
        <p:nvSpPr>
          <p:cNvPr id="168" name="Text Box 3"/>
          <p:cNvSpPr/>
          <p:nvPr/>
        </p:nvSpPr>
        <p:spPr>
          <a:xfrm>
            <a:off x="2871720" y="6172200"/>
            <a:ext cx="32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Маленький гений»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5867280" y="333360"/>
            <a:ext cx="1511280" cy="1440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1619280" y="189000"/>
            <a:ext cx="5832360" cy="6480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3"/>
          <p:cNvSpPr/>
          <p:nvPr/>
        </p:nvSpPr>
        <p:spPr>
          <a:xfrm>
            <a:off x="6655680" y="6093000"/>
            <a:ext cx="22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рочеств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690040" cy="50292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3"/>
          <p:cNvSpPr/>
          <p:nvPr/>
        </p:nvSpPr>
        <p:spPr>
          <a:xfrm>
            <a:off x="2147040" y="5950080"/>
            <a:ext cx="477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алонное музицирован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69160"/>
          </a:xfrm>
          <a:prstGeom prst="rect">
            <a:avLst/>
          </a:prstGeom>
          <a:ln w="28440">
            <a:solidFill>
              <a:srgbClr val="dddddd"/>
            </a:solidFill>
            <a:miter/>
          </a:ln>
        </p:spPr>
      </p:pic>
      <p:sp>
        <p:nvSpPr>
          <p:cNvPr id="178" name="Text Box 3"/>
          <p:cNvSpPr/>
          <p:nvPr/>
        </p:nvSpPr>
        <p:spPr>
          <a:xfrm>
            <a:off x="2972160" y="6093000"/>
            <a:ext cx="27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оцарт в Вен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Mozart - Symphony No40.mp3" descr=""/>
          <p:cNvPicPr/>
          <p:nvPr/>
        </p:nvPicPr>
        <p:blipFill>
          <a:blip r:embed="rId2"/>
          <a:stretch/>
        </p:blipFill>
        <p:spPr>
          <a:xfrm>
            <a:off x="228600" y="6400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Наследие, оставленное композитором, поражает многогранностью и богатством.</a:t>
            </a:r>
            <a:r>
              <a:rPr b="0" lang="ru-RU" sz="38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67960"/>
            <a:ext cx="8229600" cy="36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3 произведения для музыкального театра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49 симфоний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олее 40 инструментальных сольных концертов с оркестром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наты для фортепиано, скрипки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17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99"/>
                </a:solidFill>
                <a:latin typeface="Tahoma"/>
              </a:rPr>
              <a:t>Наследие, оставленное Моцартом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3800" spc="-1" strike="noStrike">
                <a:solidFill>
                  <a:srgbClr val="000000"/>
                </a:solidFill>
                <a:latin typeface="Tahoma"/>
              </a:rPr>
              <a:t>Работая в различных областях музыкального искусства, Моцарт особое внимание уделял опере.   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3800" spc="-1" strike="noStrike">
                <a:solidFill>
                  <a:srgbClr val="000000"/>
                </a:solidFill>
                <a:latin typeface="Tahoma"/>
              </a:rPr>
              <a:t>Наиболее известные оперы: 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800" spc="-1" strike="noStrike">
                <a:solidFill>
                  <a:srgbClr val="000099"/>
                </a:solidFill>
                <a:latin typeface="Tahoma"/>
              </a:rPr>
              <a:t>«Свадьба Фигаро</a:t>
            </a:r>
            <a:r>
              <a:rPr b="0" lang="ru-RU" sz="3800" spc="-1" strike="noStrike">
                <a:solidFill>
                  <a:srgbClr val="000000"/>
                </a:solidFill>
                <a:latin typeface="Tahoma"/>
              </a:rPr>
              <a:t>» (1786),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ru-RU" sz="3800" spc="-1" strike="noStrike">
                <a:solidFill>
                  <a:srgbClr val="000099"/>
                </a:solidFill>
                <a:latin typeface="Tahoma"/>
              </a:rPr>
              <a:t>«Дон Жуан»</a:t>
            </a:r>
            <a:r>
              <a:rPr b="0" lang="ru-RU" sz="3800" spc="-1" strike="noStrike">
                <a:solidFill>
                  <a:srgbClr val="000000"/>
                </a:solidFill>
                <a:latin typeface="Tahoma"/>
              </a:rPr>
              <a:t> (1787), 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800" spc="-1" strike="noStrike">
                <a:solidFill>
                  <a:srgbClr val="000099"/>
                </a:solidFill>
                <a:latin typeface="Tahoma"/>
              </a:rPr>
              <a:t>«Волшебная флейта»</a:t>
            </a:r>
            <a:r>
              <a:rPr b="0" lang="ru-RU" sz="3800" spc="-1" strike="noStrike">
                <a:solidFill>
                  <a:srgbClr val="000000"/>
                </a:solidFill>
                <a:latin typeface="Tahoma"/>
              </a:rPr>
              <a:t> (1791).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mozart_fantasie_k_397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"/>
          <p:cNvPicPr/>
          <p:nvPr/>
        </p:nvPicPr>
        <p:blipFill>
          <a:blip r:embed="rId2"/>
          <a:stretch/>
        </p:blipFill>
        <p:spPr>
          <a:xfrm>
            <a:off x="971640" y="549360"/>
            <a:ext cx="7559640" cy="5433840"/>
          </a:xfrm>
          <a:prstGeom prst="rect">
            <a:avLst/>
          </a:prstGeom>
          <a:ln w="28440">
            <a:solidFill>
              <a:srgbClr val="dddddd"/>
            </a:solidFill>
            <a:miter/>
          </a:ln>
        </p:spPr>
      </p:pic>
      <p:sp>
        <p:nvSpPr>
          <p:cNvPr id="189" name="Text Box 3"/>
          <p:cNvSpPr/>
          <p:nvPr/>
        </p:nvSpPr>
        <p:spPr>
          <a:xfrm>
            <a:off x="109440" y="0"/>
            <a:ext cx="866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оцарт, пишущий «Реквием» на смертном одр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0" y="60199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следнее произведение Моцарта —  </a:t>
            </a:r>
            <a:r>
              <a:rPr b="0" lang="ru-RU" sz="1800" spc="-1" strike="noStrike">
                <a:solidFill>
                  <a:srgbClr val="6600ff"/>
                </a:solidFill>
                <a:latin typeface="Tahoma"/>
              </a:rPr>
              <a:t>«Реквием»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— осталось незаконченным. Впоследствии это произведение закончил ученик Моцарта - Зюссмайер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3" descr="Вольфганг Амадей Моцарт (Mozart)"/>
          <p:cNvPicPr/>
          <p:nvPr/>
        </p:nvPicPr>
        <p:blipFill>
          <a:blip r:embed="rId1"/>
          <a:stretch/>
        </p:blipFill>
        <p:spPr>
          <a:xfrm>
            <a:off x="1865160" y="152280"/>
            <a:ext cx="5511960" cy="6553440"/>
          </a:xfrm>
          <a:prstGeom prst="rect">
            <a:avLst/>
          </a:prstGeom>
          <a:ln w="28440">
            <a:solidFill>
              <a:srgbClr val="dddddd"/>
            </a:solidFill>
            <a:miter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5257800" cy="2743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99"/>
                </a:solidFill>
                <a:latin typeface="Tahoma"/>
              </a:rPr>
              <a:t>Бах Иоганн Себастьян</a:t>
            </a:r>
            <a:br>
              <a:rPr sz="5400"/>
            </a:br>
            <a:r>
              <a:rPr b="0" lang="ru-RU" sz="4200" spc="-1" strike="noStrike">
                <a:solidFill>
                  <a:srgbClr val="000099"/>
                </a:solidFill>
                <a:latin typeface="Tahoma"/>
              </a:rPr>
              <a:t>(1685 – 1750)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3200040"/>
            <a:ext cx="51055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го творчество – завершающий этап музыкальной культуры барокк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арокко проникло даже в духовные, органные произведения Бах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6" name="Picture 5" descr="Бах (Bach) Иоганн Себастьян  "/>
          <p:cNvPicPr/>
          <p:nvPr/>
        </p:nvPicPr>
        <p:blipFill>
          <a:blip r:embed="rId1"/>
          <a:stretch/>
        </p:blipFill>
        <p:spPr>
          <a:xfrm>
            <a:off x="5665680" y="228600"/>
            <a:ext cx="3202200" cy="4191120"/>
          </a:xfrm>
          <a:prstGeom prst="rect">
            <a:avLst/>
          </a:prstGeom>
          <a:ln w="38160">
            <a:solidFill>
              <a:srgbClr val="dddddd"/>
            </a:solidFill>
            <a:miter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99"/>
                </a:solidFill>
                <a:latin typeface="Tahoma"/>
              </a:rPr>
              <a:t>Один из меломанов начала 17 века:</a:t>
            </a:r>
            <a:endParaRPr b="0" lang="en-US" sz="3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8915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3400" spc="-1" strike="noStrike">
                <a:solidFill>
                  <a:srgbClr val="000000"/>
                </a:solidFill>
                <a:latin typeface="Tahoma"/>
              </a:rPr>
              <a:t>«Музыкантам хочется изобретать нечто новое. И вот новое искусство докатилось до безудержной распущенности. Отклонившись от путей, намеченных нашими отцами, молодые композиторы создают искажённые произведения, в которых нет никаких достоинств, кроме новизны…»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99"/>
                </a:solidFill>
                <a:latin typeface="Tahoma"/>
              </a:rPr>
              <a:t>Георг Фридрих Гендель </a:t>
            </a:r>
            <a:br>
              <a:rPr sz="3800"/>
            </a:br>
            <a:r>
              <a:rPr b="0" lang="ru-RU" sz="3800" spc="-1" strike="noStrike">
                <a:solidFill>
                  <a:srgbClr val="000099"/>
                </a:solidFill>
                <a:latin typeface="Tahoma"/>
              </a:rPr>
              <a:t>(1685 – 1759)</a:t>
            </a:r>
            <a:endParaRPr b="0" lang="en-US" sz="3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733560" y="1752480"/>
            <a:ext cx="5257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9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Его героические оратории изобилуют яркими контрастами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9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В музыке – разнообразие ритмов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Picture 4" descr="гендель"/>
          <p:cNvPicPr/>
          <p:nvPr/>
        </p:nvPicPr>
        <p:blipFill>
          <a:blip r:embed="rId1"/>
          <a:stretch/>
        </p:blipFill>
        <p:spPr>
          <a:xfrm>
            <a:off x="228600" y="1676520"/>
            <a:ext cx="3067200" cy="4190760"/>
          </a:xfrm>
          <a:prstGeom prst="rect">
            <a:avLst/>
          </a:prstGeom>
          <a:ln w="38160">
            <a:solidFill>
              <a:srgbClr val="dddddd"/>
            </a:solidFill>
            <a:miter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Tahoma"/>
              </a:rPr>
              <a:t>Русская музыка барокко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Барокко в России более жизнерадостно и декоративно, чем на Западе, в нём сильно проявляет себя украшательство, порой доходящее до пестроты. Орнаментальность достигает пределов возможного»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. Владышеска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99"/>
                </a:solidFill>
                <a:latin typeface="Tahoma"/>
              </a:rPr>
              <a:t>Русская музыка барокко 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3885840"/>
            <a:ext cx="51814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Дмитрий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Бортнянский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(1751 – 1825)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7" name="Picture 4" descr="бортнянский"/>
          <p:cNvPicPr/>
          <p:nvPr/>
        </p:nvPicPr>
        <p:blipFill>
          <a:blip r:embed="rId1"/>
          <a:stretch/>
        </p:blipFill>
        <p:spPr>
          <a:xfrm>
            <a:off x="6172200" y="3124080"/>
            <a:ext cx="2719440" cy="3548160"/>
          </a:xfrm>
          <a:prstGeom prst="rect">
            <a:avLst/>
          </a:prstGeom>
          <a:ln w="38160">
            <a:solidFill>
              <a:srgbClr val="dddddd"/>
            </a:solidFill>
            <a:miter/>
          </a:ln>
        </p:spPr>
      </p:pic>
      <p:pic>
        <p:nvPicPr>
          <p:cNvPr id="208" name="Picture 6" descr="Максим Созонтович Березовский"/>
          <p:cNvPicPr/>
          <p:nvPr/>
        </p:nvPicPr>
        <p:blipFill>
          <a:blip r:embed="rId2"/>
          <a:stretch/>
        </p:blipFill>
        <p:spPr>
          <a:xfrm>
            <a:off x="380880" y="1143000"/>
            <a:ext cx="2286000" cy="2286000"/>
          </a:xfrm>
          <a:prstGeom prst="rect">
            <a:avLst/>
          </a:prstGeom>
          <a:ln w="38160">
            <a:solidFill>
              <a:srgbClr val="dddddd"/>
            </a:solidFill>
            <a:miter/>
          </a:ln>
        </p:spPr>
      </p:pic>
      <p:sp>
        <p:nvSpPr>
          <p:cNvPr id="209" name="Rectangle 7"/>
          <p:cNvSpPr/>
          <p:nvPr/>
        </p:nvSpPr>
        <p:spPr>
          <a:xfrm>
            <a:off x="2895480" y="1295280"/>
            <a:ext cx="551844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Максим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Березовский (1745 – 1777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http://classicmusicon.narod.ru/im/monteverdi.jp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http://starat.narod.ru/music/classic/composer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99"/>
                </a:solidFill>
                <a:latin typeface="Tahoma"/>
              </a:rPr>
              <a:t>Особенности музыки барокко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ожиданные переход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нтрасты и противопоставл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ехнически трудные, виртуозные пассажи в пен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дновременное звучание множества инструмент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спользование танцевальных ритм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Tahoma"/>
              </a:rPr>
              <a:t>Клаудио Монтеверди</a:t>
            </a:r>
            <a:br>
              <a:rPr sz="3800"/>
            </a:br>
            <a:r>
              <a:rPr b="0" lang="ru-RU" sz="3800" spc="-1" strike="noStrike">
                <a:solidFill>
                  <a:srgbClr val="000099"/>
                </a:solidFill>
                <a:latin typeface="Tahoma"/>
              </a:rPr>
              <a:t>(1567-1643) – первый композитор барокко (Италия)</a:t>
            </a:r>
            <a:endParaRPr b="0" lang="en-US" sz="3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43" name="Picture 5" descr="фото Монтеверди, Клаудио"/>
          <p:cNvPicPr/>
          <p:nvPr/>
        </p:nvPicPr>
        <p:blipFill>
          <a:blip r:embed="rId1"/>
          <a:stretch/>
        </p:blipFill>
        <p:spPr>
          <a:xfrm>
            <a:off x="5688000" y="2362320"/>
            <a:ext cx="3278160" cy="396216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2209320"/>
            <a:ext cx="5562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оперной музыке создал «взволнованный стиль», передающий драматизм и напряжённость действ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перы «Орфей» (1607), «Ариадна» (1608) и др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хранилось очень мало из его музыкального наслед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99"/>
                </a:solidFill>
                <a:latin typeface="Tahoma"/>
              </a:rPr>
              <a:t>Антонио Вивальди (1678 – 1741)</a:t>
            </a:r>
            <a:endParaRPr b="0" lang="en-US" sz="3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580920" y="1371600"/>
            <a:ext cx="4953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втор 465 концертов и 40 опер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лестящий скрипач-виртуоз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иболее известное произведение – «Времена года» (1725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Picture 4" descr="Вивальди"/>
          <p:cNvPicPr/>
          <p:nvPr/>
        </p:nvPicPr>
        <p:blipFill>
          <a:blip r:embed="rId1"/>
          <a:stretch/>
        </p:blipFill>
        <p:spPr>
          <a:xfrm>
            <a:off x="457200" y="1600200"/>
            <a:ext cx="2813040" cy="3352680"/>
          </a:xfrm>
          <a:prstGeom prst="rect">
            <a:avLst/>
          </a:prstGeom>
          <a:ln w="38160">
            <a:solidFill>
              <a:srgbClr val="dddddd"/>
            </a:solidFill>
            <a:miter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266720" y="151920"/>
            <a:ext cx="449604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99"/>
                </a:solidFill>
                <a:latin typeface="Tahoma"/>
              </a:rPr>
              <a:t>Вольфганг Амадей Моцарт (1756-91)</a:t>
            </a:r>
            <a:endParaRPr b="0" lang="en-US" sz="3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51" name="Picture 5" descr="Моцарт (Mozart) Вольфганг Амадей "/>
          <p:cNvPicPr/>
          <p:nvPr/>
        </p:nvPicPr>
        <p:blipFill>
          <a:blip r:embed="rId1"/>
          <a:stretch/>
        </p:blipFill>
        <p:spPr>
          <a:xfrm>
            <a:off x="152280" y="152280"/>
            <a:ext cx="2610000" cy="3353040"/>
          </a:xfrm>
          <a:prstGeom prst="rect">
            <a:avLst/>
          </a:prstGeom>
          <a:ln w="38160">
            <a:solidFill>
              <a:srgbClr val="dddddd"/>
            </a:solidFill>
            <a:miter/>
          </a:ln>
        </p:spPr>
      </p:pic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743200" y="1447920"/>
            <a:ext cx="6400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встрийский композитор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ладал феноменальным музыкальным слухом и памятью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ыступал как клавесинист-виртуоз, скрипач, органист, дирижер, блестяще импровизировал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 5-летнего возраста с триумфом гастролировал в Германии, Австрии, Франции, Великобритании, Швейцарии, Итали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ahoma"/>
              </a:rPr>
              <a:t>ВОЛЬФГАНГ АМАДЕЙ МОЦАРТ </a:t>
            </a:r>
            <a:br>
              <a:rPr sz="3600"/>
            </a:b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(27. I. 1756, Зальцбург - 5. XII. 1791, Вена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55" name="Picture 3" descr="Вольфганг Амадей Моцарт (Mozart)"/>
          <p:cNvPicPr/>
          <p:nvPr/>
        </p:nvPicPr>
        <p:blipFill>
          <a:blip r:embed="rId1"/>
          <a:stretch/>
        </p:blipFill>
        <p:spPr>
          <a:xfrm>
            <a:off x="2209680" y="1371600"/>
            <a:ext cx="4527720" cy="5334120"/>
          </a:xfrm>
          <a:prstGeom prst="rect">
            <a:avLst/>
          </a:prstGeom>
          <a:ln w="28440">
            <a:solidFill>
              <a:srgbClr val="dddddd"/>
            </a:solidFill>
            <a:miter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28240" y="22824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Слушая его музыку, я как будто совершаю хороший поступок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По моему глубокому убеждению, Моцарт есть высшая, кульминационная точка, до которой красота достигала в сфере музыки.  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.И. Чайковск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Моцарт — это мост между космосом и нашей жизнью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Анатоль Франц</a:t>
            </a:r>
            <a:r>
              <a:rPr b="0" i="1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Многим поколениям он дал и даст утешение и исцеление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Эдвард Гри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AutoShape 2"/>
          <p:cNvSpPr/>
          <p:nvPr/>
        </p:nvSpPr>
        <p:spPr>
          <a:xfrm>
            <a:off x="1714680" y="2543040"/>
            <a:ext cx="5715000" cy="17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1714680" y="2543040"/>
            <a:ext cx="5715000" cy="17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Picture 4" descr="bigpic1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3462480"/>
          </a:xfrm>
          <a:prstGeom prst="rect">
            <a:avLst/>
          </a:prstGeom>
          <a:ln w="28440">
            <a:solidFill>
              <a:srgbClr val="dddddd"/>
            </a:solidFill>
            <a:miter/>
          </a:ln>
        </p:spPr>
      </p:pic>
      <p:sp>
        <p:nvSpPr>
          <p:cNvPr id="162" name="Text Box 6"/>
          <p:cNvSpPr/>
          <p:nvPr/>
        </p:nvSpPr>
        <p:spPr>
          <a:xfrm>
            <a:off x="762120" y="48769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Родина В.А.Моцарта – Зальцбург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4-02T07:09:06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