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3497-C049-45A7-BE46-5DB4171861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зыка Древней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0BFA-28F0-4A0E-A37C-BF8660D2CD6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Calibri"/>
              </a:rPr>
              <a:t>Трудовые песни и припев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яли единым ритмом работу многих людей, делали её размеренной, точной и друж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9DA7-1C1A-4713-A1E9-69D21DC9187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достигла своей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8133-6C36-47A2-AF3C-D1474D914D7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о музыки Древней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189B-5208-42EF-A769-741CA1EB434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A1DC-ED8A-458F-AB60-61164796790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рать информ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ть прое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проект в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E59C-F361-4928-A796-3590E27E765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Русская музыка изначально была связана с культурой и бытом древних славя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Древние славяне были язычниками и поклонялись приро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се верования славян сопровождались </a:t>
            </a:r>
            <a:r>
              <a:rPr b="1" lang="ru-RU" sz="1200" spc="-1" strike="noStrike" u="sng">
                <a:solidFill>
                  <a:srgbClr val="8eb4e3"/>
                </a:solidFill>
                <a:uFillTx/>
                <a:latin typeface="Calibri"/>
              </a:rPr>
              <a:t>закличками</a:t>
            </a:r>
            <a:r>
              <a:rPr b="1" lang="ru-RU" sz="1200" spc="-1" strike="noStrike">
                <a:solidFill>
                  <a:srgbClr val="8eb4e3"/>
                </a:solidFill>
                <a:latin typeface="Calibri"/>
              </a:rPr>
              <a:t> и </a:t>
            </a:r>
            <a:r>
              <a:rPr b="1" lang="ru-RU" sz="1200" spc="-1" strike="noStrike" u="sng">
                <a:solidFill>
                  <a:srgbClr val="8eb4e3"/>
                </a:solidFill>
                <a:uFillTx/>
                <a:latin typeface="Calibri"/>
              </a:rPr>
              <a:t>заговорами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, пением, плясками, ведением хоров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се значительные события человеческой жизни сопровождались             обря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4BE8-E6C5-4333-B636-D6C29F1DA54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Красота народной песни открывается уже в старинных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колыбельных песнях</a:t>
            </a:r>
            <a:r>
              <a:rPr b="1" i="1" lang="en-US" sz="1200" spc="-1" strike="noStrike">
                <a:solidFill>
                  <a:srgbClr val="fceecb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(«байках»)</a:t>
            </a: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. Они наполнены материнской любов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За пением колыбельных песен наступал черёд тешить ребенка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пестушками и потешками </a:t>
            </a: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(от слова «пестовать» - нянчить, холить, ходить за кем-нибудь). Это короткие стихотворные приговоры, которыми сопровождают движения ребенка в первые месяцы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Детям в первые годы жизни пели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прибаутки</a:t>
            </a: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—маленькие сказочки в стихах, а также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прибаутки-перевертыши. </a:t>
            </a: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Детей обучали не мириться с ложью и несообразностям.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BAA2-4772-4503-8FB7-511292F32BE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зрослея, ребенок на улице выучивался 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закличкам и приговоркам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Закличка — это обращение к солнцу, радуге, дождю, птицам, а приговорка—обращение к животным, передразнивание птиц. В отличие от заклички приговорка исполняется не хором, а каждым отд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DD4C-66E7-45B3-8707-20111928E86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о взрослой жизни человека сопровождали 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календарные песни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— их пели в определенные дни года, по праздникам. Это песня, исполнение которой в другое время, вне праздничного обычая, было  бы лишено всякого смыс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о время святок пели величальные песни—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колядки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. На масленицу, самый веселый праздник, песни поясняли праздничные обряды—как масленицу встречали, как её провож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С наступление марта закликали Весну особыми песенными закличками—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веснянками. 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 Егорьев день выгоняли коров в поле и пели песенное заклинание—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оберег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. В майские дни чествовали деревья и цветы. Когда наступала жатва, не было времени праздновать и петь, но с окончанием ее звучали особые песни—о работе ж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С календарными песнями по-своему связаны 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хороводные, игровые и плясовые пес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86E3-0810-4872-B25F-AC170C4BB05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Одна из богатейших областей музыкального фольклора—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свадебные песни. 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Они исполнялись по ходу действия «свадебной игры». Исполнялось большое количество песен : лирических, величальных, шуточных, причитания-пл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B6AC-CFF7-4D5A-BAD3-F22C1F91DCA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8CD8-DC6B-4618-B785-2E8153FC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98DE-9EB4-407A-BE18-5D029A88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92B8-06AC-4AF0-9204-36C232EF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F086-8472-4644-BB3A-9C2E1831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BDA9-616B-46FF-9C6E-BBA540E9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B52C-CA35-4071-9770-AE83FC33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9043-04DE-4659-9E6F-8D84CF0F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618B-5E3A-4BD7-B623-3DACCCB7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DAC8-4E2D-4B97-884A-CA4F3C83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2BE1-7FFA-4923-A442-A9F0C13B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7F08-01A9-41B1-A85B-B36261C9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D7D2-2BBD-4295-A93D-99E570FA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DF41-B3A4-4522-BC62-2E21365B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8150-921A-4C1D-8D51-D9420476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F7C7-56AF-489C-8DE9-335FA074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E60E-5655-48FF-894C-B2460C75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FCC8-EB2D-4934-A4BE-8A040A8C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6610-2B71-498C-A5E9-6992AB7A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51C1-DD78-4847-A38A-934F4422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3E9C-06B3-44A2-9C2F-658F1139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4D43-8B55-49CC-8681-023DD752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8844-5620-4A12-8676-46369B64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1DBC-9568-447B-9781-9BDED486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FE45-6D6B-474A-A5F1-AC851D35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4569-C64B-4881-A4E6-DA33278EB05C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0668-70E4-4F90-AB70-7E4D49A5B7A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7E16-A4DF-4935-8C39-45A548E91F45}" type="datetime">
              <a:rPr b="0" lang="ru-RU" sz="1000" spc="-1" strike="noStrike">
                <a:solidFill>
                  <a:srgbClr val="2f1311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4197-AE7B-4C05-A355-1DF5621871CE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istory-virtual.ucoz.ru/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0&amp;ed=1&amp;text=&#1092;&#1086;&#1083;&#1100;&#1082;&#1083;&#1086;&#1088;%20&#1076;&#1088;&#1077;&#1074;&#1085;&#1077;&#1081;%20&#1056;&#1091;&#1089;&#1080;%20&amp;spsite=www.big-doska.ru&amp;img_url=www.moscow-vernisage.com/upload/1161795876.jpg&amp;rpt=simag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40&amp;ed=1&amp;text=&#1092;&#1086;&#1083;&#1100;&#1082;&#1083;&#1086;&#1088;%20&#1076;&#1088;&#1077;&#1074;&#1085;&#1077;&#1081;%20&#1056;&#1091;&#1089;&#1080;%20&amp;spsite=rusfolclor.ru&amp;img_url=storage.looky.ru/9/5/1/9/5068.jpeg&amp;rpt=simage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&amp;ed=1&amp;text=&#1052;&#1091;&#1079;&#1099;&#1082;&#1072;%20&#1076;&#1088;&#1077;&#1074;&#1085;&#1077;&#1081;%20&#1056;&#1091;&#1089;&#1080;%20&amp;spsite=goodmhk.narod.ru&amp;img_url=goodmhk.narod.ru/skomorohi003.jpg&amp;rpt=simage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37&amp;ed=1&amp;text=&#1052;&#1091;&#1079;&#1099;&#1082;&#1072;%20&#1085;&#1072;%20&#1056;&#1091;&#1089;&#1080;%20&amp;spsite=www.ladogasport.ru&amp;img_url=www.webknow.ru/fizkultura/00878/text.files/image020.jpg&amp;rpt=simage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yandex.ru/yandsearch?p=47&amp;ed=1&amp;text=&#1052;&#1091;&#1079;&#1099;&#1082;&#1072;%20&#1085;&#1072;%20&#1056;&#1091;&#1089;&#1080;%20&amp;spsite=www.eventportal.com.ua&amp;img_url=cards.i.gala.net/data/imgs/29/29.jpg&amp;rpt=simage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2.jpeg"/><Relationship Id="rId8" Type="http://schemas.openxmlformats.org/officeDocument/2006/relationships/hyperlink" Target="http://images.yandex.ru/yandsearch?p=346&amp;ed=1&amp;text=&#1052;&#1091;&#1079;&#1099;&#1082;&#1072;%20&#1085;&#1072;%20&#1056;&#1091;&#1089;&#1080;%20&amp;spsite=www.vida.ru&amp;img_url=www.vida.ru/blob/Event/photo/74392.jpg&amp;rpt=simage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images.yandex.ru/yandsearch?p=218&amp;ed=1&amp;text=&#1052;&#1091;&#1079;&#1099;&#1082;&#1072;%20&#1085;&#1072;%20&#1056;&#1091;&#1089;&#1080;%20&amp;spsite=www.svadba-nk.ru&amp;img_url=molodojeny.narod.ru/08-venchanie/08-01.jpg&amp;rpt=simage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6147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Музыка Древней Рус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Picture 5" descr="Картинка 11 из 35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268280"/>
            <a:ext cx="5975640" cy="4429080"/>
          </a:xfrm>
          <a:prstGeom prst="rect">
            <a:avLst/>
          </a:prstGeom>
          <a:ln w="38160">
            <a:solidFill>
              <a:srgbClr val="d5b781"/>
            </a:solidFill>
            <a:miter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78920" y="404640"/>
            <a:ext cx="7386840" cy="21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1342f"/>
                </a:solidFill>
                <a:latin typeface="Arial"/>
              </a:rPr>
              <a:t>Трудовые песни и припевк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бъединяли единым ритмом работу многих людей, делали её размеренной, точной и дружно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i-main-pic" descr="Картинка 355 из 1550"/>
          <p:cNvPicPr/>
          <p:nvPr/>
        </p:nvPicPr>
        <p:blipFill>
          <a:blip r:embed="rId2"/>
          <a:stretch/>
        </p:blipFill>
        <p:spPr>
          <a:xfrm>
            <a:off x="1042920" y="2487600"/>
            <a:ext cx="5619960" cy="392580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ывод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 достигла своей цел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Рисунок 3" descr="http://im5-tub.yandex.net/i?id=31518943&amp;tov=5"/>
          <p:cNvPicPr/>
          <p:nvPr/>
        </p:nvPicPr>
        <p:blipFill>
          <a:blip r:embed="rId2"/>
          <a:stretch/>
        </p:blipFill>
        <p:spPr>
          <a:xfrm>
            <a:off x="3492360" y="3429000"/>
            <a:ext cx="3568680" cy="2687760"/>
          </a:xfrm>
          <a:prstGeom prst="rect">
            <a:avLst/>
          </a:prstGeom>
          <a:ln w="38160">
            <a:solidFill>
              <a:srgbClr val="2f1311"/>
            </a:solidFill>
            <a:miter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WordArt 4"/>
          <p:cNvSpPr txBox="1"/>
          <p:nvPr/>
        </p:nvSpPr>
        <p:spPr>
          <a:xfrm>
            <a:off x="755640" y="3141720"/>
            <a:ext cx="595296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знать о музыки Древней Рус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Рисунок 4" descr="http://im4-tub.yandex.net/i?id=32489430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4292640"/>
            <a:ext cx="3846600" cy="215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адач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ла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брать информацию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делать проек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казать проект в класс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3" descr="http://im7-tub.yandex.net/i?id=37439702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349360"/>
            <a:ext cx="2543040" cy="4083120"/>
          </a:xfrm>
          <a:prstGeom prst="rect">
            <a:avLst/>
          </a:prstGeom>
          <a:ln w="38160">
            <a:solidFill>
              <a:srgbClr val="2f1311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3" name=""/>
          <p:cNvSpPr txBox="1"/>
          <p:nvPr/>
        </p:nvSpPr>
        <p:spPr>
          <a:xfrm>
            <a:off x="156960" y="260280"/>
            <a:ext cx="77994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Русская музыка изначально была связана с культурой и бытом древних славян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Древние славяне были язычниками и поклонялись природе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2957400" y="1989000"/>
            <a:ext cx="478332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eecb"/>
                </a:solidFill>
                <a:latin typeface="Arial"/>
              </a:rPr>
              <a:t>Все верования славян сопровождались </a:t>
            </a:r>
            <a:r>
              <a:rPr b="1" lang="ru-RU" sz="2400" spc="-1" strike="noStrike" u="sng">
                <a:solidFill>
                  <a:srgbClr val="fceecb"/>
                </a:solidFill>
                <a:uFillTx/>
                <a:latin typeface="Arial"/>
              </a:rPr>
              <a:t>закличками</a:t>
            </a:r>
            <a:r>
              <a:rPr b="1" lang="ru-RU" sz="2400" spc="-1" strike="noStrike">
                <a:solidFill>
                  <a:srgbClr val="fceecb"/>
                </a:solidFill>
                <a:latin typeface="Arial"/>
              </a:rPr>
              <a:t> и </a:t>
            </a:r>
            <a:r>
              <a:rPr b="1" lang="ru-RU" sz="2400" spc="-1" strike="noStrike" u="sng">
                <a:solidFill>
                  <a:srgbClr val="fceecb"/>
                </a:solidFill>
                <a:uFillTx/>
                <a:latin typeface="Arial"/>
              </a:rPr>
              <a:t>заговорами</a:t>
            </a:r>
            <a:r>
              <a:rPr b="0" lang="ru-RU" sz="2400" spc="-1" strike="noStrike">
                <a:solidFill>
                  <a:srgbClr val="fceecb"/>
                </a:solidFill>
                <a:latin typeface="Arial"/>
              </a:rPr>
              <a:t>, пением, плясками, ведением хоровод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eecb"/>
                </a:solidFill>
                <a:latin typeface="Arial"/>
              </a:rPr>
              <a:t>Все значительные события человеческой жизни сопровождались             обряд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Місце для нижнього колонтитула 2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79280" y="214200"/>
            <a:ext cx="763272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Красота народной песни открывается уже в старинных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колыбельных песнях</a:t>
            </a:r>
            <a:r>
              <a:rPr b="1" i="1" lang="en-US" sz="2000" spc="-1" strike="noStrike">
                <a:solidFill>
                  <a:srgbClr val="fceecb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(«байках»)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. Они наполнены материнской любовью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За пением колыбельных песен наступал черёд тешить ребенка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пестушками и потешками 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(от слова «пестовать» - нянчить, холить, ходить за кем-нибудь). Это короткие стихотворные приговоры, которыми сопровождают движения ребенка в первые месяцы жизн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Детям в первые годы жизни пели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прибаутки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—маленькие сказочки в стихах, а также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прибаутки-перевертыши. 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Детей обучали не мириться с ложью и несообразностям.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Рисунок 3" descr="http://im0-tub.yandex.net/i?id=34407981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3860640"/>
            <a:ext cx="1873080" cy="269424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4" descr="http://im5-tub.yandex.net/i?id=60264567&amp;tov=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1480" y="620640"/>
            <a:ext cx="2679840" cy="21574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78920" y="2997360"/>
            <a:ext cx="7488360" cy="35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Взрослея, ребенок на улице выучивался </a:t>
            </a:r>
            <a:r>
              <a:rPr b="1" i="1" lang="ru-RU" sz="2800" spc="-1" strike="noStrike">
                <a:solidFill>
                  <a:srgbClr val="fceecb"/>
                </a:solidFill>
                <a:latin typeface="Arial"/>
              </a:rPr>
              <a:t>закличкам и приговоркам</a:t>
            </a: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Закличка — это обращение к солнцу, радуге, дождю, птицам, а приговорка—обращение к животным, передразнивание птиц. В отличие от заклички приговорка исполняется не хором, а каждым отдельн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Рисунок 3" descr="http://im5-tub.yandex.net/i?id=2020369&amp;tov=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5480" y="620640"/>
            <a:ext cx="3286080" cy="207180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-360" y="1428840"/>
            <a:ext cx="766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Во взрослой жизни человека сопровождали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календарные песни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— их пели в определенные дни года, по праздникам. Это песня, исполнение которой в другое время, вне праздничного обычая, было  бы лишено всякого смысла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Во время святок пели величальные песни—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колядки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. На масленицу, самый веселый праздник, песни поясняли праздничные обряды—как масленицу встречали, как её провожал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С наступление марта закликали Весну особыми песенными закличками—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веснянками. 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В Егорьев день выгоняли коров в поле и пели песенное заклинание—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оберег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. В майские дни чествовали деревья и цветы. Когда наступала жатва, не было времени праздновать и петь, но с окончанием ее звучали особые песни—о работе жней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С календарными песнями по-своему связаны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хороводные, игровые и плясовые песн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5" descr="http://im7-tub.yandex.net/i?id=61238337&amp;tov=7"/>
          <p:cNvPicPr/>
          <p:nvPr/>
        </p:nvPicPr>
        <p:blipFill>
          <a:blip r:embed="rId7"/>
          <a:stretch/>
        </p:blipFill>
        <p:spPr>
          <a:xfrm>
            <a:off x="0" y="0"/>
            <a:ext cx="2352600" cy="14288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4" descr="http://im2-tub.yandex.net/i?id=38684699&amp;tov=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508720" y="5373720"/>
            <a:ext cx="1996920" cy="14176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2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3141360"/>
            <a:ext cx="78120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eecb"/>
                </a:solidFill>
                <a:latin typeface="Arial"/>
              </a:rPr>
              <a:t>Одна из богатейших областей музыкального фольклора—</a:t>
            </a:r>
            <a:r>
              <a:rPr b="1" i="1" lang="ru-RU" sz="3200" spc="-1" strike="noStrike">
                <a:solidFill>
                  <a:srgbClr val="fceecb"/>
                </a:solidFill>
                <a:latin typeface="Arial"/>
              </a:rPr>
              <a:t>свадебные песни. </a:t>
            </a:r>
            <a:r>
              <a:rPr b="0" lang="ru-RU" sz="3200" spc="-1" strike="noStrike">
                <a:solidFill>
                  <a:srgbClr val="fceecb"/>
                </a:solidFill>
                <a:latin typeface="Arial"/>
              </a:rPr>
              <a:t>Они исполнялись по ходу действия «свадебной игры». Исполнялось большое количество песен : лирических, величальных, шуточных, причитания-плач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Рисунок 3" descr="http://im2-tub.yandex.net/i?id=20549006&amp;tov=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0"/>
            <a:ext cx="3857760" cy="3033720"/>
          </a:xfrm>
          <a:prstGeom prst="rect">
            <a:avLst/>
          </a:prstGeom>
          <a:ln w="0">
            <a:noFill/>
          </a:ln>
        </p:spPr>
      </p:pic>
      <p:pic>
        <p:nvPicPr>
          <p:cNvPr id="229" name="i-tmb-0x" descr="http://im2-tub.yandex.net/i?id=75616356&amp;tov=2"/>
          <p:cNvPicPr/>
          <p:nvPr/>
        </p:nvPicPr>
        <p:blipFill>
          <a:blip r:embed="rId5"/>
          <a:stretch/>
        </p:blipFill>
        <p:spPr>
          <a:xfrm>
            <a:off x="0" y="0"/>
            <a:ext cx="2158920" cy="22860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2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5:45:52Z</dcterms:created>
  <dc:creator>Valued Acer Customer</dc:creator>
  <dc:description/>
  <dc:language>en-US</dc:language>
  <cp:lastModifiedBy>LEGION</cp:lastModifiedBy>
  <dcterms:modified xsi:type="dcterms:W3CDTF">2015-04-02T07:21:37Z</dcterms:modified>
  <cp:revision>15</cp:revision>
  <dc:subject/>
  <dc:title>Музыка Древней Руси</dc:title>
</cp:coreProperties>
</file>