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66ED-3273-4445-84A1-24474EB6FA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зыка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EE33-FB24-4D27-8246-6C991807A2A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Calibri"/>
              </a:rPr>
              <a:t>Трудовые песни и припев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ли единым ритмом работу многих людей, делали её размеренной, точной и дру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5BA5-CF03-4CEA-8753-6F3B3A9AAC0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достигла своей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8021-5955-4E07-BE4F-9DBDCC1CEB8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 музыки Древней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6D25-9BEB-4A40-897E-1AA44B6FEC7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78B8-A40A-43D8-B961-78607B23FFD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ть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про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проект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4766-E329-40D5-AB90-85C98C50120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Русская музыка изначально была связана с культурой и бытом древних славя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Древние славяне были язычниками и поклонялись прир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се верования славян сопровождались </a:t>
            </a:r>
            <a:r>
              <a:rPr b="1" lang="ru-RU" sz="1200" spc="-1" strike="noStrike" u="sng">
                <a:solidFill>
                  <a:srgbClr val="8eb4e3"/>
                </a:solidFill>
                <a:uFillTx/>
                <a:latin typeface="Calibri"/>
              </a:rPr>
              <a:t>закличками</a:t>
            </a:r>
            <a:r>
              <a:rPr b="1" lang="ru-RU" sz="1200" spc="-1" strike="noStrike">
                <a:solidFill>
                  <a:srgbClr val="8eb4e3"/>
                </a:solidFill>
                <a:latin typeface="Calibri"/>
              </a:rPr>
              <a:t> и </a:t>
            </a:r>
            <a:r>
              <a:rPr b="1" lang="ru-RU" sz="1200" spc="-1" strike="noStrike" u="sng">
                <a:solidFill>
                  <a:srgbClr val="8eb4e3"/>
                </a:solidFill>
                <a:uFillTx/>
                <a:latin typeface="Calibri"/>
              </a:rPr>
              <a:t>заговорам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, пением, плясками, ведением хоров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се значительные события человеческой жизни сопровождались             обря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BF22-A065-41F1-BBDA-3298FF5729C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Красота народной песни открывается уже в старинных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колыбельных песнях</a:t>
            </a:r>
            <a:r>
              <a:rPr b="1" i="1" lang="en-US" sz="1200" spc="-1" strike="noStrike">
                <a:solidFill>
                  <a:srgbClr val="fceecb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(«байках»)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. Они наполнены материнской любов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За пением колыбельных песен наступал черёд тешить ребенка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естушками и потешками 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(от слова «пестовать» - нянчить, холить, ходить за кем-нибудь). Это короткие стихотворные приговоры, которыми сопровождают движения ребенка в первые месяцы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Детям в первые годы жизни пели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рибаутки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—маленькие сказочки в стихах, а также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рибаутки-перевертыши. 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Детей обучали не мириться с ложью и несообразностям.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CBF4-F9E4-43F8-9E36-C59AAF4B3C4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зрослея, ребенок на улице выучивался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закличкам и приговоркам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Закличка — это обращение к солнцу, радуге, дождю, птицам, а приговорка—обращение к животным, передразнивание птиц. В отличие от заклички приговорка исполняется не хором, а каждым отд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671A-B89D-4507-904B-9F67CAF5CA4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о взрослой жизни человека сопровождали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календарные песн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— их пели в определенные дни года, по праздникам. Это песня, исполнение которой в другое время, вне праздничного обычая, было  бы лишено всякого смыс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о время святок пели величальные песни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колядк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На масленицу, самый веселый праздник, песни поясняли праздничные обряды—как масленицу встречали, как её провож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С наступление марта закликали Весну особыми песенными закличками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веснянками. 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 Егорьев день выгоняли коров в поле и пели песенное заклинание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оберег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В майские дни чествовали деревья и цветы. Когда наступала жатва, не было времени праздновать и петь, но с окончанием ее звучали особые песни—о работе ж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С календарными песнями по-своему связаны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хороводные, игровые и плясовые пе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00A0-BC3A-4561-9A81-BE7B86F086D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Одна из богатейших областей музыкального фольклора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свадебные песни. 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Они исполнялись по ходу действия «свадебной игры». Исполнялось большое количество песен : лирических, величальных, шуточных, причитания-пл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D3C0-858F-41AE-8A5F-D14648262FA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845-3E8E-436B-BD89-D9115633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E2C-49F7-469A-99E8-A7876896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291-A00D-4E13-838A-066CEBDA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05D-C392-455F-B7D3-7BB0056A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30EC-12EF-495D-A06B-DFAF7745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AE9F-DD39-4468-8677-A1885F32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7C7A-3C3C-42D4-A598-1EBD90B3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34C4-6984-4982-8188-C37B22F2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BB42-2455-4779-AE8C-4C3E7858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0864-6D0B-452D-B625-AC3A10C4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0719-F4BB-4F9C-96D6-753F5872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53F-80E7-4C02-B427-4008F04F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0C25-F12A-4503-930E-ECD5805A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0676-B9AF-44AB-BE2E-2F962290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1E74-E4CC-4CF3-8446-2BD57416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1615-C923-41E1-8B78-B45773DE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E4FD-2489-479F-A0BA-68355F59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C90-99C7-4AD0-9BBF-1B783195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358-32E5-4892-9020-40EB0111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39C-F1A4-48F7-972F-D7B55700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059-6194-403C-BD27-E3938B57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80A-4384-4363-89D2-D90EF5B7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DBA-A82E-458F-B993-B1C6ACB5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2DB-C3B5-499D-B379-AAB4C034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F4B4-3985-47CF-B83D-EC24EF87E65D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17F8-5B98-4CD4-94A6-B3F8E66DE7B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A203-AA4A-4EDE-B5F1-A6CB90AF88D6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B0FA-696C-4A3E-A4E3-A8B076499B1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istory-virtual.ucoz.ru/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0&amp;ed=1&amp;text=&#1092;&#1086;&#1083;&#1100;&#1082;&#1083;&#1086;&#1088;%20&#1076;&#1088;&#1077;&#1074;&#1085;&#1077;&#1081;%20&#1056;&#1091;&#1089;&#1080;%20&amp;spsite=www.big-doska.ru&amp;img_url=www.moscow-vernisage.com/upload/1161795876.jpg&amp;rpt=simag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0&amp;ed=1&amp;text=&#1092;&#1086;&#1083;&#1100;&#1082;&#1083;&#1086;&#1088;%20&#1076;&#1088;&#1077;&#1074;&#1085;&#1077;&#1081;%20&#1056;&#1091;&#1089;&#1080;%20&amp;spsite=rusfolclor.ru&amp;img_url=storage.looky.ru/9/5/1/9/5068.jpeg&amp;rpt=simag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ed=1&amp;text=&#1052;&#1091;&#1079;&#1099;&#1082;&#1072;%20&#1076;&#1088;&#1077;&#1074;&#1085;&#1077;&#1081;%20&#1056;&#1091;&#1089;&#1080;%20&amp;spsite=goodmhk.narod.ru&amp;img_url=goodmhk.narod.ru/skomorohi003.jpg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7&amp;ed=1&amp;text=&#1052;&#1091;&#1079;&#1099;&#1082;&#1072;%20&#1085;&#1072;%20&#1056;&#1091;&#1089;&#1080;%20&amp;spsite=www.ladogasport.ru&amp;img_url=www.webknow.ru/fizkultura/00878/text.files/image020.jpg&amp;rpt=simag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p=47&amp;ed=1&amp;text=&#1052;&#1091;&#1079;&#1099;&#1082;&#1072;%20&#1085;&#1072;%20&#1056;&#1091;&#1089;&#1080;%20&amp;spsite=www.eventportal.com.ua&amp;img_url=cards.i.gala.net/data/imgs/29/29.jpg&amp;rpt=simag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2.jpeg"/><Relationship Id="rId8" Type="http://schemas.openxmlformats.org/officeDocument/2006/relationships/hyperlink" Target="http://images.yandex.ru/yandsearch?p=346&amp;ed=1&amp;text=&#1052;&#1091;&#1079;&#1099;&#1082;&#1072;%20&#1085;&#1072;%20&#1056;&#1091;&#1089;&#1080;%20&amp;spsite=www.vida.ru&amp;img_url=www.vida.ru/blob/Event/photo/74392.jpg&amp;rpt=simage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images.yandex.ru/yandsearch?p=218&amp;ed=1&amp;text=&#1052;&#1091;&#1079;&#1099;&#1082;&#1072;%20&#1085;&#1072;%20&#1056;&#1091;&#1089;&#1080;%20&amp;spsite=www.svadba-nk.ru&amp;img_url=molodojeny.narod.ru/08-venchanie/08-01.jpg&amp;rpt=simage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147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Музыка Древней Рус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5" descr="Картинка 11 из 35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268280"/>
            <a:ext cx="5975640" cy="4429080"/>
          </a:xfrm>
          <a:prstGeom prst="rect">
            <a:avLst/>
          </a:prstGeom>
          <a:ln w="38160">
            <a:solidFill>
              <a:srgbClr val="d5b781"/>
            </a:solidFill>
            <a:miter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78920" y="404640"/>
            <a:ext cx="7386840" cy="21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1342f"/>
                </a:solidFill>
                <a:latin typeface="Arial"/>
              </a:rPr>
              <a:t>Трудовые песни и припевк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ъединяли единым ритмом работу многих людей, делали её размеренной, точной и дружн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i-main-pic" descr="Картинка 355 из 1550"/>
          <p:cNvPicPr/>
          <p:nvPr/>
        </p:nvPicPr>
        <p:blipFill>
          <a:blip r:embed="rId2"/>
          <a:stretch/>
        </p:blipFill>
        <p:spPr>
          <a:xfrm>
            <a:off x="1042920" y="2487600"/>
            <a:ext cx="5619960" cy="39258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 достигла своей цел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Рисунок 3" descr="http://im5-tub.yandex.net/i?id=31518943&amp;tov=5"/>
          <p:cNvPicPr/>
          <p:nvPr/>
        </p:nvPicPr>
        <p:blipFill>
          <a:blip r:embed="rId2"/>
          <a:stretch/>
        </p:blipFill>
        <p:spPr>
          <a:xfrm>
            <a:off x="3492360" y="3429000"/>
            <a:ext cx="3568680" cy="2687760"/>
          </a:xfrm>
          <a:prstGeom prst="rect">
            <a:avLst/>
          </a:prstGeom>
          <a:ln w="38160">
            <a:solidFill>
              <a:srgbClr val="2f1311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755640" y="3141720"/>
            <a:ext cx="59529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знать о музыки Древней Рус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Рисунок 4" descr="http://im4-tub.yandex.net/i?id=32489430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4292640"/>
            <a:ext cx="3846600" cy="215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брать информац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делать прое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проект в класс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" descr="http://im7-tub.yandex.net/i?id=37439702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349360"/>
            <a:ext cx="2543040" cy="4083120"/>
          </a:xfrm>
          <a:prstGeom prst="rect">
            <a:avLst/>
          </a:prstGeom>
          <a:ln w="38160">
            <a:solidFill>
              <a:srgbClr val="2f1311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3" name=""/>
          <p:cNvSpPr txBox="1"/>
          <p:nvPr/>
        </p:nvSpPr>
        <p:spPr>
          <a:xfrm>
            <a:off x="156960" y="260280"/>
            <a:ext cx="7799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Русская музыка изначально была связана с культурой и бытом древних славян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Древние славяне были язычниками и поклонялись природ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2957400" y="1989000"/>
            <a:ext cx="47833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Все верования славян сопровождались </a:t>
            </a:r>
            <a:r>
              <a:rPr b="1" lang="ru-RU" sz="2400" spc="-1" strike="noStrike" u="sng">
                <a:solidFill>
                  <a:srgbClr val="fceecb"/>
                </a:solidFill>
                <a:uFillTx/>
                <a:latin typeface="Arial"/>
              </a:rPr>
              <a:t>закличками</a:t>
            </a:r>
            <a:r>
              <a:rPr b="1" lang="ru-RU" sz="2400" spc="-1" strike="noStrike">
                <a:solidFill>
                  <a:srgbClr val="fceecb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fceecb"/>
                </a:solidFill>
                <a:uFillTx/>
                <a:latin typeface="Arial"/>
              </a:rPr>
              <a:t>заговорами</a:t>
            </a: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, пением, плясками, ведением хоровод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Все значительные события человеческой жизни сопровождались             обряд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79280" y="214200"/>
            <a:ext cx="76327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Красота народной песни открывается уже в старинных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олыбельных песнях</a:t>
            </a:r>
            <a:r>
              <a:rPr b="1" i="1" lang="en-US" sz="2000" spc="-1" strike="noStrike">
                <a:solidFill>
                  <a:srgbClr val="fceecb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(«байках»)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Они наполнены материнской любовью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За пением колыбельных песен наступал черёд тешить ребенка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естушками и потешками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(от слова «пестовать» - нянчить, холить, ходить за кем-нибудь). Это короткие стихотворные приговоры, которыми сопровождают движения ребенка в первые месяцы жизн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Детям в первые годы жизни пели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рибаутк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—маленькие сказочки в стихах, а также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рибаутки-перевертыши.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Детей обучали не мириться с ложью и несообразностям.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Рисунок 3" descr="http://im0-tub.yandex.net/i?id=34407981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1873080" cy="26942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4" descr="http://im5-tub.yandex.net/i?id=602645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480" y="620640"/>
            <a:ext cx="2679840" cy="2157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78920" y="2997360"/>
            <a:ext cx="748836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Взрослея, ребенок на улице выучивался </a:t>
            </a:r>
            <a:r>
              <a:rPr b="1" i="1" lang="ru-RU" sz="2800" spc="-1" strike="noStrike">
                <a:solidFill>
                  <a:srgbClr val="fceecb"/>
                </a:solidFill>
                <a:latin typeface="Arial"/>
              </a:rPr>
              <a:t>закличкам и приговоркам</a:t>
            </a: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Закличка — это обращение к солнцу, радуге, дождю, птицам, а приговорка—обращение к животным, передразнивание птиц. В отличие от заклички приговорка исполняется не хором, а каждым отдельн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Рисунок 3" descr="http://im5-tub.yandex.net/i?id=2020369&amp;tov=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5480" y="620640"/>
            <a:ext cx="3286080" cy="20718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-360" y="1428840"/>
            <a:ext cx="766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о взрослой жизни человека сопровождали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алендарные песн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— их пели в определенные дни года, по праздникам. Это песня, исполнение которой в другое время, вне праздничного обычая, было  бы лишено всякого смысл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о время святок пели величальные песни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олядк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На масленицу, самый веселый праздник, песни поясняли праздничные обряды—как масленицу встречали, как её провожал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С наступление марта закликали Весну особыми песенными закличками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веснянками.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 Егорьев день выгоняли коров в поле и пели песенное заклинание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оберег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В майские дни чествовали деревья и цветы. Когда наступала жатва, не было времени праздновать и петь, но с окончанием ее звучали особые песни—о работе жне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С календарными песнями по-своему связаны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хороводные, игровые и плясовые песн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http://im7-tub.yandex.net/i?id=61238337&amp;tov=7"/>
          <p:cNvPicPr/>
          <p:nvPr/>
        </p:nvPicPr>
        <p:blipFill>
          <a:blip r:embed="rId7"/>
          <a:stretch/>
        </p:blipFill>
        <p:spPr>
          <a:xfrm>
            <a:off x="0" y="0"/>
            <a:ext cx="235260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http://im2-tub.yandex.net/i?id=38684699&amp;tov=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08720" y="5373720"/>
            <a:ext cx="1996920" cy="141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3141360"/>
            <a:ext cx="78120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eecb"/>
                </a:solidFill>
                <a:latin typeface="Arial"/>
              </a:rPr>
              <a:t>Одна из богатейших областей музыкального фольклора—</a:t>
            </a:r>
            <a:r>
              <a:rPr b="1" i="1" lang="ru-RU" sz="3200" spc="-1" strike="noStrike">
                <a:solidFill>
                  <a:srgbClr val="fceecb"/>
                </a:solidFill>
                <a:latin typeface="Arial"/>
              </a:rPr>
              <a:t>свадебные песни. </a:t>
            </a:r>
            <a:r>
              <a:rPr b="0" lang="ru-RU" sz="3200" spc="-1" strike="noStrike">
                <a:solidFill>
                  <a:srgbClr val="fceecb"/>
                </a:solidFill>
                <a:latin typeface="Arial"/>
              </a:rPr>
              <a:t>Они исполнялись по ходу действия «свадебной игры». Исполнялось большое количество песен : лирических, величальных, шуточных, причитания-плач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Рисунок 3" descr="http://im2-tub.yandex.net/i?id=20549006&amp;tov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0"/>
            <a:ext cx="3857760" cy="3033720"/>
          </a:xfrm>
          <a:prstGeom prst="rect">
            <a:avLst/>
          </a:prstGeom>
          <a:ln w="0">
            <a:noFill/>
          </a:ln>
        </p:spPr>
      </p:pic>
      <p:pic>
        <p:nvPicPr>
          <p:cNvPr id="229" name="i-tmb-0x" descr="http://im2-tub.yandex.net/i?id=75616356&amp;tov=2"/>
          <p:cNvPicPr/>
          <p:nvPr/>
        </p:nvPicPr>
        <p:blipFill>
          <a:blip r:embed="rId5"/>
          <a:stretch/>
        </p:blipFill>
        <p:spPr>
          <a:xfrm>
            <a:off x="0" y="0"/>
            <a:ext cx="2158920" cy="2286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5:45:52Z</dcterms:created>
  <dc:creator>Valued Acer Customer</dc:creator>
  <dc:description/>
  <dc:language>en-US</dc:language>
  <cp:lastModifiedBy>LEGION</cp:lastModifiedBy>
  <dcterms:modified xsi:type="dcterms:W3CDTF">2015-04-02T07:21:37Z</dcterms:modified>
  <cp:revision>15</cp:revision>
  <dc:subject/>
  <dc:title>Музыка Древней Руси</dc:title>
</cp:coreProperties>
</file>