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7812-1EE8-4FB4-B475-B6C5E9356D4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эпох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лассицизма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обзорная л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15CB-D45A-49DD-B6D1-600FD727C2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творчества Й.Гайд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дна можно назвать отцом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трунного квар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ладающего следующими типическими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 – две скрипки, альт и виолонче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етырехчастность (аллегро в сонатной форме, медленная часть, менуэт и фи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ондо-сона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9C6B-4D8B-4CA8-A22B-AFFE53B75A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льфган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мадей Моца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душие и склонность к едкому сарказм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чливость и житейская искуш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ость и склонность к глубокой меланхолии – вплоть до патологичес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мие (он безжалостно передразнивал окружающих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нравственность (хотя он не слишком жаловал церковь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м, реалистический взгляд на жиз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однажды написал 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«У тебя сплошные крайности, ты не знаешь золотой середины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E691-3651-43CD-B8F1-021996F9BB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имфо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церту, дивертисмент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вартету, оп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мессе, сона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B2CF-402A-4637-A34E-4D8FF76881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 А. Моц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ообще в венский период Моцарт создал собственный, исключительно самобытный сти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3486-A094-4F01-B5F1-FD09D50876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Занимательно: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, как известно, был вундеркиндом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бящий отец отнял у малыша неоконченную нотную запись, он изумленно воскликнул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 этот концерт так труден, что его никто не сможет сыграть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глупости, папа! - возразил Моцарт,- его может сыграть даже ребенок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D307-BFE3-478B-B3EA-FB1184ACEE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виг Ван Бетхов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70–18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композитор, которого нередко считают величайшим творцом всех врем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творчество относят как к классицизму, так и к романт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Бетховена - прежде всего выражение его гениально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FDAF-EE0D-41C0-A51B-6408464EF4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артитуры требую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большего числа исполнителей в каждой парт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вероятного в его эпоху исполнительского мастерства каждого оркестрант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7E41-1BBD-4270-9B1D-59F3FA026F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че говоря, Бетховен творит музыкальное пространство силой ума, собственной вол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640E-86EE-4EEE-A1D3-90EDF40835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Классиц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classicus - образцовы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B9F5-0790-4D06-B4A2-3E7567BD68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Эпоха Просвещен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E1EA-4FFC-440C-8DB4-B1BE72D8FE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ни Дидр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1200" spc="-1" strike="noStrike">
                <a:solidFill>
                  <a:srgbClr val="eeece1"/>
                </a:solidFill>
                <a:latin typeface="Calibri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55C4-4899-4370-A8DE-3957D8670A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FE89-89F8-40D8-9BD6-F57E8897E9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B218-B79D-4429-AA50-6EA3F67F87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92F2-2BC5-4C44-B3D4-6EC255785C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DA03-343C-4BD0-93E2-58C721EF50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Гайд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ский композитор середины 18 в. имел в своем распоряжении несколько разных стиле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ерный: в нем итальянская манера преобладала вплоть до времен Моцар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ет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7248-9A95-46F2-88F1-6F225706D7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1EE-1625-4566-A70E-F0F7543C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6C5-AA8B-4BFA-B061-9047E153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D4E-59AE-4211-9040-2CBE68DD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783-4829-436E-86A2-840B2F01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461-8AD6-41DF-8BC5-E6DEF995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465-6761-4C36-B3CD-F1190D35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CDD-58FB-4028-979D-F1624B8A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405-B754-4563-A7F6-333B9BE1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A29-A3E6-4EBD-9F7E-F393FC81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A97-56F2-40C0-85C1-3CB1C3A6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BBD-9FAA-44AA-8858-C7ECEF10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9C3-0E05-40AA-9AA7-11CF011E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2026-4523-46FC-9AEF-AD0D66F2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84F9-B051-4D46-B4CF-654B4D3D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987E-EC12-47CF-AC63-BE018993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98A8-BAEA-4BBA-8AAE-9E89C4CB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6A21-DA6E-4EF3-AD3A-424383CA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B5D5-0273-4CD6-9DFD-028DA29C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ACB8-38DE-4E41-9A51-497D362A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3B8B-3A38-479C-A250-12FA43E9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D6CB-D401-4A9F-85DD-7EAB896E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DC27-5B46-4FFC-815D-A4F02570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39A9-EAE7-47CE-AD96-7DF8DC4B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656F-34AF-4771-B766-95F36309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range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932E-3EE8-4EAD-92CD-048FF9057E7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Orange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7062-70D9-4F3B-98B2-F4FEFE99EFA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267920"/>
            <a:ext cx="702468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узыка эпохи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Классицизма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(обзорная лек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495680" y="6054840"/>
            <a:ext cx="335304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9580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Значение творчества Й.Гайдна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йдна можно назвать отцом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струнного квар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ладающего следующими типическими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состав – две скрипки, альт и виолонче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четырехчастность (аллегро в сонатной форме, медленная часть, менуэт и фин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рондо-сон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Вольфганг</a:t>
            </a:r>
            <a:br>
              <a:rPr sz="3400"/>
            </a:b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Амадей Моцарт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ликодушие и склонность к едкому сарказму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бячливость и житейская искушенность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селость и склонность к глубокой меланхолии – вплоть до патологическо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строумие (он безжалостно передразнивал окружающих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сокая нравственность (хотя он не слишком жаловал церковь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ционализм, реалистический взгляд на жизн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тец однажды написал ему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f5f5f"/>
                </a:solidFill>
                <a:latin typeface="Arial"/>
              </a:rPr>
              <a:t>«У тебя сплошные крайности, ты не знаешь золотой середины»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123572289885cd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727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95640" y="1557000"/>
            <a:ext cx="468000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симфонии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онцерту, дивертисменту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вартету, опер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мессе, сонат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трио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123572289711a5"/>
          <p:cNvPicPr/>
          <p:nvPr/>
        </p:nvPicPr>
        <p:blipFill>
          <a:blip r:embed="rId1"/>
          <a:stretch/>
        </p:blipFill>
        <p:spPr>
          <a:xfrm>
            <a:off x="611280" y="1628640"/>
            <a:ext cx="3200400" cy="40006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298764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1341360"/>
            <a:ext cx="7705800" cy="24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Но вообще в венский период Моцарт создал собственный, исключительно самобытный стиль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1557000"/>
            <a:ext cx="734400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f5f5f"/>
                </a:solidFill>
                <a:latin typeface="Garamond"/>
              </a:rPr>
              <a:t>Занимательно:</a:t>
            </a:r>
            <a:br>
              <a:rPr sz="29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Моцарт, как известно, был вундеркиндом: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Когда любящий отец отнял у малыша неоконченную нотную запись, он изумленно воскликнул: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Но этот концерт так труден, что его никто не сможет сыграть!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Какие глупости, папа! - возразил Моцарт,- его может сыграть даже ребенок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Например я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62336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Людвиг Ван Бетховен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(1770–1827)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4208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ецкий композитор, которого нередко считают величайшим творцом всех врем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творчество относят как к классицизму, так и к романт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я Бетховена - прежде всего выражение его гениальн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1235722647d751"/>
          <p:cNvPicPr/>
          <p:nvPr/>
        </p:nvPicPr>
        <p:blipFill>
          <a:blip r:embed="rId1"/>
          <a:stretch/>
        </p:blipFill>
        <p:spPr>
          <a:xfrm>
            <a:off x="5985000" y="2133720"/>
            <a:ext cx="2901960" cy="367164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6920" y="1844640"/>
            <a:ext cx="648036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Его партитуры требуют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первых, большего числа исполнителей в каждой партии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вторых, невероятного в его эпоху исполнительского мастерства каждого оркестранта.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6453360"/>
            <a:ext cx="77752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80680" y="549360"/>
            <a:ext cx="53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Ван 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560" y="1989000"/>
            <a:ext cx="741708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наче говоря, Бетховен творит музыкальное пространство силой ума, собственной воле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9600" y="404640"/>
            <a:ext cx="539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</a:t>
            </a:r>
            <a:r>
              <a:rPr b="0" lang="ru-RU" sz="9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Ван </a:t>
            </a:r>
            <a:r>
              <a:rPr b="0" lang="ru-RU" sz="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900000" y="134136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3200" spc="-1" strike="noStrike">
                <a:solidFill>
                  <a:srgbClr val="5f5f5f"/>
                </a:solidFill>
                <a:latin typeface="Times New Roman"/>
              </a:rPr>
              <a:t>classicus - образцовы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00000" y="260280"/>
            <a:ext cx="554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200" spc="-1" strike="noStrike">
                <a:solidFill>
                  <a:srgbClr val="006633"/>
                </a:solidFill>
                <a:latin typeface="Arial"/>
              </a:rPr>
              <a:t>Класс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19280" y="404640"/>
            <a:ext cx="705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700" spc="-1" strike="noStrike">
                <a:solidFill>
                  <a:srgbClr val="5f5f5f"/>
                </a:solidFill>
                <a:latin typeface="Arial"/>
              </a:rPr>
              <a:t>Эпоха Просвещения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1050316"/>
          <p:cNvPicPr/>
          <p:nvPr/>
        </p:nvPicPr>
        <p:blipFill>
          <a:blip r:embed="rId1"/>
          <a:stretch/>
        </p:blipFill>
        <p:spPr>
          <a:xfrm>
            <a:off x="324000" y="2421000"/>
            <a:ext cx="1584000" cy="2232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02520" y="3719160"/>
            <a:ext cx="2735280" cy="2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Дени Дидро</a:t>
            </a:r>
            <a:endParaRPr b="0" lang="en-US" sz="1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304560"/>
            <a:ext cx="5329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2100" spc="-1" strike="noStrike">
                <a:solidFill>
                  <a:srgbClr val="5f5f5f"/>
                </a:solidFill>
                <a:latin typeface="Arial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Дидро Дени"/>
          <p:cNvPicPr/>
          <p:nvPr/>
        </p:nvPicPr>
        <p:blipFill>
          <a:blip r:embed="rId1"/>
          <a:stretch/>
        </p:blipFill>
        <p:spPr>
          <a:xfrm>
            <a:off x="6156360" y="549360"/>
            <a:ext cx="2849400" cy="30686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250920" y="692280"/>
            <a:ext cx="6480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faust"/>
          <p:cNvPicPr/>
          <p:nvPr/>
        </p:nvPicPr>
        <p:blipFill>
          <a:blip r:embed="rId1"/>
          <a:stretch/>
        </p:blipFill>
        <p:spPr>
          <a:xfrm>
            <a:off x="6659640" y="476280"/>
            <a:ext cx="2376360" cy="2492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755640" y="2781360"/>
            <a:ext cx="7632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igaro"/>
          <p:cNvPicPr/>
          <p:nvPr/>
        </p:nvPicPr>
        <p:blipFill>
          <a:blip r:embed="rId1"/>
          <a:stretch/>
        </p:blipFill>
        <p:spPr>
          <a:xfrm>
            <a:off x="5796000" y="189000"/>
            <a:ext cx="2324160" cy="2535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faust2"/>
          <p:cNvPicPr/>
          <p:nvPr/>
        </p:nvPicPr>
        <p:blipFill>
          <a:blip r:embed="rId2"/>
          <a:stretch/>
        </p:blipFill>
        <p:spPr>
          <a:xfrm>
            <a:off x="755640" y="189000"/>
            <a:ext cx="3817800" cy="2544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24000" y="62064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Franz_Joseph_Haydn"/>
          <p:cNvPicPr/>
          <p:nvPr/>
        </p:nvPicPr>
        <p:blipFill>
          <a:blip r:embed="rId1"/>
          <a:stretch/>
        </p:blipFill>
        <p:spPr>
          <a:xfrm>
            <a:off x="6443640" y="115920"/>
            <a:ext cx="2476440" cy="30481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611280" y="1628640"/>
            <a:ext cx="626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ворчество Гайд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8" name="Picture 4" descr="123563498380b8"/>
          <p:cNvPicPr/>
          <p:nvPr/>
        </p:nvPicPr>
        <p:blipFill>
          <a:blip r:embed="rId1"/>
          <a:stretch/>
        </p:blipFill>
        <p:spPr>
          <a:xfrm>
            <a:off x="395280" y="1125360"/>
            <a:ext cx="2160720" cy="2009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556000" y="1413000"/>
            <a:ext cx="61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ий композитор середины 18 в. имел в своем распоряжении несколько разных стил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о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втор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перный: в нем итальянская манера преобладала вплоть до времен Моцар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трет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8:36:29Z</dcterms:created>
  <dc:creator>HOME</dc:creator>
  <dc:description/>
  <dc:language>en-US</dc:language>
  <cp:lastModifiedBy>LEGION</cp:lastModifiedBy>
  <dcterms:modified xsi:type="dcterms:W3CDTF">2015-04-02T07:22:41Z</dcterms:modified>
  <cp:revision>7</cp:revision>
  <dc:subject/>
  <dc:title>Музыка эпохи Классицизма (обзорная лекция)</dc:title>
</cp:coreProperties>
</file>