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C5AF-EF62-4AB5-A76B-A2B840817AF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эпох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лассицизма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обзорная л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11E9-A82A-4262-9ED2-D78DE3EF75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творчества Й.Гайд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дна можно назвать отцом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трунного квар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ладающего следующими типическими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став – две скрипки, альт и виолонче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етырехчастность (аллегро в сонатной форме, медленная часть, менуэт и фин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ондо-сона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3443-1A80-409E-A72A-51E394DF7D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льфган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мадей Моца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одушие и склонность к едкому сарказм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ячливость и житейская искуш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ость и склонность к глубокой меланхолии – вплоть до патологичес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мие (он безжалостно передразнивал окружающих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нравственность (хотя он не слишком жаловал церковь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изм, реалистический взгляд на жиз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однажды написал е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«У тебя сплошные крайности, ты не знаешь золотой середины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7832-DB84-48B4-BE90-AC925D3AC7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имфо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нцерту, дивертисмент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вартету, оп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мессе, сона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FEE6-D286-4156-94B0-FDAD8D6F94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. А. Моц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ообще в венский период Моцарт создал собственный, исключительно самобытный стил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20B0-0BD9-4155-9888-3D2FA867E4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Занимательно: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, как известно, был вундеркиндом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любящий отец отнял у малыша неоконченную нотную запись, он изумленно воскликнул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о этот концерт так труден, что его никто не сможет сыграть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глупости, папа! - возразил Моцарт,- его может сыграть даже ребенок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0045-E628-4BE3-9D0F-F3D4EDBA12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виг Ван Бетхов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70–18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композитор, которого нередко считают величайшим творцом всех врем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творчество относят как к классицизму, так и к романт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я Бетховена - прежде всего выражение его гениально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0CDC-0DC3-4879-BC4A-42EFC07507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артитуры требую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большего числа исполнителей в каждой парт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невероятного в его эпоху исполнительского мастерства каждого оркестрант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E8A1-8DD5-445B-A58E-142474BDBE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аче говоря, Бетховен творит музыкальное пространство силой ума, собственной вол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4322-CCDD-4DD7-9605-6F7F50CD92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Классиц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classicus - образцовы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2EA3-F108-4D3B-B3CA-B0BFE1AB6A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Эпоха Просвещен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C5D7-6206-4B35-9E31-3F5DF897BD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ени Дидр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1200" spc="-1" strike="noStrike">
                <a:solidFill>
                  <a:srgbClr val="eeece1"/>
                </a:solidFill>
                <a:latin typeface="Calibri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FA66-FDF7-4504-AF9A-ACA85826AD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6284-A04A-455A-BBD3-E38F84D4F8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C42C-4916-402E-8901-09EA295093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43B3-0CC9-4C28-8EA1-FB280EADAB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10A3-B114-4F98-A482-E2E472C5DD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Гайд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ский композитор середины 18 в. имел в своем распоряжении несколько разных стиле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од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перный: в нем итальянская манера преобладала вплоть до времен Моцар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ет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CF62-E8FA-4255-8F18-88C2FBABDC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BCB-DC17-4BC2-9704-D03E5063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915-2459-4E9C-A359-C9BF6B7C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094-C290-428E-BC7F-681B0D81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A55E-151F-472F-A613-09ECC5EA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794-A3DE-4CC3-BF61-E263C5AC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991-7A50-40D0-9759-A43EDB7A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763-2586-480B-B596-F462DD39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368-7CC8-4FF2-82CF-CC7C7D5C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F93-64A6-40E8-B64D-B26BADD3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7FEE-859D-4787-BEF4-6FC165E0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063-88AB-4CB3-87EC-D641A1CC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F4D-97D8-480C-BD5F-71995BFF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A0AC-9AD7-4AEB-8BA1-C0CD6C67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06D6-B3ED-4602-B068-5BA5CCAC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348E-1E41-4168-9B9C-DBD51E1B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F8CD-3368-4A6D-8227-AE761809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8496-A2F9-4A0B-9166-E573FAD7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C45F-F6D9-42DC-985F-AD283C46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53D2-0891-4BDB-9880-2919841A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3CB7-ECF5-42AC-8AF0-A47255CB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A68F-1E16-43A2-88C8-29DEA6CE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75A8-7FE8-49B5-B732-AB4D9B3A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9CF1-CBC9-4BFD-B238-4BACB5B9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1590-25BE-4BAC-A659-DE647DDF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range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A59D-2F6F-4857-A00C-2ACB34D0E13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Orange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F42E-9914-48F9-B20D-8988EDCEFBD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267920"/>
            <a:ext cx="702468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узыка эпохи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Классицизма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(обзорная лек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495680" y="6054840"/>
            <a:ext cx="335304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9580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Значение творчества Й.Гайдна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йдна можно назвать отцом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струнного квар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ладающего следующими типическими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состав – две скрипки, альт и виолонче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четырехчастность (аллегро в сонатной форме, медленная часть, менуэт и фин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рондо-сон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Вольфганг</a:t>
            </a:r>
            <a:br>
              <a:rPr sz="3400"/>
            </a:b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Амадей Моцарт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ликодушие и склонность к едкому сарказму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бячливость и житейская искушенность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селость и склонность к глубокой меланхолии – вплоть до патологической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строумие (он безжалостно передразнивал окружающих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сокая нравственность (хотя он не слишком жаловал церковь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ционализм, реалистический взгляд на жизн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тец однажды написал ему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f5f5f"/>
                </a:solidFill>
                <a:latin typeface="Arial"/>
              </a:rPr>
              <a:t>«У тебя сплошные крайности, ты не знаешь золотой середины»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123572289885cd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7272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95640" y="1557000"/>
            <a:ext cx="468000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симфонии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онцерту, дивертисменту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вартету, опер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мессе, сонат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трио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123572289711a5"/>
          <p:cNvPicPr/>
          <p:nvPr/>
        </p:nvPicPr>
        <p:blipFill>
          <a:blip r:embed="rId1"/>
          <a:stretch/>
        </p:blipFill>
        <p:spPr>
          <a:xfrm>
            <a:off x="611280" y="1628640"/>
            <a:ext cx="3200400" cy="40006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298764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1341360"/>
            <a:ext cx="7705800" cy="24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Но вообще в венский период Моцарт создал собственный, исключительно самобытный стиль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1557000"/>
            <a:ext cx="734400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f5f5f"/>
                </a:solidFill>
                <a:latin typeface="Garamond"/>
              </a:rPr>
              <a:t>Занимательно:</a:t>
            </a:r>
            <a:br>
              <a:rPr sz="29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Моцарт, как известно, был вундеркиндом: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Когда любящий отец отнял у малыша неоконченную нотную запись, он изумленно воскликнул: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Но этот концерт так труден, что его никто не сможет сыграть!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Какие глупости, папа! - возразил Моцарт,- его может сыграть даже ребенок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Например я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62336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Людвиг Ван Бетховен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(1770–1827)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4208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ецкий композитор, которого нередко считают величайшим творцом всех врем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творчество относят как к классицизму, так и к романт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я Бетховена - прежде всего выражение его гениально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1235722647d751"/>
          <p:cNvPicPr/>
          <p:nvPr/>
        </p:nvPicPr>
        <p:blipFill>
          <a:blip r:embed="rId1"/>
          <a:stretch/>
        </p:blipFill>
        <p:spPr>
          <a:xfrm>
            <a:off x="5985000" y="2133720"/>
            <a:ext cx="2901960" cy="367164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6920" y="1844640"/>
            <a:ext cx="648036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Его партитуры требуют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первых, большего числа исполнителей в каждой партии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вторых, невероятного в его эпоху исполнительского мастерства каждого оркестранта.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6453360"/>
            <a:ext cx="77752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480680" y="549360"/>
            <a:ext cx="533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Ван 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560" y="1989000"/>
            <a:ext cx="741708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наче говоря, Бетховен творит музыкальное пространство силой ума, собственной воле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119600" y="404640"/>
            <a:ext cx="539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</a:t>
            </a:r>
            <a:r>
              <a:rPr b="0" lang="ru-RU" sz="9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Ван </a:t>
            </a:r>
            <a:r>
              <a:rPr b="0" lang="ru-RU" sz="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900000" y="134136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3200" spc="-1" strike="noStrike">
                <a:solidFill>
                  <a:srgbClr val="5f5f5f"/>
                </a:solidFill>
                <a:latin typeface="Times New Roman"/>
              </a:rPr>
              <a:t>classicus - образцовы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900000" y="260280"/>
            <a:ext cx="554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3200" spc="-1" strike="noStrike">
                <a:solidFill>
                  <a:srgbClr val="006633"/>
                </a:solidFill>
                <a:latin typeface="Arial"/>
              </a:rPr>
              <a:t>Класс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19280" y="404640"/>
            <a:ext cx="705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700" spc="-1" strike="noStrike">
                <a:solidFill>
                  <a:srgbClr val="5f5f5f"/>
                </a:solidFill>
                <a:latin typeface="Arial"/>
              </a:rPr>
              <a:t>Эпоха Просвещения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261050316"/>
          <p:cNvPicPr/>
          <p:nvPr/>
        </p:nvPicPr>
        <p:blipFill>
          <a:blip r:embed="rId1"/>
          <a:stretch/>
        </p:blipFill>
        <p:spPr>
          <a:xfrm>
            <a:off x="324000" y="2421000"/>
            <a:ext cx="1584000" cy="2232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302520" y="3719160"/>
            <a:ext cx="2735280" cy="2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Дени Дидро</a:t>
            </a:r>
            <a:endParaRPr b="0" lang="en-US" sz="1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0000" y="304560"/>
            <a:ext cx="5329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2100" spc="-1" strike="noStrike">
                <a:solidFill>
                  <a:srgbClr val="5f5f5f"/>
                </a:solidFill>
                <a:latin typeface="Arial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Дидро Дени"/>
          <p:cNvPicPr/>
          <p:nvPr/>
        </p:nvPicPr>
        <p:blipFill>
          <a:blip r:embed="rId1"/>
          <a:stretch/>
        </p:blipFill>
        <p:spPr>
          <a:xfrm>
            <a:off x="6156360" y="549360"/>
            <a:ext cx="2849400" cy="30686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250920" y="692280"/>
            <a:ext cx="6480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faust"/>
          <p:cNvPicPr/>
          <p:nvPr/>
        </p:nvPicPr>
        <p:blipFill>
          <a:blip r:embed="rId1"/>
          <a:stretch/>
        </p:blipFill>
        <p:spPr>
          <a:xfrm>
            <a:off x="6659640" y="476280"/>
            <a:ext cx="2376360" cy="2492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755640" y="2781360"/>
            <a:ext cx="7632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igaro"/>
          <p:cNvPicPr/>
          <p:nvPr/>
        </p:nvPicPr>
        <p:blipFill>
          <a:blip r:embed="rId1"/>
          <a:stretch/>
        </p:blipFill>
        <p:spPr>
          <a:xfrm>
            <a:off x="5796000" y="189000"/>
            <a:ext cx="2324160" cy="2535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faust2"/>
          <p:cNvPicPr/>
          <p:nvPr/>
        </p:nvPicPr>
        <p:blipFill>
          <a:blip r:embed="rId2"/>
          <a:stretch/>
        </p:blipFill>
        <p:spPr>
          <a:xfrm>
            <a:off x="755640" y="189000"/>
            <a:ext cx="3817800" cy="2544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24000" y="62064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Franz_Joseph_Haydn"/>
          <p:cNvPicPr/>
          <p:nvPr/>
        </p:nvPicPr>
        <p:blipFill>
          <a:blip r:embed="rId1"/>
          <a:stretch/>
        </p:blipFill>
        <p:spPr>
          <a:xfrm>
            <a:off x="6443640" y="115920"/>
            <a:ext cx="2476440" cy="30481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611280" y="1628640"/>
            <a:ext cx="626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ворчество Гайд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8" name="Picture 4" descr="123563498380b8"/>
          <p:cNvPicPr/>
          <p:nvPr/>
        </p:nvPicPr>
        <p:blipFill>
          <a:blip r:embed="rId1"/>
          <a:stretch/>
        </p:blipFill>
        <p:spPr>
          <a:xfrm>
            <a:off x="395280" y="1125360"/>
            <a:ext cx="2160720" cy="2009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2556000" y="1413000"/>
            <a:ext cx="611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ский композитор середины 18 в. имел в своем распоряжении несколько разных стил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од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втор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перный: в нем итальянская манера преобладала вплоть до времен Моцар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трет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8:36:29Z</dcterms:created>
  <dc:creator>HOME</dc:creator>
  <dc:description/>
  <dc:language>en-US</dc:language>
  <cp:lastModifiedBy>LEGION</cp:lastModifiedBy>
  <dcterms:modified xsi:type="dcterms:W3CDTF">2015-04-02T07:22:41Z</dcterms:modified>
  <cp:revision>7</cp:revision>
  <dc:subject/>
  <dc:title>Музыка эпохи Классицизма (обзорная лекция)</dc:title>
</cp:coreProperties>
</file>