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F934-42D9-44EA-9338-E94362F337D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эпох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ассицизма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обзорная л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2F83-51A6-4C1A-A7D5-E5EBD1E55F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творчества Й.Гай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дна можно назвать отцом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трунного квар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ладающего следующими типическ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став – две скрипки, альт и виолонче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тырехчастность (аллегро в сонатной форме, медленная часть, менуэт и фин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рондо-сона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CE8-7E94-4CF7-899F-C5852C09AD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льфга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адей Моца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душие и склонность к едкому сарказм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ячливость и житейская искуш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ость и склонность к глубокой меланхолии – вплоть до патологичес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мие (он безжалостно передразнивал окружающих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нравственность (хотя он не слишком жаловал церковь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м, реалистический взгляд на жиз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однажды написал 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«У тебя сплошные крайности, ты не знаешь золотой середин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3DC8-BBA9-4411-B92A-040C5E73A6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симфо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онцерту, дивертисмент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квартету, опе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мессе, сонат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и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7469-B562-4CEB-BB1F-70400267F9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. А. Моц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ообще в венский период Моцарт создал собственный, исключительно самобытный стил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EE2D-C69B-42CD-B980-6402330725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eece1"/>
                </a:solidFill>
                <a:latin typeface="Calibri"/>
              </a:rPr>
              <a:t>Занимательно: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царт, как известно, был вундеркиндо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бящий отец отнял у малыша неоконченную нотную запись, он изумленно воскликнул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 этот концерт так труден, что его никто не сможет сыграть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глупости, папа! - возразил Моцарт,- его может сыграть даже ребенок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4A13-E514-44E4-A780-EECFBB1E80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виг Ван Бетхов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70–18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ий композитор, которого нередко считают величайшим творцом всех врем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творчество относят как к классицизму, так и к романтиз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инения Бетховена - прежде всего выражение его гениальн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67AF-4AC9-4171-9166-CF31741E70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артитуры требую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большего числа исполнителей в каждой парт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вероятного в его эпоху исполнительского мастерства каждого оркестрант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729F-6743-41C8-8FC0-5A11CB3C36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че говоря, Бетховен творит музыкальное пространство силой ума, собственной волей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34D6-8C51-47FD-B691-331FFCD123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Классиц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classicus - образцовы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3D22-47D2-4525-9385-6F5BCD78CB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Эпоха Просвещения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F5C3-A9A3-4B6B-A418-D1DB92E221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ни Дидр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1200" spc="-1" strike="noStrike">
                <a:solidFill>
                  <a:srgbClr val="eeece1"/>
                </a:solidFill>
                <a:latin typeface="Calibri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3261-55A7-460A-BC40-8C4A567A19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07CE-6A66-4401-B6A6-988F8A0119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18F5-649A-4D2F-9C18-DD9BEE6E2E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CD27-EDE2-472E-8495-04AD020999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0B41-D3D2-4AD6-87F9-F9CBBDA58E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Гайд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ский композитор середины 18 в. имел в своем распоряжении несколько разных стиле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перный: в нем итальянская манера преобладала вплоть до времен Моцар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трет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A912-5611-47DA-BD38-95C98812FD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427-BE11-48DA-AFA1-472C9460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9F3-4569-4BC1-90D9-B007D25D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AD3-C0D6-4884-A2B4-F0786487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177-DC0D-4769-BFA4-F94F546D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88D-E51B-4FA1-AE5B-006ECF5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2F9-8121-4862-B9B0-3CBD9F91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CCC-22A4-4464-BF7E-F309EF42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40C-1FDC-4716-AF9C-C0110040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604-C259-450A-B319-851322C5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802-4C46-40B5-BDD4-0DC3F58B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1EE-7D11-4A3D-9650-E6B8AEE5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903-11C8-4C23-B65F-E4F43D06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8E60-41EF-4786-AC35-8564BF22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47F5-70CE-432B-B43D-451B1CAD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F446-B472-4332-9A17-7355B3B9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BFE0-544B-474D-8B96-ED3B285B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ABB1-8BF2-4C8E-8F1E-2714CBC7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87D2-0D13-4D86-BAD9-334BF8BE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9349-0113-409C-BC19-CEE9966A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7534-7C1C-4A6B-AFFB-66407EB3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7F7E-2C0B-4FFC-BF90-16CB481B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D51F-8526-4548-9F14-E2F09238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1AE3-8AD4-4879-8ED0-0FDE0451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DF8E-98A3-436D-8702-216110E7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Orange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A858-D7E4-4BCF-B024-51EAD0CD84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Orange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77752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C224-85F1-4195-ACB4-A86DF95175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02468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Музыка эпохи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цизм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(обзорная лек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495680" y="6054840"/>
            <a:ext cx="335304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958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Значение творчества Й.Гайдна.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20 в. обнаружилось, что Гайдна нельзя считать, как полагали ранее, отцом симфонии. Полные симфонические циклы, включавшие менуэт, создавались уже в 1740-е годы. Заслуга Гайдна –в подытоживании и совершенствовании того, что было сделано его предшественн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дна можно назвать отцом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струнного квар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его следующими типическими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состав – две скрипки, альт и виолонч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четырехчастность (аллегро в сонатной форме, медленная часть, менуэт и фин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рондо-со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ой принципы сонаты (экспозиция, разработка, реприза) сливаются с принципами рондо (А–В–С–А или А–В–А–С–А–В–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трактовке деревянных и медных духовых Гайдн с первых же шагов обнаруживает врожденное чувство колорита; даже в весьма скромных по составу партитурах композитор демонстрирует безошибочное чутье в выборе оркестровых тембров. Написанные с помощью весьма ограниченных средств, симфонии Гайдна, по выражению Римского-Корсакова, оркестрованы так хорошо, как никакая иная музыка Запад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ьдесят лет творческой жизни Гайдна заполнили глубочайшую стилистическую пропасть – между Бахом и Бетховеном. В 19 в. все внимание было сосредоточено на Бахе и Бетховене, и при этом забывали того гиганта, который сумел перекинуть мост между этими двумя ми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Вольфганг</a:t>
            </a:r>
            <a:br>
              <a:rPr sz="3400"/>
            </a:b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Амадей Моцарт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устя 250 лет после рождения Моцарта трудно создать отчетливое представление о его личност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-видимому, в натуре Моцарта парадоксально сочетались самые противоположные качества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ликодушие и склонность к едкому сарказму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бячливость и житейская искушенность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селость и склонность к глубокой меланхолии – вплоть до патологической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строумие (он безжалостно передразнивал окружающих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ая нравственность (хотя он не слишком жаловал церковь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ционализм, реалистический взгляд на жизн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ез тени самолюбия он восторженно говорил о тех, кем восхищался, например о Гайдне, зато был беспощаден к тем, кого считал дилетантам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ец однажды написал ему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Arial"/>
              </a:rPr>
              <a:t>«У тебя сплошные крайности, ты не знаешь золотой середины»,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ибавив, что Вольфганг либо слишком терпелив, слишком ленив, слишком снисходителен, либо – временами – слишком строптив и беспокоен, слишком торопит ход событий вместо того, чтобы предоставить им идти своим чередом. И по прошествии столетий личность его представляется нам подвижной и неуловимой, как рту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123572289885cd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7272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95640" y="1557000"/>
            <a:ext cx="468000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Невозможно найти другого композитора, который бы с таким блеском, как Моцарт, владел самыми разнообразными жанрами и формами: это относится к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симфонии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онцерту, дивертисменту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квартету, опер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мессе, сонате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 и </a:t>
            </a:r>
            <a:r>
              <a:rPr b="0" lang="ru-RU" sz="1500" spc="-1" strike="noStrike">
                <a:solidFill>
                  <a:srgbClr val="5f5f5f"/>
                </a:solidFill>
                <a:latin typeface="Garamond"/>
              </a:rPr>
              <a:t>трио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Моцарт не был новатором, как Гайдн, но у него встречаются смелые прорывы в области обновления гармонического языка (например, известная Маленькая жига соль мажор, К. 574 для фортепиано – весьма показательный образец, напоминающий о современной 12-тоновой технике)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ркестровое письмо Моцарта не столь поразительно ново, как письмо Гайдна, но безупречность и совершенство моцартовского оркестра – постоянный предмет восхищения как музыкантов, так и профанов, которые, говоря словами самого композитора, «наслаждаются, не давая себе отчета, чем именно». 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123572289711a5"/>
          <p:cNvPicPr/>
          <p:nvPr/>
        </p:nvPicPr>
        <p:blipFill>
          <a:blip r:embed="rId1"/>
          <a:stretch/>
        </p:blipFill>
        <p:spPr>
          <a:xfrm>
            <a:off x="611280" y="1628640"/>
            <a:ext cx="3200400" cy="40006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298764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1341360"/>
            <a:ext cx="7705800" cy="24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Стиль Моцарта сформировался на зальцбургской почве (где было сильно влияние Михаэля Гайдна, брата Йозефа), глубокое и продолжительное воздействие оказали на него впечатления от многочисленных путешествий, совершенных в детстве. Позже большую роль сыграла Италия (где Моцарт побывал трижды): там он воспринял основы драматургии и музыкального языка оперного жанра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А затем Моцарт стал близким другом и почитателем Й.Гайдна и был покорен гайдновской глубоко осмысленной трактовкой сонатной формы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Но вообще в венский период Моцарт создал собственный, исключительно самобытный стиль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И только в 20 в. было до конца осознано удивительное эмоциональное богатство моцартовского искусства и его внутренняя трагичность, близко соседствующая с внешней безмятежностью, солнечностью мажорных фрагментов его музыки. </a:t>
            </a:r>
            <a:br>
              <a:rPr sz="1700"/>
            </a:br>
            <a:r>
              <a:rPr b="0" lang="ru-RU" sz="1700" spc="-1" strike="noStrike">
                <a:solidFill>
                  <a:srgbClr val="006633"/>
                </a:solidFill>
                <a:latin typeface="Garamond"/>
              </a:rPr>
              <a:t>В былые времена только Бах и Бетховен рассматривались как главные столпы западноевропейской музыки, ныне же многие музыканты и любители музыки считают, что это искусство нашло свое самое совершенное выражение в творениях Моцарта.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920" y="1557000"/>
            <a:ext cx="73440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f5f5f"/>
                </a:solidFill>
                <a:latin typeface="Garamond"/>
              </a:rPr>
              <a:t>Занимательно:</a:t>
            </a:r>
            <a:br>
              <a:rPr sz="29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Моцарт, как известно, был вундеркиндом: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 четыре года малыш написал свой первый концерт для клавира, причем такой сложный, что вряд ли кто-либо из европейских виртуозов мог бы его исполнить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огда любящий отец отнял у малыша неоконченную нотную запись, он изумленно воскликнул: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Но этот концерт так труден, что его никто не сможет сыграть!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- Какие глупости, папа! - возразил Моцарт,- его может сыграть даже ребенок.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апример я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340000" y="3319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00"/>
                </a:solidFill>
                <a:latin typeface="Arial"/>
              </a:rPr>
              <a:t>В. А. Моц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623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Людвиг Ван Бетховен</a:t>
            </a:r>
            <a:br>
              <a:rPr sz="5000"/>
            </a:b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(1770–1827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71640" y="3428640"/>
            <a:ext cx="4208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цкий композитор, которого нередко считают величайшим творцом всех врем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творчество относят как к классицизму, так и к романт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я Бетховена - прежде всего выражение его гениальной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1235722647d751"/>
          <p:cNvPicPr/>
          <p:nvPr/>
        </p:nvPicPr>
        <p:blipFill>
          <a:blip r:embed="rId1"/>
          <a:stretch/>
        </p:blipFill>
        <p:spPr>
          <a:xfrm>
            <a:off x="5985000" y="2133720"/>
            <a:ext cx="2901960" cy="367164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6920" y="1844640"/>
            <a:ext cx="64803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продолжил общую линию развития жанров симфонии, сонаты, квартета, намеченную его предшественниками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днако его трактовка известных форм и жанров отличалась большой свободой; можно сказать, что Бетховен раздвинул их рамки во времени и в пространств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Его партитуры требуют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первых, большего числа исполнителей в каждой партии,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о-вторых, невероятного в его эпоху исполнительского мастерства каждого оркестранта.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Кроме того, Бетховен очень чувствителен к индивидуальной выразительности каждого инструментального тембра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Фортепиано в его сочинениях – не близкий родственник изящного клавесина: используются весь расширенный диапазон инструмента, все его динамические возможности.</a:t>
            </a:r>
            <a:br>
              <a:rPr sz="1500"/>
            </a:b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453360"/>
            <a:ext cx="77752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80680" y="549360"/>
            <a:ext cx="53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Ван 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560" y="1989000"/>
            <a:ext cx="7417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В отличие от своего предшественника Моцарта, Бетховен сочинял с трудом. Записные книжки Бетховена показывают, как постепенно, шаг за шагом из неуверенных набросков возникает грандиозная композиция, отмеченная убедительной логикой построения и редкой красото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менно логика – главный источник бетховенского величия, его несравненного умения организовать контрастные элементы в монолитное целое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Бетховен стирает традиционные цезуры между разделами формы, избегает симметрии, сливает части цикла, развивает протяженные построения из тематических и ритмических мотивов, на первый взгляд не содержащих в себе ничего интересного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Иначе говоря, Бетховен творит музыкальное пространство силой ума, собственной волей. </a:t>
            </a:r>
            <a:br>
              <a:rPr sz="1500"/>
            </a:br>
            <a:r>
              <a:rPr b="0" lang="ru-RU" sz="1500" spc="-1" strike="noStrike">
                <a:solidFill>
                  <a:srgbClr val="006633"/>
                </a:solidFill>
                <a:latin typeface="Garamond"/>
              </a:rPr>
              <a:t>Он предвосхищал и создавал те художественные направления, которые стали определяющими для музыкального искусства 19 в. И сегодня его произведения входят в число величайших, наиболее почитаемых творений человеческого гения.</a:t>
            </a:r>
            <a:endParaRPr b="0" lang="en-US" sz="1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6453000"/>
            <a:ext cx="77752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9600" y="404640"/>
            <a:ext cx="539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Людвиг </a:t>
            </a:r>
            <a:r>
              <a:rPr b="0" lang="ru-RU" sz="9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Ван </a:t>
            </a:r>
            <a:r>
              <a:rPr b="0" lang="ru-RU" sz="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6600"/>
                </a:solidFill>
                <a:latin typeface="Arial"/>
              </a:rPr>
              <a:t>Бетхове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900000" y="1341360"/>
            <a:ext cx="79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лассицизм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ь и направление в искусстве XVII - начала XIX в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во это произошло от латинского </a:t>
            </a: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classicus - образцовы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основе классицизма лежало убеждение в разумности бытия, в том, что человеческая натура гармонична. Свой идеал классики видели в античном искусстве, которое считали высшей формой соверш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900000" y="260280"/>
            <a:ext cx="554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Классиц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05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 восемнадцатом столетии начинается новый этап развития общественного сознания – </a:t>
            </a:r>
            <a:r>
              <a:rPr b="1" i="1" lang="ru-RU" sz="1700" spc="-1" strike="noStrike">
                <a:solidFill>
                  <a:srgbClr val="5f5f5f"/>
                </a:solidFill>
                <a:latin typeface="Arial"/>
              </a:rPr>
              <a:t>Эпоха Просвещения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. Разрушается старый общественный порядок; первостепенное значение приобретают идеи уважения человеческого достоинства, свободы и счастья; личность обретает независимость и зрелость, использует свой разум и критическое мышление. На смену идеалам эпохи Барокко с ее пышностью, высокопарностью и торжественностью приходит новый стиль жизни, основанный на естественности и простоте. Наступает время идеалистических взглядов Жан-Жака Руссо, призывающего вернуться к природе, к естественной добродетели и свободе. Наряду с природой идеализируется Античность, поскольку считалось, что именно во времена Античности людям удалось воплотить все человеческие устремления. Античное искусство получает название классического, его признают образцовым, наиболее правдивым, совершенным, гармоничным и, в отличие от искусства эпохи Барокко, считают простым и понятным. В центре внимания, наряду с другими важными аспектами, находятся образование, положение простого народа в общественном устройстве, гениальность как свойство чело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1050316"/>
          <p:cNvPicPr/>
          <p:nvPr/>
        </p:nvPicPr>
        <p:blipFill>
          <a:blip r:embed="rId1"/>
          <a:stretch/>
        </p:blipFill>
        <p:spPr>
          <a:xfrm>
            <a:off x="324000" y="2421000"/>
            <a:ext cx="1584000" cy="2232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02520" y="3719160"/>
            <a:ext cx="2735280" cy="2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6633"/>
                </a:solidFill>
                <a:latin typeface="Garamond"/>
              </a:rPr>
              <a:t>Дени Дидро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00000" y="304560"/>
            <a:ext cx="5329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Разум царит и в искусстве. Желая подчеркнуть высокое назначение искусства, его общественную и гражданскую роль, французский философ-просветитель Дени Дидро писал: </a:t>
            </a:r>
            <a:r>
              <a:rPr b="0" i="1" lang="ru-RU" sz="2100" spc="-1" strike="noStrike">
                <a:solidFill>
                  <a:srgbClr val="5f5f5f"/>
                </a:solidFill>
                <a:latin typeface="Arial"/>
              </a:rPr>
              <a:t>"Каждое произведение ваяния или живописи должно выражать собой какое-либо великое правило жизни, должно поучать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Театр одновременно был учебником жизни, и самой жизнью. Кроме того, в театре действие в высшей степени упорядочено, размеренно; оно разделено на акты и сцены, те, в свою очередь, расчленена на отдельные реплики персонажей, создавая столь дорогой 18 веку идеал искусства, где всё находится на своём месте и подчинено логическим зако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Дидро Дени"/>
          <p:cNvPicPr/>
          <p:nvPr/>
        </p:nvPicPr>
        <p:blipFill>
          <a:blip r:embed="rId1"/>
          <a:stretch/>
        </p:blipFill>
        <p:spPr>
          <a:xfrm>
            <a:off x="6156360" y="549360"/>
            <a:ext cx="2849400" cy="30686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250920" y="692280"/>
            <a:ext cx="6480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зыка классицизма чрезвычайно театральна, она как будто копирует искусство театра, подражает ем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деление классической сонаты и симфонии на крупные разделы - части, в каждой из которых происходит много музыкальных "событий", подобно делению спектакля на действия и сце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классического века часто подразумевается сюжет, некое действие, которое развёртывается перед слушателями так же, как действие театральное развёртывается перед зрител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ушателю только остаётся включить воображение и узнать в "музыкальной одежде" персонажей классической комедии или траг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о театра помогает объяснить и большие перемены в исполнении музыки, которые совершились в 18 веке. Раньше, главным местом, где звучала музыка, был храм: в нём человек находился внизу, в огромном пространстве, где музыка как будто помогала ему взглянуть ввысь и посвятить свои мысли Богу. Теперь, в 18 веке, музыка звучит в аристократическом салоне, в бальном зале дворянской усадьбы или на городской площади. Слушатель века Просвещения как будто обращается с музыкой "на ты" и не испытывает больше восторг и робость, которые она ему внушала, когда она звучала в храм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узыке уже нет мощного, торжественного звука органа, уменьшилась роль хора. Музыка классического стиля звучит легко, в ней гораздо меньше звуков, как будто она "меньше весит", чем грузная, многослойная музыка прошлого. Звучание органа и хора сменилось звучанием симфонического оркестра; возвышенные арии уступили место музыке лёгкой, ритмичной и танцеваль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aust"/>
          <p:cNvPicPr/>
          <p:nvPr/>
        </p:nvPicPr>
        <p:blipFill>
          <a:blip r:embed="rId1"/>
          <a:stretch/>
        </p:blipFill>
        <p:spPr>
          <a:xfrm>
            <a:off x="6659640" y="476280"/>
            <a:ext cx="2376360" cy="2492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755640" y="2781360"/>
            <a:ext cx="7632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вый век выдвинул новый идеал - им стал Фигаро, "севильский цирюльник". Этот парикмахер, хитрец и пройдоха, всегда знал, как одурачить господина и добиться своего, и не позволял никому, даже вельможному графу, унижать своё достоинство. Но не только деятель и практик Фигаро занимает мыслящую публику 18 века; на роль идеала претендует и доктор Фауст- учёный, философ, который в поисках истины продал душу дьяволу - Мефистофелю. Фауст понял, что нет ничего прекраснее, чем труд, результаты которого останутся будущим поколениям, и нет такой жертвы, которую нельзя было бы принести ради общего блага. "Лишь тот достоин жизни и свободы, кто каждый день идёт за них на бой!" - эти слова Фауста повторили бы многие его современни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уст и Фигаро прекрасно соответствовали времени, поскольку в этих персонажах люди видели символ неразрывности мысли и действия: чтобы добиться успеха, оба они старались понять, зачем действовать, какие цели ставить перед собой, и, наконец, составив продуманный план, приступали к исполнению. Людям эпохи классицизма хотелось узнать, по каким законам живёт природа, общество, каждый человек, и, вооружившись знанием, сделать жизнь достойной и счастливой. Благодаря беспредельной вере в возможности человеческого разума и силу знания 18 век стали называть веком Разума или веком Просве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igaro"/>
          <p:cNvPicPr/>
          <p:nvPr/>
        </p:nvPicPr>
        <p:blipFill>
          <a:blip r:embed="rId1"/>
          <a:stretch/>
        </p:blipFill>
        <p:spPr>
          <a:xfrm>
            <a:off x="5796000" y="189000"/>
            <a:ext cx="2324160" cy="2535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faust2"/>
          <p:cNvPicPr/>
          <p:nvPr/>
        </p:nvPicPr>
        <p:blipFill>
          <a:blip r:embed="rId2"/>
          <a:stretch/>
        </p:blipFill>
        <p:spPr>
          <a:xfrm>
            <a:off x="755640" y="189000"/>
            <a:ext cx="3817800" cy="2544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24000" y="620640"/>
            <a:ext cx="8496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сцвет Классицизма наступает в 80-х годах восемнадцатого столетия. В 1781 году Й. Гайдн создает несколько новаторских произведений, среди которых его Струнный Квартет ор. 33; проходит премьера оперы В.А. Моцарта «Похищение из сераля»; выходят в свет драма Ф. Шиллера «Разбойники» и «Критика чистого разума» И. К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Ярчайшими представителями классического периода являются композиторы Венской Классической Школы Йозеф Гайдн, Вольфганг Амадей Моцарт и Людвиг ван Бетховен. Их искусство восхищает совершенством композиторской техники, гуманистической направленностью творчества и стремлением, особенно ощутимым в музыке В. А. Моцарта, отобразить средствами музыки совершенную красо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амо понятие Венской Классической Школы возникло вскоре после смерти Л. Бетховена. Классическое искусство отличает тонкое равновесие между чувствами и рассудком, формой и содержанием. Музыка Возрождения отражала дух и дыхание своей эпохи; в эпоху Барокко предметом отображения в музыке стали состояния человека; музыка эпохи Классицизма воспевает действия и поступки человека, испытываемые им эмоции и чувства, внимательный и целостный человеческий раз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Йозеф Гайд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32–18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Franz_Joseph_Haydn"/>
          <p:cNvPicPr/>
          <p:nvPr/>
        </p:nvPicPr>
        <p:blipFill>
          <a:blip r:embed="rId1"/>
          <a:stretch/>
        </p:blipFill>
        <p:spPr>
          <a:xfrm>
            <a:off x="6443640" y="115920"/>
            <a:ext cx="2476440" cy="30481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"/>
          <p:cNvSpPr/>
          <p:nvPr/>
        </p:nvSpPr>
        <p:spPr>
          <a:xfrm>
            <a:off x="611280" y="1628640"/>
            <a:ext cx="62658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стрийский композитор, один из величайших классиков музыкального искусс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иная о своем детстве, Гайдн писал в 1776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«Мой отец... был горячим любителем музыки и играл на арфе, совершенно не зная нот. Пятилетним ребенком я абсолютно точно мог спеть его простые мелодии, и это побудило отца поручить меня заботам нашего родственника, ректора школы в Хайнбурге, дабы я изучил первоосновы музыки и другие необходимые для юношества науки... Когда мне исполнилось семь лет, ныне покойный капельмейстер фон Ройтер, проезжая через Хайнбург, случайно услышал мой слабый, но приятный голос. Он взял меня с собой и определил в капеллу [собора cв. Стефана в Вене], где, продолжая образование, я учился пению, игре на клавесине и скрипке, причем у очень хороших учителей. До восемнадцати лет я с большим успехом исполнял сопрановые партии, и не только в соборе, но и при дворе. Потом у меня пропал голос, и мне пришлось целых восемь лет влачить жалкое существование... Я сочинял преимущественно по ночам, не зная, имею ли я какой-либо дар к композиции или нет, и записывал свою музыку усердно, но не совсем правильно. Так продолжалось до тех пор, пока мне не выпало счастье изучать подлинные основы искусства у господина Порпоры, который жил тогда в Вен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ворчество Гайд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4" descr="123563498380b8"/>
          <p:cNvPicPr/>
          <p:nvPr/>
        </p:nvPicPr>
        <p:blipFill>
          <a:blip r:embed="rId1"/>
          <a:stretch/>
        </p:blipFill>
        <p:spPr>
          <a:xfrm>
            <a:off x="395280" y="1125360"/>
            <a:ext cx="2160720" cy="2009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2556000" y="1413000"/>
            <a:ext cx="611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иль Гайдна органически связан с почвой, на которой он вырос, – с Веной, великой австрийской столиц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ий композитор середины 18 в. имел в своем распоряжении несколько разных сти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«строгий», предназначавшийся для месс и прочей церковной музыки: в нем по-прежнему главная роль принадлежала полифоническому пись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втор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ерный: в нем итальянская манера преобладала вплоть до времен Моца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Arial"/>
              </a:rPr>
              <a:t>трет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для «уличной музыки», представленной жанром кассаций, часто для двух валторн и струнных или для духового ансам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 в этот пестрый мир, Гайдн быстро создал собственный стиль, притом единый для всех жанров, будь то месса или кантата, уличная серенада или клавирная соната, квартет или симфо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8:36:29Z</dcterms:created>
  <dc:creator>HOME</dc:creator>
  <dc:description/>
  <dc:language>en-US</dc:language>
  <cp:lastModifiedBy>LEGION</cp:lastModifiedBy>
  <dcterms:modified xsi:type="dcterms:W3CDTF">2015-04-02T07:22:41Z</dcterms:modified>
  <cp:revision>7</cp:revision>
  <dc:subject/>
  <dc:title>Музыка эпохи Классицизма (обзорная лекция)</dc:title>
</cp:coreProperties>
</file>