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5.jpeg" ContentType="image/jpeg"/>
  <Override PartName="/ppt/media/image8.jpeg" ContentType="image/jpeg"/>
  <Override PartName="/ppt/media/image35.jpeg" ContentType="image/jpeg"/>
  <Override PartName="/ppt/media/image34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media/image24.wmf" ContentType="image/x-wmf"/>
  <Override PartName="/ppt/media/image10.jpeg" ContentType="image/jpe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D277-8CFB-450F-8F33-C4DEEE0A8F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philos.msu.ru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797C-F409-4AD1-B09C-02C7EDA526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ые требования при освоении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программы курса. Программа курса размещена на сайте философского факультета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HILOS.MSU.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деле Учебный отдел/Методическое обеспечение учебных курсов/каф. Философии и методологии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конспектов лекций по курсу в отдельной тетра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е текущих работ по темам курса на лек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ача зачета по итогам компьютерного тестирования (выборка из 50 вопросов (открытые и закрытые вопросы) по всем темам курс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7CCF-74E7-40EA-9237-00D054C95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нано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материалы характеризуются несколькими основными свойствами, по сравнению с другими материал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перминиатюриз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удельная площадь поверхности, ускоряющая взаимодействие между ними и средой, в которую они помеще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ждение вещества в наноматериала в особом «наноразмерном» состоя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8BBA-69C8-4ED1-A81C-9E96E98CD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ческие микроск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оптической техники (1873 г): минимальные объекты различаемых деталей рассматриваемого объекта не могут быть меньше, чем длина света, используемого для освещ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короткие длины волн диапазона соответствуют примерно 400 нм, разрешающая способность оптических микроскопов принципиально ограничена половиной этой величины, то есть составляет около 200 н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2A87-A0EE-4169-B6C8-FFADDE1D85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вечивающие электронные микроскопы (ПЭМ): электронный пучок пропускается через тонкие слои исследуемого вещества с толщиной не менее 1 мк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2233-76A8-4B7F-B325-0A36CA72C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нирующие электронные микроскопы (СЭМ): электронный пучок последовательно отражается от маленьких участков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AC3E-61D9-4C4F-82E5-1544697AC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микроско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микроскопы (СЭЗМ) сканируют поверхность исследуемого образца при помощи зонда или щупа   в виде крошечной металлической игол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1F5E-957B-4759-A553-B3D3B30DEA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 (туннельные) микрос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зондом и поверхностью приложено электрическое напряжение, в результате чего возникает туннельный эфф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ннельный эффект – преодоление микрочастицей потенциального барьера в случае, когда ее полная энергия (остающаяся при туннелировании неизменной) меньше высоты барь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1F05-3E08-421F-84BB-28AD1094DC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ннельный эфф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тическое представление классической и квантовой физической ситуации при возникновении барьера на пути час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58DB-8B64-46CE-A795-D5695A8CEA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арно-силово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приборе измеряемой физической величиной выступают непосредственно силы взаимодействия между атомами, величина которых определяется «шероховатостью» конкретного участка поверхности в точке изме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М позволяет получать изображения с очень высокой степенью точности (впло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10-1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4B93-583C-4755-8C8D-9237A767F8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главных принципа технологической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х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сверху-вниз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хо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снизу-вверх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9AA9-427B-48A0-960C-6D73ADAC6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нанотехноло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низу-ввер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D37C-A42F-4377-B3E1-088E6F055E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о зач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декабря(понедель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3 (ауд. г3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104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декабря(сред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2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30-19.00          Группа 106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декабря(четв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1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105 (ауд. г3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 декабря(понедель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5.30-17.00          студенты всех групп                                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та будет уточн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сто проведения заче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омоносовский проспект, д.27, корпус 4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3 этаж (зона г – направо от лифтового холла), Первый учебный корпус МГУ на новой терри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чет включ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мпьютерное тестирование (выборка из 50 вопросов по всем темам курса, необходимо ответить правильно не менее, чем на половину вопросов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оверку конспектов лекц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зачете с собой необходимо иметь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четную книжку, студенческий би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спекты лекц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таростам групп взять в учебной части зачетную ведомость на групп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7471-BBCD-42DA-B693-4DAF9544CA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ллер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85 году были экспериментально при исследовании масс-пектров паров графита  обнаружены фуллерены – огромные молекулы углерода в виде замкнутых объемных структур, напоминающих по форме футбольный мя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фуллерен происходит от имени Ричарда Букминстера Фуллера, сконструировавшего оригинальный купол павильона США на выставкев Монреале в  форме сочлененных пентагонов (пятиугольники) и гекс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9F0E-7DF7-4E56-89C4-55D69234C3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нанотехнологии «снизу-ввер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леродные нанотрубки представляют собой крошечные цилиндры или цилиндрические образования с диаметром от 0,5 до 10нм и длиной примерно в 1мк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являются новой формой углерода, открытой в 1991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D7B8-8F4E-4C5A-96D9-A24238434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нтовая т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антовая точка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скусственно созданная область вещества, в которой можно «хранить» небольшие количества элект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702E-A581-4F76-A7E9-39E94F6A5C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биологии и медиц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интереса к применению наносистем в биологии и медици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истемы могут перемещаться внутри живых организмов и проникать внутрь кле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истемы могут создавать нанокомпозиты «наночастица/биологически активная оболоч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2559-5AC7-41E0-9B82-1000547C5D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медиц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парадигмы в медицине: создание долгосрочных и эффективных систем контроля здоровья, непрерывный контроль за состоянием организма. Реализация идей восстанавливающей медицины. Возникновение медицины «малого» вмеш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ение содержания различных веществ в организме, лечебные операции при необходимост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дей «индивидуальной» медиц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лекарственных препаратов с новым механизмом действи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искусственных тканей и органов, не вызывающих реакцию оттор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6438-85FD-4962-B9AB-F4C347E8E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ечение живых клеток и визуализация внутриклеточных структур с помощью квантовых точ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9CE5-2D30-4EE2-B519-29793D7A77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ыявление раковых маркеров на клет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 помощью квантовых 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CE7C-ABF4-416F-B065-C1567C80F0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аночастицы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quantum dots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ля выявления очагов опухолей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73A1-2F0E-4DE4-9200-A85342BD68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9"/>
                </a:solidFill>
                <a:latin typeface="Arial"/>
              </a:rPr>
              <a:t>Наночиповая технология позволяет генерировать 100 миллионов точек на той же площади, которую занимает одна точка в микрочи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2130-2220-4915-A408-63C548D8B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eeb48"/>
                </a:solidFill>
                <a:latin typeface="Times New Roman"/>
              </a:rPr>
              <a:t>Образование новых кровеносных сосудов после инъекции гена phVEGF</a:t>
            </a:r>
            <a:r>
              <a:rPr b="1" lang="ru-RU" sz="1200" spc="-1" strike="noStrike" baseline="-25000">
                <a:solidFill>
                  <a:srgbClr val="feeb48"/>
                </a:solidFill>
                <a:latin typeface="Times New Roman"/>
              </a:rPr>
              <a:t>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D1CB-252B-47F4-8E3F-6B25B2363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ностные регулятивы развития современного ест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«НАНОНАУКА» и «НАНОТЕХН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применения нано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2486-C4F7-48F4-B7EC-F83E8561B1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Молекулярные моторы – биосовместимые двигатели для наноробо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иозины   кинезины   дине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BFBC-38C6-44E7-8CBD-2B7AD0DB4F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и в медиц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нокапсул и микрофотография нанокапсул  с захваченными люминесцентными част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32F2-2FA9-4852-92EF-9A1367D896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Наноро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A200-A374-4CFB-A296-38D5ABF8CE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нотехнология в информационных технолог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с очень малым энергопотреб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рманные» суперЭВ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инающие устройства нового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характеристик ЭВМ на три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502F-7053-4556-A120-B76C07068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нотехнология в информационных технолог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элементом записывающей системы является  оптическое волокно с отверстием диаметром в несколько десятков н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нечник такого оптического волокна двигается над плоскостью записывающего диска на расстоянии всего10-20н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вещении поверхности лазерным лучом  на поверхности происходит запись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BCF0-0A3A-47CC-B1F5-BD91339E8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технологии и проблемы окружающей среды и э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го типа произво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возможности контроля за состоянием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альтернативных источников энергии и разработка эффективных методов сохранения и передачи энер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1DF9-F068-4176-BF01-BBF89575C9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проблемы нехватки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табильного и достаточного сельскохозяйственн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применение техники ДНК-чипов и ДНК-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8CAF-E100-46A3-ABBA-E4DD5D656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ыступает связующим звеном, объединяющим подходы и методики разных дисциплин. С этим обстоятельством связана основная трудность в развитии и практическом внедрении нанотехнологий – необходимость постоянного сотрудничества и согласования между учеными разных специаль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9726-193D-4400-A425-CE6ACE2EB0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траченные из бюджета разных стран на нанотехнологии в 1997-2005 г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7742-89DF-4FFB-9B51-D1A75B6669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материалы. Нанотехнологии. Наносистемная техника М.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йер К., Дэвис С. Живая организация: Компания как живой организм: Грядущая конвергенция информатики, нанотехнологии, биологии и бизнеса. М.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E7C7-AE24-483D-B1BC-045916F016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разме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штаб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нм =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9EB9-9B37-4C09-8A2B-655710EAD9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нораз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9610-B9C9-4BB6-A925-6EE19AADC3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наука – междисциплинарная наука, относящаяся к фундаментальным физико-химическим исследованиям объектов и процессов с масштабами в несколько н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технология - совокупность прикладных исследований нанонауки и их практических применений в технолог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я объектов, потребительские свойства которых определяются необходимостью контроля и манипулирования отдельными атомами, молекулами, надмолекулярными образован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B089-9074-444D-9592-5FF682EFAE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: хронолог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5A7A-53BF-48F5-8F34-43C84BEB43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применения нано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самая междисциплинарная отрас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вязана с химией, физикой, медициной, физическим материаловедением электроникой и многими другими дисциплин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2605-D519-4741-B042-8D7679936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нано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7 Международной конференции по нанотехнологиям (Висбаден, 2004 год) выделяют следующие типы наноматериа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пористые 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час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рубки и нановолок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дисперсии (ко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труктурированные поверхности и пл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кристал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класт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85D-1C35-4C21-88EF-64AB639E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7EA-37A5-4978-8C5B-42456719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0C8-B181-4D36-93C2-E588B01F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024-F908-4BC7-AC0E-D0EB0657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571F-2763-4EE0-9935-BF098DA3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8D47-68A9-4A87-B4C2-56CCC4CF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728B-7800-417C-A86C-50B090C7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561E-8056-4BB0-9C2C-59822D49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1F30-09AB-4449-AD95-76E452A0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CFBA-2D08-449A-9308-51AADE18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FC26-B2BC-48E5-B8F5-A44C4AB5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CBF-8449-4152-A9DE-821EE7A3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FC91-4C8A-4625-A995-E6CCC6A7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C336-367D-43DA-AF00-CF1B27EB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DAF2-B73E-40F6-804F-FEA05AB6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A216-CF95-4173-A2D5-5C408DDA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D676-AB63-4EC3-B51F-BB5AE812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E75-4A83-4F46-A41D-31D6BA58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728-3EDC-4622-97BA-803035D9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CD5-FA8A-4C4C-BEEE-2A2736D5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9751-CB58-47F1-B059-21C7A5B3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5BE8-841B-401D-8E88-BF710B41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9AC-0600-4279-AF7E-C0756AFE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DAF-C6E9-433A-A95B-725FCA6C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13E9-CA7D-4D4A-82C7-C256634B22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DCBD-1524-42E1-B585-22DE3EBDA6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рганизационные требования при освоении курс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личие программы курса. Программа курса размещена на сайте философского факультета в разделе Учебный отдел/Методическое обеспечение учебных курсов/каф. Философии и методологии наук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личие конспектов лекций по курсу в отдельной тетрад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полнение текущих работ по темам курса на лекция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дача зачета по итогам компьютерного тестирования (выборка из 50 вопросов (открытые и закрытые вопросы) по всем темам курса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j0217698"/>
          <p:cNvPicPr/>
          <p:nvPr/>
        </p:nvPicPr>
        <p:blipFill>
          <a:blip r:embed="rId1"/>
          <a:stretch/>
        </p:blipFill>
        <p:spPr>
          <a:xfrm>
            <a:off x="7020000" y="4797360"/>
            <a:ext cx="1747800" cy="16938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войства наноматериа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материалы характеризуются несколькими основными свойствами, по сравнению с другими материалам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уперминиатюризац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ольшая удельная площадь поверхности, ускоряющая взаимодействие между ними и средой, в которую они помещены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хождение вещества в наноматериала в особом «наноразмерном» состояни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птические микроскоп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авило оптической техники (1873 г): минимальные объекты различаемых деталей рассматриваемого объекта не могут быть меньше, чем длина света, используемого для освещения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амые короткие длины волн диапазона соответствуют примерно 400 нм, разрешающая способность оптических микроскопов принципиально ограничена половиной этой величины, то есть составляет около 200 нм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microscope"/>
          <p:cNvPicPr/>
          <p:nvPr/>
        </p:nvPicPr>
        <p:blipFill>
          <a:blip r:embed="rId1"/>
          <a:stretch/>
        </p:blipFill>
        <p:spPr>
          <a:xfrm>
            <a:off x="5788080" y="2424240"/>
            <a:ext cx="2201760" cy="291924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8920" y="1827360"/>
            <a:ext cx="391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свечивающие электронные микроскопы (ПЭМ): электронный пучок пропускается через тонкие слои исследуемого вещества с толщиной не менее 1 мк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просвеч электронный микроскоп"/>
          <p:cNvPicPr/>
          <p:nvPr/>
        </p:nvPicPr>
        <p:blipFill>
          <a:blip r:embed="rId1"/>
          <a:stretch/>
        </p:blipFill>
        <p:spPr>
          <a:xfrm>
            <a:off x="1895400" y="2152800"/>
            <a:ext cx="2538360" cy="3463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канирующие электронные микроскопы (СЭМ): электронный пучок последовательно отражается от маленьких участков поверх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4" descr="сканирующий зондовый"/>
          <p:cNvPicPr/>
          <p:nvPr/>
        </p:nvPicPr>
        <p:blipFill>
          <a:blip r:embed="rId1"/>
          <a:stretch/>
        </p:blipFill>
        <p:spPr>
          <a:xfrm>
            <a:off x="6851520" y="3854520"/>
            <a:ext cx="74880" cy="6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сканирэектр микроскоп"/>
          <p:cNvPicPr/>
          <p:nvPr/>
        </p:nvPicPr>
        <p:blipFill>
          <a:blip r:embed="rId2"/>
          <a:stretch/>
        </p:blipFill>
        <p:spPr>
          <a:xfrm>
            <a:off x="5334120" y="2205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анирующее электронно-зондовые микроско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канирующее электронно-зондовые микроскопы (СЭЗМ) сканируют поверхность исследуемого образца при помощи зонда или щупа   в виде крошечной металлической иголк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электронный зондовый"/>
          <p:cNvPicPr/>
          <p:nvPr/>
        </p:nvPicPr>
        <p:blipFill>
          <a:blip r:embed="rId1"/>
          <a:stretch/>
        </p:blipFill>
        <p:spPr>
          <a:xfrm>
            <a:off x="5219640" y="2349360"/>
            <a:ext cx="3135240" cy="41767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анирующее электронно-зондовые  (туннельные) микроско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ежду зондом и поверхностью приложено электрическое напряжение, в результате чего возникает туннельный эффект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Туннельный эффект – преодоление микрочастицей потенциального барьера в случае, когда ее полная энергия (остающаяся при туннелировании неизменной) меньше высоты барье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1а"/>
          <p:cNvPicPr/>
          <p:nvPr/>
        </p:nvPicPr>
        <p:blipFill>
          <a:blip r:embed="rId1"/>
          <a:stretch/>
        </p:blipFill>
        <p:spPr>
          <a:xfrm>
            <a:off x="5094360" y="2433600"/>
            <a:ext cx="3589200" cy="29019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уннельный эффек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0120" y="1827360"/>
            <a:ext cx="358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хематическое представление классической и квантовой физической ситуации при возникновении барьера на пути частиц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7" descr="nanotech0018"/>
          <p:cNvPicPr/>
          <p:nvPr/>
        </p:nvPicPr>
        <p:blipFill>
          <a:blip r:embed="rId1"/>
          <a:stretch/>
        </p:blipFill>
        <p:spPr>
          <a:xfrm>
            <a:off x="1042920" y="2133720"/>
            <a:ext cx="3960720" cy="33829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томарно-силово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этом приборе измеряемой физической величиной выступают непосредственно силы взаимодействия между атомами, величина которых определяется «шероховатостью» конкретного участка поверхности в точке измерени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СМ позволяет получать изображения с очень высокой степенью точности (вплоть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 </a:t>
            </a:r>
            <a:r>
              <a:rPr b="0" lang="ru-RU" sz="1900" spc="-1" strike="noStrike" baseline="30000">
                <a:solidFill>
                  <a:srgbClr val="000000"/>
                </a:solidFill>
                <a:latin typeface="Verdana"/>
              </a:rPr>
              <a:t>10-10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2"/>
          <p:cNvPicPr/>
          <p:nvPr/>
        </p:nvPicPr>
        <p:blipFill>
          <a:blip r:embed="rId1"/>
          <a:stretch/>
        </p:blipFill>
        <p:spPr>
          <a:xfrm>
            <a:off x="5094360" y="2502000"/>
            <a:ext cx="3589200" cy="27637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ва главных принципа технологической обработ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1980720"/>
            <a:ext cx="18000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хо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верху-вниз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ход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низу-вверх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7" descr="0008"/>
          <p:cNvPicPr/>
          <p:nvPr/>
        </p:nvPicPr>
        <p:blipFill>
          <a:blip r:embed="rId1"/>
          <a:stretch/>
        </p:blipFill>
        <p:spPr>
          <a:xfrm>
            <a:off x="3132000" y="1557360"/>
            <a:ext cx="6012000" cy="4581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имер нанотехнологии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«снизу-вверх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" name="Picture 4" descr="0002"/>
          <p:cNvPicPr/>
          <p:nvPr/>
        </p:nvPicPr>
        <p:blipFill>
          <a:blip r:embed="rId1"/>
          <a:stretch/>
        </p:blipFill>
        <p:spPr>
          <a:xfrm>
            <a:off x="2124000" y="1941480"/>
            <a:ext cx="5184720" cy="49165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ормация о зачет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827360"/>
            <a:ext cx="412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2 декабря(понедельник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3 (ауд. г34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а 104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4 декабря(среда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2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7.30-19.00          Группа 106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5 декабря(четверг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1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а 105 (ауд. г34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9 декабря(понедельник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 15.30-17.00          студенты всех групп                                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ата будет уточнен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сто проведения зачет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моносовский проспект, д.27, корпус 4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 этаж (зона г – направо от лифтового холла), Первый учебный корпус МГУ на новой территор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чет включа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ьютерное тестирование (выборка из 50 вопросов по всем темам курса, необходимо ответить правильно не менее, чем на половину вопросов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верку конспектов лек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а зачете с собой необходимо имет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четную книжку, студенческий биле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нспекты лек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таростам групп взять в учебной части зачетную ведомость на групп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уллерен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1985 году были экспериментально при исследовании масс-пектров паров графита  обнаружены фуллерены – огромные молекулы углерода в виде замкнутых объемных структур, напоминающих по форме футбольный мяч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ермин фуллерен происходит от имени Ричарда Букминстера Фуллера, сконструировавшего оригинальный купол павильона США на выставкев Монреале в  форме сочлененных пентагонов (пятиугольники) и гексагоно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7" descr="nanotech0019"/>
          <p:cNvPicPr/>
          <p:nvPr/>
        </p:nvPicPr>
        <p:blipFill>
          <a:blip r:embed="rId1"/>
          <a:stretch/>
        </p:blipFill>
        <p:spPr>
          <a:xfrm>
            <a:off x="5495760" y="1987560"/>
            <a:ext cx="2792520" cy="1660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nanotech0021"/>
          <p:cNvPicPr/>
          <p:nvPr/>
        </p:nvPicPr>
        <p:blipFill>
          <a:blip r:embed="rId2"/>
          <a:stretch/>
        </p:blipFill>
        <p:spPr>
          <a:xfrm>
            <a:off x="5484960" y="3960720"/>
            <a:ext cx="2814480" cy="19814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мер нанотехнологии «снизу-вверх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глеродные нанотрубки представляют собой крошечные цилиндры или цилиндрические образования с диаметром от 0,5 до 10нм и длиной примерно в 1мкм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ни являются новой формой углерода, открытой в 1991 год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7" descr="3"/>
          <p:cNvPicPr/>
          <p:nvPr/>
        </p:nvPicPr>
        <p:blipFill>
          <a:blip r:embed="rId1"/>
          <a:stretch/>
        </p:blipFill>
        <p:spPr>
          <a:xfrm>
            <a:off x="5110200" y="2587680"/>
            <a:ext cx="3552840" cy="259236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вантовая точ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вантовая точка -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искусственно созданная область вещества, в которой можно «хранить» небольшие количества электроно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9" descr="1"/>
          <p:cNvPicPr/>
          <p:nvPr/>
        </p:nvPicPr>
        <p:blipFill>
          <a:blip r:embed="rId1"/>
          <a:stretch/>
        </p:blipFill>
        <p:spPr>
          <a:xfrm>
            <a:off x="5114880" y="1827360"/>
            <a:ext cx="3548160" cy="4114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биологии и медицин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ичины интереса к применению наносистем в биологии и медицине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системы могут перемещаться внутри живых организмов и проникать внутрь клеток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системы могут создавать нанокомпозиты «наночастица/биологически активная оболочка»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медицин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овые парадигмы в медицине: создание долгосрочных и эффективных систем контроля здоровья, непрерывный контроль за состоянием организма. Реализация идей восстанавливающей медицины. Возникновение медицины «малого» вмешательств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змерение содержания различных веществ в организме, лечебные операции при необходимости.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ализация идей «индивидуальной» медицин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зработка лекарственных препаратов с новым механизмом действия 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оизводство искусственных тканей и органов, не вызывающих реакцию отторже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fig16"/>
          <p:cNvPicPr/>
          <p:nvPr/>
        </p:nvPicPr>
        <p:blipFill>
          <a:blip r:embed="rId1"/>
          <a:stretch/>
        </p:blipFill>
        <p:spPr>
          <a:xfrm>
            <a:off x="227160" y="2109960"/>
            <a:ext cx="3097080" cy="31035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23" name="Rectangle 3"/>
          <p:cNvSpPr/>
          <p:nvPr/>
        </p:nvSpPr>
        <p:spPr>
          <a:xfrm>
            <a:off x="-63360" y="92160"/>
            <a:ext cx="93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чение живых клеток и визуализация внутриклеточных структур с помощью квантовых точе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3621240" y="2187720"/>
            <a:ext cx="5256000" cy="2947680"/>
            <a:chOff x="3621240" y="2187720"/>
            <a:chExt cx="5256000" cy="2947680"/>
          </a:xfrm>
        </p:grpSpPr>
        <p:pic>
          <p:nvPicPr>
            <p:cNvPr id="225" name="Picture 5" descr="fig15"/>
            <p:cNvPicPr/>
            <p:nvPr/>
          </p:nvPicPr>
          <p:blipFill>
            <a:blip r:embed="rId2"/>
            <a:stretch/>
          </p:blipFill>
          <p:spPr>
            <a:xfrm>
              <a:off x="3621240" y="2187720"/>
              <a:ext cx="5256000" cy="29476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</p:pic>
        <p:sp>
          <p:nvSpPr>
            <p:cNvPr id="226" name="Rectangle 6"/>
            <p:cNvSpPr/>
            <p:nvPr/>
          </p:nvSpPr>
          <p:spPr>
            <a:xfrm>
              <a:off x="3666960" y="2214360"/>
              <a:ext cx="295560" cy="26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5923080" y="2214360"/>
              <a:ext cx="295200" cy="26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8" name="Rectangle 8"/>
          <p:cNvSpPr/>
          <p:nvPr/>
        </p:nvSpPr>
        <p:spPr>
          <a:xfrm>
            <a:off x="4530600" y="621648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Daha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et al.,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Science302:442–445,20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39840" y="187920"/>
            <a:ext cx="868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явление раковых маркеров на клетк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 помощью квантовых точе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635040" y="2203560"/>
            <a:ext cx="7689960" cy="2492280"/>
            <a:chOff x="635040" y="2203560"/>
            <a:chExt cx="7689960" cy="2492280"/>
          </a:xfrm>
        </p:grpSpPr>
        <p:pic>
          <p:nvPicPr>
            <p:cNvPr id="232" name="Picture 4" descr="fig18"/>
            <p:cNvPicPr/>
            <p:nvPr/>
          </p:nvPicPr>
          <p:blipFill>
            <a:blip r:embed="rId1">
              <a:lum contrast="8000"/>
            </a:blip>
            <a:srcRect l="0" t="0" r="0" b="51101"/>
            <a:stretch/>
          </p:blipFill>
          <p:spPr>
            <a:xfrm>
              <a:off x="635040" y="2203560"/>
              <a:ext cx="5138640" cy="24894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</p:pic>
        <p:pic>
          <p:nvPicPr>
            <p:cNvPr id="233" name="Picture 5" descr="fig18"/>
            <p:cNvPicPr/>
            <p:nvPr/>
          </p:nvPicPr>
          <p:blipFill>
            <a:blip r:embed="rId2">
              <a:lum contrast="8000"/>
            </a:blip>
            <a:srcRect l="50282" t="50519" r="0" b="0"/>
            <a:stretch/>
          </p:blipFill>
          <p:spPr>
            <a:xfrm>
              <a:off x="5796000" y="2203560"/>
              <a:ext cx="2529000" cy="24922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</p:pic>
      </p:grp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аночастицы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quantum dots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ля выявления очагов опухолей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01760" y="2119320"/>
            <a:ext cx="8348400" cy="36068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fig11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52440" y="1700280"/>
            <a:ext cx="6762960" cy="4270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39" name="Rectangle 3"/>
          <p:cNvSpPr/>
          <p:nvPr/>
        </p:nvSpPr>
        <p:spPr>
          <a:xfrm>
            <a:off x="0" y="96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9"/>
                </a:solidFill>
                <a:latin typeface="Arial"/>
              </a:rPr>
              <a:t>Наночиповая технология позволяет генерировать 100 миллионов точек на той же площади, которую занимает одна точка в микрочип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2838600" y="6389640"/>
            <a:ext cx="63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Ginger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DS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 et al 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, Angew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Chem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Ed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Engl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43:30–45,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84320" y="1447920"/>
            <a:ext cx="5254560" cy="4495680"/>
          </a:xfrm>
          <a:prstGeom prst="rect">
            <a:avLst/>
          </a:prstGeom>
          <a:solidFill>
            <a:srgbClr val="abd5ff"/>
          </a:solidFill>
          <a:ln w="4752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85800" y="228600"/>
            <a:ext cx="7924680" cy="1004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eeb48"/>
                </a:solidFill>
                <a:latin typeface="Times New Roman"/>
              </a:rPr>
              <a:t>Образование новых кровеносных сосудов после инъекции гена phVEGF</a:t>
            </a:r>
            <a:r>
              <a:rPr b="1" lang="ru-RU" sz="2800" spc="-1" strike="noStrike" baseline="-25000">
                <a:solidFill>
                  <a:srgbClr val="feeb48"/>
                </a:solidFill>
                <a:latin typeface="Times New Roman"/>
              </a:rPr>
              <a:t>16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2095560" y="1486080"/>
          <a:ext cx="246204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1486080"/>
                    <a:ext cx="24620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"/>
          <p:cNvGraphicFramePr/>
          <p:nvPr/>
        </p:nvGraphicFramePr>
        <p:xfrm>
          <a:off x="4879800" y="1486080"/>
          <a:ext cx="2384640" cy="44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9800" y="1486080"/>
                    <a:ext cx="23846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6"/>
          <p:cNvSpPr/>
          <p:nvPr/>
        </p:nvSpPr>
        <p:spPr>
          <a:xfrm>
            <a:off x="1905120" y="6019920"/>
            <a:ext cx="241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о инъекции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114800" y="601992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Через 8 нед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ные регулятивы развития современного естествозн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нятия «НАНОНАУКА» и «НАНОТЕХНОЛОГИЯ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феры применения нанотехнолог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200160" y="2060640"/>
            <a:ext cx="8723160" cy="4602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1200" y="187200"/>
            <a:ext cx="89028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лекулярные моторы – биосовместимые двигатели для наноробото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571760" y="22143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иозины   кинезины   динеи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4" name="Object 5"/>
          <p:cNvGraphicFramePr/>
          <p:nvPr/>
        </p:nvGraphicFramePr>
        <p:xfrm>
          <a:off x="557280" y="4040280"/>
          <a:ext cx="347832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040280"/>
                    <a:ext cx="347832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6"/>
          <p:cNvSpPr/>
          <p:nvPr/>
        </p:nvSpPr>
        <p:spPr>
          <a:xfrm>
            <a:off x="1965240" y="4059360"/>
            <a:ext cx="113508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REGULA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LIGHT CH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137040" y="4076640"/>
            <a:ext cx="113004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ESSENTIA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LIGHT CH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238400" y="575316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иози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Group 9"/>
          <p:cNvGrpSpPr/>
          <p:nvPr/>
        </p:nvGrpSpPr>
        <p:grpSpPr>
          <a:xfrm>
            <a:off x="703440" y="3848040"/>
            <a:ext cx="118440" cy="173160"/>
            <a:chOff x="703440" y="3848040"/>
            <a:chExt cx="118440" cy="173160"/>
          </a:xfrm>
        </p:grpSpPr>
        <p:sp>
          <p:nvSpPr>
            <p:cNvPr id="260" name="Rectangle 10"/>
            <p:cNvSpPr/>
            <p:nvPr/>
          </p:nvSpPr>
          <p:spPr>
            <a:xfrm>
              <a:off x="703440" y="3848040"/>
              <a:ext cx="727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11"/>
            <p:cNvSpPr/>
            <p:nvPr/>
          </p:nvSpPr>
          <p:spPr>
            <a:xfrm>
              <a:off x="705240" y="3855240"/>
              <a:ext cx="116640" cy="12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" name="Group 12"/>
          <p:cNvGrpSpPr/>
          <p:nvPr/>
        </p:nvGrpSpPr>
        <p:grpSpPr>
          <a:xfrm>
            <a:off x="785880" y="3828960"/>
            <a:ext cx="3422160" cy="160200"/>
            <a:chOff x="785880" y="3828960"/>
            <a:chExt cx="3422160" cy="160200"/>
          </a:xfrm>
        </p:grpSpPr>
        <p:graphicFrame>
          <p:nvGraphicFramePr>
            <p:cNvPr id="263" name="Object 13"/>
            <p:cNvGraphicFramePr/>
            <p:nvPr/>
          </p:nvGraphicFramePr>
          <p:xfrm>
            <a:off x="2440080" y="3829680"/>
            <a:ext cx="1767960" cy="15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40080" y="3829680"/>
                      <a:ext cx="1767960" cy="15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14"/>
            <p:cNvGraphicFramePr/>
            <p:nvPr/>
          </p:nvGraphicFramePr>
          <p:xfrm>
            <a:off x="785880" y="3828960"/>
            <a:ext cx="1759680" cy="159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6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85880" y="3828960"/>
                      <a:ext cx="1759680" cy="15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Text Box 15"/>
          <p:cNvSpPr/>
          <p:nvPr/>
        </p:nvSpPr>
        <p:spPr>
          <a:xfrm>
            <a:off x="304560" y="377208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7 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1479240" y="33447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кт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Oval 17"/>
          <p:cNvSpPr/>
          <p:nvPr/>
        </p:nvSpPr>
        <p:spPr>
          <a:xfrm>
            <a:off x="2997360" y="2424240"/>
            <a:ext cx="88920" cy="889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Oval 18"/>
          <p:cNvSpPr/>
          <p:nvPr/>
        </p:nvSpPr>
        <p:spPr>
          <a:xfrm>
            <a:off x="4651200" y="2424240"/>
            <a:ext cx="88920" cy="889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4754160" y="6026040"/>
            <a:ext cx="37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е полимеров актина по стеклу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рытому миозин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MV__20.wmv" descr=""/>
          <p:cNvPicPr/>
          <p:nvPr/>
        </p:nvPicPr>
        <p:blipFill>
          <a:blip r:embed="rId7"/>
          <a:stretch/>
        </p:blipFill>
        <p:spPr>
          <a:xfrm>
            <a:off x="4500720" y="2781360"/>
            <a:ext cx="3852720" cy="30830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536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и в медицин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руктура нанокапсул и микрофотография нанокапсул  с захваченными люминесцентными частиц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4" descr="nanotech0014"/>
          <p:cNvPicPr/>
          <p:nvPr/>
        </p:nvPicPr>
        <p:blipFill>
          <a:blip r:embed="rId1"/>
          <a:stretch/>
        </p:blipFill>
        <p:spPr>
          <a:xfrm>
            <a:off x="3708360" y="4221000"/>
            <a:ext cx="4605480" cy="212112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наноробот"/>
          <p:cNvPicPr/>
          <p:nvPr/>
        </p:nvPicPr>
        <p:blipFill>
          <a:blip r:embed="rId1"/>
          <a:stretch/>
        </p:blipFill>
        <p:spPr>
          <a:xfrm>
            <a:off x="533520" y="383364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наноробот"/>
          <p:cNvPicPr/>
          <p:nvPr/>
        </p:nvPicPr>
        <p:blipFill>
          <a:blip r:embed="rId2"/>
          <a:stretch/>
        </p:blipFill>
        <p:spPr>
          <a:xfrm>
            <a:off x="4911840" y="2558880"/>
            <a:ext cx="3830400" cy="24624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81800" y="631440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Ю. Свидиненко , nanotech-now.co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4961160" y="5390280"/>
            <a:ext cx="37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Julian Baum/Science Photo Librar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985120" y="329400"/>
            <a:ext cx="33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Нанороб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7" descr="наноробот2bmp"/>
          <p:cNvPicPr/>
          <p:nvPr/>
        </p:nvPicPr>
        <p:blipFill>
          <a:blip r:embed="rId3"/>
          <a:stretch/>
        </p:blipFill>
        <p:spPr>
          <a:xfrm>
            <a:off x="507960" y="1271520"/>
            <a:ext cx="3206880" cy="24051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 в информационных технолог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14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тройства с очень малым энергопотребление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Карманные» суперЭВ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Запоминающие устройства нового тип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вышение характеристик ЭВМ на три поряд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7" descr="4"/>
          <p:cNvPicPr/>
          <p:nvPr/>
        </p:nvPicPr>
        <p:blipFill>
          <a:blip r:embed="rId1"/>
          <a:stretch/>
        </p:blipFill>
        <p:spPr>
          <a:xfrm>
            <a:off x="4932360" y="1557360"/>
            <a:ext cx="33354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 в информационных технолог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сновным элементом записывающей системы является  оптическое волокно с отверстием диаметром в несколько десятков н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конечник такого оптического волокна двигается над плоскостью записывающего диска на расстоянии всего10-20нм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 освещении поверхности лазерным лучом  на поверхности происходит запись информац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5"/>
          <p:cNvPicPr/>
          <p:nvPr/>
        </p:nvPicPr>
        <p:blipFill>
          <a:blip r:embed="rId1"/>
          <a:stretch/>
        </p:blipFill>
        <p:spPr>
          <a:xfrm>
            <a:off x="5165640" y="1827360"/>
            <a:ext cx="3444840" cy="411480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нотехнологии и проблемы окружающей среды и энергет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69800" y="23112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нового типа производст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вые возможности контроля за состоянием сре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альтернативных источников энергии и разработка эффективных методов сохранения и передачи энерг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сельском хозяйств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шение проблемы нехватки пит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стабильного и достаточного сельскохозяйственного производст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кое применение техники ДНК-чипов и ДНК-анализ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нотехнология выступает связующим звеном, объединяющим подходы и методики разных дисциплин. С этим обстоятельством связана основная трудность в развитии и практическом внедрении нанотехнологий – необходимость постоянного сотрудничества и согласования между учеными разных специальност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редства, потраченные из бюджета разных стран на нанотехнологии в 1997-2005 годах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9" descr="nanotech0012"/>
          <p:cNvPicPr/>
          <p:nvPr/>
        </p:nvPicPr>
        <p:blipFill>
          <a:blip r:embed="rId1"/>
          <a:stretch/>
        </p:blipFill>
        <p:spPr>
          <a:xfrm>
            <a:off x="5100480" y="2762280"/>
            <a:ext cx="3583080" cy="224460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итерату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953800" y="1827360"/>
            <a:ext cx="57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материалы. Нанотехнологии. Наносистемная техника М.200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йер К., Дэвис С. Живая организация: Компания как живой организм: Грядущая конвергенция информатики, нанотехнологии, биологии и бизнеса. М. 200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6" descr="Наноматериалы. Нанотехнологии. Наносистемная техни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0000" y="1844640"/>
            <a:ext cx="1540080" cy="2232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00000005976883_267_1"/>
          <p:cNvPicPr/>
          <p:nvPr/>
        </p:nvPicPr>
        <p:blipFill>
          <a:blip r:embed="rId3"/>
          <a:stretch/>
        </p:blipFill>
        <p:spPr>
          <a:xfrm>
            <a:off x="971640" y="4365720"/>
            <a:ext cx="1338120" cy="20876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размеры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17680" y="2050920"/>
            <a:ext cx="265896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нано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значае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менен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асштаб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10</a:t>
            </a:r>
            <a:r>
              <a:rPr b="0" lang="ru-RU" sz="21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нм = 10</a:t>
            </a:r>
            <a:r>
              <a:rPr b="0" lang="ru-RU" sz="21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7" descr="0001"/>
          <p:cNvPicPr/>
          <p:nvPr/>
        </p:nvPicPr>
        <p:blipFill>
          <a:blip r:embed="rId1"/>
          <a:stretch/>
        </p:blipFill>
        <p:spPr>
          <a:xfrm>
            <a:off x="4067280" y="1268280"/>
            <a:ext cx="4752720" cy="5229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8480" y="455400"/>
            <a:ext cx="6678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норазме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15840" y="2487600"/>
            <a:ext cx="9181080" cy="3561840"/>
            <a:chOff x="15840" y="2487600"/>
            <a:chExt cx="9181080" cy="3561840"/>
          </a:xfrm>
        </p:grpSpPr>
        <p:sp>
          <p:nvSpPr>
            <p:cNvPr id="114" name="Rectangle 5"/>
            <p:cNvSpPr/>
            <p:nvPr/>
          </p:nvSpPr>
          <p:spPr>
            <a:xfrm>
              <a:off x="6859440" y="4249800"/>
              <a:ext cx="1924200" cy="5364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6961320" y="4275360"/>
              <a:ext cx="1756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ногоклеточные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рганизмы    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(1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m &gt;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3276720" y="3616200"/>
              <a:ext cx="144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3040200" y="3616200"/>
              <a:ext cx="144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282240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10"/>
            <p:cNvSpPr/>
            <p:nvPr/>
          </p:nvSpPr>
          <p:spPr>
            <a:xfrm>
              <a:off x="254304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4729320" y="4230720"/>
              <a:ext cx="1828800" cy="809640"/>
            </a:xfrm>
            <a:prstGeom prst="rect">
              <a:avLst/>
            </a:prstGeom>
            <a:solidFill>
              <a:srgbClr val="9bdeff"/>
            </a:solidFill>
            <a:ln w="28440">
              <a:solidFill>
                <a:srgbClr val="9bde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2444760" y="4257720"/>
              <a:ext cx="1828800" cy="714240"/>
            </a:xfrm>
            <a:prstGeom prst="rect">
              <a:avLst/>
            </a:prstGeom>
            <a:solidFill>
              <a:srgbClr val="b00000"/>
            </a:solidFill>
            <a:ln w="28440">
              <a:solidFill>
                <a:srgbClr val="b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2438280" y="4268880"/>
              <a:ext cx="24544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Белки, ДН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РНК,  антитела,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вирусы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1 -100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3" name="Group 14"/>
            <p:cNvGrpSpPr/>
            <p:nvPr/>
          </p:nvGrpSpPr>
          <p:grpSpPr>
            <a:xfrm>
              <a:off x="301680" y="4214880"/>
              <a:ext cx="1925640" cy="520560"/>
              <a:chOff x="301680" y="4214880"/>
              <a:chExt cx="1925640" cy="520560"/>
            </a:xfrm>
          </p:grpSpPr>
          <p:sp>
            <p:nvSpPr>
              <p:cNvPr id="124" name="Rectangle 15"/>
              <p:cNvSpPr/>
              <p:nvPr/>
            </p:nvSpPr>
            <p:spPr>
              <a:xfrm>
                <a:off x="320760" y="4250160"/>
                <a:ext cx="1752480" cy="31140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ffff66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Text Box 16"/>
              <p:cNvSpPr/>
              <p:nvPr/>
            </p:nvSpPr>
            <p:spPr>
              <a:xfrm>
                <a:off x="301680" y="4214880"/>
                <a:ext cx="192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Атомы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(0,1-0,5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m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Text Box 17"/>
            <p:cNvSpPr/>
            <p:nvPr/>
          </p:nvSpPr>
          <p:spPr>
            <a:xfrm>
              <a:off x="4692240" y="4253040"/>
              <a:ext cx="187056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Бактерии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0,1 -1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Эритроциты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10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Яйцеклетка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человека   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10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4560840" y="5348160"/>
              <a:ext cx="25812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Видимый свет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(1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Инфракрасны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Лучи</a:t>
              </a:r>
              <a:r>
                <a:rPr b="1" lang="en-US" sz="1400" spc="-1" strike="noStrike">
                  <a:solidFill>
                    <a:srgbClr val="a7e9a7"/>
                  </a:solidFill>
                  <a:latin typeface="Arial"/>
                </a:rPr>
                <a:t>                   </a:t>
              </a: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246960" y="5348160"/>
              <a:ext cx="215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Рентгеновско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de4ff"/>
                  </a:solidFill>
                  <a:latin typeface="Arial"/>
                </a:rPr>
                <a:t>излуч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(0,1-10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2142720" y="534816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Ультрафиолет</a:t>
              </a:r>
              <a:r>
                <a:rPr b="1" lang="ru-RU" sz="1400" spc="-1" strike="noStrike">
                  <a:solidFill>
                    <a:srgbClr val="ade4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(100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6930360" y="5348160"/>
              <a:ext cx="196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Микроволны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(1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22"/>
            <p:cNvSpPr/>
            <p:nvPr/>
          </p:nvSpPr>
          <p:spPr>
            <a:xfrm>
              <a:off x="6738840" y="3365640"/>
              <a:ext cx="180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Line 23"/>
            <p:cNvSpPr/>
            <p:nvPr/>
          </p:nvSpPr>
          <p:spPr>
            <a:xfrm>
              <a:off x="890748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15840" y="3006720"/>
              <a:ext cx="918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12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5"/>
            <p:cNvSpPr/>
            <p:nvPr/>
          </p:nvSpPr>
          <p:spPr>
            <a:xfrm>
              <a:off x="13824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2131200" y="3017880"/>
              <a:ext cx="845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ffff37"/>
                  </a:solidFill>
                  <a:latin typeface="Arial"/>
                </a:rPr>
                <a:t>-9</a:t>
              </a: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37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ffff37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343400" y="3017880"/>
              <a:ext cx="87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6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544800" y="3017880"/>
              <a:ext cx="81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540240" y="3017880"/>
              <a:ext cx="87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ffff37"/>
                  </a:solidFill>
                  <a:latin typeface="Arial"/>
                </a:rPr>
                <a:t>-7</a:t>
              </a: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37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2162160" y="2487600"/>
              <a:ext cx="202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Н а н о ш к а л а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AutoShape 31"/>
            <p:cNvSpPr/>
            <p:nvPr/>
          </p:nvSpPr>
          <p:spPr>
            <a:xfrm rot="16200000">
              <a:off x="3032640" y="2108520"/>
              <a:ext cx="203400" cy="1643040"/>
            </a:xfrm>
            <a:custGeom>
              <a:avLst/>
              <a:gdLst>
                <a:gd name="textAreaLeft" fmla="*/ 129960 w 203400"/>
                <a:gd name="textAreaRight" fmla="*/ 203760 w 203400"/>
                <a:gd name="textAreaTop" fmla="*/ 42840 h 1643040"/>
                <a:gd name="textAreaBottom" fmla="*/ 16002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3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32"/>
            <p:cNvSpPr/>
            <p:nvPr/>
          </p:nvSpPr>
          <p:spPr>
            <a:xfrm>
              <a:off x="451656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33"/>
            <p:cNvSpPr/>
            <p:nvPr/>
          </p:nvSpPr>
          <p:spPr>
            <a:xfrm>
              <a:off x="3789360" y="3365640"/>
              <a:ext cx="1440" cy="527040"/>
            </a:xfrm>
            <a:prstGeom prst="line">
              <a:avLst/>
            </a:prstGeom>
            <a:ln w="3816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Line 34"/>
            <p:cNvSpPr/>
            <p:nvPr/>
          </p:nvSpPr>
          <p:spPr>
            <a:xfrm>
              <a:off x="2338560" y="3365640"/>
              <a:ext cx="1440" cy="527040"/>
            </a:xfrm>
            <a:prstGeom prst="line">
              <a:avLst/>
            </a:prstGeom>
            <a:ln w="3816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136440" y="3743280"/>
              <a:ext cx="2206800" cy="14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8566560" y="301788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37"/>
            <p:cNvSpPr/>
            <p:nvPr/>
          </p:nvSpPr>
          <p:spPr>
            <a:xfrm>
              <a:off x="354312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2332080" y="3743280"/>
              <a:ext cx="2206440" cy="149400"/>
            </a:xfrm>
            <a:prstGeom prst="rect">
              <a:avLst/>
            </a:prstGeom>
            <a:solidFill>
              <a:srgbClr val="b00000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4529160" y="3743280"/>
              <a:ext cx="2206440" cy="149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6729480" y="3729240"/>
              <a:ext cx="220644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543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нонаука – междисциплинарная наука, относящаяся к фундаментальным физико-химическим исследованиям объектов и процессов с масштабами в несколько н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нотехнология - совокупность прикладных исследований нанонауки и их практических применений в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ния объектов, потребительские свойства которых определяются необходимостью контроля и манипулирования отдельными атомами, молекулами, надмолекулярными образования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: хронология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3" descr="0005"/>
          <p:cNvPicPr/>
          <p:nvPr/>
        </p:nvPicPr>
        <p:blipFill>
          <a:blip r:embed="rId1"/>
          <a:stretch/>
        </p:blipFill>
        <p:spPr>
          <a:xfrm>
            <a:off x="2771640" y="1760400"/>
            <a:ext cx="4891320" cy="50976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ерспективы применения нанотехнолог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625400"/>
            <a:ext cx="21607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анотехнология самая междисциплинарная отрас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на связана с химией, физикой, медициной, физическим материаловедением электроникой и многими другими дисциплинам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7" descr="0003"/>
          <p:cNvPicPr/>
          <p:nvPr/>
        </p:nvPicPr>
        <p:blipFill>
          <a:blip r:embed="rId1"/>
          <a:stretch/>
        </p:blipFill>
        <p:spPr>
          <a:xfrm>
            <a:off x="2843280" y="1628640"/>
            <a:ext cx="5796000" cy="4786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ипы наноматериа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гласно рекомендациям 7 Международной конференции по нанотехнологиям (Висбаден, 2004 год) выделяют следующие типы наноматериалов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пористые структур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частиц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трубки и нановолок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дисперсии (коллоиды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структурированные поверхности и плен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кристалл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кластер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09:52Z</dcterms:created>
  <dc:creator>EDU-1</dc:creator>
  <dc:description/>
  <dc:language>en-US</dc:language>
  <cp:lastModifiedBy>RomaK</cp:lastModifiedBy>
  <dcterms:modified xsi:type="dcterms:W3CDTF">2014-10-31T13:39:05Z</dcterms:modified>
  <cp:revision>36</cp:revision>
  <dc:subject/>
  <dc:title>НАНО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