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5EBB0-A7B6-40AE-9E52-5C3538A0461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504d"/>
                </a:solidFill>
                <a:latin typeface="Calibri"/>
              </a:rPr>
              <a:t>Тема 8. Философия Новейшего времени и современно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ые черты и основные направления философи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ксистская философ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лассическая философия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лософия нау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направления философии соврем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72178-C4BC-4EC2-ACBB-A1A8448F9E2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Экзистенциализм или философия существования характеризуется антисциентистской направленностью и ориентирована на проблемы, связанные с человеком, смыслом его бытия в современном ми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ен Кьеркегор считал, что философия должна повернуться к человеку, его проблемам. Он выделил неподлинное и подлинное существование человека, а также три стадии восхождения к подлинному существованию: эстетическую, этическую, религиозну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Ясперсу, человек обычно живет «заброшенной» жизнью, но в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граничных ситуация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крытые качества выходят наружу. Он осознает себя через «шифры» трансцендентальн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понятиями философии Сартра становятся: «для-себя-бытие», «свобода», «выбор», «ответственность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Жизнь человека – абсурд», - считает Камю. Смысл жизни в самом существовании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деггер исследует «бытие человека в мире», которая состоит из «бытия с другими» и «бытия самого себя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F990A-F35D-4DEC-BE19-4D694024198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Экзистенциализм Мартина Хайдеггера (1889-197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труды: «Бытие и время», «Время и бытие», «Письмо о гуманизме», «Разговор на проселочной дороге»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ом описания и толкования бытия являются экзистенциалы – эмоционально окрашенные поня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ческое бытие 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sein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всегда эмоционально. Переживание «бытия-к-смерти» приводят к страху и тревог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жил начало онтологическому направлению в рамках герменевтики. Герменевтика – онтология поним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зык – это «дом бытия» и именно язык определяет судьбу бы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5DCDA-77C8-45D8-8875-A6E15F557F1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Герменевтика (от греч.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Germeneutikos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–разъясняющий, истолковывающий)  означает теорию и практику истолкования текстов, языковых выражений и символов; философское направление, исследующее проблему понимания и связанные с ней вопросы язы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ы были заложены Ф.Шлейермахером как искусство понимания индивидуальности другого авто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ом герменевтики является не содержание и не объяснение, а выражение и поним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имание человеком мира осуществляется в языке и через язы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потому истина раскрывается через произведения искусства, тексты философии и исто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рменевтический круг: чтобы понять целое, следует понять его части, но для адекватного понимания частей необходимо понять смысл цел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зыковая среда в качестве традиции является одновременно и условием человеческого понимания и вместе с тем его предме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ысл герменевтики не в окончательных выводах, а в поддержании диалога с целью постижения «чудо понимани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B3246-4DBC-466A-A6CF-F518D6D1EE6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504d"/>
                </a:solidFill>
                <a:latin typeface="Calibri"/>
              </a:rPr>
              <a:t>Постмодернизм («постсовременность») обозначает ситуацию в культурном самосознании стран Запада, сложившуюся в конце ХХ столети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«постмодерна» стало употребляться в связи с работами Ж.Ф.Лиотара. Историческое становление связано с представителями  философского направления, связанным с анализом языка с Ф.де Соссюром, Л.Витгнештейном, М.Хайдеггером, М.Фук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рким представителем является Ж.Деррида, который ввел новый способ прочтения и осмысления текстов – деконструкц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поху постмодерна не существует объективной истины, все что было до этого определенным становится неопределенным и несостоятель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ые черты: пессимизм, отчаяние, недоверие к действительности, самокритичность созн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2107D-7054-4D53-94AA-179975C2BF3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504d"/>
                </a:solidFill>
                <a:latin typeface="Calibri"/>
              </a:rPr>
              <a:t>Литератур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ртран Р. История западной философии. Введ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дамер Х.Г. Истина и метод. М.: Прогресс, 1988. 699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жеймс У. Поток созн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льтей В. Сущность философии. М.: Интрада, 2001. 159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ьин В.П. Как концепция «духа времени» конца ХХ 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мю А. Абсурдное рассуж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напп Р., О.Нейрат. Научное миропоним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цше Ф. Так говорил Заратустра. Соч. в 2-х т. Т.2. С.5-17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пер К. Нищета историц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ртр Ж.П. Экзистенциализм – это гуманиз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деггер М. Время и быт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деггер М. Письмо о гуманиз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ейд З. Введение в психоанализ: Лекции. М.: Наука, 1989. 456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опенгауэр А. Афориз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сперс К. Схема мировой исто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7143C-3A29-4A12-A4F2-81B5B2E2665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504d"/>
                </a:solidFill>
                <a:latin typeface="Calibri"/>
              </a:rPr>
              <a:t>Западная философия второй половины </a:t>
            </a:r>
            <a:r>
              <a:rPr b="0" lang="en-US" sz="1400" spc="-1" strike="noStrike">
                <a:solidFill>
                  <a:srgbClr val="c0504d"/>
                </a:solidFill>
                <a:latin typeface="Calibri"/>
              </a:rPr>
              <a:t>XIX</a:t>
            </a:r>
            <a:r>
              <a:rPr b="0" lang="ru-RU" sz="1400" spc="-1" strike="noStrike">
                <a:solidFill>
                  <a:srgbClr val="c0504d"/>
                </a:solidFill>
                <a:latin typeface="Calibri"/>
              </a:rPr>
              <a:t>-</a:t>
            </a:r>
            <a:r>
              <a:rPr b="0" lang="en-US" sz="1400" spc="-1" strike="noStrike">
                <a:solidFill>
                  <a:srgbClr val="c0504d"/>
                </a:solidFill>
                <a:latin typeface="Calibri"/>
              </a:rPr>
              <a:t>XX</a:t>
            </a:r>
            <a:r>
              <a:rPr b="0" lang="ru-RU" sz="1400" spc="-1" strike="noStrike">
                <a:solidFill>
                  <a:srgbClr val="c0504d"/>
                </a:solidFill>
                <a:latin typeface="Calibri"/>
              </a:rPr>
              <a:t>в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Характерные чер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юрализм в философском мышлен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новение двух противоположных школ: сциентизм и антисциентиз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лерантность современной философ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гративность как утверждение принципов синергетики, математизации, универсального эволюционизма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ропоцентризм и гуманизм, т.е. направленность к челове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1F85F-9F5F-42AB-9015-4A5631B149D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504d"/>
                </a:solidFill>
                <a:latin typeface="Calibri"/>
              </a:rPr>
              <a:t>Основные направления философии </a:t>
            </a:r>
            <a:br>
              <a:rPr sz="1600"/>
            </a:br>
            <a:r>
              <a:rPr b="0" lang="en-US" sz="1600" spc="-1" strike="noStrike">
                <a:solidFill>
                  <a:srgbClr val="c0504d"/>
                </a:solidFill>
                <a:latin typeface="Calibri"/>
              </a:rPr>
              <a:t>XIX</a:t>
            </a:r>
            <a:r>
              <a:rPr b="0" lang="ru-RU" sz="1600" spc="-1" strike="noStrike">
                <a:solidFill>
                  <a:srgbClr val="c0504d"/>
                </a:solidFill>
                <a:latin typeface="Calibri"/>
              </a:rPr>
              <a:t>-</a:t>
            </a:r>
            <a:r>
              <a:rPr b="0" lang="en-US" sz="1600" spc="-1" strike="noStrike">
                <a:solidFill>
                  <a:srgbClr val="c0504d"/>
                </a:solidFill>
                <a:latin typeface="Calibri"/>
              </a:rPr>
              <a:t>XX</a:t>
            </a:r>
            <a:r>
              <a:rPr b="0" lang="ru-RU" sz="1600" spc="-1" strike="noStrike">
                <a:solidFill>
                  <a:srgbClr val="c0504d"/>
                </a:solidFill>
                <a:latin typeface="Calibri"/>
              </a:rPr>
              <a:t>в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ксистская философия: К.Маркс, Ф.Энгель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лассическая философия: А. Шопенгауэр, Ф.Ницше, В.Диль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лософия науки: позитивизм О.Конта; эмпириокритицизм; неопозитивизм; постпозитивиз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ериканский прагматизм: Дж.Дьюи, Ч.Пир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анализ: З.Фрейд, Э.Фромм, К.Г.Юнг, Адл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рменевтика: Ф.Шлегель, Ф.Шлейермахер, Г.Гадамер, П.Рик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томизм: Э.Жильсон, Ж.Маритен, К.Войтыла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зистенциализм: С.Кьеркегор, Л.Шестов, Н.А.Бердяев, М.Хайдеггер, К.Ясперс, Ж.П.Сартр, А.Кам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модернизм: Ж.Ф.Лиотар, Ж.Деррида, Ж.Бодрийар, Р.Рорти, Ж.Делез, Ф.Гваттар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572C3-5799-4A87-B40C-2A14932AB90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504d"/>
                </a:solidFill>
                <a:latin typeface="Calibri"/>
              </a:rPr>
              <a:t>Основателями философии марксизма стали Карл Маркс (1818-1883) и </a:t>
            </a:r>
            <a:br>
              <a:rPr sz="1800"/>
            </a:br>
            <a:r>
              <a:rPr b="0" lang="ru-RU" sz="1800" spc="-1" strike="noStrike">
                <a:solidFill>
                  <a:srgbClr val="c0504d"/>
                </a:solidFill>
                <a:latin typeface="Calibri"/>
              </a:rPr>
              <a:t>Фридрих Энгельс (1820-1895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труды К.Маркса: «Тезисы о Фейербахе», «Капитал», «Экономическо-философские рукописи 1844г.» и др. Ф.Энгельса: «Диалектика природы», «Анти-Дюринг», «роль труда в процессе превращения обезьяны в человека», «Происхождение семьи, частной собственности и государства» и др. Совместно: «Манифест коммунистической парти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етическими источниками стали: диалектика Гегеля, материализм Фейербаха, учения французских социалистических-утопис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ными частями являются: диалектический и исторический материализм, научный коммуниз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.Маркс разработал теорию об общественно-экономических формац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положениями экономической теории являются раскрытия способа производства при капитализме, процесс отчуждения труда от средств производства и от результатов труда, теория прибавочной стоим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A0DCA-5D8B-4A0E-8E47-202E5D18C3E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504d"/>
                </a:solidFill>
                <a:latin typeface="Calibri"/>
              </a:rPr>
              <a:t>Иррационализм Артура Шопенгауэра (1788-186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й труд: «Мир как воля и представлени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иковал Гегеля за его диалектику и историзм, призывал вернуться к Кан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ываясь на логическом законе достаточного основания, в качестве главного принципа жизни и познания рассматривает слепую волю, которая является сущностью всякой вещ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ружающий мир есть лишь мир представлений в сознании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 явлений и мир сущности являются соответственно миром представлений и миром во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учении о человеке заложил  основы пессим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685DB-0108-4E7C-A3BE-A90D5A782C3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504d"/>
                </a:solidFill>
                <a:latin typeface="Calibri"/>
              </a:rPr>
              <a:t>Философия жизни Фридриха Ницше (1844-190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труды: «Так говорил Заратустра», «По сторону добра и зла» ; «Веселая нау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ется предшественником ряда западных концепция, в основе философии которых лежат проблемы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л понятия «воля к жизни», «воля к власти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ние о сверхчеловеке основано на отрицании христианских ценностей, провозглашении смерти Бо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ерхчеловек – это человек будущего, поставивший себя на место Бога, у него врожденная аристократичность, благородство и доброжелательность по отношению к равным себе и превосходство и презрение к «серой масс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E12D6-0DB9-4161-BEA1-A68CDBD8464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Философия науки – направление в философии, изучающее характеристики и особенности науч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итивизм (О.Конт) – считали, что научной ценностью обладают только такое познание, которое опирается на опыт, и только эмпирически путем полученные знания могут представить интерес для науки; Эмпиризм выступает основным критерием демаркации между метафизикой и нау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мпириокритицизм (Э.Мах и Р.Авенариус) – считали, что философия должна стать интегративной наукой, имеющей всеобщий язы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позитивизм (Р.Карнап, О.Нейрат, Б.Рассел Л.Витгенштейн) – философия должна заниматься логическим анализом языка науки, основным принцип – принцип верифик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позитивизм (К.Поппер, Т.Кун) – исследование развития науки, основной принцип – принцип фальсифик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836F6-5257-4424-BC7B-1C06B7A0261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504d"/>
                </a:solidFill>
                <a:latin typeface="Calibri"/>
              </a:rPr>
              <a:t>Психоанализ Зигмунда Фрейда </a:t>
            </a:r>
            <a:br>
              <a:rPr sz="1400"/>
            </a:br>
            <a:r>
              <a:rPr b="0" lang="ru-RU" sz="1400" spc="-1" strike="noStrike">
                <a:solidFill>
                  <a:srgbClr val="c0504d"/>
                </a:solidFill>
                <a:latin typeface="Calibri"/>
              </a:rPr>
              <a:t>(1856-1939) представлял собой метод лечения психических заболеваний и теорию, объясняющую роль бессознательных явлений и процессов в жизни человек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труды: «Тотем и табу», «По ту сторону принципа удовольствия», «Сны и сновидения», «Я и Оно»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наружил огромную роль бессознательного в поведении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ика человека имеет сложную структуру, включающую сознание (Сверх-Я), подсознание (Я) и бессознательное (Оно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ссознательное – эта сфера инстинктов, где проявляются сексуальные влечения (либидо). Выделяет 3 комплекса: Эдипа, Электры, Нарци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я культура есть результат субли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ал учение об Эросе и Танатосе. Жизнь человека – постоянное взаимодействие Эроса и Танат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C56B7-62EA-45CE-B504-287B3260F5F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CBE3-D567-4E91-B371-261207794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9D9E-5791-4000-9E8E-29FB9EEEE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11C9-4933-467E-95E7-90EB9D1C9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89D3-CEC2-422D-BEC3-263E10DB7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5BBF-9182-49D7-BBD0-AFB2701D8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01B7-3D35-408D-9965-1600D6EF9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A972-0B5A-4227-904D-056CDC6DD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8E89-B596-48F6-919B-DF3624F1D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DF38-F844-4BCF-9B4E-4E01509A5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D5A2-1A84-451D-9B09-DE0CF861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F6DB-8AAF-44A4-BB4E-BE408B35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D3E9-3CB6-4A8B-B5C3-FC14D138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8FFAE-8602-42F8-96AC-413D4C7CB20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&#1087;&#1077;&#1088;&#1074;&#1086;&#1080;&#1089;&#1090;&#1086;&#1095;&#1085;&#1080;&#1082;&#1080;/&#1056;&#1040;&#1057;&#1057;&#1045;&#1051;.%20&#1060;&#1080;&#1083;&#1086;&#1089;&#1086;&#1092;&#1080;&#1103;.doc" TargetMode="External"/><Relationship Id="rId2" Type="http://schemas.openxmlformats.org/officeDocument/2006/relationships/hyperlink" Target="file:///&#1087;&#1077;&#1088;&#1074;&#1086;&#1080;&#1089;&#1090;&#1086;&#1095;&#1085;&#1080;&#1082;&#1080;/&#1044;&#1078;&#1077;&#1081;&#1084;&#1089;.doc" TargetMode="External"/><Relationship Id="rId3" Type="http://schemas.openxmlformats.org/officeDocument/2006/relationships/hyperlink" Target="file:///&#1087;&#1077;&#1088;&#1074;&#1086;&#1080;&#1089;&#1090;&#1086;&#1095;&#1085;&#1080;&#1082;&#1080;/&#1048;&#1083;&#1100;&#1080;&#1085;.%20&#1055;&#1086;&#1089;&#1090;&#1084;&#1086;&#1076;&#1077;&#1088;&#1085;&#1080;&#1079;&#1084;.doc" TargetMode="External"/><Relationship Id="rId4" Type="http://schemas.openxmlformats.org/officeDocument/2006/relationships/hyperlink" Target="file:///&#1087;&#1077;&#1088;&#1074;&#1086;&#1080;&#1089;&#1090;&#1086;&#1095;&#1085;&#1080;&#1082;&#1080;/&#1050;&#1072;&#1084;&#1102;.doc" TargetMode="External"/><Relationship Id="rId5" Type="http://schemas.openxmlformats.org/officeDocument/2006/relationships/hyperlink" Target="file:///&#1087;&#1077;&#1088;&#1074;&#1086;&#1080;&#1089;&#1090;&#1086;&#1095;&#1085;&#1080;&#1082;&#1080;/&#1050;&#1040;&#1056;&#1053;&#1040;&#1055;&#1055;%20&#1056;&#1091;&#1076;&#1086;&#1083;&#1100;&#1092;.doc" TargetMode="External"/><Relationship Id="rId6" Type="http://schemas.openxmlformats.org/officeDocument/2006/relationships/hyperlink" Target="file:///&#1087;&#1077;&#1088;&#1074;&#1086;&#1080;&#1089;&#1090;&#1086;&#1095;&#1085;&#1080;&#1082;&#1080;/&#1055;&#1054;&#1055;&#1055;&#1045;&#1056;%20&#1050;&#1072;&#1088;&#1083;.doc" TargetMode="External"/><Relationship Id="rId7" Type="http://schemas.openxmlformats.org/officeDocument/2006/relationships/hyperlink" Target="file:///&#1087;&#1077;&#1088;&#1074;&#1086;&#1080;&#1089;&#1090;&#1086;&#1095;&#1085;&#1080;&#1082;&#1080;/&#1057;&#1040;&#1056;&#1058;&#1056;.doc" TargetMode="External"/><Relationship Id="rId8" Type="http://schemas.openxmlformats.org/officeDocument/2006/relationships/hyperlink" Target="file:///&#1087;&#1077;&#1088;&#1074;&#1086;&#1080;&#1089;&#1090;&#1086;&#1095;&#1085;&#1080;&#1082;&#1080;/&#1061;&#1040;&#1049;&#1044;&#1045;&#1043;&#1043;&#1045;&#1056;.%20&#1042;&#1088;&#1077;&#1084;&#1103;%20&#1080;%20&#1073;&#1099;&#1090;&#1080;&#1077;.doc" TargetMode="External"/><Relationship Id="rId9" Type="http://schemas.openxmlformats.org/officeDocument/2006/relationships/hyperlink" Target="file:///&#1087;&#1077;&#1088;&#1074;&#1086;&#1080;&#1089;&#1090;&#1086;&#1095;&#1085;&#1080;&#1082;&#1080;/&#1061;&#1040;&#1049;&#1044;&#1045;&#1043;&#1043;&#1045;&#1056;.%20&#1055;&#1080;&#1089;&#1100;&#1084;&#1086;%20&#1086;%20&#1075;&#1091;&#1084;&#1072;&#1085;&#1080;&#1079;&#1084;&#1077;.doc" TargetMode="External"/><Relationship Id="rId10" Type="http://schemas.openxmlformats.org/officeDocument/2006/relationships/hyperlink" Target="file:///&#1087;&#1077;&#1088;&#1074;&#1086;&#1080;&#1089;&#1090;&#1086;&#1095;&#1085;&#1080;&#1082;&#1080;/&#1064;&#1054;&#1055;&#1045;&#1053;&#1043;&#1040;&#1059;&#1069;&#1056;.%20&#1040;&#1092;&#1086;&#1088;&#1080;&#1079;&#1084;&#1099;.doc" TargetMode="External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Тема 8. Философия Новейшего времени и современност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арактерные черты и основные направления философии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I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рксистская философ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классическая философия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I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ве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илософия нау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новные направления философии современ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685800" y="228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Экзистенциализм или философия существования характеризуется антисциентистской направленностью и ориентирована на проблемы, связанные с человеком, смыслом его бытия в современном мир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0" y="1905120"/>
            <a:ext cx="9144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ерен Кьеркегор считал, что философия должна повернуться к человеку, его проблемам. Он выделил неподлинное и подлинное существование человека, а также три стадии восхождения к подлинному существованию: эстетическую, этическую, религиозну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 Ясперсу, человек обычно живет «заброшенной» жизнью, но в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ограничных ситуация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скрытые качества выходят наружу. Он осознает себя через «шифры» трансцендентального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ными понятиями философии Сартра становятся: «для-себя-бытие», «свобода», «выбор», «ответственность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Жизнь человека – абсурд», - считает Камю. Смысл жизни в самом существовании челове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айдеггер исследует «бытие человека в мире», которая состоит из «бытия с другими» и «бытия самого себя»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Экзистенциализм Мартина Хайдеггера (1889-1976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0" y="1905120"/>
            <a:ext cx="5486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ные труды: «Бытие и время», «Время и бытие», «Письмо о гуманизме», «Разговор на проселочной дороге» и д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редством описания и толкования бытия являются экзистенциалы – эмоционально окрашенные понят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еловеческое бытие –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sei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всегда эмоционально. Переживание «бытия-к-смерти» приводят к страху и тревог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ложил начало онтологическому направлению в рамках герменевтики. Герменевтика – онтология понима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зык – это «дом бытия» и именно язык определяет судьбу быт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4" descr="F:\изображения философов.files\image064.jpg"/>
          <p:cNvPicPr/>
          <p:nvPr/>
        </p:nvPicPr>
        <p:blipFill>
          <a:blip r:embed="rId1"/>
          <a:stretch/>
        </p:blipFill>
        <p:spPr>
          <a:xfrm>
            <a:off x="5562720" y="2209680"/>
            <a:ext cx="3352680" cy="348480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Герменевтика (от греч.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ermeneutikos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–разъясняющий, истолковывающий)  означает теорию и практику истолкования текстов, языковых выражений и символов; философское направление, исследующее проблему понимания и связанные с ней вопросы язы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-360" y="205704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сновы были заложены Ф.Шлейермахером как искусство понимания индивидуальности другого автора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едметом герменевтики является не содержание и не объяснение, а выражение и понимание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нимание человеком мира осуществляется в языке и через язык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 потому истина раскрывается через произведения искусства, тексты философии и истори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Герменевтический круг: чтобы понять целое, следует понять его части, но для адекватного понимания частей необходимо понять смысл целого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Языковая среда в качестве традиции является одновременно и условием человеческого понимания и вместе с тем его предметом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мысл герменевтики не в окончательных выводах, а в поддержании диалога с целью постижения «чудо понимания»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Постмодернизм («постсовременность») обозначает ситуацию в культурном самосознании стран Запада, сложившуюся в конце ХХ столет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нятие «постмодерна» стало употребляться в связи с работами Ж.Ф.Лиотара. Историческое становление связано с представителями  философского направления, связанным с анализом языка с Ф.де Соссюром, Л.Витгнештейном, М.Хайдеггером, М.Фук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рким представителем является Ж.Деррида, который ввел новый способ прочтения и осмысления текстов – деконструкци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эпоху постмодерна не существует объективной истины, все что было до этого определенным становится неопределенным и несостоятельны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арактерные черты: пессимизм, отчаяние, недоверие к действительности, самокритичность созна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Литература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ертран Р.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История западной философии. Введение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адамер Х.Г. Истина и метод. М.: Прогресс, 1988. 699с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жеймс У.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Поток созна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ильтей В. Сущность философии. М.: Интрада, 2001. 159с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льин В.П.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Как концепция «духа времени» конца ХХ ве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мю А.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Абсурдное рассуждени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рнапп Р., О.Нейрат.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Научное миропонимани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ицше Ф. Так говорил Заратустра. Соч. в 2-х т. Т.2. С.5-17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ппер К.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Нищета историцизм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артр Ж.П.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Экзистенциализм – это гуманиз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айдеггер М.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Время и быти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айдеггер М.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Письмо о гуманизм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рейд З. Введение в психоанализ: Лекции. М.: Наука, 1989. 456с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Шопенгауэр А.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Афоризм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сперс К. Схема мировой истор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Западная философия второй половины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IX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X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в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Характерные черт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люрализм в философском мышлени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зникновение двух противоположных школ: сциентизм и антисциентизм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олерантность современной философи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тегративность как утверждение принципов синергетики, математизации, универсального эволюционизма и д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нтропоцентризм и гуманизм, т.е. направленность к человек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Основные направления философии 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IX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X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в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рксистская философия: К.Маркс, Ф.Энгель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классическая философия: А. Шопенгауэр, Ф.Ницше, В.Дильт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илософия науки: позитивизм О.Конта; эмпириокритицизм; неопозитивизм; постпозитивиз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мериканский прагматизм: Дж.Дьюи, Ч.Пир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сихоанализ: З.Фрейд, Э.Фромм, К.Г.Юнг, Адле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ерменевтика: Ф.Шлегель, Ф.Шлейермахер, Г.Гадамер, П.Рике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отомизм: Э.Жильсон, Ж.Маритен, К.Войтыла и д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кзистенциализм: С.Кьеркегор, Л.Шестов, Н.А.Бердяев, М.Хайдеггер, К.Ясперс, Ж.П.Сартр, А.Кам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тмодернизм: Ж.Ф.Лиотар, Ж.Деррида, Ж.Бодрийар, Р.Рорти, Ж.Делез, Ф.Гваттар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Основателями философии марксизма стали Карл Маркс (1818-1883) и </a:t>
            </a:r>
            <a:br>
              <a:rPr sz="3200"/>
            </a:b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Фридрих Энгельс (1820-1895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ные труды К.Маркса: «Тезисы о Фейербахе», «Капитал», «Экономическо-философские рукописи 1844г.» и др. Ф.Энгельса: «Диалектика природы», «Анти-Дюринг», «роль труда в процессе превращения обезьяны в человека», «Происхождение семьи, частной собственности и государства» и др. Совместно: «Манифест коммунистической партии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оретическими источниками стали: диалектика Гегеля, материализм Фейербаха, учения французских социалистических-утопист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ставными частями являются: диалектический и исторический материализм, научный коммуниз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.Маркс разработал теорию об общественно-экономических формация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ными положениями экономической теории являются раскрытия способа производства при капитализме, процесс отчуждения труда от средств производства и от результатов труда, теория прибавочной стоимост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Иррационализм Артура Шопенгауэра (1788-1860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657600" y="198108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ной труд: «Мир как воля и представление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ритиковал Гегеля за его диалектику и историзм, призывал вернуться к Кант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ываясь на логическом законе достаточного основания, в качестве главного принципа жизни и познания рассматривает слепую волю, которая является сущностью всякой вещ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кружающий мир есть лишь мир представлений в сознании человек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ир явлений и мир сущности являются соответственно миром представлений и миром вол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учении о человеке заложил  основы пессимизм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5" descr="F:\изображения философов.files\image062.jpg"/>
          <p:cNvPicPr/>
          <p:nvPr/>
        </p:nvPicPr>
        <p:blipFill>
          <a:blip r:embed="rId1"/>
          <a:stretch/>
        </p:blipFill>
        <p:spPr>
          <a:xfrm>
            <a:off x="228600" y="1981080"/>
            <a:ext cx="3048120" cy="411480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Философия жизни Фридриха Ницше (1844-1900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5562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ные труды: «Так говорил Заратустра», «По сторону добра и зла» ; «Веселая нау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вляется предшественником ряда западных концепция, в основе философии которых лежат проблемы челове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вел понятия «воля к жизни», «воля к власти»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ение о сверхчеловеке основано на отрицании христианских ценностей, провозглашении смерти Бог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ерхчеловек – это человек будущего, поставивший себя на место Бога, у него врожденная аристократичность, благородство и доброжелательность по отношению к равным себе и превосходство и презрение к «серой массе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5" descr="F:\изображения философов.files\image061.jpg"/>
          <p:cNvPicPr/>
          <p:nvPr/>
        </p:nvPicPr>
        <p:blipFill>
          <a:blip r:embed="rId1"/>
          <a:stretch/>
        </p:blipFill>
        <p:spPr>
          <a:xfrm>
            <a:off x="6095880" y="1981080"/>
            <a:ext cx="2698920" cy="411480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Философия науки – направление в философии, изучающее характеристики и особенности научной деятельн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0" y="1676520"/>
            <a:ext cx="8915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зитивизм (О.Конт) – считали, что научной ценностью обладают только такое познание, которое опирается на опыт, и только эмпирически путем полученные знания могут представить интерес для науки; Эмпиризм выступает основным критерием демаркации между метафизикой и нау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мпириокритицизм (Э.Мах и Р.Авенариус) – считали, что философия должна стать интегративной наукой, имеющей всеобщий язы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опозитивизм (Р.Карнап, О.Нейрат, Б.Рассел Л.Витгенштейн) – философия должна заниматься логическим анализом языка науки, основным принцип – принцип верифика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тпозитивизм (К.Поппер, Т.Кун) – исследование развития науки, основной принцип – принцип фальсификаци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Психоанализ Зигмунда Фрейда </a:t>
            </a:r>
            <a:br>
              <a:rPr sz="2400"/>
            </a:b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(1856-1939) представлял собой метод лечения психических заболеваний и теорию, объясняющую роль бессознательных явлений и процессов в жизни челове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29000" y="1828800"/>
            <a:ext cx="5486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ные труды: «Тотем и табу», «По ту сторону принципа удовольствия», «Сны и сновидения», «Я и Оно» и д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наружил огромную роль бессознательного в поведении человек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сихика человека имеет сложную структуру, включающую сознание (Сверх-Я), подсознание (Я) и бессознательное (Оно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ессознательное – эта сфера инстинктов, где проявляются сексуальные влечения (либидо). Выделяет 3 комплекса: Эдипа, Электры, Нарцисс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ся культура есть результат сублимац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работал учение об Эросе и Танатосе. Жизнь человека – постоянное взаимодействие Эроса и Танатос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5" descr="F:\изображения философов.files\image073.jpg"/>
          <p:cNvPicPr/>
          <p:nvPr/>
        </p:nvPicPr>
        <p:blipFill>
          <a:blip r:embed="rId1"/>
          <a:stretch/>
        </p:blipFill>
        <p:spPr>
          <a:xfrm>
            <a:off x="228600" y="1981080"/>
            <a:ext cx="3124080" cy="4114800"/>
          </a:xfrm>
          <a:prstGeom prst="rect">
            <a:avLst/>
          </a:prstGeom>
          <a:ln w="0">
            <a:noFill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9T05:10:54Z</dcterms:created>
  <dc:creator>Pussicat</dc:creator>
  <dc:description/>
  <dc:language>en-US</dc:language>
  <cp:lastModifiedBy>LEGION</cp:lastModifiedBy>
  <dcterms:modified xsi:type="dcterms:W3CDTF">2014-11-11T07:55:44Z</dcterms:modified>
  <cp:revision>9</cp:revision>
  <dc:subject/>
  <dc:title>Тема 8. Философия Новейшего времени и современности</dc:title>
</cp:coreProperties>
</file>