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B0FE-744C-4039-8169-D6C49B7345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Тема 8. Философия Новейшего времени и соврем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и основные направления философ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философии сов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C961-C90D-4EA5-AD3D-1C7C7107A2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Ясперсу, человек обычно живет «заброшенной» жизнью, но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граничных ситуац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рытые качества выходят наружу. Он осознает себя через «шифры» трансцендент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изнь человека – абсурд», - считает Камю. Смысл жизни в самом существовани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E0C9-B0D2-405C-A3EC-9A679D9426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Мартина Хайдеггера (1889-19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ое быт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e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сегда эмоционально. Переживание «бытия-к-смерти» приводят к страху и трев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– это «дом бытия» и именно язык определяет судьбу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45EA-35DC-4162-BE0C-9FA30D2F40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рменевтика (от греч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Germeneutikos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человеком мира осуществляется в языке и через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CA02-441B-4A00-83F0-8626D3E09D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665-1ADB-4BB4-BEAF-BAFB6D12AE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ран Р. История западной философии. 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дамер Х.Г. Истина и метод. М.: Прогресс, 1988. 69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. Поток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льтей В. Сущность философии. М.: Интрада, 2001. 15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В.П. Как концепция «духа времени» конца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ю А. Абсурдное расс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напп Р., О.Нейрат. Научное миро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ше Ф. Так говорил Заратустра. Соч. в 2-х т. Т.2. С.5-1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тр Ж.П. Экзистенциализм – это гум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Время и бы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Письмо о гум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йд З. Введение в психоанализ: Лекции. М.: Наука, 1989. 45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пенгауэр А. Афор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679F-FE1F-487C-9843-9C78549D36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Западная философия второй половины 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юрализм в философском мыш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двух противоположных школ: сциентизм и антисциент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ерантность современной филосо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зм и гуманизм, т.е. направленность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90F4-36DB-4863-A9F4-870F4A15A8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сновные направления философии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: К.Маркс, Ф.Энгель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: А. Шопенгауэр, Ф.Ницше, В.Диль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: позитивизм О.Конта; эмпириокритицизм; неопозитивизм; постпозитив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прагматизм: Дж.Дьюи, Ч.Пи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анализ: З.Фрейд, Э.Фромм, К.Г.Юнг, Адл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ка: Ф.Шлегель, Ф.Шлейермахер, Г.Гадамер, П.Рик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омизм: Э.Жильсон, Ж.Маритен, К.Войтыл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модернизм: Ж.Ф.Лиотар, Ж.Деррида, Ж.Бодрийар, Р.Рорти, Ж.Делез, Ф.Гватта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30F1-9EBA-4528-90A1-8A2626994B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Основателями философии марксизма стали Карл Маркс (1818-1883) и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ридрих Энгельс (1820-189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Маркс разработал теорию об общественно-экономических форм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8FFB-2C5A-406A-9EB9-B2ECE50267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ррационализм Артура Шопенгауэра (1788-18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Мир как воля и представл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овал Гегеля за его диалектику и историзм, призывал вернуться к Ка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есть лишь мир представлений в созна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явлений и мир сущности являются соответственно миром представлений и миром 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нии о человеке заложил  основы пессим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5A10-19EF-46C6-A3D8-9A5EF15B53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Философия жизни Фридриха Ницше (1844-19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ак говорил Заратустра», «По сторону добра и зла» ; «Весел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я «воля к жизни», «воля к власт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CBB7-D9CF-41B8-BB90-14FA36337E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9AAB-6192-4D5A-B03F-5924EF3A70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сихоанализ Зигмунда Фрейда </a:t>
            </a:r>
            <a:br>
              <a:rPr sz="1400"/>
            </a:b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ил огромную роль бессознательного в поведе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ультура есть результат субли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CAC8-63CB-4B3E-B7FA-2F426D6123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88A-8B9B-4106-93F2-0B23AC4A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EBD-C0CA-4205-A401-0E027408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801-232E-4A66-8CDC-B8E03F8D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1EB-C5E1-45A0-BD9A-3C4EC815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54E-6AB3-43BA-BDBA-C049B64F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3D3-D559-40CE-9770-14DD89B3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0E8-89F0-4C3A-8BFE-067E35BA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0EA-2EA0-49E0-9CDE-A1FE456C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757-070A-4222-BA85-DDA7F957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F51-9CBB-4BAD-9EE9-FA7D2A67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5E9-9059-47B6-965A-214AE0BD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369-6D3D-4E8D-8721-B65E3E66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501F-B611-45D8-9DA4-1FFA5D0D0A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4;&#1086;&#1080;&#1089;&#1090;&#1086;&#1095;&#1085;&#1080;&#1082;&#1080;/&#1056;&#1040;&#1057;&#1057;&#1045;&#1051;.%20&#1060;&#1080;&#1083;&#1086;&#1089;&#1086;&#1092;&#1080;&#1103;.doc" TargetMode="External"/><Relationship Id="rId2" Type="http://schemas.openxmlformats.org/officeDocument/2006/relationships/hyperlink" Target="file:///&#1087;&#1077;&#1088;&#1074;&#1086;&#1080;&#1089;&#1090;&#1086;&#1095;&#1085;&#1080;&#1082;&#1080;/&#1044;&#1078;&#1077;&#1081;&#1084;&#1089;.doc" TargetMode="External"/><Relationship Id="rId3" Type="http://schemas.openxmlformats.org/officeDocument/2006/relationships/hyperlink" Target="file:///&#1087;&#1077;&#1088;&#1074;&#1086;&#1080;&#1089;&#1090;&#1086;&#1095;&#1085;&#1080;&#1082;&#1080;/&#1048;&#1083;&#1100;&#1080;&#1085;.%20&#1055;&#1086;&#1089;&#1090;&#1084;&#1086;&#1076;&#1077;&#1088;&#1085;&#1080;&#1079;&#1084;.doc" TargetMode="External"/><Relationship Id="rId4" Type="http://schemas.openxmlformats.org/officeDocument/2006/relationships/hyperlink" Target="file:///&#1087;&#1077;&#1088;&#1074;&#1086;&#1080;&#1089;&#1090;&#1086;&#1095;&#1085;&#1080;&#1082;&#1080;/&#1050;&#1072;&#1084;&#1102;.doc" TargetMode="External"/><Relationship Id="rId5" Type="http://schemas.openxmlformats.org/officeDocument/2006/relationships/hyperlink" Target="file:///&#1087;&#1077;&#1088;&#1074;&#1086;&#1080;&#1089;&#1090;&#1086;&#1095;&#1085;&#1080;&#1082;&#1080;/&#1050;&#1040;&#1056;&#1053;&#1040;&#1055;&#1055;%20&#1056;&#1091;&#1076;&#1086;&#1083;&#1100;&#1092;.doc" TargetMode="External"/><Relationship Id="rId6" Type="http://schemas.openxmlformats.org/officeDocument/2006/relationships/hyperlink" Target="file:///&#1087;&#1077;&#1088;&#1074;&#1086;&#1080;&#1089;&#1090;&#1086;&#1095;&#1085;&#1080;&#1082;&#1080;/&#1055;&#1054;&#1055;&#1055;&#1045;&#1056;%20&#1050;&#1072;&#1088;&#1083;.doc" TargetMode="External"/><Relationship Id="rId7" Type="http://schemas.openxmlformats.org/officeDocument/2006/relationships/hyperlink" Target="file:///&#1087;&#1077;&#1088;&#1074;&#1086;&#1080;&#1089;&#1090;&#1086;&#1095;&#1085;&#1080;&#1082;&#1080;/&#1057;&#1040;&#1056;&#1058;&#1056;.doc" TargetMode="External"/><Relationship Id="rId8" Type="http://schemas.openxmlformats.org/officeDocument/2006/relationships/hyperlink" Target="file:///&#1087;&#1077;&#1088;&#1074;&#1086;&#1080;&#1089;&#1090;&#1086;&#1095;&#1085;&#1080;&#1082;&#1080;/&#1061;&#1040;&#1049;&#1044;&#1045;&#1043;&#1043;&#1045;&#1056;.%20&#1042;&#1088;&#1077;&#1084;&#1103;%20&#1080;%20&#1073;&#1099;&#1090;&#1080;&#1077;.doc" TargetMode="External"/><Relationship Id="rId9" Type="http://schemas.openxmlformats.org/officeDocument/2006/relationships/hyperlink" Target="file:///&#1087;&#1077;&#1088;&#1074;&#1086;&#1080;&#1089;&#1090;&#1086;&#1095;&#1085;&#1080;&#1082;&#1080;/&#1061;&#1040;&#1049;&#1044;&#1045;&#1043;&#1043;&#1045;&#1056;.%20&#1055;&#1080;&#1089;&#1100;&#1084;&#1086;%20&#1086;%20&#1075;&#1091;&#1084;&#1072;&#1085;&#1080;&#1079;&#1084;&#1077;.doc" TargetMode="External"/><Relationship Id="rId10" Type="http://schemas.openxmlformats.org/officeDocument/2006/relationships/hyperlink" Target="file:///&#1087;&#1077;&#1088;&#1074;&#1086;&#1080;&#1089;&#1090;&#1086;&#1095;&#1085;&#1080;&#1082;&#1080;/&#1064;&#1054;&#1055;&#1045;&#1053;&#1043;&#1040;&#1059;&#1069;&#1056;.%20&#1040;&#1092;&#1086;&#1088;&#1080;&#1079;&#1084;&#1099;.doc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Тема 8. Философия Новейшего времени и сов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и основные направления философ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систская филосо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ия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 философии соврем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Ясперсу, человек обычно живет «заброшенной» жизнью, но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гранич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рытые качества выходят наружу. Он осознает себя через «шифры» трансценденталь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изнь человека – абсурд», - считает Камю. Смысл жизни в самом существовани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Экзистенциализм Мартина Хайдеггера (1889-197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90512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ое бытие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e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сегда эмоционально. Переживание «бытия-к-смерти» приводят к страху и тревог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– это «дом бытия» и именно язык определяет судьбу бы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:\изображения философов.files\image064.jpg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3484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Герменевтика (от греч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rmeneutiko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нимание человеком мира осуществляется в языке и через язы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тран Р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стория западной философии. Введ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дамер Х.Г. Истина и метод. М.: Прогресс, 1988. 69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еймс У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оток с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льтей В. Сущность философии. М.: Интрада, 2001. 15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ьин В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Как концепция «духа времени» конца ХХ 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ю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Абсурдное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напп Р., О.Нейрат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Научное миро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цше Ф. Так говорил Заратустра. Соч. в 2-х т. Т.2. С.5-1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пер К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Нищета историц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тр Ж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Экзистенциализм – это гум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Время и бы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Письмо о гум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ейд З. Введение в психоанализ: Лекции. М.: Наука, 1989. 456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опенгауэр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Афо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падная философия второй половины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рализм в философском мыш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двух противоположных школ: сциентизм и антисциен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 современной философ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центризм и гуманизм, т.е. направленность к челов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ные направления философии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систская философия: К.Маркс, Ф.Энгель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: А. Шопенгауэр, Ф.Ницше, В.Диль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ия науки: позитивизм О.Конта; эмпириокритицизм; неопозитивизм; постпозитивиз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прагматизм: Дж.Дьюи, Ч.Пир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анализ: З.Фрейд, Э.Фромм, К.Г.Юнг, Адл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еневтика: Ф.Шлегель, Ф.Шлейермахер, Г.Гадамер, П.Рик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томизм: Э.Жильсон, Ж.Маритен, К.Войтыл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зм: Ж.Ф.Лиотар, Ж.Деррида, Ж.Бодрийар, Р.Рорти, Ж.Делез, Ф.Гватта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ателями философии марксизма стали Карл Маркс (1818-1883) и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Фридрих Энгельс (1820-189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Маркс разработал теорию об общественно-экономических форма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Иррационализм Артура Шопенгауэра (1788-18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й труд: «Мир как воля и представле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ковал Гегеля за его диалектику и историзм, призывал вернуться к Кан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жающий мир есть лишь мир представлений в созна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 явлений и мир сущности являются соответственно миром представлений и миром во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чении о человеке заложил  основы пессим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F:\изображения философов.files\image062.jpg"/>
          <p:cNvPicPr/>
          <p:nvPr/>
        </p:nvPicPr>
        <p:blipFill>
          <a:blip r:embed="rId1"/>
          <a:stretch/>
        </p:blipFill>
        <p:spPr>
          <a:xfrm>
            <a:off x="228600" y="198108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Философия жизни Фридриха Ницше (1844-19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562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ак говорил Заратустра», «По сторону добра и зла» ; «Веселая на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л понятия «воля к жизни», «воля к власт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F:\изображения философов.files\image061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9892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6765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сихоанализ Зигмунда Фрейда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ил огромную роль бессознательного в поведе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культура есть результат субли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F:\изображения философов.files\image073.jpg"/>
          <p:cNvPicPr/>
          <p:nvPr/>
        </p:nvPicPr>
        <p:blipFill>
          <a:blip r:embed="rId1"/>
          <a:stretch/>
        </p:blipFill>
        <p:spPr>
          <a:xfrm>
            <a:off x="228600" y="19810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5:10:54Z</dcterms:created>
  <dc:creator>Pussicat</dc:creator>
  <dc:description/>
  <dc:language>en-US</dc:language>
  <cp:lastModifiedBy>LEGION</cp:lastModifiedBy>
  <dcterms:modified xsi:type="dcterms:W3CDTF">2014-11-11T07:55:44Z</dcterms:modified>
  <cp:revision>9</cp:revision>
  <dc:subject/>
  <dc:title>Тема 8. Философия Новейшего времени и современности</dc:title>
</cp:coreProperties>
</file>