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7D19-A2A3-44FA-8382-7E5162495921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_&#1074;&#1077;&#1082;" TargetMode="External"/><Relationship Id="rId2" Type="http://schemas.openxmlformats.org/officeDocument/2006/relationships/hyperlink" Target="http://ru.wikipedia.org/wiki/&#1057;&#1086;&#1092;&#1080;&#1081;&#1089;&#1082;&#1080;&#1081;_&#1089;&#1086;&#1073;&#1086;&#1088;" TargetMode="External"/><Relationship Id="rId3" Type="http://schemas.openxmlformats.org/officeDocument/2006/relationships/hyperlink" Target="http://ru.wikipedia.org/wiki/&#1050;&#1080;&#1077;&#1074;" TargetMode="External"/><Relationship Id="rId4" Type="http://schemas.openxmlformats.org/officeDocument/2006/relationships/hyperlink" Target="http://ru.wikipedia.org/wiki/1037_&#1075;&#1086;&#1076;" TargetMode="External"/><Relationship Id="rId5" Type="http://schemas.openxmlformats.org/officeDocument/2006/relationships/slide" Target="../slides/slide11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article053046.html/" TargetMode="External"/><Relationship Id="rId2" Type="http://schemas.openxmlformats.org/officeDocument/2006/relationships/hyperlink" Target="http://article030548.html/" TargetMode="External"/><Relationship Id="rId3" Type="http://schemas.openxmlformats.org/officeDocument/2006/relationships/hyperlink" Target="http://article013028.html/" TargetMode="External"/><Relationship Id="rId4" Type="http://schemas.openxmlformats.org/officeDocument/2006/relationships/hyperlink" Target="http://article076468.html/" TargetMode="External"/><Relationship Id="rId5" Type="http://schemas.openxmlformats.org/officeDocument/2006/relationships/slide" Target="../slides/slide5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ZmEy-yeqdM" TargetMode="External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2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3" Type="http://schemas.openxmlformats.org/officeDocument/2006/relationships/hyperlink" Target="http://ru.wikipedia.org/wiki/&#1056;&#1086;&#1089;&#1089;&#1080;&#1103;" TargetMode="External"/><Relationship Id="rId4" Type="http://schemas.openxmlformats.org/officeDocument/2006/relationships/slide" Target="../slides/slide8.xml"/><Relationship Id="rId5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omic Sans MS"/>
              </a:rPr>
              <a:t>Музыка Древней Ру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середине 1 тысячелетия нашей эры в европейской части России расселились славянские племена, прославившие себя как музыканты, певцы и танцоры. Об этом сообщают византийские и германские источники. Известно, что в 591 году аварский хан послал к византийскому императору послами славянских певцов с гус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Древнерусская музыкальная культура своими истоками восходит к языческим традициям славян. Народные песни, закликания весны, плачи, сопровождающие обряды поминовения у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мерших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, похороны или свадьбы, песни при сборе урожая или во время военных походов всегда были неотъемлемой частью жизни наших пред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43A8-AB70-47EF-88FA-1538CBBB074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ожок представляет собой конической формы прямую трубу с пятью игровыми отверстиями сверху и одним снизу. На нижнем конце есть небольшой раструб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готовляют рожок из березы, клена или можжевельника. В прошлом их выделывали из двух половин, скрепленных берестой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вук у рожка сильный, но мягкий. Извлечение звука на инструменте довольно трудно.Существуют 2 типа рожка: для сольной и ансамблевой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BE5F-B1D9-4144-9A21-F8B157755AB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коморохи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— русские средневековые актёры, одновременно певцы, танцоры, дрессировщики животных, музыканты и авторы большинства исполнявшихся ими словесно-музыкальных и драматических произведений.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ни возникли не позже середины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I ве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об этом мы можем судить по фреска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офийского собор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иев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1037 год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пертуар скоморохов состоял из шуточных песен, пьесок, социальных сатир («глум»), исполняемых в масках и «скоморошьем платье» под аккомпанемент гудка, гусель, жалейки, бубна. За каждым персонажем был закреплён определённый характер и маска, которые не менялись годами.</a:t>
            </a:r>
            <a:r>
              <a:rPr b="1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коморохи выступали на улицах и площадях, постоянно общались со зрителями, вовлекали их в своё предст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B3F1-F87F-4FEC-A424-8ADBFF9D0ED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Древней Руси существовало два изначальных понятия — мусикия (музыка) и пение. Эти понятия противопоставлялись, мусикией называлась только инструментальная музыка. Игра на струнных музыкальных инструментах называлась гудением, на духовых — сопением. Игра нередко сопровождала пение. Инструментальная музыка звучала на Руси с языческих времен и на протяжении всего средневековья. Некоторые старинные инструменты остались в народной музыке и по сей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О музыке Древней Руси(IX-XIIвв.) рассказывают памятники литературы и искусства - летописи, фрески, иконы. В житии новгородского епископа Нифонта(XIII в.), в поучениях монаха Георгия(XIII в.) и ряде других документов содержатся сведения о том, что музыканты выступали на улицах и площадях городов. Музыка была обязательной частью обрядовых праздников - Масленицы(проводы зимы и встреча весны), Ивана Купалы(день летнего солнцестояния) и др. Проходили они обычно при большом стечении народа и включали игры, пляски, борьбу, конные состязания, выступления скоморохов - странствующих актеров и музыкантов. Скоморохи играли на гуслях, трубах, сопелях, бубнах, гудках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8F3F-5369-4209-B731-6B9ABB8D1C3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omic Sans MS"/>
              </a:rPr>
              <a:t>Ночь на Ивана Купал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F4E6-D606-4720-8135-4AD6B3DFCC4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вадьба                     Масл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447C-A730-469D-9A20-B119A7A872F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Звучала музыка во время торжественных церемоний при дворе князей. Так, перемена блюд на пирах сопровождалась инструментальной музыкой или были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Былины, эпические песни, сложенные народом в Древней Руси и отразившие историческую действительность главным образом 11—16 вв. В процессе многовекового развития Былины изменялись, впитывали события позднейшего времени, а иногда и события более ранней эпо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 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В центре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— образы богатырей, наделённых высокими моральными качествами, самоотверженно преданных Родине. В образе любимого богатыр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Ильи Муромц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народ создал поэтическую биографию крестьянского сына с его спокойной уверенностью в себе и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небывалой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силой. Он стоит во главе богатырской заставы, преграждающей путь врагам (эта тема формировалась ещё в условиях монгольского нашествия). Столь же поэтичны образы и др. богатырей, охраняющих родную землю, —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Добрыни Никитич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Алеши Поповича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. Тема защиты Родины закономерно слита в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с темой народной жизни и труда. Так, первый подвиг, который совершил Илья Муромец после исцеления, это корчёвка пней и расчистка поля для пашни. В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ылины о </a:t>
            </a:r>
            <a:r>
              <a:rPr b="1" i="1" lang="et-EE" sz="1200" spc="-1" strike="noStrike" u="sng">
                <a:solidFill>
                  <a:srgbClr val="0000ff"/>
                </a:solidFill>
                <a:uFillTx/>
                <a:latin typeface="Comic Sans MS"/>
              </a:rPr>
              <a:t>Вольге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0" lang="et-EE" sz="12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Микуле Селяниновиче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отразилась извечная мечта трудового народа о лёгкой пахоте, о труде, обеспечивающем жизнь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169C-E901-4D88-98A3-1E9299AF85C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omic Sans MS"/>
              </a:rPr>
              <a:t>Боя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Музыкальные инструменты в Древней Руси применялись в различных сферах — в придворном, княжеском быту, обязательны барабаны в ратном деле и множество разных народных инструментов. Народный инструментарий был богат и разнообразен. Особенно здесь выделялись гусли — как инструмент, сопровождающий эпические песни, сказания, славы. Гусляры-сказители были людьми почитаемыми. Об одном из них — сказителе Бояне — повествуется в выдающемся памятнике древнерусской литературы, "Слове о полку Игореве". Боян, слагавший славы, сказания, песни, пел, сопровождая их игрой на гуслях. Автор "Слова о полку Игореве" рисует вдохновенный образ сказителя: персты свои он возлагал на струны, и струны, словно живые, под его пальцами сами рокотали славу князьям Ярославу и Мстисла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MZmEy-yeqd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0652-62E5-400A-A98F-505DF3B3310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Comic Sans MS"/>
              </a:rPr>
              <a:t>Гусли</a:t>
            </a:r>
            <a:r>
              <a:rPr b="1" i="1" lang="ru-RU" sz="1100" spc="-1" strike="noStrike">
                <a:solidFill>
                  <a:srgbClr val="0000ff"/>
                </a:solidFill>
                <a:latin typeface="Comic Sans MS"/>
              </a:rPr>
              <a:t> — 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струнный музыкальный 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инструмент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, наиболее распространён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России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. Является наиболее древним русским струнным щипковым музыкальным инструментом. Различают крыловидные и шлемовидные гусли. Первые имеют треугольную форму и от 5 до 14 струн,шлемовидные - 10-30 струн. На крыловидных гуслях (их также называют звончатыми) играют, как правило, бряцая по всем струнам и глуша ненужные звуки пальцами левой руки, на шлемовидных струны защипывают обеи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200" spc="-1" strike="noStrike">
                <a:solidFill>
                  <a:srgbClr val="ff0000"/>
                </a:solidFill>
                <a:latin typeface="Comic Sans MS"/>
              </a:rPr>
              <a:t>Гудок 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– это древнерусский музыкальный инструмент. Самые ранние упоминания  датируются 11-12 веками новой эры. Игра на гудке на Руси предписывалась только мужчинам. Этот инструмент делали тоже исключительно мужчины.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Г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удок  похож на скрипку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,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н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о размеру  больше ее.  У него было три струны, на которых  играл</a:t>
            </a: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и</a:t>
            </a:r>
            <a:r>
              <a:rPr b="1" i="1" lang="et-EE" sz="1200" spc="-1" strike="noStrike">
                <a:solidFill>
                  <a:srgbClr val="0000ff"/>
                </a:solidFill>
                <a:latin typeface="Comic Sans MS"/>
              </a:rPr>
              <a:t> при помощи смычка. Причем верхняя струна является основной. Две нижние служат басовыми струна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1CCE-F487-4928-83E5-9C11801622A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вирел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простую деревянную дудку. На одном конце её есть свистковое устройство в виде «клюва», а на середине лицевой стороны вырезаны разное количество игровых отверстий (обычно шесть). Изготавливается инструмент из крушины, орешника, клёна, ясеня или черёму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Жалей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небольшую трубочку из ивы или бузины дли, в верхний конец которой вставлен пищик с  язычком из камыша или гусиного пера, а на нижний надет раструб из коровьего рога или из бересты. На стволе есть от 3 до 7 игровых отверстий, благодаря чему можно менять высоту зву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C97B-9006-41D7-913B-442A9DE0FC0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844F6-5D60-47A8-BD51-CECEE8B9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CBC64-82B5-4287-93E6-BEE61115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68ECE-DB39-4252-A4A3-DE9C5440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873BA-50B8-432D-91D9-F2A1D00D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9CE7-6DE6-4B7B-84E0-107BA0F4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A09C-CFCB-4B90-B6D2-5A1A5566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4A7C-0965-4A01-879F-E58AEB0A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2EAE-F6A0-4F78-829B-B27A59CC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57E6-299A-48C9-9D2A-46AE9D80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27AE-9F9B-41A4-B250-6613FA1E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3554-0092-4816-8239-ECFDC47F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7B043-23B1-450B-A367-00733D1C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7FCC-974E-4A48-9956-E2E52A57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C5FB-FF17-45A5-9FFA-286CFE7A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8E3C-77F1-4CD3-96B8-0181F5BB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5C8F-3962-4EFA-A68C-D5763332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E4B0-F9C3-4A1A-A551-D5866694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2BA58-7631-46D1-B09C-4E50F0A6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906EC-2229-4C15-A6F2-94926617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41645-6142-4D74-9579-38AEC263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AD030-1E96-4B4D-A5C2-21837800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B1895-B652-4A99-8504-BA239854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CF761-48F5-4ADC-83C6-C2505826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70FD-0415-453A-8A2B-BA4311AD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50DB-1244-4316-82BD-9D45D58BEC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E4A8-AD3F-4FB4-A261-937A7FD2F6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youtube.com/watch?v=4kspI58CUpU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I_&#1074;&#1077;&#1082;" TargetMode="External"/><Relationship Id="rId2" Type="http://schemas.openxmlformats.org/officeDocument/2006/relationships/hyperlink" Target="http://ru.wikipedia.org/wiki/&#1057;&#1086;&#1092;&#1080;&#1081;&#1089;&#1082;&#1080;&#1081;_&#1089;&#1086;&#1073;&#1086;&#1088;" TargetMode="External"/><Relationship Id="rId3" Type="http://schemas.openxmlformats.org/officeDocument/2006/relationships/hyperlink" Target="http://ru.wikipedia.org/wiki/&#1050;&#1080;&#1077;&#1074;" TargetMode="External"/><Relationship Id="rId4" Type="http://schemas.openxmlformats.org/officeDocument/2006/relationships/hyperlink" Target="http://ru.wikipedia.org/wiki/1037_&#1075;&#1086;&#1076;" TargetMode="External"/><Relationship Id="rId5" Type="http://schemas.openxmlformats.org/officeDocument/2006/relationships/hyperlink" Target="http://ru.wikipedia.org/wiki/&#1043;&#1091;&#1076;&#1086;&#1082;_(&#1084;&#1091;&#1079;&#1099;&#1082;&#1072;&#1083;&#1100;&#1085;&#1099;&#1081;_&#1080;&#1085;&#1089;&#1090;&#1088;&#1091;&#1084;&#1077;&#1085;&#1090;)" TargetMode="External"/><Relationship Id="rId6" Type="http://schemas.openxmlformats.org/officeDocument/2006/relationships/hyperlink" Target="http://ru.wikipedia.org/wiki/&#1043;&#1091;&#1089;&#1083;&#1080;" TargetMode="External"/><Relationship Id="rId7" Type="http://schemas.openxmlformats.org/officeDocument/2006/relationships/hyperlink" Target="http://ru.wikipedia.org/wiki/&#1046;&#1072;&#1083;&#1077;&#1081;&#1082;&#1072;" TargetMode="External"/><Relationship Id="rId8" Type="http://schemas.openxmlformats.org/officeDocument/2006/relationships/hyperlink" Target="http://ru.wikipedia.org/wiki/&#1041;&#1091;&#1073;&#1077;&#1085;" TargetMode="External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rticle053046.html/" TargetMode="External"/><Relationship Id="rId2" Type="http://schemas.openxmlformats.org/officeDocument/2006/relationships/hyperlink" Target="http://article030548.html/" TargetMode="External"/><Relationship Id="rId3" Type="http://schemas.openxmlformats.org/officeDocument/2006/relationships/hyperlink" Target="http://article013028.html/" TargetMode="External"/><Relationship Id="rId4" Type="http://schemas.openxmlformats.org/officeDocument/2006/relationships/hyperlink" Target="http://article076468.html/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ZmEy-yeqdM" TargetMode="External"/><Relationship Id="rId2" Type="http://schemas.openxmlformats.org/officeDocument/2006/relationships/hyperlink" Target="http://nasyuk.moskva.com/fotogalereja-plankton/instrumenty/gusli/24540811.html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2" Type="http://schemas.openxmlformats.org/officeDocument/2006/relationships/hyperlink" Target="http://ru.wikipedia.org/wiki/&#1057;&#1090;&#1088;&#1091;&#1085;&#1085;&#1099;&#1077;_&#1084;&#1091;&#1079;&#1099;&#1082;&#1072;&#1083;&#1100;&#1085;&#1099;&#1077;_&#1080;&#1085;&#1089;&#1090;&#1088;&#1091;&#1084;&#1077;&#1085;&#1090;&#1099;" TargetMode="External"/><Relationship Id="rId3" Type="http://schemas.openxmlformats.org/officeDocument/2006/relationships/hyperlink" Target="http://ru.wikipedia.org/wiki/&#1056;&#1086;&#1089;&#1089;&#1080;&#1103;" TargetMode="External"/><Relationship Id="rId4" Type="http://schemas.openxmlformats.org/officeDocument/2006/relationships/hyperlink" Target="http://img0.liveinternet.ru/images/attach/b/3/28/238/28238041_10.jpg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hyperlink" Target="http://www.youtube.com/watch?v=dpHQxnJ2n5I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www.youtube.com/watch?v=rmquifCKaIw&amp;feature=related" TargetMode="External"/><Relationship Id="rId4" Type="http://schemas.openxmlformats.org/officeDocument/2006/relationships/hyperlink" Target="http://www.youtube.com/watch?v=mREJPfFLr9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764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Музыка Древней Руси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829800"/>
            <a:ext cx="432108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В середине 1 тысячелетия нашей эры в европейской части России расселились славянские племена, прославившие себя как музыканты, певцы и танцоры. Об этом сообщают византийские и германские источники. Известно, что в 591 году аварский хан послал к византийскому императору послами славянских певцов с гуслям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Древнерусская музыкальная культура своими истоками восходит к языческим традициям славян. Народные песни, закликания весны, плачи, сопровождающие обряды поминовения у</a:t>
            </a:r>
            <a:r>
              <a:rPr b="1" i="1" lang="ru-RU" sz="1800" spc="-1" strike="noStrike">
                <a:solidFill>
                  <a:srgbClr val="ccecff"/>
                </a:solidFill>
                <a:latin typeface="Comic Sans MS"/>
              </a:rPr>
              <a:t>мерших</a:t>
            </a: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, похороны или свадьбы, песни при сборе урожая или во время военных походов всегда были неотъемлемой частью жизни наших предк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on_music"/>
          <p:cNvPicPr/>
          <p:nvPr/>
        </p:nvPicPr>
        <p:blipFill>
          <a:blip r:embed="rId1"/>
          <a:stretch/>
        </p:blipFill>
        <p:spPr>
          <a:xfrm>
            <a:off x="4859280" y="901800"/>
            <a:ext cx="4002120" cy="55004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mages"/>
          <p:cNvPicPr/>
          <p:nvPr/>
        </p:nvPicPr>
        <p:blipFill>
          <a:blip r:embed="rId1"/>
          <a:stretch/>
        </p:blipFill>
        <p:spPr>
          <a:xfrm>
            <a:off x="4716360" y="260280"/>
            <a:ext cx="4091040" cy="3597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Рожок представляет собой конической формы прямую трубу с пятью игровыми отверстиями сверху и одним снизу. На нижнем конце есть небольшой раструб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Изготовляют рожок из березы, клена или можжевельника. В прошлом их выделывали из двух половин, скрепленных берестой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Звук у рожка сильный, но мягкий. Извлечение звука на инструменте довольно трудно.Существуют 2 типа рожка: для сольной и ансамблевой игр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127960" y="5981760"/>
            <a:ext cx="5497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http://www.youtube.com/watch?v=4kspI58CUpU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348000" y="188640"/>
            <a:ext cx="561672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Скоморохи 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— русские средневековые актёры, одновременно певцы, танцоры, дрессировщики животных, музыканты и авторы большинства исполнявшихся ими словесно-музыкальных и драматических произведений.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ни возникли не позже середины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XI ве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об этом мы можем судить по фрескам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Софийского собор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в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Киеве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1037 год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Репертуар скоморохов состоял из шуточных песен, пьесок, социальных сатир («глум»), исполняемых в масках и «скоморошьем платье» под аккомпанемент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5"/>
              </a:rPr>
              <a:t>гуд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6"/>
              </a:rPr>
              <a:t>гусель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жалейки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8"/>
              </a:rPr>
              <a:t>бубн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 За каждым персонажем был закреплён определённый характер и маска, которые не менялись годами.</a:t>
            </a:r>
            <a:r>
              <a:rPr b="1" i="1" lang="et-EE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Скоморохи выступали на улицах и площадях, постоянно общались со зрителями, вовлекали их в своё представлени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9" descr="isi129a"/>
          <p:cNvPicPr/>
          <p:nvPr/>
        </p:nvPicPr>
        <p:blipFill>
          <a:blip r:embed="rId9"/>
          <a:stretch/>
        </p:blipFill>
        <p:spPr>
          <a:xfrm>
            <a:off x="900000" y="404640"/>
            <a:ext cx="1782720" cy="324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baladins"/>
          <p:cNvPicPr/>
          <p:nvPr/>
        </p:nvPicPr>
        <p:blipFill>
          <a:blip r:embed="rId10"/>
          <a:stretch/>
        </p:blipFill>
        <p:spPr>
          <a:xfrm>
            <a:off x="468360" y="4005360"/>
            <a:ext cx="2881440" cy="23749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В Древней Руси существовало два изначальных понятия — мусикия (музыка) и пение. Эти понятия противопоставлялись, мусикией называлась только инструментальная музыка. Игра на струнных музыкальных инструментах называлась гудением, на духовых — сопением. Игра нередко сопровождала пение. Инструментальная музыка звучала на Руси с языческих времен и на протяжении всего средневековья. Некоторые старинные инструменты остались в народной музыке и по сей ден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О музыке Древней Руси(IX-XIIвв.) рассказывают памятники литературы и искусства - летописи, фрески, иконы. В житии новгородского епископа Нифонта(XIII в.), в поучениях монаха Георгия(XIII в.) и ряде других документов содержатся сведения о том, что музыканты выступали на улицах и площадях городов. Музыка была обязательной частью обрядовых праздников - Масленицы(проводы зимы и встреча весны), Ивана Купалы(день летнего солнцестояния) и др. Проходили они обычно при большом стечении народа и включали игры, пляски, борьбу, конные состязания, выступления скоморохов - странствующих актеров и музыкантов. Скоморохи играли на гуслях, трубах, сопелях, бубнах, гудках.</a:t>
            </a:r>
            <a:br>
              <a:rPr sz="1800"/>
            </a:br>
            <a:r>
              <a:rPr b="1" i="1" lang="et-EE" sz="18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773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Ночь на Ивана Купала.</a:t>
            </a:r>
            <a:br>
              <a:rPr sz="2800"/>
            </a:b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40d44b671f62"/>
          <p:cNvPicPr/>
          <p:nvPr/>
        </p:nvPicPr>
        <p:blipFill>
          <a:blip r:embed="rId1"/>
          <a:stretch/>
        </p:blipFill>
        <p:spPr>
          <a:xfrm>
            <a:off x="250920" y="790560"/>
            <a:ext cx="8713800" cy="59515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вадьба                     Масленица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19" name="Picture 7" descr="152[1]"/>
          <p:cNvPicPr/>
          <p:nvPr/>
        </p:nvPicPr>
        <p:blipFill>
          <a:blip r:embed="rId1"/>
          <a:stretch/>
        </p:blipFill>
        <p:spPr>
          <a:xfrm>
            <a:off x="324000" y="1052640"/>
            <a:ext cx="4319280" cy="525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39978897_14"/>
          <p:cNvPicPr/>
          <p:nvPr/>
        </p:nvPicPr>
        <p:blipFill>
          <a:blip r:embed="rId2"/>
          <a:stretch/>
        </p:blipFill>
        <p:spPr>
          <a:xfrm>
            <a:off x="4859280" y="1052640"/>
            <a:ext cx="3889440" cy="5256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260280"/>
            <a:ext cx="6697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Звучала музыка во время торжественных церемоний при дворе князей. Так, перемена блюд на пирах сопровождалась инструментальной музыкой или былин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Былины, эпические песни, сложенные народом в Древней Руси и отразившие историческую действительность главным образом 11—16 вв. В процессе многовекового развития Былины изменялись, впитывали события позднейшего времени, а иногда и события более ранней эпох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 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В центре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— образы богатырей, наделённых высокими моральными качествами, самоотверженно преданных Родине. В образе любимого богатыр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1"/>
              </a:rPr>
              <a:t>Ильи Муромц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народ создал поэтическую биографию крестьянского сына с его спокойной уверенностью в себе и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небывалой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силой. Он стоит во главе богатырской заставы, преграждающей путь врагам (эта тема формировалась ещё в условиях монгольского нашествия). Столь же поэтичны образы и др. богатырей, охраняющих родную землю, —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2"/>
              </a:rPr>
              <a:t>Добрыни Никитич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и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3"/>
              </a:rPr>
              <a:t>Алеши Поповича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. Тема защиты Родины закономерно слита в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с темой народной жизни и труда. Так, первый подвиг, который совершил Илья Муромец после исцеления, это корчёвка пней и расчистка поля для пашни. В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б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ылины о </a:t>
            </a:r>
            <a:r>
              <a:rPr b="1" i="1" lang="et-EE" sz="1600" spc="-1" strike="noStrike" u="sng">
                <a:solidFill>
                  <a:srgbClr val="ccecff"/>
                </a:solidFill>
                <a:uFillTx/>
                <a:latin typeface="Comic Sans MS"/>
              </a:rPr>
              <a:t>Вольге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и </a:t>
            </a:r>
            <a:r>
              <a:rPr b="0" lang="et-EE" sz="1600" spc="-1" strike="noStrike" u="sng">
                <a:solidFill>
                  <a:srgbClr val="ccecff"/>
                </a:solidFill>
                <a:uFillTx/>
                <a:latin typeface="Comic Sans MS"/>
                <a:hlinkClick r:id="rId4"/>
              </a:rPr>
              <a:t>Микуле Селяниновиче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отразилась извечная мечта трудового народа о лёгкой пахоте, о труде, обеспечивающем жизнь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9" descr="Иллюстрация к книге «Слово о полку Игореве» — гравюра В. А. Фаворского, 1938 год"/>
          <p:cNvPicPr/>
          <p:nvPr/>
        </p:nvPicPr>
        <p:blipFill>
          <a:blip r:embed="rId5"/>
          <a:stretch/>
        </p:blipFill>
        <p:spPr>
          <a:xfrm>
            <a:off x="6948360" y="189000"/>
            <a:ext cx="2195640" cy="64087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634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8" descr="0011-013-Dobrynja-nikitich-ilja-muromets-i-aljosha-popovich"/>
          <p:cNvPicPr/>
          <p:nvPr/>
        </p:nvPicPr>
        <p:blipFill>
          <a:blip r:embed="rId1"/>
          <a:stretch/>
        </p:blipFill>
        <p:spPr>
          <a:xfrm>
            <a:off x="826920" y="549360"/>
            <a:ext cx="7490160" cy="52228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56000" y="5949720"/>
            <a:ext cx="2530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Боян</a:t>
            </a:r>
            <a:endParaRPr b="1" lang="en-US" sz="2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88640"/>
            <a:ext cx="5256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Музыкальные инструменты в Древней Руси применялись в различных сферах — в придворном, княжеском быту, обязательны барабаны в ратном деле и множество разных народных инструментов. Народный инструментарий был богат и разнообразен. Особенно здесь выделялись гусли — как инструмент, сопровождающий эпические песни, сказания, славы. Гусляры-сказители были людьми почитаемыми. Об одном из них — сказителе Бояне — повествуется в выдающемся памятнике древнерусской литературы, "Слове о полку Игореве". Боян, слагавший славы, сказания, песни, пел, сопровождая их игрой на гуслях. Автор "Слова о полку Игореве" рисует вдохновенный образ сказителя: персты свои он возлагал на струны, и струны, словно живые, под его пальцами сами рокотали славу князьям Ярославу и Мстислав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http://www.youtube.com/watch?v=MZmEy-yeqd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9" descr="24540811_9e04b8ee257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333360"/>
            <a:ext cx="3708360" cy="54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10552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dfdfe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omic Sans MS"/>
              </a:rPr>
              <a:t>Гусли</a:t>
            </a:r>
            <a:r>
              <a:rPr b="1" i="1" lang="ru-RU" sz="1400" spc="-1" strike="noStrike">
                <a:solidFill>
                  <a:srgbClr val="ccecff"/>
                </a:solidFill>
                <a:latin typeface="Comic Sans MS"/>
              </a:rPr>
              <a:t> — </a:t>
            </a:r>
            <a:r>
              <a:rPr b="0" lang="ru-RU" sz="1400" spc="-1" strike="noStrike" u="sng">
                <a:solidFill>
                  <a:srgbClr val="ccecff"/>
                </a:solidFill>
                <a:uFillTx/>
                <a:latin typeface="Comic Sans MS"/>
                <a:hlinkClick r:id="rId1"/>
              </a:rPr>
              <a:t>струнный музыкальный </a:t>
            </a:r>
            <a:r>
              <a:rPr b="0" lang="ru-RU" sz="1600" spc="-1" strike="noStrike" u="sng">
                <a:solidFill>
                  <a:srgbClr val="ccecff"/>
                </a:solidFill>
                <a:uFillTx/>
                <a:latin typeface="Comic Sans MS"/>
                <a:hlinkClick r:id="rId2"/>
              </a:rPr>
              <a:t>инструмент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, наиболее распространён в </a:t>
            </a:r>
            <a:r>
              <a:rPr b="0" lang="ru-RU" sz="1600" spc="-1" strike="noStrike" u="sng">
                <a:solidFill>
                  <a:srgbClr val="ccecff"/>
                </a:solidFill>
                <a:uFillTx/>
                <a:latin typeface="Comic Sans MS"/>
                <a:hlinkClick r:id="rId3"/>
              </a:rPr>
              <a:t>России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. Является наиболее древним русским струнным щипковым музыкальным инструментом. Различают крыловидные и шлемовидные гусли. Первые имеют треугольную форму и от 5 до 14 струн,шлемовидные - 10-30 струн. На крыловидных гуслях (их также называют звончатыми) играют, как правило, бряцая по всем струнам и глуша ненужные звуки пальцами левой руки, на шлемовидных струны защипывают обеими рукам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600" spc="-1" strike="noStrike">
                <a:solidFill>
                  <a:srgbClr val="ff0000"/>
                </a:solidFill>
                <a:latin typeface="Comic Sans MS"/>
              </a:rPr>
              <a:t>Гудок 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– это древнерусский музыкальный инструмент. Самые ранние упоминания  датируются 11-12 веками новой эры. Игра на гудке на Руси предписывалась только мужчинам. Этот инструмент делали тоже исключительно мужчины.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Г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удок  похож на скрипку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,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н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о размеру  больше ее.  У него было три струны, на которых  играл</a:t>
            </a:r>
            <a:r>
              <a:rPr b="1" i="1" lang="ru-RU" sz="1600" spc="-1" strike="noStrike">
                <a:solidFill>
                  <a:srgbClr val="ccecff"/>
                </a:solidFill>
                <a:latin typeface="Comic Sans MS"/>
              </a:rPr>
              <a:t>и</a:t>
            </a:r>
            <a:r>
              <a:rPr b="1" i="1" lang="et-EE" sz="1600" spc="-1" strike="noStrike">
                <a:solidFill>
                  <a:srgbClr val="ccecff"/>
                </a:solidFill>
                <a:latin typeface="Comic Sans MS"/>
              </a:rPr>
              <a:t> при помощи смычка. Причем верхняя струна является основной. Две нижние служат басовыми струнами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9" descr="Картинка 6 из 493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89000"/>
            <a:ext cx="4284720" cy="3573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6"/>
          <a:stretch/>
        </p:blipFill>
        <p:spPr>
          <a:xfrm>
            <a:off x="4648320" y="3938760"/>
            <a:ext cx="4495680" cy="2919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7"/>
          <p:cNvSpPr/>
          <p:nvPr/>
        </p:nvSpPr>
        <p:spPr>
          <a:xfrm>
            <a:off x="2058480" y="6491160"/>
            <a:ext cx="5523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http://www.youtube.com/watch?v=dpHQxnJ2n5I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j445968_1295978668"/>
          <p:cNvPicPr/>
          <p:nvPr/>
        </p:nvPicPr>
        <p:blipFill>
          <a:blip r:embed="rId1"/>
          <a:stretch/>
        </p:blipFill>
        <p:spPr>
          <a:xfrm>
            <a:off x="395280" y="189000"/>
            <a:ext cx="4897440" cy="3265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0025cawb"/>
          <p:cNvPicPr/>
          <p:nvPr/>
        </p:nvPicPr>
        <p:blipFill>
          <a:blip r:embed="rId2"/>
          <a:stretch/>
        </p:blipFill>
        <p:spPr>
          <a:xfrm>
            <a:off x="4427640" y="3573360"/>
            <a:ext cx="4535280" cy="3022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2103480" y="365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5398920" y="124200"/>
            <a:ext cx="3745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Свирель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представляет собой простую деревянную дудку. На одном конце её есть свистковое устройство в виде «клюва», а на середине лицевой стороны вырезаны разное количество игровых отверстий (обычно шесть). Изготавливается инструмент из крушины, орешника, клёна, ясеня или черёмух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250920" y="3443400"/>
            <a:ext cx="403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aramond"/>
              </a:rPr>
              <a:t>Жалейка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представляет собой небольшую трубочку из ивы или бузины дли, в верхний конец которой вставлен пищик с  язычком из камыша или гусиного пера, а на нижний надет раструб из коровьего рога или из бересты. На стволе есть от 3 до 7 игровых отверстий, благодаря чему можно менять высоту звук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468360" y="2708280"/>
            <a:ext cx="396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http://www.youtube.com/watch?v=rmquifCKaIw&amp;feature=relat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660480" y="6491160"/>
            <a:ext cx="55238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http://www.youtube.com/watch?v=mREJPfFLr9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6:49:39Z</dcterms:created>
  <dc:creator>Opetaja</dc:creator>
  <dc:description/>
  <dc:language>en-US</dc:language>
  <cp:lastModifiedBy>LEGION</cp:lastModifiedBy>
  <dcterms:modified xsi:type="dcterms:W3CDTF">2015-04-02T07:26:09Z</dcterms:modified>
  <cp:revision>10</cp:revision>
  <dc:subject/>
  <dc:title>Музыка Древней Руси</dc:title>
</cp:coreProperties>
</file>