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4.gif" ContentType="image/gif"/>
  <Override PartName="/ppt/media/image1.jpeg" ContentType="image/jpeg"/>
  <Override PartName="/ppt/media/image9.jpeg" ContentType="image/jpeg"/>
  <Override PartName="/ppt/media/image15.jpeg" ContentType="image/jpeg"/>
  <Override PartName="/ppt/media/image3.wmf" ContentType="image/x-wmf"/>
  <Override PartName="/ppt/media/image2.png" ContentType="image/png"/>
  <Override PartName="/ppt/media/image4.jpeg" ContentType="image/jpeg"/>
  <Override PartName="/ppt/media/image8.gif" ContentType="image/gif"/>
  <Override PartName="/ppt/media/image18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FC52-B1BB-4147-982B-CB965DBC5C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Arial Black"/>
              </a:rPr>
              <a:t>Влияние  музыки </a:t>
            </a:r>
            <a:br>
              <a:rPr sz="1200"/>
            </a:br>
            <a:r>
              <a:rPr b="1" lang="ru-RU" sz="1200" spc="-1" strike="noStrike">
                <a:solidFill>
                  <a:srgbClr val="7030a0"/>
                </a:solidFill>
                <a:latin typeface="Arial Black"/>
              </a:rPr>
              <a:t>на состояни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CE93-42CD-4F74-94C8-3B8DCBADB1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Arial"/>
                <a:ea typeface="Arial"/>
              </a:rPr>
              <a:t>Собственные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E7E4-7E5F-4C0C-BA82-FC4BF5288A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нализ ответов респондентов  показал: классическая музы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однимает настроение - 5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раздражение и дискомфорт – 20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оздает ощущение спокойствия – 60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иные ощущения – 15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реобладали цве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D21B-D774-497D-BA5A-77A151A3D5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нализ ответов респондентов  показал: современная музы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однимает настроение - 65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раздражение и дискомфорт – 0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оздает ощущение спокойствия – 5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иные ощущения – 3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реобладали цве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E00D-28D5-4F32-A269-657BED5662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b050"/>
                </a:solidFill>
                <a:latin typeface="Calibri"/>
              </a:rPr>
              <a:t>Цветовой тест Люше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4f81bd"/>
                </a:solidFill>
                <a:latin typeface="Arial Black"/>
              </a:rPr>
              <a:t>Синий</a:t>
            </a:r>
            <a:r>
              <a:rPr b="1" i="1" lang="ru-RU" sz="12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овлетворенность, спокойствие, принят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ff66"/>
                </a:solidFill>
                <a:latin typeface="Arial Black"/>
              </a:rPr>
              <a:t>Зеленый</a:t>
            </a:r>
            <a:r>
              <a:rPr b="1" i="1" lang="ru-RU" sz="1400" spc="-1" strike="noStrike">
                <a:solidFill>
                  <a:srgbClr val="66ff66"/>
                </a:solidFill>
                <a:latin typeface="Arial Black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веренность, настойчивость, иногда упрям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000"/>
                </a:solidFill>
                <a:latin typeface="Arial Black"/>
              </a:rPr>
              <a:t>Оранжевы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левое усилие, наступательность, возбу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 Black"/>
              </a:rPr>
              <a:t>Крас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ость, агрессивность, в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Arial Black"/>
              </a:rPr>
              <a:t>Желты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активность, общительность, энтузиа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Arial Black"/>
              </a:rPr>
              <a:t>Фиолетовый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неопределенность, загадочность, непредсказуе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46c0a"/>
                </a:solidFill>
                <a:latin typeface="Arial Black"/>
              </a:rPr>
              <a:t>Коричневы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напряжение, разочарование, стремление уйти от проблем, устал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Черны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беспокойство, бездеятельность, стресс, депрес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a6a6a6"/>
                </a:solidFill>
                <a:latin typeface="Arial Black"/>
              </a:rPr>
              <a:t>Серы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апатия, разочарование, устал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cc"/>
                </a:solidFill>
                <a:latin typeface="Arial Black"/>
              </a:rPr>
              <a:t>Розовый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беспечность, непосредственность, безответств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b0f0"/>
                </a:solidFill>
                <a:latin typeface="Arial Black"/>
              </a:rPr>
              <a:t>Голуб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стремление к покою, к гармонии, безынициа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F19D-B937-409C-B9F8-552314E25A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аправление лечебного воздействия музыки зависит не только от ее характера, но и от музыкального инструмента, с помощью которого она исполня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8D31-0457-4523-9917-BFD9AA7670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  <a:ea typeface="Times New Roman"/>
              </a:rPr>
              <a:t>Рушель Блаво выявил наиболее благоприятное время суток для “адресного” музыкотерапевтического воздействия на  органы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8B55-9B65-4D1E-974A-DA2AED493C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Arial"/>
              </a:rPr>
              <a:t>«Музыкальная аптеч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EF26-A981-460F-A388-D71F507927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Слушайте музыку и будьте здоровы!</a:t>
            </a:r>
            <a:br>
              <a:rPr sz="1200"/>
            </a:b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793B-A49E-4C0F-BBA2-014932292E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Це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зучение влияния музыки на эмоциональное состояние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2. Разработка буклета «Музыкальная аптечка», запись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DVD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диска с музыкальными произведениями, положительно влияющими на эмоциональное состояние человека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1B64-8154-45F9-ABAE-C369C03492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Гипотез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Музыка обладает магической си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воздействия на человека и способна помочь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повседневной жизни при стрессов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ситуац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C4F6-3125-4482-A334-B0A59ADD83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Из истории врачевания музыкой. 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19BF-14D5-41A6-B8A7-662711E636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«Музыкотерапия»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-  метод, основанный на целительном воздействии музыки на психологическое состояние человек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D5BB-A316-4EC5-B656-2C5C4040ED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лияние музыки н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51EA-F736-4474-AB66-0304DB1304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Классическая музыка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создана по всем правилам природной гармонии. Пропущенная черед сердце, она становиться целебной и радует на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8929-DA58-4C78-9834-7FFB22D6D7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мпозиции с частотой основного ритма от 2 до 4 герц, при громкости в 40-50 децибел, вызывают сильное возбуждение, вплоть до временной потери контроля над собой, агрессивность к окружающим или, наоборот, негативные эмоции к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EE72-AF00-438D-A4CD-8445C65C6F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Arial"/>
              </a:rPr>
              <a:t>Факторы воздействия музыки на состояни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BF9B-E132-4852-91AE-87A60A565F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82C6-B8AF-48F9-A7B2-95A911BC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4BAD-33F1-4375-B646-16471EC9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1750-BE6F-4F49-A029-CDF6FC48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131C-82D0-411C-9590-638B3F76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A75F-A7FF-497C-BD85-B4D6135C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36BC-871A-4359-9CC6-C6B3BACD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7FC1-E7E8-4C73-B680-9ACCC410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8E8F-D03E-4D16-A3E0-0AC0C7E6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5CFD-F2F7-46A3-B692-F1DD3C9A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1E9E-E296-4912-944B-0AC60C41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D534-C977-41F9-8628-501596B8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4E06-1A6C-4A9B-9DC2-652C276F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43CA-4FA1-49CC-AAC1-D99F994A52F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E0A8-DADC-4F6A-9E19-A2CCDDA613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Documents and Settings\Администратор\Мои документы\Мои рисунки\Музыка\335558.jpg"/>
          <p:cNvPicPr/>
          <p:nvPr/>
        </p:nvPicPr>
        <p:blipFill>
          <a:blip r:embed="rId1"/>
          <a:stretch/>
        </p:blipFill>
        <p:spPr>
          <a:xfrm>
            <a:off x="0" y="0"/>
            <a:ext cx="9725040" cy="6972480"/>
          </a:xfrm>
          <a:prstGeom prst="rect">
            <a:avLst/>
          </a:prstGeom>
          <a:ln w="0">
            <a:noFill/>
          </a:ln>
        </p:spPr>
      </p:pic>
      <p:pic>
        <p:nvPicPr>
          <p:cNvPr id="49" name="Схема 5" descr=""/>
          <p:cNvPicPr/>
          <p:nvPr/>
        </p:nvPicPr>
        <p:blipFill>
          <a:blip r:embed="rId2"/>
          <a:stretch/>
        </p:blipFill>
        <p:spPr>
          <a:xfrm>
            <a:off x="1073160" y="4694400"/>
            <a:ext cx="7143840" cy="1779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63480" y="418680"/>
            <a:ext cx="7673400" cy="205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 Black"/>
              </a:rPr>
              <a:t>Влияние  музыки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Arial Black"/>
              </a:rPr>
              <a:t>на состояние челове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одержимое 3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8242200" cy="4522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Собственные исслед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2876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нализ ответов респондентов  показал: классическая музы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нимает настроение - 5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раздражение и дискомфорт – 20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оздает ощущение спокойствия – 60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иные ощущения – 15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еобладали цве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Улыбающееся лицо 2"/>
          <p:cNvSpPr/>
          <p:nvPr/>
        </p:nvSpPr>
        <p:spPr>
          <a:xfrm>
            <a:off x="571680" y="4857840"/>
            <a:ext cx="1071360" cy="1071360"/>
          </a:xfrm>
          <a:prstGeom prst="smileyFace">
            <a:avLst>
              <a:gd name="adj" fmla="val 9282"/>
            </a:avLst>
          </a:prstGeom>
          <a:solidFill>
            <a:srgbClr val="66ff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Улыбающееся лицо 3"/>
          <p:cNvSpPr/>
          <p:nvPr/>
        </p:nvSpPr>
        <p:spPr>
          <a:xfrm>
            <a:off x="4000680" y="4857840"/>
            <a:ext cx="1071360" cy="1071360"/>
          </a:xfrm>
          <a:prstGeom prst="smileyFace">
            <a:avLst>
              <a:gd name="adj" fmla="val 9282"/>
            </a:avLst>
          </a:prstGeom>
          <a:solidFill>
            <a:srgbClr val="66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Улыбающееся лицо 4"/>
          <p:cNvSpPr/>
          <p:nvPr/>
        </p:nvSpPr>
        <p:spPr>
          <a:xfrm>
            <a:off x="2214720" y="4857840"/>
            <a:ext cx="1071360" cy="1071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Улыбающееся лицо 5"/>
          <p:cNvSpPr/>
          <p:nvPr/>
        </p:nvSpPr>
        <p:spPr>
          <a:xfrm>
            <a:off x="5715000" y="4857840"/>
            <a:ext cx="1071720" cy="1071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Улыбающееся лицо 6"/>
          <p:cNvSpPr/>
          <p:nvPr/>
        </p:nvSpPr>
        <p:spPr>
          <a:xfrm>
            <a:off x="7572240" y="4857840"/>
            <a:ext cx="1071720" cy="1071360"/>
          </a:xfrm>
          <a:prstGeom prst="smileyFace">
            <a:avLst>
              <a:gd name="adj" fmla="val 9282"/>
            </a:avLst>
          </a:prstGeom>
          <a:solidFill>
            <a:srgbClr val="ffd1a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71680" y="99972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нализ ответов респондентов  показал: современная музы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нимает настроение - 65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раздражение и дискомфорт – 0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оздает ощущение спокойствия – 5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иные ощущения – 30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еобладали цве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Улыбающееся лицо 3"/>
          <p:cNvSpPr/>
          <p:nvPr/>
        </p:nvSpPr>
        <p:spPr>
          <a:xfrm>
            <a:off x="571680" y="4643280"/>
            <a:ext cx="1143000" cy="1071720"/>
          </a:xfrm>
          <a:prstGeom prst="smileyFace">
            <a:avLst>
              <a:gd name="adj" fmla="val -465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Улыбающееся лицо 4"/>
          <p:cNvSpPr/>
          <p:nvPr/>
        </p:nvSpPr>
        <p:spPr>
          <a:xfrm>
            <a:off x="2214720" y="4643280"/>
            <a:ext cx="1143000" cy="114300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Улыбающееся лицо 5"/>
          <p:cNvSpPr/>
          <p:nvPr/>
        </p:nvSpPr>
        <p:spPr>
          <a:xfrm>
            <a:off x="3857760" y="4643280"/>
            <a:ext cx="1143000" cy="1071720"/>
          </a:xfrm>
          <a:prstGeom prst="smileyFace">
            <a:avLst>
              <a:gd name="adj" fmla="val -4652"/>
            </a:avLst>
          </a:prstGeom>
          <a:solidFill>
            <a:srgbClr val="9966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Улыбающееся лицо 6"/>
          <p:cNvSpPr/>
          <p:nvPr/>
        </p:nvSpPr>
        <p:spPr>
          <a:xfrm>
            <a:off x="5643720" y="4643280"/>
            <a:ext cx="1143000" cy="1143000"/>
          </a:xfrm>
          <a:prstGeom prst="smileyFace">
            <a:avLst>
              <a:gd name="adj" fmla="val -465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Улыбающееся лицо 8"/>
          <p:cNvSpPr/>
          <p:nvPr/>
        </p:nvSpPr>
        <p:spPr>
          <a:xfrm>
            <a:off x="7429680" y="4643280"/>
            <a:ext cx="1071360" cy="1143000"/>
          </a:xfrm>
          <a:prstGeom prst="smileyFace">
            <a:avLst>
              <a:gd name="adj" fmla="val -4652"/>
            </a:avLst>
          </a:prstGeom>
          <a:solidFill>
            <a:srgbClr val="a6a6a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Цветовой тест Люше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400" y="928800"/>
            <a:ext cx="835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f81bd"/>
                </a:solidFill>
                <a:latin typeface="Arial Black"/>
              </a:rPr>
              <a:t>Синий</a:t>
            </a:r>
            <a:r>
              <a:rPr b="1" i="1" lang="ru-RU" sz="20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довлетворенность, спокойствие, принят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66"/>
                </a:solidFill>
                <a:latin typeface="Arial Black"/>
              </a:rPr>
              <a:t>Зеленый</a:t>
            </a:r>
            <a:r>
              <a:rPr b="1" i="1" lang="ru-RU" sz="2400" spc="-1" strike="noStrike">
                <a:solidFill>
                  <a:srgbClr val="66ff66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веренность, настойчивость, иногда упрям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Arial Black"/>
              </a:rPr>
              <a:t>Оранжевы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левое усилие, наступательность, возбужд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</a:rPr>
              <a:t>Красны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ктивность, агрессивность, в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Black"/>
              </a:rPr>
              <a:t>Желты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активность, общительность, энтузиаз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 Black"/>
              </a:rPr>
              <a:t>Фиолетовый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неопределенность, загадочность, непредсказуем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46c0a"/>
                </a:solidFill>
                <a:latin typeface="Arial Black"/>
              </a:rPr>
              <a:t>Коричневы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напряжение, разочарование, стремление уйти от проблем, устал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</a:rPr>
              <a:t>Черны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беспокойство, бездеятельность, стресс, депресс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6a6a6"/>
                </a:solidFill>
                <a:latin typeface="Arial Black"/>
              </a:rPr>
              <a:t>Серы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апатия, разочарование, устал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cc"/>
                </a:solidFill>
                <a:latin typeface="Arial Black"/>
              </a:rPr>
              <a:t>Розовый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беспечность, непосредственность, безответствен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f0"/>
                </a:solidFill>
                <a:latin typeface="Arial Black"/>
              </a:rPr>
              <a:t>Голубо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стремление к покою, к гармонии, безынициатив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3"/>
          <p:cNvSpPr/>
          <p:nvPr/>
        </p:nvSpPr>
        <p:spPr>
          <a:xfrm>
            <a:off x="857160" y="21420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Направление лечебного воздействия музыки зависит не только от ее характера, но и от музыкального инструмента, с помощью которого она исполня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906eb1b220bb"/>
          <p:cNvPicPr/>
          <p:nvPr/>
        </p:nvPicPr>
        <p:blipFill>
          <a:blip r:embed="rId1"/>
          <a:stretch/>
        </p:blipFill>
        <p:spPr>
          <a:xfrm>
            <a:off x="2000160" y="1214280"/>
            <a:ext cx="5357880" cy="535788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img_3" descr="http://moikompas.ru/img/compas/2009-07-14/muzikoterapiya/26721537.jpg"/>
          <p:cNvPicPr/>
          <p:nvPr/>
        </p:nvPicPr>
        <p:blipFill>
          <a:blip r:embed="rId1"/>
          <a:stretch/>
        </p:blipFill>
        <p:spPr>
          <a:xfrm>
            <a:off x="2428920" y="1357200"/>
            <a:ext cx="3897360" cy="51944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"/>
          <p:cNvSpPr/>
          <p:nvPr/>
        </p:nvSpPr>
        <p:spPr>
          <a:xfrm>
            <a:off x="642960" y="217800"/>
            <a:ext cx="742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Рушель Блаво выявил наиболее благоприятное время суток для “адресного” музыкотерапевтического воздействия на  органы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5"/>
          <p:cNvSpPr/>
          <p:nvPr/>
        </p:nvSpPr>
        <p:spPr>
          <a:xfrm rot="5400000">
            <a:off x="2083320" y="-440640"/>
            <a:ext cx="5072040" cy="8239320"/>
          </a:xfrm>
          <a:prstGeom prst="foldedCorner">
            <a:avLst>
              <a:gd name="adj" fmla="val 12462"/>
            </a:avLst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«Музыкальная аптеч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D:\Documents and Settings\Администратор\Рабочий стол\Мои документы\Работа ХР\РАБОТА 2009-2010\ДЕНЬ МУЗЫКИ\НОВОЕ СКАНИРОВАНИЕ\Рисунок1.jpg"/>
          <p:cNvPicPr/>
          <p:nvPr/>
        </p:nvPicPr>
        <p:blipFill>
          <a:blip r:embed="rId1"/>
          <a:stretch/>
        </p:blipFill>
        <p:spPr>
          <a:xfrm>
            <a:off x="5000760" y="1357200"/>
            <a:ext cx="3463920" cy="445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D:\Documents and Settings\Администратор\Рабочий стол\Мои документы\Работа ХР\РАБОТА 2009-2010\МУЗЫКОТЕРАПИЯ\Влиягние музыки на человека\доктор.jpg"/>
          <p:cNvPicPr/>
          <p:nvPr/>
        </p:nvPicPr>
        <p:blipFill>
          <a:blip r:embed="rId2"/>
          <a:stretch/>
        </p:blipFill>
        <p:spPr>
          <a:xfrm>
            <a:off x="1131840" y="1428840"/>
            <a:ext cx="3654360" cy="421488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4"/>
          <p:cNvSpPr/>
          <p:nvPr/>
        </p:nvSpPr>
        <p:spPr>
          <a:xfrm>
            <a:off x="3214800" y="635796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Приложение №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D:\Documents and Settings\Администратор\Рабочий стол\Мои документы\Работа ХР\РАБОТА 2009-2010\МУЗЫКОТЕРАПИЯ\Влиягние музыки на человека\солнце.jpg"/>
          <p:cNvPicPr/>
          <p:nvPr/>
        </p:nvPicPr>
        <p:blipFill>
          <a:blip r:embed="rId1"/>
          <a:stretch/>
        </p:blipFill>
        <p:spPr>
          <a:xfrm>
            <a:off x="1714680" y="357120"/>
            <a:ext cx="5500440" cy="5218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17" name=""/>
          <p:cNvSpPr txBox="1"/>
          <p:nvPr/>
        </p:nvSpPr>
        <p:spPr>
          <a:xfrm>
            <a:off x="343440" y="5344200"/>
            <a:ext cx="8599320" cy="14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Слушайте музыку и будьте здоровы!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28760" y="1999800"/>
            <a:ext cx="83008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Цел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just">
              <a:spcBef>
                <a:spcPts val="64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Изучение влияния музыки на эмоциональное состояние человека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just">
              <a:spcBef>
                <a:spcPts val="64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Разработка буклета «Музыкальная аптечка», запись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VD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диска с музыкальными произведениями, положительно влияющими на эмоциональное состояние человека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C:\Program Files\Microsoft Office\CLIPART\PUB60COR\EN00242_.WMF"/>
          <p:cNvPicPr/>
          <p:nvPr/>
        </p:nvPicPr>
        <p:blipFill>
          <a:blip r:embed="rId1"/>
          <a:stretch/>
        </p:blipFill>
        <p:spPr>
          <a:xfrm>
            <a:off x="428760" y="285840"/>
            <a:ext cx="6573600" cy="142884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18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Гипотез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1360" y="3071880"/>
            <a:ext cx="897264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Музыка обладает магической сил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воздействия на человека и способна помочь 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повседневной жизни при стрессов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ситуаци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C:\Program Files\Microsoft Office\CLIPART\PUB60COR\EN00242_.WMF"/>
          <p:cNvPicPr/>
          <p:nvPr/>
        </p:nvPicPr>
        <p:blipFill>
          <a:blip r:embed="rId1"/>
          <a:stretch/>
        </p:blipFill>
        <p:spPr>
          <a:xfrm>
            <a:off x="428760" y="285840"/>
            <a:ext cx="6573600" cy="14288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Documents and Settings\Администратор\Рабочий стол\Мои документы\Работа ХР\РАБОТА 2009-2010\ДЕНЬ МУЗЫКИ\античная музыу.jpg"/>
          <p:cNvPicPr/>
          <p:nvPr/>
        </p:nvPicPr>
        <p:blipFill>
          <a:blip r:embed="rId1"/>
          <a:srcRect l="42918" t="17386" r="16905" b="44299"/>
          <a:stretch/>
        </p:blipFill>
        <p:spPr>
          <a:xfrm>
            <a:off x="0" y="0"/>
            <a:ext cx="9144000" cy="6454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9760" y="428400"/>
            <a:ext cx="85438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Из истории врачевания музыкой. 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0" y="5904000"/>
            <a:ext cx="9144000" cy="9471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84807"/>
                </a:solidFill>
                <a:latin typeface="Arial"/>
              </a:rPr>
              <a:t>О благотворном влиянии музыки знали давно, еще в глубокой дре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35812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«Музыкотерапия»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-  метод, основанный на целительном воздействии музыки на психологическое состояние человек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4" descr="Музыкотерапия для детей"/>
          <p:cNvPicPr/>
          <p:nvPr/>
        </p:nvPicPr>
        <p:blipFill>
          <a:blip r:embed="rId1"/>
          <a:stretch/>
        </p:blipFill>
        <p:spPr>
          <a:xfrm>
            <a:off x="2786040" y="2000160"/>
            <a:ext cx="3429000" cy="4489560"/>
          </a:xfrm>
          <a:prstGeom prst="rect">
            <a:avLst/>
          </a:prstGeom>
          <a:ln w="47520">
            <a:solidFill>
              <a:srgbClr val="ffffff"/>
            </a:solidFill>
            <a:miter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42680" y="213840"/>
            <a:ext cx="635796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лияние музыки на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D:\Documents and Settings\Администратор\Рабочий стол\Мои документы\Работа ХР\РАБОТА 2009-2010\МУЗЫКОТЕРАПИЯ\Влиягние музыки на человека\м21.gif"/>
          <p:cNvPicPr/>
          <p:nvPr/>
        </p:nvPicPr>
        <p:blipFill>
          <a:blip r:embed="rId1"/>
          <a:stretch/>
        </p:blipFill>
        <p:spPr>
          <a:xfrm>
            <a:off x="1643040" y="571680"/>
            <a:ext cx="6286680" cy="62863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4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solidFill>
            <a:srgbClr val="f6a8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Влияние музыки на человека объясня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воздействием вибрации зву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D:\Documents and Settings\Администратор\Рабочий стол\Мои документы\Работа ХР\РАБОТА 2009-2010\МУЗЫКОТЕРАПИЯ\Влиягние музыки на человека\м23.gif"/>
          <p:cNvPicPr/>
          <p:nvPr/>
        </p:nvPicPr>
        <p:blipFill>
          <a:blip r:embed="rId2"/>
          <a:stretch/>
        </p:blipFill>
        <p:spPr>
          <a:xfrm>
            <a:off x="2209680" y="1285920"/>
            <a:ext cx="5253120" cy="535788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5"/>
          <p:cNvSpPr/>
          <p:nvPr/>
        </p:nvSpPr>
        <p:spPr>
          <a:xfrm>
            <a:off x="714240" y="285840"/>
            <a:ext cx="8072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Классическая музыка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создана по всем правилам природной гармонии. Пропущенная черед сердце, она становиться целебной и радует нас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C:\Documents and Settings\Администратор\Мои документы\Мои рисунки\рок\image02.jpg"/>
          <p:cNvPicPr/>
          <p:nvPr/>
        </p:nvPicPr>
        <p:blipFill>
          <a:blip r:embed="rId1"/>
          <a:srcRect l="0" t="0" r="16124" b="0"/>
          <a:stretch/>
        </p:blipFill>
        <p:spPr>
          <a:xfrm>
            <a:off x="142920" y="2214720"/>
            <a:ext cx="8715240" cy="40003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285840" y="43308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Композиции с частотой основного ритма от 2 до 4 герц, при громкости в 40-50 децибел, вызывают сильное возбуждение, вплоть до временной потери контроля над собой, агрессивность к окружающим или, наоборот, негативные эмоции к се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4f4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Факторы воздействия музыки на состояние че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лове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Заголовок 1"/>
          <p:cNvSpPr/>
          <p:nvPr/>
        </p:nvSpPr>
        <p:spPr>
          <a:xfrm>
            <a:off x="857160" y="407196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Р и т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6643800" y="350028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Гром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Заголовок 1"/>
          <p:cNvSpPr/>
          <p:nvPr/>
        </p:nvSpPr>
        <p:spPr>
          <a:xfrm>
            <a:off x="2071800" y="5572080"/>
            <a:ext cx="5143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Индивидуальное воспри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C:\Documents and Settings\Администратор\Мои документы\Мои рисунки\Музыка\music.jpg"/>
          <p:cNvPicPr/>
          <p:nvPr/>
        </p:nvPicPr>
        <p:blipFill>
          <a:blip r:embed="rId1"/>
          <a:srcRect l="0" t="7140" r="0" b="0"/>
          <a:stretch/>
        </p:blipFill>
        <p:spPr>
          <a:xfrm>
            <a:off x="3429000" y="2857680"/>
            <a:ext cx="2786040" cy="2587320"/>
          </a:xfrm>
          <a:prstGeom prst="rect">
            <a:avLst/>
          </a:prstGeom>
          <a:ln w="25560">
            <a:solidFill>
              <a:srgbClr val="e46c0a"/>
            </a:solidFill>
            <a:miter/>
          </a:ln>
        </p:spPr>
      </p:pic>
      <p:pic>
        <p:nvPicPr>
          <p:cNvPr id="81" name="Picture 5" descr="C:\Documents and Settings\Администратор\Мои документы\Мои рисунки\Музыка\kid-playing-piano.jpg"/>
          <p:cNvPicPr/>
          <p:nvPr/>
        </p:nvPicPr>
        <p:blipFill>
          <a:blip r:embed="rId2"/>
          <a:stretch/>
        </p:blipFill>
        <p:spPr>
          <a:xfrm>
            <a:off x="214200" y="1000080"/>
            <a:ext cx="3414960" cy="2927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C:\Documents and Settings\Администратор\Мои документы\Мои рисунки\1296.jpg"/>
          <p:cNvPicPr/>
          <p:nvPr/>
        </p:nvPicPr>
        <p:blipFill>
          <a:blip r:embed="rId3"/>
          <a:stretch/>
        </p:blipFill>
        <p:spPr>
          <a:xfrm>
            <a:off x="6429240" y="1357200"/>
            <a:ext cx="2498760" cy="1992600"/>
          </a:xfrm>
          <a:prstGeom prst="rect">
            <a:avLst/>
          </a:prstGeom>
          <a:ln w="19080">
            <a:solidFill>
              <a:srgbClr val="e46c0a"/>
            </a:solidFill>
            <a:miter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2T07:26:58Z</dcterms:modified>
  <cp:revision>57</cp:revision>
  <dc:subject/>
  <dc:title>Влияние музыки на состояние человека</dc:title>
</cp:coreProperties>
</file>