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19F8-10F4-40B0-A1DB-833BC03C353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: «Значение крови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4 клас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ова Людмила Николаевна, учитель начальных классов «СОШ № 4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3C6E-4DD1-4074-A689-8EBAF3CA4F6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A13A-6751-4ABD-8B1C-D893A690DC8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в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существ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ающее тему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тор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а прилагатель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ющих интересные признак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еть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глагол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ющи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, свойственные данному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етвёрт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ра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крывающая су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ят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дводяще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856B-100F-453E-98F4-F651A5684A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ит питательные ве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абжает клетки кислоро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ет постоянную температуру т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ит вредные ве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ет от вредных микроб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0293-C04D-407F-BE7C-7C17BAE1A2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екстом (стр.33 -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ты на полях ст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«зна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совершенно новая информа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«не поня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«знал, но забы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939C-FBD7-4EA6-BB78-3931493B142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ритр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йк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мб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A835-A35E-44F8-B848-A8FFD66992A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8253-AA50-4B4D-84EA-BDB5B5487D5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FD00-E763-42E1-B5B1-4C7F37C4F33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9AEC-F781-48FD-945B-F9C97B72999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7717-D679-4C55-95FD-1C17F3C9C58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3FDE-79AF-4121-8AD9-E5C7741410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D21B-B9D3-4FDD-9F4E-4B9C1EE1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E3F6-F60B-40EE-AD18-98E78DD3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023-1F81-4419-B4CD-8D7C78C9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D24-E5EE-44D8-9BE4-BB69BABF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3FD4-79C5-494F-AD67-FBE744F1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914D-4D1C-4D74-8BCF-A209DBE6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A5C8-72FA-432F-B570-D1E6061E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2CC6-0BCD-428A-80B9-D1B51BD4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0684-E44A-49D6-ADBF-30DAB0BD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F0AF-8655-4D08-9208-D0E219BC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A54E-C8CF-4A8A-A508-B0C2DD1A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BD0-9DAF-4848-89A1-D3014B49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D05B-93C3-4EDF-8556-7B163C7A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6D58-6263-4C9F-A565-60D6C537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B129-D0CB-4DC5-9EA3-90F19F68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9E44-6583-4664-9CFE-7E3F0111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AD55-B55D-4633-A6F2-858F9A71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AB3-8013-462C-8E00-3468007C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A54-B419-4FFA-B130-2745C390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1169-FA12-493A-B952-3B783F0B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3002-812B-4690-93D2-4149C60C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CAA-9E16-432D-94BE-B73BBCA1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69E5-9791-49E9-B131-8C793CF0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227D-68E1-4B67-8E0F-3E64A4C7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8F55-A4CA-455A-9B3D-7C9C4DD7A08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EBF6-E60E-44D7-B044-3455B1DB2A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ема: «Значение крови»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( 4 класс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8421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това Людмила Николаевна, учитель начальных классов «СОШ № 40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4" descr="6"/>
          <p:cNvPicPr/>
          <p:nvPr/>
        </p:nvPicPr>
        <p:blipFill>
          <a:blip r:embed="rId1"/>
          <a:stretch/>
        </p:blipFill>
        <p:spPr>
          <a:xfrm>
            <a:off x="539640" y="1413000"/>
            <a:ext cx="763272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в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– существительн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значающее тему уро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тор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ва прилагатель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вающих интересные признак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м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реть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 глагола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вающи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ия, свойственные данному предм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етвёрт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раз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раскрывающая суть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в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ят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ществительн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одводящее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ог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во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ов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носит питатель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абжает клетки кислород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держивает постоянную температуру те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водит вред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щает от вредных микроб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бота с текстом (стр.33 -34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еты на полях страни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«знаю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«совершенно новая информац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 «не поня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«знал, но забы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остав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6560" y="1770120"/>
            <a:ext cx="354024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ритр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йк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38480" cy="33433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Picture 18" descr="1"/>
          <p:cNvPicPr/>
          <p:nvPr/>
        </p:nvPicPr>
        <p:blipFill>
          <a:blip r:embed="rId1"/>
          <a:stretch/>
        </p:blipFill>
        <p:spPr>
          <a:xfrm>
            <a:off x="684360" y="1249200"/>
            <a:ext cx="7991280" cy="5373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2"/>
          <p:cNvPicPr/>
          <p:nvPr/>
        </p:nvPicPr>
        <p:blipFill>
          <a:blip r:embed="rId1"/>
          <a:stretch/>
        </p:blipFill>
        <p:spPr>
          <a:xfrm>
            <a:off x="684360" y="1268280"/>
            <a:ext cx="7921440" cy="53262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Picture 4" descr="3"/>
          <p:cNvPicPr/>
          <p:nvPr/>
        </p:nvPicPr>
        <p:blipFill>
          <a:blip r:embed="rId1"/>
          <a:stretch/>
        </p:blipFill>
        <p:spPr>
          <a:xfrm>
            <a:off x="900000" y="1484280"/>
            <a:ext cx="7559640" cy="4967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Picture 4" descr="4"/>
          <p:cNvPicPr/>
          <p:nvPr/>
        </p:nvPicPr>
        <p:blipFill>
          <a:blip r:embed="rId1"/>
          <a:stretch/>
        </p:blipFill>
        <p:spPr>
          <a:xfrm>
            <a:off x="755640" y="1441440"/>
            <a:ext cx="7416720" cy="4987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4" descr="5"/>
          <p:cNvPicPr/>
          <p:nvPr/>
        </p:nvPicPr>
        <p:blipFill>
          <a:blip r:embed="rId1"/>
          <a:stretch/>
        </p:blipFill>
        <p:spPr>
          <a:xfrm>
            <a:off x="539640" y="1413000"/>
            <a:ext cx="7704360" cy="51814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9:36:40Z</dcterms:created>
  <dc:creator>Vovan</dc:creator>
  <dc:description/>
  <dc:language>en-US</dc:language>
  <cp:lastModifiedBy>LEGION2</cp:lastModifiedBy>
  <dcterms:modified xsi:type="dcterms:W3CDTF">2015-04-22T12:21:43Z</dcterms:modified>
  <cp:revision>6</cp:revision>
  <dc:subject/>
  <dc:title>Тема: «Значение крови» ( 4 класс)</dc:title>
</cp:coreProperties>
</file>