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77E9-292C-4EFB-B4F6-6569F1B62C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: «Значение крови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 4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ова Людмила Николаевна, учитель начальных классов «СОШ № 4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CB8C-FF60-41AE-BD48-1B95633B29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5E7B-D569-48BB-83D8-4FD8C92029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в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значающее тему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тор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 прилагатель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интересные признак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ть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 глагол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вающих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я, свойственные данному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етвёр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крывающая су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ая стр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водяще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B972-7994-4FE2-8825-0666B0AE0F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сит питатель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абжает клетки кислор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ет постоянную температуру т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ит вредные ве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ает от вредных микроб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F1D1-16D2-4C79-83BC-3A11D2042B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текстом (стр.33 -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ты на полях стран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«зн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совершенно новая информа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«не поня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«знал, но забы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F9F1-3BA6-4B5B-B0A6-A67C3DFE23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итр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йк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мбоци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DE4D-B3BB-41C0-994F-2A199602F79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100F-4544-44F3-8406-D0CED76BE17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D8E-D861-47CA-9E64-A9BFF99928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4B1E-31C9-42A7-81EB-AEC273636D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0FF-3671-49BF-AB79-C584015017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7B53-263C-48A8-A351-2058139206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E5C-F66C-4D59-8C50-8BECF182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653-B299-422A-8D50-896DDF5E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16B-E4AA-47F0-8462-5C33D840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323-903D-4743-8D90-814CCA45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8E75-38F3-432E-9FCB-0273377D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9B12-F109-4084-99F9-77D33E25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A1A1-8F67-4B9B-B7B7-8CF0C91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7D40-793E-4F16-94E8-AA833FA6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1907-2F3F-431E-89C7-45708DEB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B75-635D-4DDF-8143-5C94E16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1C41-71FB-41D8-A0A0-C2119361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C64-AE56-41A2-BD32-EEF3D593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7BF9-68AD-46AC-A3A0-6713700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8975-C5DA-402A-83C0-6DC22B97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1B75-229A-445E-8C1F-0DB94BB2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A8DD-2DC2-422D-9BBD-8B8B5621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238-9ABB-447E-987E-F8B326ED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0017-4D89-4AD5-84E9-81E9289A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FAB-CE2F-48B1-9C4E-3646C7CC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357-03CC-4D1E-80C4-B99910C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240-CD4E-4284-9BF4-70B1B37D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77B-6427-4B56-A982-DD6011BF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329-9CC2-4CAA-891C-D4EBBC94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695A-FC03-4CC9-8D50-228EF376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6D43-B9B9-4C49-A8A7-929C191EFF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438F-3074-40F8-8C2A-D409DD22DD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Тема: «Значение крови»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( 4 класс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8421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ова Людмила Николаевна, учитель начальных классов «СОШ № 40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4" descr="6"/>
          <p:cNvPicPr/>
          <p:nvPr/>
        </p:nvPicPr>
        <p:blipFill>
          <a:blip r:embed="rId1"/>
          <a:stretch/>
        </p:blipFill>
        <p:spPr>
          <a:xfrm>
            <a:off x="539640" y="1413000"/>
            <a:ext cx="763272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инквей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рв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 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означающее тему уро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ва прилагатель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интересные признаки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Треть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 глагола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вающи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йствия, свойственные данному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Четвёр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р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раскрывающая суть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вл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ятая стро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ительно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подводящее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ог,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во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ов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носит питатель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бжает клетки кислородом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ивает постоянную температуру тел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водит вредные веществ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щает от вредных микроб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бота с текстом (стр.33 -34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еты на полях страни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+ «зна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«совершенно новая информац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? «не поня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= «знал, но забыл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остав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6560" y="1770120"/>
            <a:ext cx="354024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лаз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ритр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йк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ци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38480" cy="33433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1" name="Picture 18" descr="1"/>
          <p:cNvPicPr/>
          <p:nvPr/>
        </p:nvPicPr>
        <p:blipFill>
          <a:blip r:embed="rId1"/>
          <a:stretch/>
        </p:blipFill>
        <p:spPr>
          <a:xfrm>
            <a:off x="684360" y="1249200"/>
            <a:ext cx="7991280" cy="537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2"/>
          <p:cNvPicPr/>
          <p:nvPr/>
        </p:nvPicPr>
        <p:blipFill>
          <a:blip r:embed="rId1"/>
          <a:stretch/>
        </p:blipFill>
        <p:spPr>
          <a:xfrm>
            <a:off x="684360" y="1268280"/>
            <a:ext cx="7921440" cy="53262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4" descr="3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4967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Picture 4" descr="4"/>
          <p:cNvPicPr/>
          <p:nvPr/>
        </p:nvPicPr>
        <p:blipFill>
          <a:blip r:embed="rId1"/>
          <a:stretch/>
        </p:blipFill>
        <p:spPr>
          <a:xfrm>
            <a:off x="755640" y="1441440"/>
            <a:ext cx="7416720" cy="4987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хема кров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4" descr="5"/>
          <p:cNvPicPr/>
          <p:nvPr/>
        </p:nvPicPr>
        <p:blipFill>
          <a:blip r:embed="rId1"/>
          <a:stretch/>
        </p:blipFill>
        <p:spPr>
          <a:xfrm>
            <a:off x="539640" y="1413000"/>
            <a:ext cx="7704360" cy="51814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9:36:40Z</dcterms:created>
  <dc:creator>Vovan</dc:creator>
  <dc:description/>
  <dc:language>en-US</dc:language>
  <cp:lastModifiedBy>LEGION2</cp:lastModifiedBy>
  <dcterms:modified xsi:type="dcterms:W3CDTF">2015-04-22T12:21:43Z</dcterms:modified>
  <cp:revision>6</cp:revision>
  <dc:subject/>
  <dc:title>Тема: «Значение крови» ( 4 класс)</dc:title>
</cp:coreProperties>
</file>