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CC8D-626C-410F-9897-73EAA3AFEE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Значение кров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4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ова Людмила Николаевна, учитель начальных классов «СОШ № 4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71D7-7648-40B9-BE73-7DF80753A4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CACA-D356-452C-B01E-55B77BD545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в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ающее тему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тор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 прилаг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интересные признак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ть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лагол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, свойственные данному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твёр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крывающая су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водяще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37F3-B7A6-4FEB-A203-DE36342CD5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ит питатель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бжает клетки кислор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ет постоянную температуру т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ит вред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от вредных микро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B4BA-6962-4C5B-AEC4-E31A015134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(стр.33 -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ты на полях ст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«зн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совершенно новая информ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«не поня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«знал, но за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A9FA-0541-4B48-845B-F1E3719CA26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итр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4B51-3FA7-4AAD-863C-9607253274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27F2-3B33-4F40-8E77-06718975A1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66CD-4DF2-400E-9C76-3556015A61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18EE-809C-474B-87C7-D7886F8CDB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375-69BC-4CA5-A8DF-E56387BD53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9D21-629B-4C84-9A6C-0D8F3B06B2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783-0EFC-42F7-9B2E-DC88377A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F92-CBFE-48E6-A1D3-F4A9BA00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626-304D-405C-BE3A-83A52454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6A1-14D9-45E6-A156-C8DB3DDD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D724-A4BA-43AA-AED1-0CAAD1A6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0C6C-0CBA-4D8E-A851-E062B746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C6A7-0A46-439C-ACB3-7B104AB2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5EC4-5C92-4A92-BD3E-E09F852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D96C-EF8A-48F3-9EBD-00FC43C8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5DA3-15A9-4093-AF90-C478BC46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5063-26ED-4D87-8B57-1E827BB2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F7D-4C62-434F-AF48-A587F6B2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E7F9-4370-4E3D-B312-365550FF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7AFB-1B1B-4555-BFC2-9BB7323D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E0B7-6E02-40B6-A2F7-E5A87718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9BD6-6879-4CAB-A081-797A0AB5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965B-30E9-4835-8E4F-BD581E7D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299-DF88-4B40-B7C8-79A7692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4CE-F51E-42AD-9F42-34A094A9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87E-2983-4149-BDDB-26EF097C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043-EFCF-4C73-89CA-EB2F61B1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B29-DB57-4529-9274-0CBA92D3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DD7-BCC5-4CDA-B3EF-729B70D4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D67-1ABF-40EF-AFDC-7BC143E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23C5-B43F-4C40-96FE-544677BFCE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C388-E9C3-4FE6-8735-04C9D41334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6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18" descr="1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2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3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4" descr="4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5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LEGION2</cp:lastModifiedBy>
  <dcterms:modified xsi:type="dcterms:W3CDTF">2015-04-22T12:21:43Z</dcterms:modified>
  <cp:revision>6</cp:revision>
  <dc:subject/>
  <dc:title>Тема: «Значение крови» ( 4 класс)</dc:title>
</cp:coreProperties>
</file>