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F7A8-5E5D-4541-A09C-664FC8A060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Monotype Corsiva"/>
              </a:rPr>
              <a:t>Про воз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1600-EE13-4AF0-B08D-8B2EF41C8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оздух – это смесь раз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798-97DC-47F2-B0C3-68D29C3AE2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D5D-6AF4-42BE-BECE-0FE8E0510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дуем воздушный шарик. Тепе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дохнём воздух из него. Выдохн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Ещё раз вдохнём. Становится всё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руднее вдыхать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ы «выловили» весь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шарика. Если бы внутри ша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сейчас оказалась мышка, 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дохнулась 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7EC-9841-4D54-AD4C-DBBCDC66D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204-03E2-4066-ADF4-30EDB30A4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живое давно 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охнулось, если 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ния. И ду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н, и трави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рохотные водорос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дно ловят углеки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, он необходим растениям для питания.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щают в воздух кислород. Леса, луга, по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, сады – все растения на Земле вмес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кислого газа дают нам живительный кисло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вокруг зелени, тем чище возду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1C2-1009-4D46-AC45-14844F264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тчего загрязняется возду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344-498C-42B3-83C2-12232DDF26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бота по учеб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текст на 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 схему в учебнике (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объясните значение 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обходимо делать, чтобы защитить воздух от загряз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3FD5-B206-463D-B270-64951F4EC9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пользование воздуха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8AD-F5B8-4159-B071-796693B09E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отнести к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DFD-F370-4DB4-BB1E-0A965FFBB7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9B2-30C9-4470-AEEA-276355F38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F193-58EE-4EE7-A46F-A6E9F2D87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не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09AD-8514-4E19-83B0-AFEE9F69F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лово по первым буквам в названия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3B0-7B0B-4602-80F2-E18208495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– прозрачный невидим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й и бесцветн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есомою косы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кутыва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 лесу – густой, душ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свежестью смолист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дубом и соснЛетом он бывает тёпл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ет холодом зи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ей красит ст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лежит на них кай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 нём не гово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 мы его вдыхае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дь нам необход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EE1-2B54-48EB-9231-2ED0E5CD6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Помашите ладошками окол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ы ощущаем легкий ветерок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вижение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A5C-5A49-4329-8B33-BB3AD9B31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озьмём пустую прозрачную пластиков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у и проверим, что там действ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ичего нет. Если мы опустим бутылку в вод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о увидим, что из горлышка вы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узырьки. Это вода вытесняет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и. Большинство предметов, 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ыглядят пусты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самом де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полнены  воздух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EFD-D249-457E-88E1-662F47A18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282-D34D-4D01-AB78-5E397554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F91-E5E4-48B4-935D-FE41629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F1A-7982-40D8-9EF9-CBD6899A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BEC-7BB3-4537-9F4C-1E075FD5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72B6E-AEDC-40A8-A5E1-7886614C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4D6E-5FD8-4505-BA67-8216FA9E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5550-8E98-465E-B75E-2E15A663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C1FB-0D46-4818-9BB3-ED5FCAA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F223-8C81-4F04-AA73-12DFC07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AE29D-905C-454F-A5FA-19CDAD7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A149E-7957-4D02-8CFE-FBF8B0C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ED5-B803-48A4-A536-D5260B7A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B0CB7-BBBE-490F-A80C-C51924D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5344-267C-4015-8E92-7F7AC86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6936-F5D1-48E5-9CC8-826C987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26A7-E92A-4417-AA70-285FB6A1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72FE6-A8CC-45E9-B99F-E5C648C8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2A0-4D46-4EC8-91B0-0247DB1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9C8-14F0-4EC3-89B7-448B845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326-777C-459B-91D8-ADFBD2C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422-7287-4E74-8A68-0A636B65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ECB-EECB-4535-8B8C-B27356B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A24-C35F-4EE8-8F67-AD77FA61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A45-3C4D-40FB-90E4-C86D45C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8FE-E03E-4B5B-97CD-A455BE20CA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7D73-0F79-45D5-9722-4E392F0DAE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64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9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0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1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2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0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1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2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3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2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3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8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9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1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33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4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5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9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0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41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2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43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44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9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9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LEGION2</cp:lastModifiedBy>
  <dcterms:modified xsi:type="dcterms:W3CDTF">2015-04-22T13:05:05Z</dcterms:modified>
  <cp:revision>6</cp:revision>
  <dc:subject/>
  <dc:title>Слайд 1</dc:title>
</cp:coreProperties>
</file>