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F0E-D8C3-47B3-8C93-17CB2E689A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Monotype Corsiva"/>
              </a:rPr>
              <a:t>Про воз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1F87-D9E9-4A08-AD16-6F641D78FA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оздух – это смесь раз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B37-94FA-416C-BBE5-4D46A0019C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548-7AAD-4C27-8A61-9B0CEE19E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дуем воздушный шарик. Тепе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дохнём воздух из него. Выдохн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Ещё раз вдохнём. Становится всё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руднее вдыхать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ы «выловили» весь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шарика. Если бы внутри ша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сейчас оказалась мышка, 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дохнулась 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0FE-F917-473D-A98E-081763135A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26B-A0F9-4C5F-B5E1-6E0C9BF946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живое давно 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охнулось, если 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ния. И ду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н, и трави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рохотные водорос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дно ловят углеки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, он необходим растениям для питания.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щают в воздух кислород. Леса, луга, по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и, сады – все растения на Земле вмес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кислого газа дают нам живительный кисло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вокруг зелени, тем чище возду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26A0-255A-4C97-AA48-FD07EC59D7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тчего загрязняется возду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98E-2319-47DC-97F3-152FDE9AE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бота по учеб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текст на 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 схему в учебнике (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объясните значение 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обходимо делать, чтобы защитить воздух от загряз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D3E-14B7-4C40-A7B7-615E6D9E59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пользование воздуха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8FE-A37F-4D1A-AEEB-72F0F888BE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отнести к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984C-760A-4592-AA90-E07A02D4FD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эти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CA33-72B7-43A0-B3C1-4DAD59046D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5001-2E59-49DE-BEBC-59033AEC91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не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44B-4A02-4D7C-BB4A-35FFFEAB8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лово по первым буквам в названия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1302-0C00-4BFE-95C5-E02CE97589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– прозрачный невидим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й и бесцветн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есомою косы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кутыва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 лесу – густой, душ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свежестью смолист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дубом и соснЛетом он бывает тёпл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ет холодом зи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ей красит ст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лежит на них кай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 нём не гово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 мы его вдыхае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дь нам необход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F98-DB64-4353-A099-BBB436D94B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Помашите ладошками окол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ы ощущаем легкий ветерок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вижение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2D6C-ABAC-42A3-A38C-E289347A32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озьмём пустую прозрачную пластиков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у и проверим, что там действ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ичего нет. Если мы опустим бутылку в вод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о увидим, что из горлышка вы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узырьки. Это вода вытесняет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и. Большинство предметов, 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ыглядят пусты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самом де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полнены  воздух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6FE-C7B8-4C75-83DC-33F392A842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B71-E8C2-45E4-BD59-53B11A9C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467-465E-47EA-95C2-AAAEF043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FF6-C820-4204-90F5-97FB7F75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664-9DBB-46EC-8E6B-A97A1E11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9E16F-0A4F-4ACF-9EAA-6A5685A8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B5FF4-0821-410E-9F39-7D7D965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53118-9521-4B83-9363-45C9098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60F15-48C9-4189-89B2-3BCAD7BC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05C3E-F031-4DA8-B414-D30C085F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A747A-0CEC-4950-8FB1-F3B6E5D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DD092-553B-4F19-8B0D-E329094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75B-1AEF-471B-B385-42DF404E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96513-AB1B-41AF-A3B1-05994F1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CCE4-B46A-40A6-9F0E-64A2B7A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295A3-0785-4B8E-AE5A-8626A678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FBA25-186D-42AE-90C5-9D5D73AC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E2E6E-68CD-40CF-90B2-0D9393B5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AE1-4B4A-44C0-A70B-DFBF0CC8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12E-E386-4938-B668-5F1000A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2FF-EAA9-4492-AE6D-41A5AAF8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914-E87F-4B12-AF20-AAC0947B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DA7-FF7B-4356-9D55-2BDB513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5D5-9E7F-4398-92D9-4CF4A3A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8F5-64DE-4FE0-8A98-940C42B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3A2-C22C-476F-85D8-D32F7C54DE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0711-07EE-4D00-8195-1D64CD830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64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76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9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0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1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2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0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1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2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3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2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3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4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8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9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1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2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33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4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5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9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0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41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2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43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44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49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59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LEGION2</cp:lastModifiedBy>
  <dcterms:modified xsi:type="dcterms:W3CDTF">2015-04-22T13:05:05Z</dcterms:modified>
  <cp:revision>6</cp:revision>
  <dc:subject/>
  <dc:title>Слайд 1</dc:title>
</cp:coreProperties>
</file>