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7.jpeg" ContentType="image/jpeg"/>
  <Override PartName="/ppt/media/image16.gif" ContentType="image/gif"/>
  <Override PartName="/ppt/media/image20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2E41-BEE3-4DC4-A740-166C673B738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Monotype Corsiva"/>
              </a:rPr>
              <a:t>Про возду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23B8-0F4F-4CD5-9910-1BD5517099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оздух – это смесь разных га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6CE2-261C-481E-8BDB-2999FD0AF5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Какой из газов в воздухе самый важны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ри дыхании живые существа поглощ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 воздуха кислород, а выде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45CF-DB68-46DB-ACF6-70622A2980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дуем воздушный шарик. Тепе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дохнём воздух из него. Выдохн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Ещё раз вдохнём. Становится всё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руднее вдыхать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Мы «выловили» весь воздух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шарика. Если бы внутри ша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сейчас оказалась мышка, 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задохнулась 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197E-BA35-4D23-98CE-87587CA699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Какой из газов в воздухе самый важны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ри дыхании живые существа поглощ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 воздуха кислород, а выде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EF37-D020-4ED1-8A39-3CEFDF5A86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живое давно 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охнулось, если 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ния. И дуб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ан, и трави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рохотные водорос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дно ловят углекисл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, он необходим растениям для питания.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щают в воздух кислород. Леса, луга, по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ки, сады – все растения на Земле вмес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кислого газа дают нам живительный кислор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вокруг зелени, тем чище возду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D747-F6BE-4E74-85CD-457EF5F5A3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тчего загрязняется возду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73A6-0C47-41CF-927B-5F76D9E2FD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бота по учеб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текст на ст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 схему в учебнике (ст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объясните значение сх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обходимо делать, чтобы защитить воздух от загряз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6821-3EBF-48E2-B120-34B7A0400F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пользование воздуха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B611-277D-4BFD-B243-53D6B5AAF2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ельзя отнести к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C313-408F-42F2-B4D0-0137412465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группы можно разделить эти предме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7192-2A0A-437F-B671-791BF6D11B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едметы относятся к живой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AA23-944B-4F04-8EF5-473F82FE52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едметы относятся к неживой прир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E1E0-3D6B-4A3F-83FB-5E676ADEC3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лово по первым буквам в названиях предм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44D9-A29E-4F7A-B3CC-DB07B6A2B9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– прозрачный невидим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й и бесцветн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есомою косы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кутывает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 лесу – густой, душист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хнет свежестью смолист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хнет дубом и соснЛетом он бывает тёпл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ет холодом зим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иней красит сте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лежит на них кайм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 нём не говор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 мы его вдыхаем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едь нам необходи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2D52-4C80-426B-BC36-AE8A84C9B5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Помашите ладошками около л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Мы ощущаем легкий ветерок –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движение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E0AA-8BEF-49C0-9816-FAB8CB629D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пыт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озьмём пустую прозрачную пластиков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бутылку и проверим, что там действи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ичего нет. Если мы опустим бутылку в вод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о увидим, что из горлышка выход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пузырьки. Это вода вытесняет воздух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бутылки. Большинство предметов, котор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выглядят пусты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самом дел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заполнены  воздух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AEAD-1918-46C6-BDE7-57FECD01E8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B9E0-F2E9-4722-8D9E-0790C2E3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2CD-096F-4CA6-AD26-A5A04C1C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C12-3C4D-44FB-9BF1-ECFA3D62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746-05E2-4063-B2E0-B82DE13D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FF78E-8D26-4AF8-9055-86BAD1C4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30203-211E-452F-BDC0-19B56D89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E747B-E86B-42AD-9E67-641C2630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9C6FF-FD9B-45AD-B7E7-F964EEE8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ABAC9-4246-42BF-B918-B8C7E756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0A4C6-B9F2-499A-BBD0-E24F73FD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26BA1-2D6F-44F2-85F8-FA1BD439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77D-9521-478E-A957-0CE79F60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A2796-ECF3-4C42-BBCE-FF4557E7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3A9A8-6B4A-4F81-B2EE-91C050F0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2507B-7A6B-498F-8E53-04E96DF6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56AA2-47F8-4B5B-95D0-6FD9F8FC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D6506-E452-421D-8FAB-C65D88AB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35C-FCA0-40CC-AC42-B62CBD88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406-B1E2-46E8-8912-BAA1B480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44E-FA12-48BF-A72B-B31F3D47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778-01EF-4461-9B52-11CF3F32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063-27BD-48A5-A0F5-4732CE01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EEF-4DA8-427F-A69A-942369E4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937-5FBD-4DA2-B735-0B7DF1A3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7274-267F-4D5C-BB38-3186C8C18A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5715000"/>
            <a:ext cx="9169560" cy="97776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95dc"/>
            </a:gs>
            <a:gs pos="100000">
              <a:srgbClr val="ffff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Freeform 9"/>
          <p:cNvSpPr/>
          <p:nvPr/>
        </p:nvSpPr>
        <p:spPr>
          <a:xfrm>
            <a:off x="0" y="5181480"/>
            <a:ext cx="9169560" cy="978120"/>
          </a:xfrm>
          <a:custGeom>
            <a:avLst/>
            <a:gdLst/>
            <a:ahLst/>
            <a:rect l="l" t="t" r="r" b="b"/>
            <a:pathLst>
              <a:path w="5776" h="616">
                <a:moveTo>
                  <a:pt x="0" y="58"/>
                </a:moveTo>
                <a:cubicBezTo>
                  <a:pt x="116" y="98"/>
                  <a:pt x="606" y="574"/>
                  <a:pt x="1584" y="586"/>
                </a:cubicBezTo>
                <a:cubicBezTo>
                  <a:pt x="2562" y="598"/>
                  <a:pt x="4364" y="324"/>
                  <a:pt x="5768" y="0"/>
                </a:cubicBezTo>
                <a:lnTo>
                  <a:pt x="5776" y="32"/>
                </a:lnTo>
                <a:cubicBezTo>
                  <a:pt x="4336" y="356"/>
                  <a:pt x="2550" y="616"/>
                  <a:pt x="1584" y="598"/>
                </a:cubicBezTo>
                <a:cubicBezTo>
                  <a:pt x="618" y="580"/>
                  <a:pt x="152" y="157"/>
                  <a:pt x="4" y="92"/>
                </a:cubicBezTo>
                <a:lnTo>
                  <a:pt x="0" y="5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A93B-B148-41A9-9E03-499CDF41B1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3399"/>
                </a:solidFill>
                <a:latin typeface="Monotype Corsiva"/>
              </a:rPr>
              <a:t>Про возду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"/>
          <p:cNvPicPr/>
          <p:nvPr/>
        </p:nvPicPr>
        <p:blipFill>
          <a:blip r:embed="rId1"/>
          <a:stretch/>
        </p:blipFill>
        <p:spPr>
          <a:xfrm>
            <a:off x="179280" y="189000"/>
            <a:ext cx="2880000" cy="2158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8" name="Picture 5" descr="1"/>
          <p:cNvPicPr/>
          <p:nvPr/>
        </p:nvPicPr>
        <p:blipFill>
          <a:blip r:embed="rId2"/>
          <a:stretch/>
        </p:blipFill>
        <p:spPr>
          <a:xfrm>
            <a:off x="5940360" y="4543560"/>
            <a:ext cx="3000600" cy="21254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оздух – это смесь разных га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11" descr="Рисунок1.png"/>
          <p:cNvPicPr/>
          <p:nvPr/>
        </p:nvPicPr>
        <p:blipFill>
          <a:blip r:embed="rId1"/>
          <a:stretch/>
        </p:blipFill>
        <p:spPr>
          <a:xfrm rot="18685800">
            <a:off x="2860560" y="2331720"/>
            <a:ext cx="4102200" cy="3559320"/>
          </a:xfrm>
          <a:prstGeom prst="rect">
            <a:avLst/>
          </a:prstGeom>
          <a:ln w="0">
            <a:noFill/>
          </a:ln>
        </p:spPr>
      </p:pic>
      <p:sp>
        <p:nvSpPr>
          <p:cNvPr id="164" name="Овальная выноска 9"/>
          <p:cNvSpPr/>
          <p:nvPr/>
        </p:nvSpPr>
        <p:spPr>
          <a:xfrm>
            <a:off x="395280" y="1628640"/>
            <a:ext cx="3429000" cy="857520"/>
          </a:xfrm>
          <a:prstGeom prst="wedgeEllipseCallout">
            <a:avLst>
              <a:gd name="adj1" fmla="val 45231"/>
              <a:gd name="adj2" fmla="val 158518"/>
            </a:avLst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углекислый газ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ьная выноска 12"/>
          <p:cNvSpPr/>
          <p:nvPr/>
        </p:nvSpPr>
        <p:spPr>
          <a:xfrm>
            <a:off x="5508720" y="1844640"/>
            <a:ext cx="3429000" cy="857160"/>
          </a:xfrm>
          <a:prstGeom prst="wedgeEllipseCallout">
            <a:avLst>
              <a:gd name="adj1" fmla="val -52731"/>
              <a:gd name="adj2" fmla="val 98333"/>
            </a:avLst>
          </a:prstGeom>
          <a:solidFill>
            <a:srgbClr val="99ff66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2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ьная выноска 13"/>
          <p:cNvSpPr/>
          <p:nvPr/>
        </p:nvSpPr>
        <p:spPr>
          <a:xfrm>
            <a:off x="5435640" y="5661000"/>
            <a:ext cx="3429000" cy="857160"/>
          </a:xfrm>
          <a:prstGeom prst="wedgeEllipseCallout">
            <a:avLst>
              <a:gd name="adj1" fmla="val -54050"/>
              <a:gd name="adj2" fmla="val -103694"/>
            </a:avLst>
          </a:prstGeom>
          <a:solidFill>
            <a:srgbClr val="00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hh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50560" y="1915920"/>
            <a:ext cx="7093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дуем воздушный шарик. Тепе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дохнём воздух из него. Выдохн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Ещё раз вдохнём. Становится вс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руднее вдыхать.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ы «выловили» весь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шарика. Если бы внутри шар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ейчас оказалась мышка, 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дохнулась 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10"/>
          <p:cNvPicPr/>
          <p:nvPr/>
        </p:nvPicPr>
        <p:blipFill>
          <a:blip r:embed="rId2"/>
          <a:stretch/>
        </p:blipFill>
        <p:spPr>
          <a:xfrm>
            <a:off x="111240" y="1628640"/>
            <a:ext cx="1796760" cy="410544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176" name="Text Box 7"/>
          <p:cNvSpPr/>
          <p:nvPr/>
        </p:nvSpPr>
        <p:spPr>
          <a:xfrm>
            <a:off x="-756360" y="5805360"/>
            <a:ext cx="107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- Для чего мы проветриваем комнат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кой из газов в воздухе самый важн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ыхании живые существа поглощ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 воздуха кислород, а выделя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глекислый г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hh"/>
          <p:cNvPicPr/>
          <p:nvPr/>
        </p:nvPicPr>
        <p:blipFill>
          <a:blip r:embed="rId1"/>
          <a:stretch/>
        </p:blipFill>
        <p:spPr>
          <a:xfrm>
            <a:off x="1835280" y="3357720"/>
            <a:ext cx="5761080" cy="3103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живое давно 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охнулось, если 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стения. И дуб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кан, и трави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рохотные водоро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дно ловят углекис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, он необходим растениям для питания.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ют в воздух кислород. Леса, луга, по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ки, сады – все растения на Земле в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екислого газа дают нам живительный кисл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вокруг зелени, тем чище возду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12"/>
          <p:cNvPicPr/>
          <p:nvPr/>
        </p:nvPicPr>
        <p:blipFill>
          <a:blip r:embed="rId1"/>
          <a:stretch/>
        </p:blipFill>
        <p:spPr>
          <a:xfrm>
            <a:off x="4643280" y="189000"/>
            <a:ext cx="4287960" cy="325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Отчего загрязняется возду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12"/>
          <p:cNvPicPr/>
          <p:nvPr/>
        </p:nvPicPr>
        <p:blipFill>
          <a:blip r:embed="rId1"/>
          <a:stretch/>
        </p:blipFill>
        <p:spPr>
          <a:xfrm>
            <a:off x="1763640" y="1700280"/>
            <a:ext cx="5678640" cy="44006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88" name="Picture 5" descr="13"/>
          <p:cNvPicPr/>
          <p:nvPr/>
        </p:nvPicPr>
        <p:blipFill>
          <a:blip r:embed="rId2"/>
          <a:stretch/>
        </p:blipFill>
        <p:spPr>
          <a:xfrm>
            <a:off x="250920" y="260280"/>
            <a:ext cx="3529080" cy="2484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89" name="Picture 6" descr="14"/>
          <p:cNvPicPr/>
          <p:nvPr/>
        </p:nvPicPr>
        <p:blipFill>
          <a:blip r:embed="rId3"/>
          <a:stretch/>
        </p:blipFill>
        <p:spPr>
          <a:xfrm>
            <a:off x="5580000" y="260280"/>
            <a:ext cx="3313080" cy="2541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0" name="Picture 7" descr="15"/>
          <p:cNvPicPr/>
          <p:nvPr/>
        </p:nvPicPr>
        <p:blipFill>
          <a:blip r:embed="rId4"/>
          <a:stretch/>
        </p:blipFill>
        <p:spPr>
          <a:xfrm>
            <a:off x="250920" y="4149720"/>
            <a:ext cx="3384360" cy="24462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1" name="Picture 11" descr="17"/>
          <p:cNvPicPr/>
          <p:nvPr/>
        </p:nvPicPr>
        <p:blipFill>
          <a:blip r:embed="rId5"/>
          <a:stretch/>
        </p:blipFill>
        <p:spPr>
          <a:xfrm>
            <a:off x="5435640" y="4221000"/>
            <a:ext cx="3457440" cy="23720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pic>
        <p:nvPicPr>
          <p:cNvPr id="192" name="Picture 10" descr="16"/>
          <p:cNvPicPr/>
          <p:nvPr/>
        </p:nvPicPr>
        <p:blipFill>
          <a:blip r:embed="rId6"/>
          <a:stretch/>
        </p:blipFill>
        <p:spPr>
          <a:xfrm>
            <a:off x="3419640" y="1773360"/>
            <a:ext cx="2286000" cy="36846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текст на 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 схему в учебнике (ст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объясните значение сх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еобходимо делать, чтобы защитить воздух от загряз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hgk"/>
          <p:cNvPicPr/>
          <p:nvPr/>
        </p:nvPicPr>
        <p:blipFill>
          <a:blip r:embed="rId1"/>
          <a:stretch/>
        </p:blipFill>
        <p:spPr>
          <a:xfrm>
            <a:off x="611280" y="3357720"/>
            <a:ext cx="7961400" cy="24796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ьзование воздуха человек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18"/>
          <p:cNvPicPr/>
          <p:nvPr/>
        </p:nvPicPr>
        <p:blipFill>
          <a:blip r:embed="rId1"/>
          <a:stretch/>
        </p:blipFill>
        <p:spPr>
          <a:xfrm>
            <a:off x="324000" y="1557360"/>
            <a:ext cx="2736720" cy="1811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0" name="Picture 5" descr="20"/>
          <p:cNvPicPr/>
          <p:nvPr/>
        </p:nvPicPr>
        <p:blipFill>
          <a:blip r:embed="rId2"/>
          <a:stretch/>
        </p:blipFill>
        <p:spPr>
          <a:xfrm>
            <a:off x="611280" y="3645000"/>
            <a:ext cx="2176200" cy="29019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1" name="Picture 6" descr="21"/>
          <p:cNvPicPr/>
          <p:nvPr/>
        </p:nvPicPr>
        <p:blipFill>
          <a:blip r:embed="rId3"/>
          <a:stretch/>
        </p:blipFill>
        <p:spPr>
          <a:xfrm>
            <a:off x="3276720" y="2276640"/>
            <a:ext cx="2485800" cy="3456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2" name="Picture 7" descr="22"/>
          <p:cNvPicPr/>
          <p:nvPr/>
        </p:nvPicPr>
        <p:blipFill>
          <a:blip r:embed="rId4"/>
          <a:stretch/>
        </p:blipFill>
        <p:spPr>
          <a:xfrm>
            <a:off x="6421320" y="3645000"/>
            <a:ext cx="2052720" cy="29858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203" name="Picture 8" descr="24"/>
          <p:cNvPicPr/>
          <p:nvPr/>
        </p:nvPicPr>
        <p:blipFill>
          <a:blip r:embed="rId5"/>
          <a:stretch/>
        </p:blipFill>
        <p:spPr>
          <a:xfrm>
            <a:off x="6012000" y="1628640"/>
            <a:ext cx="2879640" cy="1800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нельзя отнести к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"/>
          <p:cNvPicPr/>
          <p:nvPr/>
        </p:nvPicPr>
        <p:blipFill>
          <a:blip r:embed="rId1"/>
          <a:stretch/>
        </p:blipFill>
        <p:spPr>
          <a:xfrm>
            <a:off x="324000" y="1413000"/>
            <a:ext cx="1420560" cy="17269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02" name="Picture 5" descr="4"/>
          <p:cNvPicPr/>
          <p:nvPr/>
        </p:nvPicPr>
        <p:blipFill>
          <a:blip r:embed="rId2"/>
          <a:stretch/>
        </p:blipFill>
        <p:spPr>
          <a:xfrm>
            <a:off x="7020000" y="1413000"/>
            <a:ext cx="1800000" cy="1523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3" name="Picture 6" descr="5"/>
          <p:cNvPicPr/>
          <p:nvPr/>
        </p:nvPicPr>
        <p:blipFill>
          <a:blip r:embed="rId3"/>
          <a:stretch/>
        </p:blipFill>
        <p:spPr>
          <a:xfrm>
            <a:off x="2340000" y="1341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4" name="Picture 7" descr="6"/>
          <p:cNvPicPr/>
          <p:nvPr/>
        </p:nvPicPr>
        <p:blipFill>
          <a:blip r:embed="rId4"/>
          <a:stretch/>
        </p:blipFill>
        <p:spPr>
          <a:xfrm>
            <a:off x="250920" y="3645000"/>
            <a:ext cx="1727280" cy="15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5" name="Picture 9" descr="7"/>
          <p:cNvPicPr/>
          <p:nvPr/>
        </p:nvPicPr>
        <p:blipFill>
          <a:blip r:embed="rId5"/>
          <a:stretch/>
        </p:blipFill>
        <p:spPr>
          <a:xfrm>
            <a:off x="5148360" y="1916280"/>
            <a:ext cx="165708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06" name="Picture 11" descr="8"/>
          <p:cNvPicPr/>
          <p:nvPr/>
        </p:nvPicPr>
        <p:blipFill>
          <a:blip r:embed="rId6"/>
          <a:stretch/>
        </p:blipFill>
        <p:spPr>
          <a:xfrm>
            <a:off x="7236000" y="3860640"/>
            <a:ext cx="156816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7" name="Picture 12" descr="9"/>
          <p:cNvPicPr/>
          <p:nvPr/>
        </p:nvPicPr>
        <p:blipFill>
          <a:blip r:embed="rId7"/>
          <a:stretch/>
        </p:blipFill>
        <p:spPr>
          <a:xfrm>
            <a:off x="2627280" y="2781360"/>
            <a:ext cx="1584360" cy="1584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08" name="Picture 13" descr="10"/>
          <p:cNvPicPr/>
          <p:nvPr/>
        </p:nvPicPr>
        <p:blipFill>
          <a:blip r:embed="rId8"/>
          <a:stretch/>
        </p:blipFill>
        <p:spPr>
          <a:xfrm>
            <a:off x="4788000" y="4292640"/>
            <a:ext cx="1944720" cy="145872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09" name="Picture 14" descr="11"/>
          <p:cNvPicPr/>
          <p:nvPr/>
        </p:nvPicPr>
        <p:blipFill>
          <a:blip r:embed="rId9"/>
          <a:stretch/>
        </p:blipFill>
        <p:spPr>
          <a:xfrm>
            <a:off x="2340000" y="4869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акие группы можно разделить эти предме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3"/>
          <p:cNvPicPr/>
          <p:nvPr/>
        </p:nvPicPr>
        <p:blipFill>
          <a:blip r:embed="rId1"/>
          <a:stretch/>
        </p:blipFill>
        <p:spPr>
          <a:xfrm>
            <a:off x="250920" y="249228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13" name="Picture 5" descr="5"/>
          <p:cNvPicPr/>
          <p:nvPr/>
        </p:nvPicPr>
        <p:blipFill>
          <a:blip r:embed="rId2"/>
          <a:stretch/>
        </p:blipFill>
        <p:spPr>
          <a:xfrm>
            <a:off x="2124000" y="2565360"/>
            <a:ext cx="2278080" cy="12384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14" name="Picture 7" descr="7"/>
          <p:cNvPicPr/>
          <p:nvPr/>
        </p:nvPicPr>
        <p:blipFill>
          <a:blip r:embed="rId3"/>
          <a:stretch/>
        </p:blipFill>
        <p:spPr>
          <a:xfrm>
            <a:off x="4932360" y="2565360"/>
            <a:ext cx="1657440" cy="165744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15" name="Picture 8" descr="8"/>
          <p:cNvPicPr/>
          <p:nvPr/>
        </p:nvPicPr>
        <p:blipFill>
          <a:blip r:embed="rId4"/>
          <a:stretch/>
        </p:blipFill>
        <p:spPr>
          <a:xfrm>
            <a:off x="7164360" y="2421000"/>
            <a:ext cx="1568520" cy="180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16" name="Picture 10" descr="10"/>
          <p:cNvPicPr/>
          <p:nvPr/>
        </p:nvPicPr>
        <p:blipFill>
          <a:blip r:embed="rId5"/>
          <a:stretch/>
        </p:blipFill>
        <p:spPr>
          <a:xfrm>
            <a:off x="2124000" y="472428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17" name="Picture 11" descr="11"/>
          <p:cNvPicPr/>
          <p:nvPr/>
        </p:nvPicPr>
        <p:blipFill>
          <a:blip r:embed="rId6"/>
          <a:stretch/>
        </p:blipFill>
        <p:spPr>
          <a:xfrm>
            <a:off x="4932360" y="4653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18" name="Text Box 16"/>
          <p:cNvSpPr/>
          <p:nvPr/>
        </p:nvSpPr>
        <p:spPr>
          <a:xfrm>
            <a:off x="561960" y="1700280"/>
            <a:ext cx="277452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5026320" y="1700280"/>
            <a:ext cx="3138840" cy="5205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23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4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25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26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27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редметы относятся к не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31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32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33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34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35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381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авьте слово по первым буквам в названиях предм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3"/>
          <p:cNvPicPr/>
          <p:nvPr/>
        </p:nvPicPr>
        <p:blipFill>
          <a:blip r:embed="rId1"/>
          <a:stretch/>
        </p:blipFill>
        <p:spPr>
          <a:xfrm>
            <a:off x="250920" y="1989000"/>
            <a:ext cx="1539720" cy="18716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39" name="Picture 4" descr="5"/>
          <p:cNvPicPr/>
          <p:nvPr/>
        </p:nvPicPr>
        <p:blipFill>
          <a:blip r:embed="rId2"/>
          <a:stretch/>
        </p:blipFill>
        <p:spPr>
          <a:xfrm>
            <a:off x="2124000" y="2133720"/>
            <a:ext cx="2278080" cy="123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0" name="Picture 5" descr="7"/>
          <p:cNvPicPr/>
          <p:nvPr/>
        </p:nvPicPr>
        <p:blipFill>
          <a:blip r:embed="rId3"/>
          <a:stretch/>
        </p:blipFill>
        <p:spPr>
          <a:xfrm>
            <a:off x="4932360" y="2133720"/>
            <a:ext cx="1657440" cy="165708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41" name="Picture 6" descr="8"/>
          <p:cNvPicPr/>
          <p:nvPr/>
        </p:nvPicPr>
        <p:blipFill>
          <a:blip r:embed="rId4"/>
          <a:stretch/>
        </p:blipFill>
        <p:spPr>
          <a:xfrm>
            <a:off x="7164360" y="1989000"/>
            <a:ext cx="1568520" cy="1800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42" name="Picture 7" descr="10"/>
          <p:cNvPicPr/>
          <p:nvPr/>
        </p:nvPicPr>
        <p:blipFill>
          <a:blip r:embed="rId5"/>
          <a:stretch/>
        </p:blipFill>
        <p:spPr>
          <a:xfrm>
            <a:off x="2050920" y="4437000"/>
            <a:ext cx="1944720" cy="145908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143" name="Picture 8" descr="11"/>
          <p:cNvPicPr/>
          <p:nvPr/>
        </p:nvPicPr>
        <p:blipFill>
          <a:blip r:embed="rId6"/>
          <a:stretch/>
        </p:blipFill>
        <p:spPr>
          <a:xfrm>
            <a:off x="4932360" y="4437000"/>
            <a:ext cx="2016000" cy="150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144" name="Text Box 9"/>
          <p:cNvSpPr/>
          <p:nvPr/>
        </p:nvSpPr>
        <p:spPr>
          <a:xfrm>
            <a:off x="1476360" y="476280"/>
            <a:ext cx="5977080" cy="7642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4431960" y="3349800"/>
            <a:ext cx="44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м он бывает тёпл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ет холодом зи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иней красит ст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лежит на них кай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о нём не гово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 мы его вдыхаем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едь нам необход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71960" y="260280"/>
            <a:ext cx="522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– прозрачный невидим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ий и бесцветный г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есомою косын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кутывае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лесу – густой, душист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свежестью смолист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хнет дубом и со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274211_0"/>
          <p:cNvPicPr/>
          <p:nvPr/>
        </p:nvPicPr>
        <p:blipFill>
          <a:blip r:embed="rId1"/>
          <a:stretch/>
        </p:blipFill>
        <p:spPr>
          <a:xfrm>
            <a:off x="5796000" y="404640"/>
            <a:ext cx="3089160" cy="2318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49" name="Picture 10" descr="0_2f6d_cc2cba91_XL"/>
          <p:cNvPicPr/>
          <p:nvPr/>
        </p:nvPicPr>
        <p:blipFill>
          <a:blip r:embed="rId2"/>
          <a:stretch/>
        </p:blipFill>
        <p:spPr>
          <a:xfrm>
            <a:off x="1116000" y="3429000"/>
            <a:ext cx="2162160" cy="2881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Помашите ладошками около лиц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Мы ощущаем легкий ветерок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движение возд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4"/>
          <p:cNvPicPr/>
          <p:nvPr/>
        </p:nvPicPr>
        <p:blipFill>
          <a:blip r:embed="rId1"/>
          <a:stretch/>
        </p:blipFill>
        <p:spPr>
          <a:xfrm>
            <a:off x="6659640" y="0"/>
            <a:ext cx="2286000" cy="196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5"/>
          <p:cNvPicPr/>
          <p:nvPr/>
        </p:nvPicPr>
        <p:blipFill>
          <a:blip r:embed="rId2"/>
          <a:stretch/>
        </p:blipFill>
        <p:spPr>
          <a:xfrm>
            <a:off x="2195640" y="4221000"/>
            <a:ext cx="3633840" cy="2021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ccff"/>
          </a:solidFill>
          <a:ln w="3816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Опыт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3280" y="1860480"/>
            <a:ext cx="774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озьмём пустую прозрачную пластиков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у и проверим, что там действ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ичего нет. Если мы опустим бутылку в вод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о увидим, что из горлышка вых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узырьки. Это вода вытесняет воздух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бутылки. Большинство предметов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глядят пуст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 самом д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полнены  воздух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ab-02"/>
          <p:cNvPicPr/>
          <p:nvPr/>
        </p:nvPicPr>
        <p:blipFill>
          <a:blip r:embed="rId1"/>
          <a:stretch/>
        </p:blipFill>
        <p:spPr>
          <a:xfrm>
            <a:off x="5435640" y="4581360"/>
            <a:ext cx="3476520" cy="20894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159" name="Picture 5" descr="Рисунок1"/>
          <p:cNvPicPr/>
          <p:nvPr/>
        </p:nvPicPr>
        <p:blipFill>
          <a:blip r:embed="rId2"/>
          <a:stretch/>
        </p:blipFill>
        <p:spPr>
          <a:xfrm>
            <a:off x="6300720" y="260280"/>
            <a:ext cx="2286000" cy="165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7"/>
          <p:cNvPicPr/>
          <p:nvPr/>
        </p:nvPicPr>
        <p:blipFill>
          <a:blip r:embed="rId3"/>
          <a:stretch/>
        </p:blipFill>
        <p:spPr>
          <a:xfrm>
            <a:off x="395280" y="1916280"/>
            <a:ext cx="824040" cy="2087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5:47:06Z</dcterms:created>
  <dc:creator>мама</dc:creator>
  <dc:description/>
  <dc:language>en-US</dc:language>
  <cp:lastModifiedBy>LEGION2</cp:lastModifiedBy>
  <dcterms:modified xsi:type="dcterms:W3CDTF">2015-04-22T13:05:05Z</dcterms:modified>
  <cp:revision>6</cp:revision>
  <dc:subject/>
  <dc:title>Слайд 1</dc:title>
</cp:coreProperties>
</file>